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22840" y="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7920" cy="37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941868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6793-D024-4680-8982-568FAE9AF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EB83-074C-470D-AA62-CEFC54F5D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-360" y="941868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-360" y="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822840" y="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058760" y="86508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898200" y="4709880"/>
            <a:ext cx="494964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ntologo" descr=""/>
          <p:cNvPicPr/>
          <p:nvPr/>
        </p:nvPicPr>
        <p:blipFill>
          <a:blip r:embed="rId2"/>
          <a:stretch/>
        </p:blipFill>
        <p:spPr>
          <a:xfrm>
            <a:off x="7267680" y="19080"/>
            <a:ext cx="372960" cy="380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466560"/>
            <a:ext cx="8094600" cy="204840"/>
          </a:xfrm>
          <a:prstGeom prst="rect">
            <a:avLst/>
          </a:prstGeom>
          <a:gradFill rotWithShape="0">
            <a:gsLst>
              <a:gs pos="0">
                <a:srgbClr val="e9fff0"/>
              </a:gs>
              <a:gs pos="100000">
                <a:srgbClr val="33c95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440120" y="216000"/>
            <a:ext cx="99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3333ff"/>
                </a:solidFill>
                <a:latin typeface="Arial"/>
              </a:rPr>
              <a:t>© S.  Staab, 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aifb_logo1" descr=""/>
          <p:cNvPicPr/>
          <p:nvPr/>
        </p:nvPicPr>
        <p:blipFill>
          <a:blip r:embed="rId3"/>
          <a:stretch/>
        </p:blipFill>
        <p:spPr>
          <a:xfrm>
            <a:off x="8610480" y="380880"/>
            <a:ext cx="297000" cy="9907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87280" y="6477120"/>
            <a:ext cx="8094600" cy="380880"/>
          </a:xfrm>
          <a:prstGeom prst="rect">
            <a:avLst/>
          </a:prstGeom>
          <a:gradFill rotWithShape="0">
            <a:gsLst>
              <a:gs pos="0">
                <a:srgbClr val="e9fff0"/>
              </a:gs>
              <a:gs pos="100000">
                <a:srgbClr val="33c95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8229240" y="6552720"/>
            <a:ext cx="1066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9519EA8-4487-4F02-B755-51206B37A6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ntelligent Systems                               on the World Wide Web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n-Depth XML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cture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ffen Staab &amp; Raphael Vol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for Applied Computer Science and Formal Description Methods (AIF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lsruh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Structuring XM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 rot="4200">
            <a:off x="2487600" y="3230280"/>
            <a:ext cx="4124160" cy="176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30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Structuring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chemata in XML (Optional !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DTD – Document Type Definitions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fache Grammatik für ein XML-Dok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klaration von Elementen, Attributen, u.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chränkt die beliebige Verschachtelung von Elementen und Attribu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Teil des XML-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be von SG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XML-Schema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lexere Datendefinitionssprach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iele standardisierte Basistypen, z.B. float, double, decimal, boole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ypen und typisierte Objektreferenz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lassenhierarchien / Vererb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onsistenzbeding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ndard in Ergänzung zu XML (noch nicht verabschiedet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wärtskompatibel zu D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Schemata I: DT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DTD definiert eine kontextfreie Grammatik für ein XML-Dok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vor beliebige Elemente und Attribute werden auf eine definierte Auswahl und Struktur eingeschrän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88200" y="3352680"/>
            <a:ext cx="4026960" cy="3397680"/>
            <a:chOff x="88200" y="3352680"/>
            <a:chExt cx="4026960" cy="3397680"/>
          </a:xfrm>
        </p:grpSpPr>
        <p:sp>
          <p:nvSpPr>
            <p:cNvPr id="204" name=""/>
            <p:cNvSpPr/>
            <p:nvPr/>
          </p:nvSpPr>
          <p:spPr>
            <a:xfrm>
              <a:off x="88200" y="3352680"/>
              <a:ext cx="4012920" cy="3380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bi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aper </a:t>
              </a:r>
              <a:r>
                <a:rPr b="0" lang="en-US" sz="1800" spc="-1" strike="noStrike">
                  <a:solidFill>
                    <a:srgbClr val="b2b2b2"/>
                  </a:solidFill>
                  <a:latin typeface="Arial Narrow"/>
                </a:rPr>
                <a:t>i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=“o12”&gt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titl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gt; Foundations of Databases 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title&gt;</a:t>
              </a:r>
              <a:br>
                <a:rPr sz="1800"/>
              </a:b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autho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gt;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first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gt; Serge 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first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last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gt; Abiteboul 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last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autho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gt;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yea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gt; 1997 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yea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ublish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gt; Addison Wesley 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ublish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ap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bi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90760" y="6295680"/>
              <a:ext cx="824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X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739760" y="3354480"/>
            <a:ext cx="4319280" cy="3397680"/>
            <a:chOff x="4739760" y="3354480"/>
            <a:chExt cx="4319280" cy="3397680"/>
          </a:xfrm>
        </p:grpSpPr>
        <p:sp>
          <p:nvSpPr>
            <p:cNvPr id="207" name=""/>
            <p:cNvSpPr/>
            <p:nvPr/>
          </p:nvSpPr>
          <p:spPr>
            <a:xfrm>
              <a:off x="4739760" y="3354480"/>
              <a:ext cx="4304160" cy="3380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DOCTYPE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bi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[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bi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ap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*)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ap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autho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+,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yea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,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ublish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?)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ATTLIS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ap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800" spc="-1" strike="noStrike">
                  <a:solidFill>
                    <a:srgbClr val="b2b2b2"/>
                  </a:solidFill>
                  <a:latin typeface="Arial Narrow"/>
                </a:rPr>
                <a:t>i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ID #REQUIRED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autho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first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*,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last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)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ATTLIS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autho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800" spc="-1" strike="noStrike">
                  <a:solidFill>
                    <a:srgbClr val="b2b2b2"/>
                  </a:solidFill>
                  <a:latin typeface="Arial Narrow"/>
                </a:rPr>
                <a:t>ag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CDATA #IMPLIED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first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last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yea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ublish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]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52640" y="6297480"/>
              <a:ext cx="806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DT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TD – Deklaration von Element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014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reibt die Einschränkungen des Inhalts eines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Syntax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Defini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ziger atomarer Typ: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#PCDAT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sed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racter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DAT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(a,b,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Liste von Unterelem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(a|b|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Alternat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rdinalitä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*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mal oder beliebig 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mal oder beliebig 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- oder einmal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(ohne Angabe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genau ein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EMPT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: Erzwingen von leerem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824000" y="2895480"/>
            <a:ext cx="4319280" cy="3397680"/>
            <a:chOff x="4824000" y="2895480"/>
            <a:chExt cx="4319280" cy="3397680"/>
          </a:xfrm>
        </p:grpSpPr>
        <p:sp>
          <p:nvSpPr>
            <p:cNvPr id="212" name=""/>
            <p:cNvSpPr/>
            <p:nvPr/>
          </p:nvSpPr>
          <p:spPr>
            <a:xfrm>
              <a:off x="4824000" y="2895480"/>
              <a:ext cx="4304160" cy="3380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DOCTYPE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bi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[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bi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ap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*)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ap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autho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+,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yea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,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ublish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?)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ATTLIS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ap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800" spc="-1" strike="noStrike">
                  <a:solidFill>
                    <a:srgbClr val="b2b2b2"/>
                  </a:solidFill>
                  <a:latin typeface="Arial Narrow"/>
                </a:rPr>
                <a:t>i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ID #REQUIRED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autho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first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*,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last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)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ATTLIS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autho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800" spc="-1" strike="noStrike">
                  <a:solidFill>
                    <a:srgbClr val="b2b2b2"/>
                  </a:solidFill>
                  <a:latin typeface="Arial Narrow"/>
                </a:rPr>
                <a:t>ag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CDATA #IMPLIED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first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last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yea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ublish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]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36880" y="5838480"/>
              <a:ext cx="806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DT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TD – Deklaration von Elementen (2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14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reibt die Einschränkungen des Inhalts eines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Syntax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Defini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ziger atomarer Typ: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#PCDAT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sed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racter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DAT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(a,b,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Liste von Unterelem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(a|b|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Alternat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rdinalitä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*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mal oder beliebig 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mal oder beliebig 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- oder einmal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(ohne Angabe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genau ein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EMPT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: Erzwingen von leerem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3352680"/>
            <a:ext cx="4335480" cy="3397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2743200"/>
            <a:ext cx="1828800" cy="30492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1219320"/>
            <a:ext cx="152280" cy="182880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19600" y="1219320"/>
            <a:ext cx="4230720" cy="69876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 un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stlegung des Wurzelelements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b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24000" y="2743200"/>
            <a:ext cx="4304160" cy="338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DOCTYPE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[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*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+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?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ATTLIS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 Narrow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ID #REQUIRE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*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ATTLIS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 Narrow"/>
              </a:rPr>
              <a:t>ag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CDATA #IMPLIE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]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52640" y="629604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TD – Deklaration von Elementen (3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14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reibt die Einschränkungen des Inhalts eines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Syntax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Defini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ziger atomarer Typ: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#PCDAT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sed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racter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DAT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(a,b,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Liste von Unterelem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(a|b|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Alternat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rdinalitä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*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mal oder beliebig 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mal oder beliebig 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- oder einmal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(ohne Angabe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genau ein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EMPT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: Erzwingen von leerem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24280" y="3352680"/>
            <a:ext cx="4335480" cy="3397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3657600"/>
            <a:ext cx="2666880" cy="30492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1219320"/>
            <a:ext cx="152280" cy="243828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22120" y="1219320"/>
            <a:ext cx="4383000" cy="69876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bi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ann beliebig viele Elemente vom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yp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pap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ntha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739760" y="3352680"/>
            <a:ext cx="4304160" cy="338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DOCTYPE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[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*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+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?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ATTLIS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 Narrow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ID #REQUIRE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*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ATTLIS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 Narrow"/>
              </a:rPr>
              <a:t>ag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CDATA #IMPLIE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]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252640" y="629604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TD – Deklaration von Elementen (4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14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reibt die Einschränkungen des Inhalts eines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Syntax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Defini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ziger atomarer Typ: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#PCDAT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sed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racter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DAT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(a,b,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Liste von Unterelem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(a|b|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Alternat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rdinalitä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*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mal oder beliebig 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mal oder beliebig 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- oder einmal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(ohne Angabe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genau ein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EMPT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: Erzwingen von leerem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3352680"/>
            <a:ext cx="4335480" cy="3397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3962520"/>
            <a:ext cx="4487760" cy="30456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0" y="1219320"/>
            <a:ext cx="152280" cy="274320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26080" y="1218960"/>
            <a:ext cx="3525840" cy="161352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pap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steht au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ndestens einem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author</a:t>
            </a:r>
            <a:br>
              <a:rPr sz="2000"/>
            </a:b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nau einem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y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m optionalen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publisher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genau dieser Reihenfolg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39760" y="3352680"/>
            <a:ext cx="4304160" cy="338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DOCTYPE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[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*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+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?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ATTLIS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 Narrow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ID #REQUIRE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*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ATTLIS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 Narrow"/>
              </a:rPr>
              <a:t>ag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CDATA #IMPLIE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]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52640" y="629604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TD – Deklaration von Elementen (5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14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reibt die Einschränkungen des Inhalts eines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Syntax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Defini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ziger atomarer Typ: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#PCDAT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sed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racter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DAT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(a,b,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Liste von Unterelem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(a|b|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Alternat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rdinalitä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*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mal oder beliebig 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mal oder beliebig 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- oder einmal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(ohne Angabe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genau ein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EMPT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: Erzwingen von leerem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24280" y="3352680"/>
            <a:ext cx="4335480" cy="3397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5029200"/>
            <a:ext cx="3505320" cy="30492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0" y="1219320"/>
            <a:ext cx="152280" cy="380988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19240" y="1219320"/>
            <a:ext cx="4128480" cy="39384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vom Typ Zeichenke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39760" y="3352680"/>
            <a:ext cx="4304160" cy="338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DOCTYPE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[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*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+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?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ATTLIS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 Narrow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ID #REQUIRE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*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ATTLIS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 Narrow"/>
              </a:rPr>
              <a:t>ag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CDATA #IMPLIE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]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52640" y="629604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TD – Deklaration von Attribut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14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-Zeichenkettenwert-P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ziiert mit einem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yntax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ATTLIS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Attributname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yp1 Zusatz1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Attributname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ichen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DRE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DRE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ge von Referen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sat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QUI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in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MPLI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Initialwe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724280" y="3352680"/>
            <a:ext cx="4335480" cy="3398040"/>
            <a:chOff x="4724280" y="3352680"/>
            <a:chExt cx="4335480" cy="3398040"/>
          </a:xfrm>
        </p:grpSpPr>
        <p:sp>
          <p:nvSpPr>
            <p:cNvPr id="249" name=""/>
            <p:cNvSpPr/>
            <p:nvPr/>
          </p:nvSpPr>
          <p:spPr>
            <a:xfrm>
              <a:off x="4724280" y="3352680"/>
              <a:ext cx="4335480" cy="339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39760" y="3352680"/>
              <a:ext cx="4304160" cy="338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DOCTYPE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bi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[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bi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ap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*)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ap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autho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+,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yea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,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ublish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?)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ATTLIS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ap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800" spc="-1" strike="noStrike">
                  <a:solidFill>
                    <a:srgbClr val="b2b2b2"/>
                  </a:solidFill>
                  <a:latin typeface="Arial Narrow"/>
                </a:rPr>
                <a:t>i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ID #REQUIRED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autho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first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*,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last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)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ATTLIS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autho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800" spc="-1" strike="noStrike">
                  <a:solidFill>
                    <a:srgbClr val="b2b2b2"/>
                  </a:solidFill>
                  <a:latin typeface="Arial Narrow"/>
                </a:rPr>
                <a:t>ag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CDATA #IMPLIED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first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last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yea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 Narrow"/>
                </a:rPr>
                <a:t>publish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]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252640" y="6296040"/>
              <a:ext cx="806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DT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TD – Deklaration von Attributen (2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14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-Zeichenkettenwert-P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ziiert mit einem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yntax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ATTLIS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Attributname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yp1 Zusatz1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Attributname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ichen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DRE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DRE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ge von Referen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sat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QUI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in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MPLI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Initialwe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24280" y="3352680"/>
            <a:ext cx="4335480" cy="3397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4191120"/>
            <a:ext cx="3679920" cy="30456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39760" y="3352680"/>
            <a:ext cx="4304160" cy="338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DOCTYPE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[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*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+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?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ATTLIS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 Narrow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ID #REQUIRE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*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ATTLIS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 Narrow"/>
              </a:rPr>
              <a:t>ag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CDATA #IMPLIE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]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252640" y="629604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21400" y="1218960"/>
            <a:ext cx="3814560" cy="130860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pap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sitzt ein Attribut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i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ein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ID, die zwingend mit einem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deutigen Wert belegt werd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1219320"/>
            <a:ext cx="152280" cy="297180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tensible Markup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 rot="4200">
            <a:off x="2822400" y="3070080"/>
            <a:ext cx="3733920" cy="1579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30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4648320"/>
            <a:ext cx="6553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Purpose here: storing and exchanging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Non-purpose here: structuring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TD – Deklaration von Attributen (3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14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-Zeichenkettenwert-P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ziiert mit einem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yntax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ATTLIS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Attributname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yp1 Zusatz1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Attributname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ichen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DRE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DRE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ge von Referen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sat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QUI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in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MPLI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Initialwe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24280" y="3352680"/>
            <a:ext cx="4335480" cy="3397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4800600"/>
            <a:ext cx="4114800" cy="30492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39760" y="3352680"/>
            <a:ext cx="4304160" cy="338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DOCTYPE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[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*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+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?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ATTLIS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 Narrow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ID #REQUIRE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*,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ATTLIS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 Narrow"/>
              </a:rPr>
              <a:t>ag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CDATA #IMPLIE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 Narrow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#PCDATA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]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52640" y="629604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21040" y="1218960"/>
            <a:ext cx="4210920" cy="130860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 autho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hat ein Attribut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ag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mi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m ihm eine Zeichenkette mit dem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rt für sein Alter zugewies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rden kann (aber nicht muss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1219320"/>
            <a:ext cx="152280" cy="358128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DTD – OIDs und Referenzen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TDs erlauben die Deklaration von OIDs, Referenzen und Referenzmengen als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79200" y="2438280"/>
            <a:ext cx="4812120" cy="4369320"/>
            <a:chOff x="79200" y="2438280"/>
            <a:chExt cx="4812120" cy="4369320"/>
          </a:xfrm>
        </p:grpSpPr>
        <p:sp>
          <p:nvSpPr>
            <p:cNvPr id="271" name=""/>
            <p:cNvSpPr/>
            <p:nvPr/>
          </p:nvSpPr>
          <p:spPr>
            <a:xfrm>
              <a:off x="79200" y="2438280"/>
              <a:ext cx="4806720" cy="4357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famil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erson 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 Narrow"/>
                </a:rPr>
                <a:t>i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=“jane” 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 Narrow"/>
                </a:rPr>
                <a:t>moth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=“mary” 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 Narrow"/>
                </a:rPr>
                <a:t>fath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=“john”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 Jane Doe 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name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erso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erson 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 Narrow"/>
                </a:rPr>
                <a:t>i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=“john” 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 Narrow"/>
                </a:rPr>
                <a:t>childre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=“jane jack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 John Doe 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erso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erson 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 Narrow"/>
                </a:rPr>
                <a:t>i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=“mary” 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 Narrow"/>
                </a:rPr>
                <a:t>childre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=“jane jack”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 Mary Smith 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erso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erson 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 Narrow"/>
                </a:rPr>
                <a:t>i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=“jack” 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 Narrow"/>
                </a:rPr>
                <a:t>moth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=“mary” 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 Narrow"/>
                </a:rPr>
                <a:t>fath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=“john”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 Jack Smith 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name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erso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famil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66920" y="6352920"/>
              <a:ext cx="824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X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500800" y="2438280"/>
            <a:ext cx="3566880" cy="3492360"/>
            <a:chOff x="5500800" y="2438280"/>
            <a:chExt cx="3566880" cy="3492360"/>
          </a:xfrm>
        </p:grpSpPr>
        <p:sp>
          <p:nvSpPr>
            <p:cNvPr id="274" name=""/>
            <p:cNvSpPr/>
            <p:nvPr/>
          </p:nvSpPr>
          <p:spPr>
            <a:xfrm>
              <a:off x="5500800" y="2438280"/>
              <a:ext cx="3566880" cy="34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!DOCTYPE 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famil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[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famil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(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erso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*)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erso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(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)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!ATTLIST 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erson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 Narrow"/>
                </a:rPr>
                <a:t>i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I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#REQUIRED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 Narrow"/>
                </a:rPr>
                <a:t>moth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IDREF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#IMPLIED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 Narrow"/>
                </a:rPr>
                <a:t>fath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IDREF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#IMPLIED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 Narrow"/>
                </a:rPr>
                <a:t>childre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IDREF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#IMPLIED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]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260200" y="5446800"/>
              <a:ext cx="806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DT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447920" y="2797200"/>
            <a:ext cx="2003400" cy="2155680"/>
            <a:chOff x="1447920" y="2797200"/>
            <a:chExt cx="2003400" cy="2155680"/>
          </a:xfrm>
        </p:grpSpPr>
        <p:sp>
          <p:nvSpPr>
            <p:cNvPr id="277" name=""/>
            <p:cNvSpPr/>
            <p:nvPr/>
          </p:nvSpPr>
          <p:spPr>
            <a:xfrm>
              <a:off x="2819520" y="2797200"/>
              <a:ext cx="631800" cy="3268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47920" y="4626000"/>
              <a:ext cx="631800" cy="3268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1752480" y="3124080"/>
              <a:ext cx="1371600" cy="1501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425600" y="2797200"/>
            <a:ext cx="3273480" cy="1241280"/>
            <a:chOff x="1425600" y="2797200"/>
            <a:chExt cx="3273480" cy="1241280"/>
          </a:xfrm>
        </p:grpSpPr>
        <p:sp>
          <p:nvSpPr>
            <p:cNvPr id="281" name=""/>
            <p:cNvSpPr/>
            <p:nvPr/>
          </p:nvSpPr>
          <p:spPr>
            <a:xfrm>
              <a:off x="4067280" y="2797200"/>
              <a:ext cx="631800" cy="3268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25600" y="3711600"/>
              <a:ext cx="631800" cy="3268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2057400" y="3124080"/>
              <a:ext cx="2362320" cy="685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425600" y="2797200"/>
            <a:ext cx="2460600" cy="3070080"/>
            <a:chOff x="1425600" y="2797200"/>
            <a:chExt cx="2460600" cy="3070080"/>
          </a:xfrm>
        </p:grpSpPr>
        <p:sp>
          <p:nvSpPr>
            <p:cNvPr id="285" name=""/>
            <p:cNvSpPr/>
            <p:nvPr/>
          </p:nvSpPr>
          <p:spPr>
            <a:xfrm>
              <a:off x="2895480" y="3711600"/>
              <a:ext cx="990720" cy="3268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25600" y="2797200"/>
              <a:ext cx="631800" cy="3268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2057400" y="3047760"/>
              <a:ext cx="1295280" cy="663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25600" y="5540400"/>
              <a:ext cx="631800" cy="3268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1752120" y="4038480"/>
              <a:ext cx="1600200" cy="1501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Bewertung von DTD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46680" cy="15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r Erinnerung: DTDs definieren kontextfreie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Grammati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kursive Definitionen sind mögli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724280" y="1219320"/>
            <a:ext cx="4343400" cy="1981440"/>
            <a:chOff x="4724280" y="1219320"/>
            <a:chExt cx="4343400" cy="1981440"/>
          </a:xfrm>
        </p:grpSpPr>
        <p:sp>
          <p:nvSpPr>
            <p:cNvPr id="293" name=""/>
            <p:cNvSpPr/>
            <p:nvPr/>
          </p:nvSpPr>
          <p:spPr>
            <a:xfrm>
              <a:off x="4724280" y="1219320"/>
              <a:ext cx="4343400" cy="19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!DOCTYPE 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ap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[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ap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(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sec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*)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sec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((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titl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, 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sec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*)|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tex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)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titl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tex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]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260200" y="2746080"/>
              <a:ext cx="806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DT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228600" y="3352680"/>
            <a:ext cx="87026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TDs weisen bei der Definition eines Schemas jedoch einige Schwächen au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gewollte Festlegung der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Reihenfolg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orkaround: &lt;!ELEMENT </a:t>
            </a:r>
            <a:r>
              <a:rPr b="1" lang="de-DE" sz="18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( (</a:t>
            </a:r>
            <a:r>
              <a:rPr b="1" lang="de-DE" sz="18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18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) | ( </a:t>
            </a:r>
            <a:r>
              <a:rPr b="1" lang="de-DE" sz="18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1800" spc="-1" strike="noStrike">
                <a:solidFill>
                  <a:srgbClr val="006600"/>
                </a:solidFill>
                <a:latin typeface="Arial"/>
              </a:rPr>
              <a:t>nam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) ) 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nn teilweise zu vage werde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&lt;!ELEMENT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 (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nam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email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* )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ferenzen können nicht eingeschränkt (typisiert)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Elementnamen sind global in einem Namensra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Schemata II: XML-Schem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chter Schemamechanismus mit vielen Erweiterungen über DTDs hin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nutzt selbst wieder XML-Syntax zur Schema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70200" y="2523960"/>
            <a:ext cx="5417640" cy="4257720"/>
            <a:chOff x="70200" y="2523960"/>
            <a:chExt cx="5417640" cy="4257720"/>
          </a:xfrm>
        </p:grpSpPr>
        <p:sp>
          <p:nvSpPr>
            <p:cNvPr id="299" name=""/>
            <p:cNvSpPr/>
            <p:nvPr/>
          </p:nvSpPr>
          <p:spPr>
            <a:xfrm>
              <a:off x="70200" y="2523960"/>
              <a:ext cx="5417640" cy="4226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 Narrow"/>
                </a:rPr>
                <a:t>schema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&lt;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 Narrow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600" spc="-1" strike="noStrike">
                  <a:solidFill>
                    <a:srgbClr val="b2b2b2"/>
                  </a:solidFill>
                  <a:latin typeface="Arial Narrow"/>
                </a:rPr>
                <a:t>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=“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 Narrow"/>
                </a:rPr>
                <a:t>bib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”&gt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  &lt;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 Narrow"/>
                </a:rPr>
                <a:t>complexTyp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    &lt;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 Narrow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600" spc="-1" strike="noStrike">
                  <a:solidFill>
                    <a:srgbClr val="b2b2b2"/>
                  </a:solidFill>
                  <a:latin typeface="Arial Narrow"/>
                </a:rPr>
                <a:t>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=“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 Narrow"/>
                </a:rPr>
                <a:t>pap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” </a:t>
              </a:r>
              <a:r>
                <a:rPr b="0" lang="en-US" sz="1600" spc="-1" strike="noStrike">
                  <a:solidFill>
                    <a:srgbClr val="b2b2b2"/>
                  </a:solidFill>
                  <a:latin typeface="Arial Narrow"/>
                </a:rPr>
                <a:t>minOccur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=“0” </a:t>
              </a:r>
              <a:r>
                <a:rPr b="0" lang="en-US" sz="1600" spc="-1" strike="noStrike">
                  <a:solidFill>
                    <a:srgbClr val="b2b2b2"/>
                  </a:solidFill>
                  <a:latin typeface="Arial Narrow"/>
                </a:rPr>
                <a:t>maxOccur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=“unbounded”&gt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      &lt;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 Narrow"/>
                </a:rPr>
                <a:t>complexTyp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        &lt;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 Narrow"/>
                </a:rPr>
                <a:t>attribut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600" spc="-1" strike="noStrike">
                  <a:solidFill>
                    <a:srgbClr val="b2b2b2"/>
                  </a:solidFill>
                  <a:latin typeface="Arial Narrow"/>
                </a:rPr>
                <a:t>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=“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 Narrow"/>
                </a:rPr>
                <a:t>id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” </a:t>
              </a:r>
              <a:r>
                <a:rPr b="0" lang="en-US" sz="1600" spc="-1" strike="noStrike">
                  <a:solidFill>
                    <a:srgbClr val="b2b2b2"/>
                  </a:solidFill>
                  <a:latin typeface="Arial Narrow"/>
                </a:rPr>
                <a:t>typ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=“ID” </a:t>
              </a:r>
              <a:r>
                <a:rPr b="0" lang="en-US" sz="1600" spc="-1" strike="noStrike">
                  <a:solidFill>
                    <a:srgbClr val="b2b2b2"/>
                  </a:solidFill>
                  <a:latin typeface="Arial Narrow"/>
                </a:rPr>
                <a:t>us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=“required”/&gt;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        &lt;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 Narrow"/>
                </a:rPr>
                <a:t>sequ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          &lt;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 Narrow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600" spc="-1" strike="noStrike">
                  <a:solidFill>
                    <a:srgbClr val="b2b2b2"/>
                  </a:solidFill>
                  <a:latin typeface="Arial Narrow"/>
                </a:rPr>
                <a:t>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=“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 Narrow"/>
                </a:rPr>
                <a:t>autho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” </a:t>
              </a:r>
              <a:r>
                <a:rPr b="0" lang="en-US" sz="1600" spc="-1" strike="noStrike">
                  <a:solidFill>
                    <a:srgbClr val="b2b2b2"/>
                  </a:solidFill>
                  <a:latin typeface="Arial Narrow"/>
                </a:rPr>
                <a:t>typ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=“authorType”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            </a:t>
              </a:r>
              <a:r>
                <a:rPr b="0" lang="en-US" sz="1600" spc="-1" strike="noStrike">
                  <a:solidFill>
                    <a:srgbClr val="b2b2b2"/>
                  </a:solidFill>
                  <a:latin typeface="Arial Narrow"/>
                </a:rPr>
                <a:t>maxOccur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=“unbounded”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 Narrow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600" spc="-1" strike="noStrike">
                  <a:solidFill>
                    <a:srgbClr val="b2b2b2"/>
                  </a:solidFill>
                  <a:latin typeface="Arial Narrow"/>
                </a:rPr>
                <a:t>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=“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 Narrow"/>
                </a:rPr>
                <a:t>yea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” </a:t>
              </a:r>
              <a:r>
                <a:rPr b="0" lang="en-US" sz="1600" spc="-1" strike="noStrike">
                  <a:solidFill>
                    <a:srgbClr val="b2b2b2"/>
                  </a:solidFill>
                  <a:latin typeface="Arial Narrow"/>
                </a:rPr>
                <a:t>typ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=“string”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 Narrow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600" spc="-1" strike="noStrike">
                  <a:solidFill>
                    <a:srgbClr val="b2b2b2"/>
                  </a:solidFill>
                  <a:latin typeface="Arial Narrow"/>
                </a:rPr>
                <a:t>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=“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 Narrow"/>
                </a:rPr>
                <a:t>publish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” </a:t>
              </a:r>
              <a:r>
                <a:rPr b="0" lang="en-US" sz="1600" spc="-1" strike="noStrike">
                  <a:solidFill>
                    <a:srgbClr val="b2b2b2"/>
                  </a:solidFill>
                  <a:latin typeface="Arial Narrow"/>
                </a:rPr>
                <a:t>typ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=“string” </a:t>
              </a:r>
              <a:r>
                <a:rPr b="0" lang="en-US" sz="1600" spc="-1" strike="noStrike">
                  <a:solidFill>
                    <a:srgbClr val="b2b2b2"/>
                  </a:solidFill>
                  <a:latin typeface="Arial Narrow"/>
                </a:rPr>
                <a:t>minOccur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=“0”/&gt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        &lt;/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 Narrow"/>
                </a:rPr>
                <a:t>sequ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&gt;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      &lt;/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 Narrow"/>
                </a:rPr>
                <a:t>complexTyp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    &lt;/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 Narrow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  &lt;/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 Narrow"/>
                </a:rPr>
                <a:t>complexTyp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&lt;/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 Narrow"/>
                </a:rPr>
                <a:t>el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&lt;/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 Narrow"/>
                </a:rPr>
                <a:t>schema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70360" y="6418440"/>
              <a:ext cx="1615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XML-Sche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 rot="16200000">
            <a:off x="5501520" y="2423160"/>
            <a:ext cx="1689120" cy="1719360"/>
          </a:xfrm>
          <a:custGeom>
            <a:avLst/>
            <a:gdLst>
              <a:gd name="textAreaLeft" fmla="*/ 484920 w 1689120"/>
              <a:gd name="textAreaRight" fmla="*/ 1446840 w 1689120"/>
              <a:gd name="textAreaTop" fmla="*/ 990360 h 1719360"/>
              <a:gd name="textAreaBottom" fmla="*/ 1472760 h 17193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612040" y="4127400"/>
            <a:ext cx="3450600" cy="2653920"/>
            <a:chOff x="5612040" y="4127400"/>
            <a:chExt cx="3450600" cy="2653920"/>
          </a:xfrm>
        </p:grpSpPr>
        <p:sp>
          <p:nvSpPr>
            <p:cNvPr id="303" name=""/>
            <p:cNvSpPr/>
            <p:nvPr/>
          </p:nvSpPr>
          <p:spPr>
            <a:xfrm>
              <a:off x="5612040" y="4127400"/>
              <a:ext cx="3447360" cy="264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95120"/>
                  <a:tab algn="l" pos="390600"/>
                  <a:tab algn="l" pos="585720"/>
                  <a:tab algn="l" pos="781200"/>
                  <a:tab algn="l" pos="976320"/>
                  <a:tab algn="l" pos="1171440"/>
                  <a:tab algn="l" pos="1366920"/>
                  <a:tab algn="l" pos="1562040"/>
                  <a:tab algn="l" pos="1757520"/>
                  <a:tab algn="l" pos="1952640"/>
                  <a:tab algn="l" pos="2147760"/>
                  <a:tab algn="l" pos="2343240"/>
                  <a:tab algn="l" pos="2538360"/>
                  <a:tab algn="l" pos="2733840"/>
                  <a:tab algn="l" pos="2928960"/>
                  <a:tab algn="l" pos="3124080"/>
                  <a:tab algn="l" pos="3319560"/>
                  <a:tab algn="l" pos="3514680"/>
                  <a:tab algn="l" pos="3710160"/>
                  <a:tab algn="l" pos="39052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&lt;!DOCTYPE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 Narrow"/>
                </a:rPr>
                <a:t>bib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[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 Narrow"/>
                </a:rPr>
                <a:t>bib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(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 Narrow"/>
                </a:rPr>
                <a:t>pap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*)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5120"/>
                  <a:tab algn="l" pos="390600"/>
                  <a:tab algn="l" pos="585720"/>
                  <a:tab algn="l" pos="781200"/>
                  <a:tab algn="l" pos="976320"/>
                  <a:tab algn="l" pos="1171440"/>
                  <a:tab algn="l" pos="1366920"/>
                  <a:tab algn="l" pos="1562040"/>
                  <a:tab algn="l" pos="1757520"/>
                  <a:tab algn="l" pos="1952640"/>
                  <a:tab algn="l" pos="2147760"/>
                  <a:tab algn="l" pos="2343240"/>
                  <a:tab algn="l" pos="2538360"/>
                  <a:tab algn="l" pos="2733840"/>
                  <a:tab algn="l" pos="2928960"/>
                  <a:tab algn="l" pos="3124080"/>
                  <a:tab algn="l" pos="3319560"/>
                  <a:tab algn="l" pos="3514680"/>
                  <a:tab algn="l" pos="3710160"/>
                  <a:tab algn="l" pos="39052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 Narrow"/>
                </a:rPr>
                <a:t>pap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(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 Narrow"/>
                </a:rPr>
                <a:t>autho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+,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 Narrow"/>
                </a:rPr>
                <a:t>yea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,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 Narrow"/>
                </a:rPr>
                <a:t>publish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?)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5120"/>
                  <a:tab algn="l" pos="390600"/>
                  <a:tab algn="l" pos="585720"/>
                  <a:tab algn="l" pos="781200"/>
                  <a:tab algn="l" pos="976320"/>
                  <a:tab algn="l" pos="1171440"/>
                  <a:tab algn="l" pos="1366920"/>
                  <a:tab algn="l" pos="1562040"/>
                  <a:tab algn="l" pos="1757520"/>
                  <a:tab algn="l" pos="1952640"/>
                  <a:tab algn="l" pos="2147760"/>
                  <a:tab algn="l" pos="2343240"/>
                  <a:tab algn="l" pos="2538360"/>
                  <a:tab algn="l" pos="2733840"/>
                  <a:tab algn="l" pos="2928960"/>
                  <a:tab algn="l" pos="3124080"/>
                  <a:tab algn="l" pos="3319560"/>
                  <a:tab algn="l" pos="3514680"/>
                  <a:tab algn="l" pos="3710160"/>
                  <a:tab algn="l" pos="39052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&lt;!ATTLIST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 Narrow"/>
                </a:rPr>
                <a:t>pap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400" spc="-1" strike="noStrike">
                  <a:solidFill>
                    <a:srgbClr val="b2b2b2"/>
                  </a:solidFill>
                  <a:latin typeface="Arial Narrow"/>
                </a:rPr>
                <a:t>i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ID #REQUIRED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5120"/>
                  <a:tab algn="l" pos="390600"/>
                  <a:tab algn="l" pos="585720"/>
                  <a:tab algn="l" pos="781200"/>
                  <a:tab algn="l" pos="976320"/>
                  <a:tab algn="l" pos="1171440"/>
                  <a:tab algn="l" pos="1366920"/>
                  <a:tab algn="l" pos="1562040"/>
                  <a:tab algn="l" pos="1757520"/>
                  <a:tab algn="l" pos="1952640"/>
                  <a:tab algn="l" pos="2147760"/>
                  <a:tab algn="l" pos="2343240"/>
                  <a:tab algn="l" pos="2538360"/>
                  <a:tab algn="l" pos="2733840"/>
                  <a:tab algn="l" pos="2928960"/>
                  <a:tab algn="l" pos="3124080"/>
                  <a:tab algn="l" pos="3319560"/>
                  <a:tab algn="l" pos="3514680"/>
                  <a:tab algn="l" pos="3710160"/>
                  <a:tab algn="l" pos="39052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 Narrow"/>
                </a:rPr>
                <a:t>autho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(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 Narrow"/>
                </a:rPr>
                <a:t>firstnam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*,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 Narrow"/>
                </a:rPr>
                <a:t>lastnam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)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5120"/>
                  <a:tab algn="l" pos="390600"/>
                  <a:tab algn="l" pos="585720"/>
                  <a:tab algn="l" pos="781200"/>
                  <a:tab algn="l" pos="976320"/>
                  <a:tab algn="l" pos="1171440"/>
                  <a:tab algn="l" pos="1366920"/>
                  <a:tab algn="l" pos="1562040"/>
                  <a:tab algn="l" pos="1757520"/>
                  <a:tab algn="l" pos="1952640"/>
                  <a:tab algn="l" pos="2147760"/>
                  <a:tab algn="l" pos="2343240"/>
                  <a:tab algn="l" pos="2538360"/>
                  <a:tab algn="l" pos="2733840"/>
                  <a:tab algn="l" pos="2928960"/>
                  <a:tab algn="l" pos="3124080"/>
                  <a:tab algn="l" pos="3319560"/>
                  <a:tab algn="l" pos="3514680"/>
                  <a:tab algn="l" pos="3710160"/>
                  <a:tab algn="l" pos="39052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&lt;!ATTLIST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 Narrow"/>
                </a:rPr>
                <a:t>autho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400" spc="-1" strike="noStrike">
                  <a:solidFill>
                    <a:srgbClr val="b2b2b2"/>
                  </a:solidFill>
                  <a:latin typeface="Arial Narrow"/>
                </a:rPr>
                <a:t>ag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CDATA #IMPLIED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5120"/>
                  <a:tab algn="l" pos="390600"/>
                  <a:tab algn="l" pos="585720"/>
                  <a:tab algn="l" pos="781200"/>
                  <a:tab algn="l" pos="976320"/>
                  <a:tab algn="l" pos="1171440"/>
                  <a:tab algn="l" pos="1366920"/>
                  <a:tab algn="l" pos="1562040"/>
                  <a:tab algn="l" pos="1757520"/>
                  <a:tab algn="l" pos="1952640"/>
                  <a:tab algn="l" pos="2147760"/>
                  <a:tab algn="l" pos="2343240"/>
                  <a:tab algn="l" pos="2538360"/>
                  <a:tab algn="l" pos="2733840"/>
                  <a:tab algn="l" pos="2928960"/>
                  <a:tab algn="l" pos="3124080"/>
                  <a:tab algn="l" pos="3319560"/>
                  <a:tab algn="l" pos="3514680"/>
                  <a:tab algn="l" pos="3710160"/>
                  <a:tab algn="l" pos="39052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 Narrow"/>
                </a:rPr>
                <a:t>firstnam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5120"/>
                  <a:tab algn="l" pos="390600"/>
                  <a:tab algn="l" pos="585720"/>
                  <a:tab algn="l" pos="781200"/>
                  <a:tab algn="l" pos="976320"/>
                  <a:tab algn="l" pos="1171440"/>
                  <a:tab algn="l" pos="1366920"/>
                  <a:tab algn="l" pos="1562040"/>
                  <a:tab algn="l" pos="1757520"/>
                  <a:tab algn="l" pos="1952640"/>
                  <a:tab algn="l" pos="2147760"/>
                  <a:tab algn="l" pos="2343240"/>
                  <a:tab algn="l" pos="2538360"/>
                  <a:tab algn="l" pos="2733840"/>
                  <a:tab algn="l" pos="2928960"/>
                  <a:tab algn="l" pos="3124080"/>
                  <a:tab algn="l" pos="3319560"/>
                  <a:tab algn="l" pos="3514680"/>
                  <a:tab algn="l" pos="3710160"/>
                  <a:tab algn="l" pos="39052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 Narrow"/>
                </a:rPr>
                <a:t>lastnam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 Narrow"/>
                </a:rPr>
                <a:t>yea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&lt;!ELEMENT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 Narrow"/>
                </a:rPr>
                <a:t>publish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(#PCDATA)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5120"/>
                  <a:tab algn="l" pos="390600"/>
                  <a:tab algn="l" pos="585720"/>
                  <a:tab algn="l" pos="781200"/>
                  <a:tab algn="l" pos="976320"/>
                  <a:tab algn="l" pos="1171440"/>
                  <a:tab algn="l" pos="1366920"/>
                  <a:tab algn="l" pos="1562040"/>
                  <a:tab algn="l" pos="1757520"/>
                  <a:tab algn="l" pos="1952640"/>
                  <a:tab algn="l" pos="2147760"/>
                  <a:tab algn="l" pos="2343240"/>
                  <a:tab algn="l" pos="2538360"/>
                  <a:tab algn="l" pos="2733840"/>
                  <a:tab algn="l" pos="2928960"/>
                  <a:tab algn="l" pos="3124080"/>
                  <a:tab algn="l" pos="3319560"/>
                  <a:tab algn="l" pos="3514680"/>
                  <a:tab algn="l" pos="3710160"/>
                  <a:tab algn="l" pos="39052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5120"/>
                  <a:tab algn="l" pos="390600"/>
                  <a:tab algn="l" pos="585720"/>
                  <a:tab algn="l" pos="781200"/>
                  <a:tab algn="l" pos="976320"/>
                  <a:tab algn="l" pos="1171440"/>
                  <a:tab algn="l" pos="1366920"/>
                  <a:tab algn="l" pos="1562040"/>
                  <a:tab algn="l" pos="1757520"/>
                  <a:tab algn="l" pos="1952640"/>
                  <a:tab algn="l" pos="2147760"/>
                  <a:tab algn="l" pos="2343240"/>
                  <a:tab algn="l" pos="2538360"/>
                  <a:tab algn="l" pos="2733840"/>
                  <a:tab algn="l" pos="2928960"/>
                  <a:tab algn="l" pos="3124080"/>
                  <a:tab algn="l" pos="3319560"/>
                  <a:tab algn="l" pos="3514680"/>
                  <a:tab algn="l" pos="3710160"/>
                  <a:tab algn="l" pos="39052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]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11760" y="6418080"/>
              <a:ext cx="65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DT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6949080" y="2666880"/>
            <a:ext cx="1894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:1-Abbild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bis auf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Schema: Elemen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168200"/>
            <a:ext cx="7772400" cy="42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ntax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tionale Zusatzattribu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y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Typ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tomarer, einfacher oder komplexer Typ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rdinalitäten (Vorgabe [1,1]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b2b2b2"/>
                </a:solidFill>
                <a:latin typeface="Arial"/>
              </a:rPr>
              <a:t>minOccur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{ 0, 1, n }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b2b2b2"/>
                </a:solidFill>
                <a:latin typeface="Arial"/>
              </a:rPr>
              <a:t>maxOccur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{ 1, n, unbounded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rtvorgaben (schließen sich gegenseitig aus!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b2b2b2"/>
                </a:solidFill>
                <a:latin typeface="Arial"/>
              </a:rPr>
              <a:t>default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änderliche Vorgab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b2b2b2"/>
                </a:solidFill>
                <a:latin typeface="Arial"/>
              </a:rPr>
              <a:t>fixed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u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veränderliche Vorgab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ap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minOccu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maxOccu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nbound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minOccu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Schema: Attribu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ntax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attribu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tionale Zusatzattribu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y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Typ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isten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optional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rdinalität [0,1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required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rdinalität [1,1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gabewer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default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“   </a:t>
            </a:r>
            <a:r>
              <a:rPr b="1" lang="de-DE" sz="1800" spc="-1" strike="noStrike">
                <a:solidFill>
                  <a:srgbClr val="b2b2b2"/>
                </a:solidFill>
                <a:latin typeface="Arial"/>
              </a:rPr>
              <a:t>valu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änderliche Vorgab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fixed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“   </a:t>
            </a:r>
            <a:r>
              <a:rPr b="1" lang="de-DE" sz="1800" spc="-1" strike="noStrike">
                <a:solidFill>
                  <a:srgbClr val="b2b2b2"/>
                </a:solidFill>
                <a:latin typeface="Arial"/>
              </a:rPr>
              <a:t>valu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u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veränderliche Vorgab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qui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angu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Schema: Typ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XML-Schema wird zwischen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atomar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einfach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komplexen Typ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terschi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tomare Typ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gebaute Elementartypen wie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i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fache Typ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ben weder eingebettete Elemente noch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der Regel von atomaren Typen abgelei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lexe Typ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ürfen Elemente und Attribute besi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sätzlich kann man noch folgende Unterscheidung treff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ine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Typdefinitio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schreiben (wiederverwendbare) Typstrukt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Dokumentdefinitio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schreiben welche Elemente wie im Dokument auftauchen dür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Schema: Atomare Typ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ML-Schema unterstützt eine große Menge eingebauter Basistypen (&gt;40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merisch: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byt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shor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i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lo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floa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doub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decima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binary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eitangaben: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tim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dat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mon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yea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timeDur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timePerio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nstige: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str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boolea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uriReferenc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I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yea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de-DE" sz="24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yea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/&gt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ag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de-DE" sz="24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positiveInteg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/&gt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attribut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ag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de-DE" sz="24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unsignedShor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Schema: Einfache Typ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sätzlich können von bestehenden Typen noch weitere, sog.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einfache Typ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bgeleitet werd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ypdefinitio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simple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humanAg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ba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unsignedShor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maxInclusiv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valu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20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/&gt; &lt;/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simple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kumentdefinitio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attribu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ag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humanAg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lche einfachen Typen dürfen jedoch keine verschachtelten Elemente enthalt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ähnlicher Weise können Listen definiert werd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ypdefinitio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simple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author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ba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stri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derivedBy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lis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/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Name eines Autors als mit Leerzeichen getrennte Liste von Zeichenkett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kumentdefinito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autho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author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Schema: Komplexe Typ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206360"/>
            <a:ext cx="77724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Arial"/>
              <a:buChar char="•"/>
              <a:tabLst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Komplexe Typ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ürfen im Gegensatz zu einfachen Typen eingebettete Elemente und Attribute besi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ypdefinitio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author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first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string“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minOccur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0“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maxOccur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unbounded“/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last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string“/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string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optional”/&gt;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uppierungs-Bezeichn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ste Reihenfolge 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al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… &lt;/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al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liebige Reihenfolge (a,b oder b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choic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choic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ahl (entweder a oder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tended 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rsprung: strukturierter Text (HTML4.0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XML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G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b-Standard (W3C) zum Datenaustaus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- und Ausgabedaten von Anwendungen können mittels XML beschrieben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strie muß sich nur noch auf standardisierte Beschreibung ein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lementärsprache zu HTM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TML beschreibt die Prä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ML beschreibt den Inh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bank-Sichtweise: XML als Datenmodell für semistrukturierte 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Schema: Komplexe Typ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613260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authorTyp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first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string“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minOccur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0“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maxOccur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unbounded“/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last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string“/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ttrib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“string”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“optional”/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yphierarchi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734840"/>
            <a:ext cx="777240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etzmäßigkeit zwischen zwei Ty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ypdefinition d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Erweiter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engl. extension) 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Restrik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engl. restriction) einer bestehenden Typ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Typen in XML-Schema sind entwe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tomare Typen (z.B. string) 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weiterung bzw. Restriktion bestehender Ty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Typen bilden eine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Typhierarch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um mit Wurzel: Typ Zeichenk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Mehrfachverer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ypen sind entlang der Typhierarchie abwärtskompatib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Typinstanzen gilt das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Substituierbarkeitsprin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emente eines bestimmten Typs akzeptieren auch Daten einer Erweiterung oder Restriktion des geforderten Ty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ypen können konstruktiv um weitere Elemente oder Attribute zu neuen Typen erweite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extendedAuthor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extens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ba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author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emai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string“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minOccur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0“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maxOccur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1“/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mep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string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optional”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extens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weitert den zuvor definierten Typ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authorTyp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optionales Element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optionales Attribut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home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yphierarchien: Erweiterung von Typ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2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Erweiterungen werden an die bestehenden Definitionen angehäng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extendedAuthorTyp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first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string“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minOccur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0“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maxOccur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unbounded“/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last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string“/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emai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string“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minOccur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0“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maxOccur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1“/&gt;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ttrib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“string”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“optional”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ttrib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omep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“string”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“optional”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yphierarchien: Erweiterung von Typen (2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4648320"/>
            <a:ext cx="586728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5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5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500" spc="-1" strike="noStrike">
                <a:solidFill>
                  <a:srgbClr val="3333cc"/>
                </a:solidFill>
                <a:latin typeface="Arial"/>
              </a:rPr>
              <a:t>authorType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“&gt;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5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5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5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500" spc="-1" strike="noStrike">
                <a:solidFill>
                  <a:srgbClr val="3333cc"/>
                </a:solidFill>
                <a:latin typeface="Arial"/>
              </a:rPr>
              <a:t>firstname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15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=“string“ </a:t>
            </a:r>
            <a:r>
              <a:rPr b="0" lang="de-DE" sz="1500" spc="-1" strike="noStrike">
                <a:solidFill>
                  <a:srgbClr val="b2b2b2"/>
                </a:solidFill>
                <a:latin typeface="Arial"/>
              </a:rPr>
              <a:t>minOccurs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=“0“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b2b2b2"/>
                </a:solidFill>
                <a:latin typeface="Arial"/>
              </a:rPr>
              <a:t>maxOccurs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=“unbounded“/&gt;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5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5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500" spc="-1" strike="noStrike">
                <a:solidFill>
                  <a:srgbClr val="3333cc"/>
                </a:solidFill>
                <a:latin typeface="Arial"/>
              </a:rPr>
              <a:t>lastname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15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=“string“/&gt;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5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500" spc="-1" strike="noStrike">
                <a:solidFill>
                  <a:srgbClr val="006600"/>
                </a:solidFill>
                <a:latin typeface="Arial"/>
              </a:rPr>
              <a:t>attribut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500" spc="-1" strike="noStrike">
                <a:solidFill>
                  <a:srgbClr val="3333cc"/>
                </a:solidFill>
                <a:latin typeface="Arial"/>
              </a:rPr>
              <a:t>ag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15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=“string” </a:t>
            </a:r>
            <a:r>
              <a:rPr b="0" lang="en-US" sz="15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=“optional”/&gt;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5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Typhierarchien: Restriktion von Typen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ypen werden durch Verschärfung von Zusatzangaben bei Typdefinitionen in ihrer Wertemenge eingeschrän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e für Restriktio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sher nicht angebene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,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defaul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oder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fixe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chärfung der Kardinalitäten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minOccur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maxOcc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Substituierbar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nge der Instanzen des eingeschränkten Untertyps muß immer eine Teilmenge des Obertyps sein!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striktion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komplexer Ty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ruktur bleibt gleich: es dürfen keine Elemente oder Attribute weggelassen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striktion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einfacher Ty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striktion ist (im Gegensatz zur Erweiterung) auch bei einfachen Typen erlaub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676520" y="2714760"/>
            <a:ext cx="1828800" cy="30456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97320" y="3629160"/>
            <a:ext cx="1731960" cy="30456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2714760"/>
            <a:ext cx="1828800" cy="304560"/>
          </a:xfrm>
          <a:prstGeom prst="rect">
            <a:avLst/>
          </a:prstGeom>
          <a:solidFill>
            <a:srgbClr val="fff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97320" y="3629160"/>
            <a:ext cx="1731960" cy="304560"/>
          </a:xfrm>
          <a:prstGeom prst="rect">
            <a:avLst/>
          </a:prstGeom>
          <a:solidFill>
            <a:srgbClr val="fff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1828800"/>
            <a:ext cx="3810240" cy="30492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3962520"/>
            <a:ext cx="1676520" cy="304560"/>
          </a:xfrm>
          <a:prstGeom prst="rect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1828800"/>
            <a:ext cx="3810240" cy="304920"/>
          </a:xfrm>
          <a:prstGeom prst="rect">
            <a:avLst/>
          </a:prstGeom>
          <a:solidFill>
            <a:srgbClr val="fff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3962520"/>
            <a:ext cx="1676520" cy="304560"/>
          </a:xfrm>
          <a:prstGeom prst="rect">
            <a:avLst/>
          </a:prstGeom>
          <a:solidFill>
            <a:srgbClr val="fff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yphierarchien: Restriktion von Typen (2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(Komplexer Typ):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restrictedAuthor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restric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ba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author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first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string“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minOccur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0“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maxOccur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2“/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last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string“/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string”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required”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restric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genüber dem ursprünglichen Typ wurde die Anzahl der Vornamen (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firstna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auf 2 begrenzt und das Altersattribut (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ag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erzw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629240" y="2640240"/>
            <a:ext cx="4290480" cy="424800"/>
          </a:xfrm>
          <a:prstGeom prst="wedgeRoundRectCallout">
            <a:avLst>
              <a:gd name="adj1" fmla="val -77189"/>
              <a:gd name="adj2" fmla="val 7407"/>
              <a:gd name="adj3" fmla="val 16667"/>
            </a:avLst>
          </a:prstGeom>
          <a:solidFill>
            <a:srgbClr val="fff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Vorh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maxOccur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unbounded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89960" y="4102560"/>
            <a:ext cx="2926440" cy="424800"/>
          </a:xfrm>
          <a:prstGeom prst="wedgeRoundRectCallout">
            <a:avLst>
              <a:gd name="adj1" fmla="val -16657"/>
              <a:gd name="adj2" fmla="val -95212"/>
              <a:gd name="adj3" fmla="val 16667"/>
            </a:avLst>
          </a:prstGeom>
          <a:solidFill>
            <a:srgbClr val="fff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Vorh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“optional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lymorphe Konsistenzbedingung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emente und Attribute können zusätzlich mit Konsistenzbedingungen beleg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deutigkeit (Schlüsselkandidat):</a:t>
            </a:r>
            <a:br>
              <a:rPr sz="20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uniqu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eindeutigerAutoren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fiel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xpat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bib/paper/author/@first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/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fiel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xpat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bib/paper/author/@last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/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uniqu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Kombinationen von Vor- und Nachnamen bei den Autoren sind immer eindeut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tels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fiel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erden die entsprechenden Elemente oder Attribute identifizi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tels 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xpat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ird der genaue Pfadausdruck angegeben, unter dem das entsprechende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fiel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nnerhalb der Dokumenthierarchie gefunden werden k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Path (</a:t>
            </a:r>
            <a:r>
              <a:rPr b="0" lang="de-DE" sz="2000" spc="-1" strike="noStrike">
                <a:solidFill>
                  <a:srgbClr val="b2b2b2"/>
                </a:solidFill>
                <a:latin typeface="Arial"/>
              </a:rPr>
              <a:t>xpat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: XML-Standard für Pfadausdrüc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2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Schlüsselbedingung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ke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papierSchlüsse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fiel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xpat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bib/paper/@i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/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ke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Attribut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i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pape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ient als Schlüs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lüssel sind eindeutig und können referenzier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Fremdschlüsselbedingung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keyre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papierFremdschlüsse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refe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papierSchlüsse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fiel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xpat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bib/paper/@reference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/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keyre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gänzend zum bisherigen Schema: 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reference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eine Liste von Papieren, die vom Papier aus referenziert werden, d.h. in dessen Literaturverzeichnis auftauch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st jetzt macht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in Sinn: mit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refe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ezieht man sich auf das 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Attribut einer Schlüsselbedingung, nicht auf das Schlüsselfel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Werte in 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reference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üssen also immer unter den Schlüsseln zu den Papieren zu finden s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3390840"/>
            <a:ext cx="1987560" cy="32724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68480" y="1523880"/>
            <a:ext cx="1987560" cy="25092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1600200"/>
            <a:ext cx="3886200" cy="1752480"/>
          </a:xfrm>
          <a:custGeom>
            <a:avLst/>
            <a:gdLst/>
            <a:ahLst/>
            <a:rect l="l" t="t" r="r" b="b"/>
            <a:pathLst>
              <a:path w="3010" h="1157">
                <a:moveTo>
                  <a:pt x="1706" y="1157"/>
                </a:moveTo>
                <a:cubicBezTo>
                  <a:pt x="2358" y="1035"/>
                  <a:pt x="3010" y="913"/>
                  <a:pt x="2726" y="720"/>
                </a:cubicBezTo>
                <a:cubicBezTo>
                  <a:pt x="2442" y="527"/>
                  <a:pt x="1221" y="263"/>
                  <a:pt x="0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lymorphe Konsistenzbedingungen (2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ispiel-Schem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1066680"/>
            <a:ext cx="8305920" cy="571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&lt;!-- XMLSchema für eine Literaturdatenbank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schema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&lt;!-- Globales Wurzelelement bib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bib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paper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minOccur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0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maxOccur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unbounded"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attribu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id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ID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required"/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author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authorType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maxOccur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unbounded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year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string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publisher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string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minOccur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0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references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listOfPapers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minOccur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0"/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&lt;!-- Liste von Verweisen auf Papiere (siehe bib/paper/@references)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simple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listOfPapers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bas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ID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derivedBy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list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ispiel-Schema (2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966960"/>
            <a:ext cx="8686800" cy="581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&lt;!-- Reine Typdefinitionen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authorType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firstname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string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minOccur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0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maxOccur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unbounded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lastname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string"/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attribu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age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humanAge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optional"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simple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humanAge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bas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unsignedShort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maxInclusiv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valu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200"/&gt; &lt;/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simple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extendedAuthorType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exten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bas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authorType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email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string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minOccur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0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maxOccur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1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sequenc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attribu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homepage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simpleURLType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us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optional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exten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complex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simple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simpleURLType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bas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string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patter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valu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http://([^/?#]*)?([^?#]*)(\?([^#]*))?(#(.*))?"/&gt; &lt;/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simpleTyp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386240" y="236376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62440" y="3352680"/>
            <a:ext cx="399960" cy="400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86240" y="3352680"/>
            <a:ext cx="399960" cy="400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3352680"/>
            <a:ext cx="399960" cy="400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95560" y="43894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95600" y="552456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552456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itebo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21480" y="44974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564192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26360" y="5665680"/>
            <a:ext cx="399960" cy="400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a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276360" y="266868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266868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274464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361960" y="3733920"/>
            <a:ext cx="685800" cy="68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373536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343040" y="373536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373536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659040"/>
            <a:ext cx="304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358308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562720" y="373536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79960" y="37353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562360" y="4897440"/>
            <a:ext cx="228600" cy="74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79960" y="4897440"/>
            <a:ext cx="64944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21440" y="3659040"/>
            <a:ext cx="507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91280" y="3659040"/>
            <a:ext cx="1200240" cy="73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43894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564192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48720" y="564192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91520" y="478944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43800" y="472608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905120" y="480204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472608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114440" y="3583080"/>
            <a:ext cx="3049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01480" y="449568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6040" y="342900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a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1680" y="3413160"/>
            <a:ext cx="4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73640" y="342900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a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1280" y="447984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20600" y="449568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89040" y="457200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44880" y="44197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2880" y="562284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fir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43680" y="562284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la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50480" y="571500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fir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93480" y="571500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la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9800" y="571500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fir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31400" y="571500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l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40640" y="243828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Bi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442116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3840" y="1295280"/>
            <a:ext cx="81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63c6"/>
                </a:solidFill>
                <a:latin typeface="Arial"/>
              </a:rPr>
              <a:t>Veranschaulichu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n Objekten als gerichtete Grap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Model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18000" y="1829880"/>
            <a:ext cx="3649680" cy="759960"/>
          </a:xfrm>
          <a:prstGeom prst="wedgeRoundRectCallout">
            <a:avLst>
              <a:gd name="adj1" fmla="val -69129"/>
              <a:gd name="adj2" fmla="val 51180"/>
              <a:gd name="adj3" fmla="val 16667"/>
            </a:avLst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ktidentifikator als Attribut im Knoten vermer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4080" y="2134080"/>
            <a:ext cx="2716200" cy="430560"/>
          </a:xfrm>
          <a:prstGeom prst="wedgeRoundRectCallout">
            <a:avLst>
              <a:gd name="adj1" fmla="val 78847"/>
              <a:gd name="adj2" fmla="val 45986"/>
              <a:gd name="adj3" fmla="val 16667"/>
            </a:avLst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ten sind marki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6350400"/>
            <a:ext cx="3208320" cy="430560"/>
          </a:xfrm>
          <a:prstGeom prst="wedgeRoundRectCallout">
            <a:avLst>
              <a:gd name="adj1" fmla="val -75027"/>
              <a:gd name="adj2" fmla="val -172472"/>
              <a:gd name="adj3" fmla="val 16667"/>
            </a:avLst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 im Knoten vermer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520" y="37353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285640" y="36576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ispiel-Schema (3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1066680"/>
            <a:ext cx="8305920" cy="571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&lt;!-- Konsistenzbedingungen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uniqu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eindeutigerAutorenName"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fiel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xpat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bib/paper/author/@firstname"/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fiel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xpat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bib/paper/author/@lastname"/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uniqu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key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papierSchlüssel"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fiel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xpat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bib/paper/@id"/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key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keyre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na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papierFremdschlüssel"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ref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papierSchlüssel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fiel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b2b2b2"/>
                </a:solidFill>
                <a:latin typeface="Arial"/>
              </a:rPr>
              <a:t>xpat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"bib/paper/@references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keyre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DE" sz="1600" spc="-1" strike="noStrike">
                <a:solidFill>
                  <a:srgbClr val="006600"/>
                </a:solidFill>
                <a:latin typeface="Arial"/>
              </a:rPr>
              <a:t>schema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wertung von XML-Schem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XML-Schema können Datenbasis-Schemata viel einfacher als mit DTDs spezifizie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 kann viel mehr Semantik in einem Schema eingefangen werden als mit 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ML-Schema wird jedoch noch nicht weitläufig unterstützt, während DTDs bereits zum Kernstandard von XML gehö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ntax und Ausdruckskraft von XML-Schema sind sehr umfangre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zige Schwäche: geringe Vielfalt bei Konsistenzbeding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hr zu XML-Schema im We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ttp://www.w3.org/TR/xmlschema-0/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füh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ttp://www.w3.org/TR/xmlschema-1/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il I: Strukt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ttp://www.w3.org/TR/xmlschema-2/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il II: Datenty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 Namespa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 rot="4200">
            <a:off x="2436840" y="3200040"/>
            <a:ext cx="3962520" cy="1579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3343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Namespac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 Namespaces and       Programming-Language Modu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658520"/>
            <a:ext cx="82296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namespaces are akin to namespaces, packages, and modules in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mbiguation of tag names from different XML applications (“spaces”) through different prefi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eparated from the loc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a “:”, obtain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spaces constitute a layer on top of XML 1.0, sin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gain a valid tag name and namespace bindings are ignored by som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 rot="5400000">
            <a:off x="-1295280" y="3733560"/>
            <a:ext cx="335268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N'spac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amespace Binding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649160"/>
            <a:ext cx="82296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es are bound to namespace URIs by attaching an xmlns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ribute to the prefixed element or one of its ancestor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...,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of the xmlns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ribute is a URI, which may or (unlike for DTDs!) may not point to a description of the namespace’s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lement can use bindings for multiple name-spaces via attributes xmlns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...,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ns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 rot="5400000">
            <a:off x="-1295280" y="3733560"/>
            <a:ext cx="335268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N'spac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amespaceless Example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ress Variant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4120" y="2114640"/>
            <a:ext cx="3754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addre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nam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aver M. Lind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street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kingerufer 7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street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town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555 Berli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tow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bill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.50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bil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30/1234567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ph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30/1234568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ph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fax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30/1234569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fax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bill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6.20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bil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 addre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59400" y="1609560"/>
            <a:ext cx="39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spaceless XML Mark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96040" y="3284640"/>
            <a:ext cx="2612880" cy="155700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bi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mbiguous tag (name clash from two XML applic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3555720" y="3544560"/>
            <a:ext cx="273204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3586320" y="4376880"/>
            <a:ext cx="272232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 rot="5400000">
            <a:off x="-1295280" y="3733560"/>
            <a:ext cx="335268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N'spac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wo-Namespace Example:                Snail-Mail and Telecoms Address Par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306440" y="1860480"/>
            <a:ext cx="6084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ddres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ns: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http://www.deutschepost.de/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ns: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http://www.telekom.de/"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aver M. Lind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kingerufer 7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555 Berli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bill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.50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bil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30/1234567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h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30/1234568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h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fax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30/1234569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fax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bill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6.20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bil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ddre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60120" y="149688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space XML Mark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003320" y="5300640"/>
            <a:ext cx="814068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oot element,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s well as the children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bi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use the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efix, bound to a deutschepost U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f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bil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use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efix, bound to a telekom U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296040" y="3498840"/>
            <a:ext cx="261288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bi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ambiguation through </a:t>
            </a: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mai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fixe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4583160" y="3595680"/>
            <a:ext cx="170496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4378320" y="4376880"/>
            <a:ext cx="1930320" cy="44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 rot="5400000">
            <a:off x="-1295280" y="3733560"/>
            <a:ext cx="335268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N'spac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Processing XM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 rot="4200">
            <a:off x="2487600" y="3230280"/>
            <a:ext cx="4124160" cy="176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30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cessing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5456160" y="2631960"/>
            <a:ext cx="1763640" cy="2955960"/>
          </a:xfrm>
          <a:custGeom>
            <a:avLst/>
            <a:gdLst/>
            <a:ahLst/>
            <a:rect l="l" t="t" r="r" b="b"/>
            <a:pathLst>
              <a:path w="1111" h="1862">
                <a:moveTo>
                  <a:pt x="678" y="256"/>
                </a:moveTo>
                <a:cubicBezTo>
                  <a:pt x="894" y="128"/>
                  <a:pt x="1111" y="0"/>
                  <a:pt x="998" y="268"/>
                </a:cubicBezTo>
                <a:cubicBezTo>
                  <a:pt x="885" y="536"/>
                  <a:pt x="167" y="1596"/>
                  <a:pt x="0" y="1862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ress Example: XML to External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589400" y="2449440"/>
            <a:ext cx="446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addres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name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aver M. Linde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street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ngerufer 7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street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town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555 Berlin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tow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addres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13920" y="199224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ML Mark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62120" y="524664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aver M. L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ngeruf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555 Ber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77640" y="4789440"/>
            <a:ext cx="30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ternal Presen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3646080" y="5283360"/>
            <a:ext cx="201780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35480" y="4051440"/>
            <a:ext cx="302904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stylesheets a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.g., usable to 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ffer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48760" y="5226120"/>
            <a:ext cx="21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ngeruf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0555 Ber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35520" y="58658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659560" y="5283360"/>
            <a:ext cx="893520" cy="752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5145120" y="5573880"/>
            <a:ext cx="318960" cy="51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975280" y="3038400"/>
            <a:ext cx="558720" cy="35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468800" y="4162320"/>
            <a:ext cx="3939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addre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nam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aver M. Lind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pla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street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kingerufer 7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street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town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555 Berli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tow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pla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addre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289480" y="2732040"/>
            <a:ext cx="2922480" cy="2143080"/>
          </a:xfrm>
          <a:custGeom>
            <a:avLst/>
            <a:gdLst/>
            <a:ahLst/>
            <a:rect l="l" t="t" r="r" b="b"/>
            <a:pathLst>
              <a:path w="1841" h="1350">
                <a:moveTo>
                  <a:pt x="0" y="0"/>
                </a:moveTo>
                <a:cubicBezTo>
                  <a:pt x="846" y="22"/>
                  <a:pt x="1693" y="44"/>
                  <a:pt x="1767" y="269"/>
                </a:cubicBezTo>
                <a:cubicBezTo>
                  <a:pt x="1841" y="494"/>
                  <a:pt x="1141" y="922"/>
                  <a:pt x="442" y="135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ress Example: XML to XM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594800" y="2101680"/>
            <a:ext cx="3754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addre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nam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aver M. Lind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street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kingerufer 7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street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town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555 Berli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tow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addre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20400" y="167652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ML Markup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58560" y="374796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ML Marku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5457960" y="4873680"/>
            <a:ext cx="534960" cy="32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44440" y="3328920"/>
            <a:ext cx="315684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stylesheet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so usabl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Syntax (1) – XML-Elem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ML-Element (engl. elemen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schreibung eines Objekts, die durch passende Markierungen (tags) wie &lt;author&gt; und &lt;/author&gt; geklammert 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halt eines Elements: Text und/oder weitere Elemente (Untereleme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emente können beliebig geschachtelt 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ere Elemente: 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y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&lt;/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y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 kurz: &lt;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y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70040" y="3962520"/>
            <a:ext cx="4303440" cy="228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gt; Serge &lt;/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gt;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gt; Abiteboul &lt;/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gt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emai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gt; sab@abc.com &lt;/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emai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mail address may be wrong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3640" y="4863960"/>
            <a:ext cx="1906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auth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3984480"/>
            <a:ext cx="228600" cy="2187720"/>
          </a:xfrm>
          <a:custGeom>
            <a:avLst/>
            <a:gdLst>
              <a:gd name="textAreaLeft" fmla="*/ 0 w 228600"/>
              <a:gd name="textAreaRight" fmla="*/ 82440 w 228600"/>
              <a:gd name="textAreaTop" fmla="*/ 56880 h 2187720"/>
              <a:gd name="textAreaBottom" fmla="*/ 2130840 h 218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8680" y="3962520"/>
            <a:ext cx="1993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mark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7160" y="5791320"/>
            <a:ext cx="1909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mark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4191120"/>
            <a:ext cx="4572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6019920"/>
            <a:ext cx="4572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2960" y="4734000"/>
            <a:ext cx="1851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erel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33720" y="4441680"/>
            <a:ext cx="380880" cy="968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52560 h 968400"/>
              <a:gd name="textAreaBottom" fmla="*/ 915840 h 96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77"/>
                  <a:pt x="10800" y="3753"/>
                </a:cubicBezTo>
                <a:lnTo>
                  <a:pt x="10800" y="7614"/>
                </a:lnTo>
                <a:cubicBezTo>
                  <a:pt x="10800" y="9491"/>
                  <a:pt x="5400" y="11367"/>
                  <a:pt x="0" y="11367"/>
                </a:cubicBezTo>
                <a:cubicBezTo>
                  <a:pt x="5400" y="11367"/>
                  <a:pt x="10800" y="13244"/>
                  <a:pt x="10800" y="15120"/>
                </a:cubicBezTo>
                <a:lnTo>
                  <a:pt x="10800" y="17847"/>
                </a:lnTo>
                <a:cubicBezTo>
                  <a:pt x="10800" y="1972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5473800"/>
            <a:ext cx="1903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i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5960" y="5715000"/>
            <a:ext cx="458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ress Example: Some Stylesheets Will Contain Term-(Tree-)Rewriting Ru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984120" y="177948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2207880" y="2171880"/>
            <a:ext cx="2133720" cy="4777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83080" y="2171880"/>
            <a:ext cx="0" cy="5270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665600" y="2151000"/>
            <a:ext cx="2113200" cy="4874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065320" y="3271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343400" y="323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53240" y="32209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21320" y="2603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26320" y="26035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536160" y="260352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05400" y="2933640"/>
            <a:ext cx="1440" cy="293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19400" y="2954160"/>
            <a:ext cx="1440" cy="293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92920" y="2932200"/>
            <a:ext cx="1440" cy="293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06440" y="412596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2220480" y="4467240"/>
            <a:ext cx="2133720" cy="4777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501880" y="5229360"/>
            <a:ext cx="406440" cy="3445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127920" y="5240160"/>
            <a:ext cx="690480" cy="3254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33920" y="48988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153400" y="546876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83680" y="54687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524560" y="5808600"/>
            <a:ext cx="1440" cy="293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32000" y="5249880"/>
            <a:ext cx="1440" cy="293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959520" y="5813280"/>
            <a:ext cx="1800" cy="293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663520" y="48988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06920" y="4456080"/>
            <a:ext cx="1300320" cy="4683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086280" y="3974760"/>
            <a:ext cx="2730240" cy="1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85840" y="5587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376600" y="6084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804000" y="6066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ress Example: The Tre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716120" y="383220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de-Labeled, (Left-to-Right-)Ordered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5377680" y="1755720"/>
            <a:ext cx="3377880" cy="2044080"/>
            <a:chOff x="5377680" y="1755720"/>
            <a:chExt cx="3377880" cy="2044080"/>
          </a:xfrm>
        </p:grpSpPr>
        <p:sp>
          <p:nvSpPr>
            <p:cNvPr id="438" name=""/>
            <p:cNvSpPr/>
            <p:nvPr/>
          </p:nvSpPr>
          <p:spPr>
            <a:xfrm>
              <a:off x="5753880" y="2181240"/>
              <a:ext cx="30016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address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name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"Xaver M. Linde"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)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street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"Wikingerufer 7"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)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town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"10555 Berlin"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77680" y="1755720"/>
              <a:ext cx="181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olog Ter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70360" y="2313000"/>
              <a:ext cx="74160" cy="1413000"/>
            </a:xfrm>
            <a:custGeom>
              <a:avLst/>
              <a:gdLst>
                <a:gd name="textAreaLeft" fmla="*/ 47520 w 74160"/>
                <a:gd name="textAreaRight" fmla="*/ 74160 w 74160"/>
                <a:gd name="textAreaTop" fmla="*/ 36720 h 1413000"/>
                <a:gd name="textAreaBottom" fmla="*/ 1376280 h 141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24120" y="2320920"/>
              <a:ext cx="26496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 rot="5353800">
              <a:off x="7245720" y="1252080"/>
              <a:ext cx="129960" cy="2563560"/>
            </a:xfrm>
            <a:custGeom>
              <a:avLst/>
              <a:gdLst>
                <a:gd name="textAreaLeft" fmla="*/ 83160 w 129960"/>
                <a:gd name="textAreaRight" fmla="*/ 130320 w 129960"/>
                <a:gd name="textAreaTop" fmla="*/ 66600 h 2563560"/>
                <a:gd name="textAreaBottom" fmla="*/ 2496960 h 25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83"/>
                  </a:lnTo>
                  <a:cubicBezTo>
                    <a:pt x="10800" y="9983"/>
                    <a:pt x="5400" y="10883"/>
                    <a:pt x="0" y="10883"/>
                  </a:cubicBezTo>
                  <a:cubicBezTo>
                    <a:pt x="5400" y="10883"/>
                    <a:pt x="10800" y="11783"/>
                    <a:pt x="10800" y="1268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37000" y="2259000"/>
              <a:ext cx="225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830640" y="2168640"/>
              <a:ext cx="141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ubstructu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914400" y="1752480"/>
            <a:ext cx="4143960" cy="2049480"/>
            <a:chOff x="914400" y="1752480"/>
            <a:chExt cx="4143960" cy="2049480"/>
          </a:xfrm>
        </p:grpSpPr>
        <p:sp>
          <p:nvSpPr>
            <p:cNvPr id="446" name=""/>
            <p:cNvSpPr/>
            <p:nvPr/>
          </p:nvSpPr>
          <p:spPr>
            <a:xfrm>
              <a:off x="1304280" y="2178000"/>
              <a:ext cx="37540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address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name&gt;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aver M. Linde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name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street&gt;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kingerufer 7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street&gt;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town&gt;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555 Berlin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town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address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929520" y="1752480"/>
              <a:ext cx="198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XML Markup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20760" y="2309760"/>
              <a:ext cx="74520" cy="14126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36720 h 1412640"/>
                <a:gd name="textAreaBottom" fmla="*/ 1375920 h 141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14400" y="2216160"/>
              <a:ext cx="26496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 rot="5353800">
              <a:off x="3205440" y="858240"/>
              <a:ext cx="120960" cy="3326040"/>
            </a:xfrm>
            <a:custGeom>
              <a:avLst/>
              <a:gdLst>
                <a:gd name="textAreaLeft" fmla="*/ 77400 w 120960"/>
                <a:gd name="textAreaRight" fmla="*/ 121320 w 120960"/>
                <a:gd name="textAreaTop" fmla="*/ 86400 h 3326040"/>
                <a:gd name="textAreaBottom" fmla="*/ 3239640 h 332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83"/>
                  </a:lnTo>
                  <a:cubicBezTo>
                    <a:pt x="10800" y="9983"/>
                    <a:pt x="5400" y="10883"/>
                    <a:pt x="0" y="10883"/>
                  </a:cubicBezTo>
                  <a:cubicBezTo>
                    <a:pt x="5400" y="10883"/>
                    <a:pt x="10800" y="11783"/>
                    <a:pt x="10800" y="1268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87760" y="2255760"/>
              <a:ext cx="225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44280" y="2155680"/>
              <a:ext cx="129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ubel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479600" y="4498920"/>
            <a:ext cx="6288480" cy="1829160"/>
            <a:chOff x="1479600" y="4498920"/>
            <a:chExt cx="6288480" cy="1829160"/>
          </a:xfrm>
        </p:grpSpPr>
        <p:sp>
          <p:nvSpPr>
            <p:cNvPr id="454" name=""/>
            <p:cNvSpPr/>
            <p:nvPr/>
          </p:nvSpPr>
          <p:spPr>
            <a:xfrm>
              <a:off x="4082760" y="4498920"/>
              <a:ext cx="94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add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2306160" y="4890960"/>
              <a:ext cx="2133720" cy="4777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581360" y="4890960"/>
              <a:ext cx="0" cy="5270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64240" y="4870440"/>
              <a:ext cx="2112840" cy="487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479600" y="5929200"/>
              <a:ext cx="181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aver M. Li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26880" y="5929200"/>
              <a:ext cx="174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kingerufer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47800" y="5929200"/>
              <a:ext cx="152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555 Berl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019600" y="532296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224600" y="5322960"/>
              <a:ext cx="73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stre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634440" y="5322960"/>
              <a:ext cx="69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tow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603680" y="5653080"/>
              <a:ext cx="1800" cy="2937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317680" y="5673600"/>
              <a:ext cx="1800" cy="2937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91200" y="5651280"/>
              <a:ext cx="1800" cy="2937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300320" y="5276880"/>
            <a:ext cx="74520" cy="995400"/>
          </a:xfrm>
          <a:custGeom>
            <a:avLst/>
            <a:gdLst>
              <a:gd name="textAreaLeft" fmla="*/ 47520 w 74520"/>
              <a:gd name="textAreaRight" fmla="*/ 74880 w 74520"/>
              <a:gd name="textAreaTop" fmla="*/ 25920 h 995400"/>
              <a:gd name="textAreaBottom" fmla="*/ 969480 h 99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28880" y="5214960"/>
            <a:ext cx="26496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b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5353800">
            <a:off x="4347360" y="1668240"/>
            <a:ext cx="330120" cy="5854680"/>
          </a:xfrm>
          <a:custGeom>
            <a:avLst/>
            <a:gdLst>
              <a:gd name="textAreaLeft" fmla="*/ 210960 w 330120"/>
              <a:gd name="textAreaRight" fmla="*/ 330480 w 330120"/>
              <a:gd name="textAreaTop" fmla="*/ 152640 h 5854680"/>
              <a:gd name="textAreaBottom" fmla="*/ 5702040 h 585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83"/>
                </a:lnTo>
                <a:cubicBezTo>
                  <a:pt x="10800" y="9983"/>
                  <a:pt x="5400" y="10883"/>
                  <a:pt x="0" y="10883"/>
                </a:cubicBezTo>
                <a:cubicBezTo>
                  <a:pt x="5400" y="10883"/>
                  <a:pt x="10800" y="11783"/>
                  <a:pt x="10800" y="1268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69960" y="41860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ress Example: The Tre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716120" y="383220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de-Labeled, (Left-to-Right-)Ordered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914400" y="1752480"/>
            <a:ext cx="4143960" cy="2049480"/>
            <a:chOff x="914400" y="1752480"/>
            <a:chExt cx="4143960" cy="2049480"/>
          </a:xfrm>
        </p:grpSpPr>
        <p:sp>
          <p:nvSpPr>
            <p:cNvPr id="475" name=""/>
            <p:cNvSpPr/>
            <p:nvPr/>
          </p:nvSpPr>
          <p:spPr>
            <a:xfrm>
              <a:off x="1304280" y="2178000"/>
              <a:ext cx="37540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address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name&gt;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aver M. Linde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name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street&gt;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kingerufer 7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street&gt;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town&gt;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555 Berlin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town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address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29520" y="1752480"/>
              <a:ext cx="198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XML Markup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20760" y="2309760"/>
              <a:ext cx="74520" cy="14126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36720 h 1412640"/>
                <a:gd name="textAreaBottom" fmla="*/ 1375920 h 141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14400" y="2216160"/>
              <a:ext cx="26496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 rot="5353800">
              <a:off x="3205440" y="858240"/>
              <a:ext cx="120960" cy="3326040"/>
            </a:xfrm>
            <a:custGeom>
              <a:avLst/>
              <a:gdLst>
                <a:gd name="textAreaLeft" fmla="*/ 77400 w 120960"/>
                <a:gd name="textAreaRight" fmla="*/ 121320 w 120960"/>
                <a:gd name="textAreaTop" fmla="*/ 86400 h 3326040"/>
                <a:gd name="textAreaBottom" fmla="*/ 3239640 h 332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83"/>
                  </a:lnTo>
                  <a:cubicBezTo>
                    <a:pt x="10800" y="9983"/>
                    <a:pt x="5400" y="10883"/>
                    <a:pt x="0" y="10883"/>
                  </a:cubicBezTo>
                  <a:cubicBezTo>
                    <a:pt x="5400" y="10883"/>
                    <a:pt x="10800" y="11783"/>
                    <a:pt x="10800" y="1268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87760" y="2255760"/>
              <a:ext cx="225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744280" y="2155680"/>
              <a:ext cx="129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ubel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1479600" y="4498920"/>
            <a:ext cx="6288480" cy="1829160"/>
            <a:chOff x="1479600" y="4498920"/>
            <a:chExt cx="6288480" cy="1829160"/>
          </a:xfrm>
        </p:grpSpPr>
        <p:sp>
          <p:nvSpPr>
            <p:cNvPr id="483" name=""/>
            <p:cNvSpPr/>
            <p:nvPr/>
          </p:nvSpPr>
          <p:spPr>
            <a:xfrm>
              <a:off x="4082760" y="4498920"/>
              <a:ext cx="94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add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2306160" y="4890960"/>
              <a:ext cx="2133720" cy="4777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581360" y="4890960"/>
              <a:ext cx="0" cy="5270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764240" y="4870440"/>
              <a:ext cx="2112840" cy="487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79600" y="5929200"/>
              <a:ext cx="181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aver M. Li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26880" y="5929200"/>
              <a:ext cx="174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kingerufer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47800" y="5929200"/>
              <a:ext cx="152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555 Berl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019600" y="532296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24600" y="5322960"/>
              <a:ext cx="73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stre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634440" y="5322960"/>
              <a:ext cx="69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tow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603680" y="5653080"/>
              <a:ext cx="1800" cy="2937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17680" y="5673600"/>
              <a:ext cx="1800" cy="2937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91200" y="5651280"/>
              <a:ext cx="1800" cy="2937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1300320" y="5276880"/>
            <a:ext cx="74520" cy="995400"/>
          </a:xfrm>
          <a:custGeom>
            <a:avLst/>
            <a:gdLst>
              <a:gd name="textAreaLeft" fmla="*/ 47520 w 74520"/>
              <a:gd name="textAreaRight" fmla="*/ 74880 w 74520"/>
              <a:gd name="textAreaTop" fmla="*/ 25920 h 995400"/>
              <a:gd name="textAreaBottom" fmla="*/ 969480 h 99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28880" y="5214960"/>
            <a:ext cx="26496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b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5353800">
            <a:off x="4347360" y="1668240"/>
            <a:ext cx="330120" cy="5854680"/>
          </a:xfrm>
          <a:custGeom>
            <a:avLst/>
            <a:gdLst>
              <a:gd name="textAreaLeft" fmla="*/ 210960 w 330120"/>
              <a:gd name="textAreaRight" fmla="*/ 330480 w 330120"/>
              <a:gd name="textAreaTop" fmla="*/ 152640 h 5854680"/>
              <a:gd name="textAreaBottom" fmla="*/ 5702040 h 585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83"/>
                </a:lnTo>
                <a:cubicBezTo>
                  <a:pt x="10800" y="9983"/>
                  <a:pt x="5400" y="10883"/>
                  <a:pt x="0" y="10883"/>
                </a:cubicBezTo>
                <a:cubicBezTo>
                  <a:pt x="5400" y="10883"/>
                  <a:pt x="10800" y="11783"/>
                  <a:pt x="10800" y="1268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269960" y="41860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Displaying XM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xml-displaying" descr=""/>
          <p:cNvPicPr/>
          <p:nvPr/>
        </p:nvPicPr>
        <p:blipFill>
          <a:blip r:embed="rId1"/>
          <a:stretch/>
        </p:blipFill>
        <p:spPr>
          <a:xfrm>
            <a:off x="1050840" y="1371600"/>
            <a:ext cx="6797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scading Style Shee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90320" indent="-490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SS is a language for applying styles such a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ol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 XML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320" indent="-490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works with HTML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(supported in most modern brows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320" indent="-490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(style sheet for poem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display: block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display: block; font-size: 16pt; font-weight: bold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display: block; margin-bottom: 10px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z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display: block; margin-bottom: 10px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: block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0320" indent="-490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ached to XML document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ith processing instruction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?xml-stylesheet type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/cs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href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em.cs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?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 rot="5400000">
            <a:off x="-1024200" y="3605040"/>
            <a:ext cx="2895480" cy="50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S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SLT (XSL Transformations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SL (Extensible Stylesheet Language)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S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cluding Xpath) +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matti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ML Path Language - XPath: a language for referencing parts of an XML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SLT is a rule-based transformation language for XML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of a transformation usually is again an XML document, bu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so be HTML or plain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tion takes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server (e.g., with Apache´s Coco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lient (browser, e.g. Netscape 6 or IE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line (useful for XM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transform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 rot="5400000">
            <a:off x="-1138320" y="3681360"/>
            <a:ext cx="31147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SL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XSL capabil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xml-capabilities" descr=""/>
          <p:cNvPicPr/>
          <p:nvPr/>
        </p:nvPicPr>
        <p:blipFill>
          <a:blip r:embed="rId1"/>
          <a:stretch/>
        </p:blipFill>
        <p:spPr>
          <a:xfrm>
            <a:off x="1058760" y="1473120"/>
            <a:ext cx="702648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XPa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62120" y="1752480"/>
            <a:ext cx="77724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00"/>
                </a:solidFill>
                <a:latin typeface="Tahoma"/>
              </a:rPr>
              <a:t>•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XPath is a language for addressing parts of an XML document. It also has basic facilities for manipulation of strings, numbers and boole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00"/>
                </a:solidFill>
                <a:latin typeface="Tahoma"/>
              </a:rPr>
              <a:t>•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It has a compact non-XML synta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00"/>
                </a:solidFill>
                <a:latin typeface="Tahoma"/>
              </a:rPr>
              <a:t>•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It operates on the logical (tree-like) structure of an XML document and uses a path notation for navigating through the hierarch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00"/>
                </a:solidFill>
                <a:latin typeface="Tahoma"/>
              </a:rPr>
              <a:t>•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It models an XML document as a tree of nodes: element nodes, attribute nodes, text nodes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Xpath - </a:t>
            </a:r>
            <a:r>
              <a:rPr b="1" lang="de-DE" sz="2600" spc="-1" strike="noStrike">
                <a:solidFill>
                  <a:srgbClr val="000000"/>
                </a:solidFill>
                <a:latin typeface="Tahoma"/>
              </a:rPr>
              <a:t>Location Path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Tahoma"/>
              </a:rPr>
              <a:t>•   </a:t>
            </a: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elects all &lt;para&gt; children in the current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T61Co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TT61Co00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para/emph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elects all &lt;emphasis&gt; elements that have a parent of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&lt;par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T61Co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TT61Co00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elects the root of th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T61Co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TT61Co00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para//emph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elects all &lt;emphasis&gt; elements that have an ancestor of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&lt;par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T61Co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TT61Co00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section/para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elects the first &lt;para&gt; child of all the &lt;section&gt; children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n the current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ahoma"/>
              </a:rPr>
              <a:t>More location path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T61Co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TT61Co00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//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elects all &lt;title&gt; elements anywhere in th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T61Co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TT61Co00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ection/*/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elects &lt;note&gt; elements that have &lt;section&gt;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grand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T61Co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TT61Co00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tockquote[@symbol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elects &lt;stockquote&gt; elements that have a "symbol"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T61Co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TT61Co00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tockquote[@symbol="XXXX"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elects &lt;stockquote&gt; elements that have a "symbol"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ttribute with the value "XXXX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T61Co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TT61Co00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mphasis|st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elects &lt;emphasis&gt; or &lt;strong&gt;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Syntax (2) – XML-Attribu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ML-Attribut (engl. attribut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me-Zeichenkettenwert-P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ssoziiert mit einem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ternative Möglichkeit, Daten zu beschrei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5934240"/>
            <a:ext cx="845820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author </a:t>
            </a:r>
            <a:r>
              <a:rPr b="0" lang="en-US" sz="2400" spc="-1" strike="noStrike">
                <a:solidFill>
                  <a:srgbClr val="3c63c6"/>
                </a:solidFill>
                <a:latin typeface="Arial Narrow"/>
              </a:rPr>
              <a:t>firstname=“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rge</a:t>
            </a:r>
            <a:r>
              <a:rPr b="0" lang="en-US" sz="2400" spc="-1" strike="noStrike">
                <a:solidFill>
                  <a:srgbClr val="3c63c6"/>
                </a:solidFill>
                <a:latin typeface="Arial Narrow"/>
              </a:rPr>
              <a:t>”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3c63c6"/>
                </a:solidFill>
                <a:latin typeface="Arial Narrow"/>
              </a:rPr>
              <a:t>lastname=“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biteboul</a:t>
            </a:r>
            <a:r>
              <a:rPr b="0" lang="en-US" sz="2400" spc="-1" strike="noStrike">
                <a:solidFill>
                  <a:srgbClr val="3c63c6"/>
                </a:solidFill>
                <a:latin typeface="Arial Narrow"/>
              </a:rPr>
              <a:t>”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3c63c6"/>
                </a:solidFill>
                <a:latin typeface="Arial Narrow"/>
              </a:rPr>
              <a:t>email=“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b@abc.com</a:t>
            </a:r>
            <a:r>
              <a:rPr b="0" lang="en-US" sz="2400" spc="-1" strike="noStrike">
                <a:solidFill>
                  <a:srgbClr val="3c63c6"/>
                </a:solidFill>
                <a:latin typeface="Arial Narrow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4529160" y="2476080"/>
            <a:ext cx="380880" cy="2362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138600 h 2362320"/>
              <a:gd name="textAreaBottom" fmla="*/ 222372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25"/>
                  <a:pt x="10800" y="4050"/>
                </a:cubicBezTo>
                <a:lnTo>
                  <a:pt x="10800" y="6750"/>
                </a:lnTo>
                <a:cubicBezTo>
                  <a:pt x="10800" y="8775"/>
                  <a:pt x="5400" y="10800"/>
                  <a:pt x="0" y="10800"/>
                </a:cubicBezTo>
                <a:cubicBezTo>
                  <a:pt x="5400" y="10800"/>
                  <a:pt x="10800" y="12825"/>
                  <a:pt x="10800" y="14850"/>
                </a:cubicBezTo>
                <a:lnTo>
                  <a:pt x="10800" y="17550"/>
                </a:lnTo>
                <a:cubicBezTo>
                  <a:pt x="10800" y="1957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08960" y="3086280"/>
            <a:ext cx="166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ttribut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c63c6"/>
                </a:solidFill>
                <a:latin typeface="Arial"/>
              </a:rPr>
              <a:t>e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90120" y="5486400"/>
            <a:ext cx="5832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tere denkbare Beschreibung derselben Da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74920" y="3886200"/>
            <a:ext cx="4303440" cy="155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author </a:t>
            </a:r>
            <a:r>
              <a:rPr b="0" lang="en-US" sz="2400" spc="-1" strike="noStrike">
                <a:solidFill>
                  <a:srgbClr val="3c63c6"/>
                </a:solidFill>
                <a:latin typeface="Arial Narrow"/>
              </a:rPr>
              <a:t>email=“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b@abc.com</a:t>
            </a:r>
            <a:r>
              <a:rPr b="0" lang="en-US" sz="2400" spc="-1" strike="noStrike">
                <a:solidFill>
                  <a:srgbClr val="3c63c6"/>
                </a:solidFill>
                <a:latin typeface="Arial Narrow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gt; Serge &lt;/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gt;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gt; Abiteboul &lt;/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gt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Xpath Patter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n XPath pattern is a 'location path’. A location path is absolute if it begins with a slash ("/") and relative otherw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 relative location path consists of a series of steps, separated by slas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 step has three 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n axis specifier, which specifies the tree relationship between the nodes to be selected and the context nod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 node test, which specifies the node type of the nodes to be selected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 predicate, to further refine the set of nodes to be sele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Axis – Node Tes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he axis of a node test determines what general category of nodes may be considered for the following node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here are thirteen ax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parent, ancestor, ancestor-or-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ncestors of the current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attribute :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ttributes of the current node (abbreviated "@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child, descendant, descendant-or-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hildren of the current node (the default ax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following / following-sibling, preceding / preceding-sib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iblings of the current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namespace :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amespace nodes of the current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self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The current node (abbreviated ".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xpath-tree" descr=""/>
          <p:cNvPicPr/>
          <p:nvPr/>
        </p:nvPicPr>
        <p:blipFill>
          <a:blip r:embed="rId1"/>
          <a:stretch/>
        </p:blipFill>
        <p:spPr>
          <a:xfrm>
            <a:off x="1143000" y="1098720"/>
            <a:ext cx="6019920" cy="54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Node tes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ode tests are most frequently element names, but other node tests are possib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name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Matches &lt;name&gt; element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*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Matches any element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namespace: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tches &lt;name&gt; element nodes in the specified name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namespace: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tches any element node in the specified name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comment(), text(), processing-instruction(), nod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tch comment nodes, text nodes, processing instructions, any node, respec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Predicat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redicates occur after the node test in square brack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 wide range of expressions are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odetes</a:t>
            </a: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t[1]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Matches the first node satisfying the node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odetes</a:t>
            </a: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t[position()=last()]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Matches the last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odetes</a:t>
            </a: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t[position() mod 2 =0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]: Matches eve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lemen</a:t>
            </a: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t[@id='foo'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tches the element(s) with id attributes whose value is "foo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lemen</a:t>
            </a: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t[not(@id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tches elements that don't have an id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utho</a:t>
            </a:r>
            <a:r>
              <a:rPr b="1" lang="de-DE" sz="2000" spc="-1" strike="noStrike">
                <a:solidFill>
                  <a:srgbClr val="000000"/>
                </a:solidFill>
                <a:latin typeface="Courier-Bold"/>
              </a:rPr>
              <a:t>r[firstname="Norman"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tches &lt;author&gt; elements that have &lt;firstname&gt; children with the content "Norman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SLT Exampl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 Inpu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231920" y="1612800"/>
            <a:ext cx="5770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8000"/>
                </a:solidFill>
                <a:latin typeface="Arial"/>
              </a:rPr>
              <a:t>&lt;addresses&gt;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addre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name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aver M. Linde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/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street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kingerufer 7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/street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town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555 Berlin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/tow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/address&gt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address&gt;    </a:t>
            </a:r>
            <a:br>
              <a:rPr sz="2000"/>
            </a:br>
            <a:r>
              <a:rPr b="0" lang="de-DE" sz="20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name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Doe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/name&gt;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  &lt;street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 Gary Cooper Street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/street&gt;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  &lt;town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wyck City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/town&gt;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&lt;/address&gt;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8000"/>
                </a:solidFill>
                <a:latin typeface="Arial"/>
              </a:rPr>
              <a:t>&lt;/address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 rot="5400000">
            <a:off x="-1138320" y="3681360"/>
            <a:ext cx="31147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SL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162080" y="1590840"/>
            <a:ext cx="6315120" cy="493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285920" y="4200480"/>
            <a:ext cx="4238640" cy="1886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76200" y="2066760"/>
            <a:ext cx="4248360" cy="2019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SLT Exampl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 Styleshee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152360" y="1552680"/>
            <a:ext cx="79916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styleshe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ns:xsl="http://www.w3.org/1999/XSL/Transform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template match="/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&lt;html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&lt;head&gt;&lt;title&gt;Addresses&lt;/title&gt;&lt;/hea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&lt;body bgcolor="white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&lt;xsl:apply-templates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&lt;/body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&lt;/html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&lt;/xsl:template&gt;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template match="address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&lt;p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&lt;i&gt;&lt;xsl:value-of select="name"/&gt;&lt;/i&gt;&lt;br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&lt;xsl:value-of select="street"/&gt;&lt;br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&lt;b&gt;&lt;xsl:value-of select="town"/&gt;&lt;/b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&lt;/xsl:template&gt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896080" y="2676600"/>
            <a:ext cx="2514600" cy="923760"/>
          </a:xfrm>
          <a:prstGeom prst="wedgeRoundRectCallout">
            <a:avLst>
              <a:gd name="adj1" fmla="val -85606"/>
              <a:gd name="adj2" fmla="val -98625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mplate for document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10200" y="4572000"/>
            <a:ext cx="2133720" cy="1285920"/>
          </a:xfrm>
          <a:prstGeom prst="wedgeRoundRectCallout">
            <a:avLst>
              <a:gd name="adj1" fmla="val -80356"/>
              <a:gd name="adj2" fmla="val -53828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mplate for address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 rot="5400000">
            <a:off x="-1138320" y="3681360"/>
            <a:ext cx="31147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SL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SLT Exampl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 Outpu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152360" y="1552680"/>
            <a:ext cx="7991640" cy="46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HTML PUBLIC "-//W3C//DTD HTML 4.0//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http://www.w3.org/TR/REC-html40/strict.dtd"&gt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tml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ead&gt;&lt;title&gt;Addresses&lt;/title&gt;&lt;/head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body bgcolor="white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&gt;&lt;i&gt;Xaver M. Linde&lt;/i&gt;&lt;br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kingerufer 7&lt;br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b&gt;10555 Berlin&lt;/b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&gt;&lt;i&gt;John Doe&lt;/i&gt;&lt;br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2 Gary Cooper Street&lt;br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b&gt;Stanwyck City&lt;/b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html&gt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The HTML code was produced with </a:t>
            </a:r>
            <a:br>
              <a:rPr sz="16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Apache´s Cocoon in HTML mode, hence</a:t>
            </a:r>
            <a:br>
              <a:rPr sz="16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&lt;br/&gt; became &lt;br&gt;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addresses" descr=""/>
          <p:cNvPicPr/>
          <p:nvPr/>
        </p:nvPicPr>
        <p:blipFill>
          <a:blip r:embed="rId1"/>
          <a:srcRect l="0" t="-729" r="0" b="0"/>
          <a:stretch/>
        </p:blipFill>
        <p:spPr>
          <a:xfrm>
            <a:off x="5734080" y="2322360"/>
            <a:ext cx="2228760" cy="38800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 txBox="1"/>
          <p:nvPr/>
        </p:nvSpPr>
        <p:spPr>
          <a:xfrm rot="5400000">
            <a:off x="-1138320" y="3681360"/>
            <a:ext cx="31147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SL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HTML Outpu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xhtml-output" descr=""/>
          <p:cNvPicPr/>
          <p:nvPr/>
        </p:nvPicPr>
        <p:blipFill>
          <a:blip r:embed="rId1"/>
          <a:stretch/>
        </p:blipFill>
        <p:spPr>
          <a:xfrm>
            <a:off x="457200" y="1289160"/>
            <a:ext cx="73915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Processing XM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 rot="4200">
            <a:off x="2487600" y="3230280"/>
            <a:ext cx="4124160" cy="176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30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Querying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Model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86240" y="236376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62440" y="3352680"/>
            <a:ext cx="399960" cy="400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6240" y="3352680"/>
            <a:ext cx="399960" cy="400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3352680"/>
            <a:ext cx="399960" cy="400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95560" y="43894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95600" y="552456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552456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itebo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21480" y="44974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564192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26360" y="5665680"/>
            <a:ext cx="399960" cy="400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a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276360" y="266868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266868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274464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361960" y="3733920"/>
            <a:ext cx="685800" cy="68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373536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343040" y="373536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373536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3659040"/>
            <a:ext cx="304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358308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562720" y="373536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79960" y="37353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562360" y="4897440"/>
            <a:ext cx="228600" cy="74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79960" y="4897440"/>
            <a:ext cx="64944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21440" y="3659040"/>
            <a:ext cx="507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91280" y="3659040"/>
            <a:ext cx="1200240" cy="73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43894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64192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48720" y="564192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91520" y="478944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43800" y="472608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905120" y="480204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472608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114440" y="3583080"/>
            <a:ext cx="3049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1480" y="449568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16040" y="342900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a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01680" y="3413160"/>
            <a:ext cx="4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3640" y="342900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a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1280" y="447984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20600" y="449568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89040" y="457200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44880" y="44197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2880" y="562284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fir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43680" y="562284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la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50480" y="571500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fir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3480" y="571500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la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9800" y="571500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fir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31400" y="571500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l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40640" y="243828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Bi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442116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819520" y="37353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285640" y="36576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0"/>
            <a:ext cx="3733920" cy="300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Bib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id=“o1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paper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d=“o12”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 Foundations of Databases &lt;/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title&gt;</a:t>
            </a:r>
            <a:br>
              <a:rPr sz="1600"/>
            </a:b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 Serge &lt;/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firstnam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 Abiteboul &lt;/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lastnam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year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 1997 &lt;/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year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 Addison Wesley &lt;/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paper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Bib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fragesprache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n für XM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9582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ür XML: XML-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chlag an W3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n Datenbankfachleuten für den Umgang mit großen Datenbestä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ert auf OEM (Object Exchange Mod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et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uläre Pfadausdrüc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ür XML: X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her aus Dokumentverarbeitungss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le andere vorgeschlage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QL and XPa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 rot="5400000">
            <a:off x="-1038240" y="3600360"/>
            <a:ext cx="291456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Q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SLT uses XPath to select parts of the input XML document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xsl:template match="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cument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xsl:value-of select="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/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 „nam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 is not XML-based, but intended to be used in URLs (XPointer) and XSLT as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QL is a variant of XPath especially designed for querying XML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Path/XQL expression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ect par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XML docum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no transformation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QL Expressions 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QL expressions (relative to a context nod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r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element nodes with tag name „addres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ress/na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„name“ element nod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rec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ow „address“ element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ress/name=´John Doe´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before, plus th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name element must be ´John Doe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ook//na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„name“ element nod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yw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ow „book“ element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 rot="5400000">
            <a:off x="-1038240" y="3600360"/>
            <a:ext cx="291456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Q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QL Expressions 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14400" y="1588680"/>
            <a:ext cx="82296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e XQL express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/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root (the node that contains the document el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/addresses/address/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//na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„name“ element nodes anywhere in th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s with attributes (prefixed with @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ddress/@typ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 nodes with name „type“ below „address“ element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ddress/@type=´email´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bove, plus th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„type“ attribute is ´email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 rot="5400000">
            <a:off x="-1038240" y="3600360"/>
            <a:ext cx="291456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Q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QL Expressions 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868040"/>
            <a:ext cx="7772400" cy="39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 expres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ress[name]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„address“ element nodes with a direct „name“ sub-element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ress[name=´John Doe´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bove, plus the content of the „name“ element is ´John Doe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ress[@type=´email´]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„address“ element nodes that have a „type“ attribute whos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´email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 rot="5400000">
            <a:off x="-1038240" y="3600360"/>
            <a:ext cx="291456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Q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1598400" y="1841400"/>
            <a:ext cx="340128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addres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name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aver M. Linde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/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street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kingerufer 7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/street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town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555 Berlin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/tow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/addres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302120" y="3651120"/>
            <a:ext cx="394632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addre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nam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aver M. Lind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street&gt;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$s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street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town&gt;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$t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tow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addre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binding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s&gt;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$s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t&gt;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$t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binding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ress Example: XML-QL Quer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23280" y="13716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ML Mark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242000" y="320040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ML Query (XML-Q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900520" y="5894280"/>
            <a:ext cx="3735360" cy="12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84680" y="4597560"/>
            <a:ext cx="261936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queries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lect sub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 XML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73120" y="1940040"/>
            <a:ext cx="115920" cy="1158840"/>
          </a:xfrm>
          <a:custGeom>
            <a:avLst/>
            <a:gdLst>
              <a:gd name="textAreaLeft" fmla="*/ 74160 w 115920"/>
              <a:gd name="textAreaRight" fmla="*/ 116280 w 115920"/>
              <a:gd name="textAreaTop" fmla="*/ 29880 h 1158840"/>
              <a:gd name="textAreaBottom" fmla="*/ 1128960 h 115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08160" y="1824120"/>
            <a:ext cx="26496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 rot="5353800">
            <a:off x="3332880" y="621000"/>
            <a:ext cx="146160" cy="3008520"/>
          </a:xfrm>
          <a:custGeom>
            <a:avLst/>
            <a:gdLst>
              <a:gd name="textAreaLeft" fmla="*/ 93600 w 146160"/>
              <a:gd name="textAreaRight" fmla="*/ 146520 w 146160"/>
              <a:gd name="textAreaTop" fmla="*/ 78120 h 3008520"/>
              <a:gd name="textAreaBottom" fmla="*/ 2930400 h 300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83"/>
                </a:lnTo>
                <a:cubicBezTo>
                  <a:pt x="10800" y="9983"/>
                  <a:pt x="5400" y="10883"/>
                  <a:pt x="0" y="10883"/>
                </a:cubicBezTo>
                <a:cubicBezTo>
                  <a:pt x="5400" y="10883"/>
                  <a:pt x="10800" y="11783"/>
                  <a:pt x="10800" y="1268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81520" y="187488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912400" y="17524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ub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177960" y="5356080"/>
            <a:ext cx="297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binding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s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kingerufer 7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t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555 Berli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binding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Q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 rot="5400000">
            <a:off x="-1324080" y="3676680"/>
            <a:ext cx="348624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-Q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s features of query languages developed by the database research community for semistructur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implified) base construct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ter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R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..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ter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he patterns are XML fragments with variables (prefixed with 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-QL introduces an abbreviated XML syntax for simplicity: &lt;tag&gt;...&lt;/&gt; instead of &lt;tag&gt;...&lt;/tag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QL (1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b2b2b2"/>
                </a:solidFill>
                <a:latin typeface="Arial"/>
              </a:rPr>
              <a:t>Grundmu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lle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truct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eb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657600" y="846000"/>
            <a:ext cx="5334120" cy="2071080"/>
          </a:xfrm>
          <a:prstGeom prst="wedgeRoundRectCallout">
            <a:avLst>
              <a:gd name="adj1" fmla="val -59370"/>
              <a:gd name="adj2" fmla="val 16976"/>
              <a:gd name="adj3" fmla="val 1666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aumstruktur von Pfadausdrücken mit Tags, die mit dem Graphen des Dokument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ll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verglichen wird. Die freien Variablen werden aus dem Dokument instantii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962520" y="3576960"/>
            <a:ext cx="4952880" cy="1675800"/>
          </a:xfrm>
          <a:prstGeom prst="wedgeRoundRectCallout">
            <a:avLst>
              <a:gd name="adj1" fmla="val -60731"/>
              <a:gd name="adj2" fmla="val -100236"/>
              <a:gd name="adj3" fmla="val 1666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des zu analysierenden Quelldokuments. Es können Bedingungen an die Variablen im Muster folgen (Selek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914400" y="5428800"/>
            <a:ext cx="6324480" cy="1280520"/>
          </a:xfrm>
          <a:prstGeom prst="wedgeRoundRectCallout">
            <a:avLst>
              <a:gd name="adj1" fmla="val -31407"/>
              <a:gd name="adj2" fmla="val -228129"/>
              <a:gd name="adj3" fmla="val 1666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ktur des Ergebnisdokuments mit Angabe, in welcher Form die an die Variablen gebundenen Werte ausgegeben werden soll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QL (2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7200" y="2319480"/>
            <a:ext cx="8391960" cy="35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langu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“french”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ublis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Morgan Kaufmann 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ublis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$a 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www.a.b.c/bib.xm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$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4386240" y="12970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962440" y="22860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386240" y="22860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791320" y="22860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095560" y="33228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695600" y="44578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819520" y="44578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21480" y="3430440"/>
            <a:ext cx="399960" cy="400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4120" y="457524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2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26360" y="45990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2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3276360" y="16016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724280" y="16016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572000" y="1677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361960" y="259236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2819520" y="266868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276720" y="266868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352680" y="259236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4343040" y="2668680"/>
            <a:ext cx="152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572000" y="2668680"/>
            <a:ext cx="76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724280" y="259236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800600" y="251604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5562720" y="2668680"/>
            <a:ext cx="3045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979960" y="26686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562360" y="3830760"/>
            <a:ext cx="228600" cy="74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979960" y="3830760"/>
            <a:ext cx="64944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121440" y="2592360"/>
            <a:ext cx="507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191280" y="2592360"/>
            <a:ext cx="1200240" cy="73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162920" y="33228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162920" y="457524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848720" y="457524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391520" y="372276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43800" y="365904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1905120" y="37353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438280" y="365904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4114440" y="2516040"/>
            <a:ext cx="304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352680" y="2046240"/>
            <a:ext cx="2438640" cy="469800"/>
          </a:xfrm>
          <a:custGeom>
            <a:avLst/>
            <a:gdLst/>
            <a:ahLst/>
            <a:rect l="l" t="t" r="r" b="b"/>
            <a:pathLst>
              <a:path w="1536" h="296">
                <a:moveTo>
                  <a:pt x="1536" y="296"/>
                </a:moveTo>
                <a:cubicBezTo>
                  <a:pt x="1304" y="156"/>
                  <a:pt x="1072" y="16"/>
                  <a:pt x="816" y="8"/>
                </a:cubicBezTo>
                <a:cubicBezTo>
                  <a:pt x="560" y="0"/>
                  <a:pt x="280" y="124"/>
                  <a:pt x="0" y="2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352680" y="2325600"/>
            <a:ext cx="1067040" cy="368280"/>
          </a:xfrm>
          <a:custGeom>
            <a:avLst/>
            <a:gdLst/>
            <a:ahLst/>
            <a:rect l="l" t="t" r="r" b="b"/>
            <a:pathLst>
              <a:path w="672" h="232">
                <a:moveTo>
                  <a:pt x="0" y="120"/>
                </a:moveTo>
                <a:cubicBezTo>
                  <a:pt x="124" y="176"/>
                  <a:pt x="248" y="232"/>
                  <a:pt x="336" y="216"/>
                </a:cubicBezTo>
                <a:cubicBezTo>
                  <a:pt x="424" y="200"/>
                  <a:pt x="472" y="48"/>
                  <a:pt x="528" y="24"/>
                </a:cubicBezTo>
                <a:cubicBezTo>
                  <a:pt x="584" y="0"/>
                  <a:pt x="628" y="36"/>
                  <a:pt x="67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00600" y="2440080"/>
            <a:ext cx="1066680" cy="253800"/>
          </a:xfrm>
          <a:custGeom>
            <a:avLst/>
            <a:gdLst/>
            <a:ahLst/>
            <a:rect l="l" t="t" r="r" b="b"/>
            <a:pathLst>
              <a:path w="672" h="160">
                <a:moveTo>
                  <a:pt x="672" y="96"/>
                </a:moveTo>
                <a:cubicBezTo>
                  <a:pt x="536" y="128"/>
                  <a:pt x="400" y="160"/>
                  <a:pt x="288" y="144"/>
                </a:cubicBezTo>
                <a:cubicBezTo>
                  <a:pt x="176" y="128"/>
                  <a:pt x="88" y="6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602000" y="487692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ge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69400" y="4952880"/>
            <a:ext cx="7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iteboul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201480" y="3733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259960" y="502920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ctor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402960" y="5105520"/>
            <a:ext cx="58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anu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164000" y="50292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926120" y="50292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354120" y="175248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a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268160" y="1828800"/>
            <a:ext cx="4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106600" y="167652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a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877280" y="2133720"/>
            <a:ext cx="77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refer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582000" y="2514600"/>
            <a:ext cx="77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refer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105880" y="2590920"/>
            <a:ext cx="77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refer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7080" y="281952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669400" y="2895480"/>
            <a:ext cx="37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049200" y="281952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430440" y="2895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ht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87280" y="274320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15880" y="297180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420800" y="312408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650840" y="2895480"/>
            <a:ext cx="37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891680" y="295272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ublis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41320" y="282564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41640" y="303516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8400" y="2895480"/>
            <a:ext cx="37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06800" y="27432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602360" y="396252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fir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516760" y="411480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la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183640" y="403848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fir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174360" y="403848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la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088400" y="403848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fir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774200" y="388620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l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572000" y="106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116960" y="106668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Bi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666880" y="3354480"/>
            <a:ext cx="40032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200400" y="33544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657600" y="33544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QL (3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03720" y="4114800"/>
            <a:ext cx="603972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langu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french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Morgan Kaufmann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$a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www.a.b.c/bib.xm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$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572000" y="1676520"/>
            <a:ext cx="0" cy="60948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523880" y="4114800"/>
            <a:ext cx="838440" cy="38088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800600" y="2514600"/>
            <a:ext cx="533520" cy="83808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828800" y="4419720"/>
            <a:ext cx="1295280" cy="38088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752480" y="5334120"/>
            <a:ext cx="1143000" cy="38088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343040" y="2666880"/>
            <a:ext cx="152280" cy="7621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572000" y="2666880"/>
            <a:ext cx="76320" cy="7621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114440" y="2514600"/>
            <a:ext cx="304920" cy="9907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XML vs HTM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HTM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feste 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Bezeichner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tag) 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und Semantik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die Darstellung von Tex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XM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freie </a:t>
            </a:r>
            <a:r>
              <a:rPr b="0" lang="de-DE" sz="1800" spc="-1" strike="noStrike">
                <a:solidFill>
                  <a:srgbClr val="006600"/>
                </a:solidFill>
                <a:latin typeface="Arial"/>
              </a:rPr>
              <a:t>Bezeichne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zur Beschreibung von anwendungsspezifischer Syntax (Meta-Grammati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G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86640" y="3276720"/>
            <a:ext cx="3764880" cy="2588400"/>
            <a:chOff x="386640" y="3276720"/>
            <a:chExt cx="3764880" cy="2588400"/>
          </a:xfrm>
        </p:grpSpPr>
        <p:sp>
          <p:nvSpPr>
            <p:cNvPr id="190" name=""/>
            <p:cNvSpPr/>
            <p:nvPr/>
          </p:nvSpPr>
          <p:spPr>
            <a:xfrm>
              <a:off x="386640" y="3276720"/>
              <a:ext cx="3746160" cy="252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h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 Bib 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h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 Foundations of Databases 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Serge Abiteboul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 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b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&gt; Addison Wesley, 19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...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24080" y="5410440"/>
              <a:ext cx="102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HT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353120" y="2590920"/>
            <a:ext cx="4402800" cy="3807000"/>
            <a:chOff x="4353120" y="2590920"/>
            <a:chExt cx="4402800" cy="3807000"/>
          </a:xfrm>
        </p:grpSpPr>
        <p:sp>
          <p:nvSpPr>
            <p:cNvPr id="193" name=""/>
            <p:cNvSpPr/>
            <p:nvPr/>
          </p:nvSpPr>
          <p:spPr>
            <a:xfrm>
              <a:off x="4353120" y="2590920"/>
              <a:ext cx="4402800" cy="374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Bib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id=“o1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aper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id=“o12”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titl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 Foundations of Databases 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title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autho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first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 Serge 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first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last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 Abiteboul 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last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autho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yea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 1997 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yea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ublish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 Addison Wesley 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ublish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pap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lt;/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Bib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24680" y="5943240"/>
              <a:ext cx="824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X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754200" y="3687840"/>
            <a:ext cx="510696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&lt;/&gt; abbreviates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or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es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o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2280" y="1371600"/>
            <a:ext cx="879660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langu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$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$a &lt;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www.a.b.c/bib.xm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$a &lt;/&gt; 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l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$l &lt;/&gt; &lt;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3840" y="4900320"/>
            <a:ext cx="907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Smith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la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English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la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Smith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la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Mandarin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la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Doe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la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English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la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QL (4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4386240" y="12970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962440" y="22860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86240" y="22860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91320" y="22860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095560" y="33228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695600" y="44578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819520" y="44578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721480" y="3430440"/>
            <a:ext cx="399960" cy="400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34120" y="457524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2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426360" y="45990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2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3276360" y="16016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724280" y="16016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0" y="1677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2361960" y="259236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819520" y="266868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76720" y="266868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352680" y="259236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4343040" y="2668680"/>
            <a:ext cx="152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572000" y="2668680"/>
            <a:ext cx="76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724280" y="259236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00600" y="251604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5562720" y="2668680"/>
            <a:ext cx="3045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979960" y="26686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562360" y="3830760"/>
            <a:ext cx="228600" cy="74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979960" y="3830760"/>
            <a:ext cx="64944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21440" y="2592360"/>
            <a:ext cx="507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191280" y="2592360"/>
            <a:ext cx="1200240" cy="73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162920" y="33228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162920" y="457524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848720" y="457524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391520" y="372276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543800" y="365904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1905120" y="37353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438280" y="365904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4114440" y="2516040"/>
            <a:ext cx="304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352680" y="2046240"/>
            <a:ext cx="2438640" cy="469800"/>
          </a:xfrm>
          <a:custGeom>
            <a:avLst/>
            <a:gdLst/>
            <a:ahLst/>
            <a:rect l="l" t="t" r="r" b="b"/>
            <a:pathLst>
              <a:path w="1536" h="296">
                <a:moveTo>
                  <a:pt x="1536" y="296"/>
                </a:moveTo>
                <a:cubicBezTo>
                  <a:pt x="1304" y="156"/>
                  <a:pt x="1072" y="16"/>
                  <a:pt x="816" y="8"/>
                </a:cubicBezTo>
                <a:cubicBezTo>
                  <a:pt x="560" y="0"/>
                  <a:pt x="280" y="124"/>
                  <a:pt x="0" y="2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352680" y="2325600"/>
            <a:ext cx="1067040" cy="368280"/>
          </a:xfrm>
          <a:custGeom>
            <a:avLst/>
            <a:gdLst/>
            <a:ahLst/>
            <a:rect l="l" t="t" r="r" b="b"/>
            <a:pathLst>
              <a:path w="672" h="232">
                <a:moveTo>
                  <a:pt x="0" y="120"/>
                </a:moveTo>
                <a:cubicBezTo>
                  <a:pt x="124" y="176"/>
                  <a:pt x="248" y="232"/>
                  <a:pt x="336" y="216"/>
                </a:cubicBezTo>
                <a:cubicBezTo>
                  <a:pt x="424" y="200"/>
                  <a:pt x="472" y="48"/>
                  <a:pt x="528" y="24"/>
                </a:cubicBezTo>
                <a:cubicBezTo>
                  <a:pt x="584" y="0"/>
                  <a:pt x="628" y="36"/>
                  <a:pt x="67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800600" y="2440080"/>
            <a:ext cx="1066680" cy="253800"/>
          </a:xfrm>
          <a:custGeom>
            <a:avLst/>
            <a:gdLst/>
            <a:ahLst/>
            <a:rect l="l" t="t" r="r" b="b"/>
            <a:pathLst>
              <a:path w="672" h="160">
                <a:moveTo>
                  <a:pt x="672" y="96"/>
                </a:moveTo>
                <a:cubicBezTo>
                  <a:pt x="536" y="128"/>
                  <a:pt x="400" y="160"/>
                  <a:pt x="288" y="144"/>
                </a:cubicBezTo>
                <a:cubicBezTo>
                  <a:pt x="176" y="128"/>
                  <a:pt x="88" y="6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02000" y="487692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ge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69400" y="4952880"/>
            <a:ext cx="7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iteboul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201480" y="3733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259960" y="502920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ctor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402960" y="5105520"/>
            <a:ext cx="58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anu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164000" y="50292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926120" y="50292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354120" y="175248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a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268160" y="1828800"/>
            <a:ext cx="4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106600" y="167652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a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877280" y="2133720"/>
            <a:ext cx="77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refer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582000" y="2514600"/>
            <a:ext cx="77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refer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105880" y="2590920"/>
            <a:ext cx="77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refer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87080" y="281952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669400" y="2895480"/>
            <a:ext cx="37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9200" y="281952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430440" y="2895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ht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87280" y="274320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115880" y="297180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420800" y="312408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650840" y="2895480"/>
            <a:ext cx="37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891680" y="295272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ublis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41320" y="282564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41640" y="303516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098400" y="2895480"/>
            <a:ext cx="37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6800" y="27432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602360" y="396252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fir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516760" y="411480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la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183640" y="403848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fir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174360" y="403848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la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088400" y="403848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fir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774200" y="388620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l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572000" y="106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116960" y="106668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Bi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666880" y="3354480"/>
            <a:ext cx="40032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33544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657600" y="33544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QL (5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06960" y="4114800"/>
            <a:ext cx="557568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langu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french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$n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$a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www.a.b.c/bib.xml”, $n = Morgan Kaufman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$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4386240" y="12970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962440" y="22860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386240" y="22860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791320" y="22860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095560" y="33228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o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695600" y="44578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819520" y="44578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721480" y="3430440"/>
            <a:ext cx="399960" cy="400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334120" y="457524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2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426360" y="45990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2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3276360" y="16016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16016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572000" y="1677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2361960" y="259236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2819520" y="266868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276720" y="266868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352680" y="259236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4343040" y="2668680"/>
            <a:ext cx="152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572000" y="2668680"/>
            <a:ext cx="76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724280" y="259236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800600" y="251604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5562720" y="2668680"/>
            <a:ext cx="3045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979960" y="26686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5562360" y="3830760"/>
            <a:ext cx="228600" cy="74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979960" y="3830760"/>
            <a:ext cx="64944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121440" y="2592360"/>
            <a:ext cx="507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191280" y="2592360"/>
            <a:ext cx="1200240" cy="73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162920" y="332280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&amp;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162920" y="457524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848720" y="457524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391520" y="372276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65904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1905120" y="37353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438280" y="365904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114440" y="2516040"/>
            <a:ext cx="304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352680" y="2046240"/>
            <a:ext cx="2438640" cy="469800"/>
          </a:xfrm>
          <a:custGeom>
            <a:avLst/>
            <a:gdLst/>
            <a:ahLst/>
            <a:rect l="l" t="t" r="r" b="b"/>
            <a:pathLst>
              <a:path w="1536" h="296">
                <a:moveTo>
                  <a:pt x="1536" y="296"/>
                </a:moveTo>
                <a:cubicBezTo>
                  <a:pt x="1304" y="156"/>
                  <a:pt x="1072" y="16"/>
                  <a:pt x="816" y="8"/>
                </a:cubicBezTo>
                <a:cubicBezTo>
                  <a:pt x="560" y="0"/>
                  <a:pt x="280" y="124"/>
                  <a:pt x="0" y="2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352680" y="2325600"/>
            <a:ext cx="1067040" cy="368280"/>
          </a:xfrm>
          <a:custGeom>
            <a:avLst/>
            <a:gdLst/>
            <a:ahLst/>
            <a:rect l="l" t="t" r="r" b="b"/>
            <a:pathLst>
              <a:path w="672" h="232">
                <a:moveTo>
                  <a:pt x="0" y="120"/>
                </a:moveTo>
                <a:cubicBezTo>
                  <a:pt x="124" y="176"/>
                  <a:pt x="248" y="232"/>
                  <a:pt x="336" y="216"/>
                </a:cubicBezTo>
                <a:cubicBezTo>
                  <a:pt x="424" y="200"/>
                  <a:pt x="472" y="48"/>
                  <a:pt x="528" y="24"/>
                </a:cubicBezTo>
                <a:cubicBezTo>
                  <a:pt x="584" y="0"/>
                  <a:pt x="628" y="36"/>
                  <a:pt x="67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800600" y="2440080"/>
            <a:ext cx="1066680" cy="253800"/>
          </a:xfrm>
          <a:custGeom>
            <a:avLst/>
            <a:gdLst/>
            <a:ahLst/>
            <a:rect l="l" t="t" r="r" b="b"/>
            <a:pathLst>
              <a:path w="672" h="160">
                <a:moveTo>
                  <a:pt x="672" y="96"/>
                </a:moveTo>
                <a:cubicBezTo>
                  <a:pt x="536" y="128"/>
                  <a:pt x="400" y="160"/>
                  <a:pt x="288" y="144"/>
                </a:cubicBezTo>
                <a:cubicBezTo>
                  <a:pt x="176" y="128"/>
                  <a:pt x="88" y="6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02000" y="487692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ge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669400" y="4952880"/>
            <a:ext cx="7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iteboul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201480" y="3733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259960" y="502920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ctor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402960" y="5105520"/>
            <a:ext cx="58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anu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164000" y="50292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926120" y="50292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354120" y="175248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a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68160" y="1828800"/>
            <a:ext cx="4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106600" y="167652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a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877280" y="2133720"/>
            <a:ext cx="77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refer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582000" y="2514600"/>
            <a:ext cx="77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refer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105880" y="2590920"/>
            <a:ext cx="77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refer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287080" y="281952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669400" y="2895480"/>
            <a:ext cx="37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049200" y="281952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430440" y="2895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ht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887280" y="274320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115880" y="297180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420800" y="312408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650840" y="2895480"/>
            <a:ext cx="37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891680" y="295272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ublis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41320" y="282564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741640" y="303516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98400" y="2895480"/>
            <a:ext cx="37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706800" y="27432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602360" y="396252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fir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516760" y="411480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la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183640" y="403848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fir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174360" y="403848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last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088400" y="403848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fir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774200" y="388620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l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572000" y="106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6960" y="106668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Bi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666880" y="3354480"/>
            <a:ext cx="40032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200400" y="33544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657600" y="3354480"/>
            <a:ext cx="399960" cy="399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QL (6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05520" y="5308560"/>
            <a:ext cx="372312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$a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www.a.b.c/bib.xm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$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QL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 Example 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short addresses (without street)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&lt;address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&lt;name&gt;$n&lt;/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&lt;town&gt;$t&lt;/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&lt;/&gt;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test.org/addresses.x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R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&lt;shortaddress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&lt;name&gt;$n&lt;/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&lt;town&gt;$t&lt;/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&lt;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114800" y="2514600"/>
            <a:ext cx="2476440" cy="781200"/>
          </a:xfrm>
          <a:prstGeom prst="wedgeRoundRectCallout">
            <a:avLst>
              <a:gd name="adj1" fmla="val -68462"/>
              <a:gd name="adj2" fmla="val 8312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street&gt;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also mat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 txBox="1"/>
          <p:nvPr/>
        </p:nvSpPr>
        <p:spPr>
          <a:xfrm rot="5400000">
            <a:off x="-1324080" y="3676680"/>
            <a:ext cx="348624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-Q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1295280" y="2590920"/>
            <a:ext cx="5743800" cy="860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295280" y="3429000"/>
            <a:ext cx="5743800" cy="106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295280" y="4800600"/>
            <a:ext cx="574380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QL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 Example 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914400" y="4114800"/>
            <a:ext cx="569880" cy="1173240"/>
          </a:xfrm>
          <a:custGeom>
            <a:avLst/>
            <a:gdLst/>
            <a:ahLst/>
            <a:rect l="l" t="t" r="r" b="b"/>
            <a:pathLst>
              <a:path w="359" h="696">
                <a:moveTo>
                  <a:pt x="355" y="0"/>
                </a:moveTo>
                <a:cubicBezTo>
                  <a:pt x="296" y="58"/>
                  <a:pt x="0" y="232"/>
                  <a:pt x="1" y="348"/>
                </a:cubicBezTo>
                <a:cubicBezTo>
                  <a:pt x="2" y="464"/>
                  <a:pt x="285" y="624"/>
                  <a:pt x="359" y="696"/>
                </a:cubicBezTo>
              </a:path>
            </a:pathLst>
          </a:custGeom>
          <a:noFill/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752480" y="3276720"/>
            <a:ext cx="1812960" cy="2214360"/>
          </a:xfrm>
          <a:custGeom>
            <a:avLst/>
            <a:gdLst/>
            <a:ahLst/>
            <a:rect l="l" t="t" r="r" b="b"/>
            <a:pathLst>
              <a:path w="1142" h="1314">
                <a:moveTo>
                  <a:pt x="1014" y="0"/>
                </a:moveTo>
                <a:cubicBezTo>
                  <a:pt x="1035" y="152"/>
                  <a:pt x="1138" y="710"/>
                  <a:pt x="1140" y="906"/>
                </a:cubicBezTo>
                <a:cubicBezTo>
                  <a:pt x="1142" y="1102"/>
                  <a:pt x="1089" y="1112"/>
                  <a:pt x="1026" y="1176"/>
                </a:cubicBezTo>
                <a:cubicBezTo>
                  <a:pt x="963" y="1240"/>
                  <a:pt x="933" y="1267"/>
                  <a:pt x="762" y="1290"/>
                </a:cubicBezTo>
                <a:cubicBezTo>
                  <a:pt x="591" y="1313"/>
                  <a:pt x="159" y="1309"/>
                  <a:pt x="0" y="1314"/>
                </a:cubicBezTo>
              </a:path>
            </a:pathLst>
          </a:custGeom>
          <a:noFill/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 rot="5400000">
            <a:off x="-1324080" y="3676680"/>
            <a:ext cx="348624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-Q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ML-QL allows joining by value:</a:t>
            </a:r>
            <a:br>
              <a:rPr sz="2200"/>
            </a:br>
            <a:br>
              <a:rPr sz="17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&lt;address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&lt;name&gt;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$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LEMENT_AS $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test.org/addresses.x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&lt;book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  &lt;author&gt;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$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&lt;/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  &lt;title&gt;$t&lt;/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&lt;/&gt;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test.org/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oo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x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&l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&lt;title&gt;$t&lt;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$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-Dokum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467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XML-Dokument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Text-Dokument, das XML-Beschreibungen enthä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bank-Sichtweise: sozusagen die Daten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Wohlgeformtes XML-Dokument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Elemente sind korrekt mit Start- und End-Tags geklamm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kument enthält genau ein Wurzel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ohlgeformte Dokumente dürfen aber immer noch unstrukturierten Freitext enthal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Gültiges (engl. valid) XML-Dokument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ohlgeformtes XML-Dokument, das zu einem assoziierten </a:t>
            </a:r>
            <a:r>
              <a:rPr b="0" lang="de-DE" sz="2000" spc="-1" strike="noStrike">
                <a:solidFill>
                  <a:srgbClr val="3c63c6"/>
                </a:solidFill>
                <a:latin typeface="Arial"/>
              </a:rPr>
              <a:t>Schem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eingeschränkt konform 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tels eines Schemas kann man also die Gültigkeit eines XML-Dokumentes überprü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nnvoll beim Datenaustausch (standardisierte Beschreib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8T15:30:24Z</dcterms:created>
  <dc:creator>hps</dc:creator>
  <dc:description/>
  <dc:language>en-US</dc:language>
  <cp:lastModifiedBy>rvo</cp:lastModifiedBy>
  <cp:lastPrinted>2000-04-19T15:37:00Z</cp:lastPrinted>
  <dcterms:modified xsi:type="dcterms:W3CDTF">2001-04-27T13:18:21Z</dcterms:modified>
  <cp:revision>166</cp:revision>
  <dc:subject/>
  <dc:title>Kein Folientitel</dc:title>
</cp:coreProperties>
</file>