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604044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47440" y="3937680"/>
            <a:ext cx="604044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4272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47440" y="393768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42720" y="393768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9720" y="131400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32000" y="131400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47440" y="393768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89720" y="393768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32000" y="3937680"/>
            <a:ext cx="194472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647440" y="1314000"/>
            <a:ext cx="604044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604044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294768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42720" y="1314000"/>
            <a:ext cx="294768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42720" y="1314000"/>
            <a:ext cx="294768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647440" y="393768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294768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4272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42720" y="393768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4744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42720" y="1314000"/>
            <a:ext cx="2947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47440" y="3937680"/>
            <a:ext cx="604044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8840" y="884160"/>
            <a:ext cx="2149560" cy="56833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0280" y="206280"/>
            <a:ext cx="8656560" cy="63597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647440" y="1314000"/>
            <a:ext cx="6040440" cy="502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181080"/>
            <a:ext cx="865656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12000" y="596880"/>
            <a:ext cx="153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opbar2" descr=""/>
          <p:cNvPicPr/>
          <p:nvPr/>
        </p:nvPicPr>
        <p:blipFill>
          <a:blip r:embed="rId2"/>
          <a:srcRect l="0" t="0" r="12210" b="0"/>
          <a:stretch/>
        </p:blipFill>
        <p:spPr>
          <a:xfrm>
            <a:off x="293760" y="243000"/>
            <a:ext cx="8631000" cy="812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915400" y="228600"/>
            <a:ext cx="0" cy="1219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639040" cy="12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48880" y="289548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LSE Technic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4520" y="4800600"/>
            <a:ext cx="610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sword Program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 Force Research Laboratory / IF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15) 330–44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90920" y="2162160"/>
            <a:ext cx="6038640" cy="3171960"/>
            <a:chOff x="2590920" y="2162160"/>
            <a:chExt cx="6038640" cy="3171960"/>
          </a:xfrm>
        </p:grpSpPr>
        <p:sp>
          <p:nvSpPr>
            <p:cNvPr id="48" name=""/>
            <p:cNvSpPr/>
            <p:nvPr/>
          </p:nvSpPr>
          <p:spPr>
            <a:xfrm>
              <a:off x="2886120" y="3930480"/>
              <a:ext cx="426960" cy="54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1200" y="2162160"/>
              <a:ext cx="2189160" cy="317196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210000" y="292572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10240" y="2602080"/>
              <a:ext cx="655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351936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18440" y="3224160"/>
              <a:ext cx="8632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21520" y="4329000"/>
              <a:ext cx="12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21520" y="4030560"/>
              <a:ext cx="1290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s/Re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29280" y="2200320"/>
              <a:ext cx="1508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ATEKEE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19440" y="2225520"/>
              <a:ext cx="598320" cy="546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54360" y="3041640"/>
              <a:ext cx="598320" cy="546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49600" y="2798640"/>
              <a:ext cx="8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urce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30720" y="2513160"/>
              <a:ext cx="6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41520" y="3301920"/>
              <a:ext cx="6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28880" y="3854520"/>
              <a:ext cx="426960" cy="54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14560" y="40305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14560" y="408780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14560" y="41385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14560" y="418932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14560" y="42339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4560" y="427824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14560" y="432288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3960" y="3807000"/>
              <a:ext cx="311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30480" y="398160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30480" y="39387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4240" y="4176720"/>
              <a:ext cx="6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46360" y="3587760"/>
              <a:ext cx="8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urce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746600"/>
              <a:ext cx="923760" cy="50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ter-Gatekeep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14680" y="5013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9800" y="2805120"/>
              <a:ext cx="1139760" cy="167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716800">
              <a:off x="4004280" y="2461320"/>
              <a:ext cx="12060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716800">
              <a:off x="4015440" y="4128120"/>
              <a:ext cx="12060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716800">
              <a:off x="4008240" y="3255840"/>
              <a:ext cx="12204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1480" y="3124080"/>
              <a:ext cx="11746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Query Process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1480" y="3809880"/>
              <a:ext cx="11746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ults Collection, Collation &amp; Manip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78440" y="2932200"/>
              <a:ext cx="36972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26160" y="2894040"/>
              <a:ext cx="368280" cy="17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716800">
              <a:off x="4004280" y="4952160"/>
              <a:ext cx="12060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1812960"/>
            <a:ext cx="6248520" cy="374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57200" y="1233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gi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1201680"/>
            <a:ext cx="3581280" cy="3397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591080" cy="31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80880" y="1219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905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286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6510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rch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146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ult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onfighitlist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4172040" cy="351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query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338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556080" cy="381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57200" y="1233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905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ry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6510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ult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193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15800" y="1677960"/>
            <a:ext cx="4953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C Oracle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e SSL for DTIC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hancement of Broadsword Find Ut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to provide keyword searching again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CENDI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7339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Content Analysis and Retrieval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ystem (DCARS) Veridian-Calspan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4360" y="4649760"/>
            <a:ext cx="4997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 Expansion (Broadsword v2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vance Ranking and Normaliz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(Broadsword v3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rievalWare Plug-in (Broadsword v3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219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1905120"/>
            <a:ext cx="54864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 Pag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if.afrl.af.mil/bsword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sword v2.0 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earth.deepthought.rl.af.mil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sword Program Off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15) 330-44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5800" y="6172200"/>
            <a:ext cx="246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:\cendi\conference\fcw\cendi_js_broadsword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14:36:44Z</dcterms:created>
  <dc:creator>Brian Testa</dc:creator>
  <dc:description/>
  <dc:language>en-US</dc:language>
  <cp:lastModifiedBy>Jim Dee</cp:lastModifiedBy>
  <cp:lastPrinted>1999-06-11T18:46:52Z</cp:lastPrinted>
  <dcterms:modified xsi:type="dcterms:W3CDTF">1999-06-15T12:18:41Z</dcterms:modified>
  <cp:revision>13</cp:revision>
  <dc:subject/>
  <dc:title>No Slide Title</dc:title>
</cp:coreProperties>
</file>