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FC71-F9E7-4D7C-8528-056A0B44A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 Email, conference calls, video conferencing, periodic mee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The group primarily used email to communicate, assigning one person as spokes person for the group, so as not to overwhelm AFRL and to present one voice for CENDI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Video and conference calling working well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Decisions were discussed and consensus was reached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Periodic meetings as nee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in issue here is how to merge multiple web site/system designs into a coherent whole that represents the consortium not the individual ag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 Technical Issues fall into 4 categori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issues around merging multiple agency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prototypical BS 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expanded BS issues (i.e. CENDI’s role in the larger development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ffort of BS within the A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generic design 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To begin, we needed to know how each agencies data looked - data element mapping.  Is a title, a title , a title.  Luckily this was already done by the Cataloging Working Grou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 Incompatibility of technologies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SL - BS emula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okies - DO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rewall - NA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lug-in dependency on web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Connecting directly to the source indexes requires modification of the plug-ins, but is a faster, more robust solution.   More robust in the sense that the plug-in is no longer tied to the HTML tags.  Now if web page changes, need to modify the plug-in parsing co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Oracle will be used for the security auditing func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AFRL currently testing Oracle for auditing (date formatting is different than Syba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 Training CDROM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 AFRL offered to send out a DBA, Sys Admin , and Trainer for one week to assist in the instal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 AFRL would retain development site and CENDI would support production 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Perhaps after testing, evaluate list of recommended refinements and at that time make GO/NO GO decision to invest $$ in B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74520" y="8686080"/>
            <a:ext cx="2261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:\cendi\conference\fcw\cendi_tb_broadsword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 managers have responsibility for STI at agencies representing more than 90 percent of the multi- billion Federal R&amp;D Budget. STI is an integral part of the R&amp;D process and a necessary raw material for all science and technology progra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deral R&amp;D budget is 78B for FY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aas.org/ American Association for the Advancement of Sc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e in the  national STI policy arena - brief key decision makers, provide comments, briefing books and  testimony. Some of the policies of importance to CENDI members include implementation of the Paperwork Reduction Act, OMB Circular A-130, Government Information Locators (GILS) and National Performance Review guideli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also active internationally in efforts to strengthen the U.S. position in STI negotiations and to maximize the use of international information received through exchange progra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 they support improvements in information technology and its application.  Areas of interest include the development of the National Information Infrastructure; education of information science and technology professionals and training for changing job requirements; developments in the National/Global Information Infrastructure; directions for Internet and WWW development ; and national digital library develop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 they provide a continuing education forum to keep their members aware of a variety of policies, standards, and technology developments that might impact STI.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sponsor workshops for members; topics include Systems Architecture and Modernization, SGML Workshop ,Helpdesk ,Indexing, Gateway Developers,Bibliographic Standards, Customer Servic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By this we mean - looking at our similarities and differences and capitalizing on them as an Enterpris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ENDI agencies have been exchanging information all along- from hardcopy or micro fiche;bibliographic records; now bibliographic records and tiff images. Distributed access to these sources is the next step in this 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By its nature, STI  is interdisciplinary, cutting across many fields and agencies.  The IDLSE promotes a non-agency centric approach to research by including all CENDI sour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ary login - trusted user and brokered lo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Brokered login is for source which requires separate login/passwords for each user.  Sys admin configs source to deny all and then adds usernames that can have access.  User then puts in password on preferences p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Trusted user is for source that only requires one login/password for all users.  Sys admin puts in the login/passwd during config of sou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S has security accreditation from the Air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S user can specify not only which sources (like EF) but also config search form and hitlist, type of search (simultaneous or sequential), and order of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S has help screens and demo video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diting of login/logout, query, query response, product request, product transfer, admin/ISSO accesses and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S is GOTS and a lot of work has went into making it portable - installable and configur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IC - participating as tester - large researcher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RIC-Education Resources Information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ill upgrade CENDI Dev GK to Ultra 60 (4 x faster) - 2 360 Mhz processors, 1 Gig RAM, 9 Gig storage, (add 4, 9, 18 as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S PMO not designed to be production environmen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328D-E55E-495E-8454-1F009FCF7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2184-1492-4AD9-8659-868A8BA6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6F98-CB1D-4CE1-B9E1-FA9863E20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3EB0-E75D-48A5-A10A-CA0C61E7D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2E7A-8D22-4523-984E-D015ACBB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E163-C6F3-40DE-869A-B177CC36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411F-6EBC-406A-991E-4570F4AB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44D4-039A-4479-BA1E-CD25C53A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CECD-7396-4D02-B2D6-5515CE08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6235-A482-41EF-AE4F-75541422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A805-E7DD-42E7-B738-687A4632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7BCC-D0D2-48B2-A6EC-E0D9EFE9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F880-5729-48D8-8715-B691B671B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Title" descr=""/>
          <p:cNvPicPr/>
          <p:nvPr/>
        </p:nvPicPr>
        <p:blipFill>
          <a:blip r:embed="rId2"/>
          <a:stretch/>
        </p:blipFill>
        <p:spPr>
          <a:xfrm>
            <a:off x="1752480" y="228600"/>
            <a:ext cx="5639040" cy="126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teragency Digital Library for Science &amp; Engineering (IDLSE)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of of Concep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43000" y="4648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mmy Borkows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ense Technical Information 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borkows@dtic.m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ssons Learn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munication/Collab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agency Differences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chnical Iss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munication/Collabo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t agency buy-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ffective communication/collaboration within diverse gro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ccessfully interpret broad guid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o are the us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are the relevant source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 voice to represent consort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teragency Differ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face must represent consortium, not individual agencies (e.g. DoD system w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re does interface stop and agency system begin?  (e.g. common shopping cart or individual agency shopping ca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istency of interface for agency sources that present data differently (e.g. Text Box button on hitli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ing on Text Bo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TIC - goes to the shopping cart scr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E InfoBridge - goes to the full re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ducation - goes to the abstract which has link to order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E R&amp;D - goes to PDF summary doc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chnical Issu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ement mapping across agencies/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ed for individual agency test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rning curv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working versus what is not 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compatibility of technolog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ed CENDI requirements into User’s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much Help is enough?  (e.g.  date searching is different among agenc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ate Searc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ta range format as specified on search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ch plug-in interprets format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TIC - exact date r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ducation/DOE R&amp;D - start date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E InfoBridge -  start and end date years are used as wild card years and OR’ed togeth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w working for all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necting directly to source index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TIC/DOE  investigate running GateKee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-depth agency testing/prototype refin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neration of additional requirem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d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evance ranking normal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ry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NDI Planning Meeting in Aug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genda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nctional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ssons Lear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chnical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r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3160" y="2438280"/>
            <a:ext cx="8762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ENDI Consortiu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n interagency 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 composed of senior Scientific and Techn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(STI) managers from ten major programs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ne U.S. Federal Agencies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ttp://www.dtic.mil/cen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438280" y="1905120"/>
            <a:ext cx="4038840" cy="4201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2666880"/>
            <a:ext cx="2895840" cy="31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NDI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ordination and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oint Pro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te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30240" y="3809880"/>
            <a:ext cx="2336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78560" y="3051000"/>
            <a:ext cx="224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5181480"/>
            <a:ext cx="27432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5211360"/>
            <a:ext cx="327672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tional Technical Information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2666880"/>
            <a:ext cx="3276720" cy="1676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228600" y="2635920"/>
            <a:ext cx="4191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fice of Scientific and Technic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vironmen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tection Agency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228600"/>
            <a:ext cx="3352680" cy="182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378720"/>
            <a:ext cx="708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SA 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ional Librarie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riculture,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Medic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209680"/>
            <a:ext cx="3581280" cy="144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91360" y="12182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62720" y="2280960"/>
            <a:ext cx="337500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ense Technical Information C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tional Air Intelligence C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13600" y="4951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62720" y="4876920"/>
            <a:ext cx="2895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43000" y="5105520"/>
            <a:ext cx="2664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.S Geological Survey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ological Resources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Title" descr=""/>
          <p:cNvPicPr/>
          <p:nvPr/>
        </p:nvPicPr>
        <p:blipFill>
          <a:blip r:embed="rId1"/>
          <a:stretch/>
        </p:blipFill>
        <p:spPr>
          <a:xfrm>
            <a:off x="5867280" y="152280"/>
            <a:ext cx="312444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DLSE Go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rove cooperation as an Enterp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imination of duplicate dat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roved support for government researcher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eting Cap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iders/canned indexes - Not real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uplicating content - Not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IS searching - Application 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39.50 searching - Protocol 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stomized APIs - No password cap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alue-Added of Broadswo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ssword cap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ll defined architecture - fully docum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urity auditing - Air Force certifi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 customization/prof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utomated admin and security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ved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tch Queri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DLSE Participants/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ense Technical Information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chnical Reports Database (www.dtic.mil/stinet/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fice of Scientific &amp; Technical Information, Department of Ener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&amp;D Summaries (www.doe.gov/rnd/dbhome.ht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foBridge (www.doe.gov/bridge/home.ht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artment of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ducational Resources Information Center (ERIC) (www.ed.gov/databases/ERIC_Digests/index/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ional Air Intelligence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DLSE Stat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pdated to version 2.0 of Broadsword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stomized screens for CEND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parate CENDI GateKeeper  - SPARC 20/Solaris 2.5.1/Apache 12.6 web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 agency test accounts cre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 plug-ins are working (DOE Info Bridge, DOE R&amp;D Summaries, Education’s ERIC, and DTIC’s Tech Repor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7T15:30:14Z</dcterms:created>
  <dc:creator>DTIC</dc:creator>
  <dc:description/>
  <dc:language>en-US</dc:language>
  <cp:lastModifiedBy>Jim Dee</cp:lastModifiedBy>
  <cp:lastPrinted>1999-06-14T17:55:11Z</cp:lastPrinted>
  <dcterms:modified xsi:type="dcterms:W3CDTF">1999-06-15T12:13:59Z</dcterms:modified>
  <cp:revision>27</cp:revision>
  <dc:subject/>
  <dc:title>Interagency Digital Library for Science &amp; Engineering  Proof of Concept</dc:title>
</cp:coreProperties>
</file>