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2040" y="1260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3838320" y="1260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-32040" y="9437400"/>
            <a:ext cx="294012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38320" y="9437400"/>
            <a:ext cx="294012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fld id="{C8FE9206-174E-4876-A5A9-64D189AF1C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Img"/>
          </p:nvPr>
        </p:nvSpPr>
        <p:spPr>
          <a:xfrm>
            <a:off x="1065240" y="87012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870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ultiple forma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, mind, col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2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ultiple vie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, process, client, strategic, financial, planning, department, personal, organiz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77724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9480" y="3564360"/>
            <a:ext cx="77724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9216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7480" y="196200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65120" y="196200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09480" y="356436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7480" y="356436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865120" y="3564360"/>
            <a:ext cx="250236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09480" y="19620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09480" y="53352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92160" y="356436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2160" y="1962000"/>
            <a:ext cx="37926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3564360"/>
            <a:ext cx="777240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3680" y="387360"/>
            <a:ext cx="8292960" cy="6159600"/>
            <a:chOff x="463680" y="387360"/>
            <a:chExt cx="8292960" cy="6159600"/>
          </a:xfrm>
        </p:grpSpPr>
        <p:sp>
          <p:nvSpPr>
            <p:cNvPr id="1" name=""/>
            <p:cNvSpPr/>
            <p:nvPr/>
          </p:nvSpPr>
          <p:spPr>
            <a:xfrm>
              <a:off x="539640" y="463680"/>
              <a:ext cx="8217000" cy="6083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63680" y="387360"/>
              <a:ext cx="8216640" cy="608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T ICE KMN, Stanford, June 16-18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09480" y="19620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2840" y="6134040"/>
            <a:ext cx="635040" cy="241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9800" y="6253200"/>
            <a:ext cx="476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C784-024D-4E0A-B561-52676E15EA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662960" y="452520"/>
            <a:ext cx="709200" cy="817560"/>
            <a:chOff x="7662960" y="452520"/>
            <a:chExt cx="709200" cy="817560"/>
          </a:xfrm>
        </p:grpSpPr>
        <p:sp>
          <p:nvSpPr>
            <p:cNvPr id="9" name=""/>
            <p:cNvSpPr/>
            <p:nvPr/>
          </p:nvSpPr>
          <p:spPr>
            <a:xfrm>
              <a:off x="7664400" y="452520"/>
              <a:ext cx="707760" cy="15264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6560" y="625680"/>
              <a:ext cx="612360" cy="1062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58000" y="746280"/>
              <a:ext cx="607680" cy="1062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59440" y="870120"/>
              <a:ext cx="607680" cy="1062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56560" y="995400"/>
              <a:ext cx="613800" cy="1065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62960" y="1117800"/>
              <a:ext cx="707760" cy="1522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05440" y="605160"/>
              <a:ext cx="0" cy="51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05440" y="685800"/>
              <a:ext cx="52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10480" y="798840"/>
              <a:ext cx="51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13360" y="922320"/>
              <a:ext cx="52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05440" y="1047960"/>
              <a:ext cx="52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66440"/>
            <a:ext cx="7772400" cy="17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a Knowled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echnology</a:t>
            </a:r>
            <a:br>
              <a:rPr sz="32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ncompassing View on the Projects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Management Group at DFKI Kaiserslaut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82760" y="418140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hael Sintek, Andreas Abecker, Ansgar Bern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rman Research Center for Artificial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aiserslautern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9240" y="426960"/>
            <a:ext cx="8748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now-Net Intranet- and Agent-Based Syste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3280" y="1349280"/>
            <a:ext cx="8104320" cy="47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DO—A Scalable OM Framework for Evolutionary Grow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uture wor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42800"/>
            <a:ext cx="7772400" cy="25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research project funded by German government, successor project of Know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More: global set of ontologies, centralized 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DO: conjointly use knowledge from several independent knowledge 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introduced partial OMs based on specific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knowledge sources (with own ontolo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1120" y="4319640"/>
            <a:ext cx="5019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y mapping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ng and cooperating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8160" y="3965400"/>
            <a:ext cx="344520" cy="365400"/>
          </a:xfrm>
          <a:prstGeom prst="downArrow">
            <a:avLst>
              <a:gd name="adj1" fmla="val 50000"/>
              <a:gd name="adj2" fmla="val 26515"/>
            </a:avLst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rich, modular KM middleware as a solid basis for engineering intranet-based KM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57920" y="423720"/>
            <a:ext cx="533520" cy="903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RODO KM Middleware Will Exploit Various Notions of Ag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360" y="180972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reference and acquisition librar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ir respective knowledge source and organizatio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effectively access, search, maintain the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s, mediators, ontologists, knowledg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ntelligent interfaces to legac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ources accessible to higher-level 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analysis and information extraction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ransition between informal and formal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/process agents, knowledge push/pul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workflow enac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e context-sensitive information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hai" descr=""/>
          <p:cNvPicPr/>
          <p:nvPr/>
        </p:nvPicPr>
        <p:blipFill>
          <a:blip r:embed="rId1"/>
          <a:stretch/>
        </p:blipFill>
        <p:spPr>
          <a:xfrm>
            <a:off x="1938240" y="1028880"/>
            <a:ext cx="5052960" cy="5052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Instantiation of the FRODO OM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E—Fostering Individual Users’ Motivation for Accessing Online Learning &amp; Training Resour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plann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0120" y="16682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ubmitted to the EU 5th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front-end to electronic learning and training (L&amp;T)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 users’ motivation; important driving factor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E proposes an environment that wraps L&amp;T tools and cont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gether with people’s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representation of the L&amp;T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pace with 3D representation of the organization and of knowledg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tars associated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zard agents with specific roles for promoting availabl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-163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social processes: events organization, social places (café)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60640" y="2682720"/>
            <a:ext cx="325440" cy="293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E Adds Access to L&amp;T OMs Through 3D Knowledge Por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1120" y="15256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&amp;T contents is accompanied by a KnowMore/FRODO-like knowledge meta-level based upon various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s upcoming standard will be used for this knowledge representati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3D knowledge portal wraps these ontologies to provide a highly motivating access to the L&amp;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MOTIVE 3D knowledge access can be viewed as an additional, but highly user-friendly information retrieval aspect of the general KM sce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0120" y="47242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3D spaces can be used to replace legacy information retrieval, knowledge acquisition, and workflow frontends of OM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0240" y="140148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r view, KM technology is a combin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, heterogeneous knowledg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formal ontologies (information, domain, enterpr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meta-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-formal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, active support,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, middleware,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access through 3D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70880" y="1122480"/>
            <a:ext cx="695160" cy="142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4120" y="1862640"/>
            <a:ext cx="6894360" cy="703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and approaches to support KM infrastructures for organizations; related research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8680" y="27676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knowledge sup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8680" y="337716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-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49320" y="40042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, frame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8680" y="457740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4120" y="5182560"/>
            <a:ext cx="6894360" cy="642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: we propose a rich, modular KM middleware as a solid basis for engineering intranet-based KM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8480" y="25812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8480" y="296712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6120" y="357660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6400" y="419400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8480" y="4768920"/>
            <a:ext cx="1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084320"/>
            <a:ext cx="692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560" y="1031760"/>
            <a:ext cx="685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of Knowledge Management technology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Management Group at DFKI Kaiserslau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is an Important Productivity Factor for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6200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s labor, capital, and lan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been recognized as an important productivity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is stored in individual brains or implicitly encoded and hidden in organizational processes, documents, services, an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 is concerned with discovery, acquisition, creation, dissemination, and utilization of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V="1">
            <a:off x="4600440" y="3108240"/>
            <a:ext cx="153684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38800" y="2428920"/>
            <a:ext cx="146520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905200" y="2570040"/>
            <a:ext cx="1218960" cy="9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24160" y="2285640"/>
            <a:ext cx="549360" cy="12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4160" y="3546360"/>
            <a:ext cx="192276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4160" y="3546360"/>
            <a:ext cx="2306880" cy="9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24160" y="3546360"/>
            <a:ext cx="336600" cy="127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54080" y="3546360"/>
            <a:ext cx="1269720" cy="113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28440" y="3546360"/>
            <a:ext cx="23065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900080" y="3200040"/>
            <a:ext cx="2244960" cy="34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 Have Serious Problems in Managing Their Corporate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fields of computer science tack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 knowledge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39640" y="3152880"/>
            <a:ext cx="1805400" cy="825480"/>
          </a:xfrm>
          <a:prstGeom prst="rect">
            <a:avLst/>
          </a:prstGeom>
          <a:solidFill>
            <a:srgbClr val="fc7c7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8360" y="3716280"/>
            <a:ext cx="17139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6840" y="4627440"/>
            <a:ext cx="12567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6960" y="4489560"/>
            <a:ext cx="130860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6120" y="2090880"/>
            <a:ext cx="13208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2040" y="3016080"/>
            <a:ext cx="12704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9760" y="4356000"/>
            <a:ext cx="1867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9720" y="3614760"/>
            <a:ext cx="16376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11120" y="2343240"/>
            <a:ext cx="142272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43080" y="2271600"/>
            <a:ext cx="11818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76720" y="2962440"/>
            <a:ext cx="1282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arch Fields Related to K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1040" y="1414080"/>
            <a:ext cx="764064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8280" indent="-1882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ware, Workflow, C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of individuals and 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 management, retrieval, and filter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available abstract, strategic knowledge written down in text-bas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advertised as KM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rive for a new quality of knowledge systems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rating 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More—Knowledge Management for Learning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7800" y="1738080"/>
            <a:ext cx="7772400" cy="30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research project funded by German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idea: access to multiple heterogeneous knowledg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 through comprehensive knowledge description using several formal ontologies (information, domain, enterprise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formation delivery integrated into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 representation of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nowMore, knowledge can be viewed as information linked into the application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nowMore Syste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map-smaller" descr=""/>
          <p:cNvPicPr/>
          <p:nvPr/>
        </p:nvPicPr>
        <p:blipFill>
          <a:blip r:embed="rId1"/>
          <a:stretch/>
        </p:blipFill>
        <p:spPr>
          <a:xfrm>
            <a:off x="1623960" y="1019160"/>
            <a:ext cx="5958000" cy="508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-Net—Knowledge Management with Intranet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0640" y="13842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the European Commission within the “IT for learning and training industry”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groupware functionalities with AI methods enabling the handling of knowledg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Knowledger™ suite (Lotus Notes™ application from Knowledge Associates) and intelligent agents (DF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net- and agent-based knowledge plat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fication, mapping, sharing, and reuse of explicit knowledge in multimedia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knowledge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navigation, searching,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a KnowMore-like knowledge platfor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aborative asp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y an important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686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-Net: Collaborative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77948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tools supporting communities of practice at the team level to facilitate the creation of shared memories and interpretativ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group discussions/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-based bulletin boards and fo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ine topical conferences with threading features and interactive expertise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-Net mainly exploits the collaboration and coordination technology provided by Lotus Notes and add-on products like Sam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21:02:18Z</dcterms:created>
  <dc:creator>test</dc:creator>
  <dc:description/>
  <dc:language>en-US</dc:language>
  <cp:lastModifiedBy>Michael Sintek</cp:lastModifiedBy>
  <cp:lastPrinted>1999-06-11T09:35:29Z</cp:lastPrinted>
  <dcterms:modified xsi:type="dcterms:W3CDTF">1999-06-11T09:45:17Z</dcterms:modified>
  <cp:revision>69</cp:revision>
  <dc:subject/>
  <dc:title>Kein Folientitel</dc:title>
</cp:coreProperties>
</file>