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wmf" ContentType="image/x-wmf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70056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352680" y="29340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DIN-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DIN-Bol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DIN-Bold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352680" y="29340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DIN-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DIN-Bol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DIN-Bol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DIN-Bol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DIN-Bold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352680" y="29340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DIN-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DIN-Bol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DIN-Bol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DIN-Bol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DIN-Bol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DIN-Bol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DIN-Bold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352680" y="29340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DIN-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DIN-Bol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352680" y="29340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DIN-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DIN-Bold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352680" y="29340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DIN-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DIN-Bol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DIN-Bold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352680" y="29340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DIN-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352680" y="293400"/>
            <a:ext cx="5562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DIN-Bold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352680" y="29340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DIN-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DIN-Bol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DIN-Bol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DIN-Bold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352680" y="29340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DIN-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DIN-Bol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DIN-Bol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DIN-Bold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352680" y="29340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DIN-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DIN-Bol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DIN-Bol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DIN-Bold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DF%20Big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DF%20Logo" descr=""/>
          <p:cNvPicPr/>
          <p:nvPr/>
        </p:nvPicPr>
        <p:blipFill>
          <a:blip r:embed="rId3"/>
          <a:stretch/>
        </p:blipFill>
        <p:spPr>
          <a:xfrm>
            <a:off x="1676520" y="-17640"/>
            <a:ext cx="1676160" cy="1389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352680" y="29340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DIN-Black"/>
              </a:rPr>
              <a:t>Click to edit the title text format</a:t>
            </a:r>
            <a:endParaRPr b="0" lang="en-US" sz="2800" spc="-1" strike="noStrike">
              <a:solidFill>
                <a:srgbClr val="ffff00"/>
              </a:solidFill>
              <a:latin typeface="DIN-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DIN-Bold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DIN-Bold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DIN-Bold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DIN-Bold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DIN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DIN-Bol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DIN-Bold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DIN-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DIN-Bold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DIN-Bold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DIN-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DIN-Bold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DIN-Bold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DIN-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DIN-Bold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DIN-Bold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DIN-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DIN-Bold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DIN-Bold"/>
            </a:endParaRPr>
          </a:p>
        </p:txBody>
      </p:sp>
      <p:sp>
        <p:nvSpPr>
          <p:cNvPr id="4" name=""/>
          <p:cNvSpPr/>
          <p:nvPr/>
        </p:nvSpPr>
        <p:spPr>
          <a:xfrm>
            <a:off x="5981760" y="6580080"/>
            <a:ext cx="316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ffff99"/>
                </a:solidFill>
                <a:latin typeface="DIN-Bold"/>
              </a:rPr>
              <a:t>DATAFUSION, Inc. </a:t>
            </a:r>
            <a:r>
              <a:rPr b="0" lang="en-US" sz="1200" spc="-1" strike="noStrike">
                <a:solidFill>
                  <a:srgbClr val="ffff99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ffff99"/>
                </a:solidFill>
                <a:latin typeface="DIN-Bold"/>
              </a:rPr>
              <a:t> </a:t>
            </a:r>
            <a:r>
              <a:rPr b="0" lang="en-US" sz="900" spc="-1" strike="noStrike">
                <a:solidFill>
                  <a:srgbClr val="ffff99"/>
                </a:solidFill>
                <a:latin typeface="DIN-Bold"/>
              </a:rPr>
              <a:t>1999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From Authority Files to Ontologies: Knowledge Management in a Networked Environmen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00"/>
              </a:solidFill>
              <a:latin typeface="DIN-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DIN-Bold"/>
              </a:rPr>
              <a:t>Joseph A. Busch</a:t>
            </a:r>
            <a:endParaRPr b="0" lang="en-US" sz="2400" spc="-1" strike="noStrike">
              <a:solidFill>
                <a:srgbClr val="ffffff"/>
              </a:solidFill>
              <a:latin typeface="DIN-Bold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DIN-Bold"/>
              </a:rPr>
              <a:t>September 29, 1999</a:t>
            </a:r>
            <a:endParaRPr b="0" lang="en-US" sz="2400" spc="-1" strike="noStrike">
              <a:solidFill>
                <a:srgbClr val="ffffff"/>
              </a:solidFill>
              <a:latin typeface="DIN-Bold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352680" y="29340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DIN-Black"/>
              </a:rPr>
              <a:t>Rise of infomediation</a:t>
            </a:r>
            <a:endParaRPr b="0" lang="en-US" sz="2800" spc="-1" strike="noStrike">
              <a:solidFill>
                <a:srgbClr val="ffff00"/>
              </a:solidFill>
              <a:latin typeface="DIN-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DIN-Bold"/>
              </a:rPr>
              <a:t>Community</a:t>
            </a:r>
            <a:endParaRPr b="0" lang="en-US" sz="2400" spc="-1" strike="noStrike">
              <a:solidFill>
                <a:srgbClr val="ffffff"/>
              </a:solidFill>
              <a:latin typeface="DIN-Bold"/>
            </a:endParaRPr>
          </a:p>
          <a:p>
            <a:pPr marL="228600" indent="-228600"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DIN-Bold"/>
              </a:rPr>
              <a:t>Content</a:t>
            </a:r>
            <a:endParaRPr b="0" lang="en-US" sz="2400" spc="-1" strike="noStrike">
              <a:solidFill>
                <a:srgbClr val="ffffff"/>
              </a:solidFill>
              <a:latin typeface="DIN-Bold"/>
            </a:endParaRPr>
          </a:p>
          <a:p>
            <a:pPr marL="228600" indent="-228600"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DIN-Bold"/>
              </a:rPr>
              <a:t>Commerce</a:t>
            </a:r>
            <a:endParaRPr b="0" lang="en-US" sz="2400" spc="-1" strike="noStrike">
              <a:solidFill>
                <a:srgbClr val="ffffff"/>
              </a:solidFill>
              <a:latin typeface="DIN-Bold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DIN-Bold"/>
            </a:endParaRPr>
          </a:p>
          <a:p>
            <a:pPr marL="228600" indent="-228600"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DIN-Bold"/>
              </a:rPr>
              <a:t>Product information</a:t>
            </a:r>
            <a:endParaRPr b="0" lang="en-US" sz="2400" spc="-1" strike="noStrike">
              <a:solidFill>
                <a:srgbClr val="ffffff"/>
              </a:solidFill>
              <a:latin typeface="DIN-Bold"/>
            </a:endParaRPr>
          </a:p>
          <a:p>
            <a:pPr marL="228600" indent="-228600"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DIN-Bold"/>
              </a:rPr>
              <a:t>Product catalogs</a:t>
            </a:r>
            <a:endParaRPr b="0" lang="en-US" sz="2400" spc="-1" strike="noStrike">
              <a:solidFill>
                <a:srgbClr val="ffffff"/>
              </a:solidFill>
              <a:latin typeface="DIN-Bold"/>
            </a:endParaRPr>
          </a:p>
          <a:p>
            <a:pPr marL="228600" indent="-228600"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DIN-Bold"/>
              </a:rPr>
              <a:t>Stock information</a:t>
            </a:r>
            <a:endParaRPr b="0" lang="en-US" sz="2400" spc="-1" strike="noStrike">
              <a:solidFill>
                <a:srgbClr val="ffffff"/>
              </a:solidFill>
              <a:latin typeface="DIN-Bold"/>
            </a:endParaRPr>
          </a:p>
          <a:p>
            <a:pPr marL="228600" indent="-228600"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DIN-Bold"/>
              </a:rPr>
              <a:t>XML schemas</a:t>
            </a:r>
            <a:endParaRPr b="0" lang="en-US" sz="2400" spc="-1" strike="noStrike">
              <a:solidFill>
                <a:srgbClr val="ffffff"/>
              </a:solidFill>
              <a:latin typeface="DIN-Bold"/>
            </a:endParaRPr>
          </a:p>
          <a:p>
            <a:pPr marL="228600" indent="-228600"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DIN-Bold"/>
              </a:rPr>
              <a:t>Metatagging</a:t>
            </a:r>
            <a:endParaRPr b="0" lang="en-US" sz="2400" spc="-1" strike="noStrike">
              <a:solidFill>
                <a:srgbClr val="ffffff"/>
              </a:solidFill>
              <a:latin typeface="DIN-Bold"/>
            </a:endParaRPr>
          </a:p>
        </p:txBody>
      </p:sp>
      <p:pic>
        <p:nvPicPr>
          <p:cNvPr id="99" name="infomedi" descr=""/>
          <p:cNvPicPr/>
          <p:nvPr/>
        </p:nvPicPr>
        <p:blipFill>
          <a:blip r:embed="rId1"/>
          <a:stretch/>
        </p:blipFill>
        <p:spPr>
          <a:xfrm>
            <a:off x="4648320" y="2133720"/>
            <a:ext cx="3809880" cy="36511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352680" y="29340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DIN-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DIN-Bold"/>
              </a:rPr>
              <a:t>3000 years of library science.</a:t>
            </a:r>
            <a:endParaRPr b="0" lang="en-US" sz="2800" spc="-1" strike="noStrike">
              <a:solidFill>
                <a:srgbClr val="ffffff"/>
              </a:solidFill>
              <a:latin typeface="DIN-Bold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DIN-Bold"/>
              </a:rPr>
              <a:t>Infomediation and eCommerce.</a:t>
            </a:r>
            <a:endParaRPr b="0" lang="en-US" sz="2800" spc="-1" strike="noStrike">
              <a:solidFill>
                <a:srgbClr val="ffffff"/>
              </a:solidFill>
              <a:latin typeface="DIN-Bold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DIN-Bold"/>
              </a:rPr>
              <a:t>Controlled vocabularies.</a:t>
            </a:r>
            <a:endParaRPr b="0" lang="en-US" sz="2800" spc="-1" strike="noStrike">
              <a:solidFill>
                <a:srgbClr val="ffffff"/>
              </a:solidFill>
              <a:latin typeface="DIN-Bold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DIN-Bold"/>
              </a:rPr>
              <a:t>Solutions.</a:t>
            </a:r>
            <a:endParaRPr b="0" lang="en-US" sz="2800" spc="-1" strike="noStrike">
              <a:solidFill>
                <a:srgbClr val="ffffff"/>
              </a:solidFill>
              <a:latin typeface="DIN-Bold"/>
            </a:endParaRPr>
          </a:p>
        </p:txBody>
      </p:sp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352680" y="29340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DIN-Black"/>
              </a:rPr>
              <a:t>Five ways to organize things</a:t>
            </a:r>
            <a:endParaRPr b="0" lang="en-US" sz="2800" spc="-1" strike="noStrike">
              <a:solidFill>
                <a:srgbClr val="ffff00"/>
              </a:solidFill>
              <a:latin typeface="DIN-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DIN-Bold"/>
              </a:rPr>
              <a:t>Chronological</a:t>
            </a:r>
            <a:endParaRPr b="0" lang="en-US" sz="2800" spc="-1" strike="noStrike">
              <a:solidFill>
                <a:srgbClr val="ffffff"/>
              </a:solidFill>
              <a:latin typeface="DIN-Bold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DIN-Bold"/>
              </a:rPr>
              <a:t>Alphabetical</a:t>
            </a:r>
            <a:endParaRPr b="0" lang="en-US" sz="2800" spc="-1" strike="noStrike">
              <a:solidFill>
                <a:srgbClr val="ffffff"/>
              </a:solidFill>
              <a:latin typeface="DIN-Bold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DIN-Bold"/>
              </a:rPr>
              <a:t>Spatially</a:t>
            </a:r>
            <a:endParaRPr b="0" lang="en-US" sz="2800" spc="-1" strike="noStrike">
              <a:solidFill>
                <a:srgbClr val="ffffff"/>
              </a:solidFill>
              <a:latin typeface="DIN-Bold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DIN-Bold"/>
              </a:rPr>
              <a:t>Physical attributes (size, color, …)</a:t>
            </a:r>
            <a:endParaRPr b="0" lang="en-US" sz="2800" spc="-1" strike="noStrike">
              <a:solidFill>
                <a:srgbClr val="ffffff"/>
              </a:solidFill>
              <a:latin typeface="DIN-Bold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DIN-Bold"/>
              </a:rPr>
              <a:t>Topic</a:t>
            </a:r>
            <a:endParaRPr b="0" lang="en-US" sz="2800" spc="-1" strike="noStrike">
              <a:solidFill>
                <a:srgbClr val="ffffff"/>
              </a:solidFill>
              <a:latin typeface="DIN-Bold"/>
            </a:endParaRPr>
          </a:p>
        </p:txBody>
      </p:sp>
      <p:sp>
        <p:nvSpPr>
          <p:cNvPr id="104" name=""/>
          <p:cNvSpPr/>
          <p:nvPr/>
        </p:nvSpPr>
        <p:spPr>
          <a:xfrm>
            <a:off x="3962520" y="5181480"/>
            <a:ext cx="4038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DIN-Bold"/>
              </a:rPr>
              <a:t>Richard Saul Wurm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352680" y="29340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DIN-Black"/>
              </a:rPr>
              <a:t>What is a controlled vocabulary?</a:t>
            </a:r>
            <a:endParaRPr b="0" lang="en-US" sz="2800" spc="-1" strike="noStrike">
              <a:solidFill>
                <a:srgbClr val="ffff00"/>
              </a:solidFill>
              <a:latin typeface="DIN-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315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DIN-Bold"/>
              </a:rPr>
              <a:t>A standard system of terminology used for coding, classifying, or otherwise uniquely identifying data and information.</a:t>
            </a:r>
            <a:r>
              <a:rPr b="0" lang="en-US" sz="2400" spc="-1" strike="noStrike">
                <a:solidFill>
                  <a:srgbClr val="ffffff"/>
                </a:solidFill>
                <a:latin typeface="DIN-Bol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DIN-Bold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429000" y="3047760"/>
            <a:ext cx="510552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6080" indent="-226080"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DIN-Bold"/>
              </a:rPr>
              <a:t>Glossaries</a:t>
            </a:r>
            <a:endParaRPr b="0" lang="en-US" sz="2400" spc="-1" strike="noStrike">
              <a:solidFill>
                <a:srgbClr val="ffffff"/>
              </a:solidFill>
              <a:latin typeface="DIN-Bold"/>
            </a:endParaRPr>
          </a:p>
          <a:p>
            <a:pPr marL="226080" indent="-226080"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DIN-Bold"/>
              </a:rPr>
              <a:t>Specialized dictionaries</a:t>
            </a:r>
            <a:endParaRPr b="0" lang="en-US" sz="2400" spc="-1" strike="noStrike">
              <a:solidFill>
                <a:srgbClr val="ffffff"/>
              </a:solidFill>
              <a:latin typeface="DIN-Bold"/>
            </a:endParaRPr>
          </a:p>
          <a:p>
            <a:pPr marL="226080" indent="-226080"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DIN-Bold"/>
              </a:rPr>
              <a:t>Standard terminology lists</a:t>
            </a:r>
            <a:endParaRPr b="0" lang="en-US" sz="2400" spc="-1" strike="noStrike">
              <a:solidFill>
                <a:srgbClr val="ffffff"/>
              </a:solidFill>
              <a:latin typeface="DIN-Bold"/>
            </a:endParaRPr>
          </a:p>
          <a:p>
            <a:pPr marL="226080" indent="-226080"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DIN-Bold"/>
              </a:rPr>
              <a:t>Reference data</a:t>
            </a:r>
            <a:endParaRPr b="0" lang="en-US" sz="2400" spc="-1" strike="noStrike">
              <a:solidFill>
                <a:srgbClr val="ffffff"/>
              </a:solidFill>
              <a:latin typeface="DIN-Bold"/>
            </a:endParaRPr>
          </a:p>
          <a:p>
            <a:pPr marL="226080" indent="-226080"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DIN-Bold"/>
              </a:rPr>
              <a:t>Authority files </a:t>
            </a:r>
            <a:endParaRPr b="0" lang="en-US" sz="2400" spc="-1" strike="noStrike">
              <a:solidFill>
                <a:srgbClr val="ffffff"/>
              </a:solidFill>
              <a:latin typeface="DIN-Bold"/>
            </a:endParaRPr>
          </a:p>
          <a:p>
            <a:pPr marL="226080" indent="-226080"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DIN-Bold"/>
              </a:rPr>
              <a:t>Classification schemes </a:t>
            </a:r>
            <a:endParaRPr b="0" lang="en-US" sz="2400" spc="-1" strike="noStrike">
              <a:solidFill>
                <a:srgbClr val="ffffff"/>
              </a:solidFill>
              <a:latin typeface="DIN-Bold"/>
            </a:endParaRPr>
          </a:p>
          <a:p>
            <a:pPr marL="226080" indent="-226080"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DIN-Bold"/>
              </a:rPr>
              <a:t>Domain-specific taxonomies</a:t>
            </a:r>
            <a:endParaRPr b="0" lang="en-US" sz="2400" spc="-1" strike="noStrike">
              <a:solidFill>
                <a:srgbClr val="ffffff"/>
              </a:solidFill>
              <a:latin typeface="DIN-Bold"/>
            </a:endParaRPr>
          </a:p>
          <a:p>
            <a:pPr marL="226080" indent="-226080"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DIN-Bold"/>
              </a:rPr>
              <a:t>Thesauri</a:t>
            </a:r>
            <a:endParaRPr b="0" lang="en-US" sz="2400" spc="-1" strike="noStrike">
              <a:solidFill>
                <a:srgbClr val="ffffff"/>
              </a:solidFill>
              <a:latin typeface="DIN-Bold"/>
            </a:endParaRPr>
          </a:p>
          <a:p>
            <a:pPr marL="226080" indent="-226080"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DIN-Bold"/>
              </a:rPr>
              <a:t>Ontologies</a:t>
            </a:r>
            <a:endParaRPr b="0" lang="en-US" sz="2400" spc="-1" strike="noStrike">
              <a:solidFill>
                <a:srgbClr val="ffffff"/>
              </a:solidFill>
              <a:latin typeface="DIN-Bold"/>
            </a:endParaRPr>
          </a:p>
        </p:txBody>
      </p:sp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294840"/>
            <a:ext cx="8796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DIN-Black"/>
              </a:rPr>
              <a:t>Some aliases for Benzene</a:t>
            </a:r>
            <a:endParaRPr b="0" lang="en-US" sz="2800" spc="-1" strike="noStrike">
              <a:solidFill>
                <a:srgbClr val="ffff00"/>
              </a:solidFill>
              <a:latin typeface="DIN-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419360" y="1969920"/>
            <a:ext cx="3601800" cy="37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227520" indent="-227520">
              <a:lnSpc>
                <a:spcPct val="75000"/>
              </a:lnSpc>
              <a:spcBef>
                <a:spcPts val="499"/>
              </a:spcBef>
              <a:buClr>
                <a:srgbClr val="ffff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DIN-Bold"/>
              </a:rPr>
              <a:t>EPA Pesticide Chemical Code 008801</a:t>
            </a:r>
            <a:endParaRPr b="0" lang="en-US" sz="2000" spc="-1" strike="noStrike">
              <a:solidFill>
                <a:srgbClr val="ffffff"/>
              </a:solidFill>
              <a:latin typeface="DIN-Bold"/>
            </a:endParaRPr>
          </a:p>
          <a:p>
            <a:pPr marL="227520" indent="-227520">
              <a:lnSpc>
                <a:spcPct val="75000"/>
              </a:lnSpc>
              <a:spcBef>
                <a:spcPts val="499"/>
              </a:spcBef>
              <a:buClr>
                <a:srgbClr val="ffff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DIN-Bold"/>
              </a:rPr>
              <a:t>HSDB 35</a:t>
            </a:r>
            <a:endParaRPr b="0" lang="en-US" sz="2000" spc="-1" strike="noStrike">
              <a:solidFill>
                <a:srgbClr val="ffffff"/>
              </a:solidFill>
              <a:latin typeface="DIN-Bold"/>
            </a:endParaRPr>
          </a:p>
          <a:p>
            <a:pPr marL="227520" indent="-227520">
              <a:lnSpc>
                <a:spcPct val="75000"/>
              </a:lnSpc>
              <a:spcBef>
                <a:spcPts val="499"/>
              </a:spcBef>
              <a:buClr>
                <a:srgbClr val="ffff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DIN-Bold"/>
              </a:rPr>
              <a:t>Mineral naphtha</a:t>
            </a:r>
            <a:endParaRPr b="0" lang="en-US" sz="2000" spc="-1" strike="noStrike">
              <a:solidFill>
                <a:srgbClr val="ffffff"/>
              </a:solidFill>
              <a:latin typeface="DIN-Bold"/>
            </a:endParaRPr>
          </a:p>
          <a:p>
            <a:pPr marL="227520" indent="-227520">
              <a:lnSpc>
                <a:spcPct val="75000"/>
              </a:lnSpc>
              <a:spcBef>
                <a:spcPts val="499"/>
              </a:spcBef>
              <a:buClr>
                <a:srgbClr val="ffff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DIN-Bold"/>
              </a:rPr>
              <a:t>Motor benzol</a:t>
            </a:r>
            <a:endParaRPr b="0" lang="en-US" sz="2000" spc="-1" strike="noStrike">
              <a:solidFill>
                <a:srgbClr val="ffffff"/>
              </a:solidFill>
              <a:latin typeface="DIN-Bold"/>
            </a:endParaRPr>
          </a:p>
          <a:p>
            <a:pPr marL="227520" indent="-227520">
              <a:lnSpc>
                <a:spcPct val="75000"/>
              </a:lnSpc>
              <a:spcBef>
                <a:spcPts val="499"/>
              </a:spcBef>
              <a:buClr>
                <a:srgbClr val="ffff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DIN-Bold"/>
              </a:rPr>
              <a:t>NCI-C55276</a:t>
            </a:r>
            <a:endParaRPr b="0" lang="en-US" sz="2000" spc="-1" strike="noStrike">
              <a:solidFill>
                <a:srgbClr val="ffffff"/>
              </a:solidFill>
              <a:latin typeface="DIN-Bold"/>
            </a:endParaRPr>
          </a:p>
          <a:p>
            <a:pPr marL="227520" indent="-227520">
              <a:lnSpc>
                <a:spcPct val="75000"/>
              </a:lnSpc>
              <a:spcBef>
                <a:spcPts val="499"/>
              </a:spcBef>
              <a:buClr>
                <a:srgbClr val="ffff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DIN-Bold"/>
              </a:rPr>
              <a:t>Nitration benzene</a:t>
            </a:r>
            <a:endParaRPr b="0" lang="en-US" sz="2000" spc="-1" strike="noStrike">
              <a:solidFill>
                <a:srgbClr val="ffffff"/>
              </a:solidFill>
              <a:latin typeface="DIN-Bold"/>
            </a:endParaRPr>
          </a:p>
          <a:p>
            <a:pPr marL="227520" indent="-227520">
              <a:lnSpc>
                <a:spcPct val="75000"/>
              </a:lnSpc>
              <a:spcBef>
                <a:spcPts val="499"/>
              </a:spcBef>
              <a:buClr>
                <a:srgbClr val="ffff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DIN-Bold"/>
              </a:rPr>
              <a:t>NSC 67315</a:t>
            </a:r>
            <a:endParaRPr b="0" lang="en-US" sz="2000" spc="-1" strike="noStrike">
              <a:solidFill>
                <a:srgbClr val="ffffff"/>
              </a:solidFill>
              <a:latin typeface="DIN-Bold"/>
            </a:endParaRPr>
          </a:p>
          <a:p>
            <a:pPr marL="227520" indent="-227520">
              <a:lnSpc>
                <a:spcPct val="75000"/>
              </a:lnSpc>
              <a:spcBef>
                <a:spcPts val="499"/>
              </a:spcBef>
              <a:buClr>
                <a:srgbClr val="ffff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DIN-Bold"/>
              </a:rPr>
              <a:t>Phene</a:t>
            </a:r>
            <a:endParaRPr b="0" lang="en-US" sz="2000" spc="-1" strike="noStrike">
              <a:solidFill>
                <a:srgbClr val="ffffff"/>
              </a:solidFill>
              <a:latin typeface="DIN-Bold"/>
            </a:endParaRPr>
          </a:p>
          <a:p>
            <a:pPr marL="227520" indent="-227520">
              <a:lnSpc>
                <a:spcPct val="75000"/>
              </a:lnSpc>
              <a:spcBef>
                <a:spcPts val="499"/>
              </a:spcBef>
              <a:buClr>
                <a:srgbClr val="ffff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DIN-Bold"/>
              </a:rPr>
              <a:t>Phenyl Hydride</a:t>
            </a:r>
            <a:endParaRPr b="0" lang="en-US" sz="2000" spc="-1" strike="noStrike">
              <a:solidFill>
                <a:srgbClr val="ffffff"/>
              </a:solidFill>
              <a:latin typeface="DIN-Bold"/>
            </a:endParaRPr>
          </a:p>
          <a:p>
            <a:pPr marL="227520" indent="-227520">
              <a:lnSpc>
                <a:spcPct val="75000"/>
              </a:lnSpc>
              <a:spcBef>
                <a:spcPts val="499"/>
              </a:spcBef>
              <a:buClr>
                <a:srgbClr val="ffff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DIN-Bold"/>
              </a:rPr>
              <a:t>Polystream</a:t>
            </a:r>
            <a:endParaRPr b="0" lang="en-US" sz="2000" spc="-1" strike="noStrike">
              <a:solidFill>
                <a:srgbClr val="ffffff"/>
              </a:solidFill>
              <a:latin typeface="DIN-Bold"/>
            </a:endParaRPr>
          </a:p>
          <a:p>
            <a:pPr marL="227520" indent="-227520">
              <a:lnSpc>
                <a:spcPct val="75000"/>
              </a:lnSpc>
              <a:spcBef>
                <a:spcPts val="499"/>
              </a:spcBef>
              <a:buClr>
                <a:srgbClr val="ffff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DIN-Bold"/>
              </a:rPr>
              <a:t>Pyrobenzol</a:t>
            </a:r>
            <a:endParaRPr b="0" lang="en-US" sz="2000" spc="-1" strike="noStrike">
              <a:solidFill>
                <a:srgbClr val="ffffff"/>
              </a:solidFill>
              <a:latin typeface="DIN-Bold"/>
            </a:endParaRPr>
          </a:p>
          <a:p>
            <a:pPr marL="227520" indent="-227520">
              <a:lnSpc>
                <a:spcPct val="75000"/>
              </a:lnSpc>
              <a:spcBef>
                <a:spcPts val="499"/>
              </a:spcBef>
              <a:buClr>
                <a:srgbClr val="ffff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DIN-Bold"/>
              </a:rPr>
              <a:t>Pyrobenzole</a:t>
            </a:r>
            <a:endParaRPr b="0" lang="en-US" sz="2000" spc="-1" strike="noStrike">
              <a:solidFill>
                <a:srgbClr val="ffffff"/>
              </a:solidFill>
              <a:latin typeface="DIN-Bold"/>
            </a:endParaRPr>
          </a:p>
        </p:txBody>
      </p:sp>
      <p:pic>
        <p:nvPicPr>
          <p:cNvPr id="110" name="rect_spacer01" descr=""/>
          <p:cNvPicPr/>
          <p:nvPr/>
        </p:nvPicPr>
        <p:blipFill>
          <a:blip r:embed="rId1"/>
          <a:stretch/>
        </p:blipFill>
        <p:spPr>
          <a:xfrm>
            <a:off x="817560" y="1419120"/>
            <a:ext cx="2546280" cy="328320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1017360" y="1926720"/>
            <a:ext cx="3274920" cy="38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227520" indent="-227520">
              <a:lnSpc>
                <a:spcPct val="75000"/>
              </a:lnSpc>
              <a:spcBef>
                <a:spcPts val="499"/>
              </a:spcBef>
              <a:buClr>
                <a:srgbClr val="ffff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DIN-Bold"/>
              </a:rPr>
              <a:t>Annulene</a:t>
            </a:r>
            <a:endParaRPr b="0" lang="en-US" sz="2000" spc="-1" strike="noStrike">
              <a:solidFill>
                <a:srgbClr val="ffffff"/>
              </a:solidFill>
              <a:latin typeface="DIN-Bold"/>
            </a:endParaRPr>
          </a:p>
          <a:p>
            <a:pPr marL="227520" indent="-227520">
              <a:lnSpc>
                <a:spcPct val="75000"/>
              </a:lnSpc>
              <a:spcBef>
                <a:spcPts val="499"/>
              </a:spcBef>
              <a:buClr>
                <a:srgbClr val="ffff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DIN-Bold"/>
              </a:rPr>
              <a:t>Benzin</a:t>
            </a:r>
            <a:endParaRPr b="0" lang="en-US" sz="2000" spc="-1" strike="noStrike">
              <a:solidFill>
                <a:srgbClr val="ffffff"/>
              </a:solidFill>
              <a:latin typeface="DIN-Bold"/>
            </a:endParaRPr>
          </a:p>
          <a:p>
            <a:pPr marL="227520" indent="-227520">
              <a:lnSpc>
                <a:spcPct val="75000"/>
              </a:lnSpc>
              <a:spcBef>
                <a:spcPts val="499"/>
              </a:spcBef>
              <a:buClr>
                <a:srgbClr val="ffff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DIN-Bold"/>
              </a:rPr>
              <a:t>Benzine</a:t>
            </a:r>
            <a:endParaRPr b="0" lang="en-US" sz="2000" spc="-1" strike="noStrike">
              <a:solidFill>
                <a:srgbClr val="ffffff"/>
              </a:solidFill>
              <a:latin typeface="DIN-Bold"/>
            </a:endParaRPr>
          </a:p>
          <a:p>
            <a:pPr marL="227520" indent="-227520">
              <a:lnSpc>
                <a:spcPct val="75000"/>
              </a:lnSpc>
              <a:spcBef>
                <a:spcPts val="499"/>
              </a:spcBef>
              <a:buClr>
                <a:srgbClr val="ffff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DIN-Bold"/>
              </a:rPr>
              <a:t>Benzol</a:t>
            </a:r>
            <a:endParaRPr b="0" lang="en-US" sz="2000" spc="-1" strike="noStrike">
              <a:solidFill>
                <a:srgbClr val="ffffff"/>
              </a:solidFill>
              <a:latin typeface="DIN-Bold"/>
            </a:endParaRPr>
          </a:p>
          <a:p>
            <a:pPr marL="227520" indent="-227520">
              <a:lnSpc>
                <a:spcPct val="75000"/>
              </a:lnSpc>
              <a:spcBef>
                <a:spcPts val="499"/>
              </a:spcBef>
              <a:buClr>
                <a:srgbClr val="ffff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DIN-Bold"/>
              </a:rPr>
              <a:t>Benzole</a:t>
            </a:r>
            <a:endParaRPr b="0" lang="en-US" sz="2000" spc="-1" strike="noStrike">
              <a:solidFill>
                <a:srgbClr val="ffffff"/>
              </a:solidFill>
              <a:latin typeface="DIN-Bold"/>
            </a:endParaRPr>
          </a:p>
          <a:p>
            <a:pPr marL="227520" indent="-227520">
              <a:lnSpc>
                <a:spcPct val="75000"/>
              </a:lnSpc>
              <a:spcBef>
                <a:spcPts val="499"/>
              </a:spcBef>
              <a:buClr>
                <a:srgbClr val="ffff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DIN-Bold"/>
              </a:rPr>
              <a:t>Benzolene</a:t>
            </a:r>
            <a:endParaRPr b="0" lang="en-US" sz="2000" spc="-1" strike="noStrike">
              <a:solidFill>
                <a:srgbClr val="ffffff"/>
              </a:solidFill>
              <a:latin typeface="DIN-Bold"/>
            </a:endParaRPr>
          </a:p>
          <a:p>
            <a:pPr marL="227520" indent="-227520">
              <a:lnSpc>
                <a:spcPct val="75000"/>
              </a:lnSpc>
              <a:spcBef>
                <a:spcPts val="499"/>
              </a:spcBef>
              <a:buClr>
                <a:srgbClr val="ffff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DIN-Bold"/>
              </a:rPr>
              <a:t>Bicarburet of Hydrogen</a:t>
            </a:r>
            <a:endParaRPr b="0" lang="en-US" sz="2000" spc="-1" strike="noStrike">
              <a:solidFill>
                <a:srgbClr val="ffffff"/>
              </a:solidFill>
              <a:latin typeface="DIN-Bold"/>
            </a:endParaRPr>
          </a:p>
          <a:p>
            <a:pPr marL="227520" indent="-227520">
              <a:lnSpc>
                <a:spcPct val="75000"/>
              </a:lnSpc>
              <a:spcBef>
                <a:spcPts val="499"/>
              </a:spcBef>
              <a:buClr>
                <a:srgbClr val="ffff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DIN-Bold"/>
              </a:rPr>
              <a:t>Carbon oil</a:t>
            </a:r>
            <a:endParaRPr b="0" lang="en-US" sz="2000" spc="-1" strike="noStrike">
              <a:solidFill>
                <a:srgbClr val="ffffff"/>
              </a:solidFill>
              <a:latin typeface="DIN-Bold"/>
            </a:endParaRPr>
          </a:p>
          <a:p>
            <a:pPr marL="227520" indent="-227520">
              <a:lnSpc>
                <a:spcPct val="75000"/>
              </a:lnSpc>
              <a:spcBef>
                <a:spcPts val="499"/>
              </a:spcBef>
              <a:buClr>
                <a:srgbClr val="ffff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DIN-Bold"/>
              </a:rPr>
              <a:t>Caswell No. 077</a:t>
            </a:r>
            <a:endParaRPr b="0" lang="en-US" sz="2000" spc="-1" strike="noStrike">
              <a:solidFill>
                <a:srgbClr val="ffffff"/>
              </a:solidFill>
              <a:latin typeface="DIN-Bold"/>
            </a:endParaRPr>
          </a:p>
          <a:p>
            <a:pPr marL="227520" indent="-227520">
              <a:lnSpc>
                <a:spcPct val="75000"/>
              </a:lnSpc>
              <a:spcBef>
                <a:spcPts val="499"/>
              </a:spcBef>
              <a:buClr>
                <a:srgbClr val="ffff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DIN-Bold"/>
              </a:rPr>
              <a:t>CCRIS 70</a:t>
            </a:r>
            <a:endParaRPr b="0" lang="en-US" sz="2000" spc="-1" strike="noStrike">
              <a:solidFill>
                <a:srgbClr val="ffffff"/>
              </a:solidFill>
              <a:latin typeface="DIN-Bold"/>
            </a:endParaRPr>
          </a:p>
          <a:p>
            <a:pPr marL="227520" indent="-227520">
              <a:lnSpc>
                <a:spcPct val="75000"/>
              </a:lnSpc>
              <a:spcBef>
                <a:spcPts val="499"/>
              </a:spcBef>
              <a:buClr>
                <a:srgbClr val="ffff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DIN-Bold"/>
              </a:rPr>
              <a:t>Coal naphtha</a:t>
            </a:r>
            <a:endParaRPr b="0" lang="en-US" sz="2000" spc="-1" strike="noStrike">
              <a:solidFill>
                <a:srgbClr val="ffffff"/>
              </a:solidFill>
              <a:latin typeface="DIN-Bold"/>
            </a:endParaRPr>
          </a:p>
          <a:p>
            <a:pPr marL="227520" indent="-227520">
              <a:lnSpc>
                <a:spcPct val="75000"/>
              </a:lnSpc>
              <a:spcBef>
                <a:spcPts val="499"/>
              </a:spcBef>
              <a:buClr>
                <a:srgbClr val="ffff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DIN-Bold"/>
              </a:rPr>
              <a:t>Cyclohexatriene</a:t>
            </a:r>
            <a:endParaRPr b="0" lang="en-US" sz="2000" spc="-1" strike="noStrike">
              <a:solidFill>
                <a:srgbClr val="ffffff"/>
              </a:solidFill>
              <a:latin typeface="DIN-Bold"/>
            </a:endParaRPr>
          </a:p>
          <a:p>
            <a:pPr marL="227520" indent="-227520">
              <a:lnSpc>
                <a:spcPct val="75000"/>
              </a:lnSpc>
              <a:spcBef>
                <a:spcPts val="451"/>
              </a:spcBef>
              <a:buClr>
                <a:srgbClr val="ffff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DIN-Bold"/>
              </a:rPr>
              <a:t>EINECS 200-753</a:t>
            </a:r>
            <a:r>
              <a:rPr b="0" lang="en-US" sz="1800" spc="-1" strike="noStrike">
                <a:solidFill>
                  <a:srgbClr val="ffffff"/>
                </a:solidFill>
                <a:latin typeface="DIN-Bold"/>
              </a:rPr>
              <a:t>-7</a:t>
            </a:r>
            <a:endParaRPr b="0" lang="en-US" sz="1800" spc="-1" strike="noStrike">
              <a:solidFill>
                <a:srgbClr val="ffffff"/>
              </a:solidFill>
              <a:latin typeface="DIN-Bold"/>
            </a:endParaRPr>
          </a:p>
        </p:txBody>
      </p:sp>
      <p:sp>
        <p:nvSpPr>
          <p:cNvPr id="112" name=""/>
          <p:cNvSpPr/>
          <p:nvPr/>
        </p:nvSpPr>
        <p:spPr>
          <a:xfrm>
            <a:off x="2666880" y="6172200"/>
            <a:ext cx="335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DIN-Bold"/>
              </a:rPr>
              <a:t>Source: </a:t>
            </a:r>
            <a:r>
              <a:rPr b="0" i="1" lang="en-US" sz="2000" spc="-1" strike="noStrike">
                <a:solidFill>
                  <a:srgbClr val="ffff00"/>
                </a:solidFill>
                <a:latin typeface="DIN-Bold"/>
              </a:rPr>
              <a:t>ChemN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352680" y="29340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DIN-Black"/>
              </a:rPr>
              <a:t>What is the purpose of using a controlled vocabulary?</a:t>
            </a:r>
            <a:endParaRPr b="0" lang="en-US" sz="2800" spc="-1" strike="noStrike">
              <a:solidFill>
                <a:srgbClr val="ffff00"/>
              </a:solidFill>
              <a:latin typeface="DIN-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DIN-Bold"/>
              </a:rPr>
              <a:t>Collect together information objects ...</a:t>
            </a:r>
            <a:endParaRPr b="0" lang="en-US" sz="2800" spc="-1" strike="noStrike">
              <a:solidFill>
                <a:srgbClr val="ffffff"/>
              </a:solidFill>
              <a:latin typeface="DIN-Bold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837720" y="2666520"/>
            <a:ext cx="762012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DIN-Bold"/>
              </a:rPr>
              <a:t>by the same creator,</a:t>
            </a:r>
            <a:endParaRPr b="0" lang="en-US" sz="2400" spc="-1" strike="noStrike">
              <a:solidFill>
                <a:srgbClr val="ffffff"/>
              </a:solidFill>
              <a:latin typeface="DIN-Bold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DIN-Bold"/>
              </a:rPr>
              <a:t>on the same topic,</a:t>
            </a:r>
            <a:endParaRPr b="0" lang="en-US" sz="2400" spc="-1" strike="noStrike">
              <a:solidFill>
                <a:srgbClr val="ffffff"/>
              </a:solidFill>
              <a:latin typeface="DIN-Bold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DIN-Bold"/>
              </a:rPr>
              <a:t>that are the same work,</a:t>
            </a:r>
            <a:endParaRPr b="0" lang="en-US" sz="2400" spc="-1" strike="noStrike">
              <a:solidFill>
                <a:srgbClr val="ffffff"/>
              </a:solidFill>
              <a:latin typeface="DIN-Bold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DIN-Bold"/>
              </a:rPr>
              <a:t>that are part of a series,</a:t>
            </a:r>
            <a:endParaRPr b="0" lang="en-US" sz="2400" spc="-1" strike="noStrike">
              <a:solidFill>
                <a:srgbClr val="ffffff"/>
              </a:solidFill>
              <a:latin typeface="DIN-Bold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DIN-Bold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DIN-Bold"/>
              </a:rPr>
              <a:t>or that have other characteristics in common.</a:t>
            </a:r>
            <a:endParaRPr b="0" lang="en-US" sz="2400" spc="-1" strike="noStrike">
              <a:solidFill>
                <a:srgbClr val="ffffff"/>
              </a:solidFill>
              <a:latin typeface="DIN-Bold"/>
            </a:endParaRPr>
          </a:p>
        </p:txBody>
      </p:sp>
    </p:spTree>
  </p:cSld>
  <p:transition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6" name=""/>
          <p:cNvGraphicFramePr/>
          <p:nvPr/>
        </p:nvGraphicFramePr>
        <p:xfrm>
          <a:off x="609480" y="1447920"/>
          <a:ext cx="7886880" cy="5352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447920"/>
                    <a:ext cx="7886880" cy="535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352680" y="29340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DIN-Black"/>
              </a:rPr>
              <a:t>Authoritative schemes</a:t>
            </a:r>
            <a:endParaRPr b="0" lang="en-US" sz="2800" spc="-1" strike="noStrike">
              <a:solidFill>
                <a:srgbClr val="ffff00"/>
              </a:solidFill>
              <a:latin typeface="DIN-Black"/>
            </a:endParaRPr>
          </a:p>
        </p:txBody>
      </p:sp>
    </p:spTree>
  </p:cSld>
  <p:transition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352680" y="29340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DIN-Black"/>
              </a:rPr>
              <a:t>What is an ontology?</a:t>
            </a:r>
            <a:endParaRPr b="0" lang="en-US" sz="2800" spc="-1" strike="noStrike">
              <a:solidFill>
                <a:srgbClr val="ffff00"/>
              </a:solidFill>
              <a:latin typeface="DIN-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DIN-Bold"/>
              </a:rPr>
              <a:t>The branch of philosophy that deals with being.    </a:t>
            </a:r>
            <a:r>
              <a:rPr b="0" i="1" lang="en-US" sz="2000" spc="-1" strike="noStrike">
                <a:solidFill>
                  <a:srgbClr val="ffffff"/>
                </a:solidFill>
                <a:latin typeface="DIN-Bold"/>
              </a:rPr>
              <a:t>American Heritage Dictionary</a:t>
            </a:r>
            <a:endParaRPr b="0" lang="en-US" sz="2000" spc="-1" strike="noStrike">
              <a:solidFill>
                <a:srgbClr val="ffffff"/>
              </a:solidFill>
              <a:latin typeface="DIN-Bold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DIN-Bold"/>
              </a:rPr>
              <a:t>A taxonomy of everything that divides human knowledge or a subset of human knowledge into a clean set of categories, e.g., the Dewey Decimal System.                                          </a:t>
            </a:r>
            <a:r>
              <a:rPr b="0" i="1" lang="en-US" sz="2000" spc="-1" strike="noStrike">
                <a:solidFill>
                  <a:srgbClr val="ffffff"/>
                </a:solidFill>
                <a:latin typeface="DIN-Bold"/>
              </a:rPr>
              <a:t>http://fiat.gslis.utexas.edu/</a:t>
            </a:r>
            <a:endParaRPr b="0" lang="en-US" sz="2000" spc="-1" strike="noStrike">
              <a:solidFill>
                <a:srgbClr val="ffffff"/>
              </a:solidFill>
              <a:latin typeface="DIN-Bold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DIN-Bold"/>
              </a:rPr>
              <a:t>Formal, structured representations of a domain of knowledge …                                                               </a:t>
            </a:r>
            <a:r>
              <a:rPr b="0" i="1" lang="en-US" sz="2000" spc="-1" strike="noStrike">
                <a:solidFill>
                  <a:srgbClr val="ffffff"/>
                </a:solidFill>
                <a:latin typeface="DIN-Bold"/>
              </a:rPr>
              <a:t>Murray. Technologies, Techniques, and Disciplines in Knowledge Management</a:t>
            </a:r>
            <a:endParaRPr b="0" lang="en-US" sz="2000" spc="-1" strike="noStrike">
              <a:solidFill>
                <a:srgbClr val="ffffff"/>
              </a:solidFill>
              <a:latin typeface="DIN-Bold"/>
            </a:endParaRPr>
          </a:p>
        </p:txBody>
      </p:sp>
    </p:spTree>
  </p:cSld>
  <p:transition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352680" y="29340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DIN-Black"/>
              </a:rPr>
              <a:t>What problems are you trying to solve?</a:t>
            </a:r>
            <a:endParaRPr b="0" lang="en-US" sz="2800" spc="-1" strike="noStrike">
              <a:solidFill>
                <a:srgbClr val="ffff00"/>
              </a:solidFill>
              <a:latin typeface="DIN-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DIN-Bold"/>
              </a:rPr>
              <a:t>Use and re-use existing information sources.</a:t>
            </a:r>
            <a:endParaRPr b="0" lang="en-US" sz="2400" spc="-1" strike="noStrike">
              <a:solidFill>
                <a:srgbClr val="ffffff"/>
              </a:solidFill>
              <a:latin typeface="DIN-Bold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DIN-Bold"/>
              </a:rPr>
              <a:t>Locate, gather, monitor and retrieve relevant information.</a:t>
            </a:r>
            <a:endParaRPr b="0" lang="en-US" sz="2400" spc="-1" strike="noStrike">
              <a:solidFill>
                <a:srgbClr val="ffffff"/>
              </a:solidFill>
              <a:latin typeface="DIN-Bold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DIN-Bold"/>
              </a:rPr>
              <a:t>Fuse content from disparate sources.</a:t>
            </a:r>
            <a:endParaRPr b="0" lang="en-US" sz="2400" spc="-1" strike="noStrike">
              <a:solidFill>
                <a:srgbClr val="ffffff"/>
              </a:solidFill>
              <a:latin typeface="DIN-Bold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DIN-Bold"/>
              </a:rPr>
              <a:t>Provide highly granular tagging.</a:t>
            </a:r>
            <a:endParaRPr b="0" lang="en-US" sz="2400" spc="-1" strike="noStrike">
              <a:solidFill>
                <a:srgbClr val="ffffff"/>
              </a:solidFill>
              <a:latin typeface="DIN-Bold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DIN-Bold"/>
              </a:rPr>
              <a:t>Fault-tolerant searching.</a:t>
            </a:r>
            <a:endParaRPr b="0" lang="en-US" sz="2400" spc="-1" strike="noStrike">
              <a:solidFill>
                <a:srgbClr val="ffffff"/>
              </a:solidFill>
              <a:latin typeface="DIN-Bold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DIN-Bold"/>
              </a:rPr>
              <a:t>Individualized presentation of results.</a:t>
            </a:r>
            <a:endParaRPr b="0" lang="en-US" sz="2400" spc="-1" strike="noStrike">
              <a:solidFill>
                <a:srgbClr val="ffffff"/>
              </a:solidFill>
              <a:latin typeface="DIN-Bold"/>
            </a:endParaRPr>
          </a:p>
        </p:txBody>
      </p:sp>
    </p:spTree>
  </p:cSld>
  <p:transition>
    <p:fade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352680" y="29340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DIN-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DIN-Bold"/>
              </a:rPr>
              <a:t>3000 years of library science.</a:t>
            </a:r>
            <a:endParaRPr b="0" lang="en-US" sz="2800" spc="-1" strike="noStrike">
              <a:solidFill>
                <a:srgbClr val="ffffff"/>
              </a:solidFill>
              <a:latin typeface="DIN-Bold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DIN-Bold"/>
              </a:rPr>
              <a:t>Infomediation and eCommerce.</a:t>
            </a:r>
            <a:endParaRPr b="0" lang="en-US" sz="2800" spc="-1" strike="noStrike">
              <a:solidFill>
                <a:srgbClr val="ffffff"/>
              </a:solidFill>
              <a:latin typeface="DIN-Bold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DIN-Bold"/>
              </a:rPr>
              <a:t>Controlled vocabularies.</a:t>
            </a:r>
            <a:endParaRPr b="0" lang="en-US" sz="2800" spc="-1" strike="noStrike">
              <a:solidFill>
                <a:srgbClr val="ffffff"/>
              </a:solidFill>
              <a:latin typeface="DIN-Bold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DIN-Bold"/>
              </a:rPr>
              <a:t>Solutions.</a:t>
            </a:r>
            <a:endParaRPr b="0" lang="en-US" sz="2800" spc="-1" strike="noStrike">
              <a:solidFill>
                <a:srgbClr val="ffffff"/>
              </a:solidFill>
              <a:latin typeface="DIN-Bold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352680" y="29340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DIN-Black"/>
              </a:rPr>
              <a:t>Topics</a:t>
            </a:r>
            <a:endParaRPr b="0" lang="en-US" sz="2800" spc="-1" strike="noStrike">
              <a:solidFill>
                <a:srgbClr val="ffff00"/>
              </a:solidFill>
              <a:latin typeface="DIN-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DIN-Bold"/>
              </a:rPr>
              <a:t>3000 years of library science.</a:t>
            </a:r>
            <a:endParaRPr b="0" lang="en-US" sz="2800" spc="-1" strike="noStrike">
              <a:solidFill>
                <a:srgbClr val="ffffff"/>
              </a:solidFill>
              <a:latin typeface="DIN-Bold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DIN-Bold"/>
              </a:rPr>
              <a:t>Infomediation and eCommerce.</a:t>
            </a:r>
            <a:endParaRPr b="0" lang="en-US" sz="2800" spc="-1" strike="noStrike">
              <a:solidFill>
                <a:srgbClr val="ffffff"/>
              </a:solidFill>
              <a:latin typeface="DIN-Bold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DIN-Bold"/>
              </a:rPr>
              <a:t>Controlled vocabularies.</a:t>
            </a:r>
            <a:endParaRPr b="0" lang="en-US" sz="2800" spc="-1" strike="noStrike">
              <a:solidFill>
                <a:srgbClr val="ffffff"/>
              </a:solidFill>
              <a:latin typeface="DIN-Bold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DIN-Bold"/>
              </a:rPr>
              <a:t>Solutions. </a:t>
            </a:r>
            <a:endParaRPr b="0" lang="en-US" sz="2800" spc="-1" strike="noStrike">
              <a:solidFill>
                <a:srgbClr val="ffffff"/>
              </a:solidFill>
              <a:latin typeface="DIN-Bold"/>
            </a:endParaRPr>
          </a:p>
        </p:txBody>
      </p:sp>
    </p:spTree>
  </p:cSld>
  <p:transition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"/>
          <p:cNvGrpSpPr/>
          <p:nvPr/>
        </p:nvGrpSpPr>
        <p:grpSpPr>
          <a:xfrm>
            <a:off x="187200" y="4572000"/>
            <a:ext cx="7323120" cy="1618200"/>
            <a:chOff x="187200" y="4572000"/>
            <a:chExt cx="7323120" cy="1618200"/>
          </a:xfrm>
        </p:grpSpPr>
        <p:sp>
          <p:nvSpPr>
            <p:cNvPr id="126" name=""/>
            <p:cNvSpPr/>
            <p:nvPr/>
          </p:nvSpPr>
          <p:spPr>
            <a:xfrm>
              <a:off x="1523880" y="5562720"/>
              <a:ext cx="457200" cy="609480"/>
            </a:xfrm>
            <a:prstGeom prst="flowChartMagneticDisk">
              <a:avLst/>
            </a:prstGeom>
            <a:gradFill rotWithShape="0">
              <a:gsLst>
                <a:gs pos="0">
                  <a:srgbClr val="f8f8f8"/>
                </a:gs>
                <a:gs pos="100000">
                  <a:srgbClr val="ff9933"/>
                </a:gs>
              </a:gsLst>
              <a:lin ang="5400000"/>
            </a:gradFill>
            <a:ln w="3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133720" y="5562720"/>
              <a:ext cx="457200" cy="609480"/>
            </a:xfrm>
            <a:prstGeom prst="flowChartMagneticDisk">
              <a:avLst/>
            </a:prstGeom>
            <a:gradFill rotWithShape="0">
              <a:gsLst>
                <a:gs pos="0">
                  <a:srgbClr val="f8f8f8"/>
                </a:gs>
                <a:gs pos="100000">
                  <a:srgbClr val="cc3399"/>
                </a:gs>
              </a:gsLst>
              <a:lin ang="5400000"/>
            </a:gradFill>
            <a:ln w="324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743200" y="5562720"/>
              <a:ext cx="457200" cy="609480"/>
            </a:xfrm>
            <a:prstGeom prst="flowChartMagneticDisk">
              <a:avLst/>
            </a:prstGeom>
            <a:gradFill rotWithShape="0">
              <a:gsLst>
                <a:gs pos="0">
                  <a:srgbClr val="f8f8f8"/>
                </a:gs>
                <a:gs pos="100000">
                  <a:srgbClr val="3366ff"/>
                </a:gs>
              </a:gsLst>
              <a:lin ang="5400000"/>
            </a:gradFill>
            <a:ln w="3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352680" y="5562720"/>
              <a:ext cx="457200" cy="609480"/>
            </a:xfrm>
            <a:prstGeom prst="flowChartMagneticDisk">
              <a:avLst/>
            </a:prstGeom>
            <a:gradFill rotWithShape="0">
              <a:gsLst>
                <a:gs pos="0">
                  <a:srgbClr val="f8f8f8"/>
                </a:gs>
                <a:gs pos="100000">
                  <a:srgbClr val="009900"/>
                </a:gs>
              </a:gsLst>
              <a:lin ang="5400000"/>
            </a:gradFill>
            <a:ln w="3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962520" y="5562720"/>
              <a:ext cx="457200" cy="609480"/>
            </a:xfrm>
            <a:prstGeom prst="flowChartMagneticDisk">
              <a:avLst/>
            </a:prstGeom>
            <a:gradFill rotWithShape="0">
              <a:gsLst>
                <a:gs pos="0">
                  <a:srgbClr val="f8f8f8"/>
                </a:gs>
                <a:gs pos="100000">
                  <a:srgbClr val="ff0000"/>
                </a:gs>
              </a:gsLst>
              <a:lin ang="5400000"/>
            </a:gra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572000" y="5562720"/>
              <a:ext cx="457200" cy="609480"/>
            </a:xfrm>
            <a:prstGeom prst="flowChartMagneticDisk">
              <a:avLst/>
            </a:prstGeom>
            <a:gradFill rotWithShape="0">
              <a:gsLst>
                <a:gs pos="0">
                  <a:srgbClr val="f8f8f8"/>
                </a:gs>
                <a:gs pos="100000">
                  <a:srgbClr val="ffcc99"/>
                </a:gs>
              </a:gsLst>
              <a:lin ang="5400000"/>
            </a:gradFill>
            <a:ln w="3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181480" y="5562720"/>
              <a:ext cx="457200" cy="609480"/>
            </a:xfrm>
            <a:prstGeom prst="flowChartMagneticDisk">
              <a:avLst/>
            </a:prstGeom>
            <a:gradFill rotWithShape="0">
              <a:gsLst>
                <a:gs pos="0">
                  <a:srgbClr val="f8f8f8"/>
                </a:gs>
                <a:gs pos="100000">
                  <a:srgbClr val="ffccff"/>
                </a:gs>
              </a:gsLst>
              <a:lin ang="5400000"/>
            </a:gradFill>
            <a:ln w="324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791320" y="5562720"/>
              <a:ext cx="457200" cy="609480"/>
            </a:xfrm>
            <a:prstGeom prst="flowChartMagneticDisk">
              <a:avLst/>
            </a:prstGeom>
            <a:gradFill rotWithShape="0">
              <a:gsLst>
                <a:gs pos="0">
                  <a:srgbClr val="f8f8f8"/>
                </a:gs>
                <a:gs pos="100000">
                  <a:srgbClr val="00ffff"/>
                </a:gs>
              </a:gsLst>
              <a:lin ang="5400000"/>
            </a:gradFill>
            <a:ln w="324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400800" y="5562720"/>
              <a:ext cx="457200" cy="609480"/>
            </a:xfrm>
            <a:prstGeom prst="flowChartMagneticDisk">
              <a:avLst/>
            </a:prstGeom>
            <a:gradFill rotWithShape="0">
              <a:gsLst>
                <a:gs pos="0">
                  <a:srgbClr val="f8f8f8"/>
                </a:gs>
                <a:gs pos="100000">
                  <a:srgbClr val="00ff00"/>
                </a:gs>
              </a:gsLst>
              <a:lin ang="5400000"/>
            </a:gradFill>
            <a:ln w="32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010280" y="5562720"/>
              <a:ext cx="500040" cy="609480"/>
            </a:xfrm>
            <a:prstGeom prst="flowChartMagneticDisk">
              <a:avLst/>
            </a:prstGeom>
            <a:gradFill rotWithShape="0">
              <a:gsLst>
                <a:gs pos="0">
                  <a:srgbClr val="f8f8f8"/>
                </a:gs>
                <a:gs pos="100000">
                  <a:srgbClr val="ff7c80"/>
                </a:gs>
              </a:gsLst>
              <a:lin ang="5400000"/>
            </a:gradFill>
            <a:ln w="324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>
              <a:endCxn id="135" idx="1"/>
            </p:cNvCxnSpPr>
            <p:nvPr/>
          </p:nvCxnSpPr>
          <p:spPr>
            <a:xfrm>
              <a:off x="5029200" y="4572000"/>
              <a:ext cx="2232720" cy="991440"/>
            </a:xfrm>
            <a:prstGeom prst="curvedConnector2">
              <a:avLst/>
            </a:prstGeom>
            <a:ln w="25560">
              <a:solidFill>
                <a:srgbClr val="ff7c80"/>
              </a:solidFill>
              <a:miter/>
              <a:tailEnd len="lg" type="triangle" w="med"/>
            </a:ln>
          </p:spPr>
        </p:cxnSp>
        <p:cxnSp>
          <p:nvCxnSpPr>
            <p:cNvPr id="137" name=""/>
            <p:cNvCxnSpPr>
              <a:endCxn id="134" idx="1"/>
            </p:cNvCxnSpPr>
            <p:nvPr/>
          </p:nvCxnSpPr>
          <p:spPr>
            <a:xfrm>
              <a:off x="5028840" y="4648320"/>
              <a:ext cx="1600920" cy="915120"/>
            </a:xfrm>
            <a:prstGeom prst="curvedConnector2">
              <a:avLst/>
            </a:prstGeom>
            <a:ln w="25560">
              <a:solidFill>
                <a:srgbClr val="00ff00"/>
              </a:solidFill>
              <a:miter/>
              <a:tailEnd len="lg" type="triangle" w="med"/>
            </a:ln>
          </p:spPr>
        </p:cxnSp>
        <p:cxnSp>
          <p:nvCxnSpPr>
            <p:cNvPr id="138" name=""/>
            <p:cNvCxnSpPr>
              <a:endCxn id="133" idx="1"/>
            </p:cNvCxnSpPr>
            <p:nvPr/>
          </p:nvCxnSpPr>
          <p:spPr>
            <a:xfrm>
              <a:off x="5029200" y="4723920"/>
              <a:ext cx="991440" cy="839160"/>
            </a:xfrm>
            <a:prstGeom prst="curvedConnector2">
              <a:avLst/>
            </a:prstGeom>
            <a:ln w="25560">
              <a:solidFill>
                <a:srgbClr val="00ffff"/>
              </a:solidFill>
              <a:miter/>
              <a:tailEnd len="lg" type="triangle" w="med"/>
            </a:ln>
          </p:spPr>
        </p:cxnSp>
        <p:cxnSp>
          <p:nvCxnSpPr>
            <p:cNvPr id="139" name=""/>
            <p:cNvCxnSpPr/>
            <p:nvPr/>
          </p:nvCxnSpPr>
          <p:spPr>
            <a:xfrm flipH="1" rot="16200000">
              <a:off x="4533120" y="4838400"/>
              <a:ext cx="915120" cy="686520"/>
            </a:xfrm>
            <a:prstGeom prst="curvedConnector5">
              <a:avLst>
                <a:gd name="adj1" fmla="val 49980"/>
                <a:gd name="adj2" fmla="val 50000"/>
                <a:gd name="adj3" fmla="val 49980"/>
              </a:avLst>
            </a:prstGeom>
            <a:ln w="25560">
              <a:solidFill>
                <a:srgbClr val="ff99cc"/>
              </a:solidFill>
              <a:miter/>
              <a:tailEnd len="lg" type="triangle" w="med"/>
            </a:ln>
          </p:spPr>
        </p:cxnSp>
        <p:cxnSp>
          <p:nvCxnSpPr>
            <p:cNvPr id="140" name=""/>
            <p:cNvCxnSpPr/>
            <p:nvPr/>
          </p:nvCxnSpPr>
          <p:spPr>
            <a:xfrm flipH="1" rot="16200000">
              <a:off x="4227840" y="4990680"/>
              <a:ext cx="839160" cy="30564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25560">
              <a:solidFill>
                <a:srgbClr val="ff9900"/>
              </a:solidFill>
              <a:miter/>
              <a:tailEnd len="lg" type="triangle" w="med"/>
            </a:ln>
          </p:spPr>
        </p:cxnSp>
        <p:cxnSp>
          <p:nvCxnSpPr>
            <p:cNvPr id="141" name=""/>
            <p:cNvCxnSpPr/>
            <p:nvPr/>
          </p:nvCxnSpPr>
          <p:spPr>
            <a:xfrm rot="5400000">
              <a:off x="3885840" y="5105160"/>
              <a:ext cx="839160" cy="7668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25560">
              <a:solidFill>
                <a:srgbClr val="ff0000"/>
              </a:solidFill>
              <a:miter/>
              <a:tailEnd len="lg" type="triangle" w="med"/>
            </a:ln>
          </p:spPr>
        </p:cxnSp>
        <p:cxnSp>
          <p:nvCxnSpPr>
            <p:cNvPr id="142" name=""/>
            <p:cNvCxnSpPr/>
            <p:nvPr/>
          </p:nvCxnSpPr>
          <p:spPr>
            <a:xfrm rot="5400000">
              <a:off x="3466440" y="4838400"/>
              <a:ext cx="839160" cy="610560"/>
            </a:xfrm>
            <a:prstGeom prst="curvedConnector5">
              <a:avLst>
                <a:gd name="adj1" fmla="val 50000"/>
                <a:gd name="adj2" fmla="val 49970"/>
                <a:gd name="adj3" fmla="val 50000"/>
              </a:avLst>
            </a:prstGeom>
            <a:ln w="25560">
              <a:solidFill>
                <a:srgbClr val="ffff99"/>
              </a:solidFill>
              <a:miter/>
              <a:tailEnd len="lg" type="triangle" w="med"/>
            </a:ln>
          </p:spPr>
        </p:cxnSp>
        <p:cxnSp>
          <p:nvCxnSpPr>
            <p:cNvPr id="143" name=""/>
            <p:cNvCxnSpPr>
              <a:endCxn id="128" idx="1"/>
            </p:cNvCxnSpPr>
            <p:nvPr/>
          </p:nvCxnSpPr>
          <p:spPr>
            <a:xfrm flipV="1" rot="10800000">
              <a:off x="2971080" y="4799520"/>
              <a:ext cx="838800" cy="762840"/>
            </a:xfrm>
            <a:prstGeom prst="curvedConnector2">
              <a:avLst/>
            </a:prstGeom>
            <a:ln w="25560">
              <a:solidFill>
                <a:srgbClr val="ccccff"/>
              </a:solidFill>
              <a:miter/>
              <a:tailEnd len="lg" type="triangle" w="med"/>
            </a:ln>
          </p:spPr>
        </p:cxnSp>
        <p:cxnSp>
          <p:nvCxnSpPr>
            <p:cNvPr id="144" name=""/>
            <p:cNvCxnSpPr>
              <a:endCxn id="127" idx="1"/>
            </p:cNvCxnSpPr>
            <p:nvPr/>
          </p:nvCxnSpPr>
          <p:spPr>
            <a:xfrm flipV="1" rot="10800000">
              <a:off x="2361600" y="4723200"/>
              <a:ext cx="1224720" cy="839160"/>
            </a:xfrm>
            <a:prstGeom prst="curvedConnector2">
              <a:avLst/>
            </a:prstGeom>
            <a:ln w="25560">
              <a:solidFill>
                <a:srgbClr val="993366"/>
              </a:solidFill>
              <a:miter/>
              <a:tailEnd len="lg" type="triangle" w="med"/>
            </a:ln>
          </p:spPr>
        </p:cxnSp>
        <p:cxnSp>
          <p:nvCxnSpPr>
            <p:cNvPr id="145" name=""/>
            <p:cNvCxnSpPr>
              <a:endCxn id="126" idx="1"/>
            </p:cNvCxnSpPr>
            <p:nvPr/>
          </p:nvCxnSpPr>
          <p:spPr>
            <a:xfrm flipV="1" rot="10800000">
              <a:off x="1751760" y="4647960"/>
              <a:ext cx="1758240" cy="915120"/>
            </a:xfrm>
            <a:prstGeom prst="curvedConnector2">
              <a:avLst/>
            </a:prstGeom>
            <a:ln w="25560">
              <a:solidFill>
                <a:srgbClr val="ff9900"/>
              </a:solidFill>
              <a:miter/>
              <a:tailEnd len="lg" type="triangle" w="med"/>
            </a:ln>
          </p:spPr>
        </p:cxnSp>
        <p:sp>
          <p:nvSpPr>
            <p:cNvPr id="146" name=""/>
            <p:cNvSpPr/>
            <p:nvPr/>
          </p:nvSpPr>
          <p:spPr>
            <a:xfrm>
              <a:off x="187200" y="5486400"/>
              <a:ext cx="12718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DIN-Bold"/>
                </a:rPr>
                <a:t>Custom Subse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3124080" y="2711520"/>
            <a:ext cx="4996080" cy="1947960"/>
            <a:chOff x="3124080" y="2711520"/>
            <a:chExt cx="4996080" cy="1947960"/>
          </a:xfrm>
        </p:grpSpPr>
        <p:sp>
          <p:nvSpPr>
            <p:cNvPr id="148" name=""/>
            <p:cNvSpPr/>
            <p:nvPr/>
          </p:nvSpPr>
          <p:spPr>
            <a:xfrm>
              <a:off x="3124080" y="2743200"/>
              <a:ext cx="238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DIN-Black"/>
                </a:rPr>
                <a:t>Metathesauru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524560" y="2711520"/>
              <a:ext cx="2595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DIN-Black"/>
                </a:rPr>
                <a:t>Authoritative Classification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0" name=""/>
            <p:cNvGrpSpPr/>
            <p:nvPr/>
          </p:nvGrpSpPr>
          <p:grpSpPr>
            <a:xfrm>
              <a:off x="3738600" y="3359160"/>
              <a:ext cx="1143000" cy="1270080"/>
              <a:chOff x="3738600" y="3359160"/>
              <a:chExt cx="1143000" cy="1270080"/>
            </a:xfrm>
          </p:grpSpPr>
          <p:sp>
            <p:nvSpPr>
              <p:cNvPr id="151" name=""/>
              <p:cNvSpPr/>
              <p:nvPr/>
            </p:nvSpPr>
            <p:spPr>
              <a:xfrm>
                <a:off x="3738600" y="3359160"/>
                <a:ext cx="1143000" cy="1270080"/>
              </a:xfrm>
              <a:prstGeom prst="rect">
                <a:avLst/>
              </a:prstGeom>
              <a:solidFill>
                <a:srgbClr val="eaeaea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2" name=""/>
              <p:cNvGrpSpPr/>
              <p:nvPr/>
            </p:nvGrpSpPr>
            <p:grpSpPr>
              <a:xfrm>
                <a:off x="3821040" y="3481560"/>
                <a:ext cx="989280" cy="1041480"/>
                <a:chOff x="3821040" y="3481560"/>
                <a:chExt cx="989280" cy="1041480"/>
              </a:xfrm>
            </p:grpSpPr>
            <p:sp>
              <p:nvSpPr>
                <p:cNvPr id="153" name=""/>
                <p:cNvSpPr/>
                <p:nvPr/>
              </p:nvSpPr>
              <p:spPr>
                <a:xfrm>
                  <a:off x="4124520" y="3637080"/>
                  <a:ext cx="109440" cy="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4538880" y="3637080"/>
                  <a:ext cx="109440" cy="0"/>
                </a:xfrm>
                <a:prstGeom prst="line">
                  <a:avLst/>
                </a:prstGeom>
                <a:ln w="38160">
                  <a:solidFill>
                    <a:srgbClr val="99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55" name=""/>
                <p:cNvGrpSpPr/>
                <p:nvPr/>
              </p:nvGrpSpPr>
              <p:grpSpPr>
                <a:xfrm>
                  <a:off x="3821040" y="3481560"/>
                  <a:ext cx="989280" cy="1041480"/>
                  <a:chOff x="3821040" y="3481560"/>
                  <a:chExt cx="989280" cy="1041480"/>
                </a:xfrm>
              </p:grpSpPr>
              <p:grpSp>
                <p:nvGrpSpPr>
                  <p:cNvPr id="156" name=""/>
                  <p:cNvGrpSpPr/>
                  <p:nvPr/>
                </p:nvGrpSpPr>
                <p:grpSpPr>
                  <a:xfrm>
                    <a:off x="3826080" y="3880080"/>
                    <a:ext cx="984240" cy="0"/>
                    <a:chOff x="3826080" y="3880080"/>
                    <a:chExt cx="984240" cy="0"/>
                  </a:xfrm>
                </p:grpSpPr>
                <p:sp>
                  <p:nvSpPr>
                    <p:cNvPr id="157" name=""/>
                    <p:cNvSpPr/>
                    <p:nvPr/>
                  </p:nvSpPr>
                  <p:spPr>
                    <a:xfrm>
                      <a:off x="4127760" y="3880080"/>
                      <a:ext cx="68256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prstDash val="lg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8" name=""/>
                    <p:cNvSpPr/>
                    <p:nvPr/>
                  </p:nvSpPr>
                  <p:spPr>
                    <a:xfrm>
                      <a:off x="3826080" y="3880080"/>
                      <a:ext cx="216000" cy="0"/>
                    </a:xfrm>
                    <a:prstGeom prst="line">
                      <a:avLst/>
                    </a:prstGeom>
                    <a:ln w="9360">
                      <a:solidFill>
                        <a:srgbClr val="0066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59" name=""/>
                  <p:cNvSpPr/>
                  <p:nvPr/>
                </p:nvSpPr>
                <p:spPr>
                  <a:xfrm>
                    <a:off x="4335480" y="3637080"/>
                    <a:ext cx="109440" cy="0"/>
                  </a:xfrm>
                  <a:prstGeom prst="line">
                    <a:avLst/>
                  </a:prstGeom>
                  <a:ln w="3816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0" name=""/>
                  <p:cNvSpPr/>
                  <p:nvPr/>
                </p:nvSpPr>
                <p:spPr>
                  <a:xfrm>
                    <a:off x="4137120" y="3578400"/>
                    <a:ext cx="74520" cy="74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61" name=""/>
                  <p:cNvGrpSpPr/>
                  <p:nvPr/>
                </p:nvGrpSpPr>
                <p:grpSpPr>
                  <a:xfrm>
                    <a:off x="3821040" y="3640320"/>
                    <a:ext cx="984240" cy="0"/>
                    <a:chOff x="3821040" y="3640320"/>
                    <a:chExt cx="984240" cy="0"/>
                  </a:xfrm>
                </p:grpSpPr>
                <p:sp>
                  <p:nvSpPr>
                    <p:cNvPr id="162" name=""/>
                    <p:cNvSpPr/>
                    <p:nvPr/>
                  </p:nvSpPr>
                  <p:spPr>
                    <a:xfrm>
                      <a:off x="4122720" y="3640320"/>
                      <a:ext cx="68256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prstDash val="lg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3" name=""/>
                    <p:cNvSpPr/>
                    <p:nvPr/>
                  </p:nvSpPr>
                  <p:spPr>
                    <a:xfrm>
                      <a:off x="3821040" y="3640320"/>
                      <a:ext cx="216000" cy="0"/>
                    </a:xfrm>
                    <a:prstGeom prst="line">
                      <a:avLst/>
                    </a:prstGeom>
                    <a:ln w="9360">
                      <a:solidFill>
                        <a:srgbClr val="0066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64" name=""/>
                  <p:cNvGrpSpPr/>
                  <p:nvPr/>
                </p:nvGrpSpPr>
                <p:grpSpPr>
                  <a:xfrm>
                    <a:off x="3826080" y="3481560"/>
                    <a:ext cx="984240" cy="0"/>
                    <a:chOff x="3826080" y="3481560"/>
                    <a:chExt cx="984240" cy="0"/>
                  </a:xfrm>
                </p:grpSpPr>
                <p:sp>
                  <p:nvSpPr>
                    <p:cNvPr id="165" name=""/>
                    <p:cNvSpPr/>
                    <p:nvPr/>
                  </p:nvSpPr>
                  <p:spPr>
                    <a:xfrm>
                      <a:off x="4127760" y="3481560"/>
                      <a:ext cx="68256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prstDash val="lg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6" name=""/>
                    <p:cNvSpPr/>
                    <p:nvPr/>
                  </p:nvSpPr>
                  <p:spPr>
                    <a:xfrm>
                      <a:off x="3826080" y="3481560"/>
                      <a:ext cx="216000" cy="0"/>
                    </a:xfrm>
                    <a:prstGeom prst="line">
                      <a:avLst/>
                    </a:prstGeom>
                    <a:ln w="9360">
                      <a:solidFill>
                        <a:srgbClr val="0066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67" name=""/>
                  <p:cNvGrpSpPr/>
                  <p:nvPr/>
                </p:nvGrpSpPr>
                <p:grpSpPr>
                  <a:xfrm>
                    <a:off x="3826080" y="3559320"/>
                    <a:ext cx="984240" cy="0"/>
                    <a:chOff x="3826080" y="3559320"/>
                    <a:chExt cx="984240" cy="0"/>
                  </a:xfrm>
                </p:grpSpPr>
                <p:sp>
                  <p:nvSpPr>
                    <p:cNvPr id="168" name=""/>
                    <p:cNvSpPr/>
                    <p:nvPr/>
                  </p:nvSpPr>
                  <p:spPr>
                    <a:xfrm>
                      <a:off x="4127760" y="3559320"/>
                      <a:ext cx="68256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prstDash val="lg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9" name=""/>
                    <p:cNvSpPr/>
                    <p:nvPr/>
                  </p:nvSpPr>
                  <p:spPr>
                    <a:xfrm>
                      <a:off x="3826080" y="3559320"/>
                      <a:ext cx="216000" cy="0"/>
                    </a:xfrm>
                    <a:prstGeom prst="line">
                      <a:avLst/>
                    </a:prstGeom>
                    <a:ln w="9360">
                      <a:solidFill>
                        <a:srgbClr val="0066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70" name=""/>
                  <p:cNvGrpSpPr/>
                  <p:nvPr/>
                </p:nvGrpSpPr>
                <p:grpSpPr>
                  <a:xfrm>
                    <a:off x="3826080" y="3800520"/>
                    <a:ext cx="984240" cy="0"/>
                    <a:chOff x="3826080" y="3800520"/>
                    <a:chExt cx="984240" cy="0"/>
                  </a:xfrm>
                </p:grpSpPr>
                <p:sp>
                  <p:nvSpPr>
                    <p:cNvPr id="171" name=""/>
                    <p:cNvSpPr/>
                    <p:nvPr/>
                  </p:nvSpPr>
                  <p:spPr>
                    <a:xfrm>
                      <a:off x="4127760" y="3800520"/>
                      <a:ext cx="68256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prstDash val="lg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2" name=""/>
                    <p:cNvSpPr/>
                    <p:nvPr/>
                  </p:nvSpPr>
                  <p:spPr>
                    <a:xfrm>
                      <a:off x="3826080" y="3800520"/>
                      <a:ext cx="216000" cy="0"/>
                    </a:xfrm>
                    <a:prstGeom prst="line">
                      <a:avLst/>
                    </a:prstGeom>
                    <a:ln w="9360">
                      <a:solidFill>
                        <a:srgbClr val="0066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3826080" y="3961080"/>
                    <a:ext cx="984240" cy="0"/>
                    <a:chOff x="3826080" y="3961080"/>
                    <a:chExt cx="984240" cy="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4127760" y="3961080"/>
                      <a:ext cx="68256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prstDash val="lg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5" name=""/>
                    <p:cNvSpPr/>
                    <p:nvPr/>
                  </p:nvSpPr>
                  <p:spPr>
                    <a:xfrm>
                      <a:off x="3826080" y="3961080"/>
                      <a:ext cx="216000" cy="0"/>
                    </a:xfrm>
                    <a:prstGeom prst="line">
                      <a:avLst/>
                    </a:prstGeom>
                    <a:ln w="9360">
                      <a:solidFill>
                        <a:srgbClr val="0066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76" name=""/>
                  <p:cNvGrpSpPr/>
                  <p:nvPr/>
                </p:nvGrpSpPr>
                <p:grpSpPr>
                  <a:xfrm>
                    <a:off x="3826080" y="4040280"/>
                    <a:ext cx="984240" cy="0"/>
                    <a:chOff x="3826080" y="4040280"/>
                    <a:chExt cx="984240" cy="0"/>
                  </a:xfrm>
                </p:grpSpPr>
                <p:sp>
                  <p:nvSpPr>
                    <p:cNvPr id="177" name=""/>
                    <p:cNvSpPr/>
                    <p:nvPr/>
                  </p:nvSpPr>
                  <p:spPr>
                    <a:xfrm>
                      <a:off x="4127760" y="4040280"/>
                      <a:ext cx="68256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prstDash val="lg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8" name=""/>
                    <p:cNvSpPr/>
                    <p:nvPr/>
                  </p:nvSpPr>
                  <p:spPr>
                    <a:xfrm>
                      <a:off x="3826080" y="4040280"/>
                      <a:ext cx="216000" cy="0"/>
                    </a:xfrm>
                    <a:prstGeom prst="line">
                      <a:avLst/>
                    </a:prstGeom>
                    <a:ln w="9360">
                      <a:solidFill>
                        <a:srgbClr val="0066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79" name=""/>
                  <p:cNvGrpSpPr/>
                  <p:nvPr/>
                </p:nvGrpSpPr>
                <p:grpSpPr>
                  <a:xfrm>
                    <a:off x="3826080" y="4121280"/>
                    <a:ext cx="984240" cy="0"/>
                    <a:chOff x="3826080" y="4121280"/>
                    <a:chExt cx="984240" cy="0"/>
                  </a:xfrm>
                </p:grpSpPr>
                <p:sp>
                  <p:nvSpPr>
                    <p:cNvPr id="180" name=""/>
                    <p:cNvSpPr/>
                    <p:nvPr/>
                  </p:nvSpPr>
                  <p:spPr>
                    <a:xfrm>
                      <a:off x="4127760" y="4121280"/>
                      <a:ext cx="68256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prstDash val="lg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1" name=""/>
                    <p:cNvSpPr/>
                    <p:nvPr/>
                  </p:nvSpPr>
                  <p:spPr>
                    <a:xfrm>
                      <a:off x="3826080" y="4121280"/>
                      <a:ext cx="216000" cy="0"/>
                    </a:xfrm>
                    <a:prstGeom prst="line">
                      <a:avLst/>
                    </a:prstGeom>
                    <a:ln w="9360">
                      <a:solidFill>
                        <a:srgbClr val="0066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82" name=""/>
                  <p:cNvSpPr/>
                  <p:nvPr/>
                </p:nvSpPr>
                <p:spPr>
                  <a:xfrm>
                    <a:off x="4127760" y="4200840"/>
                    <a:ext cx="6825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lg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3" name=""/>
                  <p:cNvSpPr/>
                  <p:nvPr/>
                </p:nvSpPr>
                <p:spPr>
                  <a:xfrm>
                    <a:off x="3826080" y="4200840"/>
                    <a:ext cx="215640" cy="0"/>
                  </a:xfrm>
                  <a:prstGeom prst="line">
                    <a:avLst/>
                  </a:prstGeom>
                  <a:ln w="9360">
                    <a:solidFill>
                      <a:srgbClr val="0066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84" name=""/>
                  <p:cNvGrpSpPr/>
                  <p:nvPr/>
                </p:nvGrpSpPr>
                <p:grpSpPr>
                  <a:xfrm>
                    <a:off x="3826080" y="3719520"/>
                    <a:ext cx="984240" cy="0"/>
                    <a:chOff x="3826080" y="3719520"/>
                    <a:chExt cx="984240" cy="0"/>
                  </a:xfrm>
                </p:grpSpPr>
                <p:sp>
                  <p:nvSpPr>
                    <p:cNvPr id="185" name=""/>
                    <p:cNvSpPr/>
                    <p:nvPr/>
                  </p:nvSpPr>
                  <p:spPr>
                    <a:xfrm>
                      <a:off x="4127760" y="3719520"/>
                      <a:ext cx="68256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prstDash val="lg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6" name=""/>
                    <p:cNvSpPr/>
                    <p:nvPr/>
                  </p:nvSpPr>
                  <p:spPr>
                    <a:xfrm>
                      <a:off x="3826080" y="3719520"/>
                      <a:ext cx="216000" cy="0"/>
                    </a:xfrm>
                    <a:prstGeom prst="line">
                      <a:avLst/>
                    </a:prstGeom>
                    <a:ln w="9360">
                      <a:solidFill>
                        <a:srgbClr val="0066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87" name=""/>
                  <p:cNvGrpSpPr/>
                  <p:nvPr/>
                </p:nvGrpSpPr>
                <p:grpSpPr>
                  <a:xfrm>
                    <a:off x="3826080" y="4281840"/>
                    <a:ext cx="984240" cy="0"/>
                    <a:chOff x="3826080" y="4281840"/>
                    <a:chExt cx="984240" cy="0"/>
                  </a:xfrm>
                </p:grpSpPr>
                <p:sp>
                  <p:nvSpPr>
                    <p:cNvPr id="188" name=""/>
                    <p:cNvSpPr/>
                    <p:nvPr/>
                  </p:nvSpPr>
                  <p:spPr>
                    <a:xfrm>
                      <a:off x="4127760" y="4281840"/>
                      <a:ext cx="68256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prstDash val="lg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9" name=""/>
                    <p:cNvSpPr/>
                    <p:nvPr/>
                  </p:nvSpPr>
                  <p:spPr>
                    <a:xfrm>
                      <a:off x="3826080" y="4281840"/>
                      <a:ext cx="216000" cy="0"/>
                    </a:xfrm>
                    <a:prstGeom prst="line">
                      <a:avLst/>
                    </a:prstGeom>
                    <a:ln w="9360">
                      <a:solidFill>
                        <a:srgbClr val="0066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90" name=""/>
                  <p:cNvGrpSpPr/>
                  <p:nvPr/>
                </p:nvGrpSpPr>
                <p:grpSpPr>
                  <a:xfrm>
                    <a:off x="3826080" y="4361040"/>
                    <a:ext cx="984240" cy="0"/>
                    <a:chOff x="3826080" y="4361040"/>
                    <a:chExt cx="984240" cy="0"/>
                  </a:xfrm>
                </p:grpSpPr>
                <p:sp>
                  <p:nvSpPr>
                    <p:cNvPr id="191" name=""/>
                    <p:cNvSpPr/>
                    <p:nvPr/>
                  </p:nvSpPr>
                  <p:spPr>
                    <a:xfrm>
                      <a:off x="4127760" y="4361040"/>
                      <a:ext cx="68256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prstDash val="lg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2" name=""/>
                    <p:cNvSpPr/>
                    <p:nvPr/>
                  </p:nvSpPr>
                  <p:spPr>
                    <a:xfrm>
                      <a:off x="3826080" y="4361040"/>
                      <a:ext cx="216000" cy="0"/>
                    </a:xfrm>
                    <a:prstGeom prst="line">
                      <a:avLst/>
                    </a:prstGeom>
                    <a:ln w="9360">
                      <a:solidFill>
                        <a:srgbClr val="0066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93" name=""/>
                  <p:cNvGrpSpPr/>
                  <p:nvPr/>
                </p:nvGrpSpPr>
                <p:grpSpPr>
                  <a:xfrm>
                    <a:off x="3826080" y="4523040"/>
                    <a:ext cx="984240" cy="0"/>
                    <a:chOff x="3826080" y="4523040"/>
                    <a:chExt cx="984240" cy="0"/>
                  </a:xfrm>
                </p:grpSpPr>
                <p:sp>
                  <p:nvSpPr>
                    <p:cNvPr id="194" name=""/>
                    <p:cNvSpPr/>
                    <p:nvPr/>
                  </p:nvSpPr>
                  <p:spPr>
                    <a:xfrm>
                      <a:off x="4127760" y="4523040"/>
                      <a:ext cx="68256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prstDash val="lg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5" name=""/>
                    <p:cNvSpPr/>
                    <p:nvPr/>
                  </p:nvSpPr>
                  <p:spPr>
                    <a:xfrm>
                      <a:off x="3826080" y="4523040"/>
                      <a:ext cx="216000" cy="0"/>
                    </a:xfrm>
                    <a:prstGeom prst="line">
                      <a:avLst/>
                    </a:prstGeom>
                    <a:ln w="9360">
                      <a:solidFill>
                        <a:srgbClr val="0066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96" name=""/>
                  <p:cNvGrpSpPr/>
                  <p:nvPr/>
                </p:nvGrpSpPr>
                <p:grpSpPr>
                  <a:xfrm>
                    <a:off x="3826080" y="4442040"/>
                    <a:ext cx="984240" cy="0"/>
                    <a:chOff x="3826080" y="4442040"/>
                    <a:chExt cx="984240" cy="0"/>
                  </a:xfrm>
                </p:grpSpPr>
                <p:sp>
                  <p:nvSpPr>
                    <p:cNvPr id="197" name=""/>
                    <p:cNvSpPr/>
                    <p:nvPr/>
                  </p:nvSpPr>
                  <p:spPr>
                    <a:xfrm>
                      <a:off x="4127760" y="4442040"/>
                      <a:ext cx="68256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prstDash val="lg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8" name=""/>
                    <p:cNvSpPr/>
                    <p:nvPr/>
                  </p:nvSpPr>
                  <p:spPr>
                    <a:xfrm>
                      <a:off x="3826080" y="4442040"/>
                      <a:ext cx="216000" cy="0"/>
                    </a:xfrm>
                    <a:prstGeom prst="line">
                      <a:avLst/>
                    </a:prstGeom>
                    <a:ln w="9360">
                      <a:solidFill>
                        <a:srgbClr val="0066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99" name=""/>
                  <p:cNvSpPr/>
                  <p:nvPr/>
                </p:nvSpPr>
                <p:spPr>
                  <a:xfrm>
                    <a:off x="3838680" y="3633840"/>
                    <a:ext cx="216000" cy="0"/>
                  </a:xfrm>
                  <a:prstGeom prst="line">
                    <a:avLst/>
                  </a:prstGeom>
                  <a:ln w="38160">
                    <a:solidFill>
                      <a:srgbClr val="0066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0" name=""/>
                  <p:cNvSpPr/>
                  <p:nvPr/>
                </p:nvSpPr>
                <p:spPr>
                  <a:xfrm>
                    <a:off x="4546800" y="3564000"/>
                    <a:ext cx="74520" cy="74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8080" bIns="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843360" y="3540240"/>
                    <a:ext cx="181080" cy="85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8880" bIns="388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cxnSp>
          <p:nvCxnSpPr>
            <p:cNvPr id="202" name=""/>
            <p:cNvCxnSpPr/>
            <p:nvPr/>
          </p:nvCxnSpPr>
          <p:spPr>
            <a:xfrm flipV="1">
              <a:off x="4360680" y="3199680"/>
              <a:ext cx="1888200" cy="361080"/>
            </a:xfrm>
            <a:prstGeom prst="curvedConnector5">
              <a:avLst>
                <a:gd name="adj1" fmla="val 49942"/>
                <a:gd name="adj2" fmla="val 50000"/>
                <a:gd name="adj3" fmla="val 49942"/>
              </a:avLst>
            </a:prstGeom>
            <a:ln w="25560">
              <a:solidFill>
                <a:srgbClr val="993366"/>
              </a:solidFill>
              <a:miter/>
              <a:headEnd len="lg" type="triangle" w="med"/>
            </a:ln>
          </p:spPr>
        </p:cxnSp>
        <p:cxnSp>
          <p:nvCxnSpPr>
            <p:cNvPr id="203" name=""/>
            <p:cNvCxnSpPr/>
            <p:nvPr/>
          </p:nvCxnSpPr>
          <p:spPr>
            <a:xfrm>
              <a:off x="4808520" y="3733920"/>
              <a:ext cx="1355040" cy="473760"/>
            </a:xfrm>
            <a:prstGeom prst="curvedConnector5">
              <a:avLst>
                <a:gd name="adj1" fmla="val 49933"/>
                <a:gd name="adj2" fmla="val 49961"/>
                <a:gd name="adj3" fmla="val 49933"/>
              </a:avLst>
            </a:prstGeom>
            <a:ln w="25560">
              <a:solidFill>
                <a:srgbClr val="ff9900"/>
              </a:solidFill>
              <a:miter/>
              <a:headEnd len="lg" type="triangle" w="med"/>
            </a:ln>
          </p:spPr>
        </p:cxnSp>
        <p:cxnSp>
          <p:nvCxnSpPr>
            <p:cNvPr id="204" name=""/>
            <p:cNvCxnSpPr/>
            <p:nvPr/>
          </p:nvCxnSpPr>
          <p:spPr>
            <a:xfrm flipV="1">
              <a:off x="4779720" y="3639600"/>
              <a:ext cx="1518120" cy="23040"/>
            </a:xfrm>
            <a:prstGeom prst="curvedConnector5">
              <a:avLst>
                <a:gd name="adj1" fmla="val 50000"/>
                <a:gd name="adj2" fmla="val 49206"/>
                <a:gd name="adj3" fmla="val 50000"/>
              </a:avLst>
            </a:prstGeom>
            <a:ln w="25560">
              <a:solidFill>
                <a:srgbClr val="ff0000"/>
              </a:solidFill>
              <a:miter/>
              <a:headEnd len="lg" type="triangle" w="med"/>
            </a:ln>
          </p:spPr>
        </p:cxnSp>
        <p:grpSp>
          <p:nvGrpSpPr>
            <p:cNvPr id="205" name=""/>
            <p:cNvGrpSpPr/>
            <p:nvPr/>
          </p:nvGrpSpPr>
          <p:grpSpPr>
            <a:xfrm>
              <a:off x="6162840" y="3021120"/>
              <a:ext cx="1228680" cy="1638360"/>
              <a:chOff x="6162840" y="3021120"/>
              <a:chExt cx="1228680" cy="1638360"/>
            </a:xfrm>
          </p:grpSpPr>
          <p:sp>
            <p:nvSpPr>
              <p:cNvPr id="206" name=""/>
              <p:cNvSpPr/>
              <p:nvPr/>
            </p:nvSpPr>
            <p:spPr>
              <a:xfrm>
                <a:off x="6253200" y="3021120"/>
                <a:ext cx="930240" cy="906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CAS-R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7" name=""/>
              <p:cNvGrpSpPr/>
              <p:nvPr/>
            </p:nvGrpSpPr>
            <p:grpSpPr>
              <a:xfrm>
                <a:off x="6215040" y="3398760"/>
                <a:ext cx="930240" cy="906480"/>
                <a:chOff x="6215040" y="3398760"/>
                <a:chExt cx="930240" cy="906480"/>
              </a:xfrm>
            </p:grpSpPr>
            <p:sp>
              <p:nvSpPr>
                <p:cNvPr id="208" name=""/>
                <p:cNvSpPr/>
                <p:nvPr/>
              </p:nvSpPr>
              <p:spPr>
                <a:xfrm>
                  <a:off x="6359400" y="3417840"/>
                  <a:ext cx="55440" cy="6120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400" bIns="14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6359400" y="3514680"/>
                  <a:ext cx="55440" cy="6120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400" bIns="14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6498000" y="3618000"/>
                  <a:ext cx="55440" cy="6120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400" bIns="14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6498000" y="3721680"/>
                  <a:ext cx="55440" cy="6120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400" bIns="14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6359400" y="3740760"/>
                  <a:ext cx="55440" cy="6120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400" bIns="14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cxnSp>
              <p:nvCxnSpPr>
                <p:cNvPr id="213" name=""/>
                <p:cNvCxnSpPr>
                  <a:stCxn id="209" idx="2"/>
                  <a:endCxn id="210" idx="1"/>
                </p:cNvCxnSpPr>
                <p:nvPr/>
              </p:nvCxnSpPr>
              <p:spPr>
                <a:xfrm flipH="1" rot="16200000">
                  <a:off x="6404760" y="3557160"/>
                  <a:ext cx="73800" cy="111240"/>
                </a:xfrm>
                <a:prstGeom prst="bentConnector2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214" name=""/>
                <p:cNvCxnSpPr>
                  <a:stCxn id="209" idx="2"/>
                  <a:endCxn id="211" idx="1"/>
                </p:cNvCxnSpPr>
                <p:nvPr/>
              </p:nvCxnSpPr>
              <p:spPr>
                <a:xfrm flipH="1" rot="16200000">
                  <a:off x="6352920" y="3609000"/>
                  <a:ext cx="177480" cy="111240"/>
                </a:xfrm>
                <a:prstGeom prst="bentConnector2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</p:cxnSp>
            <p:sp>
              <p:nvSpPr>
                <p:cNvPr id="215" name=""/>
                <p:cNvSpPr/>
                <p:nvPr/>
              </p:nvSpPr>
              <p:spPr>
                <a:xfrm>
                  <a:off x="6481800" y="3456720"/>
                  <a:ext cx="2980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6481800" y="3553560"/>
                  <a:ext cx="2980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6606720" y="3650400"/>
                  <a:ext cx="2977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6606720" y="3708720"/>
                  <a:ext cx="2977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6488640" y="3786120"/>
                  <a:ext cx="2980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6215040" y="3398760"/>
                  <a:ext cx="930240" cy="90648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NLM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6297840" y="3608640"/>
                  <a:ext cx="55440" cy="61200"/>
                </a:xfrm>
                <a:prstGeom prst="rect">
                  <a:avLst/>
                </a:prstGeom>
                <a:solidFill>
                  <a:srgbClr val="ff33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400" bIns="14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6401880" y="3692520"/>
                  <a:ext cx="55440" cy="6120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400" bIns="14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cxnSp>
              <p:nvCxnSpPr>
                <p:cNvPr id="223" name=""/>
                <p:cNvCxnSpPr>
                  <a:stCxn id="221" idx="2"/>
                  <a:endCxn id="222" idx="1"/>
                </p:cNvCxnSpPr>
                <p:nvPr/>
              </p:nvCxnSpPr>
              <p:spPr>
                <a:xfrm flipH="1" rot="16200000">
                  <a:off x="6335640" y="3658320"/>
                  <a:ext cx="54360" cy="76680"/>
                </a:xfrm>
                <a:prstGeom prst="bentConnector2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</p:cxnSp>
            <p:sp>
              <p:nvSpPr>
                <p:cNvPr id="224" name=""/>
                <p:cNvSpPr/>
                <p:nvPr/>
              </p:nvSpPr>
              <p:spPr>
                <a:xfrm>
                  <a:off x="6517440" y="3718440"/>
                  <a:ext cx="29808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6403320" y="3772080"/>
                  <a:ext cx="55080" cy="6120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400" bIns="14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6348600" y="3568680"/>
                  <a:ext cx="65628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Benzene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7" name=""/>
              <p:cNvGrpSpPr/>
              <p:nvPr/>
            </p:nvGrpSpPr>
            <p:grpSpPr>
              <a:xfrm>
                <a:off x="6162840" y="3753000"/>
                <a:ext cx="930240" cy="906480"/>
                <a:chOff x="6162840" y="3753000"/>
                <a:chExt cx="930240" cy="906480"/>
              </a:xfrm>
            </p:grpSpPr>
            <p:sp>
              <p:nvSpPr>
                <p:cNvPr id="228" name=""/>
                <p:cNvSpPr/>
                <p:nvPr/>
              </p:nvSpPr>
              <p:spPr>
                <a:xfrm>
                  <a:off x="6306120" y="3795840"/>
                  <a:ext cx="55080" cy="6120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400" bIns="14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6428520" y="3834720"/>
                  <a:ext cx="2980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6429600" y="3810960"/>
                  <a:ext cx="2977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6306120" y="3892680"/>
                  <a:ext cx="55080" cy="6120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400" bIns="14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6444720" y="3996000"/>
                  <a:ext cx="55440" cy="6120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400" bIns="14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6444720" y="4099680"/>
                  <a:ext cx="55440" cy="6120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400" bIns="14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6306120" y="4164120"/>
                  <a:ext cx="55080" cy="6120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400" bIns="14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cxnSp>
              <p:nvCxnSpPr>
                <p:cNvPr id="235" name=""/>
                <p:cNvCxnSpPr>
                  <a:stCxn id="231" idx="2"/>
                  <a:endCxn id="232" idx="1"/>
                </p:cNvCxnSpPr>
                <p:nvPr/>
              </p:nvCxnSpPr>
              <p:spPr>
                <a:xfrm flipH="1" rot="16200000">
                  <a:off x="6351480" y="3934800"/>
                  <a:ext cx="73800" cy="111240"/>
                </a:xfrm>
                <a:prstGeom prst="bentConnector2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236" name=""/>
                <p:cNvCxnSpPr>
                  <a:stCxn id="231" idx="2"/>
                  <a:endCxn id="233" idx="1"/>
                </p:cNvCxnSpPr>
                <p:nvPr/>
              </p:nvCxnSpPr>
              <p:spPr>
                <a:xfrm flipH="1" rot="16200000">
                  <a:off x="6300000" y="3986640"/>
                  <a:ext cx="177120" cy="111240"/>
                </a:xfrm>
                <a:prstGeom prst="bentConnector2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</p:cxnSp>
            <p:sp>
              <p:nvSpPr>
                <p:cNvPr id="237" name=""/>
                <p:cNvSpPr/>
                <p:nvPr/>
              </p:nvSpPr>
              <p:spPr>
                <a:xfrm>
                  <a:off x="6428520" y="3931560"/>
                  <a:ext cx="2980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6553080" y="4028400"/>
                  <a:ext cx="2980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6553080" y="4131720"/>
                  <a:ext cx="2980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6435360" y="4209120"/>
                  <a:ext cx="2977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6307200" y="3868920"/>
                  <a:ext cx="55440" cy="6120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400" bIns="14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6445800" y="3972240"/>
                  <a:ext cx="55440" cy="6120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400" bIns="14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6445800" y="4075920"/>
                  <a:ext cx="55440" cy="6120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400" bIns="14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6307200" y="4140360"/>
                  <a:ext cx="55440" cy="6120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400" bIns="14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cxnSp>
              <p:nvCxnSpPr>
                <p:cNvPr id="245" name=""/>
                <p:cNvCxnSpPr>
                  <a:stCxn id="241" idx="2"/>
                  <a:endCxn id="242" idx="1"/>
                </p:cNvCxnSpPr>
                <p:nvPr/>
              </p:nvCxnSpPr>
              <p:spPr>
                <a:xfrm flipH="1" rot="16200000">
                  <a:off x="6352560" y="3911400"/>
                  <a:ext cx="73800" cy="111240"/>
                </a:xfrm>
                <a:prstGeom prst="bentConnector2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246" name=""/>
                <p:cNvCxnSpPr>
                  <a:stCxn id="241" idx="2"/>
                  <a:endCxn id="243" idx="1"/>
                </p:cNvCxnSpPr>
                <p:nvPr/>
              </p:nvCxnSpPr>
              <p:spPr>
                <a:xfrm flipH="1" rot="16200000">
                  <a:off x="6301080" y="3963240"/>
                  <a:ext cx="177120" cy="111240"/>
                </a:xfrm>
                <a:prstGeom prst="bentConnector2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</p:cxnSp>
            <p:sp>
              <p:nvSpPr>
                <p:cNvPr id="247" name=""/>
                <p:cNvSpPr/>
                <p:nvPr/>
              </p:nvSpPr>
              <p:spPr>
                <a:xfrm>
                  <a:off x="6429600" y="3907800"/>
                  <a:ext cx="2977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6554520" y="4004640"/>
                  <a:ext cx="2977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6554520" y="4107960"/>
                  <a:ext cx="2977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6436440" y="4185360"/>
                  <a:ext cx="2980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6245640" y="4027320"/>
                  <a:ext cx="55440" cy="61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400" bIns="14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6162840" y="3753000"/>
                  <a:ext cx="930240" cy="90648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Arial"/>
                    </a:rPr>
                    <a:t>Proprietary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Arial"/>
                    </a:rPr>
                    <a:t>Vocabulary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6349680" y="4092120"/>
                  <a:ext cx="55440" cy="61200"/>
                </a:xfrm>
                <a:prstGeom prst="rect">
                  <a:avLst/>
                </a:prstGeom>
                <a:solidFill>
                  <a:srgbClr val="ff99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400" bIns="14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6349680" y="4195080"/>
                  <a:ext cx="55440" cy="6120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400" bIns="14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>
                  <a:off x="6349680" y="4292280"/>
                  <a:ext cx="55440" cy="6120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400" bIns="14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6488280" y="4395600"/>
                  <a:ext cx="55440" cy="6120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400" bIns="14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6488280" y="4498920"/>
                  <a:ext cx="55440" cy="6120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400" bIns="14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349680" y="4563360"/>
                  <a:ext cx="55440" cy="6120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400" bIns="14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cxnSp>
              <p:nvCxnSpPr>
                <p:cNvPr id="259" name=""/>
                <p:cNvCxnSpPr>
                  <a:stCxn id="251" idx="2"/>
                  <a:endCxn id="253" idx="1"/>
                </p:cNvCxnSpPr>
                <p:nvPr/>
              </p:nvCxnSpPr>
              <p:spPr>
                <a:xfrm flipH="1" rot="16200000">
                  <a:off x="6293160" y="4067640"/>
                  <a:ext cx="35280" cy="76680"/>
                </a:xfrm>
                <a:prstGeom prst="bentConnector2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260" name=""/>
                <p:cNvCxnSpPr>
                  <a:stCxn id="251" idx="2"/>
                  <a:endCxn id="254" idx="1"/>
                </p:cNvCxnSpPr>
                <p:nvPr/>
              </p:nvCxnSpPr>
              <p:spPr>
                <a:xfrm flipH="1" rot="16200000">
                  <a:off x="6241320" y="4119120"/>
                  <a:ext cx="138600" cy="76680"/>
                </a:xfrm>
                <a:prstGeom prst="bentConnector2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261" name=""/>
                <p:cNvCxnSpPr>
                  <a:stCxn id="251" idx="2"/>
                  <a:endCxn id="255" idx="1"/>
                </p:cNvCxnSpPr>
                <p:nvPr/>
              </p:nvCxnSpPr>
              <p:spPr>
                <a:xfrm flipH="1" rot="16200000">
                  <a:off x="6193080" y="4167720"/>
                  <a:ext cx="235440" cy="76680"/>
                </a:xfrm>
                <a:prstGeom prst="bentConnector2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262" name=""/>
                <p:cNvCxnSpPr>
                  <a:stCxn id="251" idx="2"/>
                  <a:endCxn id="258" idx="1"/>
                </p:cNvCxnSpPr>
                <p:nvPr/>
              </p:nvCxnSpPr>
              <p:spPr>
                <a:xfrm flipH="1" rot="16200000">
                  <a:off x="6057360" y="4303440"/>
                  <a:ext cx="506880" cy="76680"/>
                </a:xfrm>
                <a:prstGeom prst="bentConnector2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263" name=""/>
                <p:cNvCxnSpPr>
                  <a:stCxn id="255" idx="2"/>
                  <a:endCxn id="256" idx="1"/>
                </p:cNvCxnSpPr>
                <p:nvPr/>
              </p:nvCxnSpPr>
              <p:spPr>
                <a:xfrm flipH="1" rot="16200000">
                  <a:off x="6395040" y="4334400"/>
                  <a:ext cx="73800" cy="111240"/>
                </a:xfrm>
                <a:prstGeom prst="bentConnector2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264" name=""/>
                <p:cNvCxnSpPr>
                  <a:stCxn id="255" idx="2"/>
                  <a:endCxn id="257" idx="1"/>
                </p:cNvCxnSpPr>
                <p:nvPr/>
              </p:nvCxnSpPr>
              <p:spPr>
                <a:xfrm flipH="1" rot="16200000">
                  <a:off x="6343560" y="4386240"/>
                  <a:ext cx="177120" cy="111240"/>
                </a:xfrm>
                <a:prstGeom prst="bentConnector2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</p:cxnSp>
            <p:sp>
              <p:nvSpPr>
                <p:cNvPr id="265" name=""/>
                <p:cNvSpPr/>
                <p:nvPr/>
              </p:nvSpPr>
              <p:spPr>
                <a:xfrm>
                  <a:off x="6472440" y="4233960"/>
                  <a:ext cx="29772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6472440" y="4331160"/>
                  <a:ext cx="29772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6597000" y="4428000"/>
                  <a:ext cx="29808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6597000" y="4531320"/>
                  <a:ext cx="29808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6479280" y="4608720"/>
                  <a:ext cx="29808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392520" y="4044600"/>
                  <a:ext cx="65628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Benzene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1" name=""/>
              <p:cNvGrpSpPr/>
              <p:nvPr/>
            </p:nvGrpSpPr>
            <p:grpSpPr>
              <a:xfrm>
                <a:off x="6324480" y="3225960"/>
                <a:ext cx="1067040" cy="215640"/>
                <a:chOff x="6324480" y="3225960"/>
                <a:chExt cx="1067040" cy="215640"/>
              </a:xfrm>
            </p:grpSpPr>
            <p:grpSp>
              <p:nvGrpSpPr>
                <p:cNvPr id="272" name=""/>
                <p:cNvGrpSpPr/>
                <p:nvPr/>
              </p:nvGrpSpPr>
              <p:grpSpPr>
                <a:xfrm>
                  <a:off x="6324480" y="3225960"/>
                  <a:ext cx="158760" cy="145800"/>
                  <a:chOff x="6324480" y="3225960"/>
                  <a:chExt cx="158760" cy="145800"/>
                </a:xfrm>
              </p:grpSpPr>
              <p:sp>
                <p:nvSpPr>
                  <p:cNvPr id="273" name=""/>
                  <p:cNvSpPr/>
                  <p:nvPr/>
                </p:nvSpPr>
                <p:spPr>
                  <a:xfrm>
                    <a:off x="6324480" y="3225960"/>
                    <a:ext cx="55440" cy="61920"/>
                  </a:xfrm>
                  <a:prstGeom prst="rect">
                    <a:avLst/>
                  </a:prstGeom>
                  <a:solidFill>
                    <a:srgbClr val="990099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120" bIns="15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>
                    <a:off x="6427440" y="3310200"/>
                    <a:ext cx="55800" cy="61560"/>
                  </a:xfrm>
                  <a:prstGeom prst="rect">
                    <a:avLst/>
                  </a:prstGeom>
                  <a:solidFill>
                    <a:srgbClr val="ffff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760" bIns="14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cxnSp>
                <p:nvCxnSpPr>
                  <p:cNvPr id="275" name=""/>
                  <p:cNvCxnSpPr>
                    <a:stCxn id="273" idx="2"/>
                    <a:endCxn id="274" idx="1"/>
                  </p:cNvCxnSpPr>
                  <p:nvPr/>
                </p:nvCxnSpPr>
                <p:spPr>
                  <a:xfrm flipH="1" rot="16200000">
                    <a:off x="6361560" y="3276720"/>
                    <a:ext cx="54720" cy="76680"/>
                  </a:xfrm>
                  <a:prstGeom prst="bentConnector2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</p:cxnSp>
            </p:grpSp>
            <p:sp>
              <p:nvSpPr>
                <p:cNvPr id="276" name=""/>
                <p:cNvSpPr/>
                <p:nvPr/>
              </p:nvSpPr>
              <p:spPr>
                <a:xfrm>
                  <a:off x="6400800" y="3225960"/>
                  <a:ext cx="99072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Cyclohexatriene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352680" y="29340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DIN-Black"/>
              </a:rPr>
              <a:t>Content aggregation</a:t>
            </a:r>
            <a:endParaRPr b="0" lang="en-US" sz="2800" spc="-1" strike="noStrike">
              <a:solidFill>
                <a:srgbClr val="ffff00"/>
              </a:solidFill>
              <a:latin typeface="DIN-Black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762120" y="1295280"/>
            <a:ext cx="7924680" cy="1540440"/>
            <a:chOff x="762120" y="1295280"/>
            <a:chExt cx="7924680" cy="1540440"/>
          </a:xfrm>
        </p:grpSpPr>
        <p:sp>
          <p:nvSpPr>
            <p:cNvPr id="279" name=""/>
            <p:cNvSpPr/>
            <p:nvPr/>
          </p:nvSpPr>
          <p:spPr>
            <a:xfrm>
              <a:off x="762120" y="1447920"/>
              <a:ext cx="2438280" cy="38088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0" name=""/>
            <p:cNvGrpSpPr/>
            <p:nvPr/>
          </p:nvGrpSpPr>
          <p:grpSpPr>
            <a:xfrm>
              <a:off x="1295280" y="1295280"/>
              <a:ext cx="7391520" cy="1540440"/>
              <a:chOff x="1295280" y="1295280"/>
              <a:chExt cx="7391520" cy="1540440"/>
            </a:xfrm>
          </p:grpSpPr>
          <p:grpSp>
            <p:nvGrpSpPr>
              <p:cNvPr id="281" name=""/>
              <p:cNvGrpSpPr/>
              <p:nvPr/>
            </p:nvGrpSpPr>
            <p:grpSpPr>
              <a:xfrm>
                <a:off x="3733920" y="1371600"/>
                <a:ext cx="500040" cy="588960"/>
                <a:chOff x="3733920" y="1371600"/>
                <a:chExt cx="500040" cy="588960"/>
              </a:xfrm>
            </p:grpSpPr>
            <p:sp>
              <p:nvSpPr>
                <p:cNvPr id="282" name=""/>
                <p:cNvSpPr/>
                <p:nvPr/>
              </p:nvSpPr>
              <p:spPr>
                <a:xfrm>
                  <a:off x="3733920" y="1371600"/>
                  <a:ext cx="500040" cy="588960"/>
                </a:xfrm>
                <a:custGeom>
                  <a:avLst/>
                  <a:gdLst>
                    <a:gd name="textAreaLeft" fmla="*/ 9720 w 500040"/>
                    <a:gd name="textAreaRight" fmla="*/ 490320 w 500040"/>
                    <a:gd name="textAreaTop" fmla="*/ 9720 h 588960"/>
                    <a:gd name="textAreaBottom" fmla="*/ 579240 h 588960"/>
                  </a:gdLst>
                  <a:ahLst/>
                  <a:rect l="textAreaLeft" t="textAreaTop" r="textAreaRight" b="textAreaBottom"/>
                  <a:pathLst>
                    <a:path w="21600" h="25438">
                      <a:moveTo>
                        <a:pt x="1440" y="0"/>
                      </a:moveTo>
                      <a:arcTo wR="1440" hR="1440" stAng="16200000" swAng="-5400000"/>
                      <a:lnTo>
                        <a:pt x="0" y="23998"/>
                      </a:lnTo>
                      <a:arcTo wR="1440" hR="1440" stAng="10800000" swAng="-5400000"/>
                      <a:lnTo>
                        <a:pt x="20160" y="25438"/>
                      </a:lnTo>
                      <a:arcTo wR="1440" hR="1440" stAng="5400000" swAng="-5400000"/>
                      <a:lnTo>
                        <a:pt x="21600" y="1440"/>
                      </a:lnTo>
                      <a:arcTo wR="1440" hR="1440" stAng="0" swAng="-5400000"/>
                      <a:close/>
                    </a:path>
                  </a:pathLst>
                </a:custGeom>
                <a:solidFill>
                  <a:srgbClr val="c0c0c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3778200" y="1427040"/>
                  <a:ext cx="76320" cy="76320"/>
                </a:xfrm>
                <a:prstGeom prst="ellipse">
                  <a:avLst/>
                </a:prstGeom>
                <a:solidFill>
                  <a:srgbClr val="00ffff"/>
                </a:solidFill>
                <a:ln w="93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3805200" y="1595520"/>
                  <a:ext cx="357120" cy="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3805200" y="1712880"/>
                  <a:ext cx="357120" cy="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3805200" y="1830240"/>
                  <a:ext cx="357120" cy="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3909960" y="1465200"/>
                  <a:ext cx="216000" cy="0"/>
                </a:xfrm>
                <a:prstGeom prst="line">
                  <a:avLst/>
                </a:prstGeom>
                <a:ln w="38160">
                  <a:solidFill>
                    <a:srgbClr val="00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8" name=""/>
              <p:cNvGrpSpPr/>
              <p:nvPr/>
            </p:nvGrpSpPr>
            <p:grpSpPr>
              <a:xfrm>
                <a:off x="4343400" y="1371600"/>
                <a:ext cx="500040" cy="588960"/>
                <a:chOff x="4343400" y="1371600"/>
                <a:chExt cx="500040" cy="588960"/>
              </a:xfrm>
            </p:grpSpPr>
            <p:sp>
              <p:nvSpPr>
                <p:cNvPr id="289" name=""/>
                <p:cNvSpPr/>
                <p:nvPr/>
              </p:nvSpPr>
              <p:spPr>
                <a:xfrm>
                  <a:off x="4343400" y="1371600"/>
                  <a:ext cx="500040" cy="588960"/>
                </a:xfrm>
                <a:custGeom>
                  <a:avLst/>
                  <a:gdLst>
                    <a:gd name="textAreaLeft" fmla="*/ 9720 w 500040"/>
                    <a:gd name="textAreaRight" fmla="*/ 490320 w 500040"/>
                    <a:gd name="textAreaTop" fmla="*/ 9720 h 588960"/>
                    <a:gd name="textAreaBottom" fmla="*/ 579240 h 588960"/>
                  </a:gdLst>
                  <a:ahLst/>
                  <a:rect l="textAreaLeft" t="textAreaTop" r="textAreaRight" b="textAreaBottom"/>
                  <a:pathLst>
                    <a:path w="21600" h="25438">
                      <a:moveTo>
                        <a:pt x="1440" y="0"/>
                      </a:moveTo>
                      <a:arcTo wR="1440" hR="1440" stAng="16200000" swAng="-5400000"/>
                      <a:lnTo>
                        <a:pt x="0" y="23998"/>
                      </a:lnTo>
                      <a:arcTo wR="1440" hR="1440" stAng="10800000" swAng="-5400000"/>
                      <a:lnTo>
                        <a:pt x="20160" y="25438"/>
                      </a:lnTo>
                      <a:arcTo wR="1440" hR="1440" stAng="5400000" swAng="-5400000"/>
                      <a:lnTo>
                        <a:pt x="21600" y="1440"/>
                      </a:lnTo>
                      <a:arcTo wR="1440" hR="1440" stAng="0" swAng="-5400000"/>
                      <a:close/>
                    </a:path>
                  </a:pathLst>
                </a:custGeom>
                <a:solidFill>
                  <a:srgbClr val="c0c0c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4387680" y="1427040"/>
                  <a:ext cx="76320" cy="76320"/>
                </a:xfrm>
                <a:prstGeom prst="ellipse">
                  <a:avLst/>
                </a:prstGeom>
                <a:solidFill>
                  <a:srgbClr val="00ffff"/>
                </a:solidFill>
                <a:ln w="93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>
                  <a:off x="4414680" y="1595520"/>
                  <a:ext cx="357120" cy="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4414680" y="1712880"/>
                  <a:ext cx="357120" cy="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4414680" y="1830240"/>
                  <a:ext cx="357120" cy="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4519440" y="1465200"/>
                  <a:ext cx="216000" cy="0"/>
                </a:xfrm>
                <a:prstGeom prst="line">
                  <a:avLst/>
                </a:prstGeom>
                <a:ln w="38160">
                  <a:solidFill>
                    <a:srgbClr val="00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5" name=""/>
              <p:cNvGrpSpPr/>
              <p:nvPr/>
            </p:nvGrpSpPr>
            <p:grpSpPr>
              <a:xfrm>
                <a:off x="4952880" y="1371600"/>
                <a:ext cx="500040" cy="588960"/>
                <a:chOff x="4952880" y="1371600"/>
                <a:chExt cx="500040" cy="588960"/>
              </a:xfrm>
            </p:grpSpPr>
            <p:sp>
              <p:nvSpPr>
                <p:cNvPr id="296" name=""/>
                <p:cNvSpPr/>
                <p:nvPr/>
              </p:nvSpPr>
              <p:spPr>
                <a:xfrm>
                  <a:off x="4952880" y="1371600"/>
                  <a:ext cx="500040" cy="588960"/>
                </a:xfrm>
                <a:custGeom>
                  <a:avLst/>
                  <a:gdLst>
                    <a:gd name="textAreaLeft" fmla="*/ 9720 w 500040"/>
                    <a:gd name="textAreaRight" fmla="*/ 490320 w 500040"/>
                    <a:gd name="textAreaTop" fmla="*/ 9720 h 588960"/>
                    <a:gd name="textAreaBottom" fmla="*/ 579240 h 588960"/>
                  </a:gdLst>
                  <a:ahLst/>
                  <a:rect l="textAreaLeft" t="textAreaTop" r="textAreaRight" b="textAreaBottom"/>
                  <a:pathLst>
                    <a:path w="21600" h="25438">
                      <a:moveTo>
                        <a:pt x="1440" y="0"/>
                      </a:moveTo>
                      <a:arcTo wR="1440" hR="1440" stAng="16200000" swAng="-5400000"/>
                      <a:lnTo>
                        <a:pt x="0" y="23998"/>
                      </a:lnTo>
                      <a:arcTo wR="1440" hR="1440" stAng="10800000" swAng="-5400000"/>
                      <a:lnTo>
                        <a:pt x="20160" y="25438"/>
                      </a:lnTo>
                      <a:arcTo wR="1440" hR="1440" stAng="5400000" swAng="-5400000"/>
                      <a:lnTo>
                        <a:pt x="21600" y="1440"/>
                      </a:lnTo>
                      <a:arcTo wR="1440" hR="1440" stAng="0" swAng="-5400000"/>
                      <a:close/>
                    </a:path>
                  </a:pathLst>
                </a:custGeom>
                <a:solidFill>
                  <a:srgbClr val="c0c0c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4997160" y="1427040"/>
                  <a:ext cx="76320" cy="76320"/>
                </a:xfrm>
                <a:prstGeom prst="ellipse">
                  <a:avLst/>
                </a:prstGeom>
                <a:solidFill>
                  <a:srgbClr val="00ffff"/>
                </a:solidFill>
                <a:ln w="93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5024160" y="1595520"/>
                  <a:ext cx="357120" cy="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5024160" y="1712880"/>
                  <a:ext cx="357120" cy="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5024160" y="1830240"/>
                  <a:ext cx="357120" cy="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5128920" y="1465200"/>
                  <a:ext cx="216000" cy="0"/>
                </a:xfrm>
                <a:prstGeom prst="line">
                  <a:avLst/>
                </a:prstGeom>
                <a:ln w="38160">
                  <a:solidFill>
                    <a:srgbClr val="00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2" name=""/>
              <p:cNvGrpSpPr/>
              <p:nvPr/>
            </p:nvGrpSpPr>
            <p:grpSpPr>
              <a:xfrm>
                <a:off x="5562720" y="1371600"/>
                <a:ext cx="500040" cy="588960"/>
                <a:chOff x="5562720" y="1371600"/>
                <a:chExt cx="500040" cy="588960"/>
              </a:xfrm>
            </p:grpSpPr>
            <p:sp>
              <p:nvSpPr>
                <p:cNvPr id="303" name=""/>
                <p:cNvSpPr/>
                <p:nvPr/>
              </p:nvSpPr>
              <p:spPr>
                <a:xfrm>
                  <a:off x="5562720" y="1371600"/>
                  <a:ext cx="500040" cy="588960"/>
                </a:xfrm>
                <a:custGeom>
                  <a:avLst/>
                  <a:gdLst>
                    <a:gd name="textAreaLeft" fmla="*/ 9720 w 500040"/>
                    <a:gd name="textAreaRight" fmla="*/ 490320 w 500040"/>
                    <a:gd name="textAreaTop" fmla="*/ 9720 h 588960"/>
                    <a:gd name="textAreaBottom" fmla="*/ 579240 h 588960"/>
                  </a:gdLst>
                  <a:ahLst/>
                  <a:rect l="textAreaLeft" t="textAreaTop" r="textAreaRight" b="textAreaBottom"/>
                  <a:pathLst>
                    <a:path w="21600" h="25438">
                      <a:moveTo>
                        <a:pt x="1440" y="0"/>
                      </a:moveTo>
                      <a:arcTo wR="1440" hR="1440" stAng="16200000" swAng="-5400000"/>
                      <a:lnTo>
                        <a:pt x="0" y="23998"/>
                      </a:lnTo>
                      <a:arcTo wR="1440" hR="1440" stAng="10800000" swAng="-5400000"/>
                      <a:lnTo>
                        <a:pt x="20160" y="25438"/>
                      </a:lnTo>
                      <a:arcTo wR="1440" hR="1440" stAng="5400000" swAng="-5400000"/>
                      <a:lnTo>
                        <a:pt x="21600" y="1440"/>
                      </a:lnTo>
                      <a:arcTo wR="1440" hR="1440" stAng="0" swAng="-5400000"/>
                      <a:close/>
                    </a:path>
                  </a:pathLst>
                </a:custGeom>
                <a:solidFill>
                  <a:srgbClr val="c0c0c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5607000" y="1427040"/>
                  <a:ext cx="76320" cy="76320"/>
                </a:xfrm>
                <a:prstGeom prst="ellipse">
                  <a:avLst/>
                </a:prstGeom>
                <a:solidFill>
                  <a:srgbClr val="00ffff"/>
                </a:solidFill>
                <a:ln w="93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5634000" y="1595520"/>
                  <a:ext cx="357120" cy="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5634000" y="1712880"/>
                  <a:ext cx="357120" cy="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5634000" y="1830240"/>
                  <a:ext cx="357120" cy="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5738760" y="1465200"/>
                  <a:ext cx="216000" cy="0"/>
                </a:xfrm>
                <a:prstGeom prst="line">
                  <a:avLst/>
                </a:prstGeom>
                <a:ln w="38160">
                  <a:solidFill>
                    <a:srgbClr val="00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9" name=""/>
              <p:cNvGrpSpPr/>
              <p:nvPr/>
            </p:nvGrpSpPr>
            <p:grpSpPr>
              <a:xfrm>
                <a:off x="6172200" y="1371600"/>
                <a:ext cx="500040" cy="588960"/>
                <a:chOff x="6172200" y="1371600"/>
                <a:chExt cx="500040" cy="588960"/>
              </a:xfrm>
            </p:grpSpPr>
            <p:sp>
              <p:nvSpPr>
                <p:cNvPr id="310" name=""/>
                <p:cNvSpPr/>
                <p:nvPr/>
              </p:nvSpPr>
              <p:spPr>
                <a:xfrm>
                  <a:off x="6172200" y="1371600"/>
                  <a:ext cx="500040" cy="588960"/>
                </a:xfrm>
                <a:custGeom>
                  <a:avLst/>
                  <a:gdLst>
                    <a:gd name="textAreaLeft" fmla="*/ 9720 w 500040"/>
                    <a:gd name="textAreaRight" fmla="*/ 490320 w 500040"/>
                    <a:gd name="textAreaTop" fmla="*/ 9720 h 588960"/>
                    <a:gd name="textAreaBottom" fmla="*/ 579240 h 588960"/>
                  </a:gdLst>
                  <a:ahLst/>
                  <a:rect l="textAreaLeft" t="textAreaTop" r="textAreaRight" b="textAreaBottom"/>
                  <a:pathLst>
                    <a:path w="21600" h="25438">
                      <a:moveTo>
                        <a:pt x="1440" y="0"/>
                      </a:moveTo>
                      <a:arcTo wR="1440" hR="1440" stAng="16200000" swAng="-5400000"/>
                      <a:lnTo>
                        <a:pt x="0" y="23998"/>
                      </a:lnTo>
                      <a:arcTo wR="1440" hR="1440" stAng="10800000" swAng="-5400000"/>
                      <a:lnTo>
                        <a:pt x="20160" y="25438"/>
                      </a:lnTo>
                      <a:arcTo wR="1440" hR="1440" stAng="5400000" swAng="-5400000"/>
                      <a:lnTo>
                        <a:pt x="21600" y="1440"/>
                      </a:lnTo>
                      <a:arcTo wR="1440" hR="1440" stAng="0" swAng="-5400000"/>
                      <a:close/>
                    </a:path>
                  </a:pathLst>
                </a:custGeom>
                <a:solidFill>
                  <a:srgbClr val="c0c0c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6216480" y="1427040"/>
                  <a:ext cx="76320" cy="76320"/>
                </a:xfrm>
                <a:prstGeom prst="ellipse">
                  <a:avLst/>
                </a:prstGeom>
                <a:solidFill>
                  <a:srgbClr val="00ffff"/>
                </a:solidFill>
                <a:ln w="93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>
                  <a:off x="6243480" y="1595520"/>
                  <a:ext cx="357120" cy="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>
                  <a:off x="6243480" y="1712880"/>
                  <a:ext cx="357120" cy="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6243480" y="1830240"/>
                  <a:ext cx="357120" cy="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6348240" y="1465200"/>
                  <a:ext cx="216000" cy="0"/>
                </a:xfrm>
                <a:prstGeom prst="line">
                  <a:avLst/>
                </a:prstGeom>
                <a:ln w="38160">
                  <a:solidFill>
                    <a:srgbClr val="00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6" name=""/>
              <p:cNvGrpSpPr/>
              <p:nvPr/>
            </p:nvGrpSpPr>
            <p:grpSpPr>
              <a:xfrm>
                <a:off x="6781680" y="1371600"/>
                <a:ext cx="500040" cy="588960"/>
                <a:chOff x="6781680" y="1371600"/>
                <a:chExt cx="500040" cy="588960"/>
              </a:xfrm>
            </p:grpSpPr>
            <p:sp>
              <p:nvSpPr>
                <p:cNvPr id="317" name=""/>
                <p:cNvSpPr/>
                <p:nvPr/>
              </p:nvSpPr>
              <p:spPr>
                <a:xfrm>
                  <a:off x="6781680" y="1371600"/>
                  <a:ext cx="500040" cy="588960"/>
                </a:xfrm>
                <a:custGeom>
                  <a:avLst/>
                  <a:gdLst>
                    <a:gd name="textAreaLeft" fmla="*/ 9720 w 500040"/>
                    <a:gd name="textAreaRight" fmla="*/ 490320 w 500040"/>
                    <a:gd name="textAreaTop" fmla="*/ 9720 h 588960"/>
                    <a:gd name="textAreaBottom" fmla="*/ 579240 h 588960"/>
                  </a:gdLst>
                  <a:ahLst/>
                  <a:rect l="textAreaLeft" t="textAreaTop" r="textAreaRight" b="textAreaBottom"/>
                  <a:pathLst>
                    <a:path w="21600" h="25438">
                      <a:moveTo>
                        <a:pt x="1440" y="0"/>
                      </a:moveTo>
                      <a:arcTo wR="1440" hR="1440" stAng="16200000" swAng="-5400000"/>
                      <a:lnTo>
                        <a:pt x="0" y="23998"/>
                      </a:lnTo>
                      <a:arcTo wR="1440" hR="1440" stAng="10800000" swAng="-5400000"/>
                      <a:lnTo>
                        <a:pt x="20160" y="25438"/>
                      </a:lnTo>
                      <a:arcTo wR="1440" hR="1440" stAng="5400000" swAng="-5400000"/>
                      <a:lnTo>
                        <a:pt x="21600" y="1440"/>
                      </a:lnTo>
                      <a:arcTo wR="1440" hR="1440" stAng="0" swAng="-5400000"/>
                      <a:close/>
                    </a:path>
                  </a:pathLst>
                </a:custGeom>
                <a:solidFill>
                  <a:srgbClr val="c0c0c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6825960" y="1427040"/>
                  <a:ext cx="76320" cy="76320"/>
                </a:xfrm>
                <a:prstGeom prst="ellipse">
                  <a:avLst/>
                </a:prstGeom>
                <a:solidFill>
                  <a:srgbClr val="00ffff"/>
                </a:solidFill>
                <a:ln w="93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6852960" y="1595520"/>
                  <a:ext cx="357120" cy="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6852960" y="1712880"/>
                  <a:ext cx="357120" cy="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>
                  <a:off x="6852960" y="1830240"/>
                  <a:ext cx="357120" cy="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>
                  <a:off x="6957720" y="1465200"/>
                  <a:ext cx="216000" cy="0"/>
                </a:xfrm>
                <a:prstGeom prst="line">
                  <a:avLst/>
                </a:prstGeom>
                <a:ln w="38160">
                  <a:solidFill>
                    <a:srgbClr val="00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cxnSp>
            <p:nvCxnSpPr>
              <p:cNvPr id="323" name=""/>
              <p:cNvCxnSpPr>
                <a:stCxn id="282" idx="2"/>
              </p:cNvCxnSpPr>
              <p:nvPr/>
            </p:nvCxnSpPr>
            <p:spPr>
              <a:xfrm flipH="1" rot="16200000">
                <a:off x="3734640" y="2210040"/>
                <a:ext cx="707040" cy="207360"/>
              </a:xfrm>
              <a:prstGeom prst="curvedConnector5">
                <a:avLst>
                  <a:gd name="adj1" fmla="val 49872"/>
                  <a:gd name="adj2" fmla="val 49913"/>
                  <a:gd name="adj3" fmla="val 49872"/>
                </a:avLst>
              </a:prstGeom>
              <a:ln w="25560">
                <a:solidFill>
                  <a:srgbClr val="ffff99"/>
                </a:solidFill>
                <a:miter/>
                <a:tailEnd len="lg" type="triangle" w="med"/>
              </a:ln>
            </p:spPr>
          </p:cxnSp>
          <p:cxnSp>
            <p:nvCxnSpPr>
              <p:cNvPr id="324" name=""/>
              <p:cNvCxnSpPr>
                <a:stCxn id="289" idx="2"/>
              </p:cNvCxnSpPr>
              <p:nvPr/>
            </p:nvCxnSpPr>
            <p:spPr>
              <a:xfrm rot="5400000">
                <a:off x="4152960" y="2226240"/>
                <a:ext cx="707040" cy="175320"/>
              </a:xfrm>
              <a:prstGeom prst="curvedConnector5">
                <a:avLst>
                  <a:gd name="adj1" fmla="val 49872"/>
                  <a:gd name="adj2" fmla="val 50000"/>
                  <a:gd name="adj3" fmla="val 49872"/>
                </a:avLst>
              </a:prstGeom>
              <a:ln w="25560">
                <a:solidFill>
                  <a:srgbClr val="ffff99"/>
                </a:solidFill>
                <a:miter/>
                <a:tailEnd len="lg" type="triangle" w="med"/>
              </a:ln>
            </p:spPr>
          </p:cxnSp>
          <p:cxnSp>
            <p:nvCxnSpPr>
              <p:cNvPr id="325" name=""/>
              <p:cNvCxnSpPr>
                <a:stCxn id="296" idx="2"/>
              </p:cNvCxnSpPr>
              <p:nvPr/>
            </p:nvCxnSpPr>
            <p:spPr>
              <a:xfrm rot="5400000">
                <a:off x="4572000" y="2035800"/>
                <a:ext cx="707040" cy="556200"/>
              </a:xfrm>
              <a:prstGeom prst="curvedConnector5">
                <a:avLst>
                  <a:gd name="adj1" fmla="val 49872"/>
                  <a:gd name="adj2" fmla="val 50000"/>
                  <a:gd name="adj3" fmla="val 49872"/>
                </a:avLst>
              </a:prstGeom>
              <a:ln w="25560">
                <a:solidFill>
                  <a:srgbClr val="ffff99"/>
                </a:solidFill>
                <a:miter/>
                <a:tailEnd len="lg" type="triangle" w="med"/>
              </a:ln>
            </p:spPr>
          </p:cxnSp>
          <p:cxnSp>
            <p:nvCxnSpPr>
              <p:cNvPr id="326" name=""/>
              <p:cNvCxnSpPr>
                <a:stCxn id="303" idx="2"/>
              </p:cNvCxnSpPr>
              <p:nvPr/>
            </p:nvCxnSpPr>
            <p:spPr>
              <a:xfrm rot="5400000">
                <a:off x="5029200" y="1883520"/>
                <a:ext cx="707040" cy="861120"/>
              </a:xfrm>
              <a:prstGeom prst="curvedConnector2">
                <a:avLst/>
              </a:prstGeom>
              <a:ln w="25560">
                <a:solidFill>
                  <a:srgbClr val="ffff99"/>
                </a:solidFill>
                <a:miter/>
                <a:tailEnd len="lg" type="triangle" w="med"/>
              </a:ln>
            </p:spPr>
          </p:cxnSp>
          <p:cxnSp>
            <p:nvCxnSpPr>
              <p:cNvPr id="327" name=""/>
              <p:cNvCxnSpPr>
                <a:stCxn id="310" idx="2"/>
              </p:cNvCxnSpPr>
              <p:nvPr/>
            </p:nvCxnSpPr>
            <p:spPr>
              <a:xfrm rot="5400000">
                <a:off x="5372280" y="1693080"/>
                <a:ext cx="783360" cy="1318320"/>
              </a:xfrm>
              <a:prstGeom prst="curvedConnector2">
                <a:avLst/>
              </a:prstGeom>
              <a:ln w="25560">
                <a:solidFill>
                  <a:srgbClr val="ffff99"/>
                </a:solidFill>
                <a:miter/>
                <a:tailEnd len="lg" type="triangle" w="med"/>
              </a:ln>
            </p:spPr>
          </p:cxnSp>
          <p:cxnSp>
            <p:nvCxnSpPr>
              <p:cNvPr id="328" name=""/>
              <p:cNvCxnSpPr>
                <a:stCxn id="317" idx="2"/>
              </p:cNvCxnSpPr>
              <p:nvPr/>
            </p:nvCxnSpPr>
            <p:spPr>
              <a:xfrm rot="5400000">
                <a:off x="5676840" y="1464480"/>
                <a:ext cx="859680" cy="1851840"/>
              </a:xfrm>
              <a:prstGeom prst="curvedConnector2">
                <a:avLst/>
              </a:prstGeom>
              <a:ln w="25560">
                <a:solidFill>
                  <a:srgbClr val="ffff99"/>
                </a:solidFill>
                <a:miter/>
                <a:tailEnd len="lg" type="triangle" w="med"/>
              </a:ln>
            </p:spPr>
          </p:cxnSp>
          <p:sp>
            <p:nvSpPr>
              <p:cNvPr id="329" name=""/>
              <p:cNvSpPr/>
              <p:nvPr/>
            </p:nvSpPr>
            <p:spPr>
              <a:xfrm>
                <a:off x="7620120" y="1295280"/>
                <a:ext cx="1066680" cy="100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DIN-Bold"/>
                  </a:rPr>
                  <a:t>Source conten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330" name=""/>
              <p:cNvCxnSpPr/>
              <p:nvPr/>
            </p:nvCxnSpPr>
            <p:spPr>
              <a:xfrm flipH="1" rot="16200000">
                <a:off x="2379600" y="1736280"/>
                <a:ext cx="727560" cy="1175760"/>
              </a:xfrm>
              <a:prstGeom prst="curvedConnector2">
                <a:avLst/>
              </a:prstGeom>
              <a:ln w="25560">
                <a:solidFill>
                  <a:srgbClr val="ffff99"/>
                </a:solidFill>
                <a:miter/>
                <a:tailEnd len="lg" type="triangle" w="med"/>
              </a:ln>
            </p:spPr>
          </p:cxnSp>
          <p:cxnSp>
            <p:nvCxnSpPr>
              <p:cNvPr id="331" name=""/>
              <p:cNvCxnSpPr/>
              <p:nvPr/>
            </p:nvCxnSpPr>
            <p:spPr>
              <a:xfrm flipH="1" rot="16200000">
                <a:off x="2751480" y="1973160"/>
                <a:ext cx="743760" cy="717840"/>
              </a:xfrm>
              <a:prstGeom prst="curvedConnector5">
                <a:avLst>
                  <a:gd name="adj1" fmla="val 49975"/>
                  <a:gd name="adj2" fmla="val 49974"/>
                  <a:gd name="adj3" fmla="val 49975"/>
                </a:avLst>
              </a:prstGeom>
              <a:ln w="25560">
                <a:solidFill>
                  <a:srgbClr val="ffff99"/>
                </a:solidFill>
                <a:miter/>
                <a:tailEnd len="lg" type="triangle" w="med"/>
              </a:ln>
            </p:spPr>
          </p:cxnSp>
          <p:cxnSp>
            <p:nvCxnSpPr>
              <p:cNvPr id="332" name=""/>
              <p:cNvCxnSpPr/>
              <p:nvPr/>
            </p:nvCxnSpPr>
            <p:spPr>
              <a:xfrm flipH="1" rot="16200000">
                <a:off x="3255840" y="2079360"/>
                <a:ext cx="727560" cy="489600"/>
              </a:xfrm>
              <a:prstGeom prst="curvedConnector5">
                <a:avLst>
                  <a:gd name="adj1" fmla="val 50000"/>
                  <a:gd name="adj2" fmla="val 49963"/>
                  <a:gd name="adj3" fmla="val 50000"/>
                </a:avLst>
              </a:prstGeom>
              <a:ln w="25560">
                <a:solidFill>
                  <a:srgbClr val="ffff99"/>
                </a:solidFill>
                <a:miter/>
                <a:tailEnd len="lg" type="triangle" w="med"/>
              </a:ln>
            </p:spPr>
          </p:cxnSp>
          <p:cxnSp>
            <p:nvCxnSpPr>
              <p:cNvPr id="333" name=""/>
              <p:cNvCxnSpPr/>
              <p:nvPr/>
            </p:nvCxnSpPr>
            <p:spPr>
              <a:xfrm flipH="1" rot="16200000">
                <a:off x="2012040" y="1494360"/>
                <a:ext cx="875520" cy="1807200"/>
              </a:xfrm>
              <a:prstGeom prst="curvedConnector2">
                <a:avLst/>
              </a:prstGeom>
              <a:ln w="25560">
                <a:solidFill>
                  <a:srgbClr val="ffff99"/>
                </a:solidFill>
                <a:miter/>
                <a:tailEnd len="lg" type="triangle" w="med"/>
              </a:ln>
            </p:spPr>
          </p:cxnSp>
          <p:grpSp>
            <p:nvGrpSpPr>
              <p:cNvPr id="334" name=""/>
              <p:cNvGrpSpPr/>
              <p:nvPr/>
            </p:nvGrpSpPr>
            <p:grpSpPr>
              <a:xfrm>
                <a:off x="1295280" y="1371600"/>
                <a:ext cx="500040" cy="588960"/>
                <a:chOff x="1295280" y="1371600"/>
                <a:chExt cx="500040" cy="588960"/>
              </a:xfrm>
            </p:grpSpPr>
            <p:sp>
              <p:nvSpPr>
                <p:cNvPr id="335" name=""/>
                <p:cNvSpPr/>
                <p:nvPr/>
              </p:nvSpPr>
              <p:spPr>
                <a:xfrm>
                  <a:off x="1295280" y="1371600"/>
                  <a:ext cx="500040" cy="588960"/>
                </a:xfrm>
                <a:custGeom>
                  <a:avLst/>
                  <a:gdLst>
                    <a:gd name="textAreaLeft" fmla="*/ 9720 w 500040"/>
                    <a:gd name="textAreaRight" fmla="*/ 490320 w 500040"/>
                    <a:gd name="textAreaTop" fmla="*/ 9720 h 588960"/>
                    <a:gd name="textAreaBottom" fmla="*/ 579240 h 588960"/>
                  </a:gdLst>
                  <a:ahLst/>
                  <a:rect l="textAreaLeft" t="textAreaTop" r="textAreaRight" b="textAreaBottom"/>
                  <a:pathLst>
                    <a:path w="21600" h="25438">
                      <a:moveTo>
                        <a:pt x="1440" y="0"/>
                      </a:moveTo>
                      <a:arcTo wR="1440" hR="1440" stAng="16200000" swAng="-5400000"/>
                      <a:lnTo>
                        <a:pt x="0" y="23998"/>
                      </a:lnTo>
                      <a:arcTo wR="1440" hR="1440" stAng="10800000" swAng="-5400000"/>
                      <a:lnTo>
                        <a:pt x="20160" y="25438"/>
                      </a:lnTo>
                      <a:arcTo wR="1440" hR="1440" stAng="5400000" swAng="-5400000"/>
                      <a:lnTo>
                        <a:pt x="21600" y="1440"/>
                      </a:lnTo>
                      <a:arcTo wR="1440" hR="1440" stAng="0" swAng="-5400000"/>
                      <a:close/>
                    </a:path>
                  </a:pathLst>
                </a:custGeom>
                <a:solidFill>
                  <a:srgbClr val="c0c0c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>
                  <a:off x="1339560" y="1427040"/>
                  <a:ext cx="76320" cy="76320"/>
                </a:xfrm>
                <a:prstGeom prst="ellipse">
                  <a:avLst/>
                </a:prstGeom>
                <a:solidFill>
                  <a:srgbClr val="00ffff"/>
                </a:solidFill>
                <a:ln w="93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>
                  <a:off x="1366560" y="1595520"/>
                  <a:ext cx="357120" cy="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>
                  <a:off x="1366560" y="1712880"/>
                  <a:ext cx="357120" cy="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>
                  <a:off x="1366560" y="1830240"/>
                  <a:ext cx="357120" cy="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>
                  <a:off x="1471320" y="1465200"/>
                  <a:ext cx="216000" cy="0"/>
                </a:xfrm>
                <a:prstGeom prst="line">
                  <a:avLst/>
                </a:prstGeom>
                <a:ln w="38160">
                  <a:solidFill>
                    <a:srgbClr val="00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1" name=""/>
              <p:cNvGrpSpPr/>
              <p:nvPr/>
            </p:nvGrpSpPr>
            <p:grpSpPr>
              <a:xfrm>
                <a:off x="1905120" y="1371600"/>
                <a:ext cx="500040" cy="588960"/>
                <a:chOff x="1905120" y="1371600"/>
                <a:chExt cx="500040" cy="588960"/>
              </a:xfrm>
            </p:grpSpPr>
            <p:sp>
              <p:nvSpPr>
                <p:cNvPr id="342" name=""/>
                <p:cNvSpPr/>
                <p:nvPr/>
              </p:nvSpPr>
              <p:spPr>
                <a:xfrm>
                  <a:off x="1905120" y="1371600"/>
                  <a:ext cx="500040" cy="588960"/>
                </a:xfrm>
                <a:custGeom>
                  <a:avLst/>
                  <a:gdLst>
                    <a:gd name="textAreaLeft" fmla="*/ 9720 w 500040"/>
                    <a:gd name="textAreaRight" fmla="*/ 490320 w 500040"/>
                    <a:gd name="textAreaTop" fmla="*/ 9720 h 588960"/>
                    <a:gd name="textAreaBottom" fmla="*/ 579240 h 588960"/>
                  </a:gdLst>
                  <a:ahLst/>
                  <a:rect l="textAreaLeft" t="textAreaTop" r="textAreaRight" b="textAreaBottom"/>
                  <a:pathLst>
                    <a:path w="21600" h="25438">
                      <a:moveTo>
                        <a:pt x="1440" y="0"/>
                      </a:moveTo>
                      <a:arcTo wR="1440" hR="1440" stAng="16200000" swAng="-5400000"/>
                      <a:lnTo>
                        <a:pt x="0" y="23998"/>
                      </a:lnTo>
                      <a:arcTo wR="1440" hR="1440" stAng="10800000" swAng="-5400000"/>
                      <a:lnTo>
                        <a:pt x="20160" y="25438"/>
                      </a:lnTo>
                      <a:arcTo wR="1440" hR="1440" stAng="5400000" swAng="-5400000"/>
                      <a:lnTo>
                        <a:pt x="21600" y="1440"/>
                      </a:lnTo>
                      <a:arcTo wR="1440" hR="1440" stAng="0" swAng="-5400000"/>
                      <a:close/>
                    </a:path>
                  </a:pathLst>
                </a:custGeom>
                <a:solidFill>
                  <a:srgbClr val="c0c0c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>
                  <a:off x="1949400" y="1427040"/>
                  <a:ext cx="76320" cy="76320"/>
                </a:xfrm>
                <a:prstGeom prst="ellipse">
                  <a:avLst/>
                </a:prstGeom>
                <a:solidFill>
                  <a:srgbClr val="00ffff"/>
                </a:solidFill>
                <a:ln w="93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1976400" y="1595520"/>
                  <a:ext cx="357120" cy="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>
                  <a:off x="1976400" y="1712880"/>
                  <a:ext cx="357120" cy="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976400" y="1830240"/>
                  <a:ext cx="357120" cy="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>
                  <a:off x="2081160" y="1465200"/>
                  <a:ext cx="216000" cy="0"/>
                </a:xfrm>
                <a:prstGeom prst="line">
                  <a:avLst/>
                </a:prstGeom>
                <a:ln w="38160">
                  <a:solidFill>
                    <a:srgbClr val="00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8" name=""/>
              <p:cNvGrpSpPr/>
              <p:nvPr/>
            </p:nvGrpSpPr>
            <p:grpSpPr>
              <a:xfrm>
                <a:off x="2514600" y="1371600"/>
                <a:ext cx="500040" cy="588960"/>
                <a:chOff x="2514600" y="1371600"/>
                <a:chExt cx="500040" cy="588960"/>
              </a:xfrm>
            </p:grpSpPr>
            <p:sp>
              <p:nvSpPr>
                <p:cNvPr id="349" name=""/>
                <p:cNvSpPr/>
                <p:nvPr/>
              </p:nvSpPr>
              <p:spPr>
                <a:xfrm>
                  <a:off x="2514600" y="1371600"/>
                  <a:ext cx="500040" cy="588960"/>
                </a:xfrm>
                <a:custGeom>
                  <a:avLst/>
                  <a:gdLst>
                    <a:gd name="textAreaLeft" fmla="*/ 9720 w 500040"/>
                    <a:gd name="textAreaRight" fmla="*/ 490320 w 500040"/>
                    <a:gd name="textAreaTop" fmla="*/ 9720 h 588960"/>
                    <a:gd name="textAreaBottom" fmla="*/ 579240 h 588960"/>
                  </a:gdLst>
                  <a:ahLst/>
                  <a:rect l="textAreaLeft" t="textAreaTop" r="textAreaRight" b="textAreaBottom"/>
                  <a:pathLst>
                    <a:path w="21600" h="25438">
                      <a:moveTo>
                        <a:pt x="1440" y="0"/>
                      </a:moveTo>
                      <a:arcTo wR="1440" hR="1440" stAng="16200000" swAng="-5400000"/>
                      <a:lnTo>
                        <a:pt x="0" y="23998"/>
                      </a:lnTo>
                      <a:arcTo wR="1440" hR="1440" stAng="10800000" swAng="-5400000"/>
                      <a:lnTo>
                        <a:pt x="20160" y="25438"/>
                      </a:lnTo>
                      <a:arcTo wR="1440" hR="1440" stAng="5400000" swAng="-5400000"/>
                      <a:lnTo>
                        <a:pt x="21600" y="1440"/>
                      </a:lnTo>
                      <a:arcTo wR="1440" hR="1440" stAng="0" swAng="-5400000"/>
                      <a:close/>
                    </a:path>
                  </a:pathLst>
                </a:custGeom>
                <a:solidFill>
                  <a:srgbClr val="c0c0c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2558880" y="1427040"/>
                  <a:ext cx="76320" cy="76320"/>
                </a:xfrm>
                <a:prstGeom prst="ellipse">
                  <a:avLst/>
                </a:prstGeom>
                <a:solidFill>
                  <a:srgbClr val="00ffff"/>
                </a:solidFill>
                <a:ln w="93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>
                  <a:off x="2585880" y="1595520"/>
                  <a:ext cx="357120" cy="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2585880" y="1712880"/>
                  <a:ext cx="357120" cy="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2585880" y="1830240"/>
                  <a:ext cx="357120" cy="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2690640" y="1465200"/>
                  <a:ext cx="216000" cy="0"/>
                </a:xfrm>
                <a:prstGeom prst="line">
                  <a:avLst/>
                </a:prstGeom>
                <a:ln w="38160">
                  <a:solidFill>
                    <a:srgbClr val="00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5" name=""/>
              <p:cNvGrpSpPr/>
              <p:nvPr/>
            </p:nvGrpSpPr>
            <p:grpSpPr>
              <a:xfrm>
                <a:off x="3124080" y="1371600"/>
                <a:ext cx="500040" cy="588960"/>
                <a:chOff x="3124080" y="1371600"/>
                <a:chExt cx="500040" cy="588960"/>
              </a:xfrm>
            </p:grpSpPr>
            <p:sp>
              <p:nvSpPr>
                <p:cNvPr id="356" name=""/>
                <p:cNvSpPr/>
                <p:nvPr/>
              </p:nvSpPr>
              <p:spPr>
                <a:xfrm>
                  <a:off x="3124080" y="1371600"/>
                  <a:ext cx="500040" cy="588960"/>
                </a:xfrm>
                <a:custGeom>
                  <a:avLst/>
                  <a:gdLst>
                    <a:gd name="textAreaLeft" fmla="*/ 9720 w 500040"/>
                    <a:gd name="textAreaRight" fmla="*/ 490320 w 500040"/>
                    <a:gd name="textAreaTop" fmla="*/ 9720 h 588960"/>
                    <a:gd name="textAreaBottom" fmla="*/ 579240 h 588960"/>
                  </a:gdLst>
                  <a:ahLst/>
                  <a:rect l="textAreaLeft" t="textAreaTop" r="textAreaRight" b="textAreaBottom"/>
                  <a:pathLst>
                    <a:path w="21600" h="25438">
                      <a:moveTo>
                        <a:pt x="1440" y="0"/>
                      </a:moveTo>
                      <a:arcTo wR="1440" hR="1440" stAng="16200000" swAng="-5400000"/>
                      <a:lnTo>
                        <a:pt x="0" y="23998"/>
                      </a:lnTo>
                      <a:arcTo wR="1440" hR="1440" stAng="10800000" swAng="-5400000"/>
                      <a:lnTo>
                        <a:pt x="20160" y="25438"/>
                      </a:lnTo>
                      <a:arcTo wR="1440" hR="1440" stAng="5400000" swAng="-5400000"/>
                      <a:lnTo>
                        <a:pt x="21600" y="1440"/>
                      </a:lnTo>
                      <a:arcTo wR="1440" hR="1440" stAng="0" swAng="-5400000"/>
                      <a:close/>
                    </a:path>
                  </a:pathLst>
                </a:custGeom>
                <a:solidFill>
                  <a:srgbClr val="c0c0c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>
                  <a:off x="3168360" y="1427040"/>
                  <a:ext cx="76320" cy="76320"/>
                </a:xfrm>
                <a:prstGeom prst="ellipse">
                  <a:avLst/>
                </a:prstGeom>
                <a:solidFill>
                  <a:srgbClr val="00ffff"/>
                </a:solidFill>
                <a:ln w="93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>
                  <a:off x="3195360" y="1595520"/>
                  <a:ext cx="357120" cy="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>
                  <a:off x="3195360" y="1712880"/>
                  <a:ext cx="357120" cy="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>
                  <a:off x="3195360" y="1830240"/>
                  <a:ext cx="357120" cy="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3300120" y="1465200"/>
                  <a:ext cx="216000" cy="0"/>
                </a:xfrm>
                <a:prstGeom prst="line">
                  <a:avLst/>
                </a:prstGeom>
                <a:ln w="38160">
                  <a:solidFill>
                    <a:srgbClr val="00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p:transition>
    <p:fade thruBlk="true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2" name=""/>
          <p:cNvGrpSpPr/>
          <p:nvPr/>
        </p:nvGrpSpPr>
        <p:grpSpPr>
          <a:xfrm>
            <a:off x="3886200" y="1415880"/>
            <a:ext cx="4924440" cy="2222640"/>
            <a:chOff x="3886200" y="1415880"/>
            <a:chExt cx="4924440" cy="2222640"/>
          </a:xfrm>
        </p:grpSpPr>
        <p:sp>
          <p:nvSpPr>
            <p:cNvPr id="363" name=""/>
            <p:cNvSpPr/>
            <p:nvPr/>
          </p:nvSpPr>
          <p:spPr>
            <a:xfrm>
              <a:off x="6172200" y="1415880"/>
              <a:ext cx="2638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DIN-Black"/>
                </a:rPr>
                <a:t>Authoritative Classification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4" name=""/>
            <p:cNvGrpSpPr/>
            <p:nvPr/>
          </p:nvGrpSpPr>
          <p:grpSpPr>
            <a:xfrm>
              <a:off x="3886200" y="1676520"/>
              <a:ext cx="1981080" cy="1962000"/>
              <a:chOff x="3886200" y="1676520"/>
              <a:chExt cx="1981080" cy="1962000"/>
            </a:xfrm>
          </p:grpSpPr>
          <p:sp>
            <p:nvSpPr>
              <p:cNvPr id="365" name=""/>
              <p:cNvSpPr/>
              <p:nvPr/>
            </p:nvSpPr>
            <p:spPr>
              <a:xfrm>
                <a:off x="3886200" y="1676520"/>
                <a:ext cx="1981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00"/>
                    </a:solidFill>
                    <a:latin typeface="DIN-Black"/>
                  </a:rPr>
                  <a:t>Metathesauru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66" name=""/>
              <p:cNvGrpSpPr/>
              <p:nvPr/>
            </p:nvGrpSpPr>
            <p:grpSpPr>
              <a:xfrm>
                <a:off x="4348080" y="2368800"/>
                <a:ext cx="1143000" cy="1269720"/>
                <a:chOff x="4348080" y="2368800"/>
                <a:chExt cx="1143000" cy="1269720"/>
              </a:xfrm>
            </p:grpSpPr>
            <p:sp>
              <p:nvSpPr>
                <p:cNvPr id="367" name=""/>
                <p:cNvSpPr/>
                <p:nvPr/>
              </p:nvSpPr>
              <p:spPr>
                <a:xfrm>
                  <a:off x="4348080" y="2368800"/>
                  <a:ext cx="1143000" cy="1269720"/>
                </a:xfrm>
                <a:prstGeom prst="rect">
                  <a:avLst/>
                </a:prstGeom>
                <a:solidFill>
                  <a:srgbClr val="eaeaea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68" name=""/>
                <p:cNvGrpSpPr/>
                <p:nvPr/>
              </p:nvGrpSpPr>
              <p:grpSpPr>
                <a:xfrm>
                  <a:off x="4430520" y="2490840"/>
                  <a:ext cx="989280" cy="1041120"/>
                  <a:chOff x="4430520" y="2490840"/>
                  <a:chExt cx="989280" cy="1041120"/>
                </a:xfrm>
              </p:grpSpPr>
              <p:sp>
                <p:nvSpPr>
                  <p:cNvPr id="369" name=""/>
                  <p:cNvSpPr/>
                  <p:nvPr/>
                </p:nvSpPr>
                <p:spPr>
                  <a:xfrm>
                    <a:off x="4734000" y="2646000"/>
                    <a:ext cx="109440" cy="0"/>
                  </a:xfrm>
                  <a:prstGeom prst="line">
                    <a:avLst/>
                  </a:prstGeom>
                  <a:ln w="3816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0" name=""/>
                  <p:cNvSpPr/>
                  <p:nvPr/>
                </p:nvSpPr>
                <p:spPr>
                  <a:xfrm>
                    <a:off x="5148360" y="2646000"/>
                    <a:ext cx="109440" cy="0"/>
                  </a:xfrm>
                  <a:prstGeom prst="line">
                    <a:avLst/>
                  </a:prstGeom>
                  <a:ln w="38160">
                    <a:solidFill>
                      <a:srgbClr val="9900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371" name=""/>
                  <p:cNvGrpSpPr/>
                  <p:nvPr/>
                </p:nvGrpSpPr>
                <p:grpSpPr>
                  <a:xfrm>
                    <a:off x="4430520" y="2490840"/>
                    <a:ext cx="989280" cy="1041120"/>
                    <a:chOff x="4430520" y="2490840"/>
                    <a:chExt cx="989280" cy="1041120"/>
                  </a:xfrm>
                </p:grpSpPr>
                <p:grpSp>
                  <p:nvGrpSpPr>
                    <p:cNvPr id="372" name=""/>
                    <p:cNvGrpSpPr/>
                    <p:nvPr/>
                  </p:nvGrpSpPr>
                  <p:grpSpPr>
                    <a:xfrm>
                      <a:off x="4435560" y="2889000"/>
                      <a:ext cx="984240" cy="0"/>
                      <a:chOff x="4435560" y="2889000"/>
                      <a:chExt cx="984240" cy="0"/>
                    </a:xfrm>
                  </p:grpSpPr>
                  <p:sp>
                    <p:nvSpPr>
                      <p:cNvPr id="373" name=""/>
                      <p:cNvSpPr/>
                      <p:nvPr/>
                    </p:nvSpPr>
                    <p:spPr>
                      <a:xfrm>
                        <a:off x="4737240" y="2889000"/>
                        <a:ext cx="68256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prstDash val="lgDash"/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74" name=""/>
                      <p:cNvSpPr/>
                      <p:nvPr/>
                    </p:nvSpPr>
                    <p:spPr>
                      <a:xfrm>
                        <a:off x="4435560" y="2889000"/>
                        <a:ext cx="2160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66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375" name=""/>
                    <p:cNvSpPr/>
                    <p:nvPr/>
                  </p:nvSpPr>
                  <p:spPr>
                    <a:xfrm>
                      <a:off x="4944960" y="2646000"/>
                      <a:ext cx="109440" cy="0"/>
                    </a:xfrm>
                    <a:prstGeom prst="line">
                      <a:avLst/>
                    </a:prstGeom>
                    <a:ln w="38160">
                      <a:solidFill>
                        <a:srgbClr val="ff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76" name=""/>
                    <p:cNvSpPr/>
                    <p:nvPr/>
                  </p:nvSpPr>
                  <p:spPr>
                    <a:xfrm>
                      <a:off x="4746600" y="2587320"/>
                      <a:ext cx="74520" cy="741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7360" bIns="273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377" name=""/>
                    <p:cNvGrpSpPr/>
                    <p:nvPr/>
                  </p:nvGrpSpPr>
                  <p:grpSpPr>
                    <a:xfrm>
                      <a:off x="4430520" y="2649240"/>
                      <a:ext cx="984240" cy="0"/>
                      <a:chOff x="4430520" y="2649240"/>
                      <a:chExt cx="984240" cy="0"/>
                    </a:xfrm>
                  </p:grpSpPr>
                  <p:sp>
                    <p:nvSpPr>
                      <p:cNvPr id="378" name=""/>
                      <p:cNvSpPr/>
                      <p:nvPr/>
                    </p:nvSpPr>
                    <p:spPr>
                      <a:xfrm>
                        <a:off x="4732200" y="2649240"/>
                        <a:ext cx="68256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prstDash val="lgDash"/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79" name=""/>
                      <p:cNvSpPr/>
                      <p:nvPr/>
                    </p:nvSpPr>
                    <p:spPr>
                      <a:xfrm>
                        <a:off x="4430520" y="2649240"/>
                        <a:ext cx="2160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66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380" name=""/>
                    <p:cNvGrpSpPr/>
                    <p:nvPr/>
                  </p:nvGrpSpPr>
                  <p:grpSpPr>
                    <a:xfrm>
                      <a:off x="4435560" y="2490840"/>
                      <a:ext cx="984240" cy="0"/>
                      <a:chOff x="4435560" y="2490840"/>
                      <a:chExt cx="984240" cy="0"/>
                    </a:xfrm>
                  </p:grpSpPr>
                  <p:sp>
                    <p:nvSpPr>
                      <p:cNvPr id="381" name=""/>
                      <p:cNvSpPr/>
                      <p:nvPr/>
                    </p:nvSpPr>
                    <p:spPr>
                      <a:xfrm>
                        <a:off x="4737240" y="2490840"/>
                        <a:ext cx="68256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prstDash val="lgDash"/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82" name=""/>
                      <p:cNvSpPr/>
                      <p:nvPr/>
                    </p:nvSpPr>
                    <p:spPr>
                      <a:xfrm>
                        <a:off x="4435560" y="2490840"/>
                        <a:ext cx="2160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66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383" name=""/>
                    <p:cNvGrpSpPr/>
                    <p:nvPr/>
                  </p:nvGrpSpPr>
                  <p:grpSpPr>
                    <a:xfrm>
                      <a:off x="4435560" y="2568240"/>
                      <a:ext cx="984240" cy="0"/>
                      <a:chOff x="4435560" y="2568240"/>
                      <a:chExt cx="984240" cy="0"/>
                    </a:xfrm>
                  </p:grpSpPr>
                  <p:sp>
                    <p:nvSpPr>
                      <p:cNvPr id="384" name=""/>
                      <p:cNvSpPr/>
                      <p:nvPr/>
                    </p:nvSpPr>
                    <p:spPr>
                      <a:xfrm>
                        <a:off x="4737240" y="2568240"/>
                        <a:ext cx="68256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prstDash val="lgDash"/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85" name=""/>
                      <p:cNvSpPr/>
                      <p:nvPr/>
                    </p:nvSpPr>
                    <p:spPr>
                      <a:xfrm>
                        <a:off x="4435560" y="2568240"/>
                        <a:ext cx="2160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66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386" name=""/>
                    <p:cNvGrpSpPr/>
                    <p:nvPr/>
                  </p:nvGrpSpPr>
                  <p:grpSpPr>
                    <a:xfrm>
                      <a:off x="4435560" y="2809440"/>
                      <a:ext cx="984240" cy="0"/>
                      <a:chOff x="4435560" y="2809440"/>
                      <a:chExt cx="984240" cy="0"/>
                    </a:xfrm>
                  </p:grpSpPr>
                  <p:sp>
                    <p:nvSpPr>
                      <p:cNvPr id="387" name=""/>
                      <p:cNvSpPr/>
                      <p:nvPr/>
                    </p:nvSpPr>
                    <p:spPr>
                      <a:xfrm>
                        <a:off x="4737240" y="2809440"/>
                        <a:ext cx="68256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prstDash val="lgDash"/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88" name=""/>
                      <p:cNvSpPr/>
                      <p:nvPr/>
                    </p:nvSpPr>
                    <p:spPr>
                      <a:xfrm>
                        <a:off x="4435560" y="2809440"/>
                        <a:ext cx="2160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66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389" name=""/>
                    <p:cNvGrpSpPr/>
                    <p:nvPr/>
                  </p:nvGrpSpPr>
                  <p:grpSpPr>
                    <a:xfrm>
                      <a:off x="4435560" y="2970000"/>
                      <a:ext cx="984240" cy="0"/>
                      <a:chOff x="4435560" y="2970000"/>
                      <a:chExt cx="984240" cy="0"/>
                    </a:xfrm>
                  </p:grpSpPr>
                  <p:sp>
                    <p:nvSpPr>
                      <p:cNvPr id="390" name=""/>
                      <p:cNvSpPr/>
                      <p:nvPr/>
                    </p:nvSpPr>
                    <p:spPr>
                      <a:xfrm>
                        <a:off x="4737240" y="2970000"/>
                        <a:ext cx="68256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prstDash val="lgDash"/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91" name=""/>
                      <p:cNvSpPr/>
                      <p:nvPr/>
                    </p:nvSpPr>
                    <p:spPr>
                      <a:xfrm>
                        <a:off x="4435560" y="2970000"/>
                        <a:ext cx="2160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66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392" name=""/>
                    <p:cNvGrpSpPr/>
                    <p:nvPr/>
                  </p:nvGrpSpPr>
                  <p:grpSpPr>
                    <a:xfrm>
                      <a:off x="4435560" y="3049200"/>
                      <a:ext cx="984240" cy="0"/>
                      <a:chOff x="4435560" y="3049200"/>
                      <a:chExt cx="984240" cy="0"/>
                    </a:xfrm>
                  </p:grpSpPr>
                  <p:sp>
                    <p:nvSpPr>
                      <p:cNvPr id="393" name=""/>
                      <p:cNvSpPr/>
                      <p:nvPr/>
                    </p:nvSpPr>
                    <p:spPr>
                      <a:xfrm>
                        <a:off x="4737240" y="3049200"/>
                        <a:ext cx="68256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prstDash val="lgDash"/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94" name=""/>
                      <p:cNvSpPr/>
                      <p:nvPr/>
                    </p:nvSpPr>
                    <p:spPr>
                      <a:xfrm>
                        <a:off x="4435560" y="3049200"/>
                        <a:ext cx="2160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66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395" name=""/>
                    <p:cNvGrpSpPr/>
                    <p:nvPr/>
                  </p:nvGrpSpPr>
                  <p:grpSpPr>
                    <a:xfrm>
                      <a:off x="4435560" y="3130200"/>
                      <a:ext cx="984240" cy="0"/>
                      <a:chOff x="4435560" y="3130200"/>
                      <a:chExt cx="984240" cy="0"/>
                    </a:xfrm>
                  </p:grpSpPr>
                  <p:sp>
                    <p:nvSpPr>
                      <p:cNvPr id="396" name=""/>
                      <p:cNvSpPr/>
                      <p:nvPr/>
                    </p:nvSpPr>
                    <p:spPr>
                      <a:xfrm>
                        <a:off x="4737240" y="3130200"/>
                        <a:ext cx="68256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prstDash val="lgDash"/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97" name=""/>
                      <p:cNvSpPr/>
                      <p:nvPr/>
                    </p:nvSpPr>
                    <p:spPr>
                      <a:xfrm>
                        <a:off x="4435560" y="3130200"/>
                        <a:ext cx="2160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66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398" name=""/>
                    <p:cNvSpPr/>
                    <p:nvPr/>
                  </p:nvSpPr>
                  <p:spPr>
                    <a:xfrm>
                      <a:off x="4737240" y="3209760"/>
                      <a:ext cx="68256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prstDash val="lg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9" name=""/>
                    <p:cNvSpPr/>
                    <p:nvPr/>
                  </p:nvSpPr>
                  <p:spPr>
                    <a:xfrm>
                      <a:off x="4435560" y="3209760"/>
                      <a:ext cx="215640" cy="0"/>
                    </a:xfrm>
                    <a:prstGeom prst="line">
                      <a:avLst/>
                    </a:prstGeom>
                    <a:ln w="9360">
                      <a:solidFill>
                        <a:srgbClr val="0066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400" name=""/>
                    <p:cNvGrpSpPr/>
                    <p:nvPr/>
                  </p:nvGrpSpPr>
                  <p:grpSpPr>
                    <a:xfrm>
                      <a:off x="4435560" y="2728440"/>
                      <a:ext cx="984240" cy="0"/>
                      <a:chOff x="4435560" y="2728440"/>
                      <a:chExt cx="984240" cy="0"/>
                    </a:xfrm>
                  </p:grpSpPr>
                  <p:sp>
                    <p:nvSpPr>
                      <p:cNvPr id="401" name=""/>
                      <p:cNvSpPr/>
                      <p:nvPr/>
                    </p:nvSpPr>
                    <p:spPr>
                      <a:xfrm>
                        <a:off x="4737240" y="2728440"/>
                        <a:ext cx="68256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prstDash val="lgDash"/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02" name=""/>
                      <p:cNvSpPr/>
                      <p:nvPr/>
                    </p:nvSpPr>
                    <p:spPr>
                      <a:xfrm>
                        <a:off x="4435560" y="2728440"/>
                        <a:ext cx="2160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66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403" name=""/>
                    <p:cNvGrpSpPr/>
                    <p:nvPr/>
                  </p:nvGrpSpPr>
                  <p:grpSpPr>
                    <a:xfrm>
                      <a:off x="4435560" y="3290760"/>
                      <a:ext cx="984240" cy="0"/>
                      <a:chOff x="4435560" y="3290760"/>
                      <a:chExt cx="984240" cy="0"/>
                    </a:xfrm>
                  </p:grpSpPr>
                  <p:sp>
                    <p:nvSpPr>
                      <p:cNvPr id="404" name=""/>
                      <p:cNvSpPr/>
                      <p:nvPr/>
                    </p:nvSpPr>
                    <p:spPr>
                      <a:xfrm>
                        <a:off x="4737240" y="3290760"/>
                        <a:ext cx="68256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prstDash val="lgDash"/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05" name=""/>
                      <p:cNvSpPr/>
                      <p:nvPr/>
                    </p:nvSpPr>
                    <p:spPr>
                      <a:xfrm>
                        <a:off x="4435560" y="3290760"/>
                        <a:ext cx="2160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66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406" name=""/>
                    <p:cNvGrpSpPr/>
                    <p:nvPr/>
                  </p:nvGrpSpPr>
                  <p:grpSpPr>
                    <a:xfrm>
                      <a:off x="4435560" y="3369960"/>
                      <a:ext cx="984240" cy="0"/>
                      <a:chOff x="4435560" y="3369960"/>
                      <a:chExt cx="984240" cy="0"/>
                    </a:xfrm>
                  </p:grpSpPr>
                  <p:sp>
                    <p:nvSpPr>
                      <p:cNvPr id="407" name=""/>
                      <p:cNvSpPr/>
                      <p:nvPr/>
                    </p:nvSpPr>
                    <p:spPr>
                      <a:xfrm>
                        <a:off x="4737240" y="3369960"/>
                        <a:ext cx="68256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prstDash val="lgDash"/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08" name=""/>
                      <p:cNvSpPr/>
                      <p:nvPr/>
                    </p:nvSpPr>
                    <p:spPr>
                      <a:xfrm>
                        <a:off x="4435560" y="3369960"/>
                        <a:ext cx="2160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66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409" name=""/>
                    <p:cNvGrpSpPr/>
                    <p:nvPr/>
                  </p:nvGrpSpPr>
                  <p:grpSpPr>
                    <a:xfrm>
                      <a:off x="4435560" y="3531960"/>
                      <a:ext cx="984240" cy="0"/>
                      <a:chOff x="4435560" y="3531960"/>
                      <a:chExt cx="984240" cy="0"/>
                    </a:xfrm>
                  </p:grpSpPr>
                  <p:sp>
                    <p:nvSpPr>
                      <p:cNvPr id="410" name=""/>
                      <p:cNvSpPr/>
                      <p:nvPr/>
                    </p:nvSpPr>
                    <p:spPr>
                      <a:xfrm>
                        <a:off x="4737240" y="3531960"/>
                        <a:ext cx="68256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prstDash val="lgDash"/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11" name=""/>
                      <p:cNvSpPr/>
                      <p:nvPr/>
                    </p:nvSpPr>
                    <p:spPr>
                      <a:xfrm>
                        <a:off x="4435560" y="3531960"/>
                        <a:ext cx="2160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66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412" name=""/>
                    <p:cNvGrpSpPr/>
                    <p:nvPr/>
                  </p:nvGrpSpPr>
                  <p:grpSpPr>
                    <a:xfrm>
                      <a:off x="4435560" y="3450960"/>
                      <a:ext cx="984240" cy="0"/>
                      <a:chOff x="4435560" y="3450960"/>
                      <a:chExt cx="984240" cy="0"/>
                    </a:xfrm>
                  </p:grpSpPr>
                  <p:sp>
                    <p:nvSpPr>
                      <p:cNvPr id="413" name=""/>
                      <p:cNvSpPr/>
                      <p:nvPr/>
                    </p:nvSpPr>
                    <p:spPr>
                      <a:xfrm>
                        <a:off x="4737240" y="3450960"/>
                        <a:ext cx="68256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prstDash val="lgDash"/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14" name=""/>
                      <p:cNvSpPr/>
                      <p:nvPr/>
                    </p:nvSpPr>
                    <p:spPr>
                      <a:xfrm>
                        <a:off x="4435560" y="3450960"/>
                        <a:ext cx="2160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66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415" name=""/>
                    <p:cNvSpPr/>
                    <p:nvPr/>
                  </p:nvSpPr>
                  <p:spPr>
                    <a:xfrm>
                      <a:off x="4448160" y="2642760"/>
                      <a:ext cx="216000" cy="0"/>
                    </a:xfrm>
                    <a:prstGeom prst="line">
                      <a:avLst/>
                    </a:prstGeom>
                    <a:ln w="38160">
                      <a:solidFill>
                        <a:srgbClr val="0066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6" name=""/>
                    <p:cNvSpPr/>
                    <p:nvPr/>
                  </p:nvSpPr>
                  <p:spPr>
                    <a:xfrm>
                      <a:off x="5156280" y="2572920"/>
                      <a:ext cx="74520" cy="74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7720" bIns="277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7" name=""/>
                    <p:cNvSpPr/>
                    <p:nvPr/>
                  </p:nvSpPr>
                  <p:spPr>
                    <a:xfrm>
                      <a:off x="4452840" y="2549160"/>
                      <a:ext cx="181080" cy="85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8520" bIns="385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cxnSp>
          <p:nvCxnSpPr>
            <p:cNvPr id="418" name=""/>
            <p:cNvCxnSpPr>
              <a:endCxn id="419" idx="1"/>
            </p:cNvCxnSpPr>
            <p:nvPr/>
          </p:nvCxnSpPr>
          <p:spPr>
            <a:xfrm flipV="1">
              <a:off x="5638320" y="2085480"/>
              <a:ext cx="1321200" cy="658080"/>
            </a:xfrm>
            <a:prstGeom prst="curvedConnector5">
              <a:avLst>
                <a:gd name="adj1" fmla="val 49986"/>
                <a:gd name="adj2" fmla="val 49972"/>
                <a:gd name="adj3" fmla="val 49986"/>
              </a:avLst>
            </a:prstGeom>
            <a:ln w="25560">
              <a:solidFill>
                <a:srgbClr val="993366"/>
              </a:solidFill>
              <a:miter/>
              <a:headEnd len="lg" type="triangle" w="med"/>
            </a:ln>
          </p:spPr>
        </p:cxnSp>
        <p:cxnSp>
          <p:nvCxnSpPr>
            <p:cNvPr id="420" name=""/>
            <p:cNvCxnSpPr/>
            <p:nvPr/>
          </p:nvCxnSpPr>
          <p:spPr>
            <a:xfrm>
              <a:off x="5638680" y="3047760"/>
              <a:ext cx="1153440" cy="144720"/>
            </a:xfrm>
            <a:prstGeom prst="curvedConnector5">
              <a:avLst>
                <a:gd name="adj1" fmla="val 49984"/>
                <a:gd name="adj2" fmla="val 49875"/>
                <a:gd name="adj3" fmla="val 49984"/>
              </a:avLst>
            </a:prstGeom>
            <a:ln w="25560">
              <a:solidFill>
                <a:srgbClr val="ff9900"/>
              </a:solidFill>
              <a:miter/>
              <a:headEnd len="lg" type="triangle" w="med"/>
            </a:ln>
          </p:spPr>
        </p:cxnSp>
        <p:cxnSp>
          <p:nvCxnSpPr>
            <p:cNvPr id="421" name=""/>
            <p:cNvCxnSpPr/>
            <p:nvPr/>
          </p:nvCxnSpPr>
          <p:spPr>
            <a:xfrm flipV="1">
              <a:off x="5638680" y="2437920"/>
              <a:ext cx="1186560" cy="457920"/>
            </a:xfrm>
            <a:prstGeom prst="curvedConnector5">
              <a:avLst>
                <a:gd name="adj1" fmla="val 49924"/>
                <a:gd name="adj2" fmla="val 49960"/>
                <a:gd name="adj3" fmla="val 49924"/>
              </a:avLst>
            </a:prstGeom>
            <a:ln w="25560">
              <a:solidFill>
                <a:srgbClr val="ff0000"/>
              </a:solidFill>
              <a:miter/>
              <a:headEnd len="lg" type="triangle" w="med"/>
            </a:ln>
          </p:spPr>
        </p:cxnSp>
        <p:grpSp>
          <p:nvGrpSpPr>
            <p:cNvPr id="422" name=""/>
            <p:cNvGrpSpPr/>
            <p:nvPr/>
          </p:nvGrpSpPr>
          <p:grpSpPr>
            <a:xfrm>
              <a:off x="6772320" y="1770120"/>
              <a:ext cx="1177560" cy="1638360"/>
              <a:chOff x="6772320" y="1770120"/>
              <a:chExt cx="1177560" cy="1638360"/>
            </a:xfrm>
          </p:grpSpPr>
          <p:sp>
            <p:nvSpPr>
              <p:cNvPr id="423" name=""/>
              <p:cNvSpPr/>
              <p:nvPr/>
            </p:nvSpPr>
            <p:spPr>
              <a:xfrm>
                <a:off x="6862680" y="1770120"/>
                <a:ext cx="930240" cy="906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CAS-R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24" name=""/>
              <p:cNvGrpSpPr/>
              <p:nvPr/>
            </p:nvGrpSpPr>
            <p:grpSpPr>
              <a:xfrm>
                <a:off x="6824520" y="2147760"/>
                <a:ext cx="930240" cy="906480"/>
                <a:chOff x="6824520" y="2147760"/>
                <a:chExt cx="930240" cy="906480"/>
              </a:xfrm>
            </p:grpSpPr>
            <p:sp>
              <p:nvSpPr>
                <p:cNvPr id="425" name=""/>
                <p:cNvSpPr/>
                <p:nvPr/>
              </p:nvSpPr>
              <p:spPr>
                <a:xfrm>
                  <a:off x="6968880" y="2166840"/>
                  <a:ext cx="55440" cy="6120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400" bIns="14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6" name=""/>
                <p:cNvSpPr/>
                <p:nvPr/>
              </p:nvSpPr>
              <p:spPr>
                <a:xfrm>
                  <a:off x="6968880" y="2263680"/>
                  <a:ext cx="55440" cy="6120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400" bIns="14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7" name=""/>
                <p:cNvSpPr/>
                <p:nvPr/>
              </p:nvSpPr>
              <p:spPr>
                <a:xfrm>
                  <a:off x="7107480" y="2367000"/>
                  <a:ext cx="55440" cy="6120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400" bIns="14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8" name=""/>
                <p:cNvSpPr/>
                <p:nvPr/>
              </p:nvSpPr>
              <p:spPr>
                <a:xfrm>
                  <a:off x="7107480" y="2470680"/>
                  <a:ext cx="55440" cy="6120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400" bIns="14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9" name=""/>
                <p:cNvSpPr/>
                <p:nvPr/>
              </p:nvSpPr>
              <p:spPr>
                <a:xfrm>
                  <a:off x="6968880" y="2489760"/>
                  <a:ext cx="55440" cy="6120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400" bIns="14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cxnSp>
              <p:nvCxnSpPr>
                <p:cNvPr id="430" name=""/>
                <p:cNvCxnSpPr>
                  <a:stCxn id="426" idx="2"/>
                  <a:endCxn id="427" idx="1"/>
                </p:cNvCxnSpPr>
                <p:nvPr/>
              </p:nvCxnSpPr>
              <p:spPr>
                <a:xfrm flipH="1" rot="16200000">
                  <a:off x="7014240" y="2306160"/>
                  <a:ext cx="73800" cy="111240"/>
                </a:xfrm>
                <a:prstGeom prst="bentConnector2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431" name=""/>
                <p:cNvCxnSpPr>
                  <a:stCxn id="426" idx="2"/>
                  <a:endCxn id="428" idx="1"/>
                </p:cNvCxnSpPr>
                <p:nvPr/>
              </p:nvCxnSpPr>
              <p:spPr>
                <a:xfrm flipH="1" rot="16200000">
                  <a:off x="6962400" y="2358000"/>
                  <a:ext cx="177480" cy="111240"/>
                </a:xfrm>
                <a:prstGeom prst="bentConnector2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</p:cxnSp>
            <p:sp>
              <p:nvSpPr>
                <p:cNvPr id="432" name=""/>
                <p:cNvSpPr/>
                <p:nvPr/>
              </p:nvSpPr>
              <p:spPr>
                <a:xfrm>
                  <a:off x="7091280" y="2205720"/>
                  <a:ext cx="2980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3" name=""/>
                <p:cNvSpPr/>
                <p:nvPr/>
              </p:nvSpPr>
              <p:spPr>
                <a:xfrm>
                  <a:off x="7091280" y="2302560"/>
                  <a:ext cx="2980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>
                  <a:off x="7216200" y="2399400"/>
                  <a:ext cx="2977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>
                  <a:off x="7216200" y="2457720"/>
                  <a:ext cx="2977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6" name=""/>
                <p:cNvSpPr/>
                <p:nvPr/>
              </p:nvSpPr>
              <p:spPr>
                <a:xfrm>
                  <a:off x="7098120" y="2535120"/>
                  <a:ext cx="2980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7" name=""/>
                <p:cNvSpPr/>
                <p:nvPr/>
              </p:nvSpPr>
              <p:spPr>
                <a:xfrm>
                  <a:off x="6824520" y="2147760"/>
                  <a:ext cx="930240" cy="90648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NLM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8" name=""/>
                <p:cNvSpPr/>
                <p:nvPr/>
              </p:nvSpPr>
              <p:spPr>
                <a:xfrm>
                  <a:off x="6907320" y="2357640"/>
                  <a:ext cx="55440" cy="61200"/>
                </a:xfrm>
                <a:prstGeom prst="rect">
                  <a:avLst/>
                </a:prstGeom>
                <a:solidFill>
                  <a:srgbClr val="ff33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400" bIns="14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9" name=""/>
                <p:cNvSpPr/>
                <p:nvPr/>
              </p:nvSpPr>
              <p:spPr>
                <a:xfrm>
                  <a:off x="7011360" y="2441520"/>
                  <a:ext cx="55440" cy="6120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400" bIns="14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cxnSp>
              <p:nvCxnSpPr>
                <p:cNvPr id="440" name=""/>
                <p:cNvCxnSpPr>
                  <a:stCxn id="438" idx="2"/>
                  <a:endCxn id="439" idx="1"/>
                </p:cNvCxnSpPr>
                <p:nvPr/>
              </p:nvCxnSpPr>
              <p:spPr>
                <a:xfrm flipH="1" rot="16200000">
                  <a:off x="6945120" y="2407320"/>
                  <a:ext cx="54360" cy="76680"/>
                </a:xfrm>
                <a:prstGeom prst="bentConnector2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</p:cxnSp>
            <p:sp>
              <p:nvSpPr>
                <p:cNvPr id="441" name=""/>
                <p:cNvSpPr/>
                <p:nvPr/>
              </p:nvSpPr>
              <p:spPr>
                <a:xfrm>
                  <a:off x="7126920" y="2467440"/>
                  <a:ext cx="29808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2" name=""/>
                <p:cNvSpPr/>
                <p:nvPr/>
              </p:nvSpPr>
              <p:spPr>
                <a:xfrm>
                  <a:off x="7012800" y="2521080"/>
                  <a:ext cx="55080" cy="6120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400" bIns="14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3" name=""/>
                <p:cNvSpPr/>
                <p:nvPr/>
              </p:nvSpPr>
              <p:spPr>
                <a:xfrm>
                  <a:off x="6958080" y="2317680"/>
                  <a:ext cx="65628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  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Benzene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4" name=""/>
              <p:cNvGrpSpPr/>
              <p:nvPr/>
            </p:nvGrpSpPr>
            <p:grpSpPr>
              <a:xfrm>
                <a:off x="6772320" y="2502000"/>
                <a:ext cx="930240" cy="906480"/>
                <a:chOff x="6772320" y="2502000"/>
                <a:chExt cx="930240" cy="906480"/>
              </a:xfrm>
            </p:grpSpPr>
            <p:sp>
              <p:nvSpPr>
                <p:cNvPr id="445" name=""/>
                <p:cNvSpPr/>
                <p:nvPr/>
              </p:nvSpPr>
              <p:spPr>
                <a:xfrm>
                  <a:off x="6915600" y="2544840"/>
                  <a:ext cx="55080" cy="6120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400" bIns="14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6" name=""/>
                <p:cNvSpPr/>
                <p:nvPr/>
              </p:nvSpPr>
              <p:spPr>
                <a:xfrm>
                  <a:off x="7038000" y="2583720"/>
                  <a:ext cx="2980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7" name=""/>
                <p:cNvSpPr/>
                <p:nvPr/>
              </p:nvSpPr>
              <p:spPr>
                <a:xfrm>
                  <a:off x="7039080" y="2559960"/>
                  <a:ext cx="2977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8" name=""/>
                <p:cNvSpPr/>
                <p:nvPr/>
              </p:nvSpPr>
              <p:spPr>
                <a:xfrm>
                  <a:off x="6915600" y="2641680"/>
                  <a:ext cx="55080" cy="6120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400" bIns="14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9" name=""/>
                <p:cNvSpPr/>
                <p:nvPr/>
              </p:nvSpPr>
              <p:spPr>
                <a:xfrm>
                  <a:off x="7054200" y="2745000"/>
                  <a:ext cx="55440" cy="6120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400" bIns="14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0" name=""/>
                <p:cNvSpPr/>
                <p:nvPr/>
              </p:nvSpPr>
              <p:spPr>
                <a:xfrm>
                  <a:off x="7054200" y="2848680"/>
                  <a:ext cx="55440" cy="6120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400" bIns="14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1" name=""/>
                <p:cNvSpPr/>
                <p:nvPr/>
              </p:nvSpPr>
              <p:spPr>
                <a:xfrm>
                  <a:off x="6915600" y="2913120"/>
                  <a:ext cx="55080" cy="6120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400" bIns="14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cxnSp>
              <p:nvCxnSpPr>
                <p:cNvPr id="452" name=""/>
                <p:cNvCxnSpPr>
                  <a:stCxn id="448" idx="2"/>
                  <a:endCxn id="449" idx="1"/>
                </p:cNvCxnSpPr>
                <p:nvPr/>
              </p:nvCxnSpPr>
              <p:spPr>
                <a:xfrm flipH="1" rot="16200000">
                  <a:off x="6960960" y="2683800"/>
                  <a:ext cx="73800" cy="111240"/>
                </a:xfrm>
                <a:prstGeom prst="bentConnector2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453" name=""/>
                <p:cNvCxnSpPr>
                  <a:stCxn id="448" idx="2"/>
                  <a:endCxn id="450" idx="1"/>
                </p:cNvCxnSpPr>
                <p:nvPr/>
              </p:nvCxnSpPr>
              <p:spPr>
                <a:xfrm flipH="1" rot="16200000">
                  <a:off x="6909480" y="2735640"/>
                  <a:ext cx="177120" cy="111240"/>
                </a:xfrm>
                <a:prstGeom prst="bentConnector2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</p:cxnSp>
            <p:sp>
              <p:nvSpPr>
                <p:cNvPr id="454" name=""/>
                <p:cNvSpPr/>
                <p:nvPr/>
              </p:nvSpPr>
              <p:spPr>
                <a:xfrm>
                  <a:off x="7038000" y="2680560"/>
                  <a:ext cx="2980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5" name=""/>
                <p:cNvSpPr/>
                <p:nvPr/>
              </p:nvSpPr>
              <p:spPr>
                <a:xfrm>
                  <a:off x="7162560" y="2777400"/>
                  <a:ext cx="2980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6" name=""/>
                <p:cNvSpPr/>
                <p:nvPr/>
              </p:nvSpPr>
              <p:spPr>
                <a:xfrm>
                  <a:off x="7162560" y="2880720"/>
                  <a:ext cx="2980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7" name=""/>
                <p:cNvSpPr/>
                <p:nvPr/>
              </p:nvSpPr>
              <p:spPr>
                <a:xfrm>
                  <a:off x="7044840" y="2958120"/>
                  <a:ext cx="2977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8" name=""/>
                <p:cNvSpPr/>
                <p:nvPr/>
              </p:nvSpPr>
              <p:spPr>
                <a:xfrm>
                  <a:off x="6916680" y="2617920"/>
                  <a:ext cx="55440" cy="6120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400" bIns="14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9" name=""/>
                <p:cNvSpPr/>
                <p:nvPr/>
              </p:nvSpPr>
              <p:spPr>
                <a:xfrm>
                  <a:off x="7055280" y="2721240"/>
                  <a:ext cx="55440" cy="6120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400" bIns="14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0" name=""/>
                <p:cNvSpPr/>
                <p:nvPr/>
              </p:nvSpPr>
              <p:spPr>
                <a:xfrm>
                  <a:off x="7055280" y="2824920"/>
                  <a:ext cx="55440" cy="6120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400" bIns="14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1" name=""/>
                <p:cNvSpPr/>
                <p:nvPr/>
              </p:nvSpPr>
              <p:spPr>
                <a:xfrm>
                  <a:off x="6916680" y="2889360"/>
                  <a:ext cx="55440" cy="6120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400" bIns="14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cxnSp>
              <p:nvCxnSpPr>
                <p:cNvPr id="462" name=""/>
                <p:cNvCxnSpPr>
                  <a:stCxn id="458" idx="2"/>
                  <a:endCxn id="459" idx="1"/>
                </p:cNvCxnSpPr>
                <p:nvPr/>
              </p:nvCxnSpPr>
              <p:spPr>
                <a:xfrm flipH="1" rot="16200000">
                  <a:off x="6962040" y="2660400"/>
                  <a:ext cx="73800" cy="111240"/>
                </a:xfrm>
                <a:prstGeom prst="bentConnector2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463" name=""/>
                <p:cNvCxnSpPr>
                  <a:stCxn id="458" idx="2"/>
                  <a:endCxn id="460" idx="1"/>
                </p:cNvCxnSpPr>
                <p:nvPr/>
              </p:nvCxnSpPr>
              <p:spPr>
                <a:xfrm flipH="1" rot="16200000">
                  <a:off x="6910560" y="2712240"/>
                  <a:ext cx="177120" cy="111240"/>
                </a:xfrm>
                <a:prstGeom prst="bentConnector2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</p:cxnSp>
            <p:sp>
              <p:nvSpPr>
                <p:cNvPr id="464" name=""/>
                <p:cNvSpPr/>
                <p:nvPr/>
              </p:nvSpPr>
              <p:spPr>
                <a:xfrm>
                  <a:off x="7039080" y="2656800"/>
                  <a:ext cx="2977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5" name=""/>
                <p:cNvSpPr/>
                <p:nvPr/>
              </p:nvSpPr>
              <p:spPr>
                <a:xfrm>
                  <a:off x="7164000" y="2753640"/>
                  <a:ext cx="2977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6" name=""/>
                <p:cNvSpPr/>
                <p:nvPr/>
              </p:nvSpPr>
              <p:spPr>
                <a:xfrm>
                  <a:off x="7164000" y="2856960"/>
                  <a:ext cx="2977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7" name=""/>
                <p:cNvSpPr/>
                <p:nvPr/>
              </p:nvSpPr>
              <p:spPr>
                <a:xfrm>
                  <a:off x="7045920" y="2934360"/>
                  <a:ext cx="2980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8" name=""/>
                <p:cNvSpPr/>
                <p:nvPr/>
              </p:nvSpPr>
              <p:spPr>
                <a:xfrm>
                  <a:off x="6855120" y="2776320"/>
                  <a:ext cx="55440" cy="61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400" bIns="14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>
                  <a:off x="6772320" y="2502000"/>
                  <a:ext cx="930240" cy="90648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Arial"/>
                    </a:rPr>
                    <a:t>Proprietary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Arial"/>
                    </a:rPr>
                    <a:t>Vocabulary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0" name=""/>
                <p:cNvSpPr/>
                <p:nvPr/>
              </p:nvSpPr>
              <p:spPr>
                <a:xfrm>
                  <a:off x="6959160" y="2841120"/>
                  <a:ext cx="55440" cy="61200"/>
                </a:xfrm>
                <a:prstGeom prst="rect">
                  <a:avLst/>
                </a:prstGeom>
                <a:solidFill>
                  <a:srgbClr val="ff99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400" bIns="14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1" name=""/>
                <p:cNvSpPr/>
                <p:nvPr/>
              </p:nvSpPr>
              <p:spPr>
                <a:xfrm>
                  <a:off x="6959160" y="2944080"/>
                  <a:ext cx="55440" cy="6120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400" bIns="14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2" name=""/>
                <p:cNvSpPr/>
                <p:nvPr/>
              </p:nvSpPr>
              <p:spPr>
                <a:xfrm>
                  <a:off x="6959160" y="3041280"/>
                  <a:ext cx="55440" cy="6120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400" bIns="14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3" name=""/>
                <p:cNvSpPr/>
                <p:nvPr/>
              </p:nvSpPr>
              <p:spPr>
                <a:xfrm>
                  <a:off x="7097760" y="3144600"/>
                  <a:ext cx="55440" cy="6120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400" bIns="14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4" name=""/>
                <p:cNvSpPr/>
                <p:nvPr/>
              </p:nvSpPr>
              <p:spPr>
                <a:xfrm>
                  <a:off x="7097760" y="3247920"/>
                  <a:ext cx="55440" cy="6120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400" bIns="14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5" name=""/>
                <p:cNvSpPr/>
                <p:nvPr/>
              </p:nvSpPr>
              <p:spPr>
                <a:xfrm>
                  <a:off x="6959160" y="3312360"/>
                  <a:ext cx="55440" cy="6120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400" bIns="14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cxnSp>
              <p:nvCxnSpPr>
                <p:cNvPr id="476" name=""/>
                <p:cNvCxnSpPr>
                  <a:stCxn id="468" idx="2"/>
                  <a:endCxn id="470" idx="1"/>
                </p:cNvCxnSpPr>
                <p:nvPr/>
              </p:nvCxnSpPr>
              <p:spPr>
                <a:xfrm flipH="1" rot="16200000">
                  <a:off x="6902640" y="2816640"/>
                  <a:ext cx="35280" cy="76680"/>
                </a:xfrm>
                <a:prstGeom prst="bentConnector2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477" name=""/>
                <p:cNvCxnSpPr>
                  <a:stCxn id="468" idx="2"/>
                  <a:endCxn id="471" idx="1"/>
                </p:cNvCxnSpPr>
                <p:nvPr/>
              </p:nvCxnSpPr>
              <p:spPr>
                <a:xfrm flipH="1" rot="16200000">
                  <a:off x="6850800" y="2868120"/>
                  <a:ext cx="138600" cy="76680"/>
                </a:xfrm>
                <a:prstGeom prst="bentConnector2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478" name=""/>
                <p:cNvCxnSpPr>
                  <a:stCxn id="468" idx="2"/>
                  <a:endCxn id="472" idx="1"/>
                </p:cNvCxnSpPr>
                <p:nvPr/>
              </p:nvCxnSpPr>
              <p:spPr>
                <a:xfrm flipH="1" rot="16200000">
                  <a:off x="6802560" y="2916720"/>
                  <a:ext cx="235440" cy="76680"/>
                </a:xfrm>
                <a:prstGeom prst="bentConnector2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479" name=""/>
                <p:cNvCxnSpPr>
                  <a:stCxn id="468" idx="2"/>
                  <a:endCxn id="475" idx="1"/>
                </p:cNvCxnSpPr>
                <p:nvPr/>
              </p:nvCxnSpPr>
              <p:spPr>
                <a:xfrm flipH="1" rot="16200000">
                  <a:off x="6666840" y="3052440"/>
                  <a:ext cx="506880" cy="76680"/>
                </a:xfrm>
                <a:prstGeom prst="bentConnector2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480" name=""/>
                <p:cNvCxnSpPr>
                  <a:stCxn id="472" idx="2"/>
                  <a:endCxn id="473" idx="1"/>
                </p:cNvCxnSpPr>
                <p:nvPr/>
              </p:nvCxnSpPr>
              <p:spPr>
                <a:xfrm flipH="1" rot="16200000">
                  <a:off x="7004520" y="3083400"/>
                  <a:ext cx="73800" cy="111240"/>
                </a:xfrm>
                <a:prstGeom prst="bentConnector2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481" name=""/>
                <p:cNvCxnSpPr>
                  <a:stCxn id="472" idx="2"/>
                  <a:endCxn id="474" idx="1"/>
                </p:cNvCxnSpPr>
                <p:nvPr/>
              </p:nvCxnSpPr>
              <p:spPr>
                <a:xfrm flipH="1" rot="16200000">
                  <a:off x="6953040" y="3135240"/>
                  <a:ext cx="177120" cy="111240"/>
                </a:xfrm>
                <a:prstGeom prst="bentConnector2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</p:cxnSp>
            <p:sp>
              <p:nvSpPr>
                <p:cNvPr id="482" name=""/>
                <p:cNvSpPr/>
                <p:nvPr/>
              </p:nvSpPr>
              <p:spPr>
                <a:xfrm>
                  <a:off x="7081920" y="2982960"/>
                  <a:ext cx="29772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3" name=""/>
                <p:cNvSpPr/>
                <p:nvPr/>
              </p:nvSpPr>
              <p:spPr>
                <a:xfrm>
                  <a:off x="7081920" y="3080160"/>
                  <a:ext cx="29772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4" name=""/>
                <p:cNvSpPr/>
                <p:nvPr/>
              </p:nvSpPr>
              <p:spPr>
                <a:xfrm>
                  <a:off x="7206480" y="3177000"/>
                  <a:ext cx="29808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5" name=""/>
                <p:cNvSpPr/>
                <p:nvPr/>
              </p:nvSpPr>
              <p:spPr>
                <a:xfrm>
                  <a:off x="7206480" y="3280320"/>
                  <a:ext cx="29808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6" name=""/>
                <p:cNvSpPr/>
                <p:nvPr/>
              </p:nvSpPr>
              <p:spPr>
                <a:xfrm>
                  <a:off x="7088760" y="3357720"/>
                  <a:ext cx="29808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7" name=""/>
                <p:cNvSpPr/>
                <p:nvPr/>
              </p:nvSpPr>
              <p:spPr>
                <a:xfrm>
                  <a:off x="7002000" y="2793600"/>
                  <a:ext cx="65628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Benzene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8" name=""/>
              <p:cNvGrpSpPr/>
              <p:nvPr/>
            </p:nvGrpSpPr>
            <p:grpSpPr>
              <a:xfrm>
                <a:off x="6883560" y="1978200"/>
                <a:ext cx="1066320" cy="215640"/>
                <a:chOff x="6883560" y="1978200"/>
                <a:chExt cx="1066320" cy="215640"/>
              </a:xfrm>
            </p:grpSpPr>
            <p:grpSp>
              <p:nvGrpSpPr>
                <p:cNvPr id="489" name=""/>
                <p:cNvGrpSpPr/>
                <p:nvPr/>
              </p:nvGrpSpPr>
              <p:grpSpPr>
                <a:xfrm>
                  <a:off x="6883560" y="1978200"/>
                  <a:ext cx="158040" cy="145800"/>
                  <a:chOff x="6883560" y="1978200"/>
                  <a:chExt cx="158040" cy="145800"/>
                </a:xfrm>
              </p:grpSpPr>
              <p:sp>
                <p:nvSpPr>
                  <p:cNvPr id="490" name=""/>
                  <p:cNvSpPr/>
                  <p:nvPr/>
                </p:nvSpPr>
                <p:spPr>
                  <a:xfrm>
                    <a:off x="6883560" y="1978200"/>
                    <a:ext cx="55080" cy="61920"/>
                  </a:xfrm>
                  <a:prstGeom prst="rect">
                    <a:avLst/>
                  </a:prstGeom>
                  <a:solidFill>
                    <a:srgbClr val="990099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120" bIns="15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1" name=""/>
                  <p:cNvSpPr/>
                  <p:nvPr/>
                </p:nvSpPr>
                <p:spPr>
                  <a:xfrm>
                    <a:off x="6986160" y="2062440"/>
                    <a:ext cx="55440" cy="61560"/>
                  </a:xfrm>
                  <a:prstGeom prst="rect">
                    <a:avLst/>
                  </a:prstGeom>
                  <a:solidFill>
                    <a:srgbClr val="ffff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760" bIns="14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cxnSp>
                <p:nvCxnSpPr>
                  <p:cNvPr id="492" name=""/>
                  <p:cNvCxnSpPr>
                    <a:stCxn id="490" idx="2"/>
                    <a:endCxn id="491" idx="1"/>
                  </p:cNvCxnSpPr>
                  <p:nvPr/>
                </p:nvCxnSpPr>
                <p:spPr>
                  <a:xfrm flipH="1" rot="16200000">
                    <a:off x="6921000" y="2028960"/>
                    <a:ext cx="54720" cy="76320"/>
                  </a:xfrm>
                  <a:prstGeom prst="bentConnector2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</p:cxnSp>
            </p:grpSp>
            <p:sp>
              <p:nvSpPr>
                <p:cNvPr id="419" name=""/>
                <p:cNvSpPr/>
                <p:nvPr/>
              </p:nvSpPr>
              <p:spPr>
                <a:xfrm>
                  <a:off x="6959520" y="1978200"/>
                  <a:ext cx="99036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Cyclohexatriene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3352680" y="29340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DIN-Black"/>
              </a:rPr>
              <a:t>Intelligent searching</a:t>
            </a:r>
            <a:endParaRPr b="0" lang="en-US" sz="2800" spc="-1" strike="noStrike">
              <a:solidFill>
                <a:srgbClr val="ffff00"/>
              </a:solidFill>
              <a:latin typeface="DIN-Black"/>
            </a:endParaRPr>
          </a:p>
        </p:txBody>
      </p:sp>
      <p:grpSp>
        <p:nvGrpSpPr>
          <p:cNvPr id="494" name=""/>
          <p:cNvGrpSpPr/>
          <p:nvPr/>
        </p:nvGrpSpPr>
        <p:grpSpPr>
          <a:xfrm>
            <a:off x="685800" y="1225440"/>
            <a:ext cx="3429360" cy="4260960"/>
            <a:chOff x="685800" y="1225440"/>
            <a:chExt cx="3429360" cy="4260960"/>
          </a:xfrm>
        </p:grpSpPr>
        <p:sp>
          <p:nvSpPr>
            <p:cNvPr id="495" name=""/>
            <p:cNvSpPr/>
            <p:nvPr/>
          </p:nvSpPr>
          <p:spPr>
            <a:xfrm>
              <a:off x="762120" y="1447920"/>
              <a:ext cx="2438280" cy="38088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96" name="B_OPL150" descr=""/>
            <p:cNvPicPr/>
            <p:nvPr/>
          </p:nvPicPr>
          <p:blipFill>
            <a:blip r:embed="rId1"/>
            <a:stretch/>
          </p:blipFill>
          <p:spPr>
            <a:xfrm>
              <a:off x="2158920" y="3352680"/>
              <a:ext cx="725400" cy="2133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7" name="B_OPL219" descr=""/>
            <p:cNvPicPr/>
            <p:nvPr/>
          </p:nvPicPr>
          <p:blipFill>
            <a:blip r:embed="rId2"/>
            <a:stretch/>
          </p:blipFill>
          <p:spPr>
            <a:xfrm>
              <a:off x="685800" y="2514600"/>
              <a:ext cx="487440" cy="182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8" name="B_OPL219" descr=""/>
            <p:cNvPicPr/>
            <p:nvPr/>
          </p:nvPicPr>
          <p:blipFill>
            <a:blip r:embed="rId3"/>
            <a:stretch/>
          </p:blipFill>
          <p:spPr>
            <a:xfrm>
              <a:off x="1836720" y="2286000"/>
              <a:ext cx="461880" cy="144792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499" name=""/>
            <p:cNvCxnSpPr/>
            <p:nvPr/>
          </p:nvCxnSpPr>
          <p:spPr>
            <a:xfrm>
              <a:off x="2362320" y="2819160"/>
              <a:ext cx="1753200" cy="229320"/>
            </a:xfrm>
            <a:prstGeom prst="curvedConnector5">
              <a:avLst>
                <a:gd name="adj1" fmla="val 49989"/>
                <a:gd name="adj2" fmla="val 50000"/>
                <a:gd name="adj3" fmla="val 49989"/>
              </a:avLst>
            </a:prstGeom>
            <a:ln w="25560">
              <a:solidFill>
                <a:srgbClr val="993366"/>
              </a:solidFill>
              <a:miter/>
              <a:tailEnd len="lg" type="triangle" w="med"/>
            </a:ln>
          </p:spPr>
        </p:cxnSp>
        <p:cxnSp>
          <p:nvCxnSpPr>
            <p:cNvPr id="500" name=""/>
            <p:cNvCxnSpPr/>
            <p:nvPr/>
          </p:nvCxnSpPr>
          <p:spPr>
            <a:xfrm>
              <a:off x="1066320" y="2895120"/>
              <a:ext cx="3048840" cy="38196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25560">
              <a:solidFill>
                <a:srgbClr val="993366"/>
              </a:solidFill>
              <a:miter/>
              <a:tailEnd len="lg" type="triangle" w="med"/>
            </a:ln>
          </p:spPr>
        </p:cxnSp>
        <p:cxnSp>
          <p:nvCxnSpPr>
            <p:cNvPr id="501" name=""/>
            <p:cNvCxnSpPr/>
            <p:nvPr/>
          </p:nvCxnSpPr>
          <p:spPr>
            <a:xfrm>
              <a:off x="1752480" y="2057040"/>
              <a:ext cx="2363040" cy="762840"/>
            </a:xfrm>
            <a:prstGeom prst="curvedConnector5">
              <a:avLst>
                <a:gd name="adj1" fmla="val 49992"/>
                <a:gd name="adj2" fmla="val 50000"/>
                <a:gd name="adj3" fmla="val 49992"/>
              </a:avLst>
            </a:prstGeom>
            <a:ln w="25560">
              <a:solidFill>
                <a:srgbClr val="ff0000"/>
              </a:solidFill>
              <a:miter/>
              <a:tailEnd len="lg" type="triangle" w="med"/>
            </a:ln>
          </p:spPr>
        </p:cxnSp>
        <p:cxnSp>
          <p:nvCxnSpPr>
            <p:cNvPr id="502" name=""/>
            <p:cNvCxnSpPr/>
            <p:nvPr/>
          </p:nvCxnSpPr>
          <p:spPr>
            <a:xfrm flipV="1">
              <a:off x="2819520" y="3428640"/>
              <a:ext cx="1296000" cy="915120"/>
            </a:xfrm>
            <a:prstGeom prst="curvedConnector5">
              <a:avLst>
                <a:gd name="adj1" fmla="val 49986"/>
                <a:gd name="adj2" fmla="val 49980"/>
                <a:gd name="adj3" fmla="val 49986"/>
              </a:avLst>
            </a:prstGeom>
            <a:ln w="25560">
              <a:solidFill>
                <a:srgbClr val="ffff99"/>
              </a:solidFill>
              <a:miter/>
              <a:tailEnd len="lg" type="triangle" w="med"/>
            </a:ln>
          </p:spPr>
        </p:cxnSp>
        <p:pic>
          <p:nvPicPr>
            <p:cNvPr id="503" name="B_OPL150" descr=""/>
            <p:cNvPicPr/>
            <p:nvPr/>
          </p:nvPicPr>
          <p:blipFill>
            <a:blip r:embed="rId4"/>
            <a:stretch/>
          </p:blipFill>
          <p:spPr>
            <a:xfrm>
              <a:off x="1371600" y="1676520"/>
              <a:ext cx="320760" cy="94608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504" name=""/>
            <p:cNvCxnSpPr/>
            <p:nvPr/>
          </p:nvCxnSpPr>
          <p:spPr>
            <a:xfrm>
              <a:off x="2437920" y="1828440"/>
              <a:ext cx="1677240" cy="76284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25560">
              <a:solidFill>
                <a:srgbClr val="ff9900"/>
              </a:solidFill>
              <a:miter/>
              <a:tailEnd len="lg" type="triangle" w="med"/>
            </a:ln>
          </p:spPr>
        </p:cxnSp>
        <p:cxnSp>
          <p:nvCxnSpPr>
            <p:cNvPr id="505" name=""/>
            <p:cNvCxnSpPr/>
            <p:nvPr/>
          </p:nvCxnSpPr>
          <p:spPr>
            <a:xfrm>
              <a:off x="2895120" y="1523520"/>
              <a:ext cx="1220040" cy="83916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25560">
              <a:solidFill>
                <a:srgbClr val="ff0000"/>
              </a:solidFill>
              <a:miter/>
              <a:tailEnd len="lg" type="triangle" w="med"/>
            </a:ln>
          </p:spPr>
        </p:cxnSp>
        <p:pic>
          <p:nvPicPr>
            <p:cNvPr id="506" name="B_OPL219" descr=""/>
            <p:cNvPicPr/>
            <p:nvPr/>
          </p:nvPicPr>
          <p:blipFill>
            <a:blip r:embed="rId5"/>
            <a:stretch/>
          </p:blipFill>
          <p:spPr>
            <a:xfrm>
              <a:off x="2127240" y="1415880"/>
              <a:ext cx="181080" cy="57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7" name="B_OPL150" descr=""/>
            <p:cNvPicPr/>
            <p:nvPr/>
          </p:nvPicPr>
          <p:blipFill>
            <a:blip r:embed="rId6"/>
            <a:stretch/>
          </p:blipFill>
          <p:spPr>
            <a:xfrm>
              <a:off x="2692440" y="1225440"/>
              <a:ext cx="191880" cy="565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08" name=""/>
          <p:cNvGrpSpPr/>
          <p:nvPr/>
        </p:nvGrpSpPr>
        <p:grpSpPr>
          <a:xfrm>
            <a:off x="976680" y="2819520"/>
            <a:ext cx="5173200" cy="3612960"/>
            <a:chOff x="976680" y="2819520"/>
            <a:chExt cx="5173200" cy="3612960"/>
          </a:xfrm>
        </p:grpSpPr>
        <p:sp>
          <p:nvSpPr>
            <p:cNvPr id="509" name=""/>
            <p:cNvSpPr/>
            <p:nvPr/>
          </p:nvSpPr>
          <p:spPr>
            <a:xfrm>
              <a:off x="3733920" y="4572000"/>
              <a:ext cx="2415960" cy="1860480"/>
            </a:xfrm>
            <a:prstGeom prst="flowChartMagneticDisk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00"/>
                </a:gs>
              </a:gsLst>
              <a:lin ang="5400000"/>
            </a:gradFill>
            <a:ln w="324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 rot="16353000">
              <a:off x="2132640" y="4189680"/>
              <a:ext cx="608040" cy="2895840"/>
            </a:xfrm>
            <a:custGeom>
              <a:avLst/>
              <a:gdLst>
                <a:gd name="textAreaLeft" fmla="*/ 0 w 608040"/>
                <a:gd name="textAreaRight" fmla="*/ 608400 w 608040"/>
                <a:gd name="textAreaTop" fmla="*/ 0 h 2895840"/>
                <a:gd name="textAreaBottom" fmla="*/ 2896200 h 2895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260" stAng="10800000" swAng="5400000"/>
                  <a:lnTo>
                    <a:pt x="15100" y="2900"/>
                  </a:lnTo>
                  <a:lnTo>
                    <a:pt x="15100" y="0"/>
                  </a:lnTo>
                  <a:lnTo>
                    <a:pt x="21600" y="6079"/>
                  </a:lnTo>
                  <a:lnTo>
                    <a:pt x="15100" y="12158"/>
                  </a:lnTo>
                  <a:lnTo>
                    <a:pt x="15100" y="9258"/>
                  </a:lnTo>
                  <a:lnTo>
                    <a:pt x="12427" y="9258"/>
                  </a:lnTo>
                  <a:arcTo wR="6069" hR="2902" stAng="16200000" swAng="-5400000"/>
                  <a:lnTo>
                    <a:pt x="6358" y="2160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4419720" y="2819520"/>
              <a:ext cx="228600" cy="2057400"/>
            </a:xfrm>
            <a:prstGeom prst="downArrow">
              <a:avLst>
                <a:gd name="adj1" fmla="val 50000"/>
                <a:gd name="adj2" fmla="val 225000"/>
              </a:avLst>
            </a:pr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 thruBlk="true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3352680" y="29340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DIN-Black"/>
              </a:rPr>
              <a:t>Electronic commerce</a:t>
            </a:r>
            <a:endParaRPr b="0" lang="en-US" sz="2800" spc="-1" strike="noStrike">
              <a:solidFill>
                <a:srgbClr val="ffff00"/>
              </a:solidFill>
              <a:latin typeface="DIN-Black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5105520" y="1447920"/>
            <a:ext cx="3733560" cy="2565360"/>
            <a:chOff x="5105520" y="1447920"/>
            <a:chExt cx="3733560" cy="2565360"/>
          </a:xfrm>
        </p:grpSpPr>
        <p:sp>
          <p:nvSpPr>
            <p:cNvPr id="514" name=""/>
            <p:cNvSpPr/>
            <p:nvPr/>
          </p:nvSpPr>
          <p:spPr>
            <a:xfrm>
              <a:off x="5105520" y="2286000"/>
              <a:ext cx="1981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DIN-Black"/>
                </a:rPr>
                <a:t>Metathesauru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5" name=""/>
            <p:cNvGrpSpPr/>
            <p:nvPr/>
          </p:nvGrpSpPr>
          <p:grpSpPr>
            <a:xfrm>
              <a:off x="5334120" y="2743200"/>
              <a:ext cx="1143000" cy="1270080"/>
              <a:chOff x="5334120" y="2743200"/>
              <a:chExt cx="1143000" cy="1270080"/>
            </a:xfrm>
          </p:grpSpPr>
          <p:sp>
            <p:nvSpPr>
              <p:cNvPr id="516" name=""/>
              <p:cNvSpPr/>
              <p:nvPr/>
            </p:nvSpPr>
            <p:spPr>
              <a:xfrm>
                <a:off x="5334120" y="2743200"/>
                <a:ext cx="1143000" cy="1270080"/>
              </a:xfrm>
              <a:prstGeom prst="rect">
                <a:avLst/>
              </a:prstGeom>
              <a:solidFill>
                <a:srgbClr val="eaeaea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17" name=""/>
              <p:cNvGrpSpPr/>
              <p:nvPr/>
            </p:nvGrpSpPr>
            <p:grpSpPr>
              <a:xfrm>
                <a:off x="5416560" y="2865600"/>
                <a:ext cx="989280" cy="1041480"/>
                <a:chOff x="5416560" y="2865600"/>
                <a:chExt cx="989280" cy="1041480"/>
              </a:xfrm>
            </p:grpSpPr>
            <p:sp>
              <p:nvSpPr>
                <p:cNvPr id="518" name=""/>
                <p:cNvSpPr/>
                <p:nvPr/>
              </p:nvSpPr>
              <p:spPr>
                <a:xfrm>
                  <a:off x="5720040" y="3021120"/>
                  <a:ext cx="109440" cy="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9" name=""/>
                <p:cNvSpPr/>
                <p:nvPr/>
              </p:nvSpPr>
              <p:spPr>
                <a:xfrm>
                  <a:off x="6134400" y="3021120"/>
                  <a:ext cx="109440" cy="0"/>
                </a:xfrm>
                <a:prstGeom prst="line">
                  <a:avLst/>
                </a:prstGeom>
                <a:ln w="38160">
                  <a:solidFill>
                    <a:srgbClr val="99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20" name=""/>
                <p:cNvGrpSpPr/>
                <p:nvPr/>
              </p:nvGrpSpPr>
              <p:grpSpPr>
                <a:xfrm>
                  <a:off x="5416560" y="2865600"/>
                  <a:ext cx="989280" cy="1041480"/>
                  <a:chOff x="5416560" y="2865600"/>
                  <a:chExt cx="989280" cy="1041480"/>
                </a:xfrm>
              </p:grpSpPr>
              <p:grpSp>
                <p:nvGrpSpPr>
                  <p:cNvPr id="521" name=""/>
                  <p:cNvGrpSpPr/>
                  <p:nvPr/>
                </p:nvGrpSpPr>
                <p:grpSpPr>
                  <a:xfrm>
                    <a:off x="5421600" y="3264120"/>
                    <a:ext cx="984240" cy="0"/>
                    <a:chOff x="5421600" y="3264120"/>
                    <a:chExt cx="984240" cy="0"/>
                  </a:xfrm>
                </p:grpSpPr>
                <p:sp>
                  <p:nvSpPr>
                    <p:cNvPr id="522" name=""/>
                    <p:cNvSpPr/>
                    <p:nvPr/>
                  </p:nvSpPr>
                  <p:spPr>
                    <a:xfrm>
                      <a:off x="5723280" y="3264120"/>
                      <a:ext cx="68256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prstDash val="lg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3" name=""/>
                    <p:cNvSpPr/>
                    <p:nvPr/>
                  </p:nvSpPr>
                  <p:spPr>
                    <a:xfrm>
                      <a:off x="5421600" y="3264120"/>
                      <a:ext cx="216000" cy="0"/>
                    </a:xfrm>
                    <a:prstGeom prst="line">
                      <a:avLst/>
                    </a:prstGeom>
                    <a:ln w="9360">
                      <a:solidFill>
                        <a:srgbClr val="0066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524" name=""/>
                  <p:cNvSpPr/>
                  <p:nvPr/>
                </p:nvSpPr>
                <p:spPr>
                  <a:xfrm>
                    <a:off x="5931000" y="3021120"/>
                    <a:ext cx="109440" cy="0"/>
                  </a:xfrm>
                  <a:prstGeom prst="line">
                    <a:avLst/>
                  </a:prstGeom>
                  <a:ln w="3816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5" name=""/>
                  <p:cNvSpPr/>
                  <p:nvPr/>
                </p:nvSpPr>
                <p:spPr>
                  <a:xfrm>
                    <a:off x="5732640" y="2962440"/>
                    <a:ext cx="74520" cy="74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526" name=""/>
                  <p:cNvGrpSpPr/>
                  <p:nvPr/>
                </p:nvGrpSpPr>
                <p:grpSpPr>
                  <a:xfrm>
                    <a:off x="5416560" y="3024360"/>
                    <a:ext cx="984240" cy="0"/>
                    <a:chOff x="5416560" y="3024360"/>
                    <a:chExt cx="984240" cy="0"/>
                  </a:xfrm>
                </p:grpSpPr>
                <p:sp>
                  <p:nvSpPr>
                    <p:cNvPr id="527" name=""/>
                    <p:cNvSpPr/>
                    <p:nvPr/>
                  </p:nvSpPr>
                  <p:spPr>
                    <a:xfrm>
                      <a:off x="5718240" y="3024360"/>
                      <a:ext cx="68256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prstDash val="lg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8" name=""/>
                    <p:cNvSpPr/>
                    <p:nvPr/>
                  </p:nvSpPr>
                  <p:spPr>
                    <a:xfrm>
                      <a:off x="5416560" y="3024360"/>
                      <a:ext cx="216000" cy="0"/>
                    </a:xfrm>
                    <a:prstGeom prst="line">
                      <a:avLst/>
                    </a:prstGeom>
                    <a:ln w="9360">
                      <a:solidFill>
                        <a:srgbClr val="0066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529" name=""/>
                  <p:cNvGrpSpPr/>
                  <p:nvPr/>
                </p:nvGrpSpPr>
                <p:grpSpPr>
                  <a:xfrm>
                    <a:off x="5421600" y="2865600"/>
                    <a:ext cx="984240" cy="0"/>
                    <a:chOff x="5421600" y="2865600"/>
                    <a:chExt cx="984240" cy="0"/>
                  </a:xfrm>
                </p:grpSpPr>
                <p:sp>
                  <p:nvSpPr>
                    <p:cNvPr id="530" name=""/>
                    <p:cNvSpPr/>
                    <p:nvPr/>
                  </p:nvSpPr>
                  <p:spPr>
                    <a:xfrm>
                      <a:off x="5723280" y="2865600"/>
                      <a:ext cx="68256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prstDash val="lg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1" name=""/>
                    <p:cNvSpPr/>
                    <p:nvPr/>
                  </p:nvSpPr>
                  <p:spPr>
                    <a:xfrm>
                      <a:off x="5421600" y="2865600"/>
                      <a:ext cx="216000" cy="0"/>
                    </a:xfrm>
                    <a:prstGeom prst="line">
                      <a:avLst/>
                    </a:prstGeom>
                    <a:ln w="9360">
                      <a:solidFill>
                        <a:srgbClr val="0066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532" name=""/>
                  <p:cNvGrpSpPr/>
                  <p:nvPr/>
                </p:nvGrpSpPr>
                <p:grpSpPr>
                  <a:xfrm>
                    <a:off x="5421600" y="2943360"/>
                    <a:ext cx="984240" cy="0"/>
                    <a:chOff x="5421600" y="2943360"/>
                    <a:chExt cx="984240" cy="0"/>
                  </a:xfrm>
                </p:grpSpPr>
                <p:sp>
                  <p:nvSpPr>
                    <p:cNvPr id="533" name=""/>
                    <p:cNvSpPr/>
                    <p:nvPr/>
                  </p:nvSpPr>
                  <p:spPr>
                    <a:xfrm>
                      <a:off x="5723280" y="2943360"/>
                      <a:ext cx="68256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prstDash val="lg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4" name=""/>
                    <p:cNvSpPr/>
                    <p:nvPr/>
                  </p:nvSpPr>
                  <p:spPr>
                    <a:xfrm>
                      <a:off x="5421600" y="2943360"/>
                      <a:ext cx="216000" cy="0"/>
                    </a:xfrm>
                    <a:prstGeom prst="line">
                      <a:avLst/>
                    </a:prstGeom>
                    <a:ln w="9360">
                      <a:solidFill>
                        <a:srgbClr val="0066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535" name=""/>
                  <p:cNvGrpSpPr/>
                  <p:nvPr/>
                </p:nvGrpSpPr>
                <p:grpSpPr>
                  <a:xfrm>
                    <a:off x="5421600" y="3184560"/>
                    <a:ext cx="984240" cy="0"/>
                    <a:chOff x="5421600" y="3184560"/>
                    <a:chExt cx="984240" cy="0"/>
                  </a:xfrm>
                </p:grpSpPr>
                <p:sp>
                  <p:nvSpPr>
                    <p:cNvPr id="536" name=""/>
                    <p:cNvSpPr/>
                    <p:nvPr/>
                  </p:nvSpPr>
                  <p:spPr>
                    <a:xfrm>
                      <a:off x="5723280" y="3184560"/>
                      <a:ext cx="68256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prstDash val="lg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7" name=""/>
                    <p:cNvSpPr/>
                    <p:nvPr/>
                  </p:nvSpPr>
                  <p:spPr>
                    <a:xfrm>
                      <a:off x="5421600" y="3184560"/>
                      <a:ext cx="216000" cy="0"/>
                    </a:xfrm>
                    <a:prstGeom prst="line">
                      <a:avLst/>
                    </a:prstGeom>
                    <a:ln w="9360">
                      <a:solidFill>
                        <a:srgbClr val="0066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538" name=""/>
                  <p:cNvGrpSpPr/>
                  <p:nvPr/>
                </p:nvGrpSpPr>
                <p:grpSpPr>
                  <a:xfrm>
                    <a:off x="5421600" y="3345120"/>
                    <a:ext cx="984240" cy="0"/>
                    <a:chOff x="5421600" y="3345120"/>
                    <a:chExt cx="984240" cy="0"/>
                  </a:xfrm>
                </p:grpSpPr>
                <p:sp>
                  <p:nvSpPr>
                    <p:cNvPr id="539" name=""/>
                    <p:cNvSpPr/>
                    <p:nvPr/>
                  </p:nvSpPr>
                  <p:spPr>
                    <a:xfrm>
                      <a:off x="5723280" y="3345120"/>
                      <a:ext cx="68256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prstDash val="lg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40" name=""/>
                    <p:cNvSpPr/>
                    <p:nvPr/>
                  </p:nvSpPr>
                  <p:spPr>
                    <a:xfrm>
                      <a:off x="5421600" y="3345120"/>
                      <a:ext cx="216000" cy="0"/>
                    </a:xfrm>
                    <a:prstGeom prst="line">
                      <a:avLst/>
                    </a:prstGeom>
                    <a:ln w="9360">
                      <a:solidFill>
                        <a:srgbClr val="0066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541" name=""/>
                  <p:cNvGrpSpPr/>
                  <p:nvPr/>
                </p:nvGrpSpPr>
                <p:grpSpPr>
                  <a:xfrm>
                    <a:off x="5421600" y="3424320"/>
                    <a:ext cx="984240" cy="0"/>
                    <a:chOff x="5421600" y="3424320"/>
                    <a:chExt cx="984240" cy="0"/>
                  </a:xfrm>
                </p:grpSpPr>
                <p:sp>
                  <p:nvSpPr>
                    <p:cNvPr id="542" name=""/>
                    <p:cNvSpPr/>
                    <p:nvPr/>
                  </p:nvSpPr>
                  <p:spPr>
                    <a:xfrm>
                      <a:off x="5723280" y="3424320"/>
                      <a:ext cx="68256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prstDash val="lg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43" name=""/>
                    <p:cNvSpPr/>
                    <p:nvPr/>
                  </p:nvSpPr>
                  <p:spPr>
                    <a:xfrm>
                      <a:off x="5421600" y="3424320"/>
                      <a:ext cx="216000" cy="0"/>
                    </a:xfrm>
                    <a:prstGeom prst="line">
                      <a:avLst/>
                    </a:prstGeom>
                    <a:ln w="9360">
                      <a:solidFill>
                        <a:srgbClr val="0066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544" name=""/>
                  <p:cNvGrpSpPr/>
                  <p:nvPr/>
                </p:nvGrpSpPr>
                <p:grpSpPr>
                  <a:xfrm>
                    <a:off x="5421600" y="3505320"/>
                    <a:ext cx="984240" cy="0"/>
                    <a:chOff x="5421600" y="3505320"/>
                    <a:chExt cx="984240" cy="0"/>
                  </a:xfrm>
                </p:grpSpPr>
                <p:sp>
                  <p:nvSpPr>
                    <p:cNvPr id="545" name=""/>
                    <p:cNvSpPr/>
                    <p:nvPr/>
                  </p:nvSpPr>
                  <p:spPr>
                    <a:xfrm>
                      <a:off x="5723280" y="3505320"/>
                      <a:ext cx="68256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prstDash val="lg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46" name=""/>
                    <p:cNvSpPr/>
                    <p:nvPr/>
                  </p:nvSpPr>
                  <p:spPr>
                    <a:xfrm>
                      <a:off x="5421600" y="3505320"/>
                      <a:ext cx="216000" cy="0"/>
                    </a:xfrm>
                    <a:prstGeom prst="line">
                      <a:avLst/>
                    </a:prstGeom>
                    <a:ln w="9360">
                      <a:solidFill>
                        <a:srgbClr val="0066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547" name=""/>
                  <p:cNvSpPr/>
                  <p:nvPr/>
                </p:nvSpPr>
                <p:spPr>
                  <a:xfrm>
                    <a:off x="5723280" y="3584880"/>
                    <a:ext cx="6825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lg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8" name=""/>
                  <p:cNvSpPr/>
                  <p:nvPr/>
                </p:nvSpPr>
                <p:spPr>
                  <a:xfrm>
                    <a:off x="5421600" y="3584880"/>
                    <a:ext cx="215640" cy="0"/>
                  </a:xfrm>
                  <a:prstGeom prst="line">
                    <a:avLst/>
                  </a:prstGeom>
                  <a:ln w="9360">
                    <a:solidFill>
                      <a:srgbClr val="0066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549" name=""/>
                  <p:cNvGrpSpPr/>
                  <p:nvPr/>
                </p:nvGrpSpPr>
                <p:grpSpPr>
                  <a:xfrm>
                    <a:off x="5421600" y="3103560"/>
                    <a:ext cx="984240" cy="0"/>
                    <a:chOff x="5421600" y="3103560"/>
                    <a:chExt cx="984240" cy="0"/>
                  </a:xfrm>
                </p:grpSpPr>
                <p:sp>
                  <p:nvSpPr>
                    <p:cNvPr id="550" name=""/>
                    <p:cNvSpPr/>
                    <p:nvPr/>
                  </p:nvSpPr>
                  <p:spPr>
                    <a:xfrm>
                      <a:off x="5723280" y="3103560"/>
                      <a:ext cx="68256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prstDash val="lg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51" name=""/>
                    <p:cNvSpPr/>
                    <p:nvPr/>
                  </p:nvSpPr>
                  <p:spPr>
                    <a:xfrm>
                      <a:off x="5421600" y="3103560"/>
                      <a:ext cx="216000" cy="0"/>
                    </a:xfrm>
                    <a:prstGeom prst="line">
                      <a:avLst/>
                    </a:prstGeom>
                    <a:ln w="9360">
                      <a:solidFill>
                        <a:srgbClr val="0066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552" name=""/>
                  <p:cNvGrpSpPr/>
                  <p:nvPr/>
                </p:nvGrpSpPr>
                <p:grpSpPr>
                  <a:xfrm>
                    <a:off x="5421600" y="3665880"/>
                    <a:ext cx="984240" cy="0"/>
                    <a:chOff x="5421600" y="3665880"/>
                    <a:chExt cx="984240" cy="0"/>
                  </a:xfrm>
                </p:grpSpPr>
                <p:sp>
                  <p:nvSpPr>
                    <p:cNvPr id="553" name=""/>
                    <p:cNvSpPr/>
                    <p:nvPr/>
                  </p:nvSpPr>
                  <p:spPr>
                    <a:xfrm>
                      <a:off x="5723280" y="3665880"/>
                      <a:ext cx="68256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prstDash val="lg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54" name=""/>
                    <p:cNvSpPr/>
                    <p:nvPr/>
                  </p:nvSpPr>
                  <p:spPr>
                    <a:xfrm>
                      <a:off x="5421600" y="3665880"/>
                      <a:ext cx="216000" cy="0"/>
                    </a:xfrm>
                    <a:prstGeom prst="line">
                      <a:avLst/>
                    </a:prstGeom>
                    <a:ln w="9360">
                      <a:solidFill>
                        <a:srgbClr val="0066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555" name=""/>
                  <p:cNvGrpSpPr/>
                  <p:nvPr/>
                </p:nvGrpSpPr>
                <p:grpSpPr>
                  <a:xfrm>
                    <a:off x="5421600" y="3745080"/>
                    <a:ext cx="984240" cy="0"/>
                    <a:chOff x="5421600" y="3745080"/>
                    <a:chExt cx="984240" cy="0"/>
                  </a:xfrm>
                </p:grpSpPr>
                <p:sp>
                  <p:nvSpPr>
                    <p:cNvPr id="556" name=""/>
                    <p:cNvSpPr/>
                    <p:nvPr/>
                  </p:nvSpPr>
                  <p:spPr>
                    <a:xfrm>
                      <a:off x="5723280" y="3745080"/>
                      <a:ext cx="68256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prstDash val="lg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57" name=""/>
                    <p:cNvSpPr/>
                    <p:nvPr/>
                  </p:nvSpPr>
                  <p:spPr>
                    <a:xfrm>
                      <a:off x="5421600" y="3745080"/>
                      <a:ext cx="216000" cy="0"/>
                    </a:xfrm>
                    <a:prstGeom prst="line">
                      <a:avLst/>
                    </a:prstGeom>
                    <a:ln w="9360">
                      <a:solidFill>
                        <a:srgbClr val="0066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558" name=""/>
                  <p:cNvGrpSpPr/>
                  <p:nvPr/>
                </p:nvGrpSpPr>
                <p:grpSpPr>
                  <a:xfrm>
                    <a:off x="5421600" y="3907080"/>
                    <a:ext cx="984240" cy="0"/>
                    <a:chOff x="5421600" y="3907080"/>
                    <a:chExt cx="984240" cy="0"/>
                  </a:xfrm>
                </p:grpSpPr>
                <p:sp>
                  <p:nvSpPr>
                    <p:cNvPr id="559" name=""/>
                    <p:cNvSpPr/>
                    <p:nvPr/>
                  </p:nvSpPr>
                  <p:spPr>
                    <a:xfrm>
                      <a:off x="5723280" y="3907080"/>
                      <a:ext cx="68256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prstDash val="lg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60" name=""/>
                    <p:cNvSpPr/>
                    <p:nvPr/>
                  </p:nvSpPr>
                  <p:spPr>
                    <a:xfrm>
                      <a:off x="5421600" y="3907080"/>
                      <a:ext cx="216000" cy="0"/>
                    </a:xfrm>
                    <a:prstGeom prst="line">
                      <a:avLst/>
                    </a:prstGeom>
                    <a:ln w="9360">
                      <a:solidFill>
                        <a:srgbClr val="0066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561" name=""/>
                  <p:cNvGrpSpPr/>
                  <p:nvPr/>
                </p:nvGrpSpPr>
                <p:grpSpPr>
                  <a:xfrm>
                    <a:off x="5421600" y="3826080"/>
                    <a:ext cx="984240" cy="0"/>
                    <a:chOff x="5421600" y="3826080"/>
                    <a:chExt cx="984240" cy="0"/>
                  </a:xfrm>
                </p:grpSpPr>
                <p:sp>
                  <p:nvSpPr>
                    <p:cNvPr id="562" name=""/>
                    <p:cNvSpPr/>
                    <p:nvPr/>
                  </p:nvSpPr>
                  <p:spPr>
                    <a:xfrm>
                      <a:off x="5723280" y="3826080"/>
                      <a:ext cx="68256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prstDash val="lg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63" name=""/>
                    <p:cNvSpPr/>
                    <p:nvPr/>
                  </p:nvSpPr>
                  <p:spPr>
                    <a:xfrm>
                      <a:off x="5421600" y="3826080"/>
                      <a:ext cx="216000" cy="0"/>
                    </a:xfrm>
                    <a:prstGeom prst="line">
                      <a:avLst/>
                    </a:prstGeom>
                    <a:ln w="9360">
                      <a:solidFill>
                        <a:srgbClr val="0066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564" name=""/>
                  <p:cNvSpPr/>
                  <p:nvPr/>
                </p:nvSpPr>
                <p:spPr>
                  <a:xfrm>
                    <a:off x="5434200" y="3017880"/>
                    <a:ext cx="216000" cy="0"/>
                  </a:xfrm>
                  <a:prstGeom prst="line">
                    <a:avLst/>
                  </a:prstGeom>
                  <a:ln w="38160">
                    <a:solidFill>
                      <a:srgbClr val="0066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5" name=""/>
                  <p:cNvSpPr/>
                  <p:nvPr/>
                </p:nvSpPr>
                <p:spPr>
                  <a:xfrm>
                    <a:off x="6142320" y="2948040"/>
                    <a:ext cx="74520" cy="74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8080" bIns="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6" name=""/>
                  <p:cNvSpPr/>
                  <p:nvPr/>
                </p:nvSpPr>
                <p:spPr>
                  <a:xfrm>
                    <a:off x="5438880" y="2924280"/>
                    <a:ext cx="181080" cy="85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8880" bIns="388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567" name=""/>
            <p:cNvSpPr/>
            <p:nvPr/>
          </p:nvSpPr>
          <p:spPr>
            <a:xfrm>
              <a:off x="7086600" y="1447920"/>
              <a:ext cx="17524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DIN-Black"/>
                </a:rPr>
                <a:t>Authoritative Classification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8" name=""/>
            <p:cNvCxnSpPr>
              <a:endCxn id="569" idx="1"/>
            </p:cNvCxnSpPr>
            <p:nvPr/>
          </p:nvCxnSpPr>
          <p:spPr>
            <a:xfrm flipV="1">
              <a:off x="6333840" y="2372760"/>
              <a:ext cx="1321200" cy="657720"/>
            </a:xfrm>
            <a:prstGeom prst="curvedConnector5">
              <a:avLst>
                <a:gd name="adj1" fmla="val 49986"/>
                <a:gd name="adj2" fmla="val 50000"/>
                <a:gd name="adj3" fmla="val 49986"/>
              </a:avLst>
            </a:prstGeom>
            <a:ln w="25560">
              <a:solidFill>
                <a:srgbClr val="993366"/>
              </a:solidFill>
              <a:miter/>
              <a:headEnd len="lg" type="triangle" w="med"/>
            </a:ln>
          </p:spPr>
        </p:cxnSp>
        <p:cxnSp>
          <p:nvCxnSpPr>
            <p:cNvPr id="570" name=""/>
            <p:cNvCxnSpPr/>
            <p:nvPr/>
          </p:nvCxnSpPr>
          <p:spPr>
            <a:xfrm>
              <a:off x="6333840" y="3335040"/>
              <a:ext cx="1152720" cy="144720"/>
            </a:xfrm>
            <a:prstGeom prst="curvedConnector5">
              <a:avLst>
                <a:gd name="adj1" fmla="val 49984"/>
                <a:gd name="adj2" fmla="val 49875"/>
                <a:gd name="adj3" fmla="val 49984"/>
              </a:avLst>
            </a:prstGeom>
            <a:ln w="25560">
              <a:solidFill>
                <a:srgbClr val="ff9900"/>
              </a:solidFill>
              <a:miter/>
              <a:headEnd len="lg" type="triangle" w="med"/>
            </a:ln>
          </p:spPr>
        </p:cxnSp>
        <p:cxnSp>
          <p:nvCxnSpPr>
            <p:cNvPr id="571" name=""/>
            <p:cNvCxnSpPr/>
            <p:nvPr/>
          </p:nvCxnSpPr>
          <p:spPr>
            <a:xfrm flipV="1">
              <a:off x="6334200" y="2725200"/>
              <a:ext cx="1186560" cy="457920"/>
            </a:xfrm>
            <a:prstGeom prst="curvedConnector5">
              <a:avLst>
                <a:gd name="adj1" fmla="val 49924"/>
                <a:gd name="adj2" fmla="val 49960"/>
                <a:gd name="adj3" fmla="val 49924"/>
              </a:avLst>
            </a:prstGeom>
            <a:ln w="25560">
              <a:solidFill>
                <a:srgbClr val="ff0000"/>
              </a:solidFill>
              <a:miter/>
              <a:headEnd len="lg" type="triangle" w="med"/>
            </a:ln>
          </p:spPr>
        </p:cxnSp>
        <p:grpSp>
          <p:nvGrpSpPr>
            <p:cNvPr id="572" name=""/>
            <p:cNvGrpSpPr/>
            <p:nvPr/>
          </p:nvGrpSpPr>
          <p:grpSpPr>
            <a:xfrm>
              <a:off x="7467480" y="2057400"/>
              <a:ext cx="1177560" cy="1638360"/>
              <a:chOff x="7467480" y="2057400"/>
              <a:chExt cx="1177560" cy="1638360"/>
            </a:xfrm>
          </p:grpSpPr>
          <p:sp>
            <p:nvSpPr>
              <p:cNvPr id="573" name=""/>
              <p:cNvSpPr/>
              <p:nvPr/>
            </p:nvSpPr>
            <p:spPr>
              <a:xfrm>
                <a:off x="7557840" y="2057400"/>
                <a:ext cx="930240" cy="906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CAS-R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74" name=""/>
              <p:cNvGrpSpPr/>
              <p:nvPr/>
            </p:nvGrpSpPr>
            <p:grpSpPr>
              <a:xfrm>
                <a:off x="7519680" y="2435040"/>
                <a:ext cx="930240" cy="906480"/>
                <a:chOff x="7519680" y="2435040"/>
                <a:chExt cx="930240" cy="906480"/>
              </a:xfrm>
            </p:grpSpPr>
            <p:sp>
              <p:nvSpPr>
                <p:cNvPr id="575" name=""/>
                <p:cNvSpPr/>
                <p:nvPr/>
              </p:nvSpPr>
              <p:spPr>
                <a:xfrm>
                  <a:off x="7664040" y="2454120"/>
                  <a:ext cx="55440" cy="6120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400" bIns="14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6" name=""/>
                <p:cNvSpPr/>
                <p:nvPr/>
              </p:nvSpPr>
              <p:spPr>
                <a:xfrm>
                  <a:off x="7664040" y="2550960"/>
                  <a:ext cx="55440" cy="6120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400" bIns="14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7" name=""/>
                <p:cNvSpPr/>
                <p:nvPr/>
              </p:nvSpPr>
              <p:spPr>
                <a:xfrm>
                  <a:off x="7802640" y="2654280"/>
                  <a:ext cx="55440" cy="6120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400" bIns="14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8" name=""/>
                <p:cNvSpPr/>
                <p:nvPr/>
              </p:nvSpPr>
              <p:spPr>
                <a:xfrm>
                  <a:off x="7802640" y="2757960"/>
                  <a:ext cx="55440" cy="6120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400" bIns="14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9" name=""/>
                <p:cNvSpPr/>
                <p:nvPr/>
              </p:nvSpPr>
              <p:spPr>
                <a:xfrm>
                  <a:off x="7664040" y="2777040"/>
                  <a:ext cx="55440" cy="6120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400" bIns="14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cxnSp>
              <p:nvCxnSpPr>
                <p:cNvPr id="580" name=""/>
                <p:cNvCxnSpPr>
                  <a:stCxn id="576" idx="2"/>
                  <a:endCxn id="577" idx="1"/>
                </p:cNvCxnSpPr>
                <p:nvPr/>
              </p:nvCxnSpPr>
              <p:spPr>
                <a:xfrm flipH="1" rot="16200000">
                  <a:off x="7709400" y="2593440"/>
                  <a:ext cx="73800" cy="111240"/>
                </a:xfrm>
                <a:prstGeom prst="bentConnector2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581" name=""/>
                <p:cNvCxnSpPr>
                  <a:stCxn id="576" idx="2"/>
                  <a:endCxn id="578" idx="1"/>
                </p:cNvCxnSpPr>
                <p:nvPr/>
              </p:nvCxnSpPr>
              <p:spPr>
                <a:xfrm flipH="1" rot="16200000">
                  <a:off x="7657560" y="2645280"/>
                  <a:ext cx="177480" cy="111240"/>
                </a:xfrm>
                <a:prstGeom prst="bentConnector2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</p:cxnSp>
            <p:sp>
              <p:nvSpPr>
                <p:cNvPr id="582" name=""/>
                <p:cNvSpPr/>
                <p:nvPr/>
              </p:nvSpPr>
              <p:spPr>
                <a:xfrm>
                  <a:off x="7786440" y="2493000"/>
                  <a:ext cx="2980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3" name=""/>
                <p:cNvSpPr/>
                <p:nvPr/>
              </p:nvSpPr>
              <p:spPr>
                <a:xfrm>
                  <a:off x="7786440" y="2589840"/>
                  <a:ext cx="2980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4" name=""/>
                <p:cNvSpPr/>
                <p:nvPr/>
              </p:nvSpPr>
              <p:spPr>
                <a:xfrm>
                  <a:off x="7911360" y="2686680"/>
                  <a:ext cx="2977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5" name=""/>
                <p:cNvSpPr/>
                <p:nvPr/>
              </p:nvSpPr>
              <p:spPr>
                <a:xfrm>
                  <a:off x="7911360" y="2745000"/>
                  <a:ext cx="2977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6" name=""/>
                <p:cNvSpPr/>
                <p:nvPr/>
              </p:nvSpPr>
              <p:spPr>
                <a:xfrm>
                  <a:off x="7793280" y="2822400"/>
                  <a:ext cx="2980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7" name=""/>
                <p:cNvSpPr/>
                <p:nvPr/>
              </p:nvSpPr>
              <p:spPr>
                <a:xfrm>
                  <a:off x="7519680" y="2435040"/>
                  <a:ext cx="930240" cy="90648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NLM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8" name=""/>
                <p:cNvSpPr/>
                <p:nvPr/>
              </p:nvSpPr>
              <p:spPr>
                <a:xfrm>
                  <a:off x="7602480" y="2644920"/>
                  <a:ext cx="55440" cy="61200"/>
                </a:xfrm>
                <a:prstGeom prst="rect">
                  <a:avLst/>
                </a:prstGeom>
                <a:solidFill>
                  <a:srgbClr val="ff33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400" bIns="14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9" name=""/>
                <p:cNvSpPr/>
                <p:nvPr/>
              </p:nvSpPr>
              <p:spPr>
                <a:xfrm>
                  <a:off x="7706520" y="2728800"/>
                  <a:ext cx="55440" cy="6120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400" bIns="14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cxnSp>
              <p:nvCxnSpPr>
                <p:cNvPr id="590" name=""/>
                <p:cNvCxnSpPr>
                  <a:stCxn id="588" idx="2"/>
                  <a:endCxn id="589" idx="1"/>
                </p:cNvCxnSpPr>
                <p:nvPr/>
              </p:nvCxnSpPr>
              <p:spPr>
                <a:xfrm flipH="1" rot="16200000">
                  <a:off x="7640280" y="2694600"/>
                  <a:ext cx="54360" cy="76680"/>
                </a:xfrm>
                <a:prstGeom prst="bentConnector2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</p:cxnSp>
            <p:sp>
              <p:nvSpPr>
                <p:cNvPr id="591" name=""/>
                <p:cNvSpPr/>
                <p:nvPr/>
              </p:nvSpPr>
              <p:spPr>
                <a:xfrm>
                  <a:off x="7822080" y="2754720"/>
                  <a:ext cx="29808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2" name=""/>
                <p:cNvSpPr/>
                <p:nvPr/>
              </p:nvSpPr>
              <p:spPr>
                <a:xfrm>
                  <a:off x="7707960" y="2808360"/>
                  <a:ext cx="55080" cy="6120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400" bIns="14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3" name=""/>
                <p:cNvSpPr/>
                <p:nvPr/>
              </p:nvSpPr>
              <p:spPr>
                <a:xfrm>
                  <a:off x="7653240" y="2604960"/>
                  <a:ext cx="65628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  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Benzene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4" name=""/>
              <p:cNvGrpSpPr/>
              <p:nvPr/>
            </p:nvGrpSpPr>
            <p:grpSpPr>
              <a:xfrm>
                <a:off x="7467480" y="2789280"/>
                <a:ext cx="930240" cy="906480"/>
                <a:chOff x="7467480" y="2789280"/>
                <a:chExt cx="930240" cy="906480"/>
              </a:xfrm>
            </p:grpSpPr>
            <p:sp>
              <p:nvSpPr>
                <p:cNvPr id="595" name=""/>
                <p:cNvSpPr/>
                <p:nvPr/>
              </p:nvSpPr>
              <p:spPr>
                <a:xfrm>
                  <a:off x="7610760" y="2832120"/>
                  <a:ext cx="55080" cy="6120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400" bIns="14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6" name=""/>
                <p:cNvSpPr/>
                <p:nvPr/>
              </p:nvSpPr>
              <p:spPr>
                <a:xfrm>
                  <a:off x="7733160" y="2871000"/>
                  <a:ext cx="2980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7" name=""/>
                <p:cNvSpPr/>
                <p:nvPr/>
              </p:nvSpPr>
              <p:spPr>
                <a:xfrm>
                  <a:off x="7734240" y="2847240"/>
                  <a:ext cx="2977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8" name=""/>
                <p:cNvSpPr/>
                <p:nvPr/>
              </p:nvSpPr>
              <p:spPr>
                <a:xfrm>
                  <a:off x="7610760" y="2928960"/>
                  <a:ext cx="55080" cy="6120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400" bIns="14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9" name=""/>
                <p:cNvSpPr/>
                <p:nvPr/>
              </p:nvSpPr>
              <p:spPr>
                <a:xfrm>
                  <a:off x="7749360" y="3032280"/>
                  <a:ext cx="55440" cy="6120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400" bIns="14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0" name=""/>
                <p:cNvSpPr/>
                <p:nvPr/>
              </p:nvSpPr>
              <p:spPr>
                <a:xfrm>
                  <a:off x="7749360" y="3135960"/>
                  <a:ext cx="55440" cy="6120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400" bIns="14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1" name=""/>
                <p:cNvSpPr/>
                <p:nvPr/>
              </p:nvSpPr>
              <p:spPr>
                <a:xfrm>
                  <a:off x="7610760" y="3200400"/>
                  <a:ext cx="55080" cy="6120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400" bIns="14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cxnSp>
              <p:nvCxnSpPr>
                <p:cNvPr id="602" name=""/>
                <p:cNvCxnSpPr>
                  <a:stCxn id="598" idx="2"/>
                  <a:endCxn id="599" idx="1"/>
                </p:cNvCxnSpPr>
                <p:nvPr/>
              </p:nvCxnSpPr>
              <p:spPr>
                <a:xfrm flipH="1" rot="16200000">
                  <a:off x="7656120" y="2971080"/>
                  <a:ext cx="73800" cy="111240"/>
                </a:xfrm>
                <a:prstGeom prst="bentConnector2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603" name=""/>
                <p:cNvCxnSpPr>
                  <a:stCxn id="598" idx="2"/>
                  <a:endCxn id="600" idx="1"/>
                </p:cNvCxnSpPr>
                <p:nvPr/>
              </p:nvCxnSpPr>
              <p:spPr>
                <a:xfrm flipH="1" rot="16200000">
                  <a:off x="7604640" y="3022920"/>
                  <a:ext cx="177120" cy="111240"/>
                </a:xfrm>
                <a:prstGeom prst="bentConnector2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</p:cxnSp>
            <p:sp>
              <p:nvSpPr>
                <p:cNvPr id="604" name=""/>
                <p:cNvSpPr/>
                <p:nvPr/>
              </p:nvSpPr>
              <p:spPr>
                <a:xfrm>
                  <a:off x="7733160" y="2967840"/>
                  <a:ext cx="2980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5" name=""/>
                <p:cNvSpPr/>
                <p:nvPr/>
              </p:nvSpPr>
              <p:spPr>
                <a:xfrm>
                  <a:off x="7857720" y="3064680"/>
                  <a:ext cx="2980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6" name=""/>
                <p:cNvSpPr/>
                <p:nvPr/>
              </p:nvSpPr>
              <p:spPr>
                <a:xfrm>
                  <a:off x="7857720" y="3168000"/>
                  <a:ext cx="2980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7" name=""/>
                <p:cNvSpPr/>
                <p:nvPr/>
              </p:nvSpPr>
              <p:spPr>
                <a:xfrm>
                  <a:off x="7740000" y="3245400"/>
                  <a:ext cx="2977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8" name=""/>
                <p:cNvSpPr/>
                <p:nvPr/>
              </p:nvSpPr>
              <p:spPr>
                <a:xfrm>
                  <a:off x="7611840" y="2905200"/>
                  <a:ext cx="55440" cy="6120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400" bIns="14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9" name=""/>
                <p:cNvSpPr/>
                <p:nvPr/>
              </p:nvSpPr>
              <p:spPr>
                <a:xfrm>
                  <a:off x="7750440" y="3008520"/>
                  <a:ext cx="55440" cy="6120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400" bIns="14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0" name=""/>
                <p:cNvSpPr/>
                <p:nvPr/>
              </p:nvSpPr>
              <p:spPr>
                <a:xfrm>
                  <a:off x="7750440" y="3112200"/>
                  <a:ext cx="55440" cy="6120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400" bIns="14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1" name=""/>
                <p:cNvSpPr/>
                <p:nvPr/>
              </p:nvSpPr>
              <p:spPr>
                <a:xfrm>
                  <a:off x="7611840" y="3176640"/>
                  <a:ext cx="55440" cy="6120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400" bIns="14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cxnSp>
              <p:nvCxnSpPr>
                <p:cNvPr id="612" name=""/>
                <p:cNvCxnSpPr>
                  <a:stCxn id="608" idx="2"/>
                  <a:endCxn id="609" idx="1"/>
                </p:cNvCxnSpPr>
                <p:nvPr/>
              </p:nvCxnSpPr>
              <p:spPr>
                <a:xfrm flipH="1" rot="16200000">
                  <a:off x="7657200" y="2947680"/>
                  <a:ext cx="73800" cy="111240"/>
                </a:xfrm>
                <a:prstGeom prst="bentConnector2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613" name=""/>
                <p:cNvCxnSpPr>
                  <a:stCxn id="608" idx="2"/>
                  <a:endCxn id="610" idx="1"/>
                </p:cNvCxnSpPr>
                <p:nvPr/>
              </p:nvCxnSpPr>
              <p:spPr>
                <a:xfrm flipH="1" rot="16200000">
                  <a:off x="7605720" y="2999520"/>
                  <a:ext cx="177120" cy="111240"/>
                </a:xfrm>
                <a:prstGeom prst="bentConnector2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</p:cxnSp>
            <p:sp>
              <p:nvSpPr>
                <p:cNvPr id="614" name=""/>
                <p:cNvSpPr/>
                <p:nvPr/>
              </p:nvSpPr>
              <p:spPr>
                <a:xfrm>
                  <a:off x="7734240" y="2944080"/>
                  <a:ext cx="2977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5" name=""/>
                <p:cNvSpPr/>
                <p:nvPr/>
              </p:nvSpPr>
              <p:spPr>
                <a:xfrm>
                  <a:off x="7859160" y="3040920"/>
                  <a:ext cx="2977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6" name=""/>
                <p:cNvSpPr/>
                <p:nvPr/>
              </p:nvSpPr>
              <p:spPr>
                <a:xfrm>
                  <a:off x="7859160" y="3144240"/>
                  <a:ext cx="2977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7" name=""/>
                <p:cNvSpPr/>
                <p:nvPr/>
              </p:nvSpPr>
              <p:spPr>
                <a:xfrm>
                  <a:off x="7741080" y="3221640"/>
                  <a:ext cx="2980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8" name=""/>
                <p:cNvSpPr/>
                <p:nvPr/>
              </p:nvSpPr>
              <p:spPr>
                <a:xfrm>
                  <a:off x="7550280" y="3063600"/>
                  <a:ext cx="55440" cy="61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400" bIns="14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9" name=""/>
                <p:cNvSpPr/>
                <p:nvPr/>
              </p:nvSpPr>
              <p:spPr>
                <a:xfrm>
                  <a:off x="7467480" y="2789280"/>
                  <a:ext cx="930240" cy="90648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Arial"/>
                    </a:rPr>
                    <a:t>Proprietary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Arial"/>
                    </a:rPr>
                    <a:t>Vocabulary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0" name=""/>
                <p:cNvSpPr/>
                <p:nvPr/>
              </p:nvSpPr>
              <p:spPr>
                <a:xfrm>
                  <a:off x="7654320" y="3128400"/>
                  <a:ext cx="55440" cy="61200"/>
                </a:xfrm>
                <a:prstGeom prst="rect">
                  <a:avLst/>
                </a:prstGeom>
                <a:solidFill>
                  <a:srgbClr val="ff99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400" bIns="14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1" name=""/>
                <p:cNvSpPr/>
                <p:nvPr/>
              </p:nvSpPr>
              <p:spPr>
                <a:xfrm>
                  <a:off x="7654320" y="3231360"/>
                  <a:ext cx="55440" cy="6120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400" bIns="14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2" name=""/>
                <p:cNvSpPr/>
                <p:nvPr/>
              </p:nvSpPr>
              <p:spPr>
                <a:xfrm>
                  <a:off x="7654320" y="3328560"/>
                  <a:ext cx="55440" cy="6120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400" bIns="14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3" name=""/>
                <p:cNvSpPr/>
                <p:nvPr/>
              </p:nvSpPr>
              <p:spPr>
                <a:xfrm>
                  <a:off x="7792920" y="3431880"/>
                  <a:ext cx="55440" cy="6120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400" bIns="14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4" name=""/>
                <p:cNvSpPr/>
                <p:nvPr/>
              </p:nvSpPr>
              <p:spPr>
                <a:xfrm>
                  <a:off x="7792920" y="3535200"/>
                  <a:ext cx="55440" cy="6120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400" bIns="14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5" name=""/>
                <p:cNvSpPr/>
                <p:nvPr/>
              </p:nvSpPr>
              <p:spPr>
                <a:xfrm>
                  <a:off x="7654320" y="3599640"/>
                  <a:ext cx="55440" cy="6120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400" bIns="14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cxnSp>
              <p:nvCxnSpPr>
                <p:cNvPr id="626" name=""/>
                <p:cNvCxnSpPr>
                  <a:stCxn id="618" idx="2"/>
                  <a:endCxn id="620" idx="1"/>
                </p:cNvCxnSpPr>
                <p:nvPr/>
              </p:nvCxnSpPr>
              <p:spPr>
                <a:xfrm flipH="1" rot="16200000">
                  <a:off x="7597800" y="3103920"/>
                  <a:ext cx="35280" cy="76680"/>
                </a:xfrm>
                <a:prstGeom prst="bentConnector2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627" name=""/>
                <p:cNvCxnSpPr>
                  <a:stCxn id="618" idx="2"/>
                  <a:endCxn id="621" idx="1"/>
                </p:cNvCxnSpPr>
                <p:nvPr/>
              </p:nvCxnSpPr>
              <p:spPr>
                <a:xfrm flipH="1" rot="16200000">
                  <a:off x="7545960" y="3155400"/>
                  <a:ext cx="138600" cy="76680"/>
                </a:xfrm>
                <a:prstGeom prst="bentConnector2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628" name=""/>
                <p:cNvCxnSpPr>
                  <a:stCxn id="618" idx="2"/>
                  <a:endCxn id="622" idx="1"/>
                </p:cNvCxnSpPr>
                <p:nvPr/>
              </p:nvCxnSpPr>
              <p:spPr>
                <a:xfrm flipH="1" rot="16200000">
                  <a:off x="7497720" y="3204000"/>
                  <a:ext cx="235440" cy="76680"/>
                </a:xfrm>
                <a:prstGeom prst="bentConnector2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629" name=""/>
                <p:cNvCxnSpPr>
                  <a:stCxn id="618" idx="2"/>
                  <a:endCxn id="625" idx="1"/>
                </p:cNvCxnSpPr>
                <p:nvPr/>
              </p:nvCxnSpPr>
              <p:spPr>
                <a:xfrm flipH="1" rot="16200000">
                  <a:off x="7362000" y="3339720"/>
                  <a:ext cx="506880" cy="76680"/>
                </a:xfrm>
                <a:prstGeom prst="bentConnector2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630" name=""/>
                <p:cNvCxnSpPr>
                  <a:stCxn id="622" idx="2"/>
                  <a:endCxn id="623" idx="1"/>
                </p:cNvCxnSpPr>
                <p:nvPr/>
              </p:nvCxnSpPr>
              <p:spPr>
                <a:xfrm flipH="1" rot="16200000">
                  <a:off x="7699680" y="3370680"/>
                  <a:ext cx="73800" cy="111240"/>
                </a:xfrm>
                <a:prstGeom prst="bentConnector2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631" name=""/>
                <p:cNvCxnSpPr>
                  <a:stCxn id="622" idx="2"/>
                  <a:endCxn id="624" idx="1"/>
                </p:cNvCxnSpPr>
                <p:nvPr/>
              </p:nvCxnSpPr>
              <p:spPr>
                <a:xfrm flipH="1" rot="16200000">
                  <a:off x="7648200" y="3422520"/>
                  <a:ext cx="177120" cy="111240"/>
                </a:xfrm>
                <a:prstGeom prst="bentConnector2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</p:cxnSp>
            <p:sp>
              <p:nvSpPr>
                <p:cNvPr id="632" name=""/>
                <p:cNvSpPr/>
                <p:nvPr/>
              </p:nvSpPr>
              <p:spPr>
                <a:xfrm>
                  <a:off x="7777080" y="3270240"/>
                  <a:ext cx="29772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3" name=""/>
                <p:cNvSpPr/>
                <p:nvPr/>
              </p:nvSpPr>
              <p:spPr>
                <a:xfrm>
                  <a:off x="7777080" y="3367440"/>
                  <a:ext cx="29772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4" name=""/>
                <p:cNvSpPr/>
                <p:nvPr/>
              </p:nvSpPr>
              <p:spPr>
                <a:xfrm>
                  <a:off x="7901640" y="3464280"/>
                  <a:ext cx="29808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5" name=""/>
                <p:cNvSpPr/>
                <p:nvPr/>
              </p:nvSpPr>
              <p:spPr>
                <a:xfrm>
                  <a:off x="7901640" y="3567600"/>
                  <a:ext cx="29808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6" name=""/>
                <p:cNvSpPr/>
                <p:nvPr/>
              </p:nvSpPr>
              <p:spPr>
                <a:xfrm>
                  <a:off x="7783920" y="3645000"/>
                  <a:ext cx="29808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7" name=""/>
                <p:cNvSpPr/>
                <p:nvPr/>
              </p:nvSpPr>
              <p:spPr>
                <a:xfrm>
                  <a:off x="7697160" y="3080880"/>
                  <a:ext cx="65628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Benzene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8" name=""/>
              <p:cNvGrpSpPr/>
              <p:nvPr/>
            </p:nvGrpSpPr>
            <p:grpSpPr>
              <a:xfrm>
                <a:off x="7578720" y="2265480"/>
                <a:ext cx="1066320" cy="215640"/>
                <a:chOff x="7578720" y="2265480"/>
                <a:chExt cx="1066320" cy="215640"/>
              </a:xfrm>
            </p:grpSpPr>
            <p:grpSp>
              <p:nvGrpSpPr>
                <p:cNvPr id="639" name=""/>
                <p:cNvGrpSpPr/>
                <p:nvPr/>
              </p:nvGrpSpPr>
              <p:grpSpPr>
                <a:xfrm>
                  <a:off x="7578720" y="2265480"/>
                  <a:ext cx="158040" cy="145800"/>
                  <a:chOff x="7578720" y="2265480"/>
                  <a:chExt cx="158040" cy="145800"/>
                </a:xfrm>
              </p:grpSpPr>
              <p:sp>
                <p:nvSpPr>
                  <p:cNvPr id="640" name=""/>
                  <p:cNvSpPr/>
                  <p:nvPr/>
                </p:nvSpPr>
                <p:spPr>
                  <a:xfrm>
                    <a:off x="7578720" y="2265480"/>
                    <a:ext cx="55080" cy="61920"/>
                  </a:xfrm>
                  <a:prstGeom prst="rect">
                    <a:avLst/>
                  </a:prstGeom>
                  <a:solidFill>
                    <a:srgbClr val="990099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120" bIns="15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1" name=""/>
                  <p:cNvSpPr/>
                  <p:nvPr/>
                </p:nvSpPr>
                <p:spPr>
                  <a:xfrm>
                    <a:off x="7681320" y="2349720"/>
                    <a:ext cx="55440" cy="61560"/>
                  </a:xfrm>
                  <a:prstGeom prst="rect">
                    <a:avLst/>
                  </a:prstGeom>
                  <a:solidFill>
                    <a:srgbClr val="ffff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760" bIns="14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cxnSp>
                <p:nvCxnSpPr>
                  <p:cNvPr id="642" name=""/>
                  <p:cNvCxnSpPr>
                    <a:stCxn id="640" idx="2"/>
                    <a:endCxn id="641" idx="1"/>
                  </p:cNvCxnSpPr>
                  <p:nvPr/>
                </p:nvCxnSpPr>
                <p:spPr>
                  <a:xfrm flipH="1" rot="16200000">
                    <a:off x="7616160" y="2316240"/>
                    <a:ext cx="54720" cy="76320"/>
                  </a:xfrm>
                  <a:prstGeom prst="bentConnector2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</p:cxnSp>
            </p:grpSp>
            <p:sp>
              <p:nvSpPr>
                <p:cNvPr id="569" name=""/>
                <p:cNvSpPr/>
                <p:nvPr/>
              </p:nvSpPr>
              <p:spPr>
                <a:xfrm>
                  <a:off x="7654680" y="2265480"/>
                  <a:ext cx="99036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Cyclohexatriene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643" name=""/>
          <p:cNvGrpSpPr/>
          <p:nvPr/>
        </p:nvGrpSpPr>
        <p:grpSpPr>
          <a:xfrm>
            <a:off x="2743200" y="3733560"/>
            <a:ext cx="3809880" cy="2514960"/>
            <a:chOff x="2743200" y="3733560"/>
            <a:chExt cx="3809880" cy="2514960"/>
          </a:xfrm>
        </p:grpSpPr>
        <p:sp>
          <p:nvSpPr>
            <p:cNvPr id="644" name=""/>
            <p:cNvSpPr/>
            <p:nvPr/>
          </p:nvSpPr>
          <p:spPr>
            <a:xfrm>
              <a:off x="5105520" y="5181480"/>
              <a:ext cx="1447560" cy="1067040"/>
            </a:xfrm>
            <a:prstGeom prst="flowChartMagneticDisk">
              <a:avLst/>
            </a:prstGeom>
            <a:gradFill rotWithShape="0">
              <a:gsLst>
                <a:gs pos="0">
                  <a:srgbClr val="99ff99"/>
                </a:gs>
                <a:gs pos="50000">
                  <a:srgbClr val="467546"/>
                </a:gs>
                <a:gs pos="100000">
                  <a:srgbClr val="99ff99"/>
                </a:gs>
              </a:gsLst>
              <a:lin ang="10800000"/>
            </a:gra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45" name=""/>
            <p:cNvGrpSpPr/>
            <p:nvPr/>
          </p:nvGrpSpPr>
          <p:grpSpPr>
            <a:xfrm>
              <a:off x="2743200" y="4952880"/>
              <a:ext cx="887040" cy="1015920"/>
              <a:chOff x="2743200" y="4952880"/>
              <a:chExt cx="887040" cy="1015920"/>
            </a:xfrm>
          </p:grpSpPr>
          <p:grpSp>
            <p:nvGrpSpPr>
              <p:cNvPr id="646" name=""/>
              <p:cNvGrpSpPr/>
              <p:nvPr/>
            </p:nvGrpSpPr>
            <p:grpSpPr>
              <a:xfrm>
                <a:off x="2743200" y="4952880"/>
                <a:ext cx="517320" cy="920880"/>
                <a:chOff x="2743200" y="4952880"/>
                <a:chExt cx="517320" cy="920880"/>
              </a:xfrm>
            </p:grpSpPr>
            <p:grpSp>
              <p:nvGrpSpPr>
                <p:cNvPr id="647" name=""/>
                <p:cNvGrpSpPr/>
                <p:nvPr/>
              </p:nvGrpSpPr>
              <p:grpSpPr>
                <a:xfrm>
                  <a:off x="2975760" y="4952880"/>
                  <a:ext cx="284760" cy="876240"/>
                  <a:chOff x="2975760" y="4952880"/>
                  <a:chExt cx="284760" cy="876240"/>
                </a:xfrm>
              </p:grpSpPr>
              <p:grpSp>
                <p:nvGrpSpPr>
                  <p:cNvPr id="648" name=""/>
                  <p:cNvGrpSpPr/>
                  <p:nvPr/>
                </p:nvGrpSpPr>
                <p:grpSpPr>
                  <a:xfrm>
                    <a:off x="3110400" y="5651280"/>
                    <a:ext cx="68760" cy="171360"/>
                    <a:chOff x="3110400" y="5651280"/>
                    <a:chExt cx="68760" cy="171360"/>
                  </a:xfrm>
                </p:grpSpPr>
                <p:sp>
                  <p:nvSpPr>
                    <p:cNvPr id="649" name=""/>
                    <p:cNvSpPr/>
                    <p:nvPr/>
                  </p:nvSpPr>
                  <p:spPr>
                    <a:xfrm flipH="1">
                      <a:off x="3114360" y="5651280"/>
                      <a:ext cx="55800" cy="170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61" h="805">
                          <a:moveTo>
                            <a:pt x="0" y="27"/>
                          </a:moveTo>
                          <a:lnTo>
                            <a:pt x="16" y="123"/>
                          </a:lnTo>
                          <a:lnTo>
                            <a:pt x="45" y="220"/>
                          </a:lnTo>
                          <a:lnTo>
                            <a:pt x="86" y="342"/>
                          </a:lnTo>
                          <a:lnTo>
                            <a:pt x="120" y="438"/>
                          </a:lnTo>
                          <a:lnTo>
                            <a:pt x="125" y="470"/>
                          </a:lnTo>
                          <a:lnTo>
                            <a:pt x="134" y="493"/>
                          </a:lnTo>
                          <a:lnTo>
                            <a:pt x="112" y="548"/>
                          </a:lnTo>
                          <a:lnTo>
                            <a:pt x="80" y="588"/>
                          </a:lnTo>
                          <a:lnTo>
                            <a:pt x="57" y="623"/>
                          </a:lnTo>
                          <a:lnTo>
                            <a:pt x="32" y="658"/>
                          </a:lnTo>
                          <a:lnTo>
                            <a:pt x="22" y="805"/>
                          </a:lnTo>
                          <a:lnTo>
                            <a:pt x="226" y="621"/>
                          </a:lnTo>
                          <a:lnTo>
                            <a:pt x="261" y="585"/>
                          </a:lnTo>
                          <a:lnTo>
                            <a:pt x="260" y="552"/>
                          </a:lnTo>
                          <a:lnTo>
                            <a:pt x="248" y="520"/>
                          </a:lnTo>
                          <a:lnTo>
                            <a:pt x="226" y="465"/>
                          </a:lnTo>
                          <a:lnTo>
                            <a:pt x="228" y="430"/>
                          </a:lnTo>
                          <a:lnTo>
                            <a:pt x="221" y="392"/>
                          </a:lnTo>
                          <a:lnTo>
                            <a:pt x="221" y="311"/>
                          </a:lnTo>
                          <a:lnTo>
                            <a:pt x="224" y="245"/>
                          </a:lnTo>
                          <a:lnTo>
                            <a:pt x="234" y="162"/>
                          </a:lnTo>
                          <a:lnTo>
                            <a:pt x="252" y="0"/>
                          </a:lnTo>
                          <a:lnTo>
                            <a:pt x="0" y="27"/>
                          </a:lnTo>
                          <a:close/>
                        </a:path>
                      </a:pathLst>
                    </a:custGeom>
                    <a:solidFill>
                      <a:srgbClr val="ffc080"/>
                    </a:solidFill>
                    <a:ln w="3240">
                      <a:solidFill>
                        <a:srgbClr val="402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50" name=""/>
                    <p:cNvSpPr/>
                    <p:nvPr/>
                  </p:nvSpPr>
                  <p:spPr>
                    <a:xfrm flipH="1">
                      <a:off x="3110040" y="5774400"/>
                      <a:ext cx="20520" cy="21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5" h="101">
                          <a:moveTo>
                            <a:pt x="95" y="0"/>
                          </a:moveTo>
                          <a:lnTo>
                            <a:pt x="68" y="79"/>
                          </a:lnTo>
                          <a:lnTo>
                            <a:pt x="37" y="101"/>
                          </a:lnTo>
                          <a:lnTo>
                            <a:pt x="0" y="96"/>
                          </a:lnTo>
                          <a:lnTo>
                            <a:pt x="42" y="61"/>
                          </a:lnTo>
                          <a:lnTo>
                            <a:pt x="95" y="0"/>
                          </a:lnTo>
                          <a:close/>
                        </a:path>
                      </a:pathLst>
                    </a:custGeom>
                    <a:solidFill>
                      <a:srgbClr val="202020"/>
                    </a:solidFill>
                    <a:ln w="32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200" bIns="-25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51" name=""/>
                    <p:cNvSpPr/>
                    <p:nvPr/>
                  </p:nvSpPr>
                  <p:spPr>
                    <a:xfrm flipH="1">
                      <a:off x="3110040" y="5755320"/>
                      <a:ext cx="68760" cy="67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25" h="312">
                          <a:moveTo>
                            <a:pt x="77" y="169"/>
                          </a:moveTo>
                          <a:lnTo>
                            <a:pt x="94" y="184"/>
                          </a:lnTo>
                          <a:lnTo>
                            <a:pt x="133" y="188"/>
                          </a:lnTo>
                          <a:lnTo>
                            <a:pt x="191" y="173"/>
                          </a:lnTo>
                          <a:lnTo>
                            <a:pt x="240" y="141"/>
                          </a:lnTo>
                          <a:lnTo>
                            <a:pt x="267" y="99"/>
                          </a:lnTo>
                          <a:lnTo>
                            <a:pt x="281" y="47"/>
                          </a:lnTo>
                          <a:lnTo>
                            <a:pt x="289" y="0"/>
                          </a:lnTo>
                          <a:lnTo>
                            <a:pt x="322" y="50"/>
                          </a:lnTo>
                          <a:lnTo>
                            <a:pt x="325" y="82"/>
                          </a:lnTo>
                          <a:lnTo>
                            <a:pt x="268" y="149"/>
                          </a:lnTo>
                          <a:lnTo>
                            <a:pt x="234" y="196"/>
                          </a:lnTo>
                          <a:lnTo>
                            <a:pt x="212" y="262"/>
                          </a:lnTo>
                          <a:lnTo>
                            <a:pt x="127" y="303"/>
                          </a:lnTo>
                          <a:lnTo>
                            <a:pt x="65" y="312"/>
                          </a:lnTo>
                          <a:lnTo>
                            <a:pt x="1" y="307"/>
                          </a:lnTo>
                          <a:lnTo>
                            <a:pt x="0" y="262"/>
                          </a:lnTo>
                          <a:lnTo>
                            <a:pt x="6" y="228"/>
                          </a:lnTo>
                          <a:lnTo>
                            <a:pt x="41" y="196"/>
                          </a:lnTo>
                          <a:lnTo>
                            <a:pt x="77" y="169"/>
                          </a:lnTo>
                          <a:close/>
                        </a:path>
                      </a:pathLst>
                    </a:custGeom>
                    <a:solidFill>
                      <a:srgbClr val="202020"/>
                    </a:solidFill>
                    <a:ln w="32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0520" bIns="20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652" name=""/>
                  <p:cNvGrpSpPr/>
                  <p:nvPr/>
                </p:nvGrpSpPr>
                <p:grpSpPr>
                  <a:xfrm>
                    <a:off x="3027960" y="5636160"/>
                    <a:ext cx="74880" cy="192960"/>
                    <a:chOff x="3027960" y="5636160"/>
                    <a:chExt cx="74880" cy="192960"/>
                  </a:xfrm>
                </p:grpSpPr>
                <p:sp>
                  <p:nvSpPr>
                    <p:cNvPr id="653" name=""/>
                    <p:cNvSpPr/>
                    <p:nvPr/>
                  </p:nvSpPr>
                  <p:spPr>
                    <a:xfrm flipH="1">
                      <a:off x="3070800" y="5785920"/>
                      <a:ext cx="17640" cy="1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3" h="78">
                          <a:moveTo>
                            <a:pt x="0" y="0"/>
                          </a:moveTo>
                          <a:lnTo>
                            <a:pt x="22" y="68"/>
                          </a:lnTo>
                          <a:lnTo>
                            <a:pt x="47" y="78"/>
                          </a:lnTo>
                          <a:lnTo>
                            <a:pt x="83" y="73"/>
                          </a:lnTo>
                          <a:lnTo>
                            <a:pt x="31" y="6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202020"/>
                    </a:solidFill>
                    <a:ln w="32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54" name=""/>
                    <p:cNvSpPr/>
                    <p:nvPr/>
                  </p:nvSpPr>
                  <p:spPr>
                    <a:xfrm flipH="1">
                      <a:off x="3036600" y="5636160"/>
                      <a:ext cx="66240" cy="190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5" h="899">
                          <a:moveTo>
                            <a:pt x="0" y="45"/>
                          </a:moveTo>
                          <a:lnTo>
                            <a:pt x="27" y="197"/>
                          </a:lnTo>
                          <a:lnTo>
                            <a:pt x="36" y="266"/>
                          </a:lnTo>
                          <a:lnTo>
                            <a:pt x="50" y="321"/>
                          </a:lnTo>
                          <a:lnTo>
                            <a:pt x="68" y="381"/>
                          </a:lnTo>
                          <a:lnTo>
                            <a:pt x="82" y="458"/>
                          </a:lnTo>
                          <a:lnTo>
                            <a:pt x="91" y="513"/>
                          </a:lnTo>
                          <a:lnTo>
                            <a:pt x="86" y="554"/>
                          </a:lnTo>
                          <a:lnTo>
                            <a:pt x="85" y="596"/>
                          </a:lnTo>
                          <a:lnTo>
                            <a:pt x="76" y="656"/>
                          </a:lnTo>
                          <a:lnTo>
                            <a:pt x="152" y="777"/>
                          </a:lnTo>
                          <a:lnTo>
                            <a:pt x="315" y="899"/>
                          </a:lnTo>
                          <a:lnTo>
                            <a:pt x="306" y="807"/>
                          </a:lnTo>
                          <a:lnTo>
                            <a:pt x="285" y="769"/>
                          </a:lnTo>
                          <a:lnTo>
                            <a:pt x="261" y="729"/>
                          </a:lnTo>
                          <a:lnTo>
                            <a:pt x="225" y="675"/>
                          </a:lnTo>
                          <a:lnTo>
                            <a:pt x="202" y="639"/>
                          </a:lnTo>
                          <a:lnTo>
                            <a:pt x="186" y="609"/>
                          </a:lnTo>
                          <a:lnTo>
                            <a:pt x="188" y="568"/>
                          </a:lnTo>
                          <a:lnTo>
                            <a:pt x="188" y="541"/>
                          </a:lnTo>
                          <a:lnTo>
                            <a:pt x="198" y="495"/>
                          </a:lnTo>
                          <a:lnTo>
                            <a:pt x="213" y="432"/>
                          </a:lnTo>
                          <a:lnTo>
                            <a:pt x="226" y="366"/>
                          </a:lnTo>
                          <a:lnTo>
                            <a:pt x="251" y="263"/>
                          </a:lnTo>
                          <a:lnTo>
                            <a:pt x="262" y="183"/>
                          </a:lnTo>
                          <a:lnTo>
                            <a:pt x="262" y="0"/>
                          </a:lnTo>
                          <a:lnTo>
                            <a:pt x="0" y="45"/>
                          </a:lnTo>
                          <a:close/>
                        </a:path>
                      </a:pathLst>
                    </a:custGeom>
                    <a:solidFill>
                      <a:srgbClr val="ffc080"/>
                    </a:solidFill>
                    <a:ln w="3240">
                      <a:solidFill>
                        <a:srgbClr val="402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55" name=""/>
                    <p:cNvSpPr/>
                    <p:nvPr/>
                  </p:nvSpPr>
                  <p:spPr>
                    <a:xfrm flipH="1">
                      <a:off x="3027600" y="5768280"/>
                      <a:ext cx="62280" cy="60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6" h="290">
                          <a:moveTo>
                            <a:pt x="18" y="0"/>
                          </a:moveTo>
                          <a:lnTo>
                            <a:pt x="0" y="54"/>
                          </a:lnTo>
                          <a:lnTo>
                            <a:pt x="3" y="92"/>
                          </a:lnTo>
                          <a:lnTo>
                            <a:pt x="55" y="129"/>
                          </a:lnTo>
                          <a:lnTo>
                            <a:pt x="80" y="152"/>
                          </a:lnTo>
                          <a:lnTo>
                            <a:pt x="86" y="201"/>
                          </a:lnTo>
                          <a:lnTo>
                            <a:pt x="99" y="238"/>
                          </a:lnTo>
                          <a:lnTo>
                            <a:pt x="139" y="262"/>
                          </a:lnTo>
                          <a:lnTo>
                            <a:pt x="188" y="285"/>
                          </a:lnTo>
                          <a:lnTo>
                            <a:pt x="244" y="290"/>
                          </a:lnTo>
                          <a:lnTo>
                            <a:pt x="280" y="285"/>
                          </a:lnTo>
                          <a:lnTo>
                            <a:pt x="296" y="274"/>
                          </a:lnTo>
                          <a:lnTo>
                            <a:pt x="294" y="252"/>
                          </a:lnTo>
                          <a:lnTo>
                            <a:pt x="283" y="215"/>
                          </a:lnTo>
                          <a:lnTo>
                            <a:pt x="257" y="187"/>
                          </a:lnTo>
                          <a:lnTo>
                            <a:pt x="234" y="160"/>
                          </a:lnTo>
                          <a:lnTo>
                            <a:pt x="226" y="177"/>
                          </a:lnTo>
                          <a:lnTo>
                            <a:pt x="202" y="182"/>
                          </a:lnTo>
                          <a:lnTo>
                            <a:pt x="162" y="177"/>
                          </a:lnTo>
                          <a:lnTo>
                            <a:pt x="131" y="165"/>
                          </a:lnTo>
                          <a:lnTo>
                            <a:pt x="95" y="132"/>
                          </a:lnTo>
                          <a:lnTo>
                            <a:pt x="68" y="97"/>
                          </a:lnTo>
                          <a:lnTo>
                            <a:pt x="44" y="54"/>
                          </a:lnTo>
                          <a:lnTo>
                            <a:pt x="18" y="0"/>
                          </a:lnTo>
                          <a:close/>
                        </a:path>
                      </a:pathLst>
                    </a:custGeom>
                    <a:solidFill>
                      <a:srgbClr val="202020"/>
                    </a:solidFill>
                    <a:ln w="32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4040" bIns="14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656" name=""/>
                  <p:cNvGrpSpPr/>
                  <p:nvPr/>
                </p:nvGrpSpPr>
                <p:grpSpPr>
                  <a:xfrm>
                    <a:off x="3119400" y="5288040"/>
                    <a:ext cx="90360" cy="376920"/>
                    <a:chOff x="3119400" y="5288040"/>
                    <a:chExt cx="90360" cy="376920"/>
                  </a:xfrm>
                </p:grpSpPr>
                <p:sp>
                  <p:nvSpPr>
                    <p:cNvPr id="657" name=""/>
                    <p:cNvSpPr/>
                    <p:nvPr/>
                  </p:nvSpPr>
                  <p:spPr>
                    <a:xfrm flipH="1">
                      <a:off x="3119040" y="5288040"/>
                      <a:ext cx="90360" cy="376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3" h="1774">
                          <a:moveTo>
                            <a:pt x="50" y="208"/>
                          </a:moveTo>
                          <a:lnTo>
                            <a:pt x="50" y="231"/>
                          </a:lnTo>
                          <a:lnTo>
                            <a:pt x="50" y="341"/>
                          </a:lnTo>
                          <a:lnTo>
                            <a:pt x="22" y="480"/>
                          </a:lnTo>
                          <a:lnTo>
                            <a:pt x="0" y="865"/>
                          </a:lnTo>
                          <a:lnTo>
                            <a:pt x="18" y="1113"/>
                          </a:lnTo>
                          <a:lnTo>
                            <a:pt x="36" y="1378"/>
                          </a:lnTo>
                          <a:lnTo>
                            <a:pt x="89" y="1747"/>
                          </a:lnTo>
                          <a:lnTo>
                            <a:pt x="243" y="1774"/>
                          </a:lnTo>
                          <a:lnTo>
                            <a:pt x="423" y="1750"/>
                          </a:lnTo>
                          <a:lnTo>
                            <a:pt x="389" y="0"/>
                          </a:lnTo>
                          <a:lnTo>
                            <a:pt x="111" y="25"/>
                          </a:lnTo>
                          <a:lnTo>
                            <a:pt x="89" y="88"/>
                          </a:lnTo>
                          <a:lnTo>
                            <a:pt x="50" y="208"/>
                          </a:lnTo>
                          <a:close/>
                        </a:path>
                      </a:pathLst>
                    </a:custGeom>
                    <a:solidFill>
                      <a:srgbClr val="400040"/>
                    </a:solidFill>
                    <a:ln w="32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58" name=""/>
                    <p:cNvSpPr/>
                    <p:nvPr/>
                  </p:nvSpPr>
                  <p:spPr>
                    <a:xfrm flipH="1">
                      <a:off x="3122280" y="5296680"/>
                      <a:ext cx="81360" cy="362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8" h="1715">
                          <a:moveTo>
                            <a:pt x="90" y="0"/>
                          </a:moveTo>
                          <a:lnTo>
                            <a:pt x="199" y="18"/>
                          </a:lnTo>
                          <a:lnTo>
                            <a:pt x="339" y="27"/>
                          </a:lnTo>
                          <a:lnTo>
                            <a:pt x="347" y="124"/>
                          </a:lnTo>
                          <a:lnTo>
                            <a:pt x="347" y="518"/>
                          </a:lnTo>
                          <a:lnTo>
                            <a:pt x="360" y="1014"/>
                          </a:lnTo>
                          <a:lnTo>
                            <a:pt x="365" y="1398"/>
                          </a:lnTo>
                          <a:lnTo>
                            <a:pt x="388" y="1696"/>
                          </a:lnTo>
                          <a:lnTo>
                            <a:pt x="217" y="1715"/>
                          </a:lnTo>
                          <a:lnTo>
                            <a:pt x="82" y="1692"/>
                          </a:lnTo>
                          <a:lnTo>
                            <a:pt x="31" y="1325"/>
                          </a:lnTo>
                          <a:lnTo>
                            <a:pt x="0" y="967"/>
                          </a:lnTo>
                          <a:lnTo>
                            <a:pt x="27" y="1049"/>
                          </a:lnTo>
                          <a:lnTo>
                            <a:pt x="82" y="1347"/>
                          </a:lnTo>
                          <a:lnTo>
                            <a:pt x="63" y="1137"/>
                          </a:lnTo>
                          <a:lnTo>
                            <a:pt x="18" y="862"/>
                          </a:lnTo>
                          <a:lnTo>
                            <a:pt x="4" y="546"/>
                          </a:lnTo>
                          <a:lnTo>
                            <a:pt x="14" y="436"/>
                          </a:lnTo>
                          <a:lnTo>
                            <a:pt x="31" y="335"/>
                          </a:lnTo>
                          <a:lnTo>
                            <a:pt x="72" y="371"/>
                          </a:lnTo>
                          <a:lnTo>
                            <a:pt x="167" y="55"/>
                          </a:lnTo>
                          <a:lnTo>
                            <a:pt x="67" y="343"/>
                          </a:lnTo>
                          <a:lnTo>
                            <a:pt x="45" y="308"/>
                          </a:lnTo>
                          <a:lnTo>
                            <a:pt x="41" y="160"/>
                          </a:lnTo>
                          <a:lnTo>
                            <a:pt x="90" y="0"/>
                          </a:lnTo>
                          <a:close/>
                        </a:path>
                      </a:pathLst>
                    </a:custGeom>
                    <a:solidFill>
                      <a:srgbClr val="60006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59" name=""/>
                    <p:cNvSpPr/>
                    <p:nvPr/>
                  </p:nvSpPr>
                  <p:spPr>
                    <a:xfrm flipH="1">
                      <a:off x="3162600" y="5298120"/>
                      <a:ext cx="12600" cy="156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8" h="733">
                          <a:moveTo>
                            <a:pt x="58" y="0"/>
                          </a:moveTo>
                          <a:lnTo>
                            <a:pt x="49" y="100"/>
                          </a:lnTo>
                          <a:lnTo>
                            <a:pt x="26" y="320"/>
                          </a:lnTo>
                          <a:lnTo>
                            <a:pt x="4" y="536"/>
                          </a:lnTo>
                          <a:lnTo>
                            <a:pt x="0" y="733"/>
                          </a:lnTo>
                          <a:lnTo>
                            <a:pt x="31" y="481"/>
                          </a:lnTo>
                          <a:lnTo>
                            <a:pt x="58" y="288"/>
                          </a:lnTo>
                          <a:lnTo>
                            <a:pt x="58" y="0"/>
                          </a:lnTo>
                          <a:close/>
                        </a:path>
                      </a:pathLst>
                    </a:custGeom>
                    <a:solidFill>
                      <a:srgbClr val="40004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60" name=""/>
                    <p:cNvSpPr/>
                    <p:nvPr/>
                  </p:nvSpPr>
                  <p:spPr>
                    <a:xfrm flipH="1">
                      <a:off x="3142080" y="5359320"/>
                      <a:ext cx="14040" cy="259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4" h="1224">
                          <a:moveTo>
                            <a:pt x="36" y="0"/>
                          </a:moveTo>
                          <a:lnTo>
                            <a:pt x="0" y="358"/>
                          </a:lnTo>
                          <a:lnTo>
                            <a:pt x="0" y="633"/>
                          </a:lnTo>
                          <a:lnTo>
                            <a:pt x="23" y="894"/>
                          </a:lnTo>
                          <a:lnTo>
                            <a:pt x="50" y="1041"/>
                          </a:lnTo>
                          <a:lnTo>
                            <a:pt x="59" y="1224"/>
                          </a:lnTo>
                          <a:lnTo>
                            <a:pt x="64" y="1027"/>
                          </a:lnTo>
                          <a:lnTo>
                            <a:pt x="28" y="761"/>
                          </a:lnTo>
                          <a:lnTo>
                            <a:pt x="18" y="463"/>
                          </a:lnTo>
                          <a:lnTo>
                            <a:pt x="28" y="257"/>
                          </a:lnTo>
                          <a:lnTo>
                            <a:pt x="36" y="0"/>
                          </a:lnTo>
                          <a:close/>
                        </a:path>
                      </a:pathLst>
                    </a:custGeom>
                    <a:solidFill>
                      <a:srgbClr val="40004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661" name=""/>
                  <p:cNvGrpSpPr/>
                  <p:nvPr/>
                </p:nvGrpSpPr>
                <p:grpSpPr>
                  <a:xfrm>
                    <a:off x="3027600" y="5285520"/>
                    <a:ext cx="99360" cy="393840"/>
                    <a:chOff x="3027600" y="5285520"/>
                    <a:chExt cx="99360" cy="393840"/>
                  </a:xfrm>
                </p:grpSpPr>
                <p:sp>
                  <p:nvSpPr>
                    <p:cNvPr id="662" name=""/>
                    <p:cNvSpPr/>
                    <p:nvPr/>
                  </p:nvSpPr>
                  <p:spPr>
                    <a:xfrm flipH="1">
                      <a:off x="3027600" y="5285520"/>
                      <a:ext cx="99360" cy="393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68" h="1850">
                          <a:moveTo>
                            <a:pt x="34" y="1762"/>
                          </a:moveTo>
                          <a:lnTo>
                            <a:pt x="201" y="1841"/>
                          </a:lnTo>
                          <a:lnTo>
                            <a:pt x="391" y="1850"/>
                          </a:lnTo>
                          <a:lnTo>
                            <a:pt x="435" y="1735"/>
                          </a:lnTo>
                          <a:lnTo>
                            <a:pt x="453" y="1488"/>
                          </a:lnTo>
                          <a:lnTo>
                            <a:pt x="468" y="1143"/>
                          </a:lnTo>
                          <a:lnTo>
                            <a:pt x="468" y="873"/>
                          </a:lnTo>
                          <a:lnTo>
                            <a:pt x="444" y="580"/>
                          </a:lnTo>
                          <a:lnTo>
                            <a:pt x="409" y="359"/>
                          </a:lnTo>
                          <a:lnTo>
                            <a:pt x="440" y="294"/>
                          </a:lnTo>
                          <a:lnTo>
                            <a:pt x="305" y="75"/>
                          </a:lnTo>
                          <a:lnTo>
                            <a:pt x="291" y="0"/>
                          </a:lnTo>
                          <a:lnTo>
                            <a:pt x="0" y="66"/>
                          </a:lnTo>
                          <a:lnTo>
                            <a:pt x="34" y="1762"/>
                          </a:lnTo>
                          <a:close/>
                        </a:path>
                      </a:pathLst>
                    </a:custGeom>
                    <a:solidFill>
                      <a:srgbClr val="004040"/>
                    </a:solidFill>
                    <a:ln w="32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63" name=""/>
                    <p:cNvSpPr/>
                    <p:nvPr/>
                  </p:nvSpPr>
                  <p:spPr>
                    <a:xfrm flipH="1">
                      <a:off x="3032640" y="5289120"/>
                      <a:ext cx="9036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4" h="1823">
                          <a:moveTo>
                            <a:pt x="0" y="63"/>
                          </a:moveTo>
                          <a:lnTo>
                            <a:pt x="18" y="732"/>
                          </a:lnTo>
                          <a:lnTo>
                            <a:pt x="32" y="1731"/>
                          </a:lnTo>
                          <a:lnTo>
                            <a:pt x="195" y="1813"/>
                          </a:lnTo>
                          <a:lnTo>
                            <a:pt x="114" y="1411"/>
                          </a:lnTo>
                          <a:lnTo>
                            <a:pt x="81" y="1187"/>
                          </a:lnTo>
                          <a:lnTo>
                            <a:pt x="77" y="1008"/>
                          </a:lnTo>
                          <a:lnTo>
                            <a:pt x="109" y="1237"/>
                          </a:lnTo>
                          <a:lnTo>
                            <a:pt x="154" y="1503"/>
                          </a:lnTo>
                          <a:lnTo>
                            <a:pt x="226" y="1818"/>
                          </a:lnTo>
                          <a:lnTo>
                            <a:pt x="338" y="1823"/>
                          </a:lnTo>
                          <a:lnTo>
                            <a:pt x="356" y="1403"/>
                          </a:lnTo>
                          <a:lnTo>
                            <a:pt x="371" y="1145"/>
                          </a:lnTo>
                          <a:lnTo>
                            <a:pt x="374" y="972"/>
                          </a:lnTo>
                          <a:lnTo>
                            <a:pt x="384" y="1168"/>
                          </a:lnTo>
                          <a:lnTo>
                            <a:pt x="356" y="1808"/>
                          </a:lnTo>
                          <a:lnTo>
                            <a:pt x="397" y="1713"/>
                          </a:lnTo>
                          <a:lnTo>
                            <a:pt x="415" y="1425"/>
                          </a:lnTo>
                          <a:lnTo>
                            <a:pt x="420" y="1160"/>
                          </a:lnTo>
                          <a:lnTo>
                            <a:pt x="424" y="862"/>
                          </a:lnTo>
                          <a:lnTo>
                            <a:pt x="415" y="637"/>
                          </a:lnTo>
                          <a:lnTo>
                            <a:pt x="374" y="361"/>
                          </a:lnTo>
                          <a:lnTo>
                            <a:pt x="348" y="389"/>
                          </a:lnTo>
                          <a:lnTo>
                            <a:pt x="397" y="288"/>
                          </a:lnTo>
                          <a:lnTo>
                            <a:pt x="244" y="0"/>
                          </a:lnTo>
                          <a:lnTo>
                            <a:pt x="190" y="18"/>
                          </a:lnTo>
                          <a:lnTo>
                            <a:pt x="226" y="136"/>
                          </a:lnTo>
                          <a:lnTo>
                            <a:pt x="249" y="288"/>
                          </a:lnTo>
                          <a:lnTo>
                            <a:pt x="262" y="476"/>
                          </a:lnTo>
                          <a:lnTo>
                            <a:pt x="216" y="211"/>
                          </a:lnTo>
                          <a:lnTo>
                            <a:pt x="195" y="114"/>
                          </a:lnTo>
                          <a:lnTo>
                            <a:pt x="158" y="13"/>
                          </a:lnTo>
                          <a:lnTo>
                            <a:pt x="114" y="18"/>
                          </a:lnTo>
                          <a:lnTo>
                            <a:pt x="158" y="151"/>
                          </a:lnTo>
                          <a:lnTo>
                            <a:pt x="185" y="302"/>
                          </a:lnTo>
                          <a:lnTo>
                            <a:pt x="195" y="407"/>
                          </a:lnTo>
                          <a:lnTo>
                            <a:pt x="132" y="151"/>
                          </a:lnTo>
                          <a:lnTo>
                            <a:pt x="91" y="36"/>
                          </a:lnTo>
                          <a:lnTo>
                            <a:pt x="0" y="63"/>
                          </a:lnTo>
                          <a:close/>
                        </a:path>
                      </a:pathLst>
                    </a:custGeom>
                    <a:solidFill>
                      <a:srgbClr val="00606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664" name=""/>
                  <p:cNvGrpSpPr/>
                  <p:nvPr/>
                </p:nvGrpSpPr>
                <p:grpSpPr>
                  <a:xfrm>
                    <a:off x="3070080" y="4952880"/>
                    <a:ext cx="115560" cy="179280"/>
                    <a:chOff x="3070080" y="4952880"/>
                    <a:chExt cx="115560" cy="179280"/>
                  </a:xfrm>
                </p:grpSpPr>
                <p:sp>
                  <p:nvSpPr>
                    <p:cNvPr id="665" name=""/>
                    <p:cNvSpPr/>
                    <p:nvPr/>
                  </p:nvSpPr>
                  <p:spPr>
                    <a:xfrm flipH="1">
                      <a:off x="3069720" y="4952880"/>
                      <a:ext cx="115560" cy="12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43" h="594">
                          <a:moveTo>
                            <a:pt x="299" y="0"/>
                          </a:moveTo>
                          <a:lnTo>
                            <a:pt x="245" y="3"/>
                          </a:lnTo>
                          <a:lnTo>
                            <a:pt x="195" y="12"/>
                          </a:lnTo>
                          <a:lnTo>
                            <a:pt x="154" y="26"/>
                          </a:lnTo>
                          <a:lnTo>
                            <a:pt x="107" y="45"/>
                          </a:lnTo>
                          <a:lnTo>
                            <a:pt x="70" y="68"/>
                          </a:lnTo>
                          <a:lnTo>
                            <a:pt x="42" y="102"/>
                          </a:lnTo>
                          <a:lnTo>
                            <a:pt x="32" y="141"/>
                          </a:lnTo>
                          <a:lnTo>
                            <a:pt x="36" y="180"/>
                          </a:lnTo>
                          <a:lnTo>
                            <a:pt x="37" y="215"/>
                          </a:lnTo>
                          <a:lnTo>
                            <a:pt x="18" y="260"/>
                          </a:lnTo>
                          <a:lnTo>
                            <a:pt x="1" y="296"/>
                          </a:lnTo>
                          <a:lnTo>
                            <a:pt x="0" y="337"/>
                          </a:lnTo>
                          <a:lnTo>
                            <a:pt x="6" y="379"/>
                          </a:lnTo>
                          <a:lnTo>
                            <a:pt x="35" y="410"/>
                          </a:lnTo>
                          <a:lnTo>
                            <a:pt x="66" y="434"/>
                          </a:lnTo>
                          <a:lnTo>
                            <a:pt x="79" y="450"/>
                          </a:lnTo>
                          <a:lnTo>
                            <a:pt x="87" y="470"/>
                          </a:lnTo>
                          <a:lnTo>
                            <a:pt x="81" y="495"/>
                          </a:lnTo>
                          <a:lnTo>
                            <a:pt x="72" y="525"/>
                          </a:lnTo>
                          <a:lnTo>
                            <a:pt x="48" y="554"/>
                          </a:lnTo>
                          <a:lnTo>
                            <a:pt x="64" y="554"/>
                          </a:lnTo>
                          <a:lnTo>
                            <a:pt x="76" y="567"/>
                          </a:lnTo>
                          <a:lnTo>
                            <a:pt x="98" y="566"/>
                          </a:lnTo>
                          <a:lnTo>
                            <a:pt x="112" y="576"/>
                          </a:lnTo>
                          <a:lnTo>
                            <a:pt x="131" y="576"/>
                          </a:lnTo>
                          <a:lnTo>
                            <a:pt x="164" y="594"/>
                          </a:lnTo>
                          <a:lnTo>
                            <a:pt x="371" y="576"/>
                          </a:lnTo>
                          <a:lnTo>
                            <a:pt x="399" y="575"/>
                          </a:lnTo>
                          <a:lnTo>
                            <a:pt x="410" y="564"/>
                          </a:lnTo>
                          <a:lnTo>
                            <a:pt x="428" y="569"/>
                          </a:lnTo>
                          <a:lnTo>
                            <a:pt x="442" y="558"/>
                          </a:lnTo>
                          <a:lnTo>
                            <a:pt x="460" y="563"/>
                          </a:lnTo>
                          <a:lnTo>
                            <a:pt x="469" y="550"/>
                          </a:lnTo>
                          <a:lnTo>
                            <a:pt x="484" y="552"/>
                          </a:lnTo>
                          <a:lnTo>
                            <a:pt x="508" y="544"/>
                          </a:lnTo>
                          <a:lnTo>
                            <a:pt x="476" y="526"/>
                          </a:lnTo>
                          <a:lnTo>
                            <a:pt x="463" y="505"/>
                          </a:lnTo>
                          <a:lnTo>
                            <a:pt x="443" y="476"/>
                          </a:lnTo>
                          <a:lnTo>
                            <a:pt x="469" y="454"/>
                          </a:lnTo>
                          <a:lnTo>
                            <a:pt x="503" y="432"/>
                          </a:lnTo>
                          <a:lnTo>
                            <a:pt x="522" y="404"/>
                          </a:lnTo>
                          <a:lnTo>
                            <a:pt x="533" y="367"/>
                          </a:lnTo>
                          <a:lnTo>
                            <a:pt x="541" y="300"/>
                          </a:lnTo>
                          <a:lnTo>
                            <a:pt x="543" y="246"/>
                          </a:lnTo>
                          <a:lnTo>
                            <a:pt x="531" y="191"/>
                          </a:lnTo>
                          <a:lnTo>
                            <a:pt x="516" y="150"/>
                          </a:lnTo>
                          <a:lnTo>
                            <a:pt x="492" y="101"/>
                          </a:lnTo>
                          <a:lnTo>
                            <a:pt x="443" y="58"/>
                          </a:lnTo>
                          <a:lnTo>
                            <a:pt x="402" y="34"/>
                          </a:lnTo>
                          <a:lnTo>
                            <a:pt x="355" y="12"/>
                          </a:lnTo>
                          <a:lnTo>
                            <a:pt x="299" y="0"/>
                          </a:lnTo>
                          <a:close/>
                        </a:path>
                      </a:pathLst>
                    </a:custGeom>
                    <a:solidFill>
                      <a:srgbClr val="402000"/>
                    </a:solidFill>
                    <a:ln w="3240">
                      <a:solidFill>
                        <a:srgbClr val="402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66" name=""/>
                    <p:cNvSpPr/>
                    <p:nvPr/>
                  </p:nvSpPr>
                  <p:spPr>
                    <a:xfrm flipH="1">
                      <a:off x="3103560" y="5064840"/>
                      <a:ext cx="46800" cy="67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25" h="318">
                          <a:moveTo>
                            <a:pt x="3" y="56"/>
                          </a:moveTo>
                          <a:lnTo>
                            <a:pt x="8" y="93"/>
                          </a:lnTo>
                          <a:lnTo>
                            <a:pt x="6" y="127"/>
                          </a:lnTo>
                          <a:lnTo>
                            <a:pt x="2" y="182"/>
                          </a:lnTo>
                          <a:lnTo>
                            <a:pt x="0" y="204"/>
                          </a:lnTo>
                          <a:lnTo>
                            <a:pt x="10" y="232"/>
                          </a:lnTo>
                          <a:lnTo>
                            <a:pt x="50" y="275"/>
                          </a:lnTo>
                          <a:lnTo>
                            <a:pt x="90" y="314"/>
                          </a:lnTo>
                          <a:lnTo>
                            <a:pt x="131" y="318"/>
                          </a:lnTo>
                          <a:lnTo>
                            <a:pt x="154" y="309"/>
                          </a:lnTo>
                          <a:lnTo>
                            <a:pt x="177" y="283"/>
                          </a:lnTo>
                          <a:lnTo>
                            <a:pt x="207" y="238"/>
                          </a:lnTo>
                          <a:lnTo>
                            <a:pt x="224" y="210"/>
                          </a:lnTo>
                          <a:lnTo>
                            <a:pt x="225" y="196"/>
                          </a:lnTo>
                          <a:lnTo>
                            <a:pt x="219" y="169"/>
                          </a:lnTo>
                          <a:lnTo>
                            <a:pt x="207" y="126"/>
                          </a:lnTo>
                          <a:lnTo>
                            <a:pt x="203" y="93"/>
                          </a:lnTo>
                          <a:lnTo>
                            <a:pt x="203" y="59"/>
                          </a:lnTo>
                          <a:lnTo>
                            <a:pt x="205" y="0"/>
                          </a:lnTo>
                          <a:lnTo>
                            <a:pt x="3" y="56"/>
                          </a:lnTo>
                          <a:close/>
                        </a:path>
                      </a:pathLst>
                    </a:custGeom>
                    <a:solidFill>
                      <a:srgbClr val="ffc080"/>
                    </a:solidFill>
                    <a:ln w="3240">
                      <a:solidFill>
                        <a:srgbClr val="402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0520" bIns="20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67" name=""/>
                    <p:cNvSpPr/>
                    <p:nvPr/>
                  </p:nvSpPr>
                  <p:spPr>
                    <a:xfrm flipH="1">
                      <a:off x="3096720" y="4997160"/>
                      <a:ext cx="65880" cy="91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3" h="428">
                          <a:moveTo>
                            <a:pt x="11" y="52"/>
                          </a:moveTo>
                          <a:lnTo>
                            <a:pt x="15" y="76"/>
                          </a:lnTo>
                          <a:lnTo>
                            <a:pt x="9" y="114"/>
                          </a:lnTo>
                          <a:lnTo>
                            <a:pt x="3" y="166"/>
                          </a:lnTo>
                          <a:lnTo>
                            <a:pt x="0" y="203"/>
                          </a:lnTo>
                          <a:lnTo>
                            <a:pt x="4" y="232"/>
                          </a:lnTo>
                          <a:lnTo>
                            <a:pt x="10" y="257"/>
                          </a:lnTo>
                          <a:lnTo>
                            <a:pt x="12" y="278"/>
                          </a:lnTo>
                          <a:lnTo>
                            <a:pt x="16" y="298"/>
                          </a:lnTo>
                          <a:lnTo>
                            <a:pt x="21" y="318"/>
                          </a:lnTo>
                          <a:lnTo>
                            <a:pt x="24" y="336"/>
                          </a:lnTo>
                          <a:lnTo>
                            <a:pt x="38" y="356"/>
                          </a:lnTo>
                          <a:lnTo>
                            <a:pt x="51" y="369"/>
                          </a:lnTo>
                          <a:lnTo>
                            <a:pt x="69" y="390"/>
                          </a:lnTo>
                          <a:lnTo>
                            <a:pt x="84" y="402"/>
                          </a:lnTo>
                          <a:lnTo>
                            <a:pt x="102" y="417"/>
                          </a:lnTo>
                          <a:lnTo>
                            <a:pt x="120" y="426"/>
                          </a:lnTo>
                          <a:lnTo>
                            <a:pt x="143" y="428"/>
                          </a:lnTo>
                          <a:lnTo>
                            <a:pt x="163" y="424"/>
                          </a:lnTo>
                          <a:lnTo>
                            <a:pt x="186" y="414"/>
                          </a:lnTo>
                          <a:lnTo>
                            <a:pt x="204" y="400"/>
                          </a:lnTo>
                          <a:lnTo>
                            <a:pt x="219" y="389"/>
                          </a:lnTo>
                          <a:lnTo>
                            <a:pt x="236" y="373"/>
                          </a:lnTo>
                          <a:lnTo>
                            <a:pt x="252" y="361"/>
                          </a:lnTo>
                          <a:lnTo>
                            <a:pt x="266" y="344"/>
                          </a:lnTo>
                          <a:lnTo>
                            <a:pt x="272" y="329"/>
                          </a:lnTo>
                          <a:lnTo>
                            <a:pt x="279" y="299"/>
                          </a:lnTo>
                          <a:lnTo>
                            <a:pt x="286" y="270"/>
                          </a:lnTo>
                          <a:lnTo>
                            <a:pt x="295" y="238"/>
                          </a:lnTo>
                          <a:lnTo>
                            <a:pt x="303" y="185"/>
                          </a:lnTo>
                          <a:lnTo>
                            <a:pt x="304" y="146"/>
                          </a:lnTo>
                          <a:lnTo>
                            <a:pt x="308" y="111"/>
                          </a:lnTo>
                          <a:lnTo>
                            <a:pt x="313" y="82"/>
                          </a:lnTo>
                          <a:lnTo>
                            <a:pt x="285" y="98"/>
                          </a:lnTo>
                          <a:lnTo>
                            <a:pt x="313" y="55"/>
                          </a:lnTo>
                          <a:lnTo>
                            <a:pt x="266" y="59"/>
                          </a:lnTo>
                          <a:lnTo>
                            <a:pt x="295" y="20"/>
                          </a:lnTo>
                          <a:lnTo>
                            <a:pt x="285" y="6"/>
                          </a:lnTo>
                          <a:lnTo>
                            <a:pt x="252" y="50"/>
                          </a:lnTo>
                          <a:lnTo>
                            <a:pt x="185" y="65"/>
                          </a:lnTo>
                          <a:lnTo>
                            <a:pt x="213" y="41"/>
                          </a:lnTo>
                          <a:lnTo>
                            <a:pt x="248" y="0"/>
                          </a:lnTo>
                          <a:lnTo>
                            <a:pt x="193" y="38"/>
                          </a:lnTo>
                          <a:lnTo>
                            <a:pt x="152" y="59"/>
                          </a:lnTo>
                          <a:lnTo>
                            <a:pt x="67" y="77"/>
                          </a:lnTo>
                          <a:lnTo>
                            <a:pt x="116" y="56"/>
                          </a:lnTo>
                          <a:lnTo>
                            <a:pt x="152" y="32"/>
                          </a:lnTo>
                          <a:lnTo>
                            <a:pt x="73" y="55"/>
                          </a:lnTo>
                          <a:lnTo>
                            <a:pt x="40" y="64"/>
                          </a:lnTo>
                          <a:lnTo>
                            <a:pt x="105" y="15"/>
                          </a:lnTo>
                          <a:lnTo>
                            <a:pt x="46" y="33"/>
                          </a:lnTo>
                          <a:lnTo>
                            <a:pt x="11" y="52"/>
                          </a:lnTo>
                          <a:close/>
                        </a:path>
                      </a:pathLst>
                    </a:custGeom>
                    <a:solidFill>
                      <a:srgbClr val="ffc080"/>
                    </a:solidFill>
                    <a:ln w="3240">
                      <a:solidFill>
                        <a:srgbClr val="402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68" name=""/>
                    <p:cNvSpPr/>
                    <p:nvPr/>
                  </p:nvSpPr>
                  <p:spPr>
                    <a:xfrm flipH="1">
                      <a:off x="3138480" y="5029200"/>
                      <a:ext cx="12600" cy="4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2" h="24">
                          <a:moveTo>
                            <a:pt x="0" y="9"/>
                          </a:moveTo>
                          <a:lnTo>
                            <a:pt x="9" y="17"/>
                          </a:lnTo>
                          <a:lnTo>
                            <a:pt x="19" y="24"/>
                          </a:lnTo>
                          <a:lnTo>
                            <a:pt x="33" y="24"/>
                          </a:lnTo>
                          <a:lnTo>
                            <a:pt x="47" y="19"/>
                          </a:lnTo>
                          <a:lnTo>
                            <a:pt x="62" y="19"/>
                          </a:lnTo>
                          <a:lnTo>
                            <a:pt x="48" y="9"/>
                          </a:lnTo>
                          <a:lnTo>
                            <a:pt x="35" y="0"/>
                          </a:lnTo>
                          <a:lnTo>
                            <a:pt x="17" y="0"/>
                          </a:lnTo>
                          <a:lnTo>
                            <a:pt x="0" y="9"/>
                          </a:lnTo>
                          <a:close/>
                        </a:path>
                      </a:pathLst>
                    </a:custGeom>
                    <a:solidFill>
                      <a:srgbClr val="402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120" bIns="-42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69" name=""/>
                    <p:cNvSpPr/>
                    <p:nvPr/>
                  </p:nvSpPr>
                  <p:spPr>
                    <a:xfrm flipH="1">
                      <a:off x="3110400" y="5031720"/>
                      <a:ext cx="12600" cy="5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0" h="26">
                          <a:moveTo>
                            <a:pt x="0" y="7"/>
                          </a:moveTo>
                          <a:lnTo>
                            <a:pt x="8" y="12"/>
                          </a:lnTo>
                          <a:lnTo>
                            <a:pt x="12" y="21"/>
                          </a:lnTo>
                          <a:lnTo>
                            <a:pt x="26" y="26"/>
                          </a:lnTo>
                          <a:lnTo>
                            <a:pt x="37" y="24"/>
                          </a:lnTo>
                          <a:lnTo>
                            <a:pt x="48" y="15"/>
                          </a:lnTo>
                          <a:lnTo>
                            <a:pt x="60" y="11"/>
                          </a:lnTo>
                          <a:lnTo>
                            <a:pt x="45" y="3"/>
                          </a:lnTo>
                          <a:lnTo>
                            <a:pt x="30" y="0"/>
                          </a:lnTo>
                          <a:lnTo>
                            <a:pt x="14" y="3"/>
                          </a:lnTo>
                          <a:lnTo>
                            <a:pt x="0" y="7"/>
                          </a:lnTo>
                          <a:close/>
                        </a:path>
                      </a:pathLst>
                    </a:custGeom>
                    <a:solidFill>
                      <a:srgbClr val="402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760" bIns="-41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70" name=""/>
                    <p:cNvSpPr/>
                    <p:nvPr/>
                  </p:nvSpPr>
                  <p:spPr>
                    <a:xfrm flipH="1">
                      <a:off x="3126240" y="5053320"/>
                      <a:ext cx="13680" cy="6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1" h="25">
                          <a:moveTo>
                            <a:pt x="0" y="0"/>
                          </a:moveTo>
                          <a:lnTo>
                            <a:pt x="18" y="4"/>
                          </a:lnTo>
                          <a:lnTo>
                            <a:pt x="30" y="10"/>
                          </a:lnTo>
                          <a:lnTo>
                            <a:pt x="41" y="11"/>
                          </a:lnTo>
                          <a:lnTo>
                            <a:pt x="52" y="7"/>
                          </a:lnTo>
                          <a:lnTo>
                            <a:pt x="71" y="5"/>
                          </a:lnTo>
                          <a:lnTo>
                            <a:pt x="66" y="11"/>
                          </a:lnTo>
                          <a:lnTo>
                            <a:pt x="55" y="16"/>
                          </a:lnTo>
                          <a:lnTo>
                            <a:pt x="43" y="25"/>
                          </a:lnTo>
                          <a:lnTo>
                            <a:pt x="29" y="24"/>
                          </a:lnTo>
                          <a:lnTo>
                            <a:pt x="19" y="16"/>
                          </a:lnTo>
                          <a:lnTo>
                            <a:pt x="7" y="11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402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680" bIns="-40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71" name=""/>
                    <p:cNvSpPr/>
                    <p:nvPr/>
                  </p:nvSpPr>
                  <p:spPr>
                    <a:xfrm flipH="1">
                      <a:off x="3120840" y="5065920"/>
                      <a:ext cx="24120" cy="5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0" h="24">
                          <a:moveTo>
                            <a:pt x="0" y="17"/>
                          </a:moveTo>
                          <a:lnTo>
                            <a:pt x="2" y="0"/>
                          </a:lnTo>
                          <a:lnTo>
                            <a:pt x="8" y="5"/>
                          </a:lnTo>
                          <a:lnTo>
                            <a:pt x="29" y="10"/>
                          </a:lnTo>
                          <a:lnTo>
                            <a:pt x="43" y="6"/>
                          </a:lnTo>
                          <a:lnTo>
                            <a:pt x="58" y="13"/>
                          </a:lnTo>
                          <a:lnTo>
                            <a:pt x="71" y="10"/>
                          </a:lnTo>
                          <a:lnTo>
                            <a:pt x="84" y="15"/>
                          </a:lnTo>
                          <a:lnTo>
                            <a:pt x="100" y="16"/>
                          </a:lnTo>
                          <a:lnTo>
                            <a:pt x="120" y="15"/>
                          </a:lnTo>
                          <a:lnTo>
                            <a:pt x="120" y="24"/>
                          </a:lnTo>
                          <a:lnTo>
                            <a:pt x="108" y="19"/>
                          </a:lnTo>
                          <a:lnTo>
                            <a:pt x="65" y="21"/>
                          </a:lnTo>
                          <a:lnTo>
                            <a:pt x="36" y="17"/>
                          </a:lnTo>
                          <a:lnTo>
                            <a:pt x="11" y="13"/>
                          </a:lnTo>
                          <a:lnTo>
                            <a:pt x="0" y="17"/>
                          </a:lnTo>
                          <a:close/>
                        </a:path>
                      </a:pathLst>
                    </a:custGeom>
                    <a:solidFill>
                      <a:srgbClr val="402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760" bIns="-41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72" name=""/>
                    <p:cNvSpPr/>
                    <p:nvPr/>
                  </p:nvSpPr>
                  <p:spPr>
                    <a:xfrm flipH="1">
                      <a:off x="3126960" y="5073840"/>
                      <a:ext cx="12600" cy="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" h="15">
                          <a:moveTo>
                            <a:pt x="0" y="0"/>
                          </a:moveTo>
                          <a:lnTo>
                            <a:pt x="15" y="4"/>
                          </a:lnTo>
                          <a:lnTo>
                            <a:pt x="31" y="8"/>
                          </a:lnTo>
                          <a:lnTo>
                            <a:pt x="46" y="8"/>
                          </a:lnTo>
                          <a:lnTo>
                            <a:pt x="61" y="4"/>
                          </a:lnTo>
                          <a:lnTo>
                            <a:pt x="40" y="14"/>
                          </a:lnTo>
                          <a:lnTo>
                            <a:pt x="21" y="15"/>
                          </a:lnTo>
                          <a:lnTo>
                            <a:pt x="6" y="9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402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200" bIns="-43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73" name=""/>
                    <p:cNvSpPr/>
                    <p:nvPr/>
                  </p:nvSpPr>
                  <p:spPr>
                    <a:xfrm flipH="1">
                      <a:off x="3137400" y="5023080"/>
                      <a:ext cx="16200" cy="4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4" h="24">
                          <a:moveTo>
                            <a:pt x="0" y="7"/>
                          </a:moveTo>
                          <a:lnTo>
                            <a:pt x="30" y="11"/>
                          </a:lnTo>
                          <a:lnTo>
                            <a:pt x="52" y="17"/>
                          </a:lnTo>
                          <a:lnTo>
                            <a:pt x="74" y="24"/>
                          </a:lnTo>
                          <a:lnTo>
                            <a:pt x="69" y="7"/>
                          </a:lnTo>
                          <a:lnTo>
                            <a:pt x="59" y="0"/>
                          </a:lnTo>
                          <a:lnTo>
                            <a:pt x="53" y="3"/>
                          </a:lnTo>
                          <a:lnTo>
                            <a:pt x="38" y="0"/>
                          </a:lnTo>
                          <a:lnTo>
                            <a:pt x="28" y="3"/>
                          </a:lnTo>
                          <a:lnTo>
                            <a:pt x="0" y="7"/>
                          </a:lnTo>
                          <a:close/>
                        </a:path>
                      </a:pathLst>
                    </a:custGeom>
                    <a:solidFill>
                      <a:srgbClr val="402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120" bIns="-42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74" name=""/>
                    <p:cNvSpPr/>
                    <p:nvPr/>
                  </p:nvSpPr>
                  <p:spPr>
                    <a:xfrm flipH="1">
                      <a:off x="3105360" y="5024160"/>
                      <a:ext cx="19080" cy="5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7" h="23">
                          <a:moveTo>
                            <a:pt x="0" y="23"/>
                          </a:moveTo>
                          <a:lnTo>
                            <a:pt x="23" y="18"/>
                          </a:lnTo>
                          <a:lnTo>
                            <a:pt x="46" y="16"/>
                          </a:lnTo>
                          <a:lnTo>
                            <a:pt x="87" y="22"/>
                          </a:lnTo>
                          <a:lnTo>
                            <a:pt x="60" y="11"/>
                          </a:lnTo>
                          <a:lnTo>
                            <a:pt x="46" y="5"/>
                          </a:lnTo>
                          <a:lnTo>
                            <a:pt x="29" y="6"/>
                          </a:lnTo>
                          <a:lnTo>
                            <a:pt x="18" y="0"/>
                          </a:lnTo>
                          <a:lnTo>
                            <a:pt x="5" y="11"/>
                          </a:lnTo>
                          <a:lnTo>
                            <a:pt x="0" y="23"/>
                          </a:lnTo>
                          <a:close/>
                        </a:path>
                      </a:pathLst>
                    </a:custGeom>
                    <a:solidFill>
                      <a:srgbClr val="402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760" bIns="-41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75" name=""/>
                    <p:cNvSpPr/>
                    <p:nvPr/>
                  </p:nvSpPr>
                  <p:spPr>
                    <a:xfrm flipH="1">
                      <a:off x="3141000" y="5030280"/>
                      <a:ext cx="2520" cy="2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" h="8">
                          <a:moveTo>
                            <a:pt x="3" y="0"/>
                          </a:moveTo>
                          <a:lnTo>
                            <a:pt x="0" y="8"/>
                          </a:lnTo>
                          <a:lnTo>
                            <a:pt x="12" y="6"/>
                          </a:lnTo>
                          <a:lnTo>
                            <a:pt x="3" y="0"/>
                          </a:lnTo>
                          <a:close/>
                        </a:path>
                      </a:pathLst>
                    </a:custGeom>
                    <a:solidFill>
                      <a:srgbClr val="ffc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280" bIns="-44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76" name=""/>
                    <p:cNvSpPr/>
                    <p:nvPr/>
                  </p:nvSpPr>
                  <p:spPr>
                    <a:xfrm flipH="1">
                      <a:off x="3113280" y="5033160"/>
                      <a:ext cx="2520" cy="1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10">
                          <a:moveTo>
                            <a:pt x="1" y="0"/>
                          </a:moveTo>
                          <a:lnTo>
                            <a:pt x="0" y="10"/>
                          </a:lnTo>
                          <a:lnTo>
                            <a:pt x="9" y="5"/>
                          </a:lnTo>
                          <a:lnTo>
                            <a:pt x="1" y="0"/>
                          </a:lnTo>
                          <a:close/>
                        </a:path>
                      </a:pathLst>
                    </a:custGeom>
                    <a:solidFill>
                      <a:srgbClr val="ffc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77" name=""/>
                    <p:cNvSpPr/>
                    <p:nvPr/>
                  </p:nvSpPr>
                  <p:spPr>
                    <a:xfrm flipH="1">
                      <a:off x="3100320" y="4953960"/>
                      <a:ext cx="83880" cy="6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98" h="310">
                          <a:moveTo>
                            <a:pt x="97" y="194"/>
                          </a:moveTo>
                          <a:lnTo>
                            <a:pt x="147" y="208"/>
                          </a:lnTo>
                          <a:lnTo>
                            <a:pt x="197" y="208"/>
                          </a:lnTo>
                          <a:lnTo>
                            <a:pt x="245" y="192"/>
                          </a:lnTo>
                          <a:lnTo>
                            <a:pt x="298" y="161"/>
                          </a:lnTo>
                          <a:lnTo>
                            <a:pt x="348" y="118"/>
                          </a:lnTo>
                          <a:lnTo>
                            <a:pt x="391" y="81"/>
                          </a:lnTo>
                          <a:lnTo>
                            <a:pt x="398" y="38"/>
                          </a:lnTo>
                          <a:lnTo>
                            <a:pt x="384" y="24"/>
                          </a:lnTo>
                          <a:lnTo>
                            <a:pt x="328" y="5"/>
                          </a:lnTo>
                          <a:lnTo>
                            <a:pt x="257" y="0"/>
                          </a:lnTo>
                          <a:lnTo>
                            <a:pt x="226" y="24"/>
                          </a:lnTo>
                          <a:lnTo>
                            <a:pt x="194" y="61"/>
                          </a:lnTo>
                          <a:lnTo>
                            <a:pt x="156" y="70"/>
                          </a:lnTo>
                          <a:lnTo>
                            <a:pt x="124" y="70"/>
                          </a:lnTo>
                          <a:lnTo>
                            <a:pt x="179" y="61"/>
                          </a:lnTo>
                          <a:lnTo>
                            <a:pt x="209" y="33"/>
                          </a:lnTo>
                          <a:lnTo>
                            <a:pt x="240" y="1"/>
                          </a:lnTo>
                          <a:lnTo>
                            <a:pt x="193" y="7"/>
                          </a:lnTo>
                          <a:lnTo>
                            <a:pt x="116" y="33"/>
                          </a:lnTo>
                          <a:lnTo>
                            <a:pt x="77" y="61"/>
                          </a:lnTo>
                          <a:lnTo>
                            <a:pt x="48" y="95"/>
                          </a:lnTo>
                          <a:lnTo>
                            <a:pt x="40" y="128"/>
                          </a:lnTo>
                          <a:lnTo>
                            <a:pt x="40" y="151"/>
                          </a:lnTo>
                          <a:lnTo>
                            <a:pt x="44" y="182"/>
                          </a:lnTo>
                          <a:lnTo>
                            <a:pt x="37" y="212"/>
                          </a:lnTo>
                          <a:lnTo>
                            <a:pt x="29" y="231"/>
                          </a:lnTo>
                          <a:lnTo>
                            <a:pt x="13" y="261"/>
                          </a:lnTo>
                          <a:lnTo>
                            <a:pt x="1" y="286"/>
                          </a:lnTo>
                          <a:lnTo>
                            <a:pt x="0" y="310"/>
                          </a:lnTo>
                          <a:lnTo>
                            <a:pt x="5" y="289"/>
                          </a:lnTo>
                          <a:lnTo>
                            <a:pt x="25" y="256"/>
                          </a:lnTo>
                          <a:lnTo>
                            <a:pt x="48" y="220"/>
                          </a:lnTo>
                          <a:lnTo>
                            <a:pt x="51" y="189"/>
                          </a:lnTo>
                          <a:lnTo>
                            <a:pt x="57" y="171"/>
                          </a:lnTo>
                          <a:lnTo>
                            <a:pt x="68" y="159"/>
                          </a:lnTo>
                          <a:lnTo>
                            <a:pt x="93" y="161"/>
                          </a:lnTo>
                          <a:lnTo>
                            <a:pt x="117" y="161"/>
                          </a:lnTo>
                          <a:lnTo>
                            <a:pt x="163" y="153"/>
                          </a:lnTo>
                          <a:lnTo>
                            <a:pt x="205" y="127"/>
                          </a:lnTo>
                          <a:lnTo>
                            <a:pt x="227" y="99"/>
                          </a:lnTo>
                          <a:lnTo>
                            <a:pt x="199" y="123"/>
                          </a:lnTo>
                          <a:lnTo>
                            <a:pt x="156" y="145"/>
                          </a:lnTo>
                          <a:lnTo>
                            <a:pt x="121" y="149"/>
                          </a:lnTo>
                          <a:lnTo>
                            <a:pt x="98" y="149"/>
                          </a:lnTo>
                          <a:lnTo>
                            <a:pt x="147" y="140"/>
                          </a:lnTo>
                          <a:lnTo>
                            <a:pt x="182" y="121"/>
                          </a:lnTo>
                          <a:lnTo>
                            <a:pt x="211" y="104"/>
                          </a:lnTo>
                          <a:lnTo>
                            <a:pt x="238" y="84"/>
                          </a:lnTo>
                          <a:lnTo>
                            <a:pt x="230" y="111"/>
                          </a:lnTo>
                          <a:lnTo>
                            <a:pt x="202" y="143"/>
                          </a:lnTo>
                          <a:lnTo>
                            <a:pt x="157" y="172"/>
                          </a:lnTo>
                          <a:lnTo>
                            <a:pt x="122" y="184"/>
                          </a:lnTo>
                          <a:lnTo>
                            <a:pt x="97" y="194"/>
                          </a:lnTo>
                          <a:close/>
                        </a:path>
                      </a:pathLst>
                    </a:custGeom>
                    <a:solidFill>
                      <a:srgbClr val="603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8000" bIns="18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78" name=""/>
                    <p:cNvSpPr/>
                    <p:nvPr/>
                  </p:nvSpPr>
                  <p:spPr>
                    <a:xfrm flipH="1">
                      <a:off x="3071160" y="4960080"/>
                      <a:ext cx="57240" cy="75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0" h="355">
                          <a:moveTo>
                            <a:pt x="64" y="126"/>
                          </a:moveTo>
                          <a:lnTo>
                            <a:pt x="42" y="150"/>
                          </a:lnTo>
                          <a:lnTo>
                            <a:pt x="0" y="187"/>
                          </a:lnTo>
                          <a:lnTo>
                            <a:pt x="37" y="184"/>
                          </a:lnTo>
                          <a:lnTo>
                            <a:pt x="81" y="172"/>
                          </a:lnTo>
                          <a:lnTo>
                            <a:pt x="112" y="160"/>
                          </a:lnTo>
                          <a:lnTo>
                            <a:pt x="84" y="186"/>
                          </a:lnTo>
                          <a:lnTo>
                            <a:pt x="64" y="200"/>
                          </a:lnTo>
                          <a:lnTo>
                            <a:pt x="113" y="184"/>
                          </a:lnTo>
                          <a:lnTo>
                            <a:pt x="136" y="166"/>
                          </a:lnTo>
                          <a:lnTo>
                            <a:pt x="185" y="133"/>
                          </a:lnTo>
                          <a:lnTo>
                            <a:pt x="153" y="175"/>
                          </a:lnTo>
                          <a:lnTo>
                            <a:pt x="133" y="200"/>
                          </a:lnTo>
                          <a:lnTo>
                            <a:pt x="116" y="219"/>
                          </a:lnTo>
                          <a:lnTo>
                            <a:pt x="142" y="215"/>
                          </a:lnTo>
                          <a:lnTo>
                            <a:pt x="171" y="205"/>
                          </a:lnTo>
                          <a:lnTo>
                            <a:pt x="191" y="188"/>
                          </a:lnTo>
                          <a:lnTo>
                            <a:pt x="173" y="216"/>
                          </a:lnTo>
                          <a:lnTo>
                            <a:pt x="153" y="239"/>
                          </a:lnTo>
                          <a:lnTo>
                            <a:pt x="133" y="258"/>
                          </a:lnTo>
                          <a:lnTo>
                            <a:pt x="159" y="253"/>
                          </a:lnTo>
                          <a:lnTo>
                            <a:pt x="194" y="241"/>
                          </a:lnTo>
                          <a:lnTo>
                            <a:pt x="186" y="255"/>
                          </a:lnTo>
                          <a:lnTo>
                            <a:pt x="165" y="279"/>
                          </a:lnTo>
                          <a:lnTo>
                            <a:pt x="200" y="253"/>
                          </a:lnTo>
                          <a:lnTo>
                            <a:pt x="194" y="266"/>
                          </a:lnTo>
                          <a:lnTo>
                            <a:pt x="177" y="300"/>
                          </a:lnTo>
                          <a:lnTo>
                            <a:pt x="164" y="321"/>
                          </a:lnTo>
                          <a:lnTo>
                            <a:pt x="206" y="294"/>
                          </a:lnTo>
                          <a:lnTo>
                            <a:pt x="229" y="269"/>
                          </a:lnTo>
                          <a:lnTo>
                            <a:pt x="213" y="309"/>
                          </a:lnTo>
                          <a:lnTo>
                            <a:pt x="195" y="331"/>
                          </a:lnTo>
                          <a:lnTo>
                            <a:pt x="174" y="355"/>
                          </a:lnTo>
                          <a:lnTo>
                            <a:pt x="240" y="315"/>
                          </a:lnTo>
                          <a:lnTo>
                            <a:pt x="268" y="266"/>
                          </a:lnTo>
                          <a:lnTo>
                            <a:pt x="270" y="217"/>
                          </a:lnTo>
                          <a:lnTo>
                            <a:pt x="258" y="162"/>
                          </a:lnTo>
                          <a:lnTo>
                            <a:pt x="245" y="114"/>
                          </a:lnTo>
                          <a:lnTo>
                            <a:pt x="229" y="82"/>
                          </a:lnTo>
                          <a:lnTo>
                            <a:pt x="227" y="106"/>
                          </a:lnTo>
                          <a:lnTo>
                            <a:pt x="207" y="148"/>
                          </a:lnTo>
                          <a:lnTo>
                            <a:pt x="216" y="108"/>
                          </a:lnTo>
                          <a:lnTo>
                            <a:pt x="217" y="73"/>
                          </a:lnTo>
                          <a:lnTo>
                            <a:pt x="206" y="54"/>
                          </a:lnTo>
                          <a:lnTo>
                            <a:pt x="180" y="38"/>
                          </a:lnTo>
                          <a:lnTo>
                            <a:pt x="182" y="73"/>
                          </a:lnTo>
                          <a:lnTo>
                            <a:pt x="171" y="101"/>
                          </a:lnTo>
                          <a:lnTo>
                            <a:pt x="141" y="137"/>
                          </a:lnTo>
                          <a:lnTo>
                            <a:pt x="166" y="97"/>
                          </a:lnTo>
                          <a:lnTo>
                            <a:pt x="173" y="67"/>
                          </a:lnTo>
                          <a:lnTo>
                            <a:pt x="173" y="36"/>
                          </a:lnTo>
                          <a:lnTo>
                            <a:pt x="159" y="18"/>
                          </a:lnTo>
                          <a:lnTo>
                            <a:pt x="145" y="9"/>
                          </a:lnTo>
                          <a:lnTo>
                            <a:pt x="129" y="2"/>
                          </a:lnTo>
                          <a:lnTo>
                            <a:pt x="121" y="0"/>
                          </a:lnTo>
                          <a:lnTo>
                            <a:pt x="128" y="28"/>
                          </a:lnTo>
                          <a:lnTo>
                            <a:pt x="118" y="72"/>
                          </a:lnTo>
                          <a:lnTo>
                            <a:pt x="88" y="114"/>
                          </a:lnTo>
                          <a:lnTo>
                            <a:pt x="64" y="126"/>
                          </a:lnTo>
                          <a:close/>
                        </a:path>
                      </a:pathLst>
                    </a:custGeom>
                    <a:solidFill>
                      <a:srgbClr val="603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8440" bIns="28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79" name=""/>
                    <p:cNvSpPr/>
                    <p:nvPr/>
                  </p:nvSpPr>
                  <p:spPr>
                    <a:xfrm flipH="1">
                      <a:off x="3160440" y="4993560"/>
                      <a:ext cx="25200" cy="5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9" h="244">
                          <a:moveTo>
                            <a:pt x="119" y="37"/>
                          </a:moveTo>
                          <a:lnTo>
                            <a:pt x="85" y="39"/>
                          </a:lnTo>
                          <a:lnTo>
                            <a:pt x="72" y="36"/>
                          </a:lnTo>
                          <a:lnTo>
                            <a:pt x="42" y="23"/>
                          </a:lnTo>
                          <a:lnTo>
                            <a:pt x="55" y="47"/>
                          </a:lnTo>
                          <a:lnTo>
                            <a:pt x="73" y="61"/>
                          </a:lnTo>
                          <a:lnTo>
                            <a:pt x="96" y="64"/>
                          </a:lnTo>
                          <a:lnTo>
                            <a:pt x="73" y="69"/>
                          </a:lnTo>
                          <a:lnTo>
                            <a:pt x="41" y="64"/>
                          </a:lnTo>
                          <a:lnTo>
                            <a:pt x="29" y="55"/>
                          </a:lnTo>
                          <a:lnTo>
                            <a:pt x="51" y="75"/>
                          </a:lnTo>
                          <a:lnTo>
                            <a:pt x="76" y="82"/>
                          </a:lnTo>
                          <a:lnTo>
                            <a:pt x="92" y="78"/>
                          </a:lnTo>
                          <a:lnTo>
                            <a:pt x="76" y="87"/>
                          </a:lnTo>
                          <a:lnTo>
                            <a:pt x="54" y="87"/>
                          </a:lnTo>
                          <a:lnTo>
                            <a:pt x="31" y="84"/>
                          </a:lnTo>
                          <a:lnTo>
                            <a:pt x="55" y="97"/>
                          </a:lnTo>
                          <a:lnTo>
                            <a:pt x="81" y="100"/>
                          </a:lnTo>
                          <a:lnTo>
                            <a:pt x="112" y="94"/>
                          </a:lnTo>
                          <a:lnTo>
                            <a:pt x="96" y="111"/>
                          </a:lnTo>
                          <a:lnTo>
                            <a:pt x="64" y="135"/>
                          </a:lnTo>
                          <a:lnTo>
                            <a:pt x="36" y="139"/>
                          </a:lnTo>
                          <a:lnTo>
                            <a:pt x="54" y="142"/>
                          </a:lnTo>
                          <a:lnTo>
                            <a:pt x="72" y="137"/>
                          </a:lnTo>
                          <a:lnTo>
                            <a:pt x="98" y="133"/>
                          </a:lnTo>
                          <a:lnTo>
                            <a:pt x="113" y="115"/>
                          </a:lnTo>
                          <a:lnTo>
                            <a:pt x="94" y="147"/>
                          </a:lnTo>
                          <a:lnTo>
                            <a:pt x="72" y="155"/>
                          </a:lnTo>
                          <a:lnTo>
                            <a:pt x="54" y="163"/>
                          </a:lnTo>
                          <a:lnTo>
                            <a:pt x="17" y="165"/>
                          </a:lnTo>
                          <a:lnTo>
                            <a:pt x="51" y="172"/>
                          </a:lnTo>
                          <a:lnTo>
                            <a:pt x="85" y="164"/>
                          </a:lnTo>
                          <a:lnTo>
                            <a:pt x="110" y="149"/>
                          </a:lnTo>
                          <a:lnTo>
                            <a:pt x="102" y="176"/>
                          </a:lnTo>
                          <a:lnTo>
                            <a:pt x="79" y="197"/>
                          </a:lnTo>
                          <a:lnTo>
                            <a:pt x="67" y="202"/>
                          </a:lnTo>
                          <a:lnTo>
                            <a:pt x="94" y="193"/>
                          </a:lnTo>
                          <a:lnTo>
                            <a:pt x="110" y="183"/>
                          </a:lnTo>
                          <a:lnTo>
                            <a:pt x="100" y="214"/>
                          </a:lnTo>
                          <a:lnTo>
                            <a:pt x="84" y="225"/>
                          </a:lnTo>
                          <a:lnTo>
                            <a:pt x="72" y="230"/>
                          </a:lnTo>
                          <a:lnTo>
                            <a:pt x="105" y="220"/>
                          </a:lnTo>
                          <a:lnTo>
                            <a:pt x="88" y="244"/>
                          </a:lnTo>
                          <a:lnTo>
                            <a:pt x="70" y="242"/>
                          </a:lnTo>
                          <a:lnTo>
                            <a:pt x="49" y="226"/>
                          </a:lnTo>
                          <a:lnTo>
                            <a:pt x="18" y="197"/>
                          </a:lnTo>
                          <a:lnTo>
                            <a:pt x="38" y="193"/>
                          </a:lnTo>
                          <a:lnTo>
                            <a:pt x="55" y="188"/>
                          </a:lnTo>
                          <a:lnTo>
                            <a:pt x="31" y="188"/>
                          </a:lnTo>
                          <a:lnTo>
                            <a:pt x="12" y="188"/>
                          </a:lnTo>
                          <a:lnTo>
                            <a:pt x="6" y="182"/>
                          </a:lnTo>
                          <a:lnTo>
                            <a:pt x="1" y="170"/>
                          </a:lnTo>
                          <a:lnTo>
                            <a:pt x="0" y="152"/>
                          </a:lnTo>
                          <a:lnTo>
                            <a:pt x="2" y="120"/>
                          </a:lnTo>
                          <a:lnTo>
                            <a:pt x="8" y="98"/>
                          </a:lnTo>
                          <a:lnTo>
                            <a:pt x="13" y="87"/>
                          </a:lnTo>
                          <a:lnTo>
                            <a:pt x="37" y="104"/>
                          </a:lnTo>
                          <a:lnTo>
                            <a:pt x="25" y="92"/>
                          </a:lnTo>
                          <a:lnTo>
                            <a:pt x="23" y="75"/>
                          </a:lnTo>
                          <a:lnTo>
                            <a:pt x="23" y="60"/>
                          </a:lnTo>
                          <a:lnTo>
                            <a:pt x="30" y="39"/>
                          </a:lnTo>
                          <a:lnTo>
                            <a:pt x="36" y="27"/>
                          </a:lnTo>
                          <a:lnTo>
                            <a:pt x="49" y="9"/>
                          </a:lnTo>
                          <a:lnTo>
                            <a:pt x="52" y="0"/>
                          </a:lnTo>
                          <a:lnTo>
                            <a:pt x="72" y="20"/>
                          </a:lnTo>
                          <a:lnTo>
                            <a:pt x="78" y="27"/>
                          </a:lnTo>
                          <a:lnTo>
                            <a:pt x="119" y="37"/>
                          </a:lnTo>
                          <a:close/>
                        </a:path>
                      </a:pathLst>
                    </a:custGeom>
                    <a:solidFill>
                      <a:srgbClr val="603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5400" bIns="5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80" name=""/>
                    <p:cNvSpPr/>
                    <p:nvPr/>
                  </p:nvSpPr>
                  <p:spPr>
                    <a:xfrm flipH="1">
                      <a:off x="3072960" y="5024160"/>
                      <a:ext cx="28800" cy="34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2" h="161">
                          <a:moveTo>
                            <a:pt x="131" y="0"/>
                          </a:moveTo>
                          <a:lnTo>
                            <a:pt x="95" y="37"/>
                          </a:lnTo>
                          <a:lnTo>
                            <a:pt x="61" y="54"/>
                          </a:lnTo>
                          <a:lnTo>
                            <a:pt x="27" y="65"/>
                          </a:lnTo>
                          <a:lnTo>
                            <a:pt x="58" y="65"/>
                          </a:lnTo>
                          <a:lnTo>
                            <a:pt x="95" y="56"/>
                          </a:lnTo>
                          <a:lnTo>
                            <a:pt x="70" y="68"/>
                          </a:lnTo>
                          <a:lnTo>
                            <a:pt x="46" y="76"/>
                          </a:lnTo>
                          <a:lnTo>
                            <a:pt x="24" y="78"/>
                          </a:lnTo>
                          <a:lnTo>
                            <a:pt x="14" y="78"/>
                          </a:lnTo>
                          <a:lnTo>
                            <a:pt x="27" y="83"/>
                          </a:lnTo>
                          <a:lnTo>
                            <a:pt x="59" y="82"/>
                          </a:lnTo>
                          <a:lnTo>
                            <a:pt x="83" y="76"/>
                          </a:lnTo>
                          <a:lnTo>
                            <a:pt x="68" y="83"/>
                          </a:lnTo>
                          <a:lnTo>
                            <a:pt x="33" y="106"/>
                          </a:lnTo>
                          <a:lnTo>
                            <a:pt x="12" y="112"/>
                          </a:lnTo>
                          <a:lnTo>
                            <a:pt x="33" y="112"/>
                          </a:lnTo>
                          <a:lnTo>
                            <a:pt x="64" y="104"/>
                          </a:lnTo>
                          <a:lnTo>
                            <a:pt x="46" y="115"/>
                          </a:lnTo>
                          <a:lnTo>
                            <a:pt x="21" y="122"/>
                          </a:lnTo>
                          <a:lnTo>
                            <a:pt x="2" y="128"/>
                          </a:lnTo>
                          <a:lnTo>
                            <a:pt x="37" y="128"/>
                          </a:lnTo>
                          <a:lnTo>
                            <a:pt x="61" y="122"/>
                          </a:lnTo>
                          <a:lnTo>
                            <a:pt x="9" y="147"/>
                          </a:lnTo>
                          <a:lnTo>
                            <a:pt x="0" y="161"/>
                          </a:lnTo>
                          <a:lnTo>
                            <a:pt x="37" y="144"/>
                          </a:lnTo>
                          <a:lnTo>
                            <a:pt x="59" y="128"/>
                          </a:lnTo>
                          <a:lnTo>
                            <a:pt x="94" y="106"/>
                          </a:lnTo>
                          <a:lnTo>
                            <a:pt x="126" y="77"/>
                          </a:lnTo>
                          <a:lnTo>
                            <a:pt x="113" y="83"/>
                          </a:lnTo>
                          <a:lnTo>
                            <a:pt x="74" y="96"/>
                          </a:lnTo>
                          <a:lnTo>
                            <a:pt x="100" y="83"/>
                          </a:lnTo>
                          <a:lnTo>
                            <a:pt x="123" y="65"/>
                          </a:lnTo>
                          <a:lnTo>
                            <a:pt x="132" y="41"/>
                          </a:lnTo>
                          <a:lnTo>
                            <a:pt x="113" y="60"/>
                          </a:lnTo>
                          <a:lnTo>
                            <a:pt x="99" y="68"/>
                          </a:lnTo>
                          <a:lnTo>
                            <a:pt x="113" y="54"/>
                          </a:lnTo>
                          <a:lnTo>
                            <a:pt x="131" y="30"/>
                          </a:lnTo>
                          <a:lnTo>
                            <a:pt x="131" y="0"/>
                          </a:lnTo>
                          <a:close/>
                        </a:path>
                      </a:pathLst>
                    </a:custGeom>
                    <a:solidFill>
                      <a:srgbClr val="603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600" bIns="-12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81" name=""/>
                    <p:cNvSpPr/>
                    <p:nvPr/>
                  </p:nvSpPr>
                  <p:spPr>
                    <a:xfrm flipH="1">
                      <a:off x="3081600" y="5055840"/>
                      <a:ext cx="10080" cy="11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9" h="55">
                          <a:moveTo>
                            <a:pt x="0" y="0"/>
                          </a:moveTo>
                          <a:lnTo>
                            <a:pt x="15" y="28"/>
                          </a:lnTo>
                          <a:lnTo>
                            <a:pt x="27" y="41"/>
                          </a:lnTo>
                          <a:lnTo>
                            <a:pt x="49" y="55"/>
                          </a:lnTo>
                          <a:lnTo>
                            <a:pt x="18" y="47"/>
                          </a:lnTo>
                          <a:lnTo>
                            <a:pt x="6" y="32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603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280" bIns="-35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82" name=""/>
                    <p:cNvSpPr/>
                    <p:nvPr/>
                  </p:nvSpPr>
                  <p:spPr>
                    <a:xfrm flipH="1">
                      <a:off x="3086640" y="5059440"/>
                      <a:ext cx="7560" cy="10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" h="47">
                          <a:moveTo>
                            <a:pt x="0" y="0"/>
                          </a:moveTo>
                          <a:lnTo>
                            <a:pt x="6" y="18"/>
                          </a:lnTo>
                          <a:lnTo>
                            <a:pt x="24" y="35"/>
                          </a:lnTo>
                          <a:lnTo>
                            <a:pt x="36" y="47"/>
                          </a:lnTo>
                          <a:lnTo>
                            <a:pt x="13" y="31"/>
                          </a:lnTo>
                          <a:lnTo>
                            <a:pt x="1" y="29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603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6720" bIns="-36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83" name=""/>
                    <p:cNvSpPr/>
                    <p:nvPr/>
                  </p:nvSpPr>
                  <p:spPr>
                    <a:xfrm flipH="1">
                      <a:off x="3095640" y="5063760"/>
                      <a:ext cx="3600" cy="7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" h="38">
                          <a:moveTo>
                            <a:pt x="7" y="0"/>
                          </a:moveTo>
                          <a:lnTo>
                            <a:pt x="7" y="19"/>
                          </a:lnTo>
                          <a:lnTo>
                            <a:pt x="15" y="38"/>
                          </a:lnTo>
                          <a:lnTo>
                            <a:pt x="0" y="21"/>
                          </a:lnTo>
                          <a:lnTo>
                            <a:pt x="7" y="0"/>
                          </a:lnTo>
                          <a:close/>
                        </a:path>
                      </a:pathLst>
                    </a:custGeom>
                    <a:solidFill>
                      <a:srgbClr val="603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600" bIns="-39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84" name=""/>
                    <p:cNvSpPr/>
                    <p:nvPr/>
                  </p:nvSpPr>
                  <p:spPr>
                    <a:xfrm flipH="1">
                      <a:off x="3100320" y="5060880"/>
                      <a:ext cx="2520" cy="13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64">
                          <a:moveTo>
                            <a:pt x="17" y="0"/>
                          </a:moveTo>
                          <a:lnTo>
                            <a:pt x="7" y="24"/>
                          </a:lnTo>
                          <a:lnTo>
                            <a:pt x="7" y="51"/>
                          </a:lnTo>
                          <a:lnTo>
                            <a:pt x="7" y="64"/>
                          </a:lnTo>
                          <a:lnTo>
                            <a:pt x="0" y="51"/>
                          </a:lnTo>
                          <a:lnTo>
                            <a:pt x="0" y="31"/>
                          </a:lnTo>
                          <a:lnTo>
                            <a:pt x="2" y="19"/>
                          </a:lnTo>
                          <a:lnTo>
                            <a:pt x="17" y="0"/>
                          </a:lnTo>
                          <a:close/>
                        </a:path>
                      </a:pathLst>
                    </a:custGeom>
                    <a:solidFill>
                      <a:srgbClr val="603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120" bIns="-33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85" name=""/>
                    <p:cNvSpPr/>
                    <p:nvPr/>
                  </p:nvSpPr>
                  <p:spPr>
                    <a:xfrm flipH="1">
                      <a:off x="3165840" y="5048280"/>
                      <a:ext cx="8640" cy="20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" h="100">
                          <a:moveTo>
                            <a:pt x="36" y="0"/>
                          </a:moveTo>
                          <a:lnTo>
                            <a:pt x="36" y="21"/>
                          </a:lnTo>
                          <a:lnTo>
                            <a:pt x="30" y="49"/>
                          </a:lnTo>
                          <a:lnTo>
                            <a:pt x="22" y="80"/>
                          </a:lnTo>
                          <a:lnTo>
                            <a:pt x="0" y="100"/>
                          </a:lnTo>
                          <a:lnTo>
                            <a:pt x="22" y="87"/>
                          </a:lnTo>
                          <a:lnTo>
                            <a:pt x="40" y="62"/>
                          </a:lnTo>
                          <a:lnTo>
                            <a:pt x="42" y="37"/>
                          </a:lnTo>
                          <a:lnTo>
                            <a:pt x="36" y="0"/>
                          </a:lnTo>
                          <a:close/>
                        </a:path>
                      </a:pathLst>
                    </a:custGeom>
                    <a:solidFill>
                      <a:srgbClr val="603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6640" bIns="-26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86" name=""/>
                    <p:cNvSpPr/>
                    <p:nvPr/>
                  </p:nvSpPr>
                  <p:spPr>
                    <a:xfrm flipH="1">
                      <a:off x="3160440" y="5046840"/>
                      <a:ext cx="7560" cy="2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" h="112">
                          <a:moveTo>
                            <a:pt x="21" y="0"/>
                          </a:moveTo>
                          <a:lnTo>
                            <a:pt x="28" y="29"/>
                          </a:lnTo>
                          <a:lnTo>
                            <a:pt x="25" y="69"/>
                          </a:lnTo>
                          <a:lnTo>
                            <a:pt x="15" y="85"/>
                          </a:lnTo>
                          <a:lnTo>
                            <a:pt x="0" y="112"/>
                          </a:lnTo>
                          <a:lnTo>
                            <a:pt x="26" y="90"/>
                          </a:lnTo>
                          <a:lnTo>
                            <a:pt x="38" y="60"/>
                          </a:lnTo>
                          <a:lnTo>
                            <a:pt x="37" y="34"/>
                          </a:lnTo>
                          <a:lnTo>
                            <a:pt x="21" y="0"/>
                          </a:lnTo>
                          <a:close/>
                        </a:path>
                      </a:pathLst>
                    </a:custGeom>
                    <a:solidFill>
                      <a:srgbClr val="603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2680" bIns="-22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87" name=""/>
                    <p:cNvSpPr/>
                    <p:nvPr/>
                  </p:nvSpPr>
                  <p:spPr>
                    <a:xfrm flipH="1">
                      <a:off x="3159360" y="5060880"/>
                      <a:ext cx="3600" cy="12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" h="60">
                          <a:moveTo>
                            <a:pt x="0" y="60"/>
                          </a:moveTo>
                          <a:lnTo>
                            <a:pt x="9" y="37"/>
                          </a:lnTo>
                          <a:lnTo>
                            <a:pt x="11" y="11"/>
                          </a:lnTo>
                          <a:lnTo>
                            <a:pt x="12" y="0"/>
                          </a:lnTo>
                          <a:lnTo>
                            <a:pt x="15" y="27"/>
                          </a:lnTo>
                          <a:lnTo>
                            <a:pt x="15" y="51"/>
                          </a:lnTo>
                          <a:lnTo>
                            <a:pt x="0" y="60"/>
                          </a:lnTo>
                          <a:close/>
                        </a:path>
                      </a:pathLst>
                    </a:custGeom>
                    <a:solidFill>
                      <a:srgbClr val="603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4200" bIns="-34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88" name=""/>
                    <p:cNvSpPr/>
                    <p:nvPr/>
                  </p:nvSpPr>
                  <p:spPr>
                    <a:xfrm flipH="1">
                      <a:off x="3161880" y="5043240"/>
                      <a:ext cx="10080" cy="11520"/>
                    </a:xfrm>
                    <a:prstGeom prst="ellipse">
                      <a:avLst/>
                    </a:prstGeom>
                    <a:solidFill>
                      <a:srgbClr val="e00000"/>
                    </a:solidFill>
                    <a:ln w="3240">
                      <a:solidFill>
                        <a:srgbClr val="8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160" bIns="-38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89" name=""/>
                    <p:cNvSpPr/>
                    <p:nvPr/>
                  </p:nvSpPr>
                  <p:spPr>
                    <a:xfrm flipH="1">
                      <a:off x="3090600" y="5045760"/>
                      <a:ext cx="10080" cy="11520"/>
                    </a:xfrm>
                    <a:prstGeom prst="ellipse">
                      <a:avLst/>
                    </a:prstGeom>
                    <a:solidFill>
                      <a:srgbClr val="e00000"/>
                    </a:solidFill>
                    <a:ln w="3240">
                      <a:solidFill>
                        <a:srgbClr val="8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160" bIns="-38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690" name=""/>
                  <p:cNvGrpSpPr/>
                  <p:nvPr/>
                </p:nvGrpSpPr>
                <p:grpSpPr>
                  <a:xfrm>
                    <a:off x="3025080" y="5285520"/>
                    <a:ext cx="117000" cy="86400"/>
                    <a:chOff x="3025080" y="5285520"/>
                    <a:chExt cx="117000" cy="86400"/>
                  </a:xfrm>
                </p:grpSpPr>
                <p:sp>
                  <p:nvSpPr>
                    <p:cNvPr id="691" name=""/>
                    <p:cNvSpPr/>
                    <p:nvPr/>
                  </p:nvSpPr>
                  <p:spPr>
                    <a:xfrm flipH="1">
                      <a:off x="3024720" y="5285520"/>
                      <a:ext cx="117000" cy="86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49" h="407">
                          <a:moveTo>
                            <a:pt x="484" y="0"/>
                          </a:moveTo>
                          <a:lnTo>
                            <a:pt x="299" y="70"/>
                          </a:lnTo>
                          <a:lnTo>
                            <a:pt x="260" y="85"/>
                          </a:lnTo>
                          <a:lnTo>
                            <a:pt x="234" y="92"/>
                          </a:lnTo>
                          <a:lnTo>
                            <a:pt x="205" y="110"/>
                          </a:lnTo>
                          <a:lnTo>
                            <a:pt x="135" y="124"/>
                          </a:lnTo>
                          <a:lnTo>
                            <a:pt x="101" y="133"/>
                          </a:lnTo>
                          <a:lnTo>
                            <a:pt x="62" y="165"/>
                          </a:lnTo>
                          <a:lnTo>
                            <a:pt x="44" y="184"/>
                          </a:lnTo>
                          <a:lnTo>
                            <a:pt x="37" y="197"/>
                          </a:lnTo>
                          <a:lnTo>
                            <a:pt x="34" y="213"/>
                          </a:lnTo>
                          <a:lnTo>
                            <a:pt x="19" y="269"/>
                          </a:lnTo>
                          <a:lnTo>
                            <a:pt x="13" y="289"/>
                          </a:lnTo>
                          <a:lnTo>
                            <a:pt x="3" y="335"/>
                          </a:lnTo>
                          <a:lnTo>
                            <a:pt x="0" y="378"/>
                          </a:lnTo>
                          <a:lnTo>
                            <a:pt x="6" y="407"/>
                          </a:lnTo>
                          <a:lnTo>
                            <a:pt x="22" y="386"/>
                          </a:lnTo>
                          <a:lnTo>
                            <a:pt x="30" y="372"/>
                          </a:lnTo>
                          <a:lnTo>
                            <a:pt x="36" y="340"/>
                          </a:lnTo>
                          <a:lnTo>
                            <a:pt x="59" y="306"/>
                          </a:lnTo>
                          <a:lnTo>
                            <a:pt x="62" y="325"/>
                          </a:lnTo>
                          <a:lnTo>
                            <a:pt x="96" y="367"/>
                          </a:lnTo>
                          <a:lnTo>
                            <a:pt x="109" y="373"/>
                          </a:lnTo>
                          <a:lnTo>
                            <a:pt x="120" y="370"/>
                          </a:lnTo>
                          <a:lnTo>
                            <a:pt x="138" y="372"/>
                          </a:lnTo>
                          <a:lnTo>
                            <a:pt x="147" y="367"/>
                          </a:lnTo>
                          <a:lnTo>
                            <a:pt x="164" y="362"/>
                          </a:lnTo>
                          <a:lnTo>
                            <a:pt x="170" y="348"/>
                          </a:lnTo>
                          <a:lnTo>
                            <a:pt x="195" y="336"/>
                          </a:lnTo>
                          <a:lnTo>
                            <a:pt x="190" y="324"/>
                          </a:lnTo>
                          <a:lnTo>
                            <a:pt x="177" y="317"/>
                          </a:lnTo>
                          <a:lnTo>
                            <a:pt x="183" y="275"/>
                          </a:lnTo>
                          <a:lnTo>
                            <a:pt x="207" y="258"/>
                          </a:lnTo>
                          <a:lnTo>
                            <a:pt x="226" y="240"/>
                          </a:lnTo>
                          <a:lnTo>
                            <a:pt x="245" y="215"/>
                          </a:lnTo>
                          <a:lnTo>
                            <a:pt x="252" y="194"/>
                          </a:lnTo>
                          <a:lnTo>
                            <a:pt x="263" y="179"/>
                          </a:lnTo>
                          <a:lnTo>
                            <a:pt x="279" y="177"/>
                          </a:lnTo>
                          <a:lnTo>
                            <a:pt x="301" y="176"/>
                          </a:lnTo>
                          <a:lnTo>
                            <a:pt x="323" y="166"/>
                          </a:lnTo>
                          <a:lnTo>
                            <a:pt x="533" y="132"/>
                          </a:lnTo>
                          <a:lnTo>
                            <a:pt x="545" y="122"/>
                          </a:lnTo>
                          <a:lnTo>
                            <a:pt x="549" y="109"/>
                          </a:lnTo>
                          <a:lnTo>
                            <a:pt x="545" y="80"/>
                          </a:lnTo>
                          <a:lnTo>
                            <a:pt x="543" y="60"/>
                          </a:lnTo>
                          <a:lnTo>
                            <a:pt x="533" y="39"/>
                          </a:lnTo>
                          <a:lnTo>
                            <a:pt x="520" y="23"/>
                          </a:lnTo>
                          <a:lnTo>
                            <a:pt x="505" y="9"/>
                          </a:lnTo>
                          <a:lnTo>
                            <a:pt x="484" y="0"/>
                          </a:lnTo>
                          <a:close/>
                        </a:path>
                      </a:pathLst>
                    </a:custGeom>
                    <a:solidFill>
                      <a:srgbClr val="ffc080"/>
                    </a:solidFill>
                    <a:ln w="3240">
                      <a:solidFill>
                        <a:srgbClr val="402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600" bIns="39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92" name=""/>
                    <p:cNvSpPr/>
                    <p:nvPr/>
                  </p:nvSpPr>
                  <p:spPr>
                    <a:xfrm flipH="1">
                      <a:off x="3125520" y="5329800"/>
                      <a:ext cx="2520" cy="1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" h="73">
                          <a:moveTo>
                            <a:pt x="5" y="0"/>
                          </a:moveTo>
                          <a:lnTo>
                            <a:pt x="11" y="10"/>
                          </a:lnTo>
                          <a:lnTo>
                            <a:pt x="5" y="37"/>
                          </a:lnTo>
                          <a:lnTo>
                            <a:pt x="0" y="73"/>
                          </a:lnTo>
                          <a:lnTo>
                            <a:pt x="3" y="34"/>
                          </a:lnTo>
                          <a:lnTo>
                            <a:pt x="5" y="0"/>
                          </a:lnTo>
                          <a:close/>
                        </a:path>
                      </a:pathLst>
                    </a:custGeom>
                    <a:solidFill>
                      <a:srgbClr val="402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1680" bIns="-31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93" name=""/>
                    <p:cNvSpPr/>
                    <p:nvPr/>
                  </p:nvSpPr>
                  <p:spPr>
                    <a:xfrm flipH="1">
                      <a:off x="3119040" y="5333760"/>
                      <a:ext cx="2520" cy="18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" h="88">
                          <a:moveTo>
                            <a:pt x="0" y="0"/>
                          </a:moveTo>
                          <a:lnTo>
                            <a:pt x="11" y="12"/>
                          </a:lnTo>
                          <a:lnTo>
                            <a:pt x="6" y="33"/>
                          </a:lnTo>
                          <a:lnTo>
                            <a:pt x="4" y="88"/>
                          </a:lnTo>
                          <a:lnTo>
                            <a:pt x="2" y="51"/>
                          </a:lnTo>
                          <a:lnTo>
                            <a:pt x="0" y="30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402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080" bIns="-28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94" name=""/>
                    <p:cNvSpPr/>
                    <p:nvPr/>
                  </p:nvSpPr>
                  <p:spPr>
                    <a:xfrm flipH="1">
                      <a:off x="3111480" y="5340240"/>
                      <a:ext cx="1440" cy="12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56">
                          <a:moveTo>
                            <a:pt x="0" y="0"/>
                          </a:moveTo>
                          <a:lnTo>
                            <a:pt x="9" y="11"/>
                          </a:lnTo>
                          <a:lnTo>
                            <a:pt x="5" y="34"/>
                          </a:lnTo>
                          <a:lnTo>
                            <a:pt x="5" y="56"/>
                          </a:lnTo>
                          <a:lnTo>
                            <a:pt x="0" y="41"/>
                          </a:lnTo>
                          <a:lnTo>
                            <a:pt x="1" y="17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402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4200" bIns="-34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95" name=""/>
                    <p:cNvSpPr/>
                    <p:nvPr/>
                  </p:nvSpPr>
                  <p:spPr>
                    <a:xfrm flipH="1">
                      <a:off x="3116880" y="5355000"/>
                      <a:ext cx="3600" cy="6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29">
                          <a:moveTo>
                            <a:pt x="1" y="0"/>
                          </a:moveTo>
                          <a:lnTo>
                            <a:pt x="17" y="29"/>
                          </a:lnTo>
                          <a:lnTo>
                            <a:pt x="0" y="17"/>
                          </a:lnTo>
                          <a:lnTo>
                            <a:pt x="1" y="0"/>
                          </a:lnTo>
                          <a:close/>
                        </a:path>
                      </a:pathLst>
                    </a:custGeom>
                    <a:solidFill>
                      <a:srgbClr val="402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320" bIns="-40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96" name=""/>
                    <p:cNvSpPr/>
                    <p:nvPr/>
                  </p:nvSpPr>
                  <p:spPr>
                    <a:xfrm flipH="1">
                      <a:off x="3109320" y="5353920"/>
                      <a:ext cx="2160" cy="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" h="13">
                          <a:moveTo>
                            <a:pt x="0" y="0"/>
                          </a:moveTo>
                          <a:lnTo>
                            <a:pt x="12" y="8"/>
                          </a:lnTo>
                          <a:lnTo>
                            <a:pt x="4" y="13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402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200" bIns="-43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697" name=""/>
                  <p:cNvSpPr/>
                  <p:nvPr/>
                </p:nvSpPr>
                <p:spPr>
                  <a:xfrm flipH="1">
                    <a:off x="2975400" y="5087520"/>
                    <a:ext cx="150120" cy="230760"/>
                  </a:xfrm>
                  <a:custGeom>
                    <a:avLst/>
                    <a:gdLst/>
                    <a:ahLst/>
                    <a:rect l="l" t="t" r="r" b="b"/>
                    <a:pathLst>
                      <a:path w="709" h="1084">
                        <a:moveTo>
                          <a:pt x="5" y="1012"/>
                        </a:moveTo>
                        <a:lnTo>
                          <a:pt x="164" y="999"/>
                        </a:lnTo>
                        <a:lnTo>
                          <a:pt x="299" y="963"/>
                        </a:lnTo>
                        <a:lnTo>
                          <a:pt x="303" y="886"/>
                        </a:lnTo>
                        <a:lnTo>
                          <a:pt x="348" y="882"/>
                        </a:lnTo>
                        <a:lnTo>
                          <a:pt x="379" y="813"/>
                        </a:lnTo>
                        <a:lnTo>
                          <a:pt x="397" y="742"/>
                        </a:lnTo>
                        <a:lnTo>
                          <a:pt x="438" y="805"/>
                        </a:lnTo>
                        <a:lnTo>
                          <a:pt x="415" y="854"/>
                        </a:lnTo>
                        <a:lnTo>
                          <a:pt x="367" y="908"/>
                        </a:lnTo>
                        <a:lnTo>
                          <a:pt x="349" y="941"/>
                        </a:lnTo>
                        <a:lnTo>
                          <a:pt x="386" y="940"/>
                        </a:lnTo>
                        <a:lnTo>
                          <a:pt x="419" y="949"/>
                        </a:lnTo>
                        <a:lnTo>
                          <a:pt x="450" y="979"/>
                        </a:lnTo>
                        <a:lnTo>
                          <a:pt x="453" y="1010"/>
                        </a:lnTo>
                        <a:lnTo>
                          <a:pt x="453" y="1037"/>
                        </a:lnTo>
                        <a:lnTo>
                          <a:pt x="436" y="1084"/>
                        </a:lnTo>
                        <a:lnTo>
                          <a:pt x="484" y="1081"/>
                        </a:lnTo>
                        <a:lnTo>
                          <a:pt x="549" y="1050"/>
                        </a:lnTo>
                        <a:lnTo>
                          <a:pt x="605" y="997"/>
                        </a:lnTo>
                        <a:lnTo>
                          <a:pt x="654" y="927"/>
                        </a:lnTo>
                        <a:lnTo>
                          <a:pt x="695" y="883"/>
                        </a:lnTo>
                        <a:lnTo>
                          <a:pt x="709" y="819"/>
                        </a:lnTo>
                        <a:lnTo>
                          <a:pt x="682" y="764"/>
                        </a:lnTo>
                        <a:lnTo>
                          <a:pt x="664" y="700"/>
                        </a:lnTo>
                        <a:lnTo>
                          <a:pt x="636" y="645"/>
                        </a:lnTo>
                        <a:lnTo>
                          <a:pt x="582" y="503"/>
                        </a:lnTo>
                        <a:lnTo>
                          <a:pt x="546" y="384"/>
                        </a:lnTo>
                        <a:lnTo>
                          <a:pt x="529" y="301"/>
                        </a:lnTo>
                        <a:lnTo>
                          <a:pt x="524" y="208"/>
                        </a:lnTo>
                        <a:lnTo>
                          <a:pt x="502" y="152"/>
                        </a:lnTo>
                        <a:lnTo>
                          <a:pt x="468" y="129"/>
                        </a:lnTo>
                        <a:lnTo>
                          <a:pt x="435" y="119"/>
                        </a:lnTo>
                        <a:lnTo>
                          <a:pt x="372" y="120"/>
                        </a:lnTo>
                        <a:lnTo>
                          <a:pt x="304" y="110"/>
                        </a:lnTo>
                        <a:lnTo>
                          <a:pt x="237" y="91"/>
                        </a:lnTo>
                        <a:lnTo>
                          <a:pt x="173" y="63"/>
                        </a:lnTo>
                        <a:lnTo>
                          <a:pt x="138" y="10"/>
                        </a:lnTo>
                        <a:lnTo>
                          <a:pt x="103" y="0"/>
                        </a:lnTo>
                        <a:lnTo>
                          <a:pt x="106" y="47"/>
                        </a:lnTo>
                        <a:lnTo>
                          <a:pt x="100" y="85"/>
                        </a:lnTo>
                        <a:lnTo>
                          <a:pt x="83" y="125"/>
                        </a:lnTo>
                        <a:lnTo>
                          <a:pt x="57" y="156"/>
                        </a:lnTo>
                        <a:lnTo>
                          <a:pt x="38" y="180"/>
                        </a:lnTo>
                        <a:lnTo>
                          <a:pt x="0" y="208"/>
                        </a:lnTo>
                        <a:lnTo>
                          <a:pt x="5" y="1012"/>
                        </a:lnTo>
                        <a:close/>
                      </a:path>
                    </a:pathLst>
                  </a:custGeom>
                  <a:solidFill>
                    <a:srgbClr val="004040"/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8" name=""/>
                  <p:cNvSpPr/>
                  <p:nvPr/>
                </p:nvSpPr>
                <p:spPr>
                  <a:xfrm flipH="1">
                    <a:off x="2980080" y="5106960"/>
                    <a:ext cx="140040" cy="208800"/>
                  </a:xfrm>
                  <a:custGeom>
                    <a:avLst/>
                    <a:gdLst/>
                    <a:ahLst/>
                    <a:rect l="l" t="t" r="r" b="b"/>
                    <a:pathLst>
                      <a:path w="662" h="980">
                        <a:moveTo>
                          <a:pt x="144" y="0"/>
                        </a:moveTo>
                        <a:lnTo>
                          <a:pt x="139" y="91"/>
                        </a:lnTo>
                        <a:lnTo>
                          <a:pt x="86" y="146"/>
                        </a:lnTo>
                        <a:lnTo>
                          <a:pt x="53" y="183"/>
                        </a:lnTo>
                        <a:lnTo>
                          <a:pt x="17" y="146"/>
                        </a:lnTo>
                        <a:lnTo>
                          <a:pt x="22" y="220"/>
                        </a:lnTo>
                        <a:lnTo>
                          <a:pt x="8" y="330"/>
                        </a:lnTo>
                        <a:lnTo>
                          <a:pt x="4" y="466"/>
                        </a:lnTo>
                        <a:lnTo>
                          <a:pt x="0" y="558"/>
                        </a:lnTo>
                        <a:lnTo>
                          <a:pt x="4" y="631"/>
                        </a:lnTo>
                        <a:lnTo>
                          <a:pt x="17" y="783"/>
                        </a:lnTo>
                        <a:lnTo>
                          <a:pt x="40" y="894"/>
                        </a:lnTo>
                        <a:lnTo>
                          <a:pt x="122" y="889"/>
                        </a:lnTo>
                        <a:lnTo>
                          <a:pt x="112" y="847"/>
                        </a:lnTo>
                        <a:lnTo>
                          <a:pt x="112" y="742"/>
                        </a:lnTo>
                        <a:lnTo>
                          <a:pt x="148" y="628"/>
                        </a:lnTo>
                        <a:lnTo>
                          <a:pt x="139" y="719"/>
                        </a:lnTo>
                        <a:lnTo>
                          <a:pt x="130" y="764"/>
                        </a:lnTo>
                        <a:lnTo>
                          <a:pt x="135" y="806"/>
                        </a:lnTo>
                        <a:lnTo>
                          <a:pt x="144" y="879"/>
                        </a:lnTo>
                        <a:lnTo>
                          <a:pt x="257" y="852"/>
                        </a:lnTo>
                        <a:lnTo>
                          <a:pt x="257" y="792"/>
                        </a:lnTo>
                        <a:lnTo>
                          <a:pt x="306" y="774"/>
                        </a:lnTo>
                        <a:lnTo>
                          <a:pt x="328" y="724"/>
                        </a:lnTo>
                        <a:lnTo>
                          <a:pt x="361" y="636"/>
                        </a:lnTo>
                        <a:lnTo>
                          <a:pt x="338" y="554"/>
                        </a:lnTo>
                        <a:lnTo>
                          <a:pt x="324" y="471"/>
                        </a:lnTo>
                        <a:lnTo>
                          <a:pt x="328" y="426"/>
                        </a:lnTo>
                        <a:lnTo>
                          <a:pt x="306" y="513"/>
                        </a:lnTo>
                        <a:lnTo>
                          <a:pt x="284" y="600"/>
                        </a:lnTo>
                        <a:lnTo>
                          <a:pt x="270" y="664"/>
                        </a:lnTo>
                        <a:lnTo>
                          <a:pt x="257" y="737"/>
                        </a:lnTo>
                        <a:lnTo>
                          <a:pt x="257" y="646"/>
                        </a:lnTo>
                        <a:lnTo>
                          <a:pt x="270" y="568"/>
                        </a:lnTo>
                        <a:lnTo>
                          <a:pt x="288" y="485"/>
                        </a:lnTo>
                        <a:lnTo>
                          <a:pt x="315" y="408"/>
                        </a:lnTo>
                        <a:lnTo>
                          <a:pt x="328" y="366"/>
                        </a:lnTo>
                        <a:lnTo>
                          <a:pt x="356" y="270"/>
                        </a:lnTo>
                        <a:lnTo>
                          <a:pt x="374" y="196"/>
                        </a:lnTo>
                        <a:lnTo>
                          <a:pt x="369" y="288"/>
                        </a:lnTo>
                        <a:lnTo>
                          <a:pt x="351" y="389"/>
                        </a:lnTo>
                        <a:lnTo>
                          <a:pt x="343" y="444"/>
                        </a:lnTo>
                        <a:lnTo>
                          <a:pt x="346" y="499"/>
                        </a:lnTo>
                        <a:lnTo>
                          <a:pt x="364" y="576"/>
                        </a:lnTo>
                        <a:lnTo>
                          <a:pt x="374" y="614"/>
                        </a:lnTo>
                        <a:lnTo>
                          <a:pt x="383" y="651"/>
                        </a:lnTo>
                        <a:lnTo>
                          <a:pt x="419" y="683"/>
                        </a:lnTo>
                        <a:lnTo>
                          <a:pt x="468" y="651"/>
                        </a:lnTo>
                        <a:lnTo>
                          <a:pt x="486" y="600"/>
                        </a:lnTo>
                        <a:lnTo>
                          <a:pt x="486" y="545"/>
                        </a:lnTo>
                        <a:lnTo>
                          <a:pt x="468" y="513"/>
                        </a:lnTo>
                        <a:lnTo>
                          <a:pt x="460" y="476"/>
                        </a:lnTo>
                        <a:lnTo>
                          <a:pt x="460" y="408"/>
                        </a:lnTo>
                        <a:lnTo>
                          <a:pt x="463" y="353"/>
                        </a:lnTo>
                        <a:lnTo>
                          <a:pt x="468" y="421"/>
                        </a:lnTo>
                        <a:lnTo>
                          <a:pt x="478" y="490"/>
                        </a:lnTo>
                        <a:lnTo>
                          <a:pt x="501" y="521"/>
                        </a:lnTo>
                        <a:lnTo>
                          <a:pt x="501" y="576"/>
                        </a:lnTo>
                        <a:lnTo>
                          <a:pt x="496" y="628"/>
                        </a:lnTo>
                        <a:lnTo>
                          <a:pt x="483" y="659"/>
                        </a:lnTo>
                        <a:lnTo>
                          <a:pt x="446" y="687"/>
                        </a:lnTo>
                        <a:lnTo>
                          <a:pt x="428" y="709"/>
                        </a:lnTo>
                        <a:lnTo>
                          <a:pt x="423" y="733"/>
                        </a:lnTo>
                        <a:lnTo>
                          <a:pt x="410" y="764"/>
                        </a:lnTo>
                        <a:lnTo>
                          <a:pt x="364" y="816"/>
                        </a:lnTo>
                        <a:lnTo>
                          <a:pt x="351" y="834"/>
                        </a:lnTo>
                        <a:lnTo>
                          <a:pt x="383" y="834"/>
                        </a:lnTo>
                        <a:lnTo>
                          <a:pt x="410" y="843"/>
                        </a:lnTo>
                        <a:lnTo>
                          <a:pt x="428" y="871"/>
                        </a:lnTo>
                        <a:lnTo>
                          <a:pt x="437" y="907"/>
                        </a:lnTo>
                        <a:lnTo>
                          <a:pt x="442" y="952"/>
                        </a:lnTo>
                        <a:lnTo>
                          <a:pt x="437" y="980"/>
                        </a:lnTo>
                        <a:lnTo>
                          <a:pt x="483" y="957"/>
                        </a:lnTo>
                        <a:lnTo>
                          <a:pt x="527" y="934"/>
                        </a:lnTo>
                        <a:lnTo>
                          <a:pt x="572" y="884"/>
                        </a:lnTo>
                        <a:lnTo>
                          <a:pt x="590" y="838"/>
                        </a:lnTo>
                        <a:lnTo>
                          <a:pt x="654" y="783"/>
                        </a:lnTo>
                        <a:lnTo>
                          <a:pt x="603" y="783"/>
                        </a:lnTo>
                        <a:lnTo>
                          <a:pt x="518" y="806"/>
                        </a:lnTo>
                        <a:lnTo>
                          <a:pt x="468" y="838"/>
                        </a:lnTo>
                        <a:lnTo>
                          <a:pt x="496" y="801"/>
                        </a:lnTo>
                        <a:lnTo>
                          <a:pt x="536" y="779"/>
                        </a:lnTo>
                        <a:lnTo>
                          <a:pt x="559" y="774"/>
                        </a:lnTo>
                        <a:lnTo>
                          <a:pt x="608" y="769"/>
                        </a:lnTo>
                        <a:lnTo>
                          <a:pt x="649" y="769"/>
                        </a:lnTo>
                        <a:lnTo>
                          <a:pt x="658" y="756"/>
                        </a:lnTo>
                        <a:lnTo>
                          <a:pt x="662" y="724"/>
                        </a:lnTo>
                        <a:lnTo>
                          <a:pt x="654" y="706"/>
                        </a:lnTo>
                        <a:lnTo>
                          <a:pt x="636" y="669"/>
                        </a:lnTo>
                        <a:lnTo>
                          <a:pt x="590" y="701"/>
                        </a:lnTo>
                        <a:lnTo>
                          <a:pt x="554" y="728"/>
                        </a:lnTo>
                        <a:lnTo>
                          <a:pt x="514" y="733"/>
                        </a:lnTo>
                        <a:lnTo>
                          <a:pt x="572" y="696"/>
                        </a:lnTo>
                        <a:lnTo>
                          <a:pt x="613" y="669"/>
                        </a:lnTo>
                        <a:lnTo>
                          <a:pt x="631" y="646"/>
                        </a:lnTo>
                        <a:lnTo>
                          <a:pt x="618" y="614"/>
                        </a:lnTo>
                        <a:lnTo>
                          <a:pt x="595" y="576"/>
                        </a:lnTo>
                        <a:lnTo>
                          <a:pt x="567" y="526"/>
                        </a:lnTo>
                        <a:lnTo>
                          <a:pt x="545" y="444"/>
                        </a:lnTo>
                        <a:lnTo>
                          <a:pt x="509" y="353"/>
                        </a:lnTo>
                        <a:lnTo>
                          <a:pt x="496" y="288"/>
                        </a:lnTo>
                        <a:lnTo>
                          <a:pt x="483" y="215"/>
                        </a:lnTo>
                        <a:lnTo>
                          <a:pt x="486" y="165"/>
                        </a:lnTo>
                        <a:lnTo>
                          <a:pt x="463" y="223"/>
                        </a:lnTo>
                        <a:lnTo>
                          <a:pt x="446" y="283"/>
                        </a:lnTo>
                        <a:lnTo>
                          <a:pt x="460" y="196"/>
                        </a:lnTo>
                        <a:lnTo>
                          <a:pt x="478" y="155"/>
                        </a:lnTo>
                        <a:lnTo>
                          <a:pt x="486" y="137"/>
                        </a:lnTo>
                        <a:lnTo>
                          <a:pt x="473" y="95"/>
                        </a:lnTo>
                        <a:lnTo>
                          <a:pt x="460" y="63"/>
                        </a:lnTo>
                        <a:lnTo>
                          <a:pt x="428" y="50"/>
                        </a:lnTo>
                        <a:lnTo>
                          <a:pt x="387" y="45"/>
                        </a:lnTo>
                        <a:lnTo>
                          <a:pt x="328" y="45"/>
                        </a:lnTo>
                        <a:lnTo>
                          <a:pt x="284" y="35"/>
                        </a:lnTo>
                        <a:lnTo>
                          <a:pt x="257" y="73"/>
                        </a:lnTo>
                        <a:lnTo>
                          <a:pt x="224" y="132"/>
                        </a:lnTo>
                        <a:lnTo>
                          <a:pt x="234" y="87"/>
                        </a:lnTo>
                        <a:lnTo>
                          <a:pt x="257" y="50"/>
                        </a:lnTo>
                        <a:lnTo>
                          <a:pt x="270" y="32"/>
                        </a:lnTo>
                        <a:lnTo>
                          <a:pt x="144" y="0"/>
                        </a:lnTo>
                        <a:close/>
                      </a:path>
                    </a:pathLst>
                  </a:custGeom>
                  <a:solidFill>
                    <a:srgbClr val="00606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9" name=""/>
                  <p:cNvSpPr/>
                  <p:nvPr/>
                </p:nvSpPr>
                <p:spPr>
                  <a:xfrm flipH="1">
                    <a:off x="3091320" y="5091840"/>
                    <a:ext cx="27720" cy="50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0" h="238">
                        <a:moveTo>
                          <a:pt x="82" y="0"/>
                        </a:moveTo>
                        <a:lnTo>
                          <a:pt x="86" y="44"/>
                        </a:lnTo>
                        <a:lnTo>
                          <a:pt x="71" y="99"/>
                        </a:lnTo>
                        <a:lnTo>
                          <a:pt x="41" y="142"/>
                        </a:lnTo>
                        <a:lnTo>
                          <a:pt x="0" y="187"/>
                        </a:lnTo>
                        <a:lnTo>
                          <a:pt x="46" y="238"/>
                        </a:lnTo>
                        <a:lnTo>
                          <a:pt x="94" y="191"/>
                        </a:lnTo>
                        <a:lnTo>
                          <a:pt x="118" y="156"/>
                        </a:lnTo>
                        <a:lnTo>
                          <a:pt x="123" y="117"/>
                        </a:lnTo>
                        <a:lnTo>
                          <a:pt x="130" y="77"/>
                        </a:lnTo>
                        <a:lnTo>
                          <a:pt x="127" y="50"/>
                        </a:lnTo>
                        <a:lnTo>
                          <a:pt x="113" y="26"/>
                        </a:lnTo>
                        <a:lnTo>
                          <a:pt x="82" y="0"/>
                        </a:lnTo>
                        <a:close/>
                      </a:path>
                    </a:pathLst>
                  </a:custGeom>
                  <a:solidFill>
                    <a:srgbClr val="a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" bIns="3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700" name=""/>
                  <p:cNvGrpSpPr/>
                  <p:nvPr/>
                </p:nvGrpSpPr>
                <p:grpSpPr>
                  <a:xfrm>
                    <a:off x="3187080" y="5334120"/>
                    <a:ext cx="53280" cy="172800"/>
                    <a:chOff x="3187080" y="5334120"/>
                    <a:chExt cx="53280" cy="172800"/>
                  </a:xfrm>
                </p:grpSpPr>
                <p:sp>
                  <p:nvSpPr>
                    <p:cNvPr id="701" name=""/>
                    <p:cNvSpPr/>
                    <p:nvPr/>
                  </p:nvSpPr>
                  <p:spPr>
                    <a:xfrm flipH="1">
                      <a:off x="3187080" y="5334120"/>
                      <a:ext cx="53280" cy="17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52" h="818">
                          <a:moveTo>
                            <a:pt x="2" y="17"/>
                          </a:moveTo>
                          <a:lnTo>
                            <a:pt x="0" y="67"/>
                          </a:lnTo>
                          <a:lnTo>
                            <a:pt x="2" y="122"/>
                          </a:lnTo>
                          <a:lnTo>
                            <a:pt x="12" y="177"/>
                          </a:lnTo>
                          <a:lnTo>
                            <a:pt x="23" y="237"/>
                          </a:lnTo>
                          <a:lnTo>
                            <a:pt x="36" y="287"/>
                          </a:lnTo>
                          <a:lnTo>
                            <a:pt x="48" y="343"/>
                          </a:lnTo>
                          <a:lnTo>
                            <a:pt x="53" y="390"/>
                          </a:lnTo>
                          <a:lnTo>
                            <a:pt x="66" y="421"/>
                          </a:lnTo>
                          <a:lnTo>
                            <a:pt x="53" y="512"/>
                          </a:lnTo>
                          <a:lnTo>
                            <a:pt x="45" y="584"/>
                          </a:lnTo>
                          <a:lnTo>
                            <a:pt x="51" y="653"/>
                          </a:lnTo>
                          <a:lnTo>
                            <a:pt x="66" y="707"/>
                          </a:lnTo>
                          <a:lnTo>
                            <a:pt x="83" y="751"/>
                          </a:lnTo>
                          <a:lnTo>
                            <a:pt x="109" y="772"/>
                          </a:lnTo>
                          <a:lnTo>
                            <a:pt x="124" y="789"/>
                          </a:lnTo>
                          <a:lnTo>
                            <a:pt x="147" y="799"/>
                          </a:lnTo>
                          <a:lnTo>
                            <a:pt x="167" y="817"/>
                          </a:lnTo>
                          <a:lnTo>
                            <a:pt x="177" y="818"/>
                          </a:lnTo>
                          <a:lnTo>
                            <a:pt x="185" y="811"/>
                          </a:lnTo>
                          <a:lnTo>
                            <a:pt x="193" y="796"/>
                          </a:lnTo>
                          <a:lnTo>
                            <a:pt x="210" y="777"/>
                          </a:lnTo>
                          <a:lnTo>
                            <a:pt x="216" y="756"/>
                          </a:lnTo>
                          <a:lnTo>
                            <a:pt x="221" y="713"/>
                          </a:lnTo>
                          <a:lnTo>
                            <a:pt x="222" y="660"/>
                          </a:lnTo>
                          <a:lnTo>
                            <a:pt x="230" y="668"/>
                          </a:lnTo>
                          <a:lnTo>
                            <a:pt x="244" y="677"/>
                          </a:lnTo>
                          <a:lnTo>
                            <a:pt x="248" y="652"/>
                          </a:lnTo>
                          <a:lnTo>
                            <a:pt x="248" y="626"/>
                          </a:lnTo>
                          <a:lnTo>
                            <a:pt x="252" y="590"/>
                          </a:lnTo>
                          <a:lnTo>
                            <a:pt x="246" y="553"/>
                          </a:lnTo>
                          <a:lnTo>
                            <a:pt x="246" y="513"/>
                          </a:lnTo>
                          <a:lnTo>
                            <a:pt x="239" y="486"/>
                          </a:lnTo>
                          <a:lnTo>
                            <a:pt x="234" y="474"/>
                          </a:lnTo>
                          <a:lnTo>
                            <a:pt x="209" y="443"/>
                          </a:lnTo>
                          <a:lnTo>
                            <a:pt x="179" y="403"/>
                          </a:lnTo>
                          <a:lnTo>
                            <a:pt x="167" y="371"/>
                          </a:lnTo>
                          <a:lnTo>
                            <a:pt x="165" y="333"/>
                          </a:lnTo>
                          <a:lnTo>
                            <a:pt x="158" y="288"/>
                          </a:lnTo>
                          <a:lnTo>
                            <a:pt x="157" y="233"/>
                          </a:lnTo>
                          <a:lnTo>
                            <a:pt x="158" y="175"/>
                          </a:lnTo>
                          <a:lnTo>
                            <a:pt x="159" y="129"/>
                          </a:lnTo>
                          <a:lnTo>
                            <a:pt x="183" y="0"/>
                          </a:lnTo>
                          <a:lnTo>
                            <a:pt x="123" y="32"/>
                          </a:lnTo>
                          <a:lnTo>
                            <a:pt x="56" y="32"/>
                          </a:lnTo>
                          <a:lnTo>
                            <a:pt x="2" y="17"/>
                          </a:lnTo>
                          <a:close/>
                        </a:path>
                      </a:pathLst>
                    </a:custGeom>
                    <a:solidFill>
                      <a:srgbClr val="ffc080"/>
                    </a:solidFill>
                    <a:ln w="3240">
                      <a:solidFill>
                        <a:srgbClr val="402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02" name=""/>
                    <p:cNvSpPr/>
                    <p:nvPr/>
                  </p:nvSpPr>
                  <p:spPr>
                    <a:xfrm flipH="1">
                      <a:off x="3200760" y="5466240"/>
                      <a:ext cx="6120" cy="31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" h="149">
                          <a:moveTo>
                            <a:pt x="8" y="0"/>
                          </a:moveTo>
                          <a:lnTo>
                            <a:pt x="0" y="12"/>
                          </a:lnTo>
                          <a:lnTo>
                            <a:pt x="7" y="31"/>
                          </a:lnTo>
                          <a:lnTo>
                            <a:pt x="10" y="69"/>
                          </a:lnTo>
                          <a:lnTo>
                            <a:pt x="12" y="97"/>
                          </a:lnTo>
                          <a:lnTo>
                            <a:pt x="30" y="149"/>
                          </a:lnTo>
                          <a:lnTo>
                            <a:pt x="26" y="119"/>
                          </a:lnTo>
                          <a:lnTo>
                            <a:pt x="16" y="88"/>
                          </a:lnTo>
                          <a:lnTo>
                            <a:pt x="13" y="33"/>
                          </a:lnTo>
                          <a:lnTo>
                            <a:pt x="18" y="21"/>
                          </a:lnTo>
                          <a:lnTo>
                            <a:pt x="8" y="0"/>
                          </a:lnTo>
                          <a:close/>
                        </a:path>
                      </a:pathLst>
                    </a:custGeom>
                    <a:solidFill>
                      <a:srgbClr val="402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120" bIns="-15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03" name=""/>
                    <p:cNvSpPr/>
                    <p:nvPr/>
                  </p:nvSpPr>
                  <p:spPr>
                    <a:xfrm flipH="1">
                      <a:off x="3210120" y="5476320"/>
                      <a:ext cx="5040" cy="19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4" h="92">
                          <a:moveTo>
                            <a:pt x="24" y="92"/>
                          </a:moveTo>
                          <a:lnTo>
                            <a:pt x="8" y="52"/>
                          </a:lnTo>
                          <a:lnTo>
                            <a:pt x="0" y="0"/>
                          </a:lnTo>
                          <a:lnTo>
                            <a:pt x="1" y="47"/>
                          </a:lnTo>
                          <a:lnTo>
                            <a:pt x="24" y="92"/>
                          </a:lnTo>
                          <a:close/>
                        </a:path>
                      </a:pathLst>
                    </a:custGeom>
                    <a:solidFill>
                      <a:srgbClr val="402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720" bIns="-27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04" name=""/>
                    <p:cNvSpPr/>
                    <p:nvPr/>
                  </p:nvSpPr>
                  <p:spPr>
                    <a:xfrm flipH="1">
                      <a:off x="3213720" y="5464800"/>
                      <a:ext cx="3600" cy="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" h="20">
                          <a:moveTo>
                            <a:pt x="0" y="0"/>
                          </a:moveTo>
                          <a:lnTo>
                            <a:pt x="13" y="15"/>
                          </a:lnTo>
                          <a:lnTo>
                            <a:pt x="18" y="16"/>
                          </a:lnTo>
                          <a:lnTo>
                            <a:pt x="5" y="20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402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200" bIns="-43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05" name=""/>
                    <p:cNvSpPr/>
                    <p:nvPr/>
                  </p:nvSpPr>
                  <p:spPr>
                    <a:xfrm flipH="1">
                      <a:off x="3217680" y="5473800"/>
                      <a:ext cx="6480" cy="1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5" h="79">
                          <a:moveTo>
                            <a:pt x="25" y="79"/>
                          </a:moveTo>
                          <a:lnTo>
                            <a:pt x="8" y="38"/>
                          </a:lnTo>
                          <a:lnTo>
                            <a:pt x="5" y="0"/>
                          </a:lnTo>
                          <a:lnTo>
                            <a:pt x="0" y="30"/>
                          </a:lnTo>
                          <a:lnTo>
                            <a:pt x="9" y="56"/>
                          </a:lnTo>
                          <a:lnTo>
                            <a:pt x="25" y="79"/>
                          </a:lnTo>
                          <a:close/>
                        </a:path>
                      </a:pathLst>
                    </a:custGeom>
                    <a:solidFill>
                      <a:srgbClr val="402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06" name=""/>
                    <p:cNvSpPr/>
                    <p:nvPr/>
                  </p:nvSpPr>
                  <p:spPr>
                    <a:xfrm flipH="1">
                      <a:off x="3224160" y="5462280"/>
                      <a:ext cx="2160" cy="5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" h="23">
                          <a:moveTo>
                            <a:pt x="8" y="23"/>
                          </a:moveTo>
                          <a:lnTo>
                            <a:pt x="0" y="12"/>
                          </a:lnTo>
                          <a:lnTo>
                            <a:pt x="3" y="0"/>
                          </a:lnTo>
                          <a:lnTo>
                            <a:pt x="8" y="23"/>
                          </a:lnTo>
                          <a:close/>
                        </a:path>
                      </a:pathLst>
                    </a:custGeom>
                    <a:solidFill>
                      <a:srgbClr val="402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760" bIns="-41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07" name=""/>
                    <p:cNvSpPr/>
                    <p:nvPr/>
                  </p:nvSpPr>
                  <p:spPr>
                    <a:xfrm flipH="1">
                      <a:off x="3193560" y="5447160"/>
                      <a:ext cx="4680" cy="26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3" h="124">
                          <a:moveTo>
                            <a:pt x="19" y="124"/>
                          </a:moveTo>
                          <a:lnTo>
                            <a:pt x="23" y="120"/>
                          </a:lnTo>
                          <a:lnTo>
                            <a:pt x="16" y="103"/>
                          </a:lnTo>
                          <a:lnTo>
                            <a:pt x="9" y="66"/>
                          </a:lnTo>
                          <a:lnTo>
                            <a:pt x="9" y="35"/>
                          </a:lnTo>
                          <a:lnTo>
                            <a:pt x="11" y="18"/>
                          </a:lnTo>
                          <a:lnTo>
                            <a:pt x="9" y="5"/>
                          </a:lnTo>
                          <a:lnTo>
                            <a:pt x="0" y="0"/>
                          </a:lnTo>
                          <a:lnTo>
                            <a:pt x="0" y="6"/>
                          </a:lnTo>
                          <a:lnTo>
                            <a:pt x="4" y="23"/>
                          </a:lnTo>
                          <a:lnTo>
                            <a:pt x="4" y="42"/>
                          </a:lnTo>
                          <a:lnTo>
                            <a:pt x="4" y="66"/>
                          </a:lnTo>
                          <a:lnTo>
                            <a:pt x="7" y="83"/>
                          </a:lnTo>
                          <a:lnTo>
                            <a:pt x="19" y="124"/>
                          </a:lnTo>
                          <a:close/>
                        </a:path>
                      </a:pathLst>
                    </a:custGeom>
                    <a:solidFill>
                      <a:srgbClr val="402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160" bIns="-20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708" name=""/>
                  <p:cNvGrpSpPr/>
                  <p:nvPr/>
                </p:nvGrpSpPr>
                <p:grpSpPr>
                  <a:xfrm>
                    <a:off x="3116880" y="5091840"/>
                    <a:ext cx="143640" cy="250560"/>
                    <a:chOff x="3116880" y="5091840"/>
                    <a:chExt cx="143640" cy="250560"/>
                  </a:xfrm>
                </p:grpSpPr>
                <p:sp>
                  <p:nvSpPr>
                    <p:cNvPr id="709" name=""/>
                    <p:cNvSpPr/>
                    <p:nvPr/>
                  </p:nvSpPr>
                  <p:spPr>
                    <a:xfrm flipH="1">
                      <a:off x="3116520" y="5091840"/>
                      <a:ext cx="143640" cy="250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80" h="1182">
                          <a:moveTo>
                            <a:pt x="496" y="11"/>
                          </a:moveTo>
                          <a:lnTo>
                            <a:pt x="434" y="85"/>
                          </a:lnTo>
                          <a:lnTo>
                            <a:pt x="313" y="117"/>
                          </a:lnTo>
                          <a:lnTo>
                            <a:pt x="252" y="124"/>
                          </a:lnTo>
                          <a:lnTo>
                            <a:pt x="166" y="148"/>
                          </a:lnTo>
                          <a:lnTo>
                            <a:pt x="132" y="183"/>
                          </a:lnTo>
                          <a:lnTo>
                            <a:pt x="108" y="234"/>
                          </a:lnTo>
                          <a:lnTo>
                            <a:pt x="107" y="279"/>
                          </a:lnTo>
                          <a:lnTo>
                            <a:pt x="85" y="409"/>
                          </a:lnTo>
                          <a:lnTo>
                            <a:pt x="76" y="470"/>
                          </a:lnTo>
                          <a:lnTo>
                            <a:pt x="62" y="557"/>
                          </a:lnTo>
                          <a:lnTo>
                            <a:pt x="40" y="640"/>
                          </a:lnTo>
                          <a:lnTo>
                            <a:pt x="26" y="723"/>
                          </a:lnTo>
                          <a:lnTo>
                            <a:pt x="26" y="805"/>
                          </a:lnTo>
                          <a:lnTo>
                            <a:pt x="13" y="910"/>
                          </a:lnTo>
                          <a:lnTo>
                            <a:pt x="9" y="1051"/>
                          </a:lnTo>
                          <a:lnTo>
                            <a:pt x="0" y="1147"/>
                          </a:lnTo>
                          <a:lnTo>
                            <a:pt x="41" y="1156"/>
                          </a:lnTo>
                          <a:lnTo>
                            <a:pt x="73" y="1164"/>
                          </a:lnTo>
                          <a:lnTo>
                            <a:pt x="109" y="1173"/>
                          </a:lnTo>
                          <a:lnTo>
                            <a:pt x="168" y="1179"/>
                          </a:lnTo>
                          <a:lnTo>
                            <a:pt x="218" y="1182"/>
                          </a:lnTo>
                          <a:lnTo>
                            <a:pt x="258" y="1169"/>
                          </a:lnTo>
                          <a:lnTo>
                            <a:pt x="298" y="1141"/>
                          </a:lnTo>
                          <a:lnTo>
                            <a:pt x="288" y="1052"/>
                          </a:lnTo>
                          <a:lnTo>
                            <a:pt x="288" y="956"/>
                          </a:lnTo>
                          <a:lnTo>
                            <a:pt x="284" y="851"/>
                          </a:lnTo>
                          <a:lnTo>
                            <a:pt x="284" y="642"/>
                          </a:lnTo>
                          <a:lnTo>
                            <a:pt x="303" y="824"/>
                          </a:lnTo>
                          <a:lnTo>
                            <a:pt x="313" y="863"/>
                          </a:lnTo>
                          <a:lnTo>
                            <a:pt x="347" y="885"/>
                          </a:lnTo>
                          <a:lnTo>
                            <a:pt x="348" y="962"/>
                          </a:lnTo>
                          <a:lnTo>
                            <a:pt x="402" y="980"/>
                          </a:lnTo>
                          <a:lnTo>
                            <a:pt x="524" y="994"/>
                          </a:lnTo>
                          <a:lnTo>
                            <a:pt x="680" y="988"/>
                          </a:lnTo>
                          <a:lnTo>
                            <a:pt x="671" y="919"/>
                          </a:lnTo>
                          <a:lnTo>
                            <a:pt x="658" y="836"/>
                          </a:lnTo>
                          <a:lnTo>
                            <a:pt x="649" y="741"/>
                          </a:lnTo>
                          <a:lnTo>
                            <a:pt x="640" y="617"/>
                          </a:lnTo>
                          <a:lnTo>
                            <a:pt x="649" y="470"/>
                          </a:lnTo>
                          <a:lnTo>
                            <a:pt x="658" y="332"/>
                          </a:lnTo>
                          <a:lnTo>
                            <a:pt x="663" y="237"/>
                          </a:lnTo>
                          <a:lnTo>
                            <a:pt x="641" y="179"/>
                          </a:lnTo>
                          <a:lnTo>
                            <a:pt x="606" y="170"/>
                          </a:lnTo>
                          <a:lnTo>
                            <a:pt x="559" y="124"/>
                          </a:lnTo>
                          <a:lnTo>
                            <a:pt x="530" y="97"/>
                          </a:lnTo>
                          <a:lnTo>
                            <a:pt x="517" y="55"/>
                          </a:lnTo>
                          <a:lnTo>
                            <a:pt x="521" y="0"/>
                          </a:lnTo>
                          <a:lnTo>
                            <a:pt x="496" y="11"/>
                          </a:lnTo>
                          <a:close/>
                        </a:path>
                      </a:pathLst>
                    </a:custGeom>
                    <a:solidFill>
                      <a:srgbClr val="400040"/>
                    </a:solidFill>
                    <a:ln w="32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710" name=""/>
                    <p:cNvGrpSpPr/>
                    <p:nvPr/>
                  </p:nvGrpSpPr>
                  <p:grpSpPr>
                    <a:xfrm>
                      <a:off x="3120840" y="5099040"/>
                      <a:ext cx="138600" cy="237600"/>
                      <a:chOff x="3120840" y="5099040"/>
                      <a:chExt cx="138600" cy="237600"/>
                    </a:xfrm>
                  </p:grpSpPr>
                  <p:sp>
                    <p:nvSpPr>
                      <p:cNvPr id="711" name=""/>
                      <p:cNvSpPr/>
                      <p:nvPr/>
                    </p:nvSpPr>
                    <p:spPr>
                      <a:xfrm flipH="1">
                        <a:off x="3120480" y="5107680"/>
                        <a:ext cx="138600" cy="2289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54" h="1082">
                            <a:moveTo>
                              <a:pt x="654" y="907"/>
                            </a:moveTo>
                            <a:lnTo>
                              <a:pt x="640" y="807"/>
                            </a:lnTo>
                            <a:lnTo>
                              <a:pt x="613" y="619"/>
                            </a:lnTo>
                            <a:lnTo>
                              <a:pt x="618" y="462"/>
                            </a:lnTo>
                            <a:lnTo>
                              <a:pt x="626" y="357"/>
                            </a:lnTo>
                            <a:lnTo>
                              <a:pt x="636" y="243"/>
                            </a:lnTo>
                            <a:lnTo>
                              <a:pt x="636" y="183"/>
                            </a:lnTo>
                            <a:lnTo>
                              <a:pt x="621" y="119"/>
                            </a:lnTo>
                            <a:lnTo>
                              <a:pt x="590" y="124"/>
                            </a:lnTo>
                            <a:lnTo>
                              <a:pt x="550" y="151"/>
                            </a:lnTo>
                            <a:lnTo>
                              <a:pt x="527" y="179"/>
                            </a:lnTo>
                            <a:lnTo>
                              <a:pt x="491" y="124"/>
                            </a:lnTo>
                            <a:lnTo>
                              <a:pt x="473" y="78"/>
                            </a:lnTo>
                            <a:lnTo>
                              <a:pt x="455" y="0"/>
                            </a:lnTo>
                            <a:lnTo>
                              <a:pt x="423" y="31"/>
                            </a:lnTo>
                            <a:lnTo>
                              <a:pt x="346" y="46"/>
                            </a:lnTo>
                            <a:lnTo>
                              <a:pt x="275" y="69"/>
                            </a:lnTo>
                            <a:lnTo>
                              <a:pt x="229" y="69"/>
                            </a:lnTo>
                            <a:lnTo>
                              <a:pt x="157" y="106"/>
                            </a:lnTo>
                            <a:lnTo>
                              <a:pt x="130" y="128"/>
                            </a:lnTo>
                            <a:lnTo>
                              <a:pt x="112" y="219"/>
                            </a:lnTo>
                            <a:lnTo>
                              <a:pt x="139" y="312"/>
                            </a:lnTo>
                            <a:lnTo>
                              <a:pt x="175" y="431"/>
                            </a:lnTo>
                            <a:lnTo>
                              <a:pt x="184" y="495"/>
                            </a:lnTo>
                            <a:lnTo>
                              <a:pt x="206" y="632"/>
                            </a:lnTo>
                            <a:lnTo>
                              <a:pt x="211" y="715"/>
                            </a:lnTo>
                            <a:lnTo>
                              <a:pt x="175" y="554"/>
                            </a:lnTo>
                            <a:lnTo>
                              <a:pt x="157" y="431"/>
                            </a:lnTo>
                            <a:lnTo>
                              <a:pt x="130" y="349"/>
                            </a:lnTo>
                            <a:lnTo>
                              <a:pt x="104" y="271"/>
                            </a:lnTo>
                            <a:lnTo>
                              <a:pt x="84" y="404"/>
                            </a:lnTo>
                            <a:lnTo>
                              <a:pt x="84" y="514"/>
                            </a:lnTo>
                            <a:lnTo>
                              <a:pt x="89" y="564"/>
                            </a:lnTo>
                            <a:lnTo>
                              <a:pt x="122" y="702"/>
                            </a:lnTo>
                            <a:lnTo>
                              <a:pt x="130" y="797"/>
                            </a:lnTo>
                            <a:lnTo>
                              <a:pt x="122" y="922"/>
                            </a:lnTo>
                            <a:lnTo>
                              <a:pt x="122" y="995"/>
                            </a:lnTo>
                            <a:lnTo>
                              <a:pt x="104" y="870"/>
                            </a:lnTo>
                            <a:lnTo>
                              <a:pt x="107" y="784"/>
                            </a:lnTo>
                            <a:lnTo>
                              <a:pt x="99" y="697"/>
                            </a:lnTo>
                            <a:lnTo>
                              <a:pt x="76" y="600"/>
                            </a:lnTo>
                            <a:lnTo>
                              <a:pt x="67" y="550"/>
                            </a:lnTo>
                            <a:lnTo>
                              <a:pt x="67" y="514"/>
                            </a:lnTo>
                            <a:lnTo>
                              <a:pt x="45" y="600"/>
                            </a:lnTo>
                            <a:lnTo>
                              <a:pt x="35" y="669"/>
                            </a:lnTo>
                            <a:lnTo>
                              <a:pt x="31" y="705"/>
                            </a:lnTo>
                            <a:lnTo>
                              <a:pt x="31" y="757"/>
                            </a:lnTo>
                            <a:lnTo>
                              <a:pt x="17" y="830"/>
                            </a:lnTo>
                            <a:lnTo>
                              <a:pt x="49" y="742"/>
                            </a:lnTo>
                            <a:lnTo>
                              <a:pt x="58" y="692"/>
                            </a:lnTo>
                            <a:lnTo>
                              <a:pt x="58" y="742"/>
                            </a:lnTo>
                            <a:lnTo>
                              <a:pt x="40" y="815"/>
                            </a:lnTo>
                            <a:lnTo>
                              <a:pt x="17" y="875"/>
                            </a:lnTo>
                            <a:lnTo>
                              <a:pt x="13" y="935"/>
                            </a:lnTo>
                            <a:lnTo>
                              <a:pt x="8" y="1008"/>
                            </a:lnTo>
                            <a:lnTo>
                              <a:pt x="0" y="1068"/>
                            </a:lnTo>
                            <a:lnTo>
                              <a:pt x="31" y="1063"/>
                            </a:lnTo>
                            <a:lnTo>
                              <a:pt x="53" y="1058"/>
                            </a:lnTo>
                            <a:lnTo>
                              <a:pt x="89" y="1077"/>
                            </a:lnTo>
                            <a:lnTo>
                              <a:pt x="148" y="1082"/>
                            </a:lnTo>
                            <a:lnTo>
                              <a:pt x="193" y="1077"/>
                            </a:lnTo>
                            <a:lnTo>
                              <a:pt x="221" y="1068"/>
                            </a:lnTo>
                            <a:lnTo>
                              <a:pt x="265" y="1055"/>
                            </a:lnTo>
                            <a:lnTo>
                              <a:pt x="265" y="953"/>
                            </a:lnTo>
                            <a:lnTo>
                              <a:pt x="265" y="885"/>
                            </a:lnTo>
                            <a:lnTo>
                              <a:pt x="252" y="820"/>
                            </a:lnTo>
                            <a:lnTo>
                              <a:pt x="257" y="729"/>
                            </a:lnTo>
                            <a:lnTo>
                              <a:pt x="261" y="627"/>
                            </a:lnTo>
                            <a:lnTo>
                              <a:pt x="261" y="545"/>
                            </a:lnTo>
                            <a:lnTo>
                              <a:pt x="247" y="422"/>
                            </a:lnTo>
                            <a:lnTo>
                              <a:pt x="229" y="353"/>
                            </a:lnTo>
                            <a:lnTo>
                              <a:pt x="229" y="302"/>
                            </a:lnTo>
                            <a:lnTo>
                              <a:pt x="247" y="367"/>
                            </a:lnTo>
                            <a:lnTo>
                              <a:pt x="270" y="454"/>
                            </a:lnTo>
                            <a:lnTo>
                              <a:pt x="275" y="509"/>
                            </a:lnTo>
                            <a:lnTo>
                              <a:pt x="292" y="569"/>
                            </a:lnTo>
                            <a:lnTo>
                              <a:pt x="302" y="642"/>
                            </a:lnTo>
                            <a:lnTo>
                              <a:pt x="302" y="710"/>
                            </a:lnTo>
                            <a:lnTo>
                              <a:pt x="320" y="775"/>
                            </a:lnTo>
                            <a:lnTo>
                              <a:pt x="320" y="720"/>
                            </a:lnTo>
                            <a:lnTo>
                              <a:pt x="320" y="651"/>
                            </a:lnTo>
                            <a:lnTo>
                              <a:pt x="320" y="559"/>
                            </a:lnTo>
                            <a:lnTo>
                              <a:pt x="310" y="481"/>
                            </a:lnTo>
                            <a:lnTo>
                              <a:pt x="306" y="426"/>
                            </a:lnTo>
                            <a:lnTo>
                              <a:pt x="320" y="490"/>
                            </a:lnTo>
                            <a:lnTo>
                              <a:pt x="338" y="554"/>
                            </a:lnTo>
                            <a:lnTo>
                              <a:pt x="338" y="624"/>
                            </a:lnTo>
                            <a:lnTo>
                              <a:pt x="338" y="697"/>
                            </a:lnTo>
                            <a:lnTo>
                              <a:pt x="338" y="757"/>
                            </a:lnTo>
                            <a:lnTo>
                              <a:pt x="343" y="779"/>
                            </a:lnTo>
                            <a:lnTo>
                              <a:pt x="351" y="802"/>
                            </a:lnTo>
                            <a:lnTo>
                              <a:pt x="351" y="875"/>
                            </a:lnTo>
                            <a:lnTo>
                              <a:pt x="392" y="894"/>
                            </a:lnTo>
                            <a:lnTo>
                              <a:pt x="473" y="894"/>
                            </a:lnTo>
                            <a:lnTo>
                              <a:pt x="446" y="812"/>
                            </a:lnTo>
                            <a:lnTo>
                              <a:pt x="419" y="733"/>
                            </a:lnTo>
                            <a:lnTo>
                              <a:pt x="410" y="627"/>
                            </a:lnTo>
                            <a:lnTo>
                              <a:pt x="410" y="541"/>
                            </a:lnTo>
                            <a:lnTo>
                              <a:pt x="392" y="459"/>
                            </a:lnTo>
                            <a:lnTo>
                              <a:pt x="428" y="564"/>
                            </a:lnTo>
                            <a:lnTo>
                              <a:pt x="428" y="619"/>
                            </a:lnTo>
                            <a:lnTo>
                              <a:pt x="428" y="702"/>
                            </a:lnTo>
                            <a:lnTo>
                              <a:pt x="450" y="779"/>
                            </a:lnTo>
                            <a:lnTo>
                              <a:pt x="463" y="839"/>
                            </a:lnTo>
                            <a:lnTo>
                              <a:pt x="491" y="907"/>
                            </a:lnTo>
                            <a:lnTo>
                              <a:pt x="550" y="903"/>
                            </a:lnTo>
                            <a:lnTo>
                              <a:pt x="654" y="907"/>
                            </a:lnTo>
                            <a:close/>
                          </a:path>
                        </a:pathLst>
                      </a:custGeom>
                      <a:solidFill>
                        <a:srgbClr val="60006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12" name=""/>
                      <p:cNvSpPr/>
                      <p:nvPr/>
                    </p:nvSpPr>
                    <p:spPr>
                      <a:xfrm flipH="1">
                        <a:off x="3132720" y="5099040"/>
                        <a:ext cx="28800" cy="42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9" h="202">
                            <a:moveTo>
                              <a:pt x="33" y="0"/>
                            </a:moveTo>
                            <a:lnTo>
                              <a:pt x="0" y="38"/>
                            </a:lnTo>
                            <a:lnTo>
                              <a:pt x="12" y="89"/>
                            </a:lnTo>
                            <a:lnTo>
                              <a:pt x="35" y="146"/>
                            </a:lnTo>
                            <a:lnTo>
                              <a:pt x="45" y="171"/>
                            </a:lnTo>
                            <a:lnTo>
                              <a:pt x="64" y="202"/>
                            </a:lnTo>
                            <a:lnTo>
                              <a:pt x="91" y="178"/>
                            </a:lnTo>
                            <a:lnTo>
                              <a:pt x="109" y="166"/>
                            </a:lnTo>
                            <a:lnTo>
                              <a:pt x="139" y="152"/>
                            </a:lnTo>
                            <a:lnTo>
                              <a:pt x="100" y="125"/>
                            </a:lnTo>
                            <a:lnTo>
                              <a:pt x="68" y="92"/>
                            </a:lnTo>
                            <a:lnTo>
                              <a:pt x="46" y="69"/>
                            </a:lnTo>
                            <a:lnTo>
                              <a:pt x="30" y="46"/>
                            </a:lnTo>
                            <a:lnTo>
                              <a:pt x="33" y="0"/>
                            </a:lnTo>
                            <a:close/>
                          </a:path>
                        </a:pathLst>
                      </a:custGeom>
                      <a:solidFill>
                        <a:srgbClr val="a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" bIns="-46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713" name=""/>
                  <p:cNvGrpSpPr/>
                  <p:nvPr/>
                </p:nvGrpSpPr>
                <p:grpSpPr>
                  <a:xfrm>
                    <a:off x="3062160" y="5275440"/>
                    <a:ext cx="124920" cy="31680"/>
                    <a:chOff x="3062160" y="5275440"/>
                    <a:chExt cx="124920" cy="31680"/>
                  </a:xfrm>
                </p:grpSpPr>
                <p:sp>
                  <p:nvSpPr>
                    <p:cNvPr id="714" name=""/>
                    <p:cNvSpPr/>
                    <p:nvPr/>
                  </p:nvSpPr>
                  <p:spPr>
                    <a:xfrm flipH="1">
                      <a:off x="3061800" y="5275440"/>
                      <a:ext cx="124920" cy="2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91" h="125">
                          <a:moveTo>
                            <a:pt x="0" y="19"/>
                          </a:moveTo>
                          <a:lnTo>
                            <a:pt x="81" y="26"/>
                          </a:lnTo>
                          <a:lnTo>
                            <a:pt x="203" y="30"/>
                          </a:lnTo>
                          <a:lnTo>
                            <a:pt x="361" y="26"/>
                          </a:lnTo>
                          <a:lnTo>
                            <a:pt x="486" y="13"/>
                          </a:lnTo>
                          <a:lnTo>
                            <a:pt x="591" y="0"/>
                          </a:lnTo>
                          <a:lnTo>
                            <a:pt x="588" y="79"/>
                          </a:lnTo>
                          <a:lnTo>
                            <a:pt x="451" y="115"/>
                          </a:lnTo>
                          <a:lnTo>
                            <a:pt x="288" y="125"/>
                          </a:lnTo>
                          <a:lnTo>
                            <a:pt x="179" y="125"/>
                          </a:lnTo>
                          <a:lnTo>
                            <a:pt x="54" y="118"/>
                          </a:lnTo>
                          <a:lnTo>
                            <a:pt x="0" y="98"/>
                          </a:lnTo>
                          <a:lnTo>
                            <a:pt x="0" y="19"/>
                          </a:lnTo>
                          <a:close/>
                        </a:path>
                      </a:pathLst>
                    </a:custGeom>
                    <a:solidFill>
                      <a:srgbClr val="800000"/>
                    </a:solidFill>
                    <a:ln w="32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520" bIns="-20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15" name=""/>
                    <p:cNvSpPr/>
                    <p:nvPr/>
                  </p:nvSpPr>
                  <p:spPr>
                    <a:xfrm flipH="1">
                      <a:off x="3098880" y="5275440"/>
                      <a:ext cx="52200" cy="31680"/>
                    </a:xfrm>
                    <a:prstGeom prst="ellipse">
                      <a:avLst/>
                    </a:prstGeom>
                    <a:solidFill>
                      <a:srgbClr val="80000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480" bIns="-24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716" name=""/>
                <p:cNvGrpSpPr/>
                <p:nvPr/>
              </p:nvGrpSpPr>
              <p:grpSpPr>
                <a:xfrm>
                  <a:off x="2743200" y="4957920"/>
                  <a:ext cx="293040" cy="915840"/>
                  <a:chOff x="2743200" y="4957920"/>
                  <a:chExt cx="293040" cy="915840"/>
                </a:xfrm>
              </p:grpSpPr>
              <p:grpSp>
                <p:nvGrpSpPr>
                  <p:cNvPr id="717" name=""/>
                  <p:cNvGrpSpPr/>
                  <p:nvPr/>
                </p:nvGrpSpPr>
                <p:grpSpPr>
                  <a:xfrm>
                    <a:off x="2845440" y="5076360"/>
                    <a:ext cx="81360" cy="143640"/>
                    <a:chOff x="2845440" y="5076360"/>
                    <a:chExt cx="81360" cy="143640"/>
                  </a:xfrm>
                </p:grpSpPr>
                <p:sp>
                  <p:nvSpPr>
                    <p:cNvPr id="718" name=""/>
                    <p:cNvSpPr/>
                    <p:nvPr/>
                  </p:nvSpPr>
                  <p:spPr>
                    <a:xfrm flipH="1">
                      <a:off x="2845440" y="5076360"/>
                      <a:ext cx="81360" cy="143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0" h="678">
                          <a:moveTo>
                            <a:pt x="11" y="71"/>
                          </a:moveTo>
                          <a:lnTo>
                            <a:pt x="31" y="48"/>
                          </a:lnTo>
                          <a:lnTo>
                            <a:pt x="294" y="0"/>
                          </a:lnTo>
                          <a:lnTo>
                            <a:pt x="323" y="10"/>
                          </a:lnTo>
                          <a:lnTo>
                            <a:pt x="338" y="22"/>
                          </a:lnTo>
                          <a:lnTo>
                            <a:pt x="350" y="46"/>
                          </a:lnTo>
                          <a:lnTo>
                            <a:pt x="380" y="412"/>
                          </a:lnTo>
                          <a:lnTo>
                            <a:pt x="195" y="678"/>
                          </a:lnTo>
                          <a:lnTo>
                            <a:pt x="126" y="674"/>
                          </a:lnTo>
                          <a:lnTo>
                            <a:pt x="0" y="280"/>
                          </a:lnTo>
                          <a:lnTo>
                            <a:pt x="11" y="71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32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19" name=""/>
                    <p:cNvSpPr/>
                    <p:nvPr/>
                  </p:nvSpPr>
                  <p:spPr>
                    <a:xfrm flipH="1">
                      <a:off x="2896200" y="5090040"/>
                      <a:ext cx="24120" cy="39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4" h="185">
                          <a:moveTo>
                            <a:pt x="114" y="92"/>
                          </a:moveTo>
                          <a:lnTo>
                            <a:pt x="79" y="131"/>
                          </a:lnTo>
                          <a:lnTo>
                            <a:pt x="59" y="185"/>
                          </a:lnTo>
                          <a:lnTo>
                            <a:pt x="20" y="138"/>
                          </a:lnTo>
                          <a:lnTo>
                            <a:pt x="3" y="112"/>
                          </a:lnTo>
                          <a:lnTo>
                            <a:pt x="0" y="62"/>
                          </a:lnTo>
                          <a:lnTo>
                            <a:pt x="1" y="0"/>
                          </a:lnTo>
                          <a:lnTo>
                            <a:pt x="39" y="40"/>
                          </a:lnTo>
                          <a:lnTo>
                            <a:pt x="45" y="59"/>
                          </a:lnTo>
                          <a:lnTo>
                            <a:pt x="56" y="73"/>
                          </a:lnTo>
                          <a:lnTo>
                            <a:pt x="85" y="87"/>
                          </a:lnTo>
                          <a:lnTo>
                            <a:pt x="114" y="92"/>
                          </a:lnTo>
                          <a:close/>
                        </a:path>
                      </a:pathLst>
                    </a:custGeom>
                    <a:solidFill>
                      <a:srgbClr val="e0e0e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7560" bIns="-7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20" name=""/>
                    <p:cNvSpPr/>
                    <p:nvPr/>
                  </p:nvSpPr>
                  <p:spPr>
                    <a:xfrm flipH="1">
                      <a:off x="2854080" y="5081040"/>
                      <a:ext cx="39240" cy="49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4" h="238">
                          <a:moveTo>
                            <a:pt x="0" y="138"/>
                          </a:moveTo>
                          <a:lnTo>
                            <a:pt x="18" y="151"/>
                          </a:lnTo>
                          <a:lnTo>
                            <a:pt x="41" y="181"/>
                          </a:lnTo>
                          <a:lnTo>
                            <a:pt x="59" y="238"/>
                          </a:lnTo>
                          <a:lnTo>
                            <a:pt x="106" y="204"/>
                          </a:lnTo>
                          <a:lnTo>
                            <a:pt x="148" y="173"/>
                          </a:lnTo>
                          <a:lnTo>
                            <a:pt x="179" y="132"/>
                          </a:lnTo>
                          <a:lnTo>
                            <a:pt x="179" y="85"/>
                          </a:lnTo>
                          <a:lnTo>
                            <a:pt x="184" y="36"/>
                          </a:lnTo>
                          <a:lnTo>
                            <a:pt x="181" y="12"/>
                          </a:lnTo>
                          <a:lnTo>
                            <a:pt x="171" y="0"/>
                          </a:lnTo>
                          <a:lnTo>
                            <a:pt x="171" y="17"/>
                          </a:lnTo>
                          <a:lnTo>
                            <a:pt x="144" y="49"/>
                          </a:lnTo>
                          <a:lnTo>
                            <a:pt x="111" y="85"/>
                          </a:lnTo>
                          <a:lnTo>
                            <a:pt x="75" y="108"/>
                          </a:lnTo>
                          <a:lnTo>
                            <a:pt x="39" y="126"/>
                          </a:lnTo>
                          <a:lnTo>
                            <a:pt x="0" y="138"/>
                          </a:lnTo>
                          <a:close/>
                        </a:path>
                      </a:pathLst>
                    </a:custGeom>
                    <a:solidFill>
                      <a:srgbClr val="e0e0e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520" bIns="2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21" name=""/>
                    <p:cNvSpPr/>
                    <p:nvPr/>
                  </p:nvSpPr>
                  <p:spPr>
                    <a:xfrm flipH="1">
                      <a:off x="2873160" y="5111640"/>
                      <a:ext cx="30600" cy="97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7" h="463">
                          <a:moveTo>
                            <a:pt x="42" y="0"/>
                          </a:moveTo>
                          <a:lnTo>
                            <a:pt x="10" y="31"/>
                          </a:lnTo>
                          <a:lnTo>
                            <a:pt x="0" y="77"/>
                          </a:lnTo>
                          <a:lnTo>
                            <a:pt x="1" y="97"/>
                          </a:lnTo>
                          <a:lnTo>
                            <a:pt x="8" y="119"/>
                          </a:lnTo>
                          <a:lnTo>
                            <a:pt x="17" y="132"/>
                          </a:lnTo>
                          <a:lnTo>
                            <a:pt x="14" y="172"/>
                          </a:lnTo>
                          <a:lnTo>
                            <a:pt x="8" y="238"/>
                          </a:lnTo>
                          <a:lnTo>
                            <a:pt x="45" y="342"/>
                          </a:lnTo>
                          <a:lnTo>
                            <a:pt x="73" y="463"/>
                          </a:lnTo>
                          <a:lnTo>
                            <a:pt x="103" y="391"/>
                          </a:lnTo>
                          <a:lnTo>
                            <a:pt x="136" y="306"/>
                          </a:lnTo>
                          <a:lnTo>
                            <a:pt x="147" y="268"/>
                          </a:lnTo>
                          <a:lnTo>
                            <a:pt x="123" y="189"/>
                          </a:lnTo>
                          <a:lnTo>
                            <a:pt x="94" y="132"/>
                          </a:lnTo>
                          <a:lnTo>
                            <a:pt x="100" y="91"/>
                          </a:lnTo>
                          <a:lnTo>
                            <a:pt x="90" y="49"/>
                          </a:lnTo>
                          <a:lnTo>
                            <a:pt x="75" y="20"/>
                          </a:lnTo>
                          <a:lnTo>
                            <a:pt x="42" y="0"/>
                          </a:lnTo>
                          <a:close/>
                        </a:path>
                      </a:pathLst>
                    </a:custGeom>
                    <a:solidFill>
                      <a:srgbClr val="8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22" name=""/>
                    <p:cNvSpPr/>
                    <p:nvPr/>
                  </p:nvSpPr>
                  <p:spPr>
                    <a:xfrm flipH="1">
                      <a:off x="2903040" y="5118120"/>
                      <a:ext cx="15120" cy="42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5" h="198">
                          <a:moveTo>
                            <a:pt x="0" y="0"/>
                          </a:moveTo>
                          <a:lnTo>
                            <a:pt x="25" y="40"/>
                          </a:lnTo>
                          <a:lnTo>
                            <a:pt x="48" y="66"/>
                          </a:lnTo>
                          <a:lnTo>
                            <a:pt x="60" y="69"/>
                          </a:lnTo>
                          <a:lnTo>
                            <a:pt x="75" y="108"/>
                          </a:lnTo>
                          <a:lnTo>
                            <a:pt x="68" y="198"/>
                          </a:lnTo>
                          <a:lnTo>
                            <a:pt x="59" y="164"/>
                          </a:lnTo>
                          <a:lnTo>
                            <a:pt x="34" y="108"/>
                          </a:lnTo>
                          <a:lnTo>
                            <a:pt x="14" y="61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e0e0e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" bIns="-4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23" name=""/>
                    <p:cNvSpPr/>
                    <p:nvPr/>
                  </p:nvSpPr>
                  <p:spPr>
                    <a:xfrm flipH="1">
                      <a:off x="2855520" y="5111640"/>
                      <a:ext cx="2772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2" h="261">
                          <a:moveTo>
                            <a:pt x="9" y="102"/>
                          </a:moveTo>
                          <a:lnTo>
                            <a:pt x="0" y="127"/>
                          </a:lnTo>
                          <a:lnTo>
                            <a:pt x="20" y="168"/>
                          </a:lnTo>
                          <a:lnTo>
                            <a:pt x="32" y="200"/>
                          </a:lnTo>
                          <a:lnTo>
                            <a:pt x="48" y="261"/>
                          </a:lnTo>
                          <a:lnTo>
                            <a:pt x="76" y="183"/>
                          </a:lnTo>
                          <a:lnTo>
                            <a:pt x="95" y="126"/>
                          </a:lnTo>
                          <a:lnTo>
                            <a:pt x="114" y="74"/>
                          </a:lnTo>
                          <a:lnTo>
                            <a:pt x="124" y="36"/>
                          </a:lnTo>
                          <a:lnTo>
                            <a:pt x="132" y="1"/>
                          </a:lnTo>
                          <a:lnTo>
                            <a:pt x="131" y="0"/>
                          </a:lnTo>
                          <a:lnTo>
                            <a:pt x="114" y="25"/>
                          </a:lnTo>
                          <a:lnTo>
                            <a:pt x="73" y="58"/>
                          </a:lnTo>
                          <a:lnTo>
                            <a:pt x="9" y="102"/>
                          </a:lnTo>
                          <a:close/>
                        </a:path>
                      </a:pathLst>
                    </a:custGeom>
                    <a:solidFill>
                      <a:srgbClr val="e0e0e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724" name=""/>
                  <p:cNvGrpSpPr/>
                  <p:nvPr/>
                </p:nvGrpSpPr>
                <p:grpSpPr>
                  <a:xfrm>
                    <a:off x="2900160" y="5793480"/>
                    <a:ext cx="103320" cy="80280"/>
                    <a:chOff x="2900160" y="5793480"/>
                    <a:chExt cx="103320" cy="80280"/>
                  </a:xfrm>
                </p:grpSpPr>
                <p:sp>
                  <p:nvSpPr>
                    <p:cNvPr id="725" name=""/>
                    <p:cNvSpPr/>
                    <p:nvPr/>
                  </p:nvSpPr>
                  <p:spPr>
                    <a:xfrm flipH="1">
                      <a:off x="2899800" y="5793480"/>
                      <a:ext cx="103320" cy="80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5" h="379">
                          <a:moveTo>
                            <a:pt x="458" y="0"/>
                          </a:moveTo>
                          <a:lnTo>
                            <a:pt x="479" y="60"/>
                          </a:lnTo>
                          <a:lnTo>
                            <a:pt x="485" y="113"/>
                          </a:lnTo>
                          <a:lnTo>
                            <a:pt x="473" y="177"/>
                          </a:lnTo>
                          <a:lnTo>
                            <a:pt x="412" y="209"/>
                          </a:lnTo>
                          <a:lnTo>
                            <a:pt x="387" y="204"/>
                          </a:lnTo>
                          <a:lnTo>
                            <a:pt x="329" y="306"/>
                          </a:lnTo>
                          <a:lnTo>
                            <a:pt x="192" y="365"/>
                          </a:lnTo>
                          <a:lnTo>
                            <a:pt x="119" y="379"/>
                          </a:lnTo>
                          <a:lnTo>
                            <a:pt x="22" y="365"/>
                          </a:lnTo>
                          <a:lnTo>
                            <a:pt x="0" y="329"/>
                          </a:lnTo>
                          <a:lnTo>
                            <a:pt x="3" y="273"/>
                          </a:lnTo>
                          <a:lnTo>
                            <a:pt x="68" y="231"/>
                          </a:lnTo>
                          <a:lnTo>
                            <a:pt x="112" y="185"/>
                          </a:lnTo>
                          <a:lnTo>
                            <a:pt x="175" y="94"/>
                          </a:lnTo>
                          <a:lnTo>
                            <a:pt x="214" y="48"/>
                          </a:lnTo>
                          <a:lnTo>
                            <a:pt x="211" y="6"/>
                          </a:lnTo>
                          <a:lnTo>
                            <a:pt x="458" y="0"/>
                          </a:lnTo>
                          <a:close/>
                        </a:path>
                      </a:pathLst>
                    </a:custGeom>
                    <a:solidFill>
                      <a:srgbClr val="404040"/>
                    </a:solidFill>
                    <a:ln w="32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3480" bIns="33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26" name=""/>
                    <p:cNvSpPr/>
                    <p:nvPr/>
                  </p:nvSpPr>
                  <p:spPr>
                    <a:xfrm flipH="1">
                      <a:off x="2926800" y="5803560"/>
                      <a:ext cx="45720" cy="34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8" h="158">
                          <a:moveTo>
                            <a:pt x="218" y="37"/>
                          </a:moveTo>
                          <a:lnTo>
                            <a:pt x="193" y="103"/>
                          </a:lnTo>
                          <a:lnTo>
                            <a:pt x="147" y="158"/>
                          </a:lnTo>
                          <a:lnTo>
                            <a:pt x="81" y="145"/>
                          </a:lnTo>
                          <a:lnTo>
                            <a:pt x="0" y="123"/>
                          </a:lnTo>
                          <a:lnTo>
                            <a:pt x="44" y="56"/>
                          </a:lnTo>
                          <a:lnTo>
                            <a:pt x="59" y="0"/>
                          </a:lnTo>
                          <a:lnTo>
                            <a:pt x="218" y="37"/>
                          </a:lnTo>
                          <a:close/>
                        </a:path>
                      </a:pathLst>
                    </a:custGeom>
                    <a:solidFill>
                      <a:srgbClr val="60606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600" bIns="-12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27" name=""/>
                    <p:cNvSpPr/>
                    <p:nvPr/>
                  </p:nvSpPr>
                  <p:spPr>
                    <a:xfrm flipH="1">
                      <a:off x="2943720" y="5832720"/>
                      <a:ext cx="54720" cy="25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56" h="126">
                          <a:moveTo>
                            <a:pt x="256" y="38"/>
                          </a:moveTo>
                          <a:lnTo>
                            <a:pt x="215" y="87"/>
                          </a:lnTo>
                          <a:lnTo>
                            <a:pt x="123" y="121"/>
                          </a:lnTo>
                          <a:lnTo>
                            <a:pt x="60" y="126"/>
                          </a:lnTo>
                          <a:lnTo>
                            <a:pt x="12" y="119"/>
                          </a:lnTo>
                          <a:lnTo>
                            <a:pt x="0" y="93"/>
                          </a:lnTo>
                          <a:lnTo>
                            <a:pt x="45" y="63"/>
                          </a:lnTo>
                          <a:lnTo>
                            <a:pt x="106" y="0"/>
                          </a:lnTo>
                          <a:lnTo>
                            <a:pt x="256" y="38"/>
                          </a:lnTo>
                          <a:close/>
                        </a:path>
                      </a:pathLst>
                    </a:custGeom>
                    <a:solidFill>
                      <a:srgbClr val="60606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600" bIns="-21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728" name=""/>
                  <p:cNvGrpSpPr/>
                  <p:nvPr/>
                </p:nvGrpSpPr>
                <p:grpSpPr>
                  <a:xfrm>
                    <a:off x="2801160" y="5778720"/>
                    <a:ext cx="72360" cy="93960"/>
                    <a:chOff x="2801160" y="5778720"/>
                    <a:chExt cx="72360" cy="93960"/>
                  </a:xfrm>
                </p:grpSpPr>
                <p:sp>
                  <p:nvSpPr>
                    <p:cNvPr id="729" name=""/>
                    <p:cNvSpPr/>
                    <p:nvPr/>
                  </p:nvSpPr>
                  <p:spPr>
                    <a:xfrm flipH="1">
                      <a:off x="2800800" y="5778720"/>
                      <a:ext cx="72360" cy="93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0" h="440">
                          <a:moveTo>
                            <a:pt x="233" y="61"/>
                          </a:moveTo>
                          <a:lnTo>
                            <a:pt x="293" y="208"/>
                          </a:lnTo>
                          <a:lnTo>
                            <a:pt x="336" y="265"/>
                          </a:lnTo>
                          <a:lnTo>
                            <a:pt x="340" y="306"/>
                          </a:lnTo>
                          <a:lnTo>
                            <a:pt x="325" y="361"/>
                          </a:lnTo>
                          <a:lnTo>
                            <a:pt x="279" y="420"/>
                          </a:lnTo>
                          <a:lnTo>
                            <a:pt x="217" y="440"/>
                          </a:lnTo>
                          <a:lnTo>
                            <a:pt x="108" y="440"/>
                          </a:lnTo>
                          <a:lnTo>
                            <a:pt x="46" y="394"/>
                          </a:lnTo>
                          <a:lnTo>
                            <a:pt x="25" y="351"/>
                          </a:lnTo>
                          <a:lnTo>
                            <a:pt x="18" y="286"/>
                          </a:lnTo>
                          <a:lnTo>
                            <a:pt x="43" y="237"/>
                          </a:lnTo>
                          <a:lnTo>
                            <a:pt x="28" y="217"/>
                          </a:lnTo>
                          <a:lnTo>
                            <a:pt x="0" y="174"/>
                          </a:lnTo>
                          <a:lnTo>
                            <a:pt x="11" y="0"/>
                          </a:lnTo>
                          <a:lnTo>
                            <a:pt x="233" y="61"/>
                          </a:lnTo>
                          <a:close/>
                        </a:path>
                      </a:pathLst>
                    </a:custGeom>
                    <a:solidFill>
                      <a:srgbClr val="404040"/>
                    </a:solidFill>
                    <a:ln w="32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30" name=""/>
                    <p:cNvSpPr/>
                    <p:nvPr/>
                  </p:nvSpPr>
                  <p:spPr>
                    <a:xfrm flipH="1">
                      <a:off x="2806200" y="5826600"/>
                      <a:ext cx="54720" cy="34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56" h="167">
                          <a:moveTo>
                            <a:pt x="226" y="8"/>
                          </a:moveTo>
                          <a:lnTo>
                            <a:pt x="256" y="46"/>
                          </a:lnTo>
                          <a:lnTo>
                            <a:pt x="239" y="122"/>
                          </a:lnTo>
                          <a:lnTo>
                            <a:pt x="200" y="156"/>
                          </a:lnTo>
                          <a:lnTo>
                            <a:pt x="88" y="167"/>
                          </a:lnTo>
                          <a:lnTo>
                            <a:pt x="42" y="148"/>
                          </a:lnTo>
                          <a:lnTo>
                            <a:pt x="6" y="109"/>
                          </a:lnTo>
                          <a:lnTo>
                            <a:pt x="0" y="69"/>
                          </a:lnTo>
                          <a:lnTo>
                            <a:pt x="19" y="11"/>
                          </a:lnTo>
                          <a:lnTo>
                            <a:pt x="113" y="0"/>
                          </a:lnTo>
                          <a:lnTo>
                            <a:pt x="226" y="8"/>
                          </a:lnTo>
                          <a:close/>
                        </a:path>
                      </a:pathLst>
                    </a:custGeom>
                    <a:solidFill>
                      <a:srgbClr val="60606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600" bIns="-12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31" name=""/>
                    <p:cNvSpPr/>
                    <p:nvPr/>
                  </p:nvSpPr>
                  <p:spPr>
                    <a:xfrm flipH="1">
                      <a:off x="2815920" y="5796000"/>
                      <a:ext cx="47160" cy="30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22" h="140">
                          <a:moveTo>
                            <a:pt x="222" y="131"/>
                          </a:moveTo>
                          <a:lnTo>
                            <a:pt x="105" y="131"/>
                          </a:lnTo>
                          <a:lnTo>
                            <a:pt x="25" y="140"/>
                          </a:lnTo>
                          <a:lnTo>
                            <a:pt x="14" y="101"/>
                          </a:lnTo>
                          <a:lnTo>
                            <a:pt x="0" y="49"/>
                          </a:lnTo>
                          <a:lnTo>
                            <a:pt x="36" y="0"/>
                          </a:lnTo>
                          <a:lnTo>
                            <a:pt x="159" y="3"/>
                          </a:lnTo>
                          <a:lnTo>
                            <a:pt x="195" y="39"/>
                          </a:lnTo>
                          <a:lnTo>
                            <a:pt x="222" y="131"/>
                          </a:lnTo>
                          <a:close/>
                        </a:path>
                      </a:pathLst>
                    </a:custGeom>
                    <a:solidFill>
                      <a:srgbClr val="60606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560" bIns="-16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732" name=""/>
                  <p:cNvSpPr/>
                  <p:nvPr/>
                </p:nvSpPr>
                <p:spPr>
                  <a:xfrm flipH="1">
                    <a:off x="2743200" y="5082480"/>
                    <a:ext cx="293040" cy="735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83" h="3461">
                        <a:moveTo>
                          <a:pt x="694" y="628"/>
                        </a:moveTo>
                        <a:lnTo>
                          <a:pt x="678" y="562"/>
                        </a:lnTo>
                        <a:lnTo>
                          <a:pt x="661" y="502"/>
                        </a:lnTo>
                        <a:lnTo>
                          <a:pt x="647" y="444"/>
                        </a:lnTo>
                        <a:lnTo>
                          <a:pt x="624" y="387"/>
                        </a:lnTo>
                        <a:lnTo>
                          <a:pt x="599" y="330"/>
                        </a:lnTo>
                        <a:lnTo>
                          <a:pt x="575" y="275"/>
                        </a:lnTo>
                        <a:lnTo>
                          <a:pt x="549" y="192"/>
                        </a:lnTo>
                        <a:lnTo>
                          <a:pt x="536" y="97"/>
                        </a:lnTo>
                        <a:lnTo>
                          <a:pt x="541" y="26"/>
                        </a:lnTo>
                        <a:lnTo>
                          <a:pt x="475" y="102"/>
                        </a:lnTo>
                        <a:lnTo>
                          <a:pt x="416" y="135"/>
                        </a:lnTo>
                        <a:lnTo>
                          <a:pt x="307" y="175"/>
                        </a:lnTo>
                        <a:lnTo>
                          <a:pt x="233" y="193"/>
                        </a:lnTo>
                        <a:lnTo>
                          <a:pt x="191" y="204"/>
                        </a:lnTo>
                        <a:lnTo>
                          <a:pt x="154" y="223"/>
                        </a:lnTo>
                        <a:lnTo>
                          <a:pt x="134" y="263"/>
                        </a:lnTo>
                        <a:lnTo>
                          <a:pt x="122" y="308"/>
                        </a:lnTo>
                        <a:lnTo>
                          <a:pt x="111" y="382"/>
                        </a:lnTo>
                        <a:lnTo>
                          <a:pt x="111" y="478"/>
                        </a:lnTo>
                        <a:lnTo>
                          <a:pt x="67" y="689"/>
                        </a:lnTo>
                        <a:lnTo>
                          <a:pt x="31" y="772"/>
                        </a:lnTo>
                        <a:lnTo>
                          <a:pt x="19" y="857"/>
                        </a:lnTo>
                        <a:lnTo>
                          <a:pt x="14" y="921"/>
                        </a:lnTo>
                        <a:lnTo>
                          <a:pt x="0" y="993"/>
                        </a:lnTo>
                        <a:lnTo>
                          <a:pt x="23" y="1036"/>
                        </a:lnTo>
                        <a:lnTo>
                          <a:pt x="53" y="1074"/>
                        </a:lnTo>
                        <a:lnTo>
                          <a:pt x="86" y="1092"/>
                        </a:lnTo>
                        <a:lnTo>
                          <a:pt x="162" y="1074"/>
                        </a:lnTo>
                        <a:lnTo>
                          <a:pt x="262" y="1057"/>
                        </a:lnTo>
                        <a:lnTo>
                          <a:pt x="268" y="1204"/>
                        </a:lnTo>
                        <a:lnTo>
                          <a:pt x="218" y="1376"/>
                        </a:lnTo>
                        <a:lnTo>
                          <a:pt x="240" y="1398"/>
                        </a:lnTo>
                        <a:lnTo>
                          <a:pt x="195" y="1688"/>
                        </a:lnTo>
                        <a:lnTo>
                          <a:pt x="240" y="1705"/>
                        </a:lnTo>
                        <a:lnTo>
                          <a:pt x="202" y="2376"/>
                        </a:lnTo>
                        <a:lnTo>
                          <a:pt x="316" y="3196"/>
                        </a:lnTo>
                        <a:lnTo>
                          <a:pt x="305" y="3295"/>
                        </a:lnTo>
                        <a:lnTo>
                          <a:pt x="343" y="3417"/>
                        </a:lnTo>
                        <a:lnTo>
                          <a:pt x="392" y="3461"/>
                        </a:lnTo>
                        <a:lnTo>
                          <a:pt x="460" y="3446"/>
                        </a:lnTo>
                        <a:lnTo>
                          <a:pt x="575" y="3417"/>
                        </a:lnTo>
                        <a:lnTo>
                          <a:pt x="639" y="3387"/>
                        </a:lnTo>
                        <a:lnTo>
                          <a:pt x="652" y="3270"/>
                        </a:lnTo>
                        <a:lnTo>
                          <a:pt x="639" y="3199"/>
                        </a:lnTo>
                        <a:lnTo>
                          <a:pt x="622" y="2540"/>
                        </a:lnTo>
                        <a:lnTo>
                          <a:pt x="637" y="2065"/>
                        </a:lnTo>
                        <a:lnTo>
                          <a:pt x="662" y="1775"/>
                        </a:lnTo>
                        <a:lnTo>
                          <a:pt x="688" y="2065"/>
                        </a:lnTo>
                        <a:lnTo>
                          <a:pt x="746" y="3263"/>
                        </a:lnTo>
                        <a:lnTo>
                          <a:pt x="758" y="3380"/>
                        </a:lnTo>
                        <a:lnTo>
                          <a:pt x="799" y="3391"/>
                        </a:lnTo>
                        <a:lnTo>
                          <a:pt x="896" y="3445"/>
                        </a:lnTo>
                        <a:lnTo>
                          <a:pt x="943" y="3436"/>
                        </a:lnTo>
                        <a:lnTo>
                          <a:pt x="997" y="3388"/>
                        </a:lnTo>
                        <a:lnTo>
                          <a:pt x="1027" y="3376"/>
                        </a:lnTo>
                        <a:lnTo>
                          <a:pt x="1050" y="3268"/>
                        </a:lnTo>
                        <a:lnTo>
                          <a:pt x="1125" y="2149"/>
                        </a:lnTo>
                        <a:lnTo>
                          <a:pt x="1132" y="1715"/>
                        </a:lnTo>
                        <a:lnTo>
                          <a:pt x="1174" y="1682"/>
                        </a:lnTo>
                        <a:lnTo>
                          <a:pt x="1141" y="1392"/>
                        </a:lnTo>
                        <a:lnTo>
                          <a:pt x="1163" y="1353"/>
                        </a:lnTo>
                        <a:lnTo>
                          <a:pt x="1141" y="1222"/>
                        </a:lnTo>
                        <a:lnTo>
                          <a:pt x="1354" y="1040"/>
                        </a:lnTo>
                        <a:lnTo>
                          <a:pt x="1383" y="997"/>
                        </a:lnTo>
                        <a:lnTo>
                          <a:pt x="1383" y="912"/>
                        </a:lnTo>
                        <a:lnTo>
                          <a:pt x="1370" y="807"/>
                        </a:lnTo>
                        <a:lnTo>
                          <a:pt x="1331" y="689"/>
                        </a:lnTo>
                        <a:lnTo>
                          <a:pt x="1303" y="563"/>
                        </a:lnTo>
                        <a:lnTo>
                          <a:pt x="1297" y="461"/>
                        </a:lnTo>
                        <a:lnTo>
                          <a:pt x="1287" y="370"/>
                        </a:lnTo>
                        <a:lnTo>
                          <a:pt x="1270" y="287"/>
                        </a:lnTo>
                        <a:lnTo>
                          <a:pt x="1266" y="214"/>
                        </a:lnTo>
                        <a:lnTo>
                          <a:pt x="1206" y="155"/>
                        </a:lnTo>
                        <a:lnTo>
                          <a:pt x="1119" y="138"/>
                        </a:lnTo>
                        <a:lnTo>
                          <a:pt x="1033" y="117"/>
                        </a:lnTo>
                        <a:lnTo>
                          <a:pt x="983" y="96"/>
                        </a:lnTo>
                        <a:lnTo>
                          <a:pt x="923" y="69"/>
                        </a:lnTo>
                        <a:lnTo>
                          <a:pt x="866" y="0"/>
                        </a:lnTo>
                        <a:lnTo>
                          <a:pt x="866" y="91"/>
                        </a:lnTo>
                        <a:lnTo>
                          <a:pt x="861" y="149"/>
                        </a:lnTo>
                        <a:lnTo>
                          <a:pt x="841" y="228"/>
                        </a:lnTo>
                        <a:lnTo>
                          <a:pt x="819" y="300"/>
                        </a:lnTo>
                        <a:lnTo>
                          <a:pt x="796" y="373"/>
                        </a:lnTo>
                        <a:lnTo>
                          <a:pt x="769" y="444"/>
                        </a:lnTo>
                        <a:lnTo>
                          <a:pt x="741" y="517"/>
                        </a:lnTo>
                        <a:lnTo>
                          <a:pt x="694" y="628"/>
                        </a:lnTo>
                        <a:close/>
                      </a:path>
                    </a:pathLst>
                  </a:custGeom>
                  <a:solidFill>
                    <a:srgbClr val="202020"/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733" name=""/>
                  <p:cNvGrpSpPr/>
                  <p:nvPr/>
                </p:nvGrpSpPr>
                <p:grpSpPr>
                  <a:xfrm>
                    <a:off x="2846520" y="4957920"/>
                    <a:ext cx="99360" cy="149760"/>
                    <a:chOff x="2846520" y="4957920"/>
                    <a:chExt cx="99360" cy="149760"/>
                  </a:xfrm>
                </p:grpSpPr>
                <p:sp>
                  <p:nvSpPr>
                    <p:cNvPr id="734" name=""/>
                    <p:cNvSpPr/>
                    <p:nvPr/>
                  </p:nvSpPr>
                  <p:spPr>
                    <a:xfrm flipH="1">
                      <a:off x="2858400" y="5051880"/>
                      <a:ext cx="53280" cy="5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53" h="262">
                          <a:moveTo>
                            <a:pt x="0" y="194"/>
                          </a:moveTo>
                          <a:lnTo>
                            <a:pt x="14" y="234"/>
                          </a:lnTo>
                          <a:lnTo>
                            <a:pt x="34" y="251"/>
                          </a:lnTo>
                          <a:lnTo>
                            <a:pt x="57" y="262"/>
                          </a:lnTo>
                          <a:lnTo>
                            <a:pt x="95" y="262"/>
                          </a:lnTo>
                          <a:lnTo>
                            <a:pt x="125" y="251"/>
                          </a:lnTo>
                          <a:lnTo>
                            <a:pt x="162" y="232"/>
                          </a:lnTo>
                          <a:lnTo>
                            <a:pt x="189" y="213"/>
                          </a:lnTo>
                          <a:lnTo>
                            <a:pt x="212" y="194"/>
                          </a:lnTo>
                          <a:lnTo>
                            <a:pt x="231" y="173"/>
                          </a:lnTo>
                          <a:lnTo>
                            <a:pt x="253" y="141"/>
                          </a:lnTo>
                          <a:lnTo>
                            <a:pt x="253" y="122"/>
                          </a:lnTo>
                          <a:lnTo>
                            <a:pt x="253" y="100"/>
                          </a:lnTo>
                          <a:lnTo>
                            <a:pt x="250" y="62"/>
                          </a:lnTo>
                          <a:lnTo>
                            <a:pt x="245" y="0"/>
                          </a:lnTo>
                          <a:lnTo>
                            <a:pt x="0" y="194"/>
                          </a:lnTo>
                          <a:close/>
                        </a:path>
                      </a:pathLst>
                    </a:custGeom>
                    <a:solidFill>
                      <a:srgbClr val="ffc080"/>
                    </a:solidFill>
                    <a:ln w="3240">
                      <a:solidFill>
                        <a:srgbClr val="402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9000" bIns="9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735" name=""/>
                    <p:cNvGrpSpPr/>
                    <p:nvPr/>
                  </p:nvGrpSpPr>
                  <p:grpSpPr>
                    <a:xfrm>
                      <a:off x="2846520" y="4957920"/>
                      <a:ext cx="99360" cy="140040"/>
                      <a:chOff x="2846520" y="4957920"/>
                      <a:chExt cx="99360" cy="140040"/>
                    </a:xfrm>
                  </p:grpSpPr>
                  <p:sp>
                    <p:nvSpPr>
                      <p:cNvPr id="736" name=""/>
                      <p:cNvSpPr/>
                      <p:nvPr/>
                    </p:nvSpPr>
                    <p:spPr>
                      <a:xfrm flipH="1">
                        <a:off x="2846520" y="4957920"/>
                        <a:ext cx="99360" cy="95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63" h="447">
                            <a:moveTo>
                              <a:pt x="156" y="1"/>
                            </a:moveTo>
                            <a:lnTo>
                              <a:pt x="96" y="40"/>
                            </a:lnTo>
                            <a:lnTo>
                              <a:pt x="71" y="85"/>
                            </a:lnTo>
                            <a:lnTo>
                              <a:pt x="25" y="110"/>
                            </a:lnTo>
                            <a:lnTo>
                              <a:pt x="9" y="144"/>
                            </a:lnTo>
                            <a:lnTo>
                              <a:pt x="0" y="211"/>
                            </a:lnTo>
                            <a:lnTo>
                              <a:pt x="2" y="258"/>
                            </a:lnTo>
                            <a:lnTo>
                              <a:pt x="9" y="302"/>
                            </a:lnTo>
                            <a:lnTo>
                              <a:pt x="37" y="327"/>
                            </a:lnTo>
                            <a:lnTo>
                              <a:pt x="420" y="447"/>
                            </a:lnTo>
                            <a:lnTo>
                              <a:pt x="426" y="378"/>
                            </a:lnTo>
                            <a:lnTo>
                              <a:pt x="444" y="331"/>
                            </a:lnTo>
                            <a:lnTo>
                              <a:pt x="462" y="280"/>
                            </a:lnTo>
                            <a:lnTo>
                              <a:pt x="463" y="220"/>
                            </a:lnTo>
                            <a:lnTo>
                              <a:pt x="451" y="162"/>
                            </a:lnTo>
                            <a:lnTo>
                              <a:pt x="434" y="110"/>
                            </a:lnTo>
                            <a:lnTo>
                              <a:pt x="407" y="67"/>
                            </a:lnTo>
                            <a:lnTo>
                              <a:pt x="367" y="39"/>
                            </a:lnTo>
                            <a:lnTo>
                              <a:pt x="321" y="9"/>
                            </a:lnTo>
                            <a:lnTo>
                              <a:pt x="229" y="0"/>
                            </a:lnTo>
                            <a:lnTo>
                              <a:pt x="156" y="1"/>
                            </a:lnTo>
                            <a:close/>
                          </a:path>
                        </a:pathLst>
                      </a:custGeom>
                      <a:solidFill>
                        <a:srgbClr val="402000"/>
                      </a:solidFill>
                      <a:ln w="3240">
                        <a:solidFill>
                          <a:srgbClr val="402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737" name=""/>
                      <p:cNvGrpSpPr/>
                      <p:nvPr/>
                    </p:nvGrpSpPr>
                    <p:grpSpPr>
                      <a:xfrm>
                        <a:off x="2854800" y="4997160"/>
                        <a:ext cx="84960" cy="100800"/>
                        <a:chOff x="2854800" y="4997160"/>
                        <a:chExt cx="84960" cy="100800"/>
                      </a:xfrm>
                    </p:grpSpPr>
                    <p:sp>
                      <p:nvSpPr>
                        <p:cNvPr id="738" name=""/>
                        <p:cNvSpPr/>
                        <p:nvPr/>
                      </p:nvSpPr>
                      <p:spPr>
                        <a:xfrm flipH="1">
                          <a:off x="2854800" y="4997160"/>
                          <a:ext cx="84960" cy="1008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99" h="479">
                              <a:moveTo>
                                <a:pt x="0" y="145"/>
                              </a:moveTo>
                              <a:lnTo>
                                <a:pt x="13" y="167"/>
                              </a:lnTo>
                              <a:lnTo>
                                <a:pt x="13" y="194"/>
                              </a:lnTo>
                              <a:lnTo>
                                <a:pt x="17" y="224"/>
                              </a:lnTo>
                              <a:lnTo>
                                <a:pt x="28" y="263"/>
                              </a:lnTo>
                              <a:lnTo>
                                <a:pt x="42" y="309"/>
                              </a:lnTo>
                              <a:lnTo>
                                <a:pt x="55" y="356"/>
                              </a:lnTo>
                              <a:lnTo>
                                <a:pt x="69" y="405"/>
                              </a:lnTo>
                              <a:lnTo>
                                <a:pt x="83" y="432"/>
                              </a:lnTo>
                              <a:lnTo>
                                <a:pt x="100" y="454"/>
                              </a:lnTo>
                              <a:lnTo>
                                <a:pt x="120" y="475"/>
                              </a:lnTo>
                              <a:lnTo>
                                <a:pt x="145" y="479"/>
                              </a:lnTo>
                              <a:lnTo>
                                <a:pt x="178" y="471"/>
                              </a:lnTo>
                              <a:lnTo>
                                <a:pt x="214" y="459"/>
                              </a:lnTo>
                              <a:lnTo>
                                <a:pt x="242" y="448"/>
                              </a:lnTo>
                              <a:lnTo>
                                <a:pt x="269" y="431"/>
                              </a:lnTo>
                              <a:lnTo>
                                <a:pt x="289" y="414"/>
                              </a:lnTo>
                              <a:lnTo>
                                <a:pt x="309" y="395"/>
                              </a:lnTo>
                              <a:lnTo>
                                <a:pt x="330" y="370"/>
                              </a:lnTo>
                              <a:lnTo>
                                <a:pt x="353" y="340"/>
                              </a:lnTo>
                              <a:lnTo>
                                <a:pt x="369" y="305"/>
                              </a:lnTo>
                              <a:lnTo>
                                <a:pt x="374" y="254"/>
                              </a:lnTo>
                              <a:lnTo>
                                <a:pt x="374" y="222"/>
                              </a:lnTo>
                              <a:lnTo>
                                <a:pt x="386" y="200"/>
                              </a:lnTo>
                              <a:lnTo>
                                <a:pt x="397" y="177"/>
                              </a:lnTo>
                              <a:lnTo>
                                <a:pt x="399" y="147"/>
                              </a:lnTo>
                              <a:lnTo>
                                <a:pt x="395" y="110"/>
                              </a:lnTo>
                              <a:lnTo>
                                <a:pt x="378" y="88"/>
                              </a:lnTo>
                              <a:lnTo>
                                <a:pt x="358" y="85"/>
                              </a:lnTo>
                              <a:lnTo>
                                <a:pt x="344" y="102"/>
                              </a:lnTo>
                              <a:lnTo>
                                <a:pt x="334" y="129"/>
                              </a:lnTo>
                              <a:lnTo>
                                <a:pt x="322" y="85"/>
                              </a:lnTo>
                              <a:lnTo>
                                <a:pt x="300" y="79"/>
                              </a:lnTo>
                              <a:lnTo>
                                <a:pt x="281" y="74"/>
                              </a:lnTo>
                              <a:lnTo>
                                <a:pt x="212" y="55"/>
                              </a:lnTo>
                              <a:lnTo>
                                <a:pt x="153" y="22"/>
                              </a:lnTo>
                              <a:lnTo>
                                <a:pt x="99" y="0"/>
                              </a:lnTo>
                              <a:lnTo>
                                <a:pt x="47" y="3"/>
                              </a:lnTo>
                              <a:lnTo>
                                <a:pt x="13" y="18"/>
                              </a:lnTo>
                              <a:lnTo>
                                <a:pt x="6" y="84"/>
                              </a:lnTo>
                              <a:lnTo>
                                <a:pt x="0" y="120"/>
                              </a:lnTo>
                              <a:lnTo>
                                <a:pt x="0" y="145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c080"/>
                        </a:solidFill>
                        <a:ln w="3240">
                          <a:solidFill>
                            <a:srgbClr val="402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39" name=""/>
                        <p:cNvSpPr/>
                        <p:nvPr/>
                      </p:nvSpPr>
                      <p:spPr>
                        <a:xfrm flipH="1">
                          <a:off x="2898000" y="5073480"/>
                          <a:ext cx="26280" cy="61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26" h="25">
                              <a:moveTo>
                                <a:pt x="3" y="24"/>
                              </a:moveTo>
                              <a:lnTo>
                                <a:pt x="0" y="14"/>
                              </a:lnTo>
                              <a:lnTo>
                                <a:pt x="0" y="5"/>
                              </a:lnTo>
                              <a:lnTo>
                                <a:pt x="6" y="10"/>
                              </a:lnTo>
                              <a:lnTo>
                                <a:pt x="26" y="2"/>
                              </a:lnTo>
                              <a:lnTo>
                                <a:pt x="40" y="5"/>
                              </a:lnTo>
                              <a:lnTo>
                                <a:pt x="52" y="0"/>
                              </a:lnTo>
                              <a:lnTo>
                                <a:pt x="89" y="5"/>
                              </a:lnTo>
                              <a:lnTo>
                                <a:pt x="106" y="7"/>
                              </a:lnTo>
                              <a:lnTo>
                                <a:pt x="114" y="6"/>
                              </a:lnTo>
                              <a:lnTo>
                                <a:pt x="120" y="2"/>
                              </a:lnTo>
                              <a:lnTo>
                                <a:pt x="120" y="13"/>
                              </a:lnTo>
                              <a:lnTo>
                                <a:pt x="126" y="25"/>
                              </a:lnTo>
                              <a:lnTo>
                                <a:pt x="111" y="12"/>
                              </a:lnTo>
                              <a:lnTo>
                                <a:pt x="88" y="8"/>
                              </a:lnTo>
                              <a:lnTo>
                                <a:pt x="55" y="10"/>
                              </a:lnTo>
                              <a:lnTo>
                                <a:pt x="41" y="13"/>
                              </a:lnTo>
                              <a:lnTo>
                                <a:pt x="27" y="10"/>
                              </a:lnTo>
                              <a:lnTo>
                                <a:pt x="15" y="12"/>
                              </a:lnTo>
                              <a:lnTo>
                                <a:pt x="6" y="13"/>
                              </a:lnTo>
                              <a:lnTo>
                                <a:pt x="3" y="2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02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0680" bIns="-406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40" name=""/>
                        <p:cNvSpPr/>
                        <p:nvPr/>
                      </p:nvSpPr>
                      <p:spPr>
                        <a:xfrm flipH="1">
                          <a:off x="2906640" y="5081040"/>
                          <a:ext cx="12600" cy="25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60" h="10">
                              <a:moveTo>
                                <a:pt x="0" y="2"/>
                              </a:moveTo>
                              <a:lnTo>
                                <a:pt x="16" y="3"/>
                              </a:lnTo>
                              <a:lnTo>
                                <a:pt x="28" y="3"/>
                              </a:lnTo>
                              <a:lnTo>
                                <a:pt x="60" y="0"/>
                              </a:lnTo>
                              <a:lnTo>
                                <a:pt x="34" y="10"/>
                              </a:lnTo>
                              <a:lnTo>
                                <a:pt x="15" y="8"/>
                              </a:lnTo>
                              <a:lnTo>
                                <a:pt x="0" y="2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02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41" name=""/>
                        <p:cNvSpPr/>
                        <p:nvPr/>
                      </p:nvSpPr>
                      <p:spPr>
                        <a:xfrm flipH="1">
                          <a:off x="2907000" y="5091480"/>
                          <a:ext cx="8640" cy="4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9" h="21">
                              <a:moveTo>
                                <a:pt x="0" y="1"/>
                              </a:moveTo>
                              <a:lnTo>
                                <a:pt x="14" y="6"/>
                              </a:lnTo>
                              <a:lnTo>
                                <a:pt x="20" y="21"/>
                              </a:lnTo>
                              <a:lnTo>
                                <a:pt x="20" y="7"/>
                              </a:lnTo>
                              <a:lnTo>
                                <a:pt x="39" y="0"/>
                              </a:lnTo>
                              <a:lnTo>
                                <a:pt x="18" y="2"/>
                              </a:lnTo>
                              <a:lnTo>
                                <a:pt x="0" y="1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02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2120" bIns="-421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42" name=""/>
                        <p:cNvSpPr/>
                        <p:nvPr/>
                      </p:nvSpPr>
                      <p:spPr>
                        <a:xfrm flipH="1">
                          <a:off x="2861280" y="5024880"/>
                          <a:ext cx="3600" cy="115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9" h="53">
                              <a:moveTo>
                                <a:pt x="9" y="0"/>
                              </a:moveTo>
                              <a:lnTo>
                                <a:pt x="0" y="11"/>
                              </a:lnTo>
                              <a:lnTo>
                                <a:pt x="9" y="19"/>
                              </a:lnTo>
                              <a:lnTo>
                                <a:pt x="10" y="31"/>
                              </a:lnTo>
                              <a:lnTo>
                                <a:pt x="9" y="53"/>
                              </a:lnTo>
                              <a:lnTo>
                                <a:pt x="19" y="25"/>
                              </a:lnTo>
                              <a:lnTo>
                                <a:pt x="9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02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5280" bIns="-352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43" name=""/>
                        <p:cNvSpPr/>
                        <p:nvPr/>
                      </p:nvSpPr>
                      <p:spPr>
                        <a:xfrm flipH="1">
                          <a:off x="2858400" y="5018760"/>
                          <a:ext cx="6120" cy="176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8" h="81">
                              <a:moveTo>
                                <a:pt x="3" y="27"/>
                              </a:moveTo>
                              <a:lnTo>
                                <a:pt x="0" y="16"/>
                              </a:lnTo>
                              <a:lnTo>
                                <a:pt x="7" y="1"/>
                              </a:lnTo>
                              <a:lnTo>
                                <a:pt x="16" y="0"/>
                              </a:lnTo>
                              <a:lnTo>
                                <a:pt x="26" y="8"/>
                              </a:lnTo>
                              <a:lnTo>
                                <a:pt x="28" y="34"/>
                              </a:lnTo>
                              <a:lnTo>
                                <a:pt x="26" y="68"/>
                              </a:lnTo>
                              <a:lnTo>
                                <a:pt x="15" y="81"/>
                              </a:lnTo>
                              <a:lnTo>
                                <a:pt x="23" y="59"/>
                              </a:lnTo>
                              <a:lnTo>
                                <a:pt x="23" y="27"/>
                              </a:lnTo>
                              <a:lnTo>
                                <a:pt x="19" y="8"/>
                              </a:lnTo>
                              <a:lnTo>
                                <a:pt x="11" y="8"/>
                              </a:lnTo>
                              <a:lnTo>
                                <a:pt x="3" y="27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02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44" name=""/>
                        <p:cNvSpPr/>
                        <p:nvPr/>
                      </p:nvSpPr>
                      <p:spPr>
                        <a:xfrm flipH="1">
                          <a:off x="2861280" y="5042880"/>
                          <a:ext cx="3600" cy="50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2" h="24">
                              <a:moveTo>
                                <a:pt x="22" y="11"/>
                              </a:moveTo>
                              <a:lnTo>
                                <a:pt x="22" y="0"/>
                              </a:lnTo>
                              <a:lnTo>
                                <a:pt x="10" y="9"/>
                              </a:lnTo>
                              <a:lnTo>
                                <a:pt x="0" y="9"/>
                              </a:lnTo>
                              <a:lnTo>
                                <a:pt x="22" y="24"/>
                              </a:lnTo>
                              <a:lnTo>
                                <a:pt x="22" y="11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02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1760" bIns="-417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45" name=""/>
                        <p:cNvSpPr/>
                        <p:nvPr/>
                      </p:nvSpPr>
                      <p:spPr>
                        <a:xfrm flipH="1">
                          <a:off x="2875320" y="5042880"/>
                          <a:ext cx="5040" cy="7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5" h="35">
                              <a:moveTo>
                                <a:pt x="25" y="0"/>
                              </a:moveTo>
                              <a:lnTo>
                                <a:pt x="2" y="16"/>
                              </a:lnTo>
                              <a:lnTo>
                                <a:pt x="0" y="35"/>
                              </a:lnTo>
                              <a:lnTo>
                                <a:pt x="25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02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9240" bIns="-392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grpSp>
                      <p:nvGrpSpPr>
                        <p:cNvPr id="746" name=""/>
                        <p:cNvGrpSpPr/>
                        <p:nvPr/>
                      </p:nvGrpSpPr>
                      <p:grpSpPr>
                        <a:xfrm>
                          <a:off x="2887920" y="5023800"/>
                          <a:ext cx="26640" cy="14760"/>
                          <a:chOff x="2887920" y="5023800"/>
                          <a:chExt cx="26640" cy="14760"/>
                        </a:xfrm>
                      </p:grpSpPr>
                      <p:sp>
                        <p:nvSpPr>
                          <p:cNvPr id="747" name=""/>
                          <p:cNvSpPr/>
                          <p:nvPr/>
                        </p:nvSpPr>
                        <p:spPr>
                          <a:xfrm flipH="1">
                            <a:off x="2893320" y="5029920"/>
                            <a:ext cx="15120" cy="86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70" h="40">
                                <a:moveTo>
                                  <a:pt x="12" y="6"/>
                                </a:moveTo>
                                <a:lnTo>
                                  <a:pt x="0" y="16"/>
                                </a:lnTo>
                                <a:lnTo>
                                  <a:pt x="6" y="18"/>
                                </a:lnTo>
                                <a:lnTo>
                                  <a:pt x="11" y="23"/>
                                </a:lnTo>
                                <a:lnTo>
                                  <a:pt x="16" y="33"/>
                                </a:lnTo>
                                <a:lnTo>
                                  <a:pt x="24" y="40"/>
                                </a:lnTo>
                                <a:lnTo>
                                  <a:pt x="17" y="30"/>
                                </a:lnTo>
                                <a:lnTo>
                                  <a:pt x="17" y="23"/>
                                </a:lnTo>
                                <a:lnTo>
                                  <a:pt x="29" y="28"/>
                                </a:lnTo>
                                <a:lnTo>
                                  <a:pt x="41" y="25"/>
                                </a:lnTo>
                                <a:lnTo>
                                  <a:pt x="51" y="22"/>
                                </a:lnTo>
                                <a:lnTo>
                                  <a:pt x="61" y="12"/>
                                </a:lnTo>
                                <a:lnTo>
                                  <a:pt x="70" y="11"/>
                                </a:lnTo>
                                <a:lnTo>
                                  <a:pt x="58" y="2"/>
                                </a:lnTo>
                                <a:lnTo>
                                  <a:pt x="44" y="0"/>
                                </a:lnTo>
                                <a:lnTo>
                                  <a:pt x="32" y="0"/>
                                </a:lnTo>
                                <a:lnTo>
                                  <a:pt x="20" y="2"/>
                                </a:lnTo>
                                <a:lnTo>
                                  <a:pt x="12" y="6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40200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8160" bIns="-381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748" name=""/>
                          <p:cNvSpPr/>
                          <p:nvPr/>
                        </p:nvSpPr>
                        <p:spPr>
                          <a:xfrm flipH="1">
                            <a:off x="2887920" y="5023800"/>
                            <a:ext cx="26640" cy="72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24" h="36">
                                <a:moveTo>
                                  <a:pt x="0" y="23"/>
                                </a:moveTo>
                                <a:lnTo>
                                  <a:pt x="13" y="36"/>
                                </a:lnTo>
                                <a:lnTo>
                                  <a:pt x="44" y="21"/>
                                </a:lnTo>
                                <a:lnTo>
                                  <a:pt x="78" y="12"/>
                                </a:lnTo>
                                <a:lnTo>
                                  <a:pt x="124" y="14"/>
                                </a:lnTo>
                                <a:lnTo>
                                  <a:pt x="86" y="6"/>
                                </a:lnTo>
                                <a:lnTo>
                                  <a:pt x="97" y="0"/>
                                </a:lnTo>
                                <a:lnTo>
                                  <a:pt x="72" y="2"/>
                                </a:lnTo>
                                <a:lnTo>
                                  <a:pt x="52" y="7"/>
                                </a:lnTo>
                                <a:lnTo>
                                  <a:pt x="61" y="1"/>
                                </a:lnTo>
                                <a:lnTo>
                                  <a:pt x="39" y="6"/>
                                </a:lnTo>
                                <a:lnTo>
                                  <a:pt x="25" y="14"/>
                                </a:lnTo>
                                <a:lnTo>
                                  <a:pt x="30" y="6"/>
                                </a:lnTo>
                                <a:lnTo>
                                  <a:pt x="0" y="23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40200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9600" bIns="-396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749" name=""/>
                          <p:cNvSpPr/>
                          <p:nvPr/>
                        </p:nvSpPr>
                        <p:spPr>
                          <a:xfrm flipH="1">
                            <a:off x="2903040" y="5032440"/>
                            <a:ext cx="2520" cy="252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1" h="11">
                                <a:moveTo>
                                  <a:pt x="6" y="0"/>
                                </a:moveTo>
                                <a:lnTo>
                                  <a:pt x="0" y="6"/>
                                </a:lnTo>
                                <a:lnTo>
                                  <a:pt x="11" y="11"/>
                                </a:lnTo>
                                <a:lnTo>
                                  <a:pt x="9" y="6"/>
                                </a:lnTo>
                                <a:lnTo>
                                  <a:pt x="6" y="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ffc08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4280" bIns="-4428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750" name=""/>
                          <p:cNvSpPr/>
                          <p:nvPr/>
                        </p:nvSpPr>
                        <p:spPr>
                          <a:xfrm flipH="1">
                            <a:off x="2895840" y="5028840"/>
                            <a:ext cx="11160" cy="216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56" h="16">
                                <a:moveTo>
                                  <a:pt x="0" y="16"/>
                                </a:moveTo>
                                <a:lnTo>
                                  <a:pt x="16" y="5"/>
                                </a:lnTo>
                                <a:lnTo>
                                  <a:pt x="30" y="4"/>
                                </a:lnTo>
                                <a:lnTo>
                                  <a:pt x="45" y="5"/>
                                </a:lnTo>
                                <a:lnTo>
                                  <a:pt x="56" y="8"/>
                                </a:lnTo>
                                <a:lnTo>
                                  <a:pt x="43" y="2"/>
                                </a:lnTo>
                                <a:lnTo>
                                  <a:pt x="28" y="0"/>
                                </a:lnTo>
                                <a:lnTo>
                                  <a:pt x="18" y="0"/>
                                </a:lnTo>
                                <a:lnTo>
                                  <a:pt x="10" y="4"/>
                                </a:lnTo>
                                <a:lnTo>
                                  <a:pt x="0" y="16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40200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4640" bIns="-4464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751" name=""/>
                        <p:cNvGrpSpPr/>
                        <p:nvPr/>
                      </p:nvGrpSpPr>
                      <p:grpSpPr>
                        <a:xfrm>
                          <a:off x="2922120" y="5024880"/>
                          <a:ext cx="15120" cy="14760"/>
                          <a:chOff x="2922120" y="5024880"/>
                          <a:chExt cx="15120" cy="14760"/>
                        </a:xfrm>
                      </p:grpSpPr>
                      <p:sp>
                        <p:nvSpPr>
                          <p:cNvPr id="752" name=""/>
                          <p:cNvSpPr/>
                          <p:nvPr/>
                        </p:nvSpPr>
                        <p:spPr>
                          <a:xfrm flipH="1">
                            <a:off x="2925000" y="5032440"/>
                            <a:ext cx="10080" cy="72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51" h="37">
                                <a:moveTo>
                                  <a:pt x="0" y="11"/>
                                </a:moveTo>
                                <a:lnTo>
                                  <a:pt x="6" y="14"/>
                                </a:lnTo>
                                <a:lnTo>
                                  <a:pt x="12" y="21"/>
                                </a:lnTo>
                                <a:lnTo>
                                  <a:pt x="27" y="23"/>
                                </a:lnTo>
                                <a:lnTo>
                                  <a:pt x="39" y="20"/>
                                </a:lnTo>
                                <a:lnTo>
                                  <a:pt x="36" y="25"/>
                                </a:lnTo>
                                <a:lnTo>
                                  <a:pt x="29" y="37"/>
                                </a:lnTo>
                                <a:lnTo>
                                  <a:pt x="40" y="29"/>
                                </a:lnTo>
                                <a:lnTo>
                                  <a:pt x="46" y="21"/>
                                </a:lnTo>
                                <a:lnTo>
                                  <a:pt x="51" y="14"/>
                                </a:lnTo>
                                <a:lnTo>
                                  <a:pt x="51" y="6"/>
                                </a:lnTo>
                                <a:lnTo>
                                  <a:pt x="46" y="5"/>
                                </a:lnTo>
                                <a:lnTo>
                                  <a:pt x="35" y="1"/>
                                </a:lnTo>
                                <a:lnTo>
                                  <a:pt x="23" y="0"/>
                                </a:lnTo>
                                <a:lnTo>
                                  <a:pt x="10" y="5"/>
                                </a:lnTo>
                                <a:lnTo>
                                  <a:pt x="0" y="11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40200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9600" bIns="-396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753" name=""/>
                          <p:cNvSpPr/>
                          <p:nvPr/>
                        </p:nvSpPr>
                        <p:spPr>
                          <a:xfrm flipH="1">
                            <a:off x="2922120" y="5024880"/>
                            <a:ext cx="15120" cy="140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74" h="64">
                                <a:moveTo>
                                  <a:pt x="0" y="6"/>
                                </a:moveTo>
                                <a:lnTo>
                                  <a:pt x="19" y="2"/>
                                </a:lnTo>
                                <a:lnTo>
                                  <a:pt x="27" y="0"/>
                                </a:lnTo>
                                <a:lnTo>
                                  <a:pt x="40" y="5"/>
                                </a:lnTo>
                                <a:lnTo>
                                  <a:pt x="35" y="0"/>
                                </a:lnTo>
                                <a:lnTo>
                                  <a:pt x="47" y="3"/>
                                </a:lnTo>
                                <a:lnTo>
                                  <a:pt x="58" y="10"/>
                                </a:lnTo>
                                <a:lnTo>
                                  <a:pt x="57" y="5"/>
                                </a:lnTo>
                                <a:lnTo>
                                  <a:pt x="64" y="14"/>
                                </a:lnTo>
                                <a:lnTo>
                                  <a:pt x="73" y="9"/>
                                </a:lnTo>
                                <a:lnTo>
                                  <a:pt x="74" y="20"/>
                                </a:lnTo>
                                <a:lnTo>
                                  <a:pt x="71" y="29"/>
                                </a:lnTo>
                                <a:lnTo>
                                  <a:pt x="70" y="47"/>
                                </a:lnTo>
                                <a:lnTo>
                                  <a:pt x="69" y="64"/>
                                </a:lnTo>
                                <a:lnTo>
                                  <a:pt x="65" y="54"/>
                                </a:lnTo>
                                <a:lnTo>
                                  <a:pt x="68" y="33"/>
                                </a:lnTo>
                                <a:lnTo>
                                  <a:pt x="63" y="26"/>
                                </a:lnTo>
                                <a:lnTo>
                                  <a:pt x="53" y="21"/>
                                </a:lnTo>
                                <a:lnTo>
                                  <a:pt x="41" y="16"/>
                                </a:lnTo>
                                <a:lnTo>
                                  <a:pt x="21" y="10"/>
                                </a:lnTo>
                                <a:lnTo>
                                  <a:pt x="0" y="6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40200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2760" bIns="-327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754" name=""/>
                          <p:cNvSpPr/>
                          <p:nvPr/>
                        </p:nvSpPr>
                        <p:spPr>
                          <a:xfrm flipH="1">
                            <a:off x="2930760" y="5033520"/>
                            <a:ext cx="2520" cy="252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0" h="12">
                                <a:moveTo>
                                  <a:pt x="0" y="4"/>
                                </a:moveTo>
                                <a:lnTo>
                                  <a:pt x="3" y="10"/>
                                </a:lnTo>
                                <a:lnTo>
                                  <a:pt x="10" y="12"/>
                                </a:lnTo>
                                <a:lnTo>
                                  <a:pt x="6" y="7"/>
                                </a:lnTo>
                                <a:lnTo>
                                  <a:pt x="7" y="0"/>
                                </a:lnTo>
                                <a:lnTo>
                                  <a:pt x="0" y="4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ffc08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4280" bIns="-4428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755" name=""/>
                          <p:cNvSpPr/>
                          <p:nvPr/>
                        </p:nvSpPr>
                        <p:spPr>
                          <a:xfrm flipH="1">
                            <a:off x="2925000" y="5029920"/>
                            <a:ext cx="10080" cy="36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49" h="14">
                                <a:moveTo>
                                  <a:pt x="49" y="10"/>
                                </a:moveTo>
                                <a:lnTo>
                                  <a:pt x="41" y="7"/>
                                </a:lnTo>
                                <a:lnTo>
                                  <a:pt x="31" y="4"/>
                                </a:lnTo>
                                <a:lnTo>
                                  <a:pt x="24" y="3"/>
                                </a:lnTo>
                                <a:lnTo>
                                  <a:pt x="18" y="6"/>
                                </a:lnTo>
                                <a:lnTo>
                                  <a:pt x="0" y="14"/>
                                </a:lnTo>
                                <a:lnTo>
                                  <a:pt x="15" y="3"/>
                                </a:lnTo>
                                <a:lnTo>
                                  <a:pt x="23" y="0"/>
                                </a:lnTo>
                                <a:lnTo>
                                  <a:pt x="35" y="0"/>
                                </a:lnTo>
                                <a:lnTo>
                                  <a:pt x="42" y="6"/>
                                </a:lnTo>
                                <a:lnTo>
                                  <a:pt x="49" y="1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40200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3200" bIns="-432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756" name=""/>
                        <p:cNvSpPr/>
                        <p:nvPr/>
                      </p:nvSpPr>
                      <p:spPr>
                        <a:xfrm flipH="1">
                          <a:off x="2907360" y="5055480"/>
                          <a:ext cx="17280" cy="100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6" h="48">
                              <a:moveTo>
                                <a:pt x="7" y="2"/>
                              </a:moveTo>
                              <a:lnTo>
                                <a:pt x="6" y="10"/>
                              </a:lnTo>
                              <a:lnTo>
                                <a:pt x="8" y="20"/>
                              </a:lnTo>
                              <a:lnTo>
                                <a:pt x="13" y="25"/>
                              </a:lnTo>
                              <a:lnTo>
                                <a:pt x="20" y="26"/>
                              </a:lnTo>
                              <a:lnTo>
                                <a:pt x="35" y="26"/>
                              </a:lnTo>
                              <a:lnTo>
                                <a:pt x="49" y="23"/>
                              </a:lnTo>
                              <a:lnTo>
                                <a:pt x="56" y="17"/>
                              </a:lnTo>
                              <a:lnTo>
                                <a:pt x="64" y="13"/>
                              </a:lnTo>
                              <a:lnTo>
                                <a:pt x="74" y="14"/>
                              </a:lnTo>
                              <a:lnTo>
                                <a:pt x="81" y="11"/>
                              </a:lnTo>
                              <a:lnTo>
                                <a:pt x="86" y="0"/>
                              </a:lnTo>
                              <a:lnTo>
                                <a:pt x="86" y="14"/>
                              </a:lnTo>
                              <a:lnTo>
                                <a:pt x="78" y="18"/>
                              </a:lnTo>
                              <a:lnTo>
                                <a:pt x="65" y="23"/>
                              </a:lnTo>
                              <a:lnTo>
                                <a:pt x="57" y="26"/>
                              </a:lnTo>
                              <a:lnTo>
                                <a:pt x="44" y="36"/>
                              </a:lnTo>
                              <a:lnTo>
                                <a:pt x="34" y="43"/>
                              </a:lnTo>
                              <a:lnTo>
                                <a:pt x="27" y="47"/>
                              </a:lnTo>
                              <a:lnTo>
                                <a:pt x="16" y="48"/>
                              </a:lnTo>
                              <a:lnTo>
                                <a:pt x="10" y="44"/>
                              </a:lnTo>
                              <a:lnTo>
                                <a:pt x="6" y="37"/>
                              </a:lnTo>
                              <a:lnTo>
                                <a:pt x="2" y="26"/>
                              </a:lnTo>
                              <a:lnTo>
                                <a:pt x="0" y="14"/>
                              </a:lnTo>
                              <a:lnTo>
                                <a:pt x="7" y="2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02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6720" bIns="-367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757" name=""/>
                      <p:cNvSpPr/>
                      <p:nvPr/>
                    </p:nvSpPr>
                    <p:spPr>
                      <a:xfrm flipH="1">
                        <a:off x="2849040" y="4960080"/>
                        <a:ext cx="91800" cy="53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28" h="250">
                            <a:moveTo>
                              <a:pt x="0" y="149"/>
                            </a:moveTo>
                            <a:lnTo>
                              <a:pt x="40" y="166"/>
                            </a:lnTo>
                            <a:lnTo>
                              <a:pt x="84" y="164"/>
                            </a:lnTo>
                            <a:lnTo>
                              <a:pt x="128" y="171"/>
                            </a:lnTo>
                            <a:lnTo>
                              <a:pt x="209" y="210"/>
                            </a:lnTo>
                            <a:lnTo>
                              <a:pt x="262" y="234"/>
                            </a:lnTo>
                            <a:lnTo>
                              <a:pt x="334" y="248"/>
                            </a:lnTo>
                            <a:lnTo>
                              <a:pt x="381" y="245"/>
                            </a:lnTo>
                            <a:lnTo>
                              <a:pt x="317" y="234"/>
                            </a:lnTo>
                            <a:lnTo>
                              <a:pt x="287" y="226"/>
                            </a:lnTo>
                            <a:lnTo>
                              <a:pt x="233" y="191"/>
                            </a:lnTo>
                            <a:lnTo>
                              <a:pt x="275" y="205"/>
                            </a:lnTo>
                            <a:lnTo>
                              <a:pt x="319" y="226"/>
                            </a:lnTo>
                            <a:lnTo>
                              <a:pt x="372" y="234"/>
                            </a:lnTo>
                            <a:lnTo>
                              <a:pt x="411" y="239"/>
                            </a:lnTo>
                            <a:lnTo>
                              <a:pt x="373" y="205"/>
                            </a:lnTo>
                            <a:lnTo>
                              <a:pt x="334" y="163"/>
                            </a:lnTo>
                            <a:lnTo>
                              <a:pt x="277" y="128"/>
                            </a:lnTo>
                            <a:lnTo>
                              <a:pt x="244" y="117"/>
                            </a:lnTo>
                            <a:lnTo>
                              <a:pt x="286" y="122"/>
                            </a:lnTo>
                            <a:lnTo>
                              <a:pt x="319" y="136"/>
                            </a:lnTo>
                            <a:lnTo>
                              <a:pt x="361" y="171"/>
                            </a:lnTo>
                            <a:lnTo>
                              <a:pt x="414" y="230"/>
                            </a:lnTo>
                            <a:lnTo>
                              <a:pt x="407" y="182"/>
                            </a:lnTo>
                            <a:lnTo>
                              <a:pt x="395" y="141"/>
                            </a:lnTo>
                            <a:lnTo>
                              <a:pt x="372" y="105"/>
                            </a:lnTo>
                            <a:lnTo>
                              <a:pt x="401" y="136"/>
                            </a:lnTo>
                            <a:lnTo>
                              <a:pt x="411" y="175"/>
                            </a:lnTo>
                            <a:lnTo>
                              <a:pt x="415" y="228"/>
                            </a:lnTo>
                            <a:lnTo>
                              <a:pt x="420" y="250"/>
                            </a:lnTo>
                            <a:lnTo>
                              <a:pt x="428" y="221"/>
                            </a:lnTo>
                            <a:lnTo>
                              <a:pt x="428" y="158"/>
                            </a:lnTo>
                            <a:lnTo>
                              <a:pt x="403" y="98"/>
                            </a:lnTo>
                            <a:lnTo>
                              <a:pt x="365" y="54"/>
                            </a:lnTo>
                            <a:lnTo>
                              <a:pt x="304" y="18"/>
                            </a:lnTo>
                            <a:lnTo>
                              <a:pt x="270" y="7"/>
                            </a:lnTo>
                            <a:lnTo>
                              <a:pt x="200" y="2"/>
                            </a:lnTo>
                            <a:lnTo>
                              <a:pt x="151" y="0"/>
                            </a:lnTo>
                            <a:lnTo>
                              <a:pt x="120" y="5"/>
                            </a:lnTo>
                            <a:lnTo>
                              <a:pt x="90" y="26"/>
                            </a:lnTo>
                            <a:lnTo>
                              <a:pt x="67" y="48"/>
                            </a:lnTo>
                            <a:lnTo>
                              <a:pt x="61" y="67"/>
                            </a:lnTo>
                            <a:lnTo>
                              <a:pt x="84" y="57"/>
                            </a:lnTo>
                            <a:lnTo>
                              <a:pt x="122" y="49"/>
                            </a:lnTo>
                            <a:lnTo>
                              <a:pt x="183" y="57"/>
                            </a:lnTo>
                            <a:lnTo>
                              <a:pt x="126" y="56"/>
                            </a:lnTo>
                            <a:lnTo>
                              <a:pt x="80" y="68"/>
                            </a:lnTo>
                            <a:lnTo>
                              <a:pt x="48" y="79"/>
                            </a:lnTo>
                            <a:lnTo>
                              <a:pt x="17" y="100"/>
                            </a:lnTo>
                            <a:lnTo>
                              <a:pt x="12" y="114"/>
                            </a:lnTo>
                            <a:lnTo>
                              <a:pt x="80" y="92"/>
                            </a:lnTo>
                            <a:lnTo>
                              <a:pt x="145" y="106"/>
                            </a:lnTo>
                            <a:lnTo>
                              <a:pt x="175" y="130"/>
                            </a:lnTo>
                            <a:lnTo>
                              <a:pt x="212" y="139"/>
                            </a:lnTo>
                            <a:lnTo>
                              <a:pt x="145" y="128"/>
                            </a:lnTo>
                            <a:lnTo>
                              <a:pt x="106" y="109"/>
                            </a:lnTo>
                            <a:lnTo>
                              <a:pt x="63" y="111"/>
                            </a:lnTo>
                            <a:lnTo>
                              <a:pt x="25" y="115"/>
                            </a:lnTo>
                            <a:lnTo>
                              <a:pt x="4" y="126"/>
                            </a:lnTo>
                            <a:lnTo>
                              <a:pt x="0" y="149"/>
                            </a:lnTo>
                            <a:close/>
                          </a:path>
                        </a:pathLst>
                      </a:custGeom>
                      <a:solidFill>
                        <a:srgbClr val="603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6840" bIns="68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58" name=""/>
                      <p:cNvSpPr/>
                      <p:nvPr/>
                    </p:nvSpPr>
                    <p:spPr>
                      <a:xfrm flipH="1">
                        <a:off x="2936880" y="4993200"/>
                        <a:ext cx="7560" cy="29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6" h="144">
                            <a:moveTo>
                              <a:pt x="8" y="0"/>
                            </a:moveTo>
                            <a:lnTo>
                              <a:pt x="19" y="32"/>
                            </a:lnTo>
                            <a:lnTo>
                              <a:pt x="36" y="48"/>
                            </a:lnTo>
                            <a:lnTo>
                              <a:pt x="30" y="87"/>
                            </a:lnTo>
                            <a:lnTo>
                              <a:pt x="21" y="144"/>
                            </a:lnTo>
                            <a:lnTo>
                              <a:pt x="2" y="125"/>
                            </a:lnTo>
                            <a:lnTo>
                              <a:pt x="0" y="81"/>
                            </a:lnTo>
                            <a:lnTo>
                              <a:pt x="11" y="103"/>
                            </a:lnTo>
                            <a:lnTo>
                              <a:pt x="0" y="62"/>
                            </a:lnTo>
                            <a:lnTo>
                              <a:pt x="0" y="41"/>
                            </a:lnTo>
                            <a:lnTo>
                              <a:pt x="13" y="62"/>
                            </a:lnTo>
                            <a:lnTo>
                              <a:pt x="5" y="29"/>
                            </a:lnTo>
                            <a:lnTo>
                              <a:pt x="8" y="0"/>
                            </a:lnTo>
                            <a:close/>
                          </a:path>
                        </a:pathLst>
                      </a:custGeom>
                      <a:solidFill>
                        <a:srgbClr val="603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7640" bIns="-176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759" name=""/>
                  <p:cNvGrpSpPr/>
                  <p:nvPr/>
                </p:nvGrpSpPr>
                <p:grpSpPr>
                  <a:xfrm>
                    <a:off x="2958840" y="5214960"/>
                    <a:ext cx="45720" cy="73800"/>
                    <a:chOff x="2958840" y="5214960"/>
                    <a:chExt cx="45720" cy="73800"/>
                  </a:xfrm>
                </p:grpSpPr>
                <p:sp>
                  <p:nvSpPr>
                    <p:cNvPr id="760" name=""/>
                    <p:cNvSpPr/>
                    <p:nvPr/>
                  </p:nvSpPr>
                  <p:spPr>
                    <a:xfrm flipH="1">
                      <a:off x="2958480" y="5214960"/>
                      <a:ext cx="45720" cy="73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5" h="350">
                          <a:moveTo>
                            <a:pt x="115" y="350"/>
                          </a:moveTo>
                          <a:lnTo>
                            <a:pt x="84" y="339"/>
                          </a:lnTo>
                          <a:lnTo>
                            <a:pt x="59" y="328"/>
                          </a:lnTo>
                          <a:lnTo>
                            <a:pt x="41" y="308"/>
                          </a:lnTo>
                          <a:lnTo>
                            <a:pt x="31" y="277"/>
                          </a:lnTo>
                          <a:lnTo>
                            <a:pt x="15" y="265"/>
                          </a:lnTo>
                          <a:lnTo>
                            <a:pt x="5" y="237"/>
                          </a:lnTo>
                          <a:lnTo>
                            <a:pt x="19" y="210"/>
                          </a:lnTo>
                          <a:lnTo>
                            <a:pt x="0" y="185"/>
                          </a:lnTo>
                          <a:lnTo>
                            <a:pt x="0" y="145"/>
                          </a:lnTo>
                          <a:lnTo>
                            <a:pt x="25" y="122"/>
                          </a:lnTo>
                          <a:lnTo>
                            <a:pt x="25" y="100"/>
                          </a:lnTo>
                          <a:lnTo>
                            <a:pt x="30" y="84"/>
                          </a:lnTo>
                          <a:lnTo>
                            <a:pt x="49" y="69"/>
                          </a:lnTo>
                          <a:lnTo>
                            <a:pt x="73" y="63"/>
                          </a:lnTo>
                          <a:lnTo>
                            <a:pt x="101" y="75"/>
                          </a:lnTo>
                          <a:lnTo>
                            <a:pt x="103" y="46"/>
                          </a:lnTo>
                          <a:lnTo>
                            <a:pt x="109" y="24"/>
                          </a:lnTo>
                          <a:lnTo>
                            <a:pt x="117" y="10"/>
                          </a:lnTo>
                          <a:lnTo>
                            <a:pt x="134" y="3"/>
                          </a:lnTo>
                          <a:lnTo>
                            <a:pt x="148" y="0"/>
                          </a:lnTo>
                          <a:lnTo>
                            <a:pt x="164" y="10"/>
                          </a:lnTo>
                          <a:lnTo>
                            <a:pt x="156" y="37"/>
                          </a:lnTo>
                          <a:lnTo>
                            <a:pt x="157" y="58"/>
                          </a:lnTo>
                          <a:lnTo>
                            <a:pt x="158" y="78"/>
                          </a:lnTo>
                          <a:lnTo>
                            <a:pt x="168" y="96"/>
                          </a:lnTo>
                          <a:lnTo>
                            <a:pt x="181" y="108"/>
                          </a:lnTo>
                          <a:lnTo>
                            <a:pt x="199" y="128"/>
                          </a:lnTo>
                          <a:lnTo>
                            <a:pt x="211" y="155"/>
                          </a:lnTo>
                          <a:lnTo>
                            <a:pt x="215" y="188"/>
                          </a:lnTo>
                          <a:lnTo>
                            <a:pt x="211" y="215"/>
                          </a:lnTo>
                          <a:lnTo>
                            <a:pt x="203" y="239"/>
                          </a:lnTo>
                          <a:lnTo>
                            <a:pt x="190" y="256"/>
                          </a:lnTo>
                          <a:lnTo>
                            <a:pt x="193" y="286"/>
                          </a:lnTo>
                          <a:lnTo>
                            <a:pt x="191" y="314"/>
                          </a:lnTo>
                          <a:lnTo>
                            <a:pt x="185" y="334"/>
                          </a:lnTo>
                          <a:lnTo>
                            <a:pt x="169" y="347"/>
                          </a:lnTo>
                          <a:lnTo>
                            <a:pt x="141" y="350"/>
                          </a:lnTo>
                          <a:lnTo>
                            <a:pt x="115" y="350"/>
                          </a:lnTo>
                          <a:close/>
                        </a:path>
                      </a:pathLst>
                    </a:custGeom>
                    <a:solidFill>
                      <a:srgbClr val="ffc080"/>
                    </a:solidFill>
                    <a:ln w="3240">
                      <a:solidFill>
                        <a:srgbClr val="402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7000" bIns="27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61" name=""/>
                    <p:cNvSpPr/>
                    <p:nvPr/>
                  </p:nvSpPr>
                  <p:spPr>
                    <a:xfrm flipH="1">
                      <a:off x="2981520" y="5234040"/>
                      <a:ext cx="11160" cy="49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5" h="235">
                          <a:moveTo>
                            <a:pt x="46" y="2"/>
                          </a:moveTo>
                          <a:lnTo>
                            <a:pt x="25" y="0"/>
                          </a:lnTo>
                          <a:lnTo>
                            <a:pt x="36" y="8"/>
                          </a:lnTo>
                          <a:lnTo>
                            <a:pt x="40" y="23"/>
                          </a:lnTo>
                          <a:lnTo>
                            <a:pt x="36" y="37"/>
                          </a:lnTo>
                          <a:lnTo>
                            <a:pt x="29" y="49"/>
                          </a:lnTo>
                          <a:lnTo>
                            <a:pt x="8" y="51"/>
                          </a:lnTo>
                          <a:lnTo>
                            <a:pt x="11" y="56"/>
                          </a:lnTo>
                          <a:lnTo>
                            <a:pt x="16" y="70"/>
                          </a:lnTo>
                          <a:lnTo>
                            <a:pt x="17" y="93"/>
                          </a:lnTo>
                          <a:lnTo>
                            <a:pt x="16" y="104"/>
                          </a:lnTo>
                          <a:lnTo>
                            <a:pt x="0" y="112"/>
                          </a:lnTo>
                          <a:lnTo>
                            <a:pt x="8" y="119"/>
                          </a:lnTo>
                          <a:lnTo>
                            <a:pt x="16" y="131"/>
                          </a:lnTo>
                          <a:lnTo>
                            <a:pt x="17" y="150"/>
                          </a:lnTo>
                          <a:lnTo>
                            <a:pt x="17" y="162"/>
                          </a:lnTo>
                          <a:lnTo>
                            <a:pt x="9" y="175"/>
                          </a:lnTo>
                          <a:lnTo>
                            <a:pt x="25" y="178"/>
                          </a:lnTo>
                          <a:lnTo>
                            <a:pt x="42" y="180"/>
                          </a:lnTo>
                          <a:lnTo>
                            <a:pt x="51" y="186"/>
                          </a:lnTo>
                          <a:lnTo>
                            <a:pt x="51" y="199"/>
                          </a:lnTo>
                          <a:lnTo>
                            <a:pt x="48" y="213"/>
                          </a:lnTo>
                          <a:lnTo>
                            <a:pt x="34" y="222"/>
                          </a:lnTo>
                          <a:lnTo>
                            <a:pt x="29" y="228"/>
                          </a:lnTo>
                          <a:lnTo>
                            <a:pt x="31" y="233"/>
                          </a:lnTo>
                          <a:lnTo>
                            <a:pt x="41" y="235"/>
                          </a:lnTo>
                          <a:lnTo>
                            <a:pt x="37" y="227"/>
                          </a:lnTo>
                          <a:lnTo>
                            <a:pt x="53" y="215"/>
                          </a:lnTo>
                          <a:lnTo>
                            <a:pt x="55" y="201"/>
                          </a:lnTo>
                          <a:lnTo>
                            <a:pt x="55" y="185"/>
                          </a:lnTo>
                          <a:lnTo>
                            <a:pt x="49" y="178"/>
                          </a:lnTo>
                          <a:lnTo>
                            <a:pt x="37" y="174"/>
                          </a:lnTo>
                          <a:lnTo>
                            <a:pt x="19" y="172"/>
                          </a:lnTo>
                          <a:lnTo>
                            <a:pt x="23" y="159"/>
                          </a:lnTo>
                          <a:lnTo>
                            <a:pt x="23" y="142"/>
                          </a:lnTo>
                          <a:lnTo>
                            <a:pt x="21" y="129"/>
                          </a:lnTo>
                          <a:lnTo>
                            <a:pt x="16" y="123"/>
                          </a:lnTo>
                          <a:lnTo>
                            <a:pt x="9" y="112"/>
                          </a:lnTo>
                          <a:lnTo>
                            <a:pt x="19" y="107"/>
                          </a:lnTo>
                          <a:lnTo>
                            <a:pt x="23" y="94"/>
                          </a:lnTo>
                          <a:lnTo>
                            <a:pt x="23" y="75"/>
                          </a:lnTo>
                          <a:lnTo>
                            <a:pt x="19" y="62"/>
                          </a:lnTo>
                          <a:lnTo>
                            <a:pt x="15" y="52"/>
                          </a:lnTo>
                          <a:lnTo>
                            <a:pt x="31" y="55"/>
                          </a:lnTo>
                          <a:lnTo>
                            <a:pt x="41" y="41"/>
                          </a:lnTo>
                          <a:lnTo>
                            <a:pt x="46" y="20"/>
                          </a:lnTo>
                          <a:lnTo>
                            <a:pt x="46" y="2"/>
                          </a:lnTo>
                          <a:close/>
                        </a:path>
                      </a:pathLst>
                    </a:custGeom>
                    <a:solidFill>
                      <a:srgbClr val="402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520" bIns="2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62" name=""/>
                    <p:cNvSpPr/>
                    <p:nvPr/>
                  </p:nvSpPr>
                  <p:spPr>
                    <a:xfrm flipH="1">
                      <a:off x="2990880" y="5235120"/>
                      <a:ext cx="3600" cy="6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" h="33">
                          <a:moveTo>
                            <a:pt x="14" y="0"/>
                          </a:moveTo>
                          <a:lnTo>
                            <a:pt x="4" y="7"/>
                          </a:lnTo>
                          <a:lnTo>
                            <a:pt x="0" y="21"/>
                          </a:lnTo>
                          <a:lnTo>
                            <a:pt x="5" y="33"/>
                          </a:lnTo>
                          <a:lnTo>
                            <a:pt x="5" y="19"/>
                          </a:lnTo>
                          <a:lnTo>
                            <a:pt x="14" y="0"/>
                          </a:lnTo>
                          <a:close/>
                        </a:path>
                      </a:pathLst>
                    </a:custGeom>
                    <a:solidFill>
                      <a:srgbClr val="402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680" bIns="-40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63" name=""/>
                    <p:cNvSpPr/>
                    <p:nvPr/>
                  </p:nvSpPr>
                  <p:spPr>
                    <a:xfrm flipH="1">
                      <a:off x="2991600" y="5246640"/>
                      <a:ext cx="2520" cy="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" h="43">
                          <a:moveTo>
                            <a:pt x="2" y="0"/>
                          </a:moveTo>
                          <a:lnTo>
                            <a:pt x="6" y="6"/>
                          </a:lnTo>
                          <a:lnTo>
                            <a:pt x="8" y="16"/>
                          </a:lnTo>
                          <a:lnTo>
                            <a:pt x="8" y="30"/>
                          </a:lnTo>
                          <a:lnTo>
                            <a:pt x="0" y="43"/>
                          </a:lnTo>
                          <a:lnTo>
                            <a:pt x="8" y="34"/>
                          </a:lnTo>
                          <a:lnTo>
                            <a:pt x="12" y="24"/>
                          </a:lnTo>
                          <a:lnTo>
                            <a:pt x="12" y="13"/>
                          </a:lnTo>
                          <a:lnTo>
                            <a:pt x="2" y="0"/>
                          </a:lnTo>
                          <a:close/>
                        </a:path>
                      </a:pathLst>
                    </a:custGeom>
                    <a:solidFill>
                      <a:srgbClr val="402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160" bIns="-38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64" name=""/>
                    <p:cNvSpPr/>
                    <p:nvPr/>
                  </p:nvSpPr>
                  <p:spPr>
                    <a:xfrm flipH="1">
                      <a:off x="2992320" y="5259600"/>
                      <a:ext cx="5040" cy="10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5" h="45">
                          <a:moveTo>
                            <a:pt x="0" y="10"/>
                          </a:moveTo>
                          <a:lnTo>
                            <a:pt x="12" y="5"/>
                          </a:lnTo>
                          <a:lnTo>
                            <a:pt x="18" y="13"/>
                          </a:lnTo>
                          <a:lnTo>
                            <a:pt x="21" y="26"/>
                          </a:lnTo>
                          <a:lnTo>
                            <a:pt x="19" y="45"/>
                          </a:lnTo>
                          <a:lnTo>
                            <a:pt x="25" y="29"/>
                          </a:lnTo>
                          <a:lnTo>
                            <a:pt x="25" y="16"/>
                          </a:lnTo>
                          <a:lnTo>
                            <a:pt x="16" y="4"/>
                          </a:lnTo>
                          <a:lnTo>
                            <a:pt x="12" y="0"/>
                          </a:lnTo>
                          <a:lnTo>
                            <a:pt x="0" y="10"/>
                          </a:lnTo>
                          <a:close/>
                        </a:path>
                      </a:pathLst>
                    </a:custGeom>
                    <a:solidFill>
                      <a:srgbClr val="402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6720" bIns="-36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65" name=""/>
                    <p:cNvSpPr/>
                    <p:nvPr/>
                  </p:nvSpPr>
                  <p:spPr>
                    <a:xfrm flipH="1">
                      <a:off x="2984760" y="5273280"/>
                      <a:ext cx="3600" cy="5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27">
                          <a:moveTo>
                            <a:pt x="0" y="0"/>
                          </a:moveTo>
                          <a:lnTo>
                            <a:pt x="6" y="4"/>
                          </a:lnTo>
                          <a:lnTo>
                            <a:pt x="12" y="9"/>
                          </a:lnTo>
                          <a:lnTo>
                            <a:pt x="12" y="19"/>
                          </a:lnTo>
                          <a:lnTo>
                            <a:pt x="8" y="27"/>
                          </a:lnTo>
                          <a:lnTo>
                            <a:pt x="17" y="22"/>
                          </a:lnTo>
                          <a:lnTo>
                            <a:pt x="17" y="11"/>
                          </a:lnTo>
                          <a:lnTo>
                            <a:pt x="12" y="0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402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760" bIns="-41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66" name=""/>
                    <p:cNvSpPr/>
                    <p:nvPr/>
                  </p:nvSpPr>
                  <p:spPr>
                    <a:xfrm flipH="1">
                      <a:off x="2997360" y="5248080"/>
                      <a:ext cx="2160" cy="7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36">
                          <a:moveTo>
                            <a:pt x="9" y="0"/>
                          </a:moveTo>
                          <a:lnTo>
                            <a:pt x="3" y="5"/>
                          </a:lnTo>
                          <a:lnTo>
                            <a:pt x="0" y="21"/>
                          </a:lnTo>
                          <a:lnTo>
                            <a:pt x="7" y="36"/>
                          </a:lnTo>
                          <a:lnTo>
                            <a:pt x="3" y="18"/>
                          </a:lnTo>
                          <a:lnTo>
                            <a:pt x="9" y="0"/>
                          </a:lnTo>
                          <a:close/>
                        </a:path>
                      </a:pathLst>
                    </a:custGeom>
                    <a:solidFill>
                      <a:srgbClr val="402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240" bIns="-39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67" name=""/>
                    <p:cNvSpPr/>
                    <p:nvPr/>
                  </p:nvSpPr>
                  <p:spPr>
                    <a:xfrm flipH="1">
                      <a:off x="2995920" y="5263200"/>
                      <a:ext cx="3600" cy="7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9" h="33">
                          <a:moveTo>
                            <a:pt x="6" y="0"/>
                          </a:moveTo>
                          <a:lnTo>
                            <a:pt x="0" y="6"/>
                          </a:lnTo>
                          <a:lnTo>
                            <a:pt x="9" y="30"/>
                          </a:lnTo>
                          <a:lnTo>
                            <a:pt x="19" y="33"/>
                          </a:lnTo>
                          <a:lnTo>
                            <a:pt x="11" y="25"/>
                          </a:lnTo>
                          <a:lnTo>
                            <a:pt x="6" y="0"/>
                          </a:lnTo>
                          <a:close/>
                        </a:path>
                      </a:pathLst>
                    </a:custGeom>
                    <a:solidFill>
                      <a:srgbClr val="402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600" bIns="-39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68" name=""/>
                    <p:cNvSpPr/>
                    <p:nvPr/>
                  </p:nvSpPr>
                  <p:spPr>
                    <a:xfrm flipH="1">
                      <a:off x="2989080" y="5274720"/>
                      <a:ext cx="2520" cy="4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" h="29">
                          <a:moveTo>
                            <a:pt x="7" y="0"/>
                          </a:moveTo>
                          <a:lnTo>
                            <a:pt x="0" y="7"/>
                          </a:lnTo>
                          <a:lnTo>
                            <a:pt x="6" y="29"/>
                          </a:lnTo>
                          <a:lnTo>
                            <a:pt x="13" y="29"/>
                          </a:lnTo>
                          <a:lnTo>
                            <a:pt x="7" y="24"/>
                          </a:lnTo>
                          <a:lnTo>
                            <a:pt x="7" y="0"/>
                          </a:lnTo>
                          <a:close/>
                        </a:path>
                      </a:pathLst>
                    </a:custGeom>
                    <a:solidFill>
                      <a:srgbClr val="402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120" bIns="-42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69" name=""/>
                    <p:cNvSpPr/>
                    <p:nvPr/>
                  </p:nvSpPr>
                  <p:spPr>
                    <a:xfrm flipH="1">
                      <a:off x="2968920" y="5246640"/>
                      <a:ext cx="12600" cy="21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2" h="98">
                          <a:moveTo>
                            <a:pt x="0" y="0"/>
                          </a:moveTo>
                          <a:lnTo>
                            <a:pt x="7" y="41"/>
                          </a:lnTo>
                          <a:lnTo>
                            <a:pt x="19" y="62"/>
                          </a:lnTo>
                          <a:lnTo>
                            <a:pt x="35" y="79"/>
                          </a:lnTo>
                          <a:lnTo>
                            <a:pt x="62" y="98"/>
                          </a:lnTo>
                          <a:lnTo>
                            <a:pt x="29" y="85"/>
                          </a:lnTo>
                          <a:lnTo>
                            <a:pt x="6" y="57"/>
                          </a:lnTo>
                          <a:lnTo>
                            <a:pt x="2" y="38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402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200" bIns="-25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70" name=""/>
                    <p:cNvSpPr/>
                    <p:nvPr/>
                  </p:nvSpPr>
                  <p:spPr>
                    <a:xfrm flipH="1">
                      <a:off x="2972880" y="5230080"/>
                      <a:ext cx="11520" cy="12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2" h="60">
                          <a:moveTo>
                            <a:pt x="0" y="0"/>
                          </a:moveTo>
                          <a:lnTo>
                            <a:pt x="8" y="2"/>
                          </a:lnTo>
                          <a:lnTo>
                            <a:pt x="13" y="23"/>
                          </a:lnTo>
                          <a:lnTo>
                            <a:pt x="22" y="30"/>
                          </a:lnTo>
                          <a:lnTo>
                            <a:pt x="25" y="41"/>
                          </a:lnTo>
                          <a:lnTo>
                            <a:pt x="52" y="60"/>
                          </a:lnTo>
                          <a:lnTo>
                            <a:pt x="31" y="49"/>
                          </a:lnTo>
                          <a:lnTo>
                            <a:pt x="22" y="45"/>
                          </a:lnTo>
                          <a:lnTo>
                            <a:pt x="6" y="53"/>
                          </a:lnTo>
                          <a:lnTo>
                            <a:pt x="16" y="43"/>
                          </a:lnTo>
                          <a:lnTo>
                            <a:pt x="16" y="32"/>
                          </a:lnTo>
                          <a:lnTo>
                            <a:pt x="8" y="19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402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4200" bIns="-34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71" name=""/>
                    <p:cNvSpPr/>
                    <p:nvPr/>
                  </p:nvSpPr>
                  <p:spPr>
                    <a:xfrm flipH="1">
                      <a:off x="2986560" y="5235120"/>
                      <a:ext cx="2520" cy="7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" h="34">
                          <a:moveTo>
                            <a:pt x="6" y="0"/>
                          </a:moveTo>
                          <a:lnTo>
                            <a:pt x="10" y="11"/>
                          </a:lnTo>
                          <a:lnTo>
                            <a:pt x="9" y="23"/>
                          </a:lnTo>
                          <a:lnTo>
                            <a:pt x="0" y="34"/>
                          </a:lnTo>
                          <a:lnTo>
                            <a:pt x="9" y="28"/>
                          </a:lnTo>
                          <a:lnTo>
                            <a:pt x="14" y="16"/>
                          </a:lnTo>
                          <a:lnTo>
                            <a:pt x="6" y="0"/>
                          </a:lnTo>
                          <a:close/>
                        </a:path>
                      </a:pathLst>
                    </a:custGeom>
                    <a:solidFill>
                      <a:srgbClr val="402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600" bIns="-39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772" name=""/>
                  <p:cNvGrpSpPr/>
                  <p:nvPr/>
                </p:nvGrpSpPr>
                <p:grpSpPr>
                  <a:xfrm>
                    <a:off x="2796480" y="5245560"/>
                    <a:ext cx="135720" cy="144000"/>
                    <a:chOff x="2796480" y="5245560"/>
                    <a:chExt cx="135720" cy="144000"/>
                  </a:xfrm>
                </p:grpSpPr>
                <p:grpSp>
                  <p:nvGrpSpPr>
                    <p:cNvPr id="773" name=""/>
                    <p:cNvGrpSpPr/>
                    <p:nvPr/>
                  </p:nvGrpSpPr>
                  <p:grpSpPr>
                    <a:xfrm>
                      <a:off x="2837160" y="5245560"/>
                      <a:ext cx="83520" cy="138240"/>
                      <a:chOff x="2837160" y="5245560"/>
                      <a:chExt cx="83520" cy="138240"/>
                    </a:xfrm>
                  </p:grpSpPr>
                  <p:sp>
                    <p:nvSpPr>
                      <p:cNvPr id="774" name=""/>
                      <p:cNvSpPr/>
                      <p:nvPr/>
                    </p:nvSpPr>
                    <p:spPr>
                      <a:xfrm flipH="1">
                        <a:off x="2854800" y="5247000"/>
                        <a:ext cx="47880" cy="134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31" h="640">
                            <a:moveTo>
                              <a:pt x="231" y="494"/>
                            </a:moveTo>
                            <a:lnTo>
                              <a:pt x="183" y="0"/>
                            </a:lnTo>
                            <a:lnTo>
                              <a:pt x="0" y="216"/>
                            </a:lnTo>
                            <a:lnTo>
                              <a:pt x="15" y="640"/>
                            </a:lnTo>
                            <a:lnTo>
                              <a:pt x="231" y="494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324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75" name=""/>
                      <p:cNvSpPr/>
                      <p:nvPr/>
                    </p:nvSpPr>
                    <p:spPr>
                      <a:xfrm flipH="1">
                        <a:off x="2899080" y="5245560"/>
                        <a:ext cx="14040" cy="134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2" h="636">
                            <a:moveTo>
                              <a:pt x="0" y="437"/>
                            </a:moveTo>
                            <a:lnTo>
                              <a:pt x="1" y="0"/>
                            </a:lnTo>
                            <a:lnTo>
                              <a:pt x="48" y="224"/>
                            </a:lnTo>
                            <a:lnTo>
                              <a:pt x="62" y="636"/>
                            </a:lnTo>
                            <a:lnTo>
                              <a:pt x="0" y="437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324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76" name=""/>
                      <p:cNvSpPr/>
                      <p:nvPr/>
                    </p:nvSpPr>
                    <p:spPr>
                      <a:xfrm flipH="1">
                        <a:off x="2846880" y="5253120"/>
                        <a:ext cx="55800" cy="129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67" h="613">
                            <a:moveTo>
                              <a:pt x="267" y="470"/>
                            </a:moveTo>
                            <a:lnTo>
                              <a:pt x="225" y="0"/>
                            </a:lnTo>
                            <a:lnTo>
                              <a:pt x="0" y="187"/>
                            </a:lnTo>
                            <a:lnTo>
                              <a:pt x="17" y="613"/>
                            </a:lnTo>
                            <a:lnTo>
                              <a:pt x="267" y="470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324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77" name=""/>
                      <p:cNvSpPr/>
                      <p:nvPr/>
                    </p:nvSpPr>
                    <p:spPr>
                      <a:xfrm flipH="1">
                        <a:off x="2841840" y="5257080"/>
                        <a:ext cx="60840" cy="124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87" h="585">
                            <a:moveTo>
                              <a:pt x="287" y="460"/>
                            </a:moveTo>
                            <a:lnTo>
                              <a:pt x="267" y="0"/>
                            </a:lnTo>
                            <a:lnTo>
                              <a:pt x="0" y="168"/>
                            </a:lnTo>
                            <a:lnTo>
                              <a:pt x="16" y="585"/>
                            </a:lnTo>
                            <a:lnTo>
                              <a:pt x="287" y="460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324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78" name=""/>
                      <p:cNvSpPr/>
                      <p:nvPr/>
                    </p:nvSpPr>
                    <p:spPr>
                      <a:xfrm flipH="1">
                        <a:off x="2836800" y="5263200"/>
                        <a:ext cx="65880" cy="119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10" h="569">
                            <a:moveTo>
                              <a:pt x="306" y="0"/>
                            </a:moveTo>
                            <a:lnTo>
                              <a:pt x="0" y="143"/>
                            </a:lnTo>
                            <a:lnTo>
                              <a:pt x="12" y="569"/>
                            </a:lnTo>
                            <a:lnTo>
                              <a:pt x="310" y="438"/>
                            </a:lnTo>
                            <a:lnTo>
                              <a:pt x="306" y="0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324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79" name=""/>
                      <p:cNvSpPr/>
                      <p:nvPr/>
                    </p:nvSpPr>
                    <p:spPr>
                      <a:xfrm flipH="1">
                        <a:off x="2900520" y="5248080"/>
                        <a:ext cx="20160" cy="135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6" h="642">
                            <a:moveTo>
                              <a:pt x="0" y="0"/>
                            </a:moveTo>
                            <a:lnTo>
                              <a:pt x="17" y="423"/>
                            </a:lnTo>
                            <a:lnTo>
                              <a:pt x="96" y="642"/>
                            </a:lnTo>
                            <a:lnTo>
                              <a:pt x="81" y="207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324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780" name=""/>
                    <p:cNvGrpSpPr/>
                    <p:nvPr/>
                  </p:nvGrpSpPr>
                  <p:grpSpPr>
                    <a:xfrm>
                      <a:off x="2809080" y="5294880"/>
                      <a:ext cx="41760" cy="18720"/>
                      <a:chOff x="2809080" y="5294880"/>
                      <a:chExt cx="41760" cy="18720"/>
                    </a:xfrm>
                  </p:grpSpPr>
                  <p:sp>
                    <p:nvSpPr>
                      <p:cNvPr id="781" name=""/>
                      <p:cNvSpPr/>
                      <p:nvPr/>
                    </p:nvSpPr>
                    <p:spPr>
                      <a:xfrm flipH="1">
                        <a:off x="2809080" y="5294880"/>
                        <a:ext cx="41760" cy="18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95" h="90">
                            <a:moveTo>
                              <a:pt x="15" y="0"/>
                            </a:moveTo>
                            <a:lnTo>
                              <a:pt x="58" y="10"/>
                            </a:lnTo>
                            <a:lnTo>
                              <a:pt x="87" y="22"/>
                            </a:lnTo>
                            <a:lnTo>
                              <a:pt x="119" y="19"/>
                            </a:lnTo>
                            <a:lnTo>
                              <a:pt x="136" y="19"/>
                            </a:lnTo>
                            <a:lnTo>
                              <a:pt x="161" y="25"/>
                            </a:lnTo>
                            <a:lnTo>
                              <a:pt x="179" y="34"/>
                            </a:lnTo>
                            <a:lnTo>
                              <a:pt x="195" y="34"/>
                            </a:lnTo>
                            <a:lnTo>
                              <a:pt x="184" y="49"/>
                            </a:lnTo>
                            <a:lnTo>
                              <a:pt x="162" y="54"/>
                            </a:lnTo>
                            <a:lnTo>
                              <a:pt x="151" y="61"/>
                            </a:lnTo>
                            <a:lnTo>
                              <a:pt x="133" y="80"/>
                            </a:lnTo>
                            <a:lnTo>
                              <a:pt x="104" y="90"/>
                            </a:lnTo>
                            <a:lnTo>
                              <a:pt x="92" y="74"/>
                            </a:lnTo>
                            <a:lnTo>
                              <a:pt x="78" y="67"/>
                            </a:lnTo>
                            <a:lnTo>
                              <a:pt x="61" y="64"/>
                            </a:lnTo>
                            <a:lnTo>
                              <a:pt x="29" y="54"/>
                            </a:lnTo>
                            <a:lnTo>
                              <a:pt x="3" y="34"/>
                            </a:lnTo>
                            <a:lnTo>
                              <a:pt x="0" y="19"/>
                            </a:lnTo>
                            <a:lnTo>
                              <a:pt x="5" y="7"/>
                            </a:lnTo>
                            <a:lnTo>
                              <a:pt x="15" y="0"/>
                            </a:lnTo>
                            <a:close/>
                          </a:path>
                        </a:pathLst>
                      </a:custGeom>
                      <a:solidFill>
                        <a:srgbClr val="ffc080"/>
                      </a:solidFill>
                      <a:ln w="3240">
                        <a:solidFill>
                          <a:srgbClr val="402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8080" bIns="-280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82" name=""/>
                      <p:cNvSpPr/>
                      <p:nvPr/>
                    </p:nvSpPr>
                    <p:spPr>
                      <a:xfrm flipH="1">
                        <a:off x="2831040" y="5304600"/>
                        <a:ext cx="3600" cy="5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24">
                            <a:moveTo>
                              <a:pt x="0" y="16"/>
                            </a:moveTo>
                            <a:lnTo>
                              <a:pt x="0" y="3"/>
                            </a:lnTo>
                            <a:lnTo>
                              <a:pt x="0" y="0"/>
                            </a:lnTo>
                            <a:lnTo>
                              <a:pt x="17" y="24"/>
                            </a:lnTo>
                            <a:lnTo>
                              <a:pt x="0" y="16"/>
                            </a:lnTo>
                            <a:close/>
                          </a:path>
                        </a:pathLst>
                      </a:custGeom>
                      <a:solidFill>
                        <a:srgbClr val="402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760" bIns="-417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783" name=""/>
                    <p:cNvSpPr/>
                    <p:nvPr/>
                  </p:nvSpPr>
                  <p:spPr>
                    <a:xfrm flipH="1">
                      <a:off x="2827080" y="5268600"/>
                      <a:ext cx="74880" cy="119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56" h="567">
                          <a:moveTo>
                            <a:pt x="356" y="0"/>
                          </a:moveTo>
                          <a:lnTo>
                            <a:pt x="335" y="415"/>
                          </a:lnTo>
                          <a:lnTo>
                            <a:pt x="10" y="567"/>
                          </a:lnTo>
                          <a:lnTo>
                            <a:pt x="0" y="118"/>
                          </a:lnTo>
                          <a:lnTo>
                            <a:pt x="356" y="0"/>
                          </a:lnTo>
                          <a:close/>
                        </a:path>
                      </a:pathLst>
                    </a:custGeom>
                    <a:solidFill>
                      <a:srgbClr val="a05000"/>
                    </a:solidFill>
                    <a:ln w="32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784" name=""/>
                    <p:cNvGrpSpPr/>
                    <p:nvPr/>
                  </p:nvGrpSpPr>
                  <p:grpSpPr>
                    <a:xfrm>
                      <a:off x="2796480" y="5298840"/>
                      <a:ext cx="74880" cy="53640"/>
                      <a:chOff x="2796480" y="5298840"/>
                      <a:chExt cx="74880" cy="53640"/>
                    </a:xfrm>
                  </p:grpSpPr>
                  <p:sp>
                    <p:nvSpPr>
                      <p:cNvPr id="785" name=""/>
                      <p:cNvSpPr/>
                      <p:nvPr/>
                    </p:nvSpPr>
                    <p:spPr>
                      <a:xfrm flipH="1">
                        <a:off x="2796480" y="5298840"/>
                        <a:ext cx="74880" cy="53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54" h="254">
                            <a:moveTo>
                              <a:pt x="258" y="6"/>
                            </a:moveTo>
                            <a:lnTo>
                              <a:pt x="281" y="3"/>
                            </a:lnTo>
                            <a:lnTo>
                              <a:pt x="300" y="0"/>
                            </a:lnTo>
                            <a:lnTo>
                              <a:pt x="318" y="3"/>
                            </a:lnTo>
                            <a:lnTo>
                              <a:pt x="336" y="11"/>
                            </a:lnTo>
                            <a:lnTo>
                              <a:pt x="348" y="36"/>
                            </a:lnTo>
                            <a:lnTo>
                              <a:pt x="354" y="48"/>
                            </a:lnTo>
                            <a:lnTo>
                              <a:pt x="354" y="64"/>
                            </a:lnTo>
                            <a:lnTo>
                              <a:pt x="354" y="83"/>
                            </a:lnTo>
                            <a:lnTo>
                              <a:pt x="353" y="103"/>
                            </a:lnTo>
                            <a:lnTo>
                              <a:pt x="349" y="115"/>
                            </a:lnTo>
                            <a:lnTo>
                              <a:pt x="339" y="126"/>
                            </a:lnTo>
                            <a:lnTo>
                              <a:pt x="305" y="153"/>
                            </a:lnTo>
                            <a:lnTo>
                              <a:pt x="297" y="171"/>
                            </a:lnTo>
                            <a:lnTo>
                              <a:pt x="292" y="183"/>
                            </a:lnTo>
                            <a:lnTo>
                              <a:pt x="282" y="203"/>
                            </a:lnTo>
                            <a:lnTo>
                              <a:pt x="276" y="226"/>
                            </a:lnTo>
                            <a:lnTo>
                              <a:pt x="264" y="235"/>
                            </a:lnTo>
                            <a:lnTo>
                              <a:pt x="224" y="241"/>
                            </a:lnTo>
                            <a:lnTo>
                              <a:pt x="207" y="247"/>
                            </a:lnTo>
                            <a:lnTo>
                              <a:pt x="189" y="247"/>
                            </a:lnTo>
                            <a:lnTo>
                              <a:pt x="158" y="254"/>
                            </a:lnTo>
                            <a:lnTo>
                              <a:pt x="141" y="254"/>
                            </a:lnTo>
                            <a:lnTo>
                              <a:pt x="127" y="252"/>
                            </a:lnTo>
                            <a:lnTo>
                              <a:pt x="102" y="249"/>
                            </a:lnTo>
                            <a:lnTo>
                              <a:pt x="90" y="244"/>
                            </a:lnTo>
                            <a:lnTo>
                              <a:pt x="79" y="236"/>
                            </a:lnTo>
                            <a:lnTo>
                              <a:pt x="74" y="229"/>
                            </a:lnTo>
                            <a:lnTo>
                              <a:pt x="61" y="224"/>
                            </a:lnTo>
                            <a:lnTo>
                              <a:pt x="49" y="222"/>
                            </a:lnTo>
                            <a:lnTo>
                              <a:pt x="38" y="213"/>
                            </a:lnTo>
                            <a:lnTo>
                              <a:pt x="30" y="201"/>
                            </a:lnTo>
                            <a:lnTo>
                              <a:pt x="16" y="197"/>
                            </a:lnTo>
                            <a:lnTo>
                              <a:pt x="5" y="191"/>
                            </a:lnTo>
                            <a:lnTo>
                              <a:pt x="0" y="181"/>
                            </a:lnTo>
                            <a:lnTo>
                              <a:pt x="0" y="173"/>
                            </a:lnTo>
                            <a:lnTo>
                              <a:pt x="4" y="164"/>
                            </a:lnTo>
                            <a:lnTo>
                              <a:pt x="16" y="157"/>
                            </a:lnTo>
                            <a:lnTo>
                              <a:pt x="182" y="130"/>
                            </a:lnTo>
                            <a:lnTo>
                              <a:pt x="125" y="126"/>
                            </a:lnTo>
                            <a:lnTo>
                              <a:pt x="107" y="128"/>
                            </a:lnTo>
                            <a:lnTo>
                              <a:pt x="85" y="128"/>
                            </a:lnTo>
                            <a:lnTo>
                              <a:pt x="60" y="132"/>
                            </a:lnTo>
                            <a:lnTo>
                              <a:pt x="35" y="130"/>
                            </a:lnTo>
                            <a:lnTo>
                              <a:pt x="17" y="128"/>
                            </a:lnTo>
                            <a:lnTo>
                              <a:pt x="10" y="121"/>
                            </a:lnTo>
                            <a:lnTo>
                              <a:pt x="6" y="112"/>
                            </a:lnTo>
                            <a:lnTo>
                              <a:pt x="6" y="102"/>
                            </a:lnTo>
                            <a:lnTo>
                              <a:pt x="17" y="94"/>
                            </a:lnTo>
                            <a:lnTo>
                              <a:pt x="58" y="88"/>
                            </a:lnTo>
                            <a:lnTo>
                              <a:pt x="83" y="86"/>
                            </a:lnTo>
                            <a:lnTo>
                              <a:pt x="119" y="80"/>
                            </a:lnTo>
                            <a:lnTo>
                              <a:pt x="158" y="79"/>
                            </a:lnTo>
                            <a:lnTo>
                              <a:pt x="202" y="71"/>
                            </a:lnTo>
                            <a:lnTo>
                              <a:pt x="235" y="60"/>
                            </a:lnTo>
                            <a:lnTo>
                              <a:pt x="244" y="42"/>
                            </a:lnTo>
                            <a:lnTo>
                              <a:pt x="255" y="33"/>
                            </a:lnTo>
                            <a:lnTo>
                              <a:pt x="250" y="19"/>
                            </a:lnTo>
                            <a:lnTo>
                              <a:pt x="227" y="0"/>
                            </a:lnTo>
                            <a:lnTo>
                              <a:pt x="247" y="4"/>
                            </a:lnTo>
                            <a:lnTo>
                              <a:pt x="258" y="6"/>
                            </a:lnTo>
                            <a:close/>
                          </a:path>
                        </a:pathLst>
                      </a:custGeom>
                      <a:solidFill>
                        <a:srgbClr val="ffc080"/>
                      </a:solidFill>
                      <a:ln w="3240">
                        <a:solidFill>
                          <a:srgbClr val="402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6840" bIns="68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86" name=""/>
                      <p:cNvSpPr/>
                      <p:nvPr/>
                    </p:nvSpPr>
                    <p:spPr>
                      <a:xfrm flipH="1">
                        <a:off x="2859840" y="5320440"/>
                        <a:ext cx="2520" cy="5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5" h="24">
                            <a:moveTo>
                              <a:pt x="0" y="0"/>
                            </a:moveTo>
                            <a:lnTo>
                              <a:pt x="9" y="6"/>
                            </a:lnTo>
                            <a:lnTo>
                              <a:pt x="9" y="14"/>
                            </a:lnTo>
                            <a:lnTo>
                              <a:pt x="6" y="24"/>
                            </a:lnTo>
                            <a:lnTo>
                              <a:pt x="15" y="17"/>
                            </a:lnTo>
                            <a:lnTo>
                              <a:pt x="12" y="5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402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760" bIns="-417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87" name=""/>
                      <p:cNvSpPr/>
                      <p:nvPr/>
                    </p:nvSpPr>
                    <p:spPr>
                      <a:xfrm flipH="1">
                        <a:off x="2862360" y="5334480"/>
                        <a:ext cx="2520" cy="5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" h="25">
                            <a:moveTo>
                              <a:pt x="0" y="0"/>
                            </a:moveTo>
                            <a:lnTo>
                              <a:pt x="5" y="8"/>
                            </a:lnTo>
                            <a:lnTo>
                              <a:pt x="5" y="25"/>
                            </a:lnTo>
                            <a:lnTo>
                              <a:pt x="11" y="12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402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760" bIns="-417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88" name=""/>
                      <p:cNvSpPr/>
                      <p:nvPr/>
                    </p:nvSpPr>
                    <p:spPr>
                      <a:xfrm flipH="1">
                        <a:off x="2856240" y="5342040"/>
                        <a:ext cx="1440" cy="2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13">
                            <a:moveTo>
                              <a:pt x="0" y="0"/>
                            </a:moveTo>
                            <a:lnTo>
                              <a:pt x="6" y="8"/>
                            </a:lnTo>
                            <a:lnTo>
                              <a:pt x="1" y="13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402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4280" bIns="-442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89" name=""/>
                      <p:cNvSpPr/>
                      <p:nvPr/>
                    </p:nvSpPr>
                    <p:spPr>
                      <a:xfrm flipH="1">
                        <a:off x="2823120" y="5344560"/>
                        <a:ext cx="21600" cy="2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1" h="12">
                            <a:moveTo>
                              <a:pt x="0" y="7"/>
                            </a:moveTo>
                            <a:lnTo>
                              <a:pt x="27" y="7"/>
                            </a:lnTo>
                            <a:lnTo>
                              <a:pt x="67" y="0"/>
                            </a:lnTo>
                            <a:lnTo>
                              <a:pt x="101" y="2"/>
                            </a:lnTo>
                            <a:lnTo>
                              <a:pt x="61" y="7"/>
                            </a:lnTo>
                            <a:lnTo>
                              <a:pt x="27" y="12"/>
                            </a:lnTo>
                            <a:lnTo>
                              <a:pt x="0" y="7"/>
                            </a:lnTo>
                            <a:close/>
                          </a:path>
                        </a:pathLst>
                      </a:custGeom>
                      <a:solidFill>
                        <a:srgbClr val="402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4280" bIns="-442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90" name=""/>
                      <p:cNvSpPr/>
                      <p:nvPr/>
                    </p:nvSpPr>
                    <p:spPr>
                      <a:xfrm flipH="1">
                        <a:off x="2820600" y="5335560"/>
                        <a:ext cx="44280" cy="6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8" h="31">
                            <a:moveTo>
                              <a:pt x="3" y="31"/>
                            </a:moveTo>
                            <a:lnTo>
                              <a:pt x="0" y="23"/>
                            </a:lnTo>
                            <a:lnTo>
                              <a:pt x="28" y="23"/>
                            </a:lnTo>
                            <a:lnTo>
                              <a:pt x="55" y="17"/>
                            </a:lnTo>
                            <a:lnTo>
                              <a:pt x="91" y="15"/>
                            </a:lnTo>
                            <a:lnTo>
                              <a:pt x="120" y="9"/>
                            </a:lnTo>
                            <a:lnTo>
                              <a:pt x="162" y="6"/>
                            </a:lnTo>
                            <a:lnTo>
                              <a:pt x="189" y="0"/>
                            </a:lnTo>
                            <a:lnTo>
                              <a:pt x="208" y="9"/>
                            </a:lnTo>
                            <a:lnTo>
                              <a:pt x="178" y="9"/>
                            </a:lnTo>
                            <a:lnTo>
                              <a:pt x="150" y="9"/>
                            </a:lnTo>
                            <a:lnTo>
                              <a:pt x="117" y="13"/>
                            </a:lnTo>
                            <a:lnTo>
                              <a:pt x="101" y="19"/>
                            </a:lnTo>
                            <a:lnTo>
                              <a:pt x="84" y="20"/>
                            </a:lnTo>
                            <a:lnTo>
                              <a:pt x="67" y="20"/>
                            </a:lnTo>
                            <a:lnTo>
                              <a:pt x="54" y="20"/>
                            </a:lnTo>
                            <a:lnTo>
                              <a:pt x="38" y="24"/>
                            </a:lnTo>
                            <a:lnTo>
                              <a:pt x="3" y="31"/>
                            </a:lnTo>
                            <a:close/>
                          </a:path>
                        </a:pathLst>
                      </a:custGeom>
                      <a:solidFill>
                        <a:srgbClr val="402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0680" bIns="-406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91" name=""/>
                      <p:cNvSpPr/>
                      <p:nvPr/>
                    </p:nvSpPr>
                    <p:spPr>
                      <a:xfrm flipH="1">
                        <a:off x="2818080" y="5321880"/>
                        <a:ext cx="6120" cy="1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0" h="7">
                            <a:moveTo>
                              <a:pt x="30" y="0"/>
                            </a:moveTo>
                            <a:lnTo>
                              <a:pt x="18" y="5"/>
                            </a:lnTo>
                            <a:lnTo>
                              <a:pt x="0" y="7"/>
                            </a:lnTo>
                            <a:lnTo>
                              <a:pt x="15" y="2"/>
                            </a:lnTo>
                            <a:lnTo>
                              <a:pt x="30" y="0"/>
                            </a:lnTo>
                            <a:close/>
                          </a:path>
                        </a:pathLst>
                      </a:custGeom>
                      <a:solidFill>
                        <a:srgbClr val="402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720" bIns="-457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92" name=""/>
                      <p:cNvSpPr/>
                      <p:nvPr/>
                    </p:nvSpPr>
                    <p:spPr>
                      <a:xfrm flipH="1">
                        <a:off x="2804400" y="5308920"/>
                        <a:ext cx="5040" cy="7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3" h="34">
                            <a:moveTo>
                              <a:pt x="23" y="0"/>
                            </a:moveTo>
                            <a:lnTo>
                              <a:pt x="7" y="15"/>
                            </a:lnTo>
                            <a:lnTo>
                              <a:pt x="0" y="34"/>
                            </a:lnTo>
                            <a:lnTo>
                              <a:pt x="23" y="0"/>
                            </a:lnTo>
                            <a:close/>
                          </a:path>
                        </a:pathLst>
                      </a:custGeom>
                      <a:solidFill>
                        <a:srgbClr val="402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600" bIns="-396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93" name=""/>
                      <p:cNvSpPr/>
                      <p:nvPr/>
                    </p:nvSpPr>
                    <p:spPr>
                      <a:xfrm flipH="1">
                        <a:off x="2809440" y="5317920"/>
                        <a:ext cx="3600" cy="26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9" h="128">
                            <a:moveTo>
                              <a:pt x="6" y="128"/>
                            </a:moveTo>
                            <a:lnTo>
                              <a:pt x="6" y="110"/>
                            </a:lnTo>
                            <a:lnTo>
                              <a:pt x="16" y="79"/>
                            </a:lnTo>
                            <a:lnTo>
                              <a:pt x="16" y="61"/>
                            </a:lnTo>
                            <a:lnTo>
                              <a:pt x="9" y="47"/>
                            </a:lnTo>
                            <a:lnTo>
                              <a:pt x="19" y="25"/>
                            </a:lnTo>
                            <a:lnTo>
                              <a:pt x="13" y="0"/>
                            </a:lnTo>
                            <a:lnTo>
                              <a:pt x="13" y="14"/>
                            </a:lnTo>
                            <a:lnTo>
                              <a:pt x="9" y="30"/>
                            </a:lnTo>
                            <a:lnTo>
                              <a:pt x="4" y="46"/>
                            </a:lnTo>
                            <a:lnTo>
                              <a:pt x="8" y="52"/>
                            </a:lnTo>
                            <a:lnTo>
                              <a:pt x="13" y="69"/>
                            </a:lnTo>
                            <a:lnTo>
                              <a:pt x="8" y="89"/>
                            </a:lnTo>
                            <a:lnTo>
                              <a:pt x="0" y="96"/>
                            </a:lnTo>
                            <a:lnTo>
                              <a:pt x="6" y="128"/>
                            </a:lnTo>
                            <a:close/>
                          </a:path>
                        </a:pathLst>
                      </a:custGeom>
                      <a:solidFill>
                        <a:srgbClr val="402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0520" bIns="-205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94" name=""/>
                      <p:cNvSpPr/>
                      <p:nvPr/>
                    </p:nvSpPr>
                    <p:spPr>
                      <a:xfrm flipH="1">
                        <a:off x="2846160" y="5346000"/>
                        <a:ext cx="10080" cy="1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6" h="8">
                            <a:moveTo>
                              <a:pt x="0" y="3"/>
                            </a:moveTo>
                            <a:lnTo>
                              <a:pt x="8" y="8"/>
                            </a:lnTo>
                            <a:lnTo>
                              <a:pt x="22" y="7"/>
                            </a:lnTo>
                            <a:lnTo>
                              <a:pt x="46" y="3"/>
                            </a:lnTo>
                            <a:lnTo>
                              <a:pt x="26" y="0"/>
                            </a:lnTo>
                            <a:lnTo>
                              <a:pt x="0" y="3"/>
                            </a:lnTo>
                            <a:close/>
                          </a:path>
                        </a:pathLst>
                      </a:custGeom>
                      <a:solidFill>
                        <a:srgbClr val="402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720" bIns="-457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95" name=""/>
                      <p:cNvSpPr/>
                      <p:nvPr/>
                    </p:nvSpPr>
                    <p:spPr>
                      <a:xfrm flipH="1">
                        <a:off x="2848320" y="5348160"/>
                        <a:ext cx="1080" cy="2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" h="13">
                            <a:moveTo>
                              <a:pt x="0" y="0"/>
                            </a:moveTo>
                            <a:lnTo>
                              <a:pt x="7" y="6"/>
                            </a:lnTo>
                            <a:lnTo>
                              <a:pt x="5" y="13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402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4280" bIns="-442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796" name=""/>
                    <p:cNvSpPr/>
                    <p:nvPr/>
                  </p:nvSpPr>
                  <p:spPr>
                    <a:xfrm flipH="1">
                      <a:off x="2899080" y="5257080"/>
                      <a:ext cx="33120" cy="13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5" h="622">
                          <a:moveTo>
                            <a:pt x="143" y="166"/>
                          </a:moveTo>
                          <a:lnTo>
                            <a:pt x="155" y="622"/>
                          </a:lnTo>
                          <a:lnTo>
                            <a:pt x="41" y="371"/>
                          </a:lnTo>
                          <a:lnTo>
                            <a:pt x="0" y="0"/>
                          </a:lnTo>
                          <a:lnTo>
                            <a:pt x="143" y="166"/>
                          </a:lnTo>
                          <a:close/>
                        </a:path>
                      </a:pathLst>
                    </a:custGeom>
                    <a:solidFill>
                      <a:srgbClr val="c06000"/>
                    </a:solidFill>
                    <a:ln w="32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797" name=""/>
              <p:cNvGrpSpPr/>
              <p:nvPr/>
            </p:nvGrpSpPr>
            <p:grpSpPr>
              <a:xfrm>
                <a:off x="2863800" y="5174640"/>
                <a:ext cx="766440" cy="794160"/>
                <a:chOff x="2863800" y="5174640"/>
                <a:chExt cx="766440" cy="794160"/>
              </a:xfrm>
            </p:grpSpPr>
            <p:sp>
              <p:nvSpPr>
                <p:cNvPr id="798" name=""/>
                <p:cNvSpPr/>
                <p:nvPr/>
              </p:nvSpPr>
              <p:spPr>
                <a:xfrm flipH="1">
                  <a:off x="3358800" y="5522760"/>
                  <a:ext cx="271440" cy="442080"/>
                </a:xfrm>
                <a:custGeom>
                  <a:avLst/>
                  <a:gdLst/>
                  <a:ahLst/>
                  <a:rect l="l" t="t" r="r" b="b"/>
                  <a:pathLst>
                    <a:path w="1282" h="2088">
                      <a:moveTo>
                        <a:pt x="555" y="0"/>
                      </a:moveTo>
                      <a:lnTo>
                        <a:pt x="0" y="1743"/>
                      </a:lnTo>
                      <a:lnTo>
                        <a:pt x="1282" y="2088"/>
                      </a:lnTo>
                      <a:lnTo>
                        <a:pt x="1072" y="39"/>
                      </a:lnTo>
                    </a:path>
                  </a:pathLst>
                </a:custGeom>
                <a:noFill/>
                <a:ln w="158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9" name=""/>
                <p:cNvSpPr/>
                <p:nvPr/>
              </p:nvSpPr>
              <p:spPr>
                <a:xfrm flipH="1">
                  <a:off x="3134880" y="5496120"/>
                  <a:ext cx="230400" cy="345240"/>
                </a:xfrm>
                <a:custGeom>
                  <a:avLst/>
                  <a:gdLst/>
                  <a:ahLst/>
                  <a:rect l="l" t="t" r="r" b="b"/>
                  <a:pathLst>
                    <a:path w="1081" h="1628">
                      <a:moveTo>
                        <a:pt x="364" y="29"/>
                      </a:moveTo>
                      <a:lnTo>
                        <a:pt x="0" y="1484"/>
                      </a:lnTo>
                      <a:lnTo>
                        <a:pt x="1081" y="1628"/>
                      </a:lnTo>
                      <a:lnTo>
                        <a:pt x="804" y="0"/>
                      </a:lnTo>
                    </a:path>
                  </a:pathLst>
                </a:custGeom>
                <a:noFill/>
                <a:ln w="158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00" name=""/>
                <p:cNvGrpSpPr/>
                <p:nvPr/>
              </p:nvGrpSpPr>
              <p:grpSpPr>
                <a:xfrm>
                  <a:off x="2986560" y="5425560"/>
                  <a:ext cx="643680" cy="142560"/>
                  <a:chOff x="2986560" y="5425560"/>
                  <a:chExt cx="643680" cy="142560"/>
                </a:xfrm>
              </p:grpSpPr>
              <p:sp>
                <p:nvSpPr>
                  <p:cNvPr id="801" name=""/>
                  <p:cNvSpPr/>
                  <p:nvPr/>
                </p:nvSpPr>
                <p:spPr>
                  <a:xfrm flipH="1">
                    <a:off x="2986560" y="5425560"/>
                    <a:ext cx="643680" cy="122040"/>
                  </a:xfrm>
                  <a:custGeom>
                    <a:avLst/>
                    <a:gdLst/>
                    <a:ahLst/>
                    <a:rect l="l" t="t" r="r" b="b"/>
                    <a:pathLst>
                      <a:path w="3032" h="574">
                        <a:moveTo>
                          <a:pt x="0" y="297"/>
                        </a:moveTo>
                        <a:lnTo>
                          <a:pt x="1913" y="574"/>
                        </a:lnTo>
                        <a:lnTo>
                          <a:pt x="3032" y="143"/>
                        </a:lnTo>
                        <a:lnTo>
                          <a:pt x="1598" y="0"/>
                        </a:lnTo>
                        <a:lnTo>
                          <a:pt x="0" y="297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2" name=""/>
                  <p:cNvSpPr/>
                  <p:nvPr/>
                </p:nvSpPr>
                <p:spPr>
                  <a:xfrm flipH="1">
                    <a:off x="3225240" y="5488920"/>
                    <a:ext cx="403920" cy="78840"/>
                  </a:xfrm>
                  <a:custGeom>
                    <a:avLst/>
                    <a:gdLst/>
                    <a:ahLst/>
                    <a:rect l="l" t="t" r="r" b="b"/>
                    <a:pathLst>
                      <a:path w="1905" h="372">
                        <a:moveTo>
                          <a:pt x="0" y="0"/>
                        </a:moveTo>
                        <a:lnTo>
                          <a:pt x="1905" y="276"/>
                        </a:lnTo>
                        <a:lnTo>
                          <a:pt x="1905" y="372"/>
                        </a:lnTo>
                        <a:lnTo>
                          <a:pt x="0" y="97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e0e0e0"/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040" bIns="32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3" name=""/>
                  <p:cNvSpPr/>
                  <p:nvPr/>
                </p:nvSpPr>
                <p:spPr>
                  <a:xfrm flipH="1">
                    <a:off x="2986920" y="5456160"/>
                    <a:ext cx="23832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1119" h="527">
                        <a:moveTo>
                          <a:pt x="0" y="527"/>
                        </a:moveTo>
                        <a:lnTo>
                          <a:pt x="0" y="431"/>
                        </a:lnTo>
                        <a:lnTo>
                          <a:pt x="1119" y="0"/>
                        </a:lnTo>
                        <a:lnTo>
                          <a:pt x="1119" y="68"/>
                        </a:lnTo>
                        <a:lnTo>
                          <a:pt x="0" y="527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04" name=""/>
                <p:cNvGrpSpPr/>
                <p:nvPr/>
              </p:nvGrpSpPr>
              <p:grpSpPr>
                <a:xfrm>
                  <a:off x="2863800" y="5174640"/>
                  <a:ext cx="663480" cy="794160"/>
                  <a:chOff x="2863800" y="5174640"/>
                  <a:chExt cx="663480" cy="794160"/>
                </a:xfrm>
              </p:grpSpPr>
              <p:grpSp>
                <p:nvGrpSpPr>
                  <p:cNvPr id="805" name=""/>
                  <p:cNvGrpSpPr/>
                  <p:nvPr/>
                </p:nvGrpSpPr>
                <p:grpSpPr>
                  <a:xfrm>
                    <a:off x="3079440" y="5216760"/>
                    <a:ext cx="447840" cy="314280"/>
                    <a:chOff x="3079440" y="5216760"/>
                    <a:chExt cx="447840" cy="314280"/>
                  </a:xfrm>
                </p:grpSpPr>
                <p:grpSp>
                  <p:nvGrpSpPr>
                    <p:cNvPr id="806" name=""/>
                    <p:cNvGrpSpPr/>
                    <p:nvPr/>
                  </p:nvGrpSpPr>
                  <p:grpSpPr>
                    <a:xfrm>
                      <a:off x="3180960" y="5216760"/>
                      <a:ext cx="346320" cy="283680"/>
                      <a:chOff x="3180960" y="5216760"/>
                      <a:chExt cx="346320" cy="283680"/>
                    </a:xfrm>
                  </p:grpSpPr>
                  <p:grpSp>
                    <p:nvGrpSpPr>
                      <p:cNvPr id="807" name=""/>
                      <p:cNvGrpSpPr/>
                      <p:nvPr/>
                    </p:nvGrpSpPr>
                    <p:grpSpPr>
                      <a:xfrm>
                        <a:off x="3180960" y="5216760"/>
                        <a:ext cx="346320" cy="283680"/>
                        <a:chOff x="3180960" y="5216760"/>
                        <a:chExt cx="346320" cy="283680"/>
                      </a:xfrm>
                    </p:grpSpPr>
                    <p:grpSp>
                      <p:nvGrpSpPr>
                        <p:cNvPr id="808" name=""/>
                        <p:cNvGrpSpPr/>
                        <p:nvPr/>
                      </p:nvGrpSpPr>
                      <p:grpSpPr>
                        <a:xfrm>
                          <a:off x="3180960" y="5376960"/>
                          <a:ext cx="346320" cy="123480"/>
                          <a:chOff x="3180960" y="5376960"/>
                          <a:chExt cx="346320" cy="123480"/>
                        </a:xfrm>
                      </p:grpSpPr>
                      <p:sp>
                        <p:nvSpPr>
                          <p:cNvPr id="809" name=""/>
                          <p:cNvSpPr/>
                          <p:nvPr/>
                        </p:nvSpPr>
                        <p:spPr>
                          <a:xfrm flipH="1">
                            <a:off x="3180960" y="5376960"/>
                            <a:ext cx="198720" cy="1234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936" h="584">
                                <a:moveTo>
                                  <a:pt x="0" y="179"/>
                                </a:moveTo>
                                <a:lnTo>
                                  <a:pt x="0" y="584"/>
                                </a:lnTo>
                                <a:lnTo>
                                  <a:pt x="936" y="285"/>
                                </a:lnTo>
                                <a:lnTo>
                                  <a:pt x="936" y="0"/>
                                </a:lnTo>
                                <a:lnTo>
                                  <a:pt x="0" y="179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a0a0a0"/>
                          </a:solidFill>
                          <a:ln w="324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810" name=""/>
                          <p:cNvSpPr/>
                          <p:nvPr/>
                        </p:nvSpPr>
                        <p:spPr>
                          <a:xfrm flipH="1">
                            <a:off x="3379680" y="5406120"/>
                            <a:ext cx="147600" cy="9396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696" h="445">
                                <a:moveTo>
                                  <a:pt x="696" y="40"/>
                                </a:moveTo>
                                <a:lnTo>
                                  <a:pt x="696" y="445"/>
                                </a:lnTo>
                                <a:lnTo>
                                  <a:pt x="0" y="345"/>
                                </a:lnTo>
                                <a:lnTo>
                                  <a:pt x="0" y="0"/>
                                </a:lnTo>
                                <a:lnTo>
                                  <a:pt x="696" y="4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808080"/>
                          </a:solidFill>
                          <a:ln w="324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811" name=""/>
                          <p:cNvSpPr/>
                          <p:nvPr/>
                        </p:nvSpPr>
                        <p:spPr>
                          <a:xfrm flipH="1">
                            <a:off x="3180960" y="5376960"/>
                            <a:ext cx="346320" cy="3816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632" h="179">
                                <a:moveTo>
                                  <a:pt x="0" y="139"/>
                                </a:moveTo>
                                <a:lnTo>
                                  <a:pt x="703" y="179"/>
                                </a:lnTo>
                                <a:lnTo>
                                  <a:pt x="1632" y="0"/>
                                </a:lnTo>
                                <a:lnTo>
                                  <a:pt x="948" y="0"/>
                                </a:lnTo>
                                <a:lnTo>
                                  <a:pt x="0" y="139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c0c0c0"/>
                          </a:solidFill>
                          <a:ln w="324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8640" bIns="-864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812" name=""/>
                        <p:cNvSpPr/>
                        <p:nvPr/>
                      </p:nvSpPr>
                      <p:spPr>
                        <a:xfrm flipH="1">
                          <a:off x="3289320" y="5366880"/>
                          <a:ext cx="126000" cy="356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592" h="167">
                              <a:moveTo>
                                <a:pt x="0" y="95"/>
                              </a:moveTo>
                              <a:lnTo>
                                <a:pt x="0" y="149"/>
                              </a:lnTo>
                              <a:lnTo>
                                <a:pt x="276" y="167"/>
                              </a:lnTo>
                              <a:lnTo>
                                <a:pt x="592" y="107"/>
                              </a:lnTo>
                              <a:lnTo>
                                <a:pt x="592" y="0"/>
                              </a:lnTo>
                              <a:lnTo>
                                <a:pt x="0" y="95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06060"/>
                        </a:solidFill>
                        <a:ln w="324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1160" bIns="-111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grpSp>
                      <p:nvGrpSpPr>
                        <p:cNvPr id="813" name=""/>
                        <p:cNvGrpSpPr/>
                        <p:nvPr/>
                      </p:nvGrpSpPr>
                      <p:grpSpPr>
                        <a:xfrm>
                          <a:off x="3220560" y="5216760"/>
                          <a:ext cx="280080" cy="176760"/>
                          <a:chOff x="3220560" y="5216760"/>
                          <a:chExt cx="280080" cy="176760"/>
                        </a:xfrm>
                      </p:grpSpPr>
                      <p:sp>
                        <p:nvSpPr>
                          <p:cNvPr id="814" name=""/>
                          <p:cNvSpPr/>
                          <p:nvPr/>
                        </p:nvSpPr>
                        <p:spPr>
                          <a:xfrm flipH="1">
                            <a:off x="3220560" y="5216760"/>
                            <a:ext cx="160560" cy="17316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755" h="815">
                                <a:moveTo>
                                  <a:pt x="106" y="815"/>
                                </a:moveTo>
                                <a:lnTo>
                                  <a:pt x="0" y="27"/>
                                </a:lnTo>
                                <a:lnTo>
                                  <a:pt x="650" y="0"/>
                                </a:lnTo>
                                <a:lnTo>
                                  <a:pt x="755" y="703"/>
                                </a:lnTo>
                                <a:lnTo>
                                  <a:pt x="106" y="815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a0a0a0"/>
                          </a:solidFill>
                          <a:ln w="324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815" name=""/>
                          <p:cNvSpPr/>
                          <p:nvPr/>
                        </p:nvSpPr>
                        <p:spPr>
                          <a:xfrm flipH="1">
                            <a:off x="3359520" y="5221440"/>
                            <a:ext cx="141120" cy="1720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670" h="810">
                                <a:moveTo>
                                  <a:pt x="564" y="0"/>
                                </a:moveTo>
                                <a:lnTo>
                                  <a:pt x="0" y="180"/>
                                </a:lnTo>
                                <a:lnTo>
                                  <a:pt x="80" y="810"/>
                                </a:lnTo>
                                <a:lnTo>
                                  <a:pt x="670" y="790"/>
                                </a:lnTo>
                                <a:lnTo>
                                  <a:pt x="564" y="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808080"/>
                          </a:solidFill>
                          <a:ln w="324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816" name=""/>
                          <p:cNvSpPr/>
                          <p:nvPr/>
                        </p:nvSpPr>
                        <p:spPr>
                          <a:xfrm flipH="1">
                            <a:off x="3240000" y="5232960"/>
                            <a:ext cx="114480" cy="1310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542" h="614">
                                <a:moveTo>
                                  <a:pt x="0" y="28"/>
                                </a:moveTo>
                                <a:lnTo>
                                  <a:pt x="76" y="614"/>
                                </a:lnTo>
                                <a:lnTo>
                                  <a:pt x="542" y="545"/>
                                </a:lnTo>
                                <a:lnTo>
                                  <a:pt x="462" y="0"/>
                                </a:lnTo>
                                <a:lnTo>
                                  <a:pt x="0" y="28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00c0c0"/>
                          </a:solidFill>
                          <a:ln w="324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817" name=""/>
                      <p:cNvGrpSpPr/>
                      <p:nvPr/>
                    </p:nvGrpSpPr>
                    <p:grpSpPr>
                      <a:xfrm>
                        <a:off x="3195000" y="5389920"/>
                        <a:ext cx="113400" cy="81360"/>
                        <a:chOff x="3195000" y="5389920"/>
                        <a:chExt cx="113400" cy="81360"/>
                      </a:xfrm>
                    </p:grpSpPr>
                    <p:sp>
                      <p:nvSpPr>
                        <p:cNvPr id="818" name=""/>
                        <p:cNvSpPr/>
                        <p:nvPr/>
                      </p:nvSpPr>
                      <p:spPr>
                        <a:xfrm flipH="1">
                          <a:off x="3194640" y="5389920"/>
                          <a:ext cx="113400" cy="813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532" h="380">
                              <a:moveTo>
                                <a:pt x="532" y="0"/>
                              </a:moveTo>
                              <a:lnTo>
                                <a:pt x="0" y="113"/>
                              </a:lnTo>
                              <a:lnTo>
                                <a:pt x="0" y="380"/>
                              </a:lnTo>
                              <a:lnTo>
                                <a:pt x="532" y="214"/>
                              </a:lnTo>
                              <a:lnTo>
                                <a:pt x="532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04040"/>
                        </a:solidFill>
                        <a:ln w="324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34560" bIns="345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19" name=""/>
                        <p:cNvSpPr/>
                        <p:nvPr/>
                      </p:nvSpPr>
                      <p:spPr>
                        <a:xfrm flipH="1" flipV="1">
                          <a:off x="3205440" y="5408640"/>
                          <a:ext cx="29160" cy="7200"/>
                        </a:xfrm>
                        <a:prstGeom prst="line">
                          <a:avLst/>
                        </a:prstGeom>
                        <a:ln w="792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9600" bIns="-396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20" name=""/>
                        <p:cNvSpPr/>
                        <p:nvPr/>
                      </p:nvSpPr>
                      <p:spPr>
                        <a:xfrm>
                          <a:off x="3251880" y="5420160"/>
                          <a:ext cx="37800" cy="8640"/>
                        </a:xfrm>
                        <a:prstGeom prst="line">
                          <a:avLst/>
                        </a:prstGeom>
                        <a:ln w="792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8160" bIns="-381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21" name=""/>
                        <p:cNvSpPr/>
                        <p:nvPr/>
                      </p:nvSpPr>
                      <p:spPr>
                        <a:xfrm flipH="1">
                          <a:off x="3242160" y="5400000"/>
                          <a:ext cx="1440" cy="50760"/>
                        </a:xfrm>
                        <a:prstGeom prst="line">
                          <a:avLst/>
                        </a:prstGeom>
                        <a:ln w="324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3960" bIns="39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22" name=""/>
                        <p:cNvSpPr/>
                        <p:nvPr/>
                      </p:nvSpPr>
                      <p:spPr>
                        <a:xfrm flipH="1">
                          <a:off x="3295440" y="5412600"/>
                          <a:ext cx="1440" cy="54720"/>
                        </a:xfrm>
                        <a:prstGeom prst="line">
                          <a:avLst/>
                        </a:prstGeom>
                        <a:ln w="324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7920" bIns="79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23" name=""/>
                        <p:cNvSpPr/>
                        <p:nvPr/>
                      </p:nvSpPr>
                      <p:spPr>
                        <a:xfrm>
                          <a:off x="3196800" y="5411520"/>
                          <a:ext cx="100440" cy="26280"/>
                        </a:xfrm>
                        <a:prstGeom prst="line">
                          <a:avLst/>
                        </a:prstGeom>
                        <a:ln w="324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0520" bIns="-205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24" name=""/>
                        <p:cNvSpPr/>
                        <p:nvPr/>
                      </p:nvSpPr>
                      <p:spPr>
                        <a:xfrm flipH="1" flipV="1">
                          <a:off x="3195000" y="5402520"/>
                          <a:ext cx="101880" cy="23760"/>
                        </a:xfrm>
                        <a:prstGeom prst="line">
                          <a:avLst/>
                        </a:prstGeom>
                        <a:ln w="324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3040" bIns="-230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825" name=""/>
                    <p:cNvGrpSpPr/>
                    <p:nvPr/>
                  </p:nvGrpSpPr>
                  <p:grpSpPr>
                    <a:xfrm>
                      <a:off x="3079440" y="5392440"/>
                      <a:ext cx="269640" cy="138600"/>
                      <a:chOff x="3079440" y="5392440"/>
                      <a:chExt cx="269640" cy="138600"/>
                    </a:xfrm>
                  </p:grpSpPr>
                  <p:grpSp>
                    <p:nvGrpSpPr>
                      <p:cNvPr id="826" name=""/>
                      <p:cNvGrpSpPr/>
                      <p:nvPr/>
                    </p:nvGrpSpPr>
                    <p:grpSpPr>
                      <a:xfrm>
                        <a:off x="3288600" y="5467680"/>
                        <a:ext cx="43920" cy="32760"/>
                        <a:chOff x="3288600" y="5467680"/>
                        <a:chExt cx="43920" cy="32760"/>
                      </a:xfrm>
                    </p:grpSpPr>
                    <p:sp>
                      <p:nvSpPr>
                        <p:cNvPr id="827" name=""/>
                        <p:cNvSpPr/>
                        <p:nvPr/>
                      </p:nvSpPr>
                      <p:spPr>
                        <a:xfrm flipH="1">
                          <a:off x="3319560" y="5467680"/>
                          <a:ext cx="12600" cy="327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59" h="155">
                              <a:moveTo>
                                <a:pt x="18" y="0"/>
                              </a:moveTo>
                              <a:lnTo>
                                <a:pt x="0" y="145"/>
                              </a:lnTo>
                              <a:lnTo>
                                <a:pt x="43" y="155"/>
                              </a:lnTo>
                              <a:lnTo>
                                <a:pt x="59" y="8"/>
                              </a:lnTo>
                              <a:lnTo>
                                <a:pt x="18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06060"/>
                        </a:solidFill>
                        <a:ln w="324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4040" bIns="-140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28" name=""/>
                        <p:cNvSpPr/>
                        <p:nvPr/>
                      </p:nvSpPr>
                      <p:spPr>
                        <a:xfrm flipH="1">
                          <a:off x="3288600" y="5471280"/>
                          <a:ext cx="35280" cy="288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63" h="134">
                              <a:moveTo>
                                <a:pt x="14" y="4"/>
                              </a:moveTo>
                              <a:lnTo>
                                <a:pt x="0" y="134"/>
                              </a:lnTo>
                              <a:lnTo>
                                <a:pt x="163" y="67"/>
                              </a:lnTo>
                              <a:lnTo>
                                <a:pt x="99" y="46"/>
                              </a:lnTo>
                              <a:lnTo>
                                <a:pt x="42" y="76"/>
                              </a:lnTo>
                              <a:lnTo>
                                <a:pt x="59" y="0"/>
                              </a:lnTo>
                              <a:lnTo>
                                <a:pt x="14" y="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04040"/>
                        </a:solidFill>
                        <a:ln w="324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8000" bIns="-18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829" name=""/>
                      <p:cNvGrpSpPr/>
                      <p:nvPr/>
                    </p:nvGrpSpPr>
                    <p:grpSpPr>
                      <a:xfrm>
                        <a:off x="3079440" y="5392440"/>
                        <a:ext cx="269640" cy="138600"/>
                        <a:chOff x="3079440" y="5392440"/>
                        <a:chExt cx="269640" cy="138600"/>
                      </a:xfrm>
                    </p:grpSpPr>
                    <p:sp>
                      <p:nvSpPr>
                        <p:cNvPr id="830" name=""/>
                        <p:cNvSpPr/>
                        <p:nvPr/>
                      </p:nvSpPr>
                      <p:spPr>
                        <a:xfrm flipH="1">
                          <a:off x="3080160" y="5392440"/>
                          <a:ext cx="264600" cy="1224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247" h="578">
                              <a:moveTo>
                                <a:pt x="0" y="245"/>
                              </a:moveTo>
                              <a:lnTo>
                                <a:pt x="598" y="578"/>
                              </a:lnTo>
                              <a:lnTo>
                                <a:pt x="1247" y="252"/>
                              </a:lnTo>
                              <a:lnTo>
                                <a:pt x="750" y="0"/>
                              </a:lnTo>
                              <a:lnTo>
                                <a:pt x="0" y="245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808080"/>
                        </a:solidFill>
                        <a:ln w="324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31" name=""/>
                        <p:cNvSpPr/>
                        <p:nvPr/>
                      </p:nvSpPr>
                      <p:spPr>
                        <a:xfrm flipH="1">
                          <a:off x="3216600" y="5443560"/>
                          <a:ext cx="132480" cy="864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624" h="408">
                              <a:moveTo>
                                <a:pt x="22" y="0"/>
                              </a:moveTo>
                              <a:lnTo>
                                <a:pt x="624" y="337"/>
                              </a:lnTo>
                              <a:lnTo>
                                <a:pt x="606" y="408"/>
                              </a:lnTo>
                              <a:lnTo>
                                <a:pt x="0" y="64"/>
                              </a:lnTo>
                              <a:lnTo>
                                <a:pt x="22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06060"/>
                        </a:solidFill>
                        <a:ln w="324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39600" bIns="396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32" name=""/>
                        <p:cNvSpPr/>
                        <p:nvPr/>
                      </p:nvSpPr>
                      <p:spPr>
                        <a:xfrm flipH="1">
                          <a:off x="3079440" y="5446080"/>
                          <a:ext cx="141120" cy="849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668" h="401">
                              <a:moveTo>
                                <a:pt x="0" y="401"/>
                              </a:moveTo>
                              <a:lnTo>
                                <a:pt x="21" y="326"/>
                              </a:lnTo>
                              <a:lnTo>
                                <a:pt x="668" y="0"/>
                              </a:lnTo>
                              <a:lnTo>
                                <a:pt x="645" y="60"/>
                              </a:lnTo>
                              <a:lnTo>
                                <a:pt x="0" y="401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04040"/>
                        </a:solidFill>
                        <a:ln w="324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38160" bIns="381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33" name=""/>
                        <p:cNvSpPr/>
                        <p:nvPr/>
                      </p:nvSpPr>
                      <p:spPr>
                        <a:xfrm flipH="1">
                          <a:off x="3186000" y="5449680"/>
                          <a:ext cx="106920" cy="543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503" h="256">
                              <a:moveTo>
                                <a:pt x="0" y="67"/>
                              </a:moveTo>
                              <a:lnTo>
                                <a:pt x="174" y="0"/>
                              </a:lnTo>
                              <a:lnTo>
                                <a:pt x="503" y="178"/>
                              </a:lnTo>
                              <a:lnTo>
                                <a:pt x="336" y="256"/>
                              </a:lnTo>
                              <a:lnTo>
                                <a:pt x="0" y="67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a0a0a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7560" bIns="75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34" name=""/>
                        <p:cNvSpPr/>
                        <p:nvPr/>
                      </p:nvSpPr>
                      <p:spPr>
                        <a:xfrm flipH="1">
                          <a:off x="3092760" y="5411520"/>
                          <a:ext cx="156600" cy="723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741" h="344">
                              <a:moveTo>
                                <a:pt x="0" y="167"/>
                              </a:moveTo>
                              <a:lnTo>
                                <a:pt x="324" y="344"/>
                              </a:lnTo>
                              <a:lnTo>
                                <a:pt x="741" y="147"/>
                              </a:lnTo>
                              <a:lnTo>
                                <a:pt x="438" y="0"/>
                              </a:lnTo>
                              <a:lnTo>
                                <a:pt x="0" y="167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a0a0a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5560" bIns="255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35" name=""/>
                        <p:cNvSpPr/>
                        <p:nvPr/>
                      </p:nvSpPr>
                      <p:spPr>
                        <a:xfrm flipH="1">
                          <a:off x="3159720" y="5396400"/>
                          <a:ext cx="172800" cy="658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16" h="314">
                              <a:moveTo>
                                <a:pt x="169" y="314"/>
                              </a:moveTo>
                              <a:lnTo>
                                <a:pt x="0" y="226"/>
                              </a:lnTo>
                              <a:lnTo>
                                <a:pt x="685" y="0"/>
                              </a:lnTo>
                              <a:lnTo>
                                <a:pt x="816" y="65"/>
                              </a:lnTo>
                              <a:lnTo>
                                <a:pt x="169" y="31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a0a0a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9080" bIns="190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36" name=""/>
                        <p:cNvSpPr/>
                        <p:nvPr/>
                      </p:nvSpPr>
                      <p:spPr>
                        <a:xfrm flipH="1" flipV="1">
                          <a:off x="3179880" y="5397120"/>
                          <a:ext cx="147600" cy="52200"/>
                        </a:xfrm>
                        <a:prstGeom prst="line">
                          <a:avLst/>
                        </a:prstGeom>
                        <a:ln w="4680">
                          <a:solidFill>
                            <a:srgbClr val="80808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5400" bIns="54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37" name=""/>
                        <p:cNvSpPr/>
                        <p:nvPr/>
                      </p:nvSpPr>
                      <p:spPr>
                        <a:xfrm flipH="1" flipV="1">
                          <a:off x="3172320" y="5400720"/>
                          <a:ext cx="142560" cy="52200"/>
                        </a:xfrm>
                        <a:prstGeom prst="line">
                          <a:avLst/>
                        </a:prstGeom>
                        <a:ln w="4680">
                          <a:solidFill>
                            <a:srgbClr val="80808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5400" bIns="54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38" name=""/>
                        <p:cNvSpPr/>
                        <p:nvPr/>
                      </p:nvSpPr>
                      <p:spPr>
                        <a:xfrm flipH="1" flipV="1">
                          <a:off x="3165840" y="5406480"/>
                          <a:ext cx="140040" cy="53280"/>
                        </a:xfrm>
                        <a:prstGeom prst="line">
                          <a:avLst/>
                        </a:prstGeom>
                        <a:ln w="4680">
                          <a:solidFill>
                            <a:srgbClr val="80808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6480" bIns="64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39" name=""/>
                        <p:cNvSpPr/>
                        <p:nvPr/>
                      </p:nvSpPr>
                      <p:spPr>
                        <a:xfrm flipH="1" flipV="1">
                          <a:off x="3148200" y="5415120"/>
                          <a:ext cx="137160" cy="54360"/>
                        </a:xfrm>
                        <a:prstGeom prst="line">
                          <a:avLst/>
                        </a:prstGeom>
                        <a:ln w="4680">
                          <a:solidFill>
                            <a:srgbClr val="80808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7560" bIns="75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40" name=""/>
                        <p:cNvSpPr/>
                        <p:nvPr/>
                      </p:nvSpPr>
                      <p:spPr>
                        <a:xfrm flipH="1" flipV="1">
                          <a:off x="3138120" y="5419800"/>
                          <a:ext cx="136080" cy="55800"/>
                        </a:xfrm>
                        <a:prstGeom prst="line">
                          <a:avLst/>
                        </a:prstGeom>
                        <a:ln w="4680">
                          <a:solidFill>
                            <a:srgbClr val="80808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9000" bIns="9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41" name=""/>
                        <p:cNvSpPr/>
                        <p:nvPr/>
                      </p:nvSpPr>
                      <p:spPr>
                        <a:xfrm flipH="1" flipV="1">
                          <a:off x="3126600" y="5425560"/>
                          <a:ext cx="136080" cy="58320"/>
                        </a:xfrm>
                        <a:prstGeom prst="line">
                          <a:avLst/>
                        </a:prstGeom>
                        <a:ln w="4680">
                          <a:solidFill>
                            <a:srgbClr val="80808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1520" bIns="115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42" name=""/>
                        <p:cNvSpPr/>
                        <p:nvPr/>
                      </p:nvSpPr>
                      <p:spPr>
                        <a:xfrm flipH="1" flipV="1">
                          <a:off x="3117240" y="5430600"/>
                          <a:ext cx="132480" cy="58320"/>
                        </a:xfrm>
                        <a:prstGeom prst="line">
                          <a:avLst/>
                        </a:prstGeom>
                        <a:ln w="4680">
                          <a:solidFill>
                            <a:srgbClr val="80808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1520" bIns="115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43" name=""/>
                        <p:cNvSpPr/>
                        <p:nvPr/>
                      </p:nvSpPr>
                      <p:spPr>
                        <a:xfrm flipH="1" flipV="1">
                          <a:off x="3105720" y="5437080"/>
                          <a:ext cx="131400" cy="59760"/>
                        </a:xfrm>
                        <a:prstGeom prst="line">
                          <a:avLst/>
                        </a:prstGeom>
                        <a:ln w="4680">
                          <a:solidFill>
                            <a:srgbClr val="80808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2960" bIns="129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44" name=""/>
                        <p:cNvSpPr/>
                        <p:nvPr/>
                      </p:nvSpPr>
                      <p:spPr>
                        <a:xfrm flipH="1">
                          <a:off x="3210480" y="5459760"/>
                          <a:ext cx="71280" cy="39240"/>
                        </a:xfrm>
                        <a:prstGeom prst="line">
                          <a:avLst/>
                        </a:prstGeom>
                        <a:ln w="4680">
                          <a:solidFill>
                            <a:srgbClr val="80808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7560" bIns="-75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45" name=""/>
                        <p:cNvSpPr/>
                        <p:nvPr/>
                      </p:nvSpPr>
                      <p:spPr>
                        <a:xfrm flipH="1">
                          <a:off x="3197880" y="5453640"/>
                          <a:ext cx="68400" cy="39240"/>
                        </a:xfrm>
                        <a:prstGeom prst="line">
                          <a:avLst/>
                        </a:prstGeom>
                        <a:ln w="4680">
                          <a:solidFill>
                            <a:srgbClr val="80808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7560" bIns="-75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46" name=""/>
                        <p:cNvSpPr/>
                        <p:nvPr/>
                      </p:nvSpPr>
                      <p:spPr>
                        <a:xfrm flipH="1">
                          <a:off x="3168720" y="5442120"/>
                          <a:ext cx="66960" cy="35640"/>
                        </a:xfrm>
                        <a:prstGeom prst="line">
                          <a:avLst/>
                        </a:prstGeom>
                        <a:ln w="4680">
                          <a:solidFill>
                            <a:srgbClr val="80808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1160" bIns="-111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47" name=""/>
                        <p:cNvSpPr/>
                        <p:nvPr/>
                      </p:nvSpPr>
                      <p:spPr>
                        <a:xfrm flipH="1">
                          <a:off x="3153240" y="5435640"/>
                          <a:ext cx="65880" cy="35640"/>
                        </a:xfrm>
                        <a:prstGeom prst="line">
                          <a:avLst/>
                        </a:prstGeom>
                        <a:ln w="4680">
                          <a:solidFill>
                            <a:srgbClr val="80808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1160" bIns="-111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48" name=""/>
                        <p:cNvSpPr/>
                        <p:nvPr/>
                      </p:nvSpPr>
                      <p:spPr>
                        <a:xfrm flipH="1">
                          <a:off x="3138120" y="5429160"/>
                          <a:ext cx="64800" cy="36720"/>
                        </a:xfrm>
                        <a:prstGeom prst="line">
                          <a:avLst/>
                        </a:prstGeom>
                        <a:ln w="4680">
                          <a:solidFill>
                            <a:srgbClr val="80808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0080" bIns="-100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49" name=""/>
                        <p:cNvSpPr/>
                        <p:nvPr/>
                      </p:nvSpPr>
                      <p:spPr>
                        <a:xfrm flipH="1">
                          <a:off x="3125160" y="5424480"/>
                          <a:ext cx="63360" cy="34200"/>
                        </a:xfrm>
                        <a:prstGeom prst="line">
                          <a:avLst/>
                        </a:prstGeom>
                        <a:ln w="4680">
                          <a:solidFill>
                            <a:srgbClr val="80808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2600" bIns="-126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50" name=""/>
                        <p:cNvSpPr/>
                        <p:nvPr/>
                      </p:nvSpPr>
                      <p:spPr>
                        <a:xfrm flipH="1">
                          <a:off x="3111120" y="5418000"/>
                          <a:ext cx="63720" cy="32760"/>
                        </a:xfrm>
                        <a:prstGeom prst="line">
                          <a:avLst/>
                        </a:prstGeom>
                        <a:ln w="4680">
                          <a:solidFill>
                            <a:srgbClr val="80808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4040" bIns="-140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51" name=""/>
                        <p:cNvSpPr/>
                        <p:nvPr/>
                      </p:nvSpPr>
                      <p:spPr>
                        <a:xfrm flipH="1">
                          <a:off x="3278160" y="5437080"/>
                          <a:ext cx="32760" cy="17280"/>
                        </a:xfrm>
                        <a:prstGeom prst="line">
                          <a:avLst/>
                        </a:prstGeom>
                        <a:ln w="4680">
                          <a:solidFill>
                            <a:srgbClr val="80808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520" bIns="-295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52" name=""/>
                        <p:cNvSpPr/>
                        <p:nvPr/>
                      </p:nvSpPr>
                      <p:spPr>
                        <a:xfrm flipH="1">
                          <a:off x="3257640" y="5429160"/>
                          <a:ext cx="31680" cy="17640"/>
                        </a:xfrm>
                        <a:prstGeom prst="line">
                          <a:avLst/>
                        </a:prstGeom>
                        <a:ln w="4680">
                          <a:solidFill>
                            <a:srgbClr val="80808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53" name=""/>
                        <p:cNvSpPr/>
                        <p:nvPr/>
                      </p:nvSpPr>
                      <p:spPr>
                        <a:xfrm flipH="1">
                          <a:off x="3237120" y="5423040"/>
                          <a:ext cx="31680" cy="16560"/>
                        </a:xfrm>
                        <a:prstGeom prst="line">
                          <a:avLst/>
                        </a:prstGeom>
                        <a:ln w="4680">
                          <a:solidFill>
                            <a:srgbClr val="80808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0240" bIns="-302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54" name=""/>
                        <p:cNvSpPr/>
                        <p:nvPr/>
                      </p:nvSpPr>
                      <p:spPr>
                        <a:xfrm flipH="1">
                          <a:off x="3216600" y="5416560"/>
                          <a:ext cx="33120" cy="15120"/>
                        </a:xfrm>
                        <a:prstGeom prst="line">
                          <a:avLst/>
                        </a:prstGeom>
                        <a:ln w="4680">
                          <a:solidFill>
                            <a:srgbClr val="80808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1680" bIns="-316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55" name=""/>
                        <p:cNvSpPr/>
                        <p:nvPr/>
                      </p:nvSpPr>
                      <p:spPr>
                        <a:xfrm flipH="1">
                          <a:off x="3198960" y="5409000"/>
                          <a:ext cx="29160" cy="16200"/>
                        </a:xfrm>
                        <a:prstGeom prst="line">
                          <a:avLst/>
                        </a:prstGeom>
                        <a:ln w="4680">
                          <a:solidFill>
                            <a:srgbClr val="80808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0600" bIns="-306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56" name=""/>
                        <p:cNvSpPr/>
                        <p:nvPr/>
                      </p:nvSpPr>
                      <p:spPr>
                        <a:xfrm flipH="1">
                          <a:off x="3177360" y="5401080"/>
                          <a:ext cx="29160" cy="16560"/>
                        </a:xfrm>
                        <a:prstGeom prst="line">
                          <a:avLst/>
                        </a:prstGeom>
                        <a:ln w="4680">
                          <a:solidFill>
                            <a:srgbClr val="80808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0240" bIns="-302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</p:grpSp>
              <p:grpSp>
                <p:nvGrpSpPr>
                  <p:cNvPr id="857" name=""/>
                  <p:cNvGrpSpPr/>
                  <p:nvPr/>
                </p:nvGrpSpPr>
                <p:grpSpPr>
                  <a:xfrm>
                    <a:off x="2863800" y="5174640"/>
                    <a:ext cx="477360" cy="794160"/>
                    <a:chOff x="2863800" y="5174640"/>
                    <a:chExt cx="477360" cy="794160"/>
                  </a:xfrm>
                </p:grpSpPr>
                <p:grpSp>
                  <p:nvGrpSpPr>
                    <p:cNvPr id="858" name=""/>
                    <p:cNvGrpSpPr/>
                    <p:nvPr/>
                  </p:nvGrpSpPr>
                  <p:grpSpPr>
                    <a:xfrm>
                      <a:off x="3137760" y="5861880"/>
                      <a:ext cx="162720" cy="82800"/>
                      <a:chOff x="3137760" y="5861880"/>
                      <a:chExt cx="162720" cy="82800"/>
                    </a:xfrm>
                  </p:grpSpPr>
                  <p:sp>
                    <p:nvSpPr>
                      <p:cNvPr id="859" name=""/>
                      <p:cNvSpPr/>
                      <p:nvPr/>
                    </p:nvSpPr>
                    <p:spPr>
                      <a:xfrm flipH="1">
                        <a:off x="3137760" y="5861880"/>
                        <a:ext cx="162720" cy="82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63" h="392">
                            <a:moveTo>
                              <a:pt x="455" y="13"/>
                            </a:moveTo>
                            <a:lnTo>
                              <a:pt x="462" y="115"/>
                            </a:lnTo>
                            <a:lnTo>
                              <a:pt x="261" y="210"/>
                            </a:lnTo>
                            <a:lnTo>
                              <a:pt x="94" y="250"/>
                            </a:lnTo>
                            <a:lnTo>
                              <a:pt x="0" y="291"/>
                            </a:lnTo>
                            <a:lnTo>
                              <a:pt x="6" y="345"/>
                            </a:lnTo>
                            <a:lnTo>
                              <a:pt x="127" y="380"/>
                            </a:lnTo>
                            <a:lnTo>
                              <a:pt x="308" y="392"/>
                            </a:lnTo>
                            <a:lnTo>
                              <a:pt x="462" y="365"/>
                            </a:lnTo>
                            <a:lnTo>
                              <a:pt x="555" y="339"/>
                            </a:lnTo>
                            <a:lnTo>
                              <a:pt x="561" y="369"/>
                            </a:lnTo>
                            <a:lnTo>
                              <a:pt x="682" y="365"/>
                            </a:lnTo>
                            <a:lnTo>
                              <a:pt x="756" y="352"/>
                            </a:lnTo>
                            <a:lnTo>
                              <a:pt x="756" y="298"/>
                            </a:lnTo>
                            <a:lnTo>
                              <a:pt x="763" y="267"/>
                            </a:lnTo>
                            <a:lnTo>
                              <a:pt x="763" y="192"/>
                            </a:lnTo>
                            <a:lnTo>
                              <a:pt x="743" y="149"/>
                            </a:lnTo>
                            <a:lnTo>
                              <a:pt x="705" y="102"/>
                            </a:lnTo>
                            <a:lnTo>
                              <a:pt x="696" y="0"/>
                            </a:lnTo>
                            <a:lnTo>
                              <a:pt x="455" y="13"/>
                            </a:lnTo>
                            <a:close/>
                          </a:path>
                        </a:pathLst>
                      </a:custGeom>
                      <a:solidFill>
                        <a:srgbClr val="606060"/>
                      </a:solidFill>
                      <a:ln w="324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6000" bIns="36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60" name=""/>
                      <p:cNvSpPr/>
                      <p:nvPr/>
                    </p:nvSpPr>
                    <p:spPr>
                      <a:xfrm flipH="1">
                        <a:off x="3192840" y="5891040"/>
                        <a:ext cx="48240" cy="26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31" h="125">
                            <a:moveTo>
                              <a:pt x="173" y="0"/>
                            </a:moveTo>
                            <a:lnTo>
                              <a:pt x="231" y="66"/>
                            </a:lnTo>
                            <a:lnTo>
                              <a:pt x="24" y="125"/>
                            </a:lnTo>
                            <a:lnTo>
                              <a:pt x="0" y="79"/>
                            </a:lnTo>
                            <a:lnTo>
                              <a:pt x="173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0520" bIns="-205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61" name=""/>
                      <p:cNvSpPr/>
                      <p:nvPr/>
                    </p:nvSpPr>
                    <p:spPr>
                      <a:xfrm flipH="1">
                        <a:off x="3240720" y="5910120"/>
                        <a:ext cx="54360" cy="16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61" h="77">
                            <a:moveTo>
                              <a:pt x="231" y="0"/>
                            </a:moveTo>
                            <a:lnTo>
                              <a:pt x="261" y="36"/>
                            </a:lnTo>
                            <a:lnTo>
                              <a:pt x="133" y="70"/>
                            </a:lnTo>
                            <a:lnTo>
                              <a:pt x="73" y="77"/>
                            </a:lnTo>
                            <a:lnTo>
                              <a:pt x="0" y="72"/>
                            </a:lnTo>
                            <a:lnTo>
                              <a:pt x="78" y="34"/>
                            </a:lnTo>
                            <a:lnTo>
                              <a:pt x="231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0600" bIns="-306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62" name=""/>
                      <p:cNvSpPr/>
                      <p:nvPr/>
                    </p:nvSpPr>
                    <p:spPr>
                      <a:xfrm flipH="1">
                        <a:off x="3139200" y="5891040"/>
                        <a:ext cx="157680" cy="49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41" h="234">
                            <a:moveTo>
                              <a:pt x="0" y="199"/>
                            </a:moveTo>
                            <a:lnTo>
                              <a:pt x="0" y="163"/>
                            </a:lnTo>
                            <a:lnTo>
                              <a:pt x="97" y="173"/>
                            </a:lnTo>
                            <a:lnTo>
                              <a:pt x="253" y="150"/>
                            </a:lnTo>
                            <a:lnTo>
                              <a:pt x="342" y="130"/>
                            </a:lnTo>
                            <a:lnTo>
                              <a:pt x="513" y="75"/>
                            </a:lnTo>
                            <a:lnTo>
                              <a:pt x="587" y="66"/>
                            </a:lnTo>
                            <a:lnTo>
                              <a:pt x="660" y="39"/>
                            </a:lnTo>
                            <a:lnTo>
                              <a:pt x="697" y="0"/>
                            </a:lnTo>
                            <a:lnTo>
                              <a:pt x="741" y="48"/>
                            </a:lnTo>
                            <a:lnTo>
                              <a:pt x="741" y="148"/>
                            </a:lnTo>
                            <a:lnTo>
                              <a:pt x="686" y="163"/>
                            </a:lnTo>
                            <a:lnTo>
                              <a:pt x="552" y="181"/>
                            </a:lnTo>
                            <a:lnTo>
                              <a:pt x="500" y="188"/>
                            </a:lnTo>
                            <a:lnTo>
                              <a:pt x="411" y="219"/>
                            </a:lnTo>
                            <a:lnTo>
                              <a:pt x="312" y="234"/>
                            </a:lnTo>
                            <a:lnTo>
                              <a:pt x="242" y="234"/>
                            </a:lnTo>
                            <a:lnTo>
                              <a:pt x="129" y="234"/>
                            </a:lnTo>
                            <a:lnTo>
                              <a:pt x="0" y="199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520" bIns="25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63" name=""/>
                      <p:cNvSpPr/>
                      <p:nvPr/>
                    </p:nvSpPr>
                    <p:spPr>
                      <a:xfrm flipH="1">
                        <a:off x="3150360" y="5863320"/>
                        <a:ext cx="52200" cy="40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45" h="190">
                            <a:moveTo>
                              <a:pt x="7" y="12"/>
                            </a:moveTo>
                            <a:lnTo>
                              <a:pt x="14" y="106"/>
                            </a:lnTo>
                            <a:lnTo>
                              <a:pt x="0" y="127"/>
                            </a:lnTo>
                            <a:lnTo>
                              <a:pt x="55" y="190"/>
                            </a:lnTo>
                            <a:lnTo>
                              <a:pt x="130" y="190"/>
                            </a:lnTo>
                            <a:lnTo>
                              <a:pt x="215" y="162"/>
                            </a:lnTo>
                            <a:lnTo>
                              <a:pt x="245" y="124"/>
                            </a:lnTo>
                            <a:lnTo>
                              <a:pt x="228" y="99"/>
                            </a:lnTo>
                            <a:lnTo>
                              <a:pt x="223" y="0"/>
                            </a:lnTo>
                            <a:lnTo>
                              <a:pt x="7" y="12"/>
                            </a:lnTo>
                            <a:close/>
                          </a:path>
                        </a:pathLst>
                      </a:custGeom>
                      <a:solidFill>
                        <a:srgbClr val="a0a0a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6120" bIns="-61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864" name=""/>
                    <p:cNvGrpSpPr/>
                    <p:nvPr/>
                  </p:nvGrpSpPr>
                  <p:grpSpPr>
                    <a:xfrm>
                      <a:off x="3141720" y="5716440"/>
                      <a:ext cx="67320" cy="165960"/>
                      <a:chOff x="3141720" y="5716440"/>
                      <a:chExt cx="67320" cy="165960"/>
                    </a:xfrm>
                  </p:grpSpPr>
                  <p:sp>
                    <p:nvSpPr>
                      <p:cNvPr id="865" name=""/>
                      <p:cNvSpPr/>
                      <p:nvPr/>
                    </p:nvSpPr>
                    <p:spPr>
                      <a:xfrm flipH="1">
                        <a:off x="3141360" y="5716440"/>
                        <a:ext cx="67320" cy="1659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22" h="781">
                            <a:moveTo>
                              <a:pt x="296" y="17"/>
                            </a:moveTo>
                            <a:lnTo>
                              <a:pt x="316" y="281"/>
                            </a:lnTo>
                            <a:lnTo>
                              <a:pt x="311" y="500"/>
                            </a:lnTo>
                            <a:lnTo>
                              <a:pt x="322" y="747"/>
                            </a:lnTo>
                            <a:lnTo>
                              <a:pt x="164" y="781"/>
                            </a:lnTo>
                            <a:lnTo>
                              <a:pt x="11" y="781"/>
                            </a:lnTo>
                            <a:lnTo>
                              <a:pt x="0" y="0"/>
                            </a:lnTo>
                            <a:lnTo>
                              <a:pt x="296" y="17"/>
                            </a:lnTo>
                            <a:close/>
                          </a:path>
                        </a:pathLst>
                      </a:custGeom>
                      <a:solidFill>
                        <a:srgbClr val="606060"/>
                      </a:solidFill>
                      <a:ln w="324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66" name=""/>
                      <p:cNvSpPr/>
                      <p:nvPr/>
                    </p:nvSpPr>
                    <p:spPr>
                      <a:xfrm flipH="1">
                        <a:off x="3146760" y="5718960"/>
                        <a:ext cx="59400" cy="159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80" h="753">
                            <a:moveTo>
                              <a:pt x="255" y="23"/>
                            </a:moveTo>
                            <a:lnTo>
                              <a:pt x="280" y="247"/>
                            </a:lnTo>
                            <a:lnTo>
                              <a:pt x="275" y="426"/>
                            </a:lnTo>
                            <a:lnTo>
                              <a:pt x="275" y="701"/>
                            </a:lnTo>
                            <a:lnTo>
                              <a:pt x="137" y="753"/>
                            </a:lnTo>
                            <a:lnTo>
                              <a:pt x="15" y="753"/>
                            </a:lnTo>
                            <a:lnTo>
                              <a:pt x="0" y="0"/>
                            </a:lnTo>
                            <a:lnTo>
                              <a:pt x="255" y="23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867" name=""/>
                    <p:cNvGrpSpPr/>
                    <p:nvPr/>
                  </p:nvGrpSpPr>
                  <p:grpSpPr>
                    <a:xfrm>
                      <a:off x="3177000" y="5886000"/>
                      <a:ext cx="164160" cy="82800"/>
                      <a:chOff x="3177000" y="5886000"/>
                      <a:chExt cx="164160" cy="82800"/>
                    </a:xfrm>
                  </p:grpSpPr>
                  <p:sp>
                    <p:nvSpPr>
                      <p:cNvPr id="868" name=""/>
                      <p:cNvSpPr/>
                      <p:nvPr/>
                    </p:nvSpPr>
                    <p:spPr>
                      <a:xfrm flipH="1">
                        <a:off x="3177000" y="5886000"/>
                        <a:ext cx="164160" cy="82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75" h="392">
                            <a:moveTo>
                              <a:pt x="460" y="13"/>
                            </a:moveTo>
                            <a:lnTo>
                              <a:pt x="467" y="114"/>
                            </a:lnTo>
                            <a:lnTo>
                              <a:pt x="264" y="209"/>
                            </a:lnTo>
                            <a:lnTo>
                              <a:pt x="94" y="250"/>
                            </a:lnTo>
                            <a:lnTo>
                              <a:pt x="0" y="290"/>
                            </a:lnTo>
                            <a:lnTo>
                              <a:pt x="6" y="345"/>
                            </a:lnTo>
                            <a:lnTo>
                              <a:pt x="128" y="379"/>
                            </a:lnTo>
                            <a:lnTo>
                              <a:pt x="312" y="392"/>
                            </a:lnTo>
                            <a:lnTo>
                              <a:pt x="467" y="366"/>
                            </a:lnTo>
                            <a:lnTo>
                              <a:pt x="562" y="338"/>
                            </a:lnTo>
                            <a:lnTo>
                              <a:pt x="568" y="368"/>
                            </a:lnTo>
                            <a:lnTo>
                              <a:pt x="691" y="366"/>
                            </a:lnTo>
                            <a:lnTo>
                              <a:pt x="766" y="351"/>
                            </a:lnTo>
                            <a:lnTo>
                              <a:pt x="766" y="298"/>
                            </a:lnTo>
                            <a:lnTo>
                              <a:pt x="775" y="268"/>
                            </a:lnTo>
                            <a:lnTo>
                              <a:pt x="775" y="191"/>
                            </a:lnTo>
                            <a:lnTo>
                              <a:pt x="752" y="149"/>
                            </a:lnTo>
                            <a:lnTo>
                              <a:pt x="714" y="103"/>
                            </a:lnTo>
                            <a:lnTo>
                              <a:pt x="705" y="0"/>
                            </a:lnTo>
                            <a:lnTo>
                              <a:pt x="460" y="13"/>
                            </a:lnTo>
                            <a:close/>
                          </a:path>
                        </a:pathLst>
                      </a:custGeom>
                      <a:solidFill>
                        <a:srgbClr val="606060"/>
                      </a:solidFill>
                      <a:ln w="324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6000" bIns="36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69" name=""/>
                      <p:cNvSpPr/>
                      <p:nvPr/>
                    </p:nvSpPr>
                    <p:spPr>
                      <a:xfrm flipH="1">
                        <a:off x="3232080" y="5915160"/>
                        <a:ext cx="49320" cy="26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34" h="124">
                            <a:moveTo>
                              <a:pt x="175" y="0"/>
                            </a:moveTo>
                            <a:lnTo>
                              <a:pt x="234" y="67"/>
                            </a:lnTo>
                            <a:lnTo>
                              <a:pt x="25" y="124"/>
                            </a:lnTo>
                            <a:lnTo>
                              <a:pt x="0" y="79"/>
                            </a:lnTo>
                            <a:lnTo>
                              <a:pt x="175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0160" bIns="-201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70" name=""/>
                      <p:cNvSpPr/>
                      <p:nvPr/>
                    </p:nvSpPr>
                    <p:spPr>
                      <a:xfrm flipH="1">
                        <a:off x="3280320" y="5932800"/>
                        <a:ext cx="55800" cy="16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65" h="75">
                            <a:moveTo>
                              <a:pt x="235" y="0"/>
                            </a:moveTo>
                            <a:lnTo>
                              <a:pt x="265" y="35"/>
                            </a:lnTo>
                            <a:lnTo>
                              <a:pt x="135" y="68"/>
                            </a:lnTo>
                            <a:lnTo>
                              <a:pt x="74" y="75"/>
                            </a:lnTo>
                            <a:lnTo>
                              <a:pt x="0" y="71"/>
                            </a:lnTo>
                            <a:lnTo>
                              <a:pt x="79" y="32"/>
                            </a:lnTo>
                            <a:lnTo>
                              <a:pt x="235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0600" bIns="-306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71" name=""/>
                      <p:cNvSpPr/>
                      <p:nvPr/>
                    </p:nvSpPr>
                    <p:spPr>
                      <a:xfrm flipH="1">
                        <a:off x="3178440" y="5915160"/>
                        <a:ext cx="158760" cy="49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49" h="234">
                            <a:moveTo>
                              <a:pt x="0" y="198"/>
                            </a:moveTo>
                            <a:lnTo>
                              <a:pt x="0" y="162"/>
                            </a:lnTo>
                            <a:lnTo>
                              <a:pt x="96" y="173"/>
                            </a:lnTo>
                            <a:lnTo>
                              <a:pt x="257" y="150"/>
                            </a:lnTo>
                            <a:lnTo>
                              <a:pt x="345" y="130"/>
                            </a:lnTo>
                            <a:lnTo>
                              <a:pt x="518" y="74"/>
                            </a:lnTo>
                            <a:lnTo>
                              <a:pt x="595" y="67"/>
                            </a:lnTo>
                            <a:lnTo>
                              <a:pt x="668" y="38"/>
                            </a:lnTo>
                            <a:lnTo>
                              <a:pt x="706" y="0"/>
                            </a:lnTo>
                            <a:lnTo>
                              <a:pt x="749" y="49"/>
                            </a:lnTo>
                            <a:lnTo>
                              <a:pt x="749" y="148"/>
                            </a:lnTo>
                            <a:lnTo>
                              <a:pt x="694" y="162"/>
                            </a:lnTo>
                            <a:lnTo>
                              <a:pt x="559" y="180"/>
                            </a:lnTo>
                            <a:lnTo>
                              <a:pt x="505" y="189"/>
                            </a:lnTo>
                            <a:lnTo>
                              <a:pt x="417" y="219"/>
                            </a:lnTo>
                            <a:lnTo>
                              <a:pt x="315" y="234"/>
                            </a:lnTo>
                            <a:lnTo>
                              <a:pt x="243" y="234"/>
                            </a:lnTo>
                            <a:lnTo>
                              <a:pt x="129" y="234"/>
                            </a:lnTo>
                            <a:lnTo>
                              <a:pt x="0" y="198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520" bIns="25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72" name=""/>
                      <p:cNvSpPr/>
                      <p:nvPr/>
                    </p:nvSpPr>
                    <p:spPr>
                      <a:xfrm flipH="1">
                        <a:off x="3189600" y="5887080"/>
                        <a:ext cx="52200" cy="40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50" h="190">
                            <a:moveTo>
                              <a:pt x="8" y="13"/>
                            </a:moveTo>
                            <a:lnTo>
                              <a:pt x="16" y="106"/>
                            </a:lnTo>
                            <a:lnTo>
                              <a:pt x="0" y="127"/>
                            </a:lnTo>
                            <a:lnTo>
                              <a:pt x="56" y="190"/>
                            </a:lnTo>
                            <a:lnTo>
                              <a:pt x="133" y="190"/>
                            </a:lnTo>
                            <a:lnTo>
                              <a:pt x="219" y="163"/>
                            </a:lnTo>
                            <a:lnTo>
                              <a:pt x="250" y="124"/>
                            </a:lnTo>
                            <a:lnTo>
                              <a:pt x="232" y="99"/>
                            </a:lnTo>
                            <a:lnTo>
                              <a:pt x="227" y="0"/>
                            </a:lnTo>
                            <a:lnTo>
                              <a:pt x="8" y="13"/>
                            </a:lnTo>
                            <a:close/>
                          </a:path>
                        </a:pathLst>
                      </a:custGeom>
                      <a:solidFill>
                        <a:srgbClr val="a0a0a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6120" bIns="-61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873" name=""/>
                    <p:cNvSpPr/>
                    <p:nvPr/>
                  </p:nvSpPr>
                  <p:spPr>
                    <a:xfrm flipH="1">
                      <a:off x="2930760" y="5886000"/>
                      <a:ext cx="194760" cy="77760"/>
                    </a:xfrm>
                    <a:prstGeom prst="ellipse">
                      <a:avLst/>
                    </a:prstGeom>
                    <a:solidFill>
                      <a:srgbClr val="60606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8640" bIns="8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74" name=""/>
                    <p:cNvSpPr/>
                    <p:nvPr/>
                  </p:nvSpPr>
                  <p:spPr>
                    <a:xfrm flipH="1">
                      <a:off x="3000960" y="5735880"/>
                      <a:ext cx="52200" cy="173160"/>
                    </a:xfrm>
                    <a:prstGeom prst="rect">
                      <a:avLst/>
                    </a:prstGeom>
                    <a:solidFill>
                      <a:srgbClr val="60606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875" name=""/>
                    <p:cNvGrpSpPr/>
                    <p:nvPr/>
                  </p:nvGrpSpPr>
                  <p:grpSpPr>
                    <a:xfrm>
                      <a:off x="2912040" y="5669280"/>
                      <a:ext cx="258480" cy="90360"/>
                      <a:chOff x="2912040" y="5669280"/>
                      <a:chExt cx="258480" cy="90360"/>
                    </a:xfrm>
                  </p:grpSpPr>
                  <p:sp>
                    <p:nvSpPr>
                      <p:cNvPr id="876" name=""/>
                      <p:cNvSpPr/>
                      <p:nvPr/>
                    </p:nvSpPr>
                    <p:spPr>
                      <a:xfrm flipH="1">
                        <a:off x="2912040" y="5669280"/>
                        <a:ext cx="258480" cy="90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18" h="426">
                            <a:moveTo>
                              <a:pt x="0" y="222"/>
                            </a:moveTo>
                            <a:lnTo>
                              <a:pt x="7" y="354"/>
                            </a:lnTo>
                            <a:lnTo>
                              <a:pt x="409" y="426"/>
                            </a:lnTo>
                            <a:lnTo>
                              <a:pt x="851" y="426"/>
                            </a:lnTo>
                            <a:lnTo>
                              <a:pt x="1198" y="318"/>
                            </a:lnTo>
                            <a:lnTo>
                              <a:pt x="1218" y="10"/>
                            </a:lnTo>
                            <a:lnTo>
                              <a:pt x="531" y="0"/>
                            </a:lnTo>
                            <a:lnTo>
                              <a:pt x="0" y="222"/>
                            </a:lnTo>
                            <a:close/>
                          </a:path>
                        </a:pathLst>
                      </a:custGeom>
                      <a:solidFill>
                        <a:srgbClr val="404040"/>
                      </a:solidFill>
                      <a:ln w="324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3560" bIns="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77" name=""/>
                      <p:cNvSpPr/>
                      <p:nvPr/>
                    </p:nvSpPr>
                    <p:spPr>
                      <a:xfrm flipH="1">
                        <a:off x="2917440" y="5703480"/>
                        <a:ext cx="248400" cy="52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64" h="247">
                            <a:moveTo>
                              <a:pt x="0" y="85"/>
                            </a:moveTo>
                            <a:lnTo>
                              <a:pt x="6" y="181"/>
                            </a:lnTo>
                            <a:lnTo>
                              <a:pt x="368" y="247"/>
                            </a:lnTo>
                            <a:lnTo>
                              <a:pt x="836" y="247"/>
                            </a:lnTo>
                            <a:lnTo>
                              <a:pt x="1164" y="133"/>
                            </a:lnTo>
                            <a:lnTo>
                              <a:pt x="1164" y="0"/>
                            </a:lnTo>
                            <a:lnTo>
                              <a:pt x="851" y="133"/>
                            </a:lnTo>
                            <a:lnTo>
                              <a:pt x="374" y="139"/>
                            </a:lnTo>
                            <a:lnTo>
                              <a:pt x="0" y="85"/>
                            </a:lnTo>
                            <a:close/>
                          </a:path>
                        </a:pathLst>
                      </a:custGeom>
                      <a:solidFill>
                        <a:srgbClr val="60606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5400" bIns="5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878" name=""/>
                    <p:cNvSpPr/>
                    <p:nvPr/>
                  </p:nvSpPr>
                  <p:spPr>
                    <a:xfrm flipH="1">
                      <a:off x="2904480" y="5573880"/>
                      <a:ext cx="352800" cy="328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62" h="1545">
                          <a:moveTo>
                            <a:pt x="7" y="870"/>
                          </a:moveTo>
                          <a:lnTo>
                            <a:pt x="16" y="715"/>
                          </a:lnTo>
                          <a:lnTo>
                            <a:pt x="13" y="550"/>
                          </a:lnTo>
                          <a:lnTo>
                            <a:pt x="20" y="425"/>
                          </a:lnTo>
                          <a:lnTo>
                            <a:pt x="92" y="349"/>
                          </a:lnTo>
                          <a:lnTo>
                            <a:pt x="178" y="306"/>
                          </a:lnTo>
                          <a:lnTo>
                            <a:pt x="375" y="234"/>
                          </a:lnTo>
                          <a:lnTo>
                            <a:pt x="666" y="164"/>
                          </a:lnTo>
                          <a:lnTo>
                            <a:pt x="722" y="159"/>
                          </a:lnTo>
                          <a:lnTo>
                            <a:pt x="760" y="164"/>
                          </a:lnTo>
                          <a:lnTo>
                            <a:pt x="770" y="149"/>
                          </a:lnTo>
                          <a:lnTo>
                            <a:pt x="785" y="134"/>
                          </a:lnTo>
                          <a:lnTo>
                            <a:pt x="804" y="137"/>
                          </a:lnTo>
                          <a:lnTo>
                            <a:pt x="829" y="140"/>
                          </a:lnTo>
                          <a:lnTo>
                            <a:pt x="840" y="110"/>
                          </a:lnTo>
                          <a:lnTo>
                            <a:pt x="862" y="94"/>
                          </a:lnTo>
                          <a:lnTo>
                            <a:pt x="884" y="90"/>
                          </a:lnTo>
                          <a:lnTo>
                            <a:pt x="914" y="90"/>
                          </a:lnTo>
                          <a:lnTo>
                            <a:pt x="910" y="64"/>
                          </a:lnTo>
                          <a:lnTo>
                            <a:pt x="944" y="0"/>
                          </a:lnTo>
                          <a:lnTo>
                            <a:pt x="1621" y="18"/>
                          </a:lnTo>
                          <a:lnTo>
                            <a:pt x="1619" y="87"/>
                          </a:lnTo>
                          <a:lnTo>
                            <a:pt x="1631" y="149"/>
                          </a:lnTo>
                          <a:lnTo>
                            <a:pt x="1641" y="194"/>
                          </a:lnTo>
                          <a:lnTo>
                            <a:pt x="1652" y="249"/>
                          </a:lnTo>
                          <a:lnTo>
                            <a:pt x="1662" y="338"/>
                          </a:lnTo>
                          <a:lnTo>
                            <a:pt x="1651" y="391"/>
                          </a:lnTo>
                          <a:lnTo>
                            <a:pt x="1631" y="440"/>
                          </a:lnTo>
                          <a:lnTo>
                            <a:pt x="1607" y="482"/>
                          </a:lnTo>
                          <a:lnTo>
                            <a:pt x="1576" y="498"/>
                          </a:lnTo>
                          <a:lnTo>
                            <a:pt x="1527" y="512"/>
                          </a:lnTo>
                          <a:lnTo>
                            <a:pt x="1462" y="532"/>
                          </a:lnTo>
                          <a:lnTo>
                            <a:pt x="1432" y="567"/>
                          </a:lnTo>
                          <a:lnTo>
                            <a:pt x="1397" y="597"/>
                          </a:lnTo>
                          <a:lnTo>
                            <a:pt x="1342" y="622"/>
                          </a:lnTo>
                          <a:lnTo>
                            <a:pt x="1278" y="642"/>
                          </a:lnTo>
                          <a:lnTo>
                            <a:pt x="1175" y="654"/>
                          </a:lnTo>
                          <a:lnTo>
                            <a:pt x="1088" y="654"/>
                          </a:lnTo>
                          <a:lnTo>
                            <a:pt x="1021" y="647"/>
                          </a:lnTo>
                          <a:lnTo>
                            <a:pt x="960" y="642"/>
                          </a:lnTo>
                          <a:lnTo>
                            <a:pt x="914" y="666"/>
                          </a:lnTo>
                          <a:lnTo>
                            <a:pt x="826" y="662"/>
                          </a:lnTo>
                          <a:lnTo>
                            <a:pt x="472" y="712"/>
                          </a:lnTo>
                          <a:lnTo>
                            <a:pt x="376" y="723"/>
                          </a:lnTo>
                          <a:lnTo>
                            <a:pt x="412" y="931"/>
                          </a:lnTo>
                          <a:lnTo>
                            <a:pt x="416" y="1039"/>
                          </a:lnTo>
                          <a:lnTo>
                            <a:pt x="394" y="1175"/>
                          </a:lnTo>
                          <a:lnTo>
                            <a:pt x="373" y="1337"/>
                          </a:lnTo>
                          <a:lnTo>
                            <a:pt x="373" y="1502"/>
                          </a:lnTo>
                          <a:lnTo>
                            <a:pt x="290" y="1527"/>
                          </a:lnTo>
                          <a:lnTo>
                            <a:pt x="186" y="1538"/>
                          </a:lnTo>
                          <a:lnTo>
                            <a:pt x="97" y="1545"/>
                          </a:lnTo>
                          <a:lnTo>
                            <a:pt x="0" y="1534"/>
                          </a:lnTo>
                          <a:lnTo>
                            <a:pt x="7" y="1380"/>
                          </a:lnTo>
                          <a:lnTo>
                            <a:pt x="7" y="1128"/>
                          </a:lnTo>
                          <a:lnTo>
                            <a:pt x="7" y="909"/>
                          </a:lnTo>
                          <a:lnTo>
                            <a:pt x="7" y="870"/>
                          </a:lnTo>
                          <a:close/>
                        </a:path>
                      </a:pathLst>
                    </a:custGeom>
                    <a:solidFill>
                      <a:srgbClr val="606060"/>
                    </a:solidFill>
                    <a:ln w="32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79" name=""/>
                    <p:cNvSpPr/>
                    <p:nvPr/>
                  </p:nvSpPr>
                  <p:spPr>
                    <a:xfrm flipH="1">
                      <a:off x="2907720" y="5587560"/>
                      <a:ext cx="345240" cy="311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27" h="1461">
                          <a:moveTo>
                            <a:pt x="1573" y="25"/>
                          </a:moveTo>
                          <a:lnTo>
                            <a:pt x="1577" y="71"/>
                          </a:lnTo>
                          <a:lnTo>
                            <a:pt x="1595" y="53"/>
                          </a:lnTo>
                          <a:lnTo>
                            <a:pt x="1617" y="158"/>
                          </a:lnTo>
                          <a:lnTo>
                            <a:pt x="1627" y="280"/>
                          </a:lnTo>
                          <a:lnTo>
                            <a:pt x="1584" y="405"/>
                          </a:lnTo>
                          <a:lnTo>
                            <a:pt x="1484" y="434"/>
                          </a:lnTo>
                          <a:lnTo>
                            <a:pt x="1495" y="405"/>
                          </a:lnTo>
                          <a:lnTo>
                            <a:pt x="1441" y="448"/>
                          </a:lnTo>
                          <a:lnTo>
                            <a:pt x="1394" y="495"/>
                          </a:lnTo>
                          <a:lnTo>
                            <a:pt x="1290" y="545"/>
                          </a:lnTo>
                          <a:lnTo>
                            <a:pt x="1161" y="556"/>
                          </a:lnTo>
                          <a:lnTo>
                            <a:pt x="1007" y="563"/>
                          </a:lnTo>
                          <a:lnTo>
                            <a:pt x="942" y="556"/>
                          </a:lnTo>
                          <a:lnTo>
                            <a:pt x="1000" y="531"/>
                          </a:lnTo>
                          <a:lnTo>
                            <a:pt x="1025" y="466"/>
                          </a:lnTo>
                          <a:lnTo>
                            <a:pt x="978" y="520"/>
                          </a:lnTo>
                          <a:lnTo>
                            <a:pt x="921" y="552"/>
                          </a:lnTo>
                          <a:lnTo>
                            <a:pt x="867" y="581"/>
                          </a:lnTo>
                          <a:lnTo>
                            <a:pt x="813" y="574"/>
                          </a:lnTo>
                          <a:lnTo>
                            <a:pt x="849" y="549"/>
                          </a:lnTo>
                          <a:lnTo>
                            <a:pt x="885" y="517"/>
                          </a:lnTo>
                          <a:lnTo>
                            <a:pt x="827" y="538"/>
                          </a:lnTo>
                          <a:lnTo>
                            <a:pt x="770" y="581"/>
                          </a:lnTo>
                          <a:lnTo>
                            <a:pt x="584" y="603"/>
                          </a:lnTo>
                          <a:lnTo>
                            <a:pt x="397" y="631"/>
                          </a:lnTo>
                          <a:lnTo>
                            <a:pt x="341" y="646"/>
                          </a:lnTo>
                          <a:lnTo>
                            <a:pt x="387" y="919"/>
                          </a:lnTo>
                          <a:lnTo>
                            <a:pt x="352" y="1174"/>
                          </a:lnTo>
                          <a:lnTo>
                            <a:pt x="348" y="1421"/>
                          </a:lnTo>
                          <a:lnTo>
                            <a:pt x="230" y="1446"/>
                          </a:lnTo>
                          <a:lnTo>
                            <a:pt x="126" y="1461"/>
                          </a:lnTo>
                          <a:lnTo>
                            <a:pt x="0" y="1457"/>
                          </a:lnTo>
                          <a:lnTo>
                            <a:pt x="7" y="1102"/>
                          </a:lnTo>
                          <a:lnTo>
                            <a:pt x="7" y="804"/>
                          </a:lnTo>
                          <a:lnTo>
                            <a:pt x="25" y="639"/>
                          </a:lnTo>
                          <a:lnTo>
                            <a:pt x="10" y="535"/>
                          </a:lnTo>
                          <a:lnTo>
                            <a:pt x="20" y="420"/>
                          </a:lnTo>
                          <a:lnTo>
                            <a:pt x="42" y="344"/>
                          </a:lnTo>
                          <a:lnTo>
                            <a:pt x="132" y="287"/>
                          </a:lnTo>
                          <a:lnTo>
                            <a:pt x="243" y="237"/>
                          </a:lnTo>
                          <a:lnTo>
                            <a:pt x="462" y="165"/>
                          </a:lnTo>
                          <a:lnTo>
                            <a:pt x="637" y="114"/>
                          </a:lnTo>
                          <a:lnTo>
                            <a:pt x="734" y="107"/>
                          </a:lnTo>
                          <a:lnTo>
                            <a:pt x="774" y="165"/>
                          </a:lnTo>
                          <a:lnTo>
                            <a:pt x="896" y="226"/>
                          </a:lnTo>
                          <a:lnTo>
                            <a:pt x="831" y="172"/>
                          </a:lnTo>
                          <a:lnTo>
                            <a:pt x="781" y="143"/>
                          </a:lnTo>
                          <a:lnTo>
                            <a:pt x="763" y="104"/>
                          </a:lnTo>
                          <a:lnTo>
                            <a:pt x="770" y="86"/>
                          </a:lnTo>
                          <a:lnTo>
                            <a:pt x="806" y="86"/>
                          </a:lnTo>
                          <a:lnTo>
                            <a:pt x="827" y="107"/>
                          </a:lnTo>
                          <a:lnTo>
                            <a:pt x="849" y="129"/>
                          </a:lnTo>
                          <a:lnTo>
                            <a:pt x="903" y="150"/>
                          </a:lnTo>
                          <a:lnTo>
                            <a:pt x="853" y="107"/>
                          </a:lnTo>
                          <a:lnTo>
                            <a:pt x="831" y="75"/>
                          </a:lnTo>
                          <a:lnTo>
                            <a:pt x="845" y="53"/>
                          </a:lnTo>
                          <a:lnTo>
                            <a:pt x="888" y="39"/>
                          </a:lnTo>
                          <a:lnTo>
                            <a:pt x="946" y="89"/>
                          </a:lnTo>
                          <a:lnTo>
                            <a:pt x="1000" y="122"/>
                          </a:lnTo>
                          <a:lnTo>
                            <a:pt x="935" y="50"/>
                          </a:lnTo>
                          <a:lnTo>
                            <a:pt x="914" y="21"/>
                          </a:lnTo>
                          <a:lnTo>
                            <a:pt x="914" y="0"/>
                          </a:lnTo>
                          <a:lnTo>
                            <a:pt x="967" y="7"/>
                          </a:lnTo>
                          <a:lnTo>
                            <a:pt x="1018" y="43"/>
                          </a:lnTo>
                          <a:lnTo>
                            <a:pt x="1050" y="68"/>
                          </a:lnTo>
                          <a:lnTo>
                            <a:pt x="1204" y="82"/>
                          </a:lnTo>
                          <a:lnTo>
                            <a:pt x="1200" y="43"/>
                          </a:lnTo>
                          <a:lnTo>
                            <a:pt x="1247" y="28"/>
                          </a:lnTo>
                          <a:lnTo>
                            <a:pt x="1247" y="79"/>
                          </a:lnTo>
                          <a:lnTo>
                            <a:pt x="1294" y="89"/>
                          </a:lnTo>
                          <a:lnTo>
                            <a:pt x="1394" y="104"/>
                          </a:lnTo>
                          <a:lnTo>
                            <a:pt x="1387" y="50"/>
                          </a:lnTo>
                          <a:lnTo>
                            <a:pt x="1423" y="50"/>
                          </a:lnTo>
                          <a:lnTo>
                            <a:pt x="1426" y="104"/>
                          </a:lnTo>
                          <a:lnTo>
                            <a:pt x="1484" y="100"/>
                          </a:lnTo>
                          <a:lnTo>
                            <a:pt x="1545" y="86"/>
                          </a:lnTo>
                          <a:lnTo>
                            <a:pt x="1548" y="43"/>
                          </a:lnTo>
                          <a:lnTo>
                            <a:pt x="1573" y="25"/>
                          </a:lnTo>
                          <a:close/>
                        </a:path>
                      </a:pathLst>
                    </a:cu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80" name=""/>
                    <p:cNvSpPr/>
                    <p:nvPr/>
                  </p:nvSpPr>
                  <p:spPr>
                    <a:xfrm flipH="1">
                      <a:off x="2956320" y="5640120"/>
                      <a:ext cx="47160" cy="7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22" h="40">
                          <a:moveTo>
                            <a:pt x="222" y="0"/>
                          </a:moveTo>
                          <a:lnTo>
                            <a:pt x="118" y="40"/>
                          </a:lnTo>
                          <a:lnTo>
                            <a:pt x="0" y="29"/>
                          </a:lnTo>
                          <a:lnTo>
                            <a:pt x="222" y="0"/>
                          </a:lnTo>
                          <a:close/>
                        </a:path>
                      </a:pathLst>
                    </a:custGeom>
                    <a:solidFill>
                      <a:srgbClr val="60606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600" bIns="-39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81" name=""/>
                    <p:cNvSpPr/>
                    <p:nvPr/>
                  </p:nvSpPr>
                  <p:spPr>
                    <a:xfrm flipH="1">
                      <a:off x="2909160" y="5625720"/>
                      <a:ext cx="29160" cy="10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47">
                          <a:moveTo>
                            <a:pt x="136" y="0"/>
                          </a:moveTo>
                          <a:lnTo>
                            <a:pt x="100" y="29"/>
                          </a:lnTo>
                          <a:lnTo>
                            <a:pt x="0" y="43"/>
                          </a:lnTo>
                          <a:lnTo>
                            <a:pt x="104" y="47"/>
                          </a:lnTo>
                          <a:lnTo>
                            <a:pt x="136" y="0"/>
                          </a:lnTo>
                          <a:close/>
                        </a:path>
                      </a:pathLst>
                    </a:custGeom>
                    <a:solidFill>
                      <a:srgbClr val="60606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6720" bIns="-36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82" name=""/>
                    <p:cNvSpPr/>
                    <p:nvPr/>
                  </p:nvSpPr>
                  <p:spPr>
                    <a:xfrm flipH="1">
                      <a:off x="3029040" y="5618160"/>
                      <a:ext cx="44280" cy="25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8" h="115">
                          <a:moveTo>
                            <a:pt x="208" y="0"/>
                          </a:moveTo>
                          <a:lnTo>
                            <a:pt x="115" y="11"/>
                          </a:lnTo>
                          <a:lnTo>
                            <a:pt x="97" y="25"/>
                          </a:lnTo>
                          <a:lnTo>
                            <a:pt x="97" y="61"/>
                          </a:lnTo>
                          <a:lnTo>
                            <a:pt x="90" y="101"/>
                          </a:lnTo>
                          <a:lnTo>
                            <a:pt x="0" y="115"/>
                          </a:lnTo>
                          <a:lnTo>
                            <a:pt x="108" y="112"/>
                          </a:lnTo>
                          <a:lnTo>
                            <a:pt x="125" y="40"/>
                          </a:lnTo>
                          <a:lnTo>
                            <a:pt x="208" y="0"/>
                          </a:lnTo>
                          <a:close/>
                        </a:path>
                      </a:pathLst>
                    </a:custGeom>
                    <a:solidFill>
                      <a:srgbClr val="60606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600" bIns="-21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83" name=""/>
                    <p:cNvSpPr/>
                    <p:nvPr/>
                  </p:nvSpPr>
                  <p:spPr>
                    <a:xfrm flipH="1">
                      <a:off x="3074040" y="5672880"/>
                      <a:ext cx="142560" cy="36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74" h="168">
                          <a:moveTo>
                            <a:pt x="674" y="0"/>
                          </a:moveTo>
                          <a:lnTo>
                            <a:pt x="502" y="7"/>
                          </a:lnTo>
                          <a:lnTo>
                            <a:pt x="326" y="50"/>
                          </a:lnTo>
                          <a:lnTo>
                            <a:pt x="197" y="57"/>
                          </a:lnTo>
                          <a:lnTo>
                            <a:pt x="89" y="79"/>
                          </a:lnTo>
                          <a:lnTo>
                            <a:pt x="50" y="136"/>
                          </a:lnTo>
                          <a:lnTo>
                            <a:pt x="0" y="168"/>
                          </a:lnTo>
                          <a:lnTo>
                            <a:pt x="50" y="158"/>
                          </a:lnTo>
                          <a:lnTo>
                            <a:pt x="96" y="93"/>
                          </a:lnTo>
                          <a:lnTo>
                            <a:pt x="240" y="64"/>
                          </a:lnTo>
                          <a:lnTo>
                            <a:pt x="326" y="64"/>
                          </a:lnTo>
                          <a:lnTo>
                            <a:pt x="394" y="50"/>
                          </a:lnTo>
                          <a:lnTo>
                            <a:pt x="513" y="18"/>
                          </a:lnTo>
                          <a:lnTo>
                            <a:pt x="674" y="0"/>
                          </a:lnTo>
                          <a:close/>
                        </a:path>
                      </a:pathLst>
                    </a:custGeom>
                    <a:solidFill>
                      <a:srgbClr val="60606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080" bIns="-10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884" name=""/>
                    <p:cNvGrpSpPr/>
                    <p:nvPr/>
                  </p:nvGrpSpPr>
                  <p:grpSpPr>
                    <a:xfrm>
                      <a:off x="3051360" y="5403960"/>
                      <a:ext cx="142200" cy="78480"/>
                      <a:chOff x="3051360" y="5403960"/>
                      <a:chExt cx="142200" cy="78480"/>
                    </a:xfrm>
                  </p:grpSpPr>
                  <p:grpSp>
                    <p:nvGrpSpPr>
                      <p:cNvPr id="885" name=""/>
                      <p:cNvGrpSpPr/>
                      <p:nvPr/>
                    </p:nvGrpSpPr>
                    <p:grpSpPr>
                      <a:xfrm>
                        <a:off x="3069000" y="5403960"/>
                        <a:ext cx="124560" cy="63720"/>
                        <a:chOff x="3069000" y="5403960"/>
                        <a:chExt cx="124560" cy="63720"/>
                      </a:xfrm>
                    </p:grpSpPr>
                    <p:sp>
                      <p:nvSpPr>
                        <p:cNvPr id="886" name=""/>
                        <p:cNvSpPr/>
                        <p:nvPr/>
                      </p:nvSpPr>
                      <p:spPr>
                        <a:xfrm flipH="1">
                          <a:off x="3069000" y="5403960"/>
                          <a:ext cx="124560" cy="637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592" h="301">
                              <a:moveTo>
                                <a:pt x="536" y="301"/>
                              </a:moveTo>
                              <a:lnTo>
                                <a:pt x="505" y="293"/>
                              </a:lnTo>
                              <a:lnTo>
                                <a:pt x="473" y="279"/>
                              </a:lnTo>
                              <a:lnTo>
                                <a:pt x="445" y="273"/>
                              </a:lnTo>
                              <a:lnTo>
                                <a:pt x="396" y="280"/>
                              </a:lnTo>
                              <a:lnTo>
                                <a:pt x="360" y="279"/>
                              </a:lnTo>
                              <a:lnTo>
                                <a:pt x="335" y="271"/>
                              </a:lnTo>
                              <a:lnTo>
                                <a:pt x="314" y="263"/>
                              </a:lnTo>
                              <a:lnTo>
                                <a:pt x="294" y="254"/>
                              </a:lnTo>
                              <a:lnTo>
                                <a:pt x="273" y="235"/>
                              </a:lnTo>
                              <a:lnTo>
                                <a:pt x="255" y="217"/>
                              </a:lnTo>
                              <a:lnTo>
                                <a:pt x="227" y="195"/>
                              </a:lnTo>
                              <a:lnTo>
                                <a:pt x="188" y="202"/>
                              </a:lnTo>
                              <a:lnTo>
                                <a:pt x="164" y="204"/>
                              </a:lnTo>
                              <a:lnTo>
                                <a:pt x="151" y="200"/>
                              </a:lnTo>
                              <a:lnTo>
                                <a:pt x="144" y="193"/>
                              </a:lnTo>
                              <a:lnTo>
                                <a:pt x="139" y="182"/>
                              </a:lnTo>
                              <a:lnTo>
                                <a:pt x="142" y="171"/>
                              </a:lnTo>
                              <a:lnTo>
                                <a:pt x="151" y="159"/>
                              </a:lnTo>
                              <a:lnTo>
                                <a:pt x="164" y="155"/>
                              </a:lnTo>
                              <a:lnTo>
                                <a:pt x="196" y="150"/>
                              </a:lnTo>
                              <a:lnTo>
                                <a:pt x="233" y="137"/>
                              </a:lnTo>
                              <a:lnTo>
                                <a:pt x="202" y="111"/>
                              </a:lnTo>
                              <a:lnTo>
                                <a:pt x="165" y="97"/>
                              </a:lnTo>
                              <a:lnTo>
                                <a:pt x="133" y="99"/>
                              </a:lnTo>
                              <a:lnTo>
                                <a:pt x="96" y="97"/>
                              </a:lnTo>
                              <a:lnTo>
                                <a:pt x="74" y="104"/>
                              </a:lnTo>
                              <a:lnTo>
                                <a:pt x="43" y="105"/>
                              </a:lnTo>
                              <a:lnTo>
                                <a:pt x="34" y="97"/>
                              </a:lnTo>
                              <a:lnTo>
                                <a:pt x="31" y="84"/>
                              </a:lnTo>
                              <a:lnTo>
                                <a:pt x="14" y="85"/>
                              </a:lnTo>
                              <a:lnTo>
                                <a:pt x="5" y="83"/>
                              </a:lnTo>
                              <a:lnTo>
                                <a:pt x="0" y="71"/>
                              </a:lnTo>
                              <a:lnTo>
                                <a:pt x="4" y="60"/>
                              </a:lnTo>
                              <a:lnTo>
                                <a:pt x="12" y="55"/>
                              </a:lnTo>
                              <a:lnTo>
                                <a:pt x="29" y="46"/>
                              </a:lnTo>
                              <a:lnTo>
                                <a:pt x="42" y="36"/>
                              </a:lnTo>
                              <a:lnTo>
                                <a:pt x="56" y="28"/>
                              </a:lnTo>
                              <a:lnTo>
                                <a:pt x="74" y="23"/>
                              </a:lnTo>
                              <a:lnTo>
                                <a:pt x="89" y="23"/>
                              </a:lnTo>
                              <a:lnTo>
                                <a:pt x="160" y="7"/>
                              </a:lnTo>
                              <a:lnTo>
                                <a:pt x="176" y="4"/>
                              </a:lnTo>
                              <a:lnTo>
                                <a:pt x="193" y="0"/>
                              </a:lnTo>
                              <a:lnTo>
                                <a:pt x="210" y="4"/>
                              </a:lnTo>
                              <a:lnTo>
                                <a:pt x="232" y="11"/>
                              </a:lnTo>
                              <a:lnTo>
                                <a:pt x="294" y="46"/>
                              </a:lnTo>
                              <a:lnTo>
                                <a:pt x="323" y="52"/>
                              </a:lnTo>
                              <a:lnTo>
                                <a:pt x="349" y="58"/>
                              </a:lnTo>
                              <a:lnTo>
                                <a:pt x="369" y="71"/>
                              </a:lnTo>
                              <a:lnTo>
                                <a:pt x="381" y="86"/>
                              </a:lnTo>
                              <a:lnTo>
                                <a:pt x="433" y="122"/>
                              </a:lnTo>
                              <a:lnTo>
                                <a:pt x="457" y="139"/>
                              </a:lnTo>
                              <a:lnTo>
                                <a:pt x="487" y="171"/>
                              </a:lnTo>
                              <a:lnTo>
                                <a:pt x="506" y="181"/>
                              </a:lnTo>
                              <a:lnTo>
                                <a:pt x="592" y="184"/>
                              </a:lnTo>
                              <a:lnTo>
                                <a:pt x="536" y="301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c080"/>
                        </a:solidFill>
                        <a:ln w="3240">
                          <a:solidFill>
                            <a:srgbClr val="402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6920" bIns="169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87" name=""/>
                        <p:cNvSpPr/>
                        <p:nvPr/>
                      </p:nvSpPr>
                      <p:spPr>
                        <a:xfrm flipH="1">
                          <a:off x="3116520" y="5431680"/>
                          <a:ext cx="28800" cy="7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43" h="36">
                              <a:moveTo>
                                <a:pt x="0" y="0"/>
                              </a:moveTo>
                              <a:lnTo>
                                <a:pt x="4" y="9"/>
                              </a:lnTo>
                              <a:lnTo>
                                <a:pt x="29" y="8"/>
                              </a:lnTo>
                              <a:lnTo>
                                <a:pt x="40" y="14"/>
                              </a:lnTo>
                              <a:lnTo>
                                <a:pt x="60" y="25"/>
                              </a:lnTo>
                              <a:lnTo>
                                <a:pt x="89" y="31"/>
                              </a:lnTo>
                              <a:lnTo>
                                <a:pt x="120" y="32"/>
                              </a:lnTo>
                              <a:lnTo>
                                <a:pt x="143" y="36"/>
                              </a:lnTo>
                              <a:lnTo>
                                <a:pt x="124" y="29"/>
                              </a:lnTo>
                              <a:lnTo>
                                <a:pt x="100" y="25"/>
                              </a:lnTo>
                              <a:lnTo>
                                <a:pt x="83" y="25"/>
                              </a:lnTo>
                              <a:lnTo>
                                <a:pt x="60" y="18"/>
                              </a:lnTo>
                              <a:lnTo>
                                <a:pt x="42" y="7"/>
                              </a:lnTo>
                              <a:lnTo>
                                <a:pt x="34" y="2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02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9240" bIns="-392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88" name=""/>
                        <p:cNvSpPr/>
                        <p:nvPr/>
                      </p:nvSpPr>
                      <p:spPr>
                        <a:xfrm flipH="1">
                          <a:off x="3153240" y="5438160"/>
                          <a:ext cx="3600" cy="50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7" h="21">
                              <a:moveTo>
                                <a:pt x="2" y="0"/>
                              </a:moveTo>
                              <a:lnTo>
                                <a:pt x="9" y="6"/>
                              </a:lnTo>
                              <a:lnTo>
                                <a:pt x="7" y="13"/>
                              </a:lnTo>
                              <a:lnTo>
                                <a:pt x="0" y="21"/>
                              </a:lnTo>
                              <a:lnTo>
                                <a:pt x="14" y="15"/>
                              </a:lnTo>
                              <a:lnTo>
                                <a:pt x="17" y="7"/>
                              </a:lnTo>
                              <a:lnTo>
                                <a:pt x="2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02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1760" bIns="-417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89" name=""/>
                        <p:cNvSpPr/>
                        <p:nvPr/>
                      </p:nvSpPr>
                      <p:spPr>
                        <a:xfrm flipH="1">
                          <a:off x="3170520" y="5414040"/>
                          <a:ext cx="17640" cy="7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4" h="39">
                              <a:moveTo>
                                <a:pt x="0" y="37"/>
                              </a:moveTo>
                              <a:lnTo>
                                <a:pt x="9" y="39"/>
                              </a:lnTo>
                              <a:lnTo>
                                <a:pt x="21" y="27"/>
                              </a:lnTo>
                              <a:lnTo>
                                <a:pt x="37" y="20"/>
                              </a:lnTo>
                              <a:lnTo>
                                <a:pt x="46" y="12"/>
                              </a:lnTo>
                              <a:lnTo>
                                <a:pt x="53" y="7"/>
                              </a:lnTo>
                              <a:lnTo>
                                <a:pt x="72" y="3"/>
                              </a:lnTo>
                              <a:lnTo>
                                <a:pt x="84" y="1"/>
                              </a:lnTo>
                              <a:lnTo>
                                <a:pt x="68" y="0"/>
                              </a:lnTo>
                              <a:lnTo>
                                <a:pt x="47" y="3"/>
                              </a:lnTo>
                              <a:lnTo>
                                <a:pt x="40" y="9"/>
                              </a:lnTo>
                              <a:lnTo>
                                <a:pt x="30" y="16"/>
                              </a:lnTo>
                              <a:lnTo>
                                <a:pt x="0" y="37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02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9240" bIns="-392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90" name=""/>
                        <p:cNvSpPr/>
                        <p:nvPr/>
                      </p:nvSpPr>
                      <p:spPr>
                        <a:xfrm flipH="1">
                          <a:off x="3135240" y="5410080"/>
                          <a:ext cx="27720" cy="7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32" h="35">
                              <a:moveTo>
                                <a:pt x="0" y="8"/>
                              </a:moveTo>
                              <a:lnTo>
                                <a:pt x="28" y="5"/>
                              </a:lnTo>
                              <a:lnTo>
                                <a:pt x="43" y="0"/>
                              </a:lnTo>
                              <a:lnTo>
                                <a:pt x="51" y="0"/>
                              </a:lnTo>
                              <a:lnTo>
                                <a:pt x="67" y="4"/>
                              </a:lnTo>
                              <a:lnTo>
                                <a:pt x="74" y="12"/>
                              </a:lnTo>
                              <a:lnTo>
                                <a:pt x="88" y="19"/>
                              </a:lnTo>
                              <a:lnTo>
                                <a:pt x="114" y="30"/>
                              </a:lnTo>
                              <a:lnTo>
                                <a:pt x="132" y="30"/>
                              </a:lnTo>
                              <a:lnTo>
                                <a:pt x="113" y="35"/>
                              </a:lnTo>
                              <a:lnTo>
                                <a:pt x="101" y="32"/>
                              </a:lnTo>
                              <a:lnTo>
                                <a:pt x="72" y="18"/>
                              </a:lnTo>
                              <a:lnTo>
                                <a:pt x="62" y="8"/>
                              </a:lnTo>
                              <a:lnTo>
                                <a:pt x="43" y="6"/>
                              </a:lnTo>
                              <a:lnTo>
                                <a:pt x="28" y="8"/>
                              </a:lnTo>
                              <a:lnTo>
                                <a:pt x="0" y="8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02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9240" bIns="-392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91" name=""/>
                        <p:cNvSpPr/>
                        <p:nvPr/>
                      </p:nvSpPr>
                      <p:spPr>
                        <a:xfrm flipH="1">
                          <a:off x="3178440" y="5418000"/>
                          <a:ext cx="6120" cy="4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7" h="25">
                              <a:moveTo>
                                <a:pt x="20" y="0"/>
                              </a:moveTo>
                              <a:lnTo>
                                <a:pt x="27" y="10"/>
                              </a:lnTo>
                              <a:lnTo>
                                <a:pt x="19" y="21"/>
                              </a:lnTo>
                              <a:lnTo>
                                <a:pt x="0" y="25"/>
                              </a:lnTo>
                              <a:lnTo>
                                <a:pt x="20" y="12"/>
                              </a:lnTo>
                              <a:lnTo>
                                <a:pt x="20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02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2120" bIns="-421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92" name=""/>
                        <p:cNvSpPr/>
                        <p:nvPr/>
                      </p:nvSpPr>
                      <p:spPr>
                        <a:xfrm flipH="1">
                          <a:off x="3184560" y="5414040"/>
                          <a:ext cx="4680" cy="50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8" h="24">
                              <a:moveTo>
                                <a:pt x="28" y="13"/>
                              </a:moveTo>
                              <a:lnTo>
                                <a:pt x="20" y="0"/>
                              </a:lnTo>
                              <a:lnTo>
                                <a:pt x="19" y="11"/>
                              </a:lnTo>
                              <a:lnTo>
                                <a:pt x="0" y="21"/>
                              </a:lnTo>
                              <a:lnTo>
                                <a:pt x="3" y="24"/>
                              </a:lnTo>
                              <a:lnTo>
                                <a:pt x="28" y="13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02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1760" bIns="-417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93" name=""/>
                        <p:cNvSpPr/>
                        <p:nvPr/>
                      </p:nvSpPr>
                      <p:spPr>
                        <a:xfrm flipH="1">
                          <a:off x="3114720" y="5420160"/>
                          <a:ext cx="6120" cy="7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1" h="34">
                              <a:moveTo>
                                <a:pt x="0" y="0"/>
                              </a:moveTo>
                              <a:lnTo>
                                <a:pt x="7" y="18"/>
                              </a:lnTo>
                              <a:lnTo>
                                <a:pt x="19" y="32"/>
                              </a:lnTo>
                              <a:lnTo>
                                <a:pt x="31" y="34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02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9240" bIns="-392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94" name=""/>
                        <p:cNvSpPr/>
                        <p:nvPr/>
                      </p:nvSpPr>
                      <p:spPr>
                        <a:xfrm flipH="1">
                          <a:off x="3090600" y="5450760"/>
                          <a:ext cx="8640" cy="7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0" h="32">
                              <a:moveTo>
                                <a:pt x="40" y="0"/>
                              </a:moveTo>
                              <a:lnTo>
                                <a:pt x="14" y="12"/>
                              </a:lnTo>
                              <a:lnTo>
                                <a:pt x="0" y="32"/>
                              </a:lnTo>
                              <a:lnTo>
                                <a:pt x="40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02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9240" bIns="-392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895" name=""/>
                      <p:cNvGrpSpPr/>
                      <p:nvPr/>
                    </p:nvGrpSpPr>
                    <p:grpSpPr>
                      <a:xfrm>
                        <a:off x="3051360" y="5438160"/>
                        <a:ext cx="35280" cy="44280"/>
                        <a:chOff x="3051360" y="5438160"/>
                        <a:chExt cx="35280" cy="44280"/>
                      </a:xfrm>
                    </p:grpSpPr>
                    <p:sp>
                      <p:nvSpPr>
                        <p:cNvPr id="896" name=""/>
                        <p:cNvSpPr/>
                        <p:nvPr/>
                      </p:nvSpPr>
                      <p:spPr>
                        <a:xfrm flipH="1">
                          <a:off x="3051360" y="5438160"/>
                          <a:ext cx="35280" cy="442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72" h="211">
                              <a:moveTo>
                                <a:pt x="60" y="14"/>
                              </a:moveTo>
                              <a:lnTo>
                                <a:pt x="32" y="44"/>
                              </a:lnTo>
                              <a:lnTo>
                                <a:pt x="20" y="69"/>
                              </a:lnTo>
                              <a:lnTo>
                                <a:pt x="8" y="109"/>
                              </a:lnTo>
                              <a:lnTo>
                                <a:pt x="8" y="132"/>
                              </a:lnTo>
                              <a:lnTo>
                                <a:pt x="0" y="166"/>
                              </a:lnTo>
                              <a:lnTo>
                                <a:pt x="140" y="211"/>
                              </a:lnTo>
                              <a:lnTo>
                                <a:pt x="172" y="0"/>
                              </a:lnTo>
                              <a:lnTo>
                                <a:pt x="115" y="14"/>
                              </a:lnTo>
                              <a:lnTo>
                                <a:pt x="60" y="1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0c0c0"/>
                        </a:solidFill>
                        <a:ln w="324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520" bIns="-25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97" name=""/>
                        <p:cNvSpPr/>
                        <p:nvPr/>
                      </p:nvSpPr>
                      <p:spPr>
                        <a:xfrm flipH="1">
                          <a:off x="3054240" y="5441760"/>
                          <a:ext cx="28800" cy="367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40" h="175">
                              <a:moveTo>
                                <a:pt x="55" y="5"/>
                              </a:moveTo>
                              <a:lnTo>
                                <a:pt x="30" y="32"/>
                              </a:lnTo>
                              <a:lnTo>
                                <a:pt x="9" y="73"/>
                              </a:lnTo>
                              <a:lnTo>
                                <a:pt x="4" y="102"/>
                              </a:lnTo>
                              <a:lnTo>
                                <a:pt x="0" y="135"/>
                              </a:lnTo>
                              <a:lnTo>
                                <a:pt x="112" y="175"/>
                              </a:lnTo>
                              <a:lnTo>
                                <a:pt x="140" y="0"/>
                              </a:lnTo>
                              <a:lnTo>
                                <a:pt x="97" y="7"/>
                              </a:lnTo>
                              <a:lnTo>
                                <a:pt x="55" y="5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e0e0e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0080" bIns="-100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898" name=""/>
                    <p:cNvSpPr/>
                    <p:nvPr/>
                  </p:nvSpPr>
                  <p:spPr>
                    <a:xfrm flipH="1">
                      <a:off x="2930040" y="5193720"/>
                      <a:ext cx="124560" cy="135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83" h="638">
                          <a:moveTo>
                            <a:pt x="190" y="21"/>
                          </a:moveTo>
                          <a:lnTo>
                            <a:pt x="140" y="58"/>
                          </a:lnTo>
                          <a:lnTo>
                            <a:pt x="112" y="103"/>
                          </a:lnTo>
                          <a:lnTo>
                            <a:pt x="87" y="152"/>
                          </a:lnTo>
                          <a:lnTo>
                            <a:pt x="72" y="177"/>
                          </a:lnTo>
                          <a:lnTo>
                            <a:pt x="72" y="205"/>
                          </a:lnTo>
                          <a:lnTo>
                            <a:pt x="85" y="237"/>
                          </a:lnTo>
                          <a:lnTo>
                            <a:pt x="60" y="262"/>
                          </a:lnTo>
                          <a:lnTo>
                            <a:pt x="20" y="332"/>
                          </a:lnTo>
                          <a:lnTo>
                            <a:pt x="0" y="369"/>
                          </a:lnTo>
                          <a:lnTo>
                            <a:pt x="0" y="381"/>
                          </a:lnTo>
                          <a:lnTo>
                            <a:pt x="5" y="394"/>
                          </a:lnTo>
                          <a:lnTo>
                            <a:pt x="21" y="398"/>
                          </a:lnTo>
                          <a:lnTo>
                            <a:pt x="46" y="399"/>
                          </a:lnTo>
                          <a:lnTo>
                            <a:pt x="61" y="404"/>
                          </a:lnTo>
                          <a:lnTo>
                            <a:pt x="60" y="431"/>
                          </a:lnTo>
                          <a:lnTo>
                            <a:pt x="52" y="463"/>
                          </a:lnTo>
                          <a:lnTo>
                            <a:pt x="67" y="481"/>
                          </a:lnTo>
                          <a:lnTo>
                            <a:pt x="62" y="505"/>
                          </a:lnTo>
                          <a:lnTo>
                            <a:pt x="74" y="521"/>
                          </a:lnTo>
                          <a:lnTo>
                            <a:pt x="86" y="563"/>
                          </a:lnTo>
                          <a:lnTo>
                            <a:pt x="104" y="576"/>
                          </a:lnTo>
                          <a:lnTo>
                            <a:pt x="131" y="576"/>
                          </a:lnTo>
                          <a:lnTo>
                            <a:pt x="170" y="570"/>
                          </a:lnTo>
                          <a:lnTo>
                            <a:pt x="210" y="563"/>
                          </a:lnTo>
                          <a:lnTo>
                            <a:pt x="207" y="638"/>
                          </a:lnTo>
                          <a:lnTo>
                            <a:pt x="518" y="538"/>
                          </a:lnTo>
                          <a:lnTo>
                            <a:pt x="492" y="479"/>
                          </a:lnTo>
                          <a:lnTo>
                            <a:pt x="498" y="433"/>
                          </a:lnTo>
                          <a:lnTo>
                            <a:pt x="583" y="349"/>
                          </a:lnTo>
                          <a:lnTo>
                            <a:pt x="583" y="122"/>
                          </a:lnTo>
                          <a:lnTo>
                            <a:pt x="526" y="60"/>
                          </a:lnTo>
                          <a:lnTo>
                            <a:pt x="454" y="28"/>
                          </a:lnTo>
                          <a:lnTo>
                            <a:pt x="379" y="0"/>
                          </a:lnTo>
                          <a:lnTo>
                            <a:pt x="280" y="13"/>
                          </a:lnTo>
                          <a:lnTo>
                            <a:pt x="190" y="21"/>
                          </a:lnTo>
                          <a:close/>
                        </a:path>
                      </a:pathLst>
                    </a:custGeom>
                    <a:solidFill>
                      <a:srgbClr val="ffc080"/>
                    </a:solidFill>
                    <a:ln w="3240">
                      <a:solidFill>
                        <a:srgbClr val="402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99" name=""/>
                    <p:cNvSpPr/>
                    <p:nvPr/>
                  </p:nvSpPr>
                  <p:spPr>
                    <a:xfrm flipH="1">
                      <a:off x="3040560" y="5275440"/>
                      <a:ext cx="6120" cy="1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5" h="10">
                          <a:moveTo>
                            <a:pt x="0" y="4"/>
                          </a:moveTo>
                          <a:lnTo>
                            <a:pt x="7" y="9"/>
                          </a:lnTo>
                          <a:lnTo>
                            <a:pt x="25" y="6"/>
                          </a:lnTo>
                          <a:lnTo>
                            <a:pt x="32" y="10"/>
                          </a:lnTo>
                          <a:lnTo>
                            <a:pt x="35" y="3"/>
                          </a:lnTo>
                          <a:lnTo>
                            <a:pt x="24" y="0"/>
                          </a:lnTo>
                          <a:lnTo>
                            <a:pt x="0" y="4"/>
                          </a:lnTo>
                          <a:close/>
                        </a:path>
                      </a:pathLst>
                    </a:custGeom>
                    <a:solidFill>
                      <a:srgbClr val="402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00" name=""/>
                    <p:cNvSpPr/>
                    <p:nvPr/>
                  </p:nvSpPr>
                  <p:spPr>
                    <a:xfrm flipH="1">
                      <a:off x="3037680" y="5270040"/>
                      <a:ext cx="2520" cy="5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" h="27">
                          <a:moveTo>
                            <a:pt x="0" y="0"/>
                          </a:moveTo>
                          <a:lnTo>
                            <a:pt x="10" y="6"/>
                          </a:lnTo>
                          <a:lnTo>
                            <a:pt x="10" y="15"/>
                          </a:lnTo>
                          <a:lnTo>
                            <a:pt x="12" y="27"/>
                          </a:lnTo>
                          <a:lnTo>
                            <a:pt x="16" y="11"/>
                          </a:lnTo>
                          <a:lnTo>
                            <a:pt x="16" y="1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402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760" bIns="-41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01" name=""/>
                    <p:cNvSpPr/>
                    <p:nvPr/>
                  </p:nvSpPr>
                  <p:spPr>
                    <a:xfrm flipH="1">
                      <a:off x="3033000" y="5253840"/>
                      <a:ext cx="3600" cy="10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" h="49">
                          <a:moveTo>
                            <a:pt x="16" y="0"/>
                          </a:moveTo>
                          <a:lnTo>
                            <a:pt x="4" y="27"/>
                          </a:lnTo>
                          <a:lnTo>
                            <a:pt x="0" y="49"/>
                          </a:lnTo>
                          <a:lnTo>
                            <a:pt x="8" y="34"/>
                          </a:lnTo>
                          <a:lnTo>
                            <a:pt x="16" y="0"/>
                          </a:lnTo>
                          <a:close/>
                        </a:path>
                      </a:pathLst>
                    </a:custGeom>
                    <a:solidFill>
                      <a:srgbClr val="402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6720" bIns="-36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02" name=""/>
                    <p:cNvSpPr/>
                    <p:nvPr/>
                  </p:nvSpPr>
                  <p:spPr>
                    <a:xfrm flipH="1">
                      <a:off x="3020400" y="5243400"/>
                      <a:ext cx="13680" cy="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4" h="42">
                          <a:moveTo>
                            <a:pt x="0" y="0"/>
                          </a:moveTo>
                          <a:lnTo>
                            <a:pt x="13" y="23"/>
                          </a:lnTo>
                          <a:lnTo>
                            <a:pt x="10" y="29"/>
                          </a:lnTo>
                          <a:lnTo>
                            <a:pt x="10" y="33"/>
                          </a:lnTo>
                          <a:lnTo>
                            <a:pt x="7" y="42"/>
                          </a:lnTo>
                          <a:lnTo>
                            <a:pt x="15" y="27"/>
                          </a:lnTo>
                          <a:lnTo>
                            <a:pt x="28" y="27"/>
                          </a:lnTo>
                          <a:lnTo>
                            <a:pt x="42" y="23"/>
                          </a:lnTo>
                          <a:lnTo>
                            <a:pt x="64" y="21"/>
                          </a:lnTo>
                          <a:lnTo>
                            <a:pt x="42" y="7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402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160" bIns="-38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03" name=""/>
                    <p:cNvSpPr/>
                    <p:nvPr/>
                  </p:nvSpPr>
                  <p:spPr>
                    <a:xfrm flipH="1">
                      <a:off x="3013560" y="5230440"/>
                      <a:ext cx="22680" cy="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8" h="39">
                          <a:moveTo>
                            <a:pt x="0" y="20"/>
                          </a:moveTo>
                          <a:lnTo>
                            <a:pt x="5" y="35"/>
                          </a:lnTo>
                          <a:lnTo>
                            <a:pt x="16" y="39"/>
                          </a:lnTo>
                          <a:lnTo>
                            <a:pt x="34" y="28"/>
                          </a:lnTo>
                          <a:lnTo>
                            <a:pt x="55" y="20"/>
                          </a:lnTo>
                          <a:lnTo>
                            <a:pt x="91" y="19"/>
                          </a:lnTo>
                          <a:lnTo>
                            <a:pt x="108" y="22"/>
                          </a:lnTo>
                          <a:lnTo>
                            <a:pt x="80" y="10"/>
                          </a:lnTo>
                          <a:lnTo>
                            <a:pt x="61" y="5"/>
                          </a:lnTo>
                          <a:lnTo>
                            <a:pt x="63" y="0"/>
                          </a:lnTo>
                          <a:lnTo>
                            <a:pt x="46" y="7"/>
                          </a:lnTo>
                          <a:lnTo>
                            <a:pt x="48" y="2"/>
                          </a:lnTo>
                          <a:lnTo>
                            <a:pt x="32" y="10"/>
                          </a:lnTo>
                          <a:lnTo>
                            <a:pt x="18" y="10"/>
                          </a:lnTo>
                          <a:lnTo>
                            <a:pt x="0" y="20"/>
                          </a:lnTo>
                          <a:close/>
                        </a:path>
                      </a:pathLst>
                    </a:custGeom>
                    <a:solidFill>
                      <a:srgbClr val="402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160" bIns="-38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04" name=""/>
                    <p:cNvSpPr/>
                    <p:nvPr/>
                  </p:nvSpPr>
                  <p:spPr>
                    <a:xfrm flipH="1">
                      <a:off x="2972880" y="5241960"/>
                      <a:ext cx="12600" cy="26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4" h="127">
                          <a:moveTo>
                            <a:pt x="0" y="24"/>
                          </a:moveTo>
                          <a:lnTo>
                            <a:pt x="19" y="8"/>
                          </a:lnTo>
                          <a:lnTo>
                            <a:pt x="42" y="12"/>
                          </a:lnTo>
                          <a:lnTo>
                            <a:pt x="55" y="33"/>
                          </a:lnTo>
                          <a:lnTo>
                            <a:pt x="58" y="62"/>
                          </a:lnTo>
                          <a:lnTo>
                            <a:pt x="55" y="83"/>
                          </a:lnTo>
                          <a:lnTo>
                            <a:pt x="47" y="103"/>
                          </a:lnTo>
                          <a:lnTo>
                            <a:pt x="36" y="74"/>
                          </a:lnTo>
                          <a:lnTo>
                            <a:pt x="25" y="58"/>
                          </a:lnTo>
                          <a:lnTo>
                            <a:pt x="4" y="48"/>
                          </a:lnTo>
                          <a:lnTo>
                            <a:pt x="21" y="70"/>
                          </a:lnTo>
                          <a:lnTo>
                            <a:pt x="38" y="88"/>
                          </a:lnTo>
                          <a:lnTo>
                            <a:pt x="40" y="107"/>
                          </a:lnTo>
                          <a:lnTo>
                            <a:pt x="33" y="124"/>
                          </a:lnTo>
                          <a:lnTo>
                            <a:pt x="23" y="127"/>
                          </a:lnTo>
                          <a:lnTo>
                            <a:pt x="49" y="121"/>
                          </a:lnTo>
                          <a:lnTo>
                            <a:pt x="62" y="93"/>
                          </a:lnTo>
                          <a:lnTo>
                            <a:pt x="64" y="58"/>
                          </a:lnTo>
                          <a:lnTo>
                            <a:pt x="62" y="26"/>
                          </a:lnTo>
                          <a:lnTo>
                            <a:pt x="47" y="6"/>
                          </a:lnTo>
                          <a:lnTo>
                            <a:pt x="28" y="0"/>
                          </a:lnTo>
                          <a:lnTo>
                            <a:pt x="9" y="3"/>
                          </a:lnTo>
                          <a:lnTo>
                            <a:pt x="0" y="24"/>
                          </a:lnTo>
                          <a:close/>
                        </a:path>
                      </a:pathLst>
                    </a:custGeom>
                    <a:solidFill>
                      <a:srgbClr val="402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160" bIns="-20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05" name=""/>
                    <p:cNvSpPr/>
                    <p:nvPr/>
                  </p:nvSpPr>
                  <p:spPr>
                    <a:xfrm flipH="1">
                      <a:off x="2967840" y="5236920"/>
                      <a:ext cx="21600" cy="36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3" h="171">
                          <a:moveTo>
                            <a:pt x="0" y="42"/>
                          </a:moveTo>
                          <a:lnTo>
                            <a:pt x="16" y="15"/>
                          </a:lnTo>
                          <a:lnTo>
                            <a:pt x="43" y="7"/>
                          </a:lnTo>
                          <a:lnTo>
                            <a:pt x="76" y="12"/>
                          </a:lnTo>
                          <a:lnTo>
                            <a:pt x="88" y="28"/>
                          </a:lnTo>
                          <a:lnTo>
                            <a:pt x="96" y="54"/>
                          </a:lnTo>
                          <a:lnTo>
                            <a:pt x="96" y="75"/>
                          </a:lnTo>
                          <a:lnTo>
                            <a:pt x="91" y="89"/>
                          </a:lnTo>
                          <a:lnTo>
                            <a:pt x="91" y="109"/>
                          </a:lnTo>
                          <a:lnTo>
                            <a:pt x="86" y="134"/>
                          </a:lnTo>
                          <a:lnTo>
                            <a:pt x="64" y="158"/>
                          </a:lnTo>
                          <a:lnTo>
                            <a:pt x="51" y="158"/>
                          </a:lnTo>
                          <a:lnTo>
                            <a:pt x="33" y="158"/>
                          </a:lnTo>
                          <a:lnTo>
                            <a:pt x="33" y="162"/>
                          </a:lnTo>
                          <a:lnTo>
                            <a:pt x="46" y="171"/>
                          </a:lnTo>
                          <a:lnTo>
                            <a:pt x="61" y="169"/>
                          </a:lnTo>
                          <a:lnTo>
                            <a:pt x="82" y="161"/>
                          </a:lnTo>
                          <a:lnTo>
                            <a:pt x="97" y="137"/>
                          </a:lnTo>
                          <a:lnTo>
                            <a:pt x="98" y="96"/>
                          </a:lnTo>
                          <a:lnTo>
                            <a:pt x="103" y="70"/>
                          </a:lnTo>
                          <a:lnTo>
                            <a:pt x="103" y="47"/>
                          </a:lnTo>
                          <a:lnTo>
                            <a:pt x="94" y="25"/>
                          </a:lnTo>
                          <a:lnTo>
                            <a:pt x="83" y="7"/>
                          </a:lnTo>
                          <a:lnTo>
                            <a:pt x="55" y="0"/>
                          </a:lnTo>
                          <a:lnTo>
                            <a:pt x="16" y="5"/>
                          </a:lnTo>
                          <a:lnTo>
                            <a:pt x="3" y="15"/>
                          </a:lnTo>
                          <a:lnTo>
                            <a:pt x="0" y="42"/>
                          </a:lnTo>
                          <a:close/>
                        </a:path>
                      </a:pathLst>
                    </a:custGeom>
                    <a:solidFill>
                      <a:srgbClr val="402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080" bIns="-10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06" name=""/>
                    <p:cNvSpPr/>
                    <p:nvPr/>
                  </p:nvSpPr>
                  <p:spPr>
                    <a:xfrm flipH="1">
                      <a:off x="2980080" y="5276520"/>
                      <a:ext cx="20520" cy="30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4" h="144">
                          <a:moveTo>
                            <a:pt x="94" y="0"/>
                          </a:moveTo>
                          <a:lnTo>
                            <a:pt x="82" y="31"/>
                          </a:lnTo>
                          <a:lnTo>
                            <a:pt x="62" y="65"/>
                          </a:lnTo>
                          <a:lnTo>
                            <a:pt x="42" y="94"/>
                          </a:lnTo>
                          <a:lnTo>
                            <a:pt x="13" y="132"/>
                          </a:lnTo>
                          <a:lnTo>
                            <a:pt x="0" y="144"/>
                          </a:lnTo>
                          <a:lnTo>
                            <a:pt x="32" y="127"/>
                          </a:lnTo>
                          <a:lnTo>
                            <a:pt x="56" y="92"/>
                          </a:lnTo>
                          <a:lnTo>
                            <a:pt x="80" y="54"/>
                          </a:lnTo>
                          <a:lnTo>
                            <a:pt x="94" y="0"/>
                          </a:lnTo>
                          <a:close/>
                        </a:path>
                      </a:pathLst>
                    </a:custGeom>
                    <a:solidFill>
                      <a:srgbClr val="402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200" bIns="-16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07" name=""/>
                    <p:cNvSpPr/>
                    <p:nvPr/>
                  </p:nvSpPr>
                  <p:spPr>
                    <a:xfrm flipH="1">
                      <a:off x="2920680" y="5174640"/>
                      <a:ext cx="111960" cy="111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30" h="532">
                          <a:moveTo>
                            <a:pt x="42" y="154"/>
                          </a:moveTo>
                          <a:lnTo>
                            <a:pt x="122" y="142"/>
                          </a:lnTo>
                          <a:lnTo>
                            <a:pt x="177" y="149"/>
                          </a:lnTo>
                          <a:lnTo>
                            <a:pt x="209" y="186"/>
                          </a:lnTo>
                          <a:lnTo>
                            <a:pt x="189" y="231"/>
                          </a:lnTo>
                          <a:lnTo>
                            <a:pt x="164" y="248"/>
                          </a:lnTo>
                          <a:lnTo>
                            <a:pt x="156" y="291"/>
                          </a:lnTo>
                          <a:lnTo>
                            <a:pt x="172" y="319"/>
                          </a:lnTo>
                          <a:lnTo>
                            <a:pt x="159" y="361"/>
                          </a:lnTo>
                          <a:lnTo>
                            <a:pt x="191" y="361"/>
                          </a:lnTo>
                          <a:lnTo>
                            <a:pt x="201" y="313"/>
                          </a:lnTo>
                          <a:lnTo>
                            <a:pt x="221" y="291"/>
                          </a:lnTo>
                          <a:lnTo>
                            <a:pt x="260" y="291"/>
                          </a:lnTo>
                          <a:lnTo>
                            <a:pt x="299" y="301"/>
                          </a:lnTo>
                          <a:lnTo>
                            <a:pt x="311" y="333"/>
                          </a:lnTo>
                          <a:lnTo>
                            <a:pt x="315" y="377"/>
                          </a:lnTo>
                          <a:lnTo>
                            <a:pt x="311" y="411"/>
                          </a:lnTo>
                          <a:lnTo>
                            <a:pt x="311" y="435"/>
                          </a:lnTo>
                          <a:lnTo>
                            <a:pt x="313" y="462"/>
                          </a:lnTo>
                          <a:lnTo>
                            <a:pt x="338" y="487"/>
                          </a:lnTo>
                          <a:lnTo>
                            <a:pt x="356" y="502"/>
                          </a:lnTo>
                          <a:lnTo>
                            <a:pt x="403" y="532"/>
                          </a:lnTo>
                          <a:lnTo>
                            <a:pt x="490" y="443"/>
                          </a:lnTo>
                          <a:lnTo>
                            <a:pt x="515" y="370"/>
                          </a:lnTo>
                          <a:lnTo>
                            <a:pt x="525" y="254"/>
                          </a:lnTo>
                          <a:lnTo>
                            <a:pt x="530" y="171"/>
                          </a:lnTo>
                          <a:lnTo>
                            <a:pt x="520" y="91"/>
                          </a:lnTo>
                          <a:lnTo>
                            <a:pt x="497" y="47"/>
                          </a:lnTo>
                          <a:lnTo>
                            <a:pt x="445" y="17"/>
                          </a:lnTo>
                          <a:lnTo>
                            <a:pt x="396" y="8"/>
                          </a:lnTo>
                          <a:lnTo>
                            <a:pt x="304" y="0"/>
                          </a:lnTo>
                          <a:lnTo>
                            <a:pt x="214" y="5"/>
                          </a:lnTo>
                          <a:lnTo>
                            <a:pt x="101" y="24"/>
                          </a:lnTo>
                          <a:lnTo>
                            <a:pt x="50" y="49"/>
                          </a:lnTo>
                          <a:lnTo>
                            <a:pt x="25" y="75"/>
                          </a:lnTo>
                          <a:lnTo>
                            <a:pt x="0" y="112"/>
                          </a:lnTo>
                          <a:lnTo>
                            <a:pt x="5" y="132"/>
                          </a:lnTo>
                          <a:lnTo>
                            <a:pt x="42" y="154"/>
                          </a:lnTo>
                          <a:close/>
                        </a:path>
                      </a:pathLst>
                    </a:custGeom>
                    <a:solidFill>
                      <a:srgbClr val="603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08" name=""/>
                    <p:cNvSpPr/>
                    <p:nvPr/>
                  </p:nvSpPr>
                  <p:spPr>
                    <a:xfrm flipH="1">
                      <a:off x="2923200" y="5176080"/>
                      <a:ext cx="106920" cy="10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04" h="509">
                          <a:moveTo>
                            <a:pt x="83" y="32"/>
                          </a:moveTo>
                          <a:lnTo>
                            <a:pt x="41" y="49"/>
                          </a:lnTo>
                          <a:lnTo>
                            <a:pt x="21" y="76"/>
                          </a:lnTo>
                          <a:lnTo>
                            <a:pt x="9" y="94"/>
                          </a:lnTo>
                          <a:lnTo>
                            <a:pt x="0" y="108"/>
                          </a:lnTo>
                          <a:lnTo>
                            <a:pt x="11" y="119"/>
                          </a:lnTo>
                          <a:lnTo>
                            <a:pt x="32" y="134"/>
                          </a:lnTo>
                          <a:lnTo>
                            <a:pt x="87" y="124"/>
                          </a:lnTo>
                          <a:lnTo>
                            <a:pt x="128" y="124"/>
                          </a:lnTo>
                          <a:lnTo>
                            <a:pt x="154" y="111"/>
                          </a:lnTo>
                          <a:lnTo>
                            <a:pt x="195" y="101"/>
                          </a:lnTo>
                          <a:lnTo>
                            <a:pt x="230" y="99"/>
                          </a:lnTo>
                          <a:lnTo>
                            <a:pt x="272" y="101"/>
                          </a:lnTo>
                          <a:lnTo>
                            <a:pt x="212" y="108"/>
                          </a:lnTo>
                          <a:lnTo>
                            <a:pt x="182" y="116"/>
                          </a:lnTo>
                          <a:lnTo>
                            <a:pt x="160" y="124"/>
                          </a:lnTo>
                          <a:lnTo>
                            <a:pt x="154" y="126"/>
                          </a:lnTo>
                          <a:lnTo>
                            <a:pt x="170" y="134"/>
                          </a:lnTo>
                          <a:lnTo>
                            <a:pt x="182" y="146"/>
                          </a:lnTo>
                          <a:lnTo>
                            <a:pt x="202" y="134"/>
                          </a:lnTo>
                          <a:lnTo>
                            <a:pt x="220" y="129"/>
                          </a:lnTo>
                          <a:lnTo>
                            <a:pt x="257" y="122"/>
                          </a:lnTo>
                          <a:lnTo>
                            <a:pt x="269" y="122"/>
                          </a:lnTo>
                          <a:lnTo>
                            <a:pt x="232" y="136"/>
                          </a:lnTo>
                          <a:lnTo>
                            <a:pt x="205" y="148"/>
                          </a:lnTo>
                          <a:lnTo>
                            <a:pt x="190" y="159"/>
                          </a:lnTo>
                          <a:lnTo>
                            <a:pt x="202" y="171"/>
                          </a:lnTo>
                          <a:lnTo>
                            <a:pt x="232" y="161"/>
                          </a:lnTo>
                          <a:lnTo>
                            <a:pt x="257" y="156"/>
                          </a:lnTo>
                          <a:lnTo>
                            <a:pt x="212" y="178"/>
                          </a:lnTo>
                          <a:lnTo>
                            <a:pt x="197" y="189"/>
                          </a:lnTo>
                          <a:lnTo>
                            <a:pt x="193" y="210"/>
                          </a:lnTo>
                          <a:lnTo>
                            <a:pt x="184" y="221"/>
                          </a:lnTo>
                          <a:lnTo>
                            <a:pt x="212" y="208"/>
                          </a:lnTo>
                          <a:lnTo>
                            <a:pt x="237" y="203"/>
                          </a:lnTo>
                          <a:lnTo>
                            <a:pt x="276" y="201"/>
                          </a:lnTo>
                          <a:lnTo>
                            <a:pt x="217" y="219"/>
                          </a:lnTo>
                          <a:lnTo>
                            <a:pt x="180" y="233"/>
                          </a:lnTo>
                          <a:lnTo>
                            <a:pt x="154" y="246"/>
                          </a:lnTo>
                          <a:lnTo>
                            <a:pt x="152" y="265"/>
                          </a:lnTo>
                          <a:lnTo>
                            <a:pt x="182" y="251"/>
                          </a:lnTo>
                          <a:lnTo>
                            <a:pt x="223" y="238"/>
                          </a:lnTo>
                          <a:lnTo>
                            <a:pt x="242" y="238"/>
                          </a:lnTo>
                          <a:lnTo>
                            <a:pt x="197" y="253"/>
                          </a:lnTo>
                          <a:lnTo>
                            <a:pt x="163" y="268"/>
                          </a:lnTo>
                          <a:lnTo>
                            <a:pt x="150" y="281"/>
                          </a:lnTo>
                          <a:lnTo>
                            <a:pt x="154" y="293"/>
                          </a:lnTo>
                          <a:lnTo>
                            <a:pt x="182" y="283"/>
                          </a:lnTo>
                          <a:lnTo>
                            <a:pt x="207" y="272"/>
                          </a:lnTo>
                          <a:lnTo>
                            <a:pt x="260" y="270"/>
                          </a:lnTo>
                          <a:lnTo>
                            <a:pt x="280" y="272"/>
                          </a:lnTo>
                          <a:lnTo>
                            <a:pt x="329" y="275"/>
                          </a:lnTo>
                          <a:lnTo>
                            <a:pt x="386" y="268"/>
                          </a:lnTo>
                          <a:lnTo>
                            <a:pt x="352" y="281"/>
                          </a:lnTo>
                          <a:lnTo>
                            <a:pt x="292" y="290"/>
                          </a:lnTo>
                          <a:lnTo>
                            <a:pt x="304" y="311"/>
                          </a:lnTo>
                          <a:lnTo>
                            <a:pt x="347" y="300"/>
                          </a:lnTo>
                          <a:lnTo>
                            <a:pt x="389" y="286"/>
                          </a:lnTo>
                          <a:lnTo>
                            <a:pt x="416" y="272"/>
                          </a:lnTo>
                          <a:lnTo>
                            <a:pt x="364" y="311"/>
                          </a:lnTo>
                          <a:lnTo>
                            <a:pt x="331" y="320"/>
                          </a:lnTo>
                          <a:lnTo>
                            <a:pt x="304" y="330"/>
                          </a:lnTo>
                          <a:lnTo>
                            <a:pt x="306" y="350"/>
                          </a:lnTo>
                          <a:lnTo>
                            <a:pt x="347" y="343"/>
                          </a:lnTo>
                          <a:lnTo>
                            <a:pt x="379" y="335"/>
                          </a:lnTo>
                          <a:lnTo>
                            <a:pt x="359" y="348"/>
                          </a:lnTo>
                          <a:lnTo>
                            <a:pt x="324" y="357"/>
                          </a:lnTo>
                          <a:lnTo>
                            <a:pt x="306" y="360"/>
                          </a:lnTo>
                          <a:lnTo>
                            <a:pt x="306" y="405"/>
                          </a:lnTo>
                          <a:lnTo>
                            <a:pt x="345" y="390"/>
                          </a:lnTo>
                          <a:lnTo>
                            <a:pt x="374" y="378"/>
                          </a:lnTo>
                          <a:lnTo>
                            <a:pt x="342" y="403"/>
                          </a:lnTo>
                          <a:lnTo>
                            <a:pt x="301" y="420"/>
                          </a:lnTo>
                          <a:lnTo>
                            <a:pt x="304" y="440"/>
                          </a:lnTo>
                          <a:lnTo>
                            <a:pt x="327" y="464"/>
                          </a:lnTo>
                          <a:lnTo>
                            <a:pt x="347" y="438"/>
                          </a:lnTo>
                          <a:lnTo>
                            <a:pt x="374" y="405"/>
                          </a:lnTo>
                          <a:lnTo>
                            <a:pt x="394" y="373"/>
                          </a:lnTo>
                          <a:lnTo>
                            <a:pt x="374" y="422"/>
                          </a:lnTo>
                          <a:lnTo>
                            <a:pt x="359" y="440"/>
                          </a:lnTo>
                          <a:lnTo>
                            <a:pt x="331" y="475"/>
                          </a:lnTo>
                          <a:lnTo>
                            <a:pt x="352" y="497"/>
                          </a:lnTo>
                          <a:lnTo>
                            <a:pt x="384" y="470"/>
                          </a:lnTo>
                          <a:lnTo>
                            <a:pt x="407" y="438"/>
                          </a:lnTo>
                          <a:lnTo>
                            <a:pt x="428" y="403"/>
                          </a:lnTo>
                          <a:lnTo>
                            <a:pt x="409" y="454"/>
                          </a:lnTo>
                          <a:lnTo>
                            <a:pt x="389" y="477"/>
                          </a:lnTo>
                          <a:lnTo>
                            <a:pt x="368" y="500"/>
                          </a:lnTo>
                          <a:lnTo>
                            <a:pt x="386" y="509"/>
                          </a:lnTo>
                          <a:lnTo>
                            <a:pt x="428" y="475"/>
                          </a:lnTo>
                          <a:lnTo>
                            <a:pt x="466" y="420"/>
                          </a:lnTo>
                          <a:lnTo>
                            <a:pt x="481" y="378"/>
                          </a:lnTo>
                          <a:lnTo>
                            <a:pt x="490" y="305"/>
                          </a:lnTo>
                          <a:lnTo>
                            <a:pt x="496" y="251"/>
                          </a:lnTo>
                          <a:lnTo>
                            <a:pt x="504" y="189"/>
                          </a:lnTo>
                          <a:lnTo>
                            <a:pt x="461" y="201"/>
                          </a:lnTo>
                          <a:lnTo>
                            <a:pt x="414" y="219"/>
                          </a:lnTo>
                          <a:lnTo>
                            <a:pt x="342" y="235"/>
                          </a:lnTo>
                          <a:lnTo>
                            <a:pt x="407" y="210"/>
                          </a:lnTo>
                          <a:lnTo>
                            <a:pt x="431" y="196"/>
                          </a:lnTo>
                          <a:lnTo>
                            <a:pt x="476" y="180"/>
                          </a:lnTo>
                          <a:lnTo>
                            <a:pt x="499" y="175"/>
                          </a:lnTo>
                          <a:lnTo>
                            <a:pt x="499" y="143"/>
                          </a:lnTo>
                          <a:lnTo>
                            <a:pt x="493" y="101"/>
                          </a:lnTo>
                          <a:lnTo>
                            <a:pt x="437" y="111"/>
                          </a:lnTo>
                          <a:lnTo>
                            <a:pt x="401" y="122"/>
                          </a:lnTo>
                          <a:lnTo>
                            <a:pt x="354" y="143"/>
                          </a:lnTo>
                          <a:lnTo>
                            <a:pt x="396" y="111"/>
                          </a:lnTo>
                          <a:lnTo>
                            <a:pt x="444" y="96"/>
                          </a:lnTo>
                          <a:lnTo>
                            <a:pt x="490" y="86"/>
                          </a:lnTo>
                          <a:lnTo>
                            <a:pt x="481" y="53"/>
                          </a:lnTo>
                          <a:lnTo>
                            <a:pt x="466" y="34"/>
                          </a:lnTo>
                          <a:lnTo>
                            <a:pt x="423" y="21"/>
                          </a:lnTo>
                          <a:lnTo>
                            <a:pt x="382" y="32"/>
                          </a:lnTo>
                          <a:lnTo>
                            <a:pt x="342" y="59"/>
                          </a:lnTo>
                          <a:lnTo>
                            <a:pt x="368" y="27"/>
                          </a:lnTo>
                          <a:lnTo>
                            <a:pt x="409" y="11"/>
                          </a:lnTo>
                          <a:lnTo>
                            <a:pt x="364" y="4"/>
                          </a:lnTo>
                          <a:lnTo>
                            <a:pt x="331" y="2"/>
                          </a:lnTo>
                          <a:lnTo>
                            <a:pt x="285" y="9"/>
                          </a:lnTo>
                          <a:lnTo>
                            <a:pt x="252" y="29"/>
                          </a:lnTo>
                          <a:lnTo>
                            <a:pt x="202" y="39"/>
                          </a:lnTo>
                          <a:lnTo>
                            <a:pt x="237" y="25"/>
                          </a:lnTo>
                          <a:lnTo>
                            <a:pt x="262" y="9"/>
                          </a:lnTo>
                          <a:lnTo>
                            <a:pt x="276" y="0"/>
                          </a:lnTo>
                          <a:lnTo>
                            <a:pt x="227" y="2"/>
                          </a:lnTo>
                          <a:lnTo>
                            <a:pt x="184" y="4"/>
                          </a:lnTo>
                          <a:lnTo>
                            <a:pt x="158" y="16"/>
                          </a:lnTo>
                          <a:lnTo>
                            <a:pt x="131" y="41"/>
                          </a:lnTo>
                          <a:lnTo>
                            <a:pt x="108" y="74"/>
                          </a:lnTo>
                          <a:lnTo>
                            <a:pt x="120" y="37"/>
                          </a:lnTo>
                          <a:lnTo>
                            <a:pt x="147" y="11"/>
                          </a:lnTo>
                          <a:lnTo>
                            <a:pt x="83" y="32"/>
                          </a:lnTo>
                          <a:close/>
                        </a:path>
                      </a:pathLst>
                    </a:custGeom>
                    <a:solidFill>
                      <a:srgbClr val="a05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909" name=""/>
                    <p:cNvGrpSpPr/>
                    <p:nvPr/>
                  </p:nvGrpSpPr>
                  <p:grpSpPr>
                    <a:xfrm>
                      <a:off x="3140280" y="5448600"/>
                      <a:ext cx="115920" cy="71280"/>
                      <a:chOff x="3140280" y="5448600"/>
                      <a:chExt cx="115920" cy="71280"/>
                    </a:xfrm>
                  </p:grpSpPr>
                  <p:sp>
                    <p:nvSpPr>
                      <p:cNvPr id="910" name=""/>
                      <p:cNvSpPr/>
                      <p:nvPr/>
                    </p:nvSpPr>
                    <p:spPr>
                      <a:xfrm flipH="1">
                        <a:off x="3140280" y="5448600"/>
                        <a:ext cx="115920" cy="71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49" h="337">
                            <a:moveTo>
                              <a:pt x="549" y="200"/>
                            </a:moveTo>
                            <a:lnTo>
                              <a:pt x="481" y="185"/>
                            </a:lnTo>
                            <a:lnTo>
                              <a:pt x="456" y="180"/>
                            </a:lnTo>
                            <a:lnTo>
                              <a:pt x="440" y="166"/>
                            </a:lnTo>
                            <a:lnTo>
                              <a:pt x="424" y="144"/>
                            </a:lnTo>
                            <a:lnTo>
                              <a:pt x="391" y="113"/>
                            </a:lnTo>
                            <a:lnTo>
                              <a:pt x="331" y="63"/>
                            </a:lnTo>
                            <a:lnTo>
                              <a:pt x="321" y="46"/>
                            </a:lnTo>
                            <a:lnTo>
                              <a:pt x="305" y="30"/>
                            </a:lnTo>
                            <a:lnTo>
                              <a:pt x="273" y="26"/>
                            </a:lnTo>
                            <a:lnTo>
                              <a:pt x="177" y="9"/>
                            </a:lnTo>
                            <a:lnTo>
                              <a:pt x="151" y="0"/>
                            </a:lnTo>
                            <a:lnTo>
                              <a:pt x="127" y="11"/>
                            </a:lnTo>
                            <a:lnTo>
                              <a:pt x="115" y="22"/>
                            </a:lnTo>
                            <a:lnTo>
                              <a:pt x="59" y="41"/>
                            </a:lnTo>
                            <a:lnTo>
                              <a:pt x="37" y="49"/>
                            </a:lnTo>
                            <a:lnTo>
                              <a:pt x="29" y="58"/>
                            </a:lnTo>
                            <a:lnTo>
                              <a:pt x="18" y="90"/>
                            </a:lnTo>
                            <a:lnTo>
                              <a:pt x="12" y="106"/>
                            </a:lnTo>
                            <a:lnTo>
                              <a:pt x="7" y="115"/>
                            </a:lnTo>
                            <a:lnTo>
                              <a:pt x="0" y="131"/>
                            </a:lnTo>
                            <a:lnTo>
                              <a:pt x="0" y="143"/>
                            </a:lnTo>
                            <a:lnTo>
                              <a:pt x="11" y="151"/>
                            </a:lnTo>
                            <a:lnTo>
                              <a:pt x="34" y="150"/>
                            </a:lnTo>
                            <a:lnTo>
                              <a:pt x="70" y="133"/>
                            </a:lnTo>
                            <a:lnTo>
                              <a:pt x="115" y="125"/>
                            </a:lnTo>
                            <a:lnTo>
                              <a:pt x="156" y="131"/>
                            </a:lnTo>
                            <a:lnTo>
                              <a:pt x="113" y="142"/>
                            </a:lnTo>
                            <a:lnTo>
                              <a:pt x="83" y="151"/>
                            </a:lnTo>
                            <a:lnTo>
                              <a:pt x="48" y="166"/>
                            </a:lnTo>
                            <a:lnTo>
                              <a:pt x="40" y="178"/>
                            </a:lnTo>
                            <a:lnTo>
                              <a:pt x="40" y="191"/>
                            </a:lnTo>
                            <a:lnTo>
                              <a:pt x="53" y="200"/>
                            </a:lnTo>
                            <a:lnTo>
                              <a:pt x="68" y="198"/>
                            </a:lnTo>
                            <a:lnTo>
                              <a:pt x="117" y="185"/>
                            </a:lnTo>
                            <a:lnTo>
                              <a:pt x="162" y="182"/>
                            </a:lnTo>
                            <a:lnTo>
                              <a:pt x="195" y="185"/>
                            </a:lnTo>
                            <a:lnTo>
                              <a:pt x="214" y="198"/>
                            </a:lnTo>
                            <a:lnTo>
                              <a:pt x="237" y="221"/>
                            </a:lnTo>
                            <a:lnTo>
                              <a:pt x="254" y="246"/>
                            </a:lnTo>
                            <a:lnTo>
                              <a:pt x="272" y="271"/>
                            </a:lnTo>
                            <a:lnTo>
                              <a:pt x="287" y="290"/>
                            </a:lnTo>
                            <a:lnTo>
                              <a:pt x="314" y="308"/>
                            </a:lnTo>
                            <a:lnTo>
                              <a:pt x="339" y="314"/>
                            </a:lnTo>
                            <a:lnTo>
                              <a:pt x="366" y="316"/>
                            </a:lnTo>
                            <a:lnTo>
                              <a:pt x="400" y="314"/>
                            </a:lnTo>
                            <a:lnTo>
                              <a:pt x="425" y="312"/>
                            </a:lnTo>
                            <a:lnTo>
                              <a:pt x="458" y="320"/>
                            </a:lnTo>
                            <a:lnTo>
                              <a:pt x="549" y="337"/>
                            </a:lnTo>
                            <a:lnTo>
                              <a:pt x="549" y="200"/>
                            </a:lnTo>
                            <a:close/>
                          </a:path>
                        </a:pathLst>
                      </a:custGeom>
                      <a:solidFill>
                        <a:srgbClr val="ffc080"/>
                      </a:solidFill>
                      <a:ln w="3240">
                        <a:solidFill>
                          <a:srgbClr val="402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4480" bIns="24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11" name=""/>
                      <p:cNvSpPr/>
                      <p:nvPr/>
                    </p:nvSpPr>
                    <p:spPr>
                      <a:xfrm flipH="1">
                        <a:off x="3213000" y="5461200"/>
                        <a:ext cx="37800" cy="8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7" h="43">
                            <a:moveTo>
                              <a:pt x="0" y="43"/>
                            </a:moveTo>
                            <a:lnTo>
                              <a:pt x="30" y="29"/>
                            </a:lnTo>
                            <a:lnTo>
                              <a:pt x="55" y="24"/>
                            </a:lnTo>
                            <a:lnTo>
                              <a:pt x="85" y="16"/>
                            </a:lnTo>
                            <a:lnTo>
                              <a:pt x="110" y="9"/>
                            </a:lnTo>
                            <a:lnTo>
                              <a:pt x="150" y="13"/>
                            </a:lnTo>
                            <a:lnTo>
                              <a:pt x="177" y="16"/>
                            </a:lnTo>
                            <a:lnTo>
                              <a:pt x="137" y="6"/>
                            </a:lnTo>
                            <a:lnTo>
                              <a:pt x="101" y="0"/>
                            </a:lnTo>
                            <a:lnTo>
                              <a:pt x="55" y="21"/>
                            </a:lnTo>
                            <a:lnTo>
                              <a:pt x="30" y="23"/>
                            </a:lnTo>
                            <a:lnTo>
                              <a:pt x="3" y="37"/>
                            </a:lnTo>
                            <a:lnTo>
                              <a:pt x="0" y="43"/>
                            </a:lnTo>
                            <a:close/>
                          </a:path>
                        </a:pathLst>
                      </a:custGeom>
                      <a:solidFill>
                        <a:srgbClr val="402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160" bIns="-381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12" name=""/>
                      <p:cNvSpPr/>
                      <p:nvPr/>
                    </p:nvSpPr>
                    <p:spPr>
                      <a:xfrm flipH="1">
                        <a:off x="3199320" y="5451120"/>
                        <a:ext cx="31680" cy="6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49" h="30">
                            <a:moveTo>
                              <a:pt x="42" y="0"/>
                            </a:moveTo>
                            <a:lnTo>
                              <a:pt x="23" y="1"/>
                            </a:lnTo>
                            <a:lnTo>
                              <a:pt x="0" y="10"/>
                            </a:lnTo>
                            <a:lnTo>
                              <a:pt x="15" y="7"/>
                            </a:lnTo>
                            <a:lnTo>
                              <a:pt x="39" y="4"/>
                            </a:lnTo>
                            <a:lnTo>
                              <a:pt x="87" y="17"/>
                            </a:lnTo>
                            <a:lnTo>
                              <a:pt x="115" y="25"/>
                            </a:lnTo>
                            <a:lnTo>
                              <a:pt x="145" y="30"/>
                            </a:lnTo>
                            <a:lnTo>
                              <a:pt x="149" y="25"/>
                            </a:lnTo>
                            <a:lnTo>
                              <a:pt x="117" y="18"/>
                            </a:lnTo>
                            <a:lnTo>
                              <a:pt x="78" y="10"/>
                            </a:lnTo>
                            <a:lnTo>
                              <a:pt x="42" y="0"/>
                            </a:lnTo>
                            <a:close/>
                          </a:path>
                        </a:pathLst>
                      </a:custGeom>
                      <a:solidFill>
                        <a:srgbClr val="402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0680" bIns="-406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13" name=""/>
                      <p:cNvSpPr/>
                      <p:nvPr/>
                    </p:nvSpPr>
                    <p:spPr>
                      <a:xfrm flipH="1">
                        <a:off x="3211560" y="5474160"/>
                        <a:ext cx="14040" cy="2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3" h="16">
                            <a:moveTo>
                              <a:pt x="0" y="7"/>
                            </a:moveTo>
                            <a:lnTo>
                              <a:pt x="8" y="16"/>
                            </a:lnTo>
                            <a:lnTo>
                              <a:pt x="30" y="11"/>
                            </a:lnTo>
                            <a:lnTo>
                              <a:pt x="55" y="11"/>
                            </a:lnTo>
                            <a:lnTo>
                              <a:pt x="63" y="0"/>
                            </a:lnTo>
                            <a:lnTo>
                              <a:pt x="45" y="4"/>
                            </a:lnTo>
                            <a:lnTo>
                              <a:pt x="0" y="7"/>
                            </a:lnTo>
                            <a:close/>
                          </a:path>
                        </a:pathLst>
                      </a:custGeom>
                      <a:solidFill>
                        <a:srgbClr val="402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4640" bIns="-446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14" name=""/>
                      <p:cNvSpPr/>
                      <p:nvPr/>
                    </p:nvSpPr>
                    <p:spPr>
                      <a:xfrm flipH="1">
                        <a:off x="3248280" y="5471640"/>
                        <a:ext cx="2520" cy="4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6" h="28">
                            <a:moveTo>
                              <a:pt x="16" y="0"/>
                            </a:moveTo>
                            <a:lnTo>
                              <a:pt x="16" y="8"/>
                            </a:lnTo>
                            <a:lnTo>
                              <a:pt x="12" y="20"/>
                            </a:lnTo>
                            <a:lnTo>
                              <a:pt x="0" y="28"/>
                            </a:lnTo>
                            <a:lnTo>
                              <a:pt x="16" y="0"/>
                            </a:lnTo>
                            <a:close/>
                          </a:path>
                        </a:pathLst>
                      </a:custGeom>
                      <a:solidFill>
                        <a:srgbClr val="402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120" bIns="-421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15" name=""/>
                      <p:cNvSpPr/>
                      <p:nvPr/>
                    </p:nvSpPr>
                    <p:spPr>
                      <a:xfrm flipH="1">
                        <a:off x="3239280" y="5484240"/>
                        <a:ext cx="2520" cy="3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" h="17">
                            <a:moveTo>
                              <a:pt x="13" y="0"/>
                            </a:moveTo>
                            <a:lnTo>
                              <a:pt x="11" y="9"/>
                            </a:lnTo>
                            <a:lnTo>
                              <a:pt x="0" y="17"/>
                            </a:lnTo>
                            <a:lnTo>
                              <a:pt x="13" y="0"/>
                            </a:lnTo>
                            <a:close/>
                          </a:path>
                        </a:pathLst>
                      </a:custGeom>
                      <a:solidFill>
                        <a:srgbClr val="402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200" bIns="-432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16" name=""/>
                      <p:cNvSpPr/>
                      <p:nvPr/>
                    </p:nvSpPr>
                    <p:spPr>
                      <a:xfrm flipH="1">
                        <a:off x="3193920" y="5465160"/>
                        <a:ext cx="6120" cy="7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0" h="36">
                            <a:moveTo>
                              <a:pt x="0" y="0"/>
                            </a:moveTo>
                            <a:lnTo>
                              <a:pt x="5" y="12"/>
                            </a:lnTo>
                            <a:lnTo>
                              <a:pt x="5" y="20"/>
                            </a:lnTo>
                            <a:lnTo>
                              <a:pt x="30" y="36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402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600" bIns="-396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17" name=""/>
                      <p:cNvSpPr/>
                      <p:nvPr/>
                    </p:nvSpPr>
                    <p:spPr>
                      <a:xfrm flipH="1">
                        <a:off x="3171240" y="5465160"/>
                        <a:ext cx="18720" cy="20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0" h="92">
                            <a:moveTo>
                              <a:pt x="0" y="0"/>
                            </a:moveTo>
                            <a:lnTo>
                              <a:pt x="15" y="29"/>
                            </a:lnTo>
                            <a:lnTo>
                              <a:pt x="33" y="51"/>
                            </a:lnTo>
                            <a:lnTo>
                              <a:pt x="90" y="92"/>
                            </a:lnTo>
                            <a:lnTo>
                              <a:pt x="37" y="43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402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6640" bIns="-266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18" name=""/>
                      <p:cNvSpPr/>
                      <p:nvPr/>
                    </p:nvSpPr>
                    <p:spPr>
                      <a:xfrm flipH="1">
                        <a:off x="3161160" y="5491800"/>
                        <a:ext cx="5040" cy="15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3" h="67">
                            <a:moveTo>
                              <a:pt x="23" y="0"/>
                            </a:moveTo>
                            <a:lnTo>
                              <a:pt x="8" y="24"/>
                            </a:lnTo>
                            <a:lnTo>
                              <a:pt x="4" y="46"/>
                            </a:lnTo>
                            <a:lnTo>
                              <a:pt x="2" y="67"/>
                            </a:lnTo>
                            <a:lnTo>
                              <a:pt x="0" y="38"/>
                            </a:lnTo>
                            <a:lnTo>
                              <a:pt x="2" y="16"/>
                            </a:lnTo>
                            <a:lnTo>
                              <a:pt x="23" y="0"/>
                            </a:lnTo>
                            <a:close/>
                          </a:path>
                        </a:pathLst>
                      </a:custGeom>
                      <a:solidFill>
                        <a:srgbClr val="402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1680" bIns="-316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19" name=""/>
                      <p:cNvSpPr/>
                      <p:nvPr/>
                    </p:nvSpPr>
                    <p:spPr>
                      <a:xfrm flipH="1">
                        <a:off x="3205080" y="5477760"/>
                        <a:ext cx="2520" cy="6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" h="25">
                            <a:moveTo>
                              <a:pt x="10" y="0"/>
                            </a:moveTo>
                            <a:lnTo>
                              <a:pt x="13" y="11"/>
                            </a:lnTo>
                            <a:lnTo>
                              <a:pt x="0" y="25"/>
                            </a:lnTo>
                            <a:lnTo>
                              <a:pt x="10" y="0"/>
                            </a:lnTo>
                            <a:close/>
                          </a:path>
                        </a:pathLst>
                      </a:custGeom>
                      <a:solidFill>
                        <a:srgbClr val="402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0680" bIns="-406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920" name=""/>
                    <p:cNvGrpSpPr/>
                    <p:nvPr/>
                  </p:nvGrpSpPr>
                  <p:grpSpPr>
                    <a:xfrm>
                      <a:off x="2887560" y="5292000"/>
                      <a:ext cx="268920" cy="306720"/>
                      <a:chOff x="2887560" y="5292000"/>
                      <a:chExt cx="268920" cy="306720"/>
                    </a:xfrm>
                  </p:grpSpPr>
                  <p:sp>
                    <p:nvSpPr>
                      <p:cNvPr id="921" name=""/>
                      <p:cNvSpPr/>
                      <p:nvPr/>
                    </p:nvSpPr>
                    <p:spPr>
                      <a:xfrm flipH="1">
                        <a:off x="3033360" y="5292000"/>
                        <a:ext cx="8640" cy="6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2" h="30">
                            <a:moveTo>
                              <a:pt x="0" y="0"/>
                            </a:moveTo>
                            <a:lnTo>
                              <a:pt x="12" y="9"/>
                            </a:lnTo>
                            <a:lnTo>
                              <a:pt x="24" y="13"/>
                            </a:lnTo>
                            <a:lnTo>
                              <a:pt x="36" y="19"/>
                            </a:lnTo>
                            <a:lnTo>
                              <a:pt x="42" y="30"/>
                            </a:lnTo>
                            <a:lnTo>
                              <a:pt x="32" y="27"/>
                            </a:lnTo>
                            <a:lnTo>
                              <a:pt x="12" y="21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402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0680" bIns="-406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22" name=""/>
                      <p:cNvSpPr/>
                      <p:nvPr/>
                    </p:nvSpPr>
                    <p:spPr>
                      <a:xfrm flipH="1">
                        <a:off x="3036600" y="5300640"/>
                        <a:ext cx="3960" cy="4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" h="20">
                            <a:moveTo>
                              <a:pt x="0" y="0"/>
                            </a:moveTo>
                            <a:lnTo>
                              <a:pt x="13" y="0"/>
                            </a:lnTo>
                            <a:lnTo>
                              <a:pt x="13" y="20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402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120" bIns="-421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23" name=""/>
                      <p:cNvSpPr/>
                      <p:nvPr/>
                    </p:nvSpPr>
                    <p:spPr>
                      <a:xfrm flipH="1">
                        <a:off x="3003840" y="5332680"/>
                        <a:ext cx="71280" cy="179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39" h="851">
                            <a:moveTo>
                              <a:pt x="289" y="0"/>
                            </a:moveTo>
                            <a:lnTo>
                              <a:pt x="258" y="35"/>
                            </a:lnTo>
                            <a:lnTo>
                              <a:pt x="248" y="85"/>
                            </a:lnTo>
                            <a:lnTo>
                              <a:pt x="199" y="135"/>
                            </a:lnTo>
                            <a:lnTo>
                              <a:pt x="99" y="364"/>
                            </a:lnTo>
                            <a:lnTo>
                              <a:pt x="44" y="573"/>
                            </a:lnTo>
                            <a:lnTo>
                              <a:pt x="0" y="851"/>
                            </a:lnTo>
                            <a:lnTo>
                              <a:pt x="139" y="727"/>
                            </a:lnTo>
                            <a:lnTo>
                              <a:pt x="339" y="111"/>
                            </a:lnTo>
                            <a:lnTo>
                              <a:pt x="289" y="0"/>
                            </a:lnTo>
                            <a:close/>
                          </a:path>
                        </a:pathLst>
                      </a:custGeom>
                      <a:solidFill>
                        <a:srgbClr val="400000"/>
                      </a:solidFill>
                      <a:ln w="324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24" name=""/>
                      <p:cNvSpPr/>
                      <p:nvPr/>
                    </p:nvSpPr>
                    <p:spPr>
                      <a:xfrm flipH="1">
                        <a:off x="2887200" y="5297040"/>
                        <a:ext cx="268920" cy="301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65" h="1418">
                            <a:moveTo>
                              <a:pt x="1030" y="74"/>
                            </a:moveTo>
                            <a:lnTo>
                              <a:pt x="991" y="0"/>
                            </a:lnTo>
                            <a:lnTo>
                              <a:pt x="682" y="129"/>
                            </a:lnTo>
                            <a:lnTo>
                              <a:pt x="668" y="228"/>
                            </a:lnTo>
                            <a:lnTo>
                              <a:pt x="643" y="263"/>
                            </a:lnTo>
                            <a:lnTo>
                              <a:pt x="608" y="302"/>
                            </a:lnTo>
                            <a:lnTo>
                              <a:pt x="588" y="373"/>
                            </a:lnTo>
                            <a:lnTo>
                              <a:pt x="519" y="537"/>
                            </a:lnTo>
                            <a:lnTo>
                              <a:pt x="464" y="731"/>
                            </a:lnTo>
                            <a:lnTo>
                              <a:pt x="439" y="860"/>
                            </a:lnTo>
                            <a:lnTo>
                              <a:pt x="190" y="865"/>
                            </a:lnTo>
                            <a:lnTo>
                              <a:pt x="150" y="890"/>
                            </a:lnTo>
                            <a:lnTo>
                              <a:pt x="36" y="890"/>
                            </a:lnTo>
                            <a:lnTo>
                              <a:pt x="5" y="940"/>
                            </a:lnTo>
                            <a:lnTo>
                              <a:pt x="0" y="1000"/>
                            </a:lnTo>
                            <a:lnTo>
                              <a:pt x="11" y="1054"/>
                            </a:lnTo>
                            <a:lnTo>
                              <a:pt x="116" y="1074"/>
                            </a:lnTo>
                            <a:lnTo>
                              <a:pt x="165" y="1148"/>
                            </a:lnTo>
                            <a:lnTo>
                              <a:pt x="264" y="1174"/>
                            </a:lnTo>
                            <a:lnTo>
                              <a:pt x="338" y="1174"/>
                            </a:lnTo>
                            <a:lnTo>
                              <a:pt x="423" y="1189"/>
                            </a:lnTo>
                            <a:lnTo>
                              <a:pt x="428" y="1224"/>
                            </a:lnTo>
                            <a:lnTo>
                              <a:pt x="423" y="1298"/>
                            </a:lnTo>
                            <a:lnTo>
                              <a:pt x="433" y="1348"/>
                            </a:lnTo>
                            <a:lnTo>
                              <a:pt x="478" y="1353"/>
                            </a:lnTo>
                            <a:lnTo>
                              <a:pt x="533" y="1363"/>
                            </a:lnTo>
                            <a:lnTo>
                              <a:pt x="588" y="1413"/>
                            </a:lnTo>
                            <a:lnTo>
                              <a:pt x="653" y="1413"/>
                            </a:lnTo>
                            <a:lnTo>
                              <a:pt x="712" y="1407"/>
                            </a:lnTo>
                            <a:lnTo>
                              <a:pt x="802" y="1378"/>
                            </a:lnTo>
                            <a:lnTo>
                              <a:pt x="901" y="1388"/>
                            </a:lnTo>
                            <a:lnTo>
                              <a:pt x="1002" y="1418"/>
                            </a:lnTo>
                            <a:lnTo>
                              <a:pt x="1096" y="1397"/>
                            </a:lnTo>
                            <a:lnTo>
                              <a:pt x="1160" y="1323"/>
                            </a:lnTo>
                            <a:lnTo>
                              <a:pt x="1155" y="1243"/>
                            </a:lnTo>
                            <a:lnTo>
                              <a:pt x="1180" y="1144"/>
                            </a:lnTo>
                            <a:lnTo>
                              <a:pt x="1194" y="1014"/>
                            </a:lnTo>
                            <a:lnTo>
                              <a:pt x="1224" y="895"/>
                            </a:lnTo>
                            <a:lnTo>
                              <a:pt x="1265" y="716"/>
                            </a:lnTo>
                            <a:lnTo>
                              <a:pt x="1259" y="537"/>
                            </a:lnTo>
                            <a:lnTo>
                              <a:pt x="1259" y="378"/>
                            </a:lnTo>
                            <a:lnTo>
                              <a:pt x="1249" y="268"/>
                            </a:lnTo>
                            <a:lnTo>
                              <a:pt x="1224" y="219"/>
                            </a:lnTo>
                            <a:lnTo>
                              <a:pt x="1169" y="179"/>
                            </a:lnTo>
                            <a:lnTo>
                              <a:pt x="1105" y="113"/>
                            </a:lnTo>
                            <a:lnTo>
                              <a:pt x="1030" y="74"/>
                            </a:lnTo>
                            <a:close/>
                          </a:path>
                        </a:pathLst>
                      </a:custGeom>
                      <a:solidFill>
                        <a:srgbClr val="c0c0c0"/>
                      </a:solidFill>
                      <a:ln w="324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25" name=""/>
                      <p:cNvSpPr/>
                      <p:nvPr/>
                    </p:nvSpPr>
                    <p:spPr>
                      <a:xfrm flipH="1">
                        <a:off x="2892960" y="5314680"/>
                        <a:ext cx="169200" cy="281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01" h="1322">
                            <a:moveTo>
                              <a:pt x="0" y="1109"/>
                            </a:moveTo>
                            <a:lnTo>
                              <a:pt x="104" y="1093"/>
                            </a:lnTo>
                            <a:lnTo>
                              <a:pt x="194" y="1089"/>
                            </a:lnTo>
                            <a:lnTo>
                              <a:pt x="293" y="1079"/>
                            </a:lnTo>
                            <a:lnTo>
                              <a:pt x="403" y="1063"/>
                            </a:lnTo>
                            <a:lnTo>
                              <a:pt x="453" y="1029"/>
                            </a:lnTo>
                            <a:lnTo>
                              <a:pt x="587" y="860"/>
                            </a:lnTo>
                            <a:lnTo>
                              <a:pt x="518" y="909"/>
                            </a:lnTo>
                            <a:lnTo>
                              <a:pt x="473" y="950"/>
                            </a:lnTo>
                            <a:lnTo>
                              <a:pt x="498" y="830"/>
                            </a:lnTo>
                            <a:lnTo>
                              <a:pt x="548" y="785"/>
                            </a:lnTo>
                            <a:lnTo>
                              <a:pt x="622" y="661"/>
                            </a:lnTo>
                            <a:lnTo>
                              <a:pt x="553" y="720"/>
                            </a:lnTo>
                            <a:lnTo>
                              <a:pt x="507" y="736"/>
                            </a:lnTo>
                            <a:lnTo>
                              <a:pt x="518" y="651"/>
                            </a:lnTo>
                            <a:lnTo>
                              <a:pt x="567" y="586"/>
                            </a:lnTo>
                            <a:lnTo>
                              <a:pt x="617" y="537"/>
                            </a:lnTo>
                            <a:lnTo>
                              <a:pt x="668" y="392"/>
                            </a:lnTo>
                            <a:lnTo>
                              <a:pt x="572" y="512"/>
                            </a:lnTo>
                            <a:lnTo>
                              <a:pt x="518" y="556"/>
                            </a:lnTo>
                            <a:lnTo>
                              <a:pt x="512" y="372"/>
                            </a:lnTo>
                            <a:lnTo>
                              <a:pt x="498" y="297"/>
                            </a:lnTo>
                            <a:lnTo>
                              <a:pt x="468" y="263"/>
                            </a:lnTo>
                            <a:lnTo>
                              <a:pt x="424" y="208"/>
                            </a:lnTo>
                            <a:lnTo>
                              <a:pt x="353" y="183"/>
                            </a:lnTo>
                            <a:lnTo>
                              <a:pt x="318" y="168"/>
                            </a:lnTo>
                            <a:lnTo>
                              <a:pt x="418" y="74"/>
                            </a:lnTo>
                            <a:lnTo>
                              <a:pt x="523" y="99"/>
                            </a:lnTo>
                            <a:lnTo>
                              <a:pt x="592" y="138"/>
                            </a:lnTo>
                            <a:lnTo>
                              <a:pt x="617" y="178"/>
                            </a:lnTo>
                            <a:lnTo>
                              <a:pt x="597" y="118"/>
                            </a:lnTo>
                            <a:lnTo>
                              <a:pt x="558" y="99"/>
                            </a:lnTo>
                            <a:lnTo>
                              <a:pt x="493" y="74"/>
                            </a:lnTo>
                            <a:lnTo>
                              <a:pt x="443" y="64"/>
                            </a:lnTo>
                            <a:lnTo>
                              <a:pt x="473" y="49"/>
                            </a:lnTo>
                            <a:lnTo>
                              <a:pt x="523" y="34"/>
                            </a:lnTo>
                            <a:lnTo>
                              <a:pt x="567" y="19"/>
                            </a:lnTo>
                            <a:lnTo>
                              <a:pt x="592" y="0"/>
                            </a:lnTo>
                            <a:lnTo>
                              <a:pt x="652" y="39"/>
                            </a:lnTo>
                            <a:lnTo>
                              <a:pt x="687" y="74"/>
                            </a:lnTo>
                            <a:lnTo>
                              <a:pt x="721" y="118"/>
                            </a:lnTo>
                            <a:lnTo>
                              <a:pt x="772" y="143"/>
                            </a:lnTo>
                            <a:lnTo>
                              <a:pt x="781" y="189"/>
                            </a:lnTo>
                            <a:lnTo>
                              <a:pt x="801" y="263"/>
                            </a:lnTo>
                            <a:lnTo>
                              <a:pt x="801" y="378"/>
                            </a:lnTo>
                            <a:lnTo>
                              <a:pt x="797" y="496"/>
                            </a:lnTo>
                            <a:lnTo>
                              <a:pt x="792" y="631"/>
                            </a:lnTo>
                            <a:lnTo>
                              <a:pt x="767" y="770"/>
                            </a:lnTo>
                            <a:lnTo>
                              <a:pt x="737" y="915"/>
                            </a:lnTo>
                            <a:lnTo>
                              <a:pt x="721" y="1039"/>
                            </a:lnTo>
                            <a:lnTo>
                              <a:pt x="697" y="1128"/>
                            </a:lnTo>
                            <a:lnTo>
                              <a:pt x="702" y="1208"/>
                            </a:lnTo>
                            <a:lnTo>
                              <a:pt x="691" y="1252"/>
                            </a:lnTo>
                            <a:lnTo>
                              <a:pt x="657" y="1287"/>
                            </a:lnTo>
                            <a:lnTo>
                              <a:pt x="613" y="1317"/>
                            </a:lnTo>
                            <a:lnTo>
                              <a:pt x="553" y="1322"/>
                            </a:lnTo>
                            <a:lnTo>
                              <a:pt x="523" y="1308"/>
                            </a:lnTo>
                            <a:lnTo>
                              <a:pt x="483" y="1303"/>
                            </a:lnTo>
                            <a:lnTo>
                              <a:pt x="388" y="1282"/>
                            </a:lnTo>
                            <a:lnTo>
                              <a:pt x="428" y="1233"/>
                            </a:lnTo>
                            <a:lnTo>
                              <a:pt x="473" y="1163"/>
                            </a:lnTo>
                            <a:lnTo>
                              <a:pt x="408" y="1213"/>
                            </a:lnTo>
                            <a:lnTo>
                              <a:pt x="358" y="1257"/>
                            </a:lnTo>
                            <a:lnTo>
                              <a:pt x="323" y="1282"/>
                            </a:lnTo>
                            <a:lnTo>
                              <a:pt x="274" y="1308"/>
                            </a:lnTo>
                            <a:lnTo>
                              <a:pt x="219" y="1308"/>
                            </a:lnTo>
                            <a:lnTo>
                              <a:pt x="164" y="1308"/>
                            </a:lnTo>
                            <a:lnTo>
                              <a:pt x="134" y="1293"/>
                            </a:lnTo>
                            <a:lnTo>
                              <a:pt x="120" y="1278"/>
                            </a:lnTo>
                            <a:lnTo>
                              <a:pt x="189" y="1238"/>
                            </a:lnTo>
                            <a:lnTo>
                              <a:pt x="259" y="1174"/>
                            </a:lnTo>
                            <a:lnTo>
                              <a:pt x="279" y="1144"/>
                            </a:lnTo>
                            <a:lnTo>
                              <a:pt x="224" y="1158"/>
                            </a:lnTo>
                            <a:lnTo>
                              <a:pt x="139" y="1223"/>
                            </a:lnTo>
                            <a:lnTo>
                              <a:pt x="104" y="1252"/>
                            </a:lnTo>
                            <a:lnTo>
                              <a:pt x="25" y="1257"/>
                            </a:lnTo>
                            <a:lnTo>
                              <a:pt x="0" y="1243"/>
                            </a:lnTo>
                            <a:lnTo>
                              <a:pt x="0" y="1208"/>
                            </a:lnTo>
                            <a:lnTo>
                              <a:pt x="0" y="1109"/>
                            </a:lnTo>
                            <a:close/>
                          </a:path>
                        </a:pathLst>
                      </a:custGeom>
                      <a:solidFill>
                        <a:srgbClr val="e0e0e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26" name=""/>
                      <p:cNvSpPr/>
                      <p:nvPr/>
                    </p:nvSpPr>
                    <p:spPr>
                      <a:xfrm flipH="1">
                        <a:off x="2905560" y="5454720"/>
                        <a:ext cx="49680" cy="1299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35" h="613">
                            <a:moveTo>
                              <a:pt x="0" y="613"/>
                            </a:moveTo>
                            <a:lnTo>
                              <a:pt x="41" y="593"/>
                            </a:lnTo>
                            <a:lnTo>
                              <a:pt x="85" y="544"/>
                            </a:lnTo>
                            <a:lnTo>
                              <a:pt x="125" y="454"/>
                            </a:lnTo>
                            <a:lnTo>
                              <a:pt x="145" y="378"/>
                            </a:lnTo>
                            <a:lnTo>
                              <a:pt x="175" y="295"/>
                            </a:lnTo>
                            <a:lnTo>
                              <a:pt x="190" y="215"/>
                            </a:lnTo>
                            <a:lnTo>
                              <a:pt x="214" y="90"/>
                            </a:lnTo>
                            <a:lnTo>
                              <a:pt x="235" y="0"/>
                            </a:lnTo>
                            <a:lnTo>
                              <a:pt x="184" y="180"/>
                            </a:lnTo>
                            <a:lnTo>
                              <a:pt x="145" y="319"/>
                            </a:lnTo>
                            <a:lnTo>
                              <a:pt x="101" y="413"/>
                            </a:lnTo>
                            <a:lnTo>
                              <a:pt x="30" y="514"/>
                            </a:lnTo>
                            <a:lnTo>
                              <a:pt x="0" y="613"/>
                            </a:lnTo>
                            <a:close/>
                          </a:path>
                        </a:pathLst>
                      </a:custGeom>
                      <a:solidFill>
                        <a:srgbClr val="c0c0c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27" name=""/>
                      <p:cNvSpPr/>
                      <p:nvPr/>
                    </p:nvSpPr>
                    <p:spPr>
                      <a:xfrm flipH="1">
                        <a:off x="2956320" y="5350320"/>
                        <a:ext cx="196200" cy="194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26" h="921">
                            <a:moveTo>
                              <a:pt x="757" y="0"/>
                            </a:moveTo>
                            <a:lnTo>
                              <a:pt x="647" y="35"/>
                            </a:lnTo>
                            <a:lnTo>
                              <a:pt x="597" y="79"/>
                            </a:lnTo>
                            <a:lnTo>
                              <a:pt x="567" y="169"/>
                            </a:lnTo>
                            <a:lnTo>
                              <a:pt x="567" y="254"/>
                            </a:lnTo>
                            <a:lnTo>
                              <a:pt x="582" y="303"/>
                            </a:lnTo>
                            <a:lnTo>
                              <a:pt x="573" y="388"/>
                            </a:lnTo>
                            <a:lnTo>
                              <a:pt x="573" y="453"/>
                            </a:lnTo>
                            <a:lnTo>
                              <a:pt x="587" y="468"/>
                            </a:lnTo>
                            <a:lnTo>
                              <a:pt x="573" y="492"/>
                            </a:lnTo>
                            <a:lnTo>
                              <a:pt x="562" y="517"/>
                            </a:lnTo>
                            <a:lnTo>
                              <a:pt x="582" y="543"/>
                            </a:lnTo>
                            <a:lnTo>
                              <a:pt x="582" y="568"/>
                            </a:lnTo>
                            <a:lnTo>
                              <a:pt x="543" y="577"/>
                            </a:lnTo>
                            <a:lnTo>
                              <a:pt x="548" y="602"/>
                            </a:lnTo>
                            <a:lnTo>
                              <a:pt x="508" y="617"/>
                            </a:lnTo>
                            <a:lnTo>
                              <a:pt x="472" y="607"/>
                            </a:lnTo>
                            <a:lnTo>
                              <a:pt x="448" y="617"/>
                            </a:lnTo>
                            <a:lnTo>
                              <a:pt x="338" y="632"/>
                            </a:lnTo>
                            <a:lnTo>
                              <a:pt x="239" y="628"/>
                            </a:lnTo>
                            <a:lnTo>
                              <a:pt x="175" y="632"/>
                            </a:lnTo>
                            <a:lnTo>
                              <a:pt x="134" y="657"/>
                            </a:lnTo>
                            <a:lnTo>
                              <a:pt x="35" y="657"/>
                            </a:lnTo>
                            <a:lnTo>
                              <a:pt x="0" y="692"/>
                            </a:lnTo>
                            <a:lnTo>
                              <a:pt x="0" y="732"/>
                            </a:lnTo>
                            <a:lnTo>
                              <a:pt x="5" y="796"/>
                            </a:lnTo>
                            <a:lnTo>
                              <a:pt x="85" y="817"/>
                            </a:lnTo>
                            <a:lnTo>
                              <a:pt x="85" y="776"/>
                            </a:lnTo>
                            <a:lnTo>
                              <a:pt x="90" y="741"/>
                            </a:lnTo>
                            <a:lnTo>
                              <a:pt x="104" y="727"/>
                            </a:lnTo>
                            <a:lnTo>
                              <a:pt x="110" y="766"/>
                            </a:lnTo>
                            <a:lnTo>
                              <a:pt x="115" y="817"/>
                            </a:lnTo>
                            <a:lnTo>
                              <a:pt x="134" y="847"/>
                            </a:lnTo>
                            <a:lnTo>
                              <a:pt x="169" y="886"/>
                            </a:lnTo>
                            <a:lnTo>
                              <a:pt x="254" y="905"/>
                            </a:lnTo>
                            <a:lnTo>
                              <a:pt x="318" y="916"/>
                            </a:lnTo>
                            <a:lnTo>
                              <a:pt x="393" y="921"/>
                            </a:lnTo>
                            <a:lnTo>
                              <a:pt x="299" y="866"/>
                            </a:lnTo>
                            <a:lnTo>
                              <a:pt x="234" y="817"/>
                            </a:lnTo>
                            <a:lnTo>
                              <a:pt x="219" y="776"/>
                            </a:lnTo>
                            <a:lnTo>
                              <a:pt x="228" y="741"/>
                            </a:lnTo>
                            <a:lnTo>
                              <a:pt x="283" y="736"/>
                            </a:lnTo>
                            <a:lnTo>
                              <a:pt x="304" y="776"/>
                            </a:lnTo>
                            <a:lnTo>
                              <a:pt x="318" y="821"/>
                            </a:lnTo>
                            <a:lnTo>
                              <a:pt x="368" y="870"/>
                            </a:lnTo>
                            <a:lnTo>
                              <a:pt x="423" y="911"/>
                            </a:lnTo>
                            <a:lnTo>
                              <a:pt x="478" y="916"/>
                            </a:lnTo>
                            <a:lnTo>
                              <a:pt x="562" y="911"/>
                            </a:lnTo>
                            <a:lnTo>
                              <a:pt x="472" y="841"/>
                            </a:lnTo>
                            <a:lnTo>
                              <a:pt x="408" y="806"/>
                            </a:lnTo>
                            <a:lnTo>
                              <a:pt x="359" y="766"/>
                            </a:lnTo>
                            <a:lnTo>
                              <a:pt x="343" y="736"/>
                            </a:lnTo>
                            <a:lnTo>
                              <a:pt x="348" y="707"/>
                            </a:lnTo>
                            <a:lnTo>
                              <a:pt x="378" y="702"/>
                            </a:lnTo>
                            <a:lnTo>
                              <a:pt x="413" y="732"/>
                            </a:lnTo>
                            <a:lnTo>
                              <a:pt x="433" y="771"/>
                            </a:lnTo>
                            <a:lnTo>
                              <a:pt x="478" y="821"/>
                            </a:lnTo>
                            <a:lnTo>
                              <a:pt x="532" y="847"/>
                            </a:lnTo>
                            <a:lnTo>
                              <a:pt x="573" y="870"/>
                            </a:lnTo>
                            <a:lnTo>
                              <a:pt x="617" y="891"/>
                            </a:lnTo>
                            <a:lnTo>
                              <a:pt x="667" y="900"/>
                            </a:lnTo>
                            <a:lnTo>
                              <a:pt x="727" y="900"/>
                            </a:lnTo>
                            <a:lnTo>
                              <a:pt x="784" y="890"/>
                            </a:lnTo>
                            <a:lnTo>
                              <a:pt x="657" y="847"/>
                            </a:lnTo>
                            <a:lnTo>
                              <a:pt x="607" y="821"/>
                            </a:lnTo>
                            <a:lnTo>
                              <a:pt x="573" y="776"/>
                            </a:lnTo>
                            <a:lnTo>
                              <a:pt x="567" y="736"/>
                            </a:lnTo>
                            <a:lnTo>
                              <a:pt x="597" y="736"/>
                            </a:lnTo>
                            <a:lnTo>
                              <a:pt x="612" y="771"/>
                            </a:lnTo>
                            <a:lnTo>
                              <a:pt x="637" y="801"/>
                            </a:lnTo>
                            <a:lnTo>
                              <a:pt x="677" y="832"/>
                            </a:lnTo>
                            <a:lnTo>
                              <a:pt x="722" y="862"/>
                            </a:lnTo>
                            <a:lnTo>
                              <a:pt x="781" y="887"/>
                            </a:lnTo>
                            <a:lnTo>
                              <a:pt x="826" y="870"/>
                            </a:lnTo>
                            <a:lnTo>
                              <a:pt x="847" y="847"/>
                            </a:lnTo>
                            <a:lnTo>
                              <a:pt x="881" y="786"/>
                            </a:lnTo>
                            <a:lnTo>
                              <a:pt x="817" y="771"/>
                            </a:lnTo>
                            <a:lnTo>
                              <a:pt x="692" y="757"/>
                            </a:lnTo>
                            <a:lnTo>
                              <a:pt x="617" y="722"/>
                            </a:lnTo>
                            <a:lnTo>
                              <a:pt x="578" y="687"/>
                            </a:lnTo>
                            <a:lnTo>
                              <a:pt x="562" y="647"/>
                            </a:lnTo>
                            <a:lnTo>
                              <a:pt x="557" y="628"/>
                            </a:lnTo>
                            <a:lnTo>
                              <a:pt x="578" y="628"/>
                            </a:lnTo>
                            <a:lnTo>
                              <a:pt x="603" y="657"/>
                            </a:lnTo>
                            <a:lnTo>
                              <a:pt x="642" y="711"/>
                            </a:lnTo>
                            <a:lnTo>
                              <a:pt x="732" y="741"/>
                            </a:lnTo>
                            <a:lnTo>
                              <a:pt x="817" y="768"/>
                            </a:lnTo>
                            <a:lnTo>
                              <a:pt x="881" y="786"/>
                            </a:lnTo>
                            <a:lnTo>
                              <a:pt x="906" y="681"/>
                            </a:lnTo>
                            <a:lnTo>
                              <a:pt x="911" y="607"/>
                            </a:lnTo>
                            <a:lnTo>
                              <a:pt x="911" y="541"/>
                            </a:lnTo>
                            <a:lnTo>
                              <a:pt x="826" y="587"/>
                            </a:lnTo>
                            <a:lnTo>
                              <a:pt x="727" y="607"/>
                            </a:lnTo>
                            <a:lnTo>
                              <a:pt x="647" y="602"/>
                            </a:lnTo>
                            <a:lnTo>
                              <a:pt x="627" y="593"/>
                            </a:lnTo>
                            <a:lnTo>
                              <a:pt x="617" y="568"/>
                            </a:lnTo>
                            <a:lnTo>
                              <a:pt x="662" y="568"/>
                            </a:lnTo>
                            <a:lnTo>
                              <a:pt x="712" y="582"/>
                            </a:lnTo>
                            <a:lnTo>
                              <a:pt x="829" y="587"/>
                            </a:lnTo>
                            <a:lnTo>
                              <a:pt x="911" y="543"/>
                            </a:lnTo>
                            <a:lnTo>
                              <a:pt x="916" y="448"/>
                            </a:lnTo>
                            <a:lnTo>
                              <a:pt x="921" y="383"/>
                            </a:lnTo>
                            <a:lnTo>
                              <a:pt x="926" y="319"/>
                            </a:lnTo>
                            <a:lnTo>
                              <a:pt x="916" y="209"/>
                            </a:lnTo>
                            <a:lnTo>
                              <a:pt x="891" y="169"/>
                            </a:lnTo>
                            <a:lnTo>
                              <a:pt x="817" y="120"/>
                            </a:lnTo>
                            <a:lnTo>
                              <a:pt x="841" y="125"/>
                            </a:lnTo>
                            <a:lnTo>
                              <a:pt x="916" y="160"/>
                            </a:lnTo>
                            <a:lnTo>
                              <a:pt x="886" y="90"/>
                            </a:lnTo>
                            <a:lnTo>
                              <a:pt x="861" y="54"/>
                            </a:lnTo>
                            <a:lnTo>
                              <a:pt x="841" y="30"/>
                            </a:lnTo>
                            <a:lnTo>
                              <a:pt x="757" y="0"/>
                            </a:lnTo>
                            <a:close/>
                          </a:path>
                        </a:pathLst>
                      </a:custGeom>
                      <a:solidFill>
                        <a:srgbClr val="e0e0e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28" name=""/>
                      <p:cNvSpPr/>
                      <p:nvPr/>
                    </p:nvSpPr>
                    <p:spPr>
                      <a:xfrm flipH="1">
                        <a:off x="2969280" y="5423040"/>
                        <a:ext cx="49680" cy="44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34" h="209">
                            <a:moveTo>
                              <a:pt x="0" y="0"/>
                            </a:moveTo>
                            <a:lnTo>
                              <a:pt x="0" y="16"/>
                            </a:lnTo>
                            <a:lnTo>
                              <a:pt x="30" y="57"/>
                            </a:lnTo>
                            <a:lnTo>
                              <a:pt x="60" y="79"/>
                            </a:lnTo>
                            <a:lnTo>
                              <a:pt x="122" y="125"/>
                            </a:lnTo>
                            <a:lnTo>
                              <a:pt x="147" y="145"/>
                            </a:lnTo>
                            <a:lnTo>
                              <a:pt x="207" y="190"/>
                            </a:lnTo>
                            <a:lnTo>
                              <a:pt x="142" y="170"/>
                            </a:lnTo>
                            <a:lnTo>
                              <a:pt x="78" y="149"/>
                            </a:lnTo>
                            <a:lnTo>
                              <a:pt x="13" y="145"/>
                            </a:lnTo>
                            <a:lnTo>
                              <a:pt x="18" y="165"/>
                            </a:lnTo>
                            <a:lnTo>
                              <a:pt x="122" y="184"/>
                            </a:lnTo>
                            <a:lnTo>
                              <a:pt x="177" y="204"/>
                            </a:lnTo>
                            <a:lnTo>
                              <a:pt x="207" y="209"/>
                            </a:lnTo>
                            <a:lnTo>
                              <a:pt x="232" y="201"/>
                            </a:lnTo>
                            <a:lnTo>
                              <a:pt x="234" y="177"/>
                            </a:lnTo>
                            <a:lnTo>
                              <a:pt x="214" y="159"/>
                            </a:lnTo>
                            <a:lnTo>
                              <a:pt x="185" y="129"/>
                            </a:lnTo>
                            <a:lnTo>
                              <a:pt x="149" y="89"/>
                            </a:lnTo>
                            <a:lnTo>
                              <a:pt x="115" y="44"/>
                            </a:lnTo>
                            <a:lnTo>
                              <a:pt x="73" y="14"/>
                            </a:lnTo>
                            <a:lnTo>
                              <a:pt x="28" y="2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c0c0c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160" bIns="-21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29" name=""/>
                      <p:cNvSpPr/>
                      <p:nvPr/>
                    </p:nvSpPr>
                    <p:spPr>
                      <a:xfrm flipH="1">
                        <a:off x="2970360" y="5385960"/>
                        <a:ext cx="45720" cy="58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4" h="274">
                            <a:moveTo>
                              <a:pt x="40" y="0"/>
                            </a:moveTo>
                            <a:lnTo>
                              <a:pt x="10" y="5"/>
                            </a:lnTo>
                            <a:lnTo>
                              <a:pt x="0" y="30"/>
                            </a:lnTo>
                            <a:lnTo>
                              <a:pt x="3" y="52"/>
                            </a:lnTo>
                            <a:lnTo>
                              <a:pt x="20" y="80"/>
                            </a:lnTo>
                            <a:lnTo>
                              <a:pt x="44" y="89"/>
                            </a:lnTo>
                            <a:lnTo>
                              <a:pt x="92" y="119"/>
                            </a:lnTo>
                            <a:lnTo>
                              <a:pt x="136" y="156"/>
                            </a:lnTo>
                            <a:lnTo>
                              <a:pt x="169" y="206"/>
                            </a:lnTo>
                            <a:lnTo>
                              <a:pt x="205" y="259"/>
                            </a:lnTo>
                            <a:lnTo>
                              <a:pt x="214" y="274"/>
                            </a:lnTo>
                            <a:lnTo>
                              <a:pt x="205" y="213"/>
                            </a:lnTo>
                            <a:lnTo>
                              <a:pt x="196" y="158"/>
                            </a:lnTo>
                            <a:lnTo>
                              <a:pt x="179" y="111"/>
                            </a:lnTo>
                            <a:lnTo>
                              <a:pt x="150" y="67"/>
                            </a:lnTo>
                            <a:lnTo>
                              <a:pt x="72" y="7"/>
                            </a:lnTo>
                            <a:lnTo>
                              <a:pt x="40" y="0"/>
                            </a:lnTo>
                            <a:close/>
                          </a:path>
                        </a:pathLst>
                      </a:custGeom>
                      <a:solidFill>
                        <a:srgbClr val="c0c0c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1520" bIns="115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30" name=""/>
                      <p:cNvSpPr/>
                      <p:nvPr/>
                    </p:nvSpPr>
                    <p:spPr>
                      <a:xfrm flipH="1">
                        <a:off x="2975760" y="5328720"/>
                        <a:ext cx="48240" cy="34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28" h="159">
                            <a:moveTo>
                              <a:pt x="0" y="159"/>
                            </a:moveTo>
                            <a:lnTo>
                              <a:pt x="39" y="125"/>
                            </a:lnTo>
                            <a:lnTo>
                              <a:pt x="104" y="99"/>
                            </a:lnTo>
                            <a:lnTo>
                              <a:pt x="148" y="89"/>
                            </a:lnTo>
                            <a:lnTo>
                              <a:pt x="228" y="0"/>
                            </a:lnTo>
                            <a:lnTo>
                              <a:pt x="168" y="35"/>
                            </a:lnTo>
                            <a:lnTo>
                              <a:pt x="113" y="59"/>
                            </a:lnTo>
                            <a:lnTo>
                              <a:pt x="74" y="79"/>
                            </a:lnTo>
                            <a:lnTo>
                              <a:pt x="54" y="99"/>
                            </a:lnTo>
                            <a:lnTo>
                              <a:pt x="0" y="159"/>
                            </a:lnTo>
                            <a:close/>
                          </a:path>
                        </a:pathLst>
                      </a:custGeom>
                      <a:solidFill>
                        <a:srgbClr val="e0e0e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2600" bIns="-126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31" name=""/>
                      <p:cNvSpPr/>
                      <p:nvPr/>
                    </p:nvSpPr>
                    <p:spPr>
                      <a:xfrm flipH="1">
                        <a:off x="3033000" y="5389920"/>
                        <a:ext cx="27720" cy="86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9" h="408">
                            <a:moveTo>
                              <a:pt x="0" y="408"/>
                            </a:moveTo>
                            <a:lnTo>
                              <a:pt x="64" y="408"/>
                            </a:lnTo>
                            <a:lnTo>
                              <a:pt x="85" y="403"/>
                            </a:lnTo>
                            <a:lnTo>
                              <a:pt x="85" y="387"/>
                            </a:lnTo>
                            <a:lnTo>
                              <a:pt x="99" y="373"/>
                            </a:lnTo>
                            <a:lnTo>
                              <a:pt x="119" y="357"/>
                            </a:lnTo>
                            <a:lnTo>
                              <a:pt x="110" y="343"/>
                            </a:lnTo>
                            <a:lnTo>
                              <a:pt x="110" y="323"/>
                            </a:lnTo>
                            <a:lnTo>
                              <a:pt x="124" y="298"/>
                            </a:lnTo>
                            <a:lnTo>
                              <a:pt x="124" y="272"/>
                            </a:lnTo>
                            <a:lnTo>
                              <a:pt x="115" y="242"/>
                            </a:lnTo>
                            <a:lnTo>
                              <a:pt x="115" y="178"/>
                            </a:lnTo>
                            <a:lnTo>
                              <a:pt x="129" y="119"/>
                            </a:lnTo>
                            <a:lnTo>
                              <a:pt x="124" y="74"/>
                            </a:lnTo>
                            <a:lnTo>
                              <a:pt x="124" y="0"/>
                            </a:lnTo>
                            <a:lnTo>
                              <a:pt x="85" y="113"/>
                            </a:lnTo>
                            <a:lnTo>
                              <a:pt x="50" y="219"/>
                            </a:lnTo>
                            <a:lnTo>
                              <a:pt x="25" y="332"/>
                            </a:lnTo>
                            <a:lnTo>
                              <a:pt x="0" y="408"/>
                            </a:lnTo>
                            <a:close/>
                          </a:path>
                        </a:pathLst>
                      </a:custGeom>
                      <a:solidFill>
                        <a:srgbClr val="e0e0e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9240" bIns="392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32" name=""/>
                      <p:cNvSpPr/>
                      <p:nvPr/>
                    </p:nvSpPr>
                    <p:spPr>
                      <a:xfrm flipH="1">
                        <a:off x="2972160" y="5482800"/>
                        <a:ext cx="48240" cy="165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29" h="79">
                            <a:moveTo>
                              <a:pt x="184" y="38"/>
                            </a:moveTo>
                            <a:lnTo>
                              <a:pt x="133" y="15"/>
                            </a:lnTo>
                            <a:lnTo>
                              <a:pt x="87" y="3"/>
                            </a:lnTo>
                            <a:lnTo>
                              <a:pt x="25" y="0"/>
                            </a:lnTo>
                            <a:lnTo>
                              <a:pt x="0" y="4"/>
                            </a:lnTo>
                            <a:lnTo>
                              <a:pt x="11" y="29"/>
                            </a:lnTo>
                            <a:lnTo>
                              <a:pt x="35" y="49"/>
                            </a:lnTo>
                            <a:lnTo>
                              <a:pt x="90" y="64"/>
                            </a:lnTo>
                            <a:lnTo>
                              <a:pt x="174" y="79"/>
                            </a:lnTo>
                            <a:lnTo>
                              <a:pt x="229" y="74"/>
                            </a:lnTo>
                            <a:lnTo>
                              <a:pt x="184" y="38"/>
                            </a:lnTo>
                            <a:close/>
                          </a:path>
                        </a:pathLst>
                      </a:custGeom>
                      <a:solidFill>
                        <a:srgbClr val="c0c0c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0240" bIns="-302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33" name=""/>
                      <p:cNvSpPr/>
                      <p:nvPr/>
                    </p:nvSpPr>
                    <p:spPr>
                      <a:xfrm flipH="1">
                        <a:off x="3030120" y="5491800"/>
                        <a:ext cx="30600" cy="36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40" h="173">
                            <a:moveTo>
                              <a:pt x="64" y="48"/>
                            </a:moveTo>
                            <a:lnTo>
                              <a:pt x="48" y="11"/>
                            </a:lnTo>
                            <a:lnTo>
                              <a:pt x="20" y="0"/>
                            </a:lnTo>
                            <a:lnTo>
                              <a:pt x="2" y="9"/>
                            </a:lnTo>
                            <a:lnTo>
                              <a:pt x="0" y="28"/>
                            </a:lnTo>
                            <a:lnTo>
                              <a:pt x="12" y="62"/>
                            </a:lnTo>
                            <a:lnTo>
                              <a:pt x="32" y="92"/>
                            </a:lnTo>
                            <a:lnTo>
                              <a:pt x="57" y="120"/>
                            </a:lnTo>
                            <a:lnTo>
                              <a:pt x="90" y="149"/>
                            </a:lnTo>
                            <a:lnTo>
                              <a:pt x="140" y="173"/>
                            </a:lnTo>
                            <a:lnTo>
                              <a:pt x="94" y="122"/>
                            </a:lnTo>
                            <a:lnTo>
                              <a:pt x="80" y="88"/>
                            </a:lnTo>
                            <a:lnTo>
                              <a:pt x="64" y="48"/>
                            </a:lnTo>
                            <a:close/>
                          </a:path>
                        </a:pathLst>
                      </a:custGeom>
                      <a:solidFill>
                        <a:srgbClr val="c0c0c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0080" bIns="-100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34" name=""/>
                      <p:cNvSpPr/>
                      <p:nvPr/>
                    </p:nvSpPr>
                    <p:spPr>
                      <a:xfrm flipH="1">
                        <a:off x="2942280" y="5300640"/>
                        <a:ext cx="70200" cy="44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31" h="207">
                            <a:moveTo>
                              <a:pt x="0" y="207"/>
                            </a:moveTo>
                            <a:lnTo>
                              <a:pt x="11" y="122"/>
                            </a:lnTo>
                            <a:lnTo>
                              <a:pt x="80" y="92"/>
                            </a:lnTo>
                            <a:lnTo>
                              <a:pt x="174" y="55"/>
                            </a:lnTo>
                            <a:lnTo>
                              <a:pt x="241" y="28"/>
                            </a:lnTo>
                            <a:lnTo>
                              <a:pt x="306" y="0"/>
                            </a:lnTo>
                            <a:lnTo>
                              <a:pt x="331" y="60"/>
                            </a:lnTo>
                            <a:lnTo>
                              <a:pt x="271" y="95"/>
                            </a:lnTo>
                            <a:lnTo>
                              <a:pt x="200" y="120"/>
                            </a:lnTo>
                            <a:lnTo>
                              <a:pt x="145" y="136"/>
                            </a:lnTo>
                            <a:lnTo>
                              <a:pt x="78" y="173"/>
                            </a:lnTo>
                            <a:lnTo>
                              <a:pt x="0" y="207"/>
                            </a:lnTo>
                            <a:close/>
                          </a:path>
                        </a:pathLst>
                      </a:custGeom>
                      <a:solidFill>
                        <a:srgbClr val="e0e0e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20" bIns="-25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935" name=""/>
                    <p:cNvGrpSpPr/>
                    <p:nvPr/>
                  </p:nvGrpSpPr>
                  <p:grpSpPr>
                    <a:xfrm>
                      <a:off x="2863800" y="5504760"/>
                      <a:ext cx="143640" cy="196560"/>
                      <a:chOff x="2863800" y="5504760"/>
                      <a:chExt cx="143640" cy="196560"/>
                    </a:xfrm>
                  </p:grpSpPr>
                  <p:sp>
                    <p:nvSpPr>
                      <p:cNvPr id="936" name=""/>
                      <p:cNvSpPr/>
                      <p:nvPr/>
                    </p:nvSpPr>
                    <p:spPr>
                      <a:xfrm flipH="1">
                        <a:off x="2863440" y="5504760"/>
                        <a:ext cx="143640" cy="1965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81" h="921">
                            <a:moveTo>
                              <a:pt x="303" y="136"/>
                            </a:moveTo>
                            <a:lnTo>
                              <a:pt x="428" y="125"/>
                            </a:lnTo>
                            <a:lnTo>
                              <a:pt x="503" y="106"/>
                            </a:lnTo>
                            <a:lnTo>
                              <a:pt x="527" y="71"/>
                            </a:lnTo>
                            <a:lnTo>
                              <a:pt x="527" y="41"/>
                            </a:lnTo>
                            <a:lnTo>
                              <a:pt x="547" y="16"/>
                            </a:lnTo>
                            <a:lnTo>
                              <a:pt x="617" y="0"/>
                            </a:lnTo>
                            <a:lnTo>
                              <a:pt x="681" y="5"/>
                            </a:lnTo>
                            <a:lnTo>
                              <a:pt x="602" y="717"/>
                            </a:lnTo>
                            <a:lnTo>
                              <a:pt x="547" y="782"/>
                            </a:lnTo>
                            <a:lnTo>
                              <a:pt x="478" y="846"/>
                            </a:lnTo>
                            <a:lnTo>
                              <a:pt x="379" y="897"/>
                            </a:lnTo>
                            <a:lnTo>
                              <a:pt x="264" y="911"/>
                            </a:lnTo>
                            <a:lnTo>
                              <a:pt x="110" y="921"/>
                            </a:lnTo>
                            <a:lnTo>
                              <a:pt x="20" y="906"/>
                            </a:lnTo>
                            <a:lnTo>
                              <a:pt x="0" y="856"/>
                            </a:lnTo>
                            <a:lnTo>
                              <a:pt x="10" y="791"/>
                            </a:lnTo>
                            <a:lnTo>
                              <a:pt x="75" y="593"/>
                            </a:lnTo>
                            <a:lnTo>
                              <a:pt x="129" y="394"/>
                            </a:lnTo>
                            <a:lnTo>
                              <a:pt x="154" y="244"/>
                            </a:lnTo>
                            <a:lnTo>
                              <a:pt x="154" y="205"/>
                            </a:lnTo>
                            <a:lnTo>
                              <a:pt x="189" y="150"/>
                            </a:lnTo>
                            <a:lnTo>
                              <a:pt x="229" y="136"/>
                            </a:lnTo>
                            <a:lnTo>
                              <a:pt x="303" y="136"/>
                            </a:lnTo>
                            <a:close/>
                          </a:path>
                        </a:pathLst>
                      </a:custGeom>
                      <a:solidFill>
                        <a:srgbClr val="404040"/>
                      </a:solidFill>
                      <a:ln w="324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37" name=""/>
                      <p:cNvSpPr/>
                      <p:nvPr/>
                    </p:nvSpPr>
                    <p:spPr>
                      <a:xfrm flipH="1">
                        <a:off x="2865960" y="5514840"/>
                        <a:ext cx="124920" cy="179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87" h="846">
                            <a:moveTo>
                              <a:pt x="203" y="168"/>
                            </a:moveTo>
                            <a:lnTo>
                              <a:pt x="313" y="164"/>
                            </a:lnTo>
                            <a:lnTo>
                              <a:pt x="428" y="143"/>
                            </a:lnTo>
                            <a:lnTo>
                              <a:pt x="497" y="109"/>
                            </a:lnTo>
                            <a:lnTo>
                              <a:pt x="537" y="79"/>
                            </a:lnTo>
                            <a:lnTo>
                              <a:pt x="587" y="0"/>
                            </a:lnTo>
                            <a:lnTo>
                              <a:pt x="513" y="651"/>
                            </a:lnTo>
                            <a:lnTo>
                              <a:pt x="462" y="711"/>
                            </a:lnTo>
                            <a:lnTo>
                              <a:pt x="407" y="766"/>
                            </a:lnTo>
                            <a:lnTo>
                              <a:pt x="338" y="805"/>
                            </a:lnTo>
                            <a:lnTo>
                              <a:pt x="278" y="825"/>
                            </a:lnTo>
                            <a:lnTo>
                              <a:pt x="203" y="835"/>
                            </a:lnTo>
                            <a:lnTo>
                              <a:pt x="134" y="846"/>
                            </a:lnTo>
                            <a:lnTo>
                              <a:pt x="55" y="846"/>
                            </a:lnTo>
                            <a:lnTo>
                              <a:pt x="19" y="835"/>
                            </a:lnTo>
                            <a:lnTo>
                              <a:pt x="0" y="805"/>
                            </a:lnTo>
                            <a:lnTo>
                              <a:pt x="9" y="756"/>
                            </a:lnTo>
                            <a:lnTo>
                              <a:pt x="59" y="641"/>
                            </a:lnTo>
                            <a:lnTo>
                              <a:pt x="144" y="253"/>
                            </a:lnTo>
                            <a:lnTo>
                              <a:pt x="159" y="198"/>
                            </a:lnTo>
                            <a:lnTo>
                              <a:pt x="203" y="168"/>
                            </a:lnTo>
                            <a:close/>
                          </a:path>
                        </a:pathLst>
                      </a:custGeom>
                      <a:solidFill>
                        <a:srgbClr val="60606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938" name=""/>
                    <p:cNvSpPr/>
                    <p:nvPr/>
                  </p:nvSpPr>
                  <p:spPr>
                    <a:xfrm flipH="1">
                      <a:off x="3218040" y="5727960"/>
                      <a:ext cx="10080" cy="164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0" h="777">
                          <a:moveTo>
                            <a:pt x="17" y="0"/>
                          </a:moveTo>
                          <a:lnTo>
                            <a:pt x="0" y="40"/>
                          </a:lnTo>
                          <a:lnTo>
                            <a:pt x="19" y="70"/>
                          </a:lnTo>
                          <a:lnTo>
                            <a:pt x="33" y="134"/>
                          </a:lnTo>
                          <a:lnTo>
                            <a:pt x="14" y="195"/>
                          </a:lnTo>
                          <a:lnTo>
                            <a:pt x="25" y="543"/>
                          </a:lnTo>
                          <a:lnTo>
                            <a:pt x="25" y="766"/>
                          </a:lnTo>
                          <a:lnTo>
                            <a:pt x="50" y="777"/>
                          </a:lnTo>
                          <a:lnTo>
                            <a:pt x="48" y="315"/>
                          </a:lnTo>
                          <a:lnTo>
                            <a:pt x="25" y="204"/>
                          </a:lnTo>
                          <a:lnTo>
                            <a:pt x="39" y="151"/>
                          </a:lnTo>
                          <a:lnTo>
                            <a:pt x="45" y="132"/>
                          </a:lnTo>
                          <a:lnTo>
                            <a:pt x="36" y="76"/>
                          </a:lnTo>
                          <a:lnTo>
                            <a:pt x="19" y="45"/>
                          </a:lnTo>
                          <a:lnTo>
                            <a:pt x="17" y="0"/>
                          </a:lnTo>
                          <a:close/>
                        </a:path>
                      </a:pathLst>
                    </a:custGeom>
                    <a:solidFill>
                      <a:srgbClr val="60606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39" name=""/>
                    <p:cNvSpPr/>
                    <p:nvPr/>
                  </p:nvSpPr>
                  <p:spPr>
                    <a:xfrm flipH="1">
                      <a:off x="3174480" y="5729400"/>
                      <a:ext cx="26280" cy="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6" h="42">
                          <a:moveTo>
                            <a:pt x="0" y="0"/>
                          </a:moveTo>
                          <a:lnTo>
                            <a:pt x="61" y="31"/>
                          </a:lnTo>
                          <a:lnTo>
                            <a:pt x="115" y="42"/>
                          </a:lnTo>
                          <a:lnTo>
                            <a:pt x="126" y="42"/>
                          </a:lnTo>
                          <a:lnTo>
                            <a:pt x="92" y="13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60606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160" bIns="-38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cxnSp>
          <p:nvCxnSpPr>
            <p:cNvPr id="940" name=""/>
            <p:cNvCxnSpPr/>
            <p:nvPr/>
          </p:nvCxnSpPr>
          <p:spPr>
            <a:xfrm rot="10800000">
              <a:off x="3733200" y="5333400"/>
              <a:ext cx="1448280" cy="305280"/>
            </a:xfrm>
            <a:prstGeom prst="curvedConnector5">
              <a:avLst>
                <a:gd name="adj1" fmla="val 50000"/>
                <a:gd name="adj2" fmla="val 49940"/>
                <a:gd name="adj3" fmla="val 50000"/>
              </a:avLst>
            </a:prstGeom>
            <a:ln w="28440">
              <a:solidFill>
                <a:srgbClr val="ffff00"/>
              </a:solidFill>
              <a:miter/>
              <a:headEnd len="med" type="triangle" w="med"/>
            </a:ln>
          </p:spPr>
        </p:cxnSp>
        <p:cxnSp>
          <p:nvCxnSpPr>
            <p:cNvPr id="941" name=""/>
            <p:cNvCxnSpPr/>
            <p:nvPr/>
          </p:nvCxnSpPr>
          <p:spPr>
            <a:xfrm rot="5400000">
              <a:off x="5238000" y="4438440"/>
              <a:ext cx="1600920" cy="19116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28440">
              <a:solidFill>
                <a:srgbClr val="ffff00"/>
              </a:solidFill>
              <a:miter/>
              <a:headEnd len="med" type="triangle" w="med"/>
            </a:ln>
          </p:spPr>
        </p:cxnSp>
      </p:grpSp>
      <p:grpSp>
        <p:nvGrpSpPr>
          <p:cNvPr id="942" name=""/>
          <p:cNvGrpSpPr/>
          <p:nvPr/>
        </p:nvGrpSpPr>
        <p:grpSpPr>
          <a:xfrm>
            <a:off x="3733200" y="3733560"/>
            <a:ext cx="2171880" cy="2210040"/>
            <a:chOff x="3733200" y="3733560"/>
            <a:chExt cx="2171880" cy="2210040"/>
          </a:xfrm>
        </p:grpSpPr>
        <p:cxnSp>
          <p:nvCxnSpPr>
            <p:cNvPr id="943" name=""/>
            <p:cNvCxnSpPr/>
            <p:nvPr/>
          </p:nvCxnSpPr>
          <p:spPr>
            <a:xfrm rot="10800000">
              <a:off x="3733200" y="5562000"/>
              <a:ext cx="1600920" cy="381600"/>
            </a:xfrm>
            <a:prstGeom prst="curvedConnector5">
              <a:avLst>
                <a:gd name="adj1" fmla="val 50000"/>
                <a:gd name="adj2" fmla="val 49952"/>
                <a:gd name="adj3" fmla="val 50000"/>
              </a:avLst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</p:cxnSp>
        <p:cxnSp>
          <p:nvCxnSpPr>
            <p:cNvPr id="944" name=""/>
            <p:cNvCxnSpPr/>
            <p:nvPr/>
          </p:nvCxnSpPr>
          <p:spPr>
            <a:xfrm rot="5400000">
              <a:off x="5009400" y="4438440"/>
              <a:ext cx="1600920" cy="19116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</p:cxnSp>
      </p:grpSp>
      <p:grpSp>
        <p:nvGrpSpPr>
          <p:cNvPr id="945" name=""/>
          <p:cNvGrpSpPr/>
          <p:nvPr/>
        </p:nvGrpSpPr>
        <p:grpSpPr>
          <a:xfrm>
            <a:off x="304920" y="1752480"/>
            <a:ext cx="4951440" cy="2971800"/>
            <a:chOff x="304920" y="1752480"/>
            <a:chExt cx="4951440" cy="2971800"/>
          </a:xfrm>
        </p:grpSpPr>
        <p:sp>
          <p:nvSpPr>
            <p:cNvPr id="946" name=""/>
            <p:cNvSpPr/>
            <p:nvPr/>
          </p:nvSpPr>
          <p:spPr>
            <a:xfrm>
              <a:off x="685800" y="2666880"/>
              <a:ext cx="152280" cy="152640"/>
            </a:xfrm>
            <a:prstGeom prst="donut">
              <a:avLst>
                <a:gd name="adj" fmla="val 25000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609480" y="2590920"/>
              <a:ext cx="152640" cy="152280"/>
            </a:xfrm>
            <a:prstGeom prst="donut">
              <a:avLst>
                <a:gd name="adj" fmla="val 25000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457200" y="2438280"/>
              <a:ext cx="152280" cy="152640"/>
            </a:xfrm>
            <a:prstGeom prst="donut">
              <a:avLst>
                <a:gd name="adj" fmla="val 25000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457200" y="2209680"/>
              <a:ext cx="152280" cy="152640"/>
            </a:xfrm>
            <a:prstGeom prst="donut">
              <a:avLst>
                <a:gd name="adj" fmla="val 25000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1828800" y="2438280"/>
              <a:ext cx="152280" cy="152640"/>
            </a:xfrm>
            <a:prstGeom prst="donut">
              <a:avLst>
                <a:gd name="adj" fmla="val 25000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1981080" y="2286000"/>
              <a:ext cx="152640" cy="152280"/>
            </a:xfrm>
            <a:prstGeom prst="donut">
              <a:avLst>
                <a:gd name="adj" fmla="val 25000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1447920" y="2286000"/>
              <a:ext cx="152280" cy="152280"/>
            </a:xfrm>
            <a:prstGeom prst="donut">
              <a:avLst>
                <a:gd name="adj" fmla="val 25000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4038480" y="1981080"/>
              <a:ext cx="152640" cy="152640"/>
            </a:xfrm>
            <a:prstGeom prst="donut">
              <a:avLst>
                <a:gd name="adj" fmla="val 25000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4114800" y="2133720"/>
              <a:ext cx="152280" cy="152280"/>
            </a:xfrm>
            <a:prstGeom prst="donut">
              <a:avLst>
                <a:gd name="adj" fmla="val 25000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4191120" y="2057400"/>
              <a:ext cx="152280" cy="152280"/>
            </a:xfrm>
            <a:prstGeom prst="donut">
              <a:avLst>
                <a:gd name="adj" fmla="val 25000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4343400" y="2133720"/>
              <a:ext cx="152280" cy="152280"/>
            </a:xfrm>
            <a:prstGeom prst="donut">
              <a:avLst>
                <a:gd name="adj" fmla="val 25000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4419720" y="1752480"/>
              <a:ext cx="152280" cy="152640"/>
            </a:xfrm>
            <a:prstGeom prst="donut">
              <a:avLst>
                <a:gd name="adj" fmla="val 25000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1219320" y="2590920"/>
              <a:ext cx="152280" cy="152280"/>
            </a:xfrm>
            <a:prstGeom prst="donut">
              <a:avLst>
                <a:gd name="adj" fmla="val 25000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1676520" y="2666880"/>
              <a:ext cx="152280" cy="152640"/>
            </a:xfrm>
            <a:prstGeom prst="donut">
              <a:avLst>
                <a:gd name="adj" fmla="val 25000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3886200" y="2362320"/>
              <a:ext cx="152280" cy="152280"/>
            </a:xfrm>
            <a:prstGeom prst="donut">
              <a:avLst>
                <a:gd name="adj" fmla="val 25000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4343400" y="1828800"/>
              <a:ext cx="152280" cy="152280"/>
            </a:xfrm>
            <a:prstGeom prst="donut">
              <a:avLst>
                <a:gd name="adj" fmla="val 25000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4572000" y="1828800"/>
              <a:ext cx="209520" cy="209520"/>
            </a:xfrm>
            <a:prstGeom prst="donut">
              <a:avLst>
                <a:gd name="adj" fmla="val 25000"/>
              </a:avLst>
            </a:prstGeom>
            <a:solidFill>
              <a:srgbClr val="ffff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4419720" y="2362320"/>
              <a:ext cx="152280" cy="152280"/>
            </a:xfrm>
            <a:prstGeom prst="donut">
              <a:avLst>
                <a:gd name="adj" fmla="val 25000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838080" y="2057400"/>
              <a:ext cx="209520" cy="209520"/>
            </a:xfrm>
            <a:prstGeom prst="donut">
              <a:avLst>
                <a:gd name="adj" fmla="val 25000"/>
              </a:avLst>
            </a:prstGeom>
            <a:solidFill>
              <a:srgbClr val="ffff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1981080" y="2133720"/>
              <a:ext cx="152640" cy="152280"/>
            </a:xfrm>
            <a:prstGeom prst="donut">
              <a:avLst>
                <a:gd name="adj" fmla="val 25000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1752480" y="2133720"/>
              <a:ext cx="152640" cy="152280"/>
            </a:xfrm>
            <a:prstGeom prst="donut">
              <a:avLst>
                <a:gd name="adj" fmla="val 25000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1600200" y="2514600"/>
              <a:ext cx="152280" cy="152280"/>
            </a:xfrm>
            <a:prstGeom prst="donut">
              <a:avLst>
                <a:gd name="adj" fmla="val 25000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1295280" y="2666880"/>
              <a:ext cx="152640" cy="152640"/>
            </a:xfrm>
            <a:prstGeom prst="donut">
              <a:avLst>
                <a:gd name="adj" fmla="val 25000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2438280" y="4572000"/>
              <a:ext cx="152640" cy="152280"/>
            </a:xfrm>
            <a:prstGeom prst="donut">
              <a:avLst>
                <a:gd name="adj" fmla="val 25000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1143000" y="2971800"/>
              <a:ext cx="152280" cy="152280"/>
            </a:xfrm>
            <a:prstGeom prst="donut">
              <a:avLst>
                <a:gd name="adj" fmla="val 25000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304920" y="2057400"/>
              <a:ext cx="209520" cy="209520"/>
            </a:xfrm>
            <a:prstGeom prst="donut">
              <a:avLst>
                <a:gd name="adj" fmla="val 25000"/>
              </a:avLst>
            </a:prstGeom>
            <a:solidFill>
              <a:srgbClr val="ffff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590920" y="3962520"/>
              <a:ext cx="209520" cy="209520"/>
            </a:xfrm>
            <a:prstGeom prst="donut">
              <a:avLst>
                <a:gd name="adj" fmla="val 25000"/>
              </a:avLst>
            </a:prstGeom>
            <a:solidFill>
              <a:srgbClr val="ffff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743200" y="4267080"/>
              <a:ext cx="152280" cy="152640"/>
            </a:xfrm>
            <a:prstGeom prst="donut">
              <a:avLst>
                <a:gd name="adj" fmla="val 25000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2362320" y="4267080"/>
              <a:ext cx="152280" cy="152640"/>
            </a:xfrm>
            <a:prstGeom prst="donut">
              <a:avLst>
                <a:gd name="adj" fmla="val 25000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975" name=""/>
            <p:cNvCxnSpPr>
              <a:stCxn id="963" idx="6"/>
            </p:cNvCxnSpPr>
            <p:nvPr/>
          </p:nvCxnSpPr>
          <p:spPr>
            <a:xfrm>
              <a:off x="4572000" y="2437920"/>
              <a:ext cx="627840" cy="546480"/>
            </a:xfrm>
            <a:prstGeom prst="curvedConnector2">
              <a:avLst/>
            </a:prstGeom>
            <a:ln w="9360">
              <a:solidFill>
                <a:srgbClr val="66ff33"/>
              </a:solidFill>
              <a:miter/>
              <a:tailEnd len="med" type="triangle" w="med"/>
            </a:ln>
          </p:spPr>
        </p:cxnSp>
        <p:cxnSp>
          <p:nvCxnSpPr>
            <p:cNvPr id="976" name=""/>
            <p:cNvCxnSpPr>
              <a:stCxn id="962" idx="5"/>
            </p:cNvCxnSpPr>
            <p:nvPr/>
          </p:nvCxnSpPr>
          <p:spPr>
            <a:xfrm flipH="1" rot="16200000">
              <a:off x="4485960" y="2271960"/>
              <a:ext cx="1026360" cy="497880"/>
            </a:xfrm>
            <a:prstGeom prst="curvedConnector5">
              <a:avLst>
                <a:gd name="adj1" fmla="val 46736"/>
                <a:gd name="adj2" fmla="val 50000"/>
                <a:gd name="adj3" fmla="val 46736"/>
              </a:avLst>
            </a:prstGeom>
            <a:ln w="9360">
              <a:solidFill>
                <a:srgbClr val="66ff33"/>
              </a:solidFill>
              <a:miter/>
            </a:ln>
          </p:spPr>
        </p:cxnSp>
        <p:cxnSp>
          <p:nvCxnSpPr>
            <p:cNvPr id="977" name=""/>
            <p:cNvCxnSpPr>
              <a:stCxn id="961" idx="7"/>
            </p:cNvCxnSpPr>
            <p:nvPr/>
          </p:nvCxnSpPr>
          <p:spPr>
            <a:xfrm flipH="1" rot="16200000">
              <a:off x="4269600" y="2054880"/>
              <a:ext cx="1134000" cy="726120"/>
            </a:xfrm>
            <a:prstGeom prst="curvedConnector5">
              <a:avLst>
                <a:gd name="adj1" fmla="val 47602"/>
                <a:gd name="adj2" fmla="val 50000"/>
                <a:gd name="adj3" fmla="val 47602"/>
              </a:avLst>
            </a:prstGeom>
            <a:ln w="9360">
              <a:solidFill>
                <a:srgbClr val="66ff33"/>
              </a:solidFill>
              <a:miter/>
            </a:ln>
          </p:spPr>
        </p:cxnSp>
        <p:cxnSp>
          <p:nvCxnSpPr>
            <p:cNvPr id="978" name=""/>
            <p:cNvCxnSpPr>
              <a:stCxn id="961" idx="4"/>
            </p:cNvCxnSpPr>
            <p:nvPr/>
          </p:nvCxnSpPr>
          <p:spPr>
            <a:xfrm flipH="1" rot="16200000">
              <a:off x="4307040" y="2092320"/>
              <a:ext cx="1003680" cy="780120"/>
            </a:xfrm>
            <a:prstGeom prst="curvedConnector5">
              <a:avLst>
                <a:gd name="adj1" fmla="val 41765"/>
                <a:gd name="adj2" fmla="val 50000"/>
                <a:gd name="adj3" fmla="val 41765"/>
              </a:avLst>
            </a:prstGeom>
            <a:ln w="9360">
              <a:solidFill>
                <a:srgbClr val="66ff33"/>
              </a:solidFill>
              <a:miter/>
            </a:ln>
          </p:spPr>
        </p:cxnSp>
        <p:cxnSp>
          <p:nvCxnSpPr>
            <p:cNvPr id="979" name=""/>
            <p:cNvCxnSpPr>
              <a:stCxn id="956" idx="5"/>
            </p:cNvCxnSpPr>
            <p:nvPr/>
          </p:nvCxnSpPr>
          <p:spPr>
            <a:xfrm flipH="1" rot="16200000">
              <a:off x="4475160" y="2261160"/>
              <a:ext cx="721440" cy="726120"/>
            </a:xfrm>
            <a:prstGeom prst="curvedConnector5">
              <a:avLst>
                <a:gd name="adj1" fmla="val 21767"/>
                <a:gd name="adj2" fmla="val 50000"/>
                <a:gd name="adj3" fmla="val 21767"/>
              </a:avLst>
            </a:prstGeom>
            <a:ln w="9360">
              <a:solidFill>
                <a:srgbClr val="66ff33"/>
              </a:solidFill>
              <a:miter/>
            </a:ln>
          </p:spPr>
        </p:cxnSp>
        <p:cxnSp>
          <p:nvCxnSpPr>
            <p:cNvPr id="980" name=""/>
            <p:cNvCxnSpPr>
              <a:stCxn id="955" idx="4"/>
            </p:cNvCxnSpPr>
            <p:nvPr/>
          </p:nvCxnSpPr>
          <p:spPr>
            <a:xfrm flipH="1" rot="16200000">
              <a:off x="4344840" y="2130840"/>
              <a:ext cx="775440" cy="932760"/>
            </a:xfrm>
            <a:prstGeom prst="curvedConnector5">
              <a:avLst>
                <a:gd name="adj1" fmla="val 44263"/>
                <a:gd name="adj2" fmla="val 50000"/>
                <a:gd name="adj3" fmla="val 44263"/>
              </a:avLst>
            </a:prstGeom>
            <a:ln w="9360">
              <a:solidFill>
                <a:srgbClr val="66ff33"/>
              </a:solidFill>
              <a:miter/>
            </a:ln>
          </p:spPr>
        </p:cxnSp>
        <p:cxnSp>
          <p:nvCxnSpPr>
            <p:cNvPr id="981" name=""/>
            <p:cNvCxnSpPr>
              <a:stCxn id="954" idx="3"/>
            </p:cNvCxnSpPr>
            <p:nvPr/>
          </p:nvCxnSpPr>
          <p:spPr>
            <a:xfrm flipH="1" rot="16200000">
              <a:off x="4307760" y="2092680"/>
              <a:ext cx="721440" cy="1062720"/>
            </a:xfrm>
            <a:prstGeom prst="curvedConnector5">
              <a:avLst>
                <a:gd name="adj1" fmla="val 45332"/>
                <a:gd name="adj2" fmla="val 49983"/>
                <a:gd name="adj3" fmla="val 45332"/>
              </a:avLst>
            </a:prstGeom>
            <a:ln w="9360">
              <a:solidFill>
                <a:srgbClr val="66ff33"/>
              </a:solidFill>
              <a:miter/>
              <a:tailEnd len="med" type="triangle" w="med"/>
            </a:ln>
          </p:spPr>
        </p:cxnSp>
        <p:cxnSp>
          <p:nvCxnSpPr>
            <p:cNvPr id="982" name=""/>
            <p:cNvCxnSpPr>
              <a:stCxn id="954" idx="1"/>
            </p:cNvCxnSpPr>
            <p:nvPr/>
          </p:nvCxnSpPr>
          <p:spPr>
            <a:xfrm flipH="1" rot="16200000">
              <a:off x="4253760" y="2038680"/>
              <a:ext cx="829440" cy="1062720"/>
            </a:xfrm>
            <a:prstGeom prst="curvedConnector5">
              <a:avLst>
                <a:gd name="adj1" fmla="val 75466"/>
                <a:gd name="adj2" fmla="val 49983"/>
                <a:gd name="adj3" fmla="val 75466"/>
              </a:avLst>
            </a:prstGeom>
            <a:ln w="9360">
              <a:solidFill>
                <a:srgbClr val="66ff33"/>
              </a:solidFill>
              <a:miter/>
            </a:ln>
          </p:spPr>
        </p:cxnSp>
        <p:cxnSp>
          <p:nvCxnSpPr>
            <p:cNvPr id="983" name=""/>
            <p:cNvCxnSpPr>
              <a:stCxn id="960" idx="4"/>
            </p:cNvCxnSpPr>
            <p:nvPr/>
          </p:nvCxnSpPr>
          <p:spPr>
            <a:xfrm flipH="1" rot="16200000">
              <a:off x="4344480" y="2130840"/>
              <a:ext cx="470520" cy="1236960"/>
            </a:xfrm>
            <a:prstGeom prst="curvedConnector5">
              <a:avLst>
                <a:gd name="adj1" fmla="val 67151"/>
                <a:gd name="adj2" fmla="val 49985"/>
                <a:gd name="adj3" fmla="val 67151"/>
              </a:avLst>
            </a:prstGeom>
            <a:ln w="9360">
              <a:solidFill>
                <a:srgbClr val="66ff33"/>
              </a:solidFill>
              <a:miter/>
              <a:tailEnd len="med" type="triangle" w="med"/>
            </a:ln>
          </p:spPr>
        </p:cxnSp>
        <p:cxnSp>
          <p:nvCxnSpPr>
            <p:cNvPr id="984" name=""/>
            <p:cNvCxnSpPr>
              <a:stCxn id="969" idx="6"/>
            </p:cNvCxnSpPr>
            <p:nvPr/>
          </p:nvCxnSpPr>
          <p:spPr>
            <a:xfrm flipV="1">
              <a:off x="2590560" y="2984040"/>
              <a:ext cx="2608920" cy="1664640"/>
            </a:xfrm>
            <a:prstGeom prst="curvedConnector5">
              <a:avLst>
                <a:gd name="adj1" fmla="val 45280"/>
                <a:gd name="adj2" fmla="val 47501"/>
                <a:gd name="adj3" fmla="val 45280"/>
              </a:avLst>
            </a:prstGeom>
            <a:ln w="9360">
              <a:solidFill>
                <a:srgbClr val="66ff33"/>
              </a:solidFill>
              <a:miter/>
            </a:ln>
          </p:spPr>
        </p:cxnSp>
        <p:cxnSp>
          <p:nvCxnSpPr>
            <p:cNvPr id="985" name=""/>
            <p:cNvCxnSpPr>
              <a:stCxn id="973" idx="6"/>
            </p:cNvCxnSpPr>
            <p:nvPr/>
          </p:nvCxnSpPr>
          <p:spPr>
            <a:xfrm flipV="1">
              <a:off x="2895120" y="2983680"/>
              <a:ext cx="2304360" cy="1359720"/>
            </a:xfrm>
            <a:prstGeom prst="curvedConnector5">
              <a:avLst>
                <a:gd name="adj1" fmla="val 32593"/>
                <a:gd name="adj2" fmla="val 48066"/>
                <a:gd name="adj3" fmla="val 32593"/>
              </a:avLst>
            </a:prstGeom>
            <a:ln w="9360">
              <a:solidFill>
                <a:srgbClr val="66ff33"/>
              </a:solidFill>
              <a:miter/>
            </a:ln>
          </p:spPr>
        </p:cxnSp>
        <p:cxnSp>
          <p:nvCxnSpPr>
            <p:cNvPr id="986" name=""/>
            <p:cNvCxnSpPr>
              <a:stCxn id="974" idx="6"/>
            </p:cNvCxnSpPr>
            <p:nvPr/>
          </p:nvCxnSpPr>
          <p:spPr>
            <a:xfrm flipV="1">
              <a:off x="2514240" y="2983680"/>
              <a:ext cx="2685240" cy="1359720"/>
            </a:xfrm>
            <a:prstGeom prst="curvedConnector5">
              <a:avLst>
                <a:gd name="adj1" fmla="val 27849"/>
                <a:gd name="adj2" fmla="val 49470"/>
                <a:gd name="adj3" fmla="val 27849"/>
              </a:avLst>
            </a:prstGeom>
            <a:ln w="9360">
              <a:solidFill>
                <a:srgbClr val="66ff33"/>
              </a:solidFill>
              <a:miter/>
            </a:ln>
          </p:spPr>
        </p:cxnSp>
        <p:cxnSp>
          <p:nvCxnSpPr>
            <p:cNvPr id="987" name=""/>
            <p:cNvCxnSpPr>
              <a:stCxn id="972" idx="0"/>
            </p:cNvCxnSpPr>
            <p:nvPr/>
          </p:nvCxnSpPr>
          <p:spPr>
            <a:xfrm flipH="1" flipV="1" rot="5400000">
              <a:off x="3472200" y="2206800"/>
              <a:ext cx="978840" cy="2532600"/>
            </a:xfrm>
            <a:prstGeom prst="curvedConnector5">
              <a:avLst>
                <a:gd name="adj1" fmla="val 132450"/>
                <a:gd name="adj2" fmla="val 50000"/>
                <a:gd name="adj3" fmla="val 132450"/>
              </a:avLst>
            </a:prstGeom>
            <a:ln w="9360">
              <a:solidFill>
                <a:srgbClr val="66ff33"/>
              </a:solidFill>
              <a:miter/>
            </a:ln>
          </p:spPr>
        </p:cxnSp>
        <p:cxnSp>
          <p:nvCxnSpPr>
            <p:cNvPr id="988" name=""/>
            <p:cNvCxnSpPr>
              <a:stCxn id="959" idx="6"/>
            </p:cNvCxnSpPr>
            <p:nvPr/>
          </p:nvCxnSpPr>
          <p:spPr>
            <a:xfrm>
              <a:off x="1828800" y="2743200"/>
              <a:ext cx="3371040" cy="241920"/>
            </a:xfrm>
            <a:prstGeom prst="curvedConnector2">
              <a:avLst/>
            </a:prstGeom>
            <a:ln w="9360">
              <a:solidFill>
                <a:srgbClr val="66ff33"/>
              </a:solidFill>
              <a:miter/>
              <a:tailEnd len="med" type="triangle" w="med"/>
            </a:ln>
          </p:spPr>
        </p:cxnSp>
        <p:cxnSp>
          <p:nvCxnSpPr>
            <p:cNvPr id="989" name=""/>
            <p:cNvCxnSpPr>
              <a:stCxn id="950" idx="3"/>
            </p:cNvCxnSpPr>
            <p:nvPr/>
          </p:nvCxnSpPr>
          <p:spPr>
            <a:xfrm flipH="1" rot="16200000">
              <a:off x="3317040" y="1101960"/>
              <a:ext cx="416520" cy="3348720"/>
            </a:xfrm>
            <a:prstGeom prst="curvedConnector5">
              <a:avLst>
                <a:gd name="adj1" fmla="val 41955"/>
                <a:gd name="adj2" fmla="val 49994"/>
                <a:gd name="adj3" fmla="val 41955"/>
              </a:avLst>
            </a:prstGeom>
            <a:ln w="9360">
              <a:solidFill>
                <a:srgbClr val="66ff33"/>
              </a:solidFill>
              <a:miter/>
              <a:tailEnd len="med" type="triangle" w="med"/>
            </a:ln>
          </p:spPr>
        </p:cxnSp>
        <p:cxnSp>
          <p:nvCxnSpPr>
            <p:cNvPr id="990" name=""/>
            <p:cNvCxnSpPr>
              <a:stCxn id="950" idx="6"/>
            </p:cNvCxnSpPr>
            <p:nvPr/>
          </p:nvCxnSpPr>
          <p:spPr>
            <a:xfrm>
              <a:off x="1980720" y="2514240"/>
              <a:ext cx="3218760" cy="470520"/>
            </a:xfrm>
            <a:prstGeom prst="curvedConnector2">
              <a:avLst/>
            </a:prstGeom>
            <a:ln w="9360">
              <a:solidFill>
                <a:srgbClr val="66ff33"/>
              </a:solidFill>
              <a:miter/>
              <a:tailEnd len="med" type="triangle" w="med"/>
            </a:ln>
          </p:spPr>
        </p:cxnSp>
        <p:cxnSp>
          <p:nvCxnSpPr>
            <p:cNvPr id="991" name=""/>
            <p:cNvCxnSpPr>
              <a:stCxn id="951" idx="6"/>
            </p:cNvCxnSpPr>
            <p:nvPr/>
          </p:nvCxnSpPr>
          <p:spPr>
            <a:xfrm>
              <a:off x="2133360" y="2362320"/>
              <a:ext cx="3066120" cy="622800"/>
            </a:xfrm>
            <a:prstGeom prst="curvedConnector2">
              <a:avLst/>
            </a:prstGeom>
            <a:ln w="9360">
              <a:solidFill>
                <a:srgbClr val="66ff33"/>
              </a:solidFill>
              <a:miter/>
              <a:tailEnd len="med" type="triangle" w="med"/>
            </a:ln>
          </p:spPr>
        </p:cxnSp>
        <p:cxnSp>
          <p:nvCxnSpPr>
            <p:cNvPr id="992" name=""/>
            <p:cNvCxnSpPr>
              <a:stCxn id="965" idx="6"/>
            </p:cNvCxnSpPr>
            <p:nvPr/>
          </p:nvCxnSpPr>
          <p:spPr>
            <a:xfrm>
              <a:off x="2133360" y="2209680"/>
              <a:ext cx="3066120" cy="775440"/>
            </a:xfrm>
            <a:prstGeom prst="curvedConnector2">
              <a:avLst/>
            </a:prstGeom>
            <a:ln w="9360">
              <a:solidFill>
                <a:srgbClr val="66ff33"/>
              </a:solidFill>
              <a:miter/>
            </a:ln>
          </p:spPr>
        </p:cxnSp>
        <p:cxnSp>
          <p:nvCxnSpPr>
            <p:cNvPr id="993" name=""/>
            <p:cNvCxnSpPr>
              <a:stCxn id="966" idx="5"/>
            </p:cNvCxnSpPr>
            <p:nvPr/>
          </p:nvCxnSpPr>
          <p:spPr>
            <a:xfrm flipH="1" rot="16200000">
              <a:off x="3180600" y="965520"/>
              <a:ext cx="721440" cy="3317040"/>
            </a:xfrm>
            <a:prstGeom prst="curvedConnector5">
              <a:avLst>
                <a:gd name="adj1" fmla="val 33649"/>
                <a:gd name="adj2" fmla="val 49994"/>
                <a:gd name="adj3" fmla="val 33649"/>
              </a:avLst>
            </a:prstGeom>
            <a:ln w="9360">
              <a:solidFill>
                <a:srgbClr val="66ff33"/>
              </a:solidFill>
              <a:miter/>
            </a:ln>
          </p:spPr>
        </p:cxnSp>
        <p:cxnSp>
          <p:nvCxnSpPr>
            <p:cNvPr id="994" name=""/>
            <p:cNvCxnSpPr>
              <a:stCxn id="952" idx="6"/>
            </p:cNvCxnSpPr>
            <p:nvPr/>
          </p:nvCxnSpPr>
          <p:spPr>
            <a:xfrm>
              <a:off x="1599840" y="2362320"/>
              <a:ext cx="3599640" cy="622800"/>
            </a:xfrm>
            <a:prstGeom prst="curvedConnector2">
              <a:avLst/>
            </a:prstGeom>
            <a:ln w="9360">
              <a:solidFill>
                <a:srgbClr val="66ff33"/>
              </a:solidFill>
              <a:miter/>
            </a:ln>
          </p:spPr>
        </p:cxnSp>
        <p:cxnSp>
          <p:nvCxnSpPr>
            <p:cNvPr id="995" name=""/>
            <p:cNvCxnSpPr>
              <a:stCxn id="968" idx="5"/>
            </p:cNvCxnSpPr>
            <p:nvPr/>
          </p:nvCxnSpPr>
          <p:spPr>
            <a:xfrm flipH="1" rot="16200000">
              <a:off x="3218760" y="1003680"/>
              <a:ext cx="187920" cy="3774240"/>
            </a:xfrm>
            <a:prstGeom prst="curvedConnector5">
              <a:avLst>
                <a:gd name="adj1" fmla="val 32053"/>
                <a:gd name="adj2" fmla="val 49995"/>
                <a:gd name="adj3" fmla="val 32053"/>
              </a:avLst>
            </a:prstGeom>
            <a:ln w="9360">
              <a:solidFill>
                <a:srgbClr val="66ff33"/>
              </a:solidFill>
              <a:miter/>
              <a:tailEnd len="med" type="triangle" w="med"/>
            </a:ln>
          </p:spPr>
        </p:cxnSp>
        <p:cxnSp>
          <p:nvCxnSpPr>
            <p:cNvPr id="996" name=""/>
            <p:cNvCxnSpPr>
              <a:stCxn id="958" idx="0"/>
            </p:cNvCxnSpPr>
            <p:nvPr/>
          </p:nvCxnSpPr>
          <p:spPr>
            <a:xfrm flipH="1" rot="16200000">
              <a:off x="3050280" y="834480"/>
              <a:ext cx="394200" cy="3904560"/>
            </a:xfrm>
            <a:prstGeom prst="curvedConnector5">
              <a:avLst>
                <a:gd name="adj1" fmla="val 89488"/>
                <a:gd name="adj2" fmla="val 49995"/>
                <a:gd name="adj3" fmla="val 89488"/>
              </a:avLst>
            </a:prstGeom>
            <a:ln w="9360">
              <a:solidFill>
                <a:srgbClr val="66ff33"/>
              </a:solidFill>
              <a:miter/>
              <a:tailEnd len="med" type="triangle" w="med"/>
            </a:ln>
          </p:spPr>
        </p:cxnSp>
        <p:cxnSp>
          <p:nvCxnSpPr>
            <p:cNvPr id="997" name=""/>
            <p:cNvCxnSpPr>
              <a:stCxn id="970" idx="6"/>
            </p:cNvCxnSpPr>
            <p:nvPr/>
          </p:nvCxnSpPr>
          <p:spPr>
            <a:xfrm flipV="1">
              <a:off x="1294920" y="2971800"/>
              <a:ext cx="3886920" cy="7668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9360">
              <a:solidFill>
                <a:srgbClr val="66ff33"/>
              </a:solidFill>
              <a:miter/>
            </a:ln>
          </p:spPr>
        </p:cxnSp>
        <p:cxnSp>
          <p:nvCxnSpPr>
            <p:cNvPr id="998" name=""/>
            <p:cNvCxnSpPr>
              <a:stCxn id="964" idx="6"/>
            </p:cNvCxnSpPr>
            <p:nvPr/>
          </p:nvCxnSpPr>
          <p:spPr>
            <a:xfrm>
              <a:off x="1047240" y="2162160"/>
              <a:ext cx="4209480" cy="851760"/>
            </a:xfrm>
            <a:prstGeom prst="curvedConnector2">
              <a:avLst/>
            </a:prstGeom>
            <a:ln w="9360">
              <a:solidFill>
                <a:srgbClr val="66ff33"/>
              </a:solidFill>
              <a:miter/>
            </a:ln>
          </p:spPr>
        </p:cxnSp>
        <p:cxnSp>
          <p:nvCxnSpPr>
            <p:cNvPr id="999" name=""/>
            <p:cNvCxnSpPr>
              <a:stCxn id="971" idx="5"/>
            </p:cNvCxnSpPr>
            <p:nvPr/>
          </p:nvCxnSpPr>
          <p:spPr>
            <a:xfrm flipH="1" rot="16200000">
              <a:off x="2467800" y="252720"/>
              <a:ext cx="797760" cy="4764960"/>
            </a:xfrm>
            <a:prstGeom prst="curvedConnector5">
              <a:avLst>
                <a:gd name="adj1" fmla="val 45778"/>
                <a:gd name="adj2" fmla="val 49996"/>
                <a:gd name="adj3" fmla="val 45778"/>
              </a:avLst>
            </a:prstGeom>
            <a:ln w="9360">
              <a:solidFill>
                <a:srgbClr val="66ff33"/>
              </a:solidFill>
              <a:miter/>
            </a:ln>
          </p:spPr>
        </p:cxnSp>
        <p:cxnSp>
          <p:nvCxnSpPr>
            <p:cNvPr id="1000" name=""/>
            <p:cNvCxnSpPr>
              <a:stCxn id="948" idx="6"/>
            </p:cNvCxnSpPr>
            <p:nvPr/>
          </p:nvCxnSpPr>
          <p:spPr>
            <a:xfrm>
              <a:off x="609120" y="2514240"/>
              <a:ext cx="4590360" cy="470520"/>
            </a:xfrm>
            <a:prstGeom prst="curvedConnector2">
              <a:avLst/>
            </a:prstGeom>
            <a:ln w="9360">
              <a:solidFill>
                <a:srgbClr val="66ff33"/>
              </a:solidFill>
              <a:miter/>
            </a:ln>
          </p:spPr>
        </p:cxnSp>
        <p:cxnSp>
          <p:nvCxnSpPr>
            <p:cNvPr id="1001" name=""/>
            <p:cNvCxnSpPr>
              <a:stCxn id="947" idx="6"/>
            </p:cNvCxnSpPr>
            <p:nvPr/>
          </p:nvCxnSpPr>
          <p:spPr>
            <a:xfrm>
              <a:off x="761760" y="2666880"/>
              <a:ext cx="4437720" cy="317880"/>
            </a:xfrm>
            <a:prstGeom prst="curvedConnector2">
              <a:avLst/>
            </a:prstGeom>
            <a:ln w="9360">
              <a:solidFill>
                <a:srgbClr val="66ff33"/>
              </a:solidFill>
              <a:miter/>
            </a:ln>
          </p:spPr>
        </p:cxnSp>
        <p:cxnSp>
          <p:nvCxnSpPr>
            <p:cNvPr id="1002" name=""/>
            <p:cNvCxnSpPr>
              <a:stCxn id="946" idx="5"/>
            </p:cNvCxnSpPr>
            <p:nvPr/>
          </p:nvCxnSpPr>
          <p:spPr>
            <a:xfrm flipH="1" rot="16200000">
              <a:off x="2913120" y="699120"/>
              <a:ext cx="187920" cy="4383720"/>
            </a:xfrm>
            <a:prstGeom prst="curvedConnector5">
              <a:avLst>
                <a:gd name="adj1" fmla="val 32053"/>
                <a:gd name="adj2" fmla="val 50000"/>
                <a:gd name="adj3" fmla="val 32053"/>
              </a:avLst>
            </a:prstGeom>
            <a:ln w="9360">
              <a:solidFill>
                <a:srgbClr val="66ff33"/>
              </a:solidFill>
              <a:miter/>
            </a:ln>
          </p:spPr>
        </p:cxnSp>
      </p:grpSp>
    </p:spTree>
  </p:cSld>
  <p:transition>
    <p:fade thruBlk="true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3352680" y="29340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DIN-Black"/>
              </a:rPr>
              <a:t>Summary</a:t>
            </a:r>
            <a:endParaRPr b="0" lang="en-US" sz="2800" spc="-1" strike="noStrike">
              <a:solidFill>
                <a:srgbClr val="ffff00"/>
              </a:solidFill>
              <a:latin typeface="DIN-Black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DIN-Bold"/>
              </a:rPr>
              <a:t>Information management is not a new problem.</a:t>
            </a:r>
            <a:endParaRPr b="0" lang="en-US" sz="2400" spc="-1" strike="noStrike">
              <a:solidFill>
                <a:srgbClr val="ffffff"/>
              </a:solidFill>
              <a:latin typeface="DIN-Bold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DIN-Bold"/>
              </a:rPr>
              <a:t>Library and information science methodologies and techniques still apply,</a:t>
            </a:r>
            <a:endParaRPr b="0" lang="en-US" sz="2400" spc="-1" strike="noStrike">
              <a:solidFill>
                <a:srgbClr val="ffffff"/>
              </a:solidFill>
              <a:latin typeface="DIN-Bold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DIN-Bold"/>
              </a:rPr>
              <a:t>especially controlled vocabularies</a:t>
            </a:r>
            <a:r>
              <a:rPr b="0" lang="en-US" sz="2400" spc="-1" strike="noStrike">
                <a:solidFill>
                  <a:srgbClr val="ffffff"/>
                </a:solidFill>
                <a:latin typeface="DIN-Bold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DIN-Bold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DIN-Bold"/>
              </a:rPr>
              <a:t>Operate at the metadata level, not on each information object itself.</a:t>
            </a:r>
            <a:endParaRPr b="0" lang="en-US" sz="2400" spc="-1" strike="noStrike">
              <a:solidFill>
                <a:srgbClr val="ffffff"/>
              </a:solidFill>
              <a:latin typeface="DIN-Bold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DIN-Bold"/>
              </a:rPr>
              <a:t>Take advantage of existing authorities.</a:t>
            </a:r>
            <a:endParaRPr b="0" lang="en-US" sz="2400" spc="-1" strike="noStrike">
              <a:solidFill>
                <a:srgbClr val="ffffff"/>
              </a:solidFill>
              <a:latin typeface="DIN-Bold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DIN-Bold"/>
              </a:rPr>
              <a:t>Semi-automated solutions work best.</a:t>
            </a:r>
            <a:endParaRPr b="0" lang="en-US" sz="2400" spc="-1" strike="noStrike">
              <a:solidFill>
                <a:srgbClr val="ffffff"/>
              </a:solidFill>
              <a:latin typeface="DIN-Bold"/>
            </a:endParaRPr>
          </a:p>
        </p:txBody>
      </p:sp>
    </p:spTree>
  </p:cSld>
  <p:transition>
    <p:fade thruBlk="true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-360" y="22856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DIN-Black"/>
              </a:rPr>
              <a:t>Technology working with controlled vocabularies</a:t>
            </a:r>
            <a:endParaRPr b="0" lang="en-US" sz="3200" spc="-1" strike="noStrike">
              <a:solidFill>
                <a:srgbClr val="ffff00"/>
              </a:solidFill>
              <a:latin typeface="DIN-Black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3429000" y="3733920"/>
            <a:ext cx="50227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DIN-Bold"/>
              </a:rPr>
              <a:t>Joseph A. Busch</a:t>
            </a:r>
            <a:endParaRPr b="0" lang="en-US" sz="2400" spc="-1" strike="noStrike">
              <a:solidFill>
                <a:srgbClr val="ffffff"/>
              </a:solidFill>
              <a:latin typeface="DIN-Bold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DIN-Bold"/>
              </a:rPr>
              <a:t>DATAFUSION, Inc.</a:t>
            </a:r>
            <a:endParaRPr b="0" lang="en-US" sz="2400" spc="-1" strike="noStrike">
              <a:solidFill>
                <a:srgbClr val="ffffff"/>
              </a:solidFill>
              <a:latin typeface="DIN-Bold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DIN-Bold"/>
              </a:rPr>
              <a:t>139 Townsend St.</a:t>
            </a:r>
            <a:endParaRPr b="0" lang="en-US" sz="2400" spc="-1" strike="noStrike">
              <a:solidFill>
                <a:srgbClr val="ffffff"/>
              </a:solidFill>
              <a:latin typeface="DIN-Bold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DIN-Bold"/>
              </a:rPr>
              <a:t>San Francisco, CA 94110</a:t>
            </a:r>
            <a:endParaRPr b="0" lang="en-US" sz="2400" spc="-1" strike="noStrike">
              <a:solidFill>
                <a:srgbClr val="ffffff"/>
              </a:solidFill>
              <a:latin typeface="DIN-Bold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DIN-Bold"/>
              </a:rPr>
              <a:t>(415) 222-0100</a:t>
            </a:r>
            <a:endParaRPr b="0" lang="en-US" sz="2400" spc="-1" strike="noStrike">
              <a:solidFill>
                <a:srgbClr val="ffffff"/>
              </a:solidFill>
              <a:latin typeface="DIN-Bold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DIN-Bold"/>
              </a:rPr>
              <a:t>Jbusch@datafusion.net</a:t>
            </a:r>
            <a:endParaRPr b="0" lang="en-US" sz="2400" spc="-1" strike="noStrike">
              <a:solidFill>
                <a:srgbClr val="ffffff"/>
              </a:solidFill>
              <a:latin typeface="DIN-Bold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DIN-Bold"/>
              </a:rPr>
              <a:t>http://www.datafusion.net/</a:t>
            </a:r>
            <a:endParaRPr b="0" lang="en-US" sz="2400" spc="-1" strike="noStrike">
              <a:solidFill>
                <a:srgbClr val="ffffff"/>
              </a:solidFill>
              <a:latin typeface="DIN-Bold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981080" y="4267080"/>
            <a:ext cx="1371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DIN-Bold"/>
              </a:rPr>
              <a:t>400 BC  </a:t>
            </a:r>
            <a:r>
              <a:rPr b="0" lang="en-US" sz="1600" spc="-1" strike="noStrike">
                <a:solidFill>
                  <a:srgbClr val="ffff00"/>
                </a:solidFill>
                <a:latin typeface="DIN-Bold"/>
              </a:rPr>
              <a:t>Library at Alexandr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133720" y="3733920"/>
            <a:ext cx="1600200" cy="685800"/>
          </a:xfrm>
          <a:prstGeom prst="rightArrow">
            <a:avLst>
              <a:gd name="adj1" fmla="val 50000"/>
              <a:gd name="adj2" fmla="val 58333"/>
            </a:avLst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438280"/>
            <a:ext cx="1600200" cy="685800"/>
          </a:xfrm>
          <a:prstGeom prst="rightArrow">
            <a:avLst>
              <a:gd name="adj1" fmla="val 50000"/>
              <a:gd name="adj2" fmla="val 58333"/>
            </a:avLst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581280" y="2895480"/>
            <a:ext cx="18288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DIN-Bold"/>
              </a:rPr>
              <a:t>200 BC         </a:t>
            </a:r>
            <a:r>
              <a:rPr b="0" lang="en-US" sz="1600" spc="-1" strike="noStrike">
                <a:solidFill>
                  <a:srgbClr val="ffff00"/>
                </a:solidFill>
                <a:latin typeface="DIN-Bold"/>
              </a:rPr>
              <a:t>Qin Dynasty Imperial 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733920" y="2362320"/>
            <a:ext cx="1600200" cy="685800"/>
          </a:xfrm>
          <a:prstGeom prst="rightArrow">
            <a:avLst>
              <a:gd name="adj1" fmla="val 50000"/>
              <a:gd name="adj2" fmla="val 58333"/>
            </a:avLst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29200" y="4267080"/>
            <a:ext cx="17524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DIN-Bold"/>
              </a:rPr>
              <a:t>300              </a:t>
            </a:r>
            <a:r>
              <a:rPr b="0" lang="en-US" sz="1600" spc="-1" strike="noStrike">
                <a:solidFill>
                  <a:srgbClr val="ffff00"/>
                </a:solidFill>
                <a:latin typeface="DIN-Bold"/>
              </a:rPr>
              <a:t>Roman private &amp; public libra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81480" y="3733920"/>
            <a:ext cx="1600200" cy="685800"/>
          </a:xfrm>
          <a:prstGeom prst="rightArrow">
            <a:avLst>
              <a:gd name="adj1" fmla="val 50000"/>
              <a:gd name="adj2" fmla="val 58333"/>
            </a:avLst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781680" y="2895480"/>
            <a:ext cx="198144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DIN-Bold"/>
              </a:rPr>
              <a:t>700              </a:t>
            </a:r>
            <a:r>
              <a:rPr b="0" i="1" lang="en-US" sz="1600" spc="-1" strike="noStrike">
                <a:solidFill>
                  <a:srgbClr val="ffff00"/>
                </a:solidFill>
                <a:latin typeface="DIN-Bold"/>
              </a:rPr>
              <a:t>Bunko</a:t>
            </a:r>
            <a:r>
              <a:rPr b="0" lang="en-US" sz="1600" spc="-1" strike="noStrike">
                <a:solidFill>
                  <a:srgbClr val="ffff00"/>
                </a:solidFill>
                <a:latin typeface="DIN-Bold"/>
              </a:rPr>
              <a:t> literary storehouses Parchment cod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934320" y="2362320"/>
            <a:ext cx="1600200" cy="685800"/>
          </a:xfrm>
          <a:prstGeom prst="rightArrow">
            <a:avLst>
              <a:gd name="adj1" fmla="val 50000"/>
              <a:gd name="adj2" fmla="val 58333"/>
            </a:avLst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4920" y="5486400"/>
            <a:ext cx="5562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DIN-Black"/>
              </a:rPr>
              <a:t>… </a:t>
            </a:r>
            <a:r>
              <a:rPr b="0" lang="en-US" sz="2800" spc="-1" strike="noStrike">
                <a:solidFill>
                  <a:srgbClr val="ffff00"/>
                </a:solidFill>
                <a:latin typeface="DIN-Black"/>
              </a:rPr>
              <a:t>and information technolo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520" y="2971800"/>
            <a:ext cx="18288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DIN-Bold"/>
              </a:rPr>
              <a:t>1200 BC</a:t>
            </a:r>
            <a:r>
              <a:rPr b="0" lang="en-US" sz="1600" spc="-1" strike="noStrike">
                <a:solidFill>
                  <a:srgbClr val="ffff00"/>
                </a:solidFill>
                <a:latin typeface="DIN-Bold"/>
              </a:rPr>
              <a:t>        Clay tablets        Papyrus scro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124080" y="304920"/>
            <a:ext cx="5791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DIN-Black"/>
              </a:rPr>
              <a:t>3000 years of library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981080" y="4267080"/>
            <a:ext cx="1371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DIN-Bold"/>
              </a:rPr>
              <a:t>1300’s  </a:t>
            </a:r>
            <a:r>
              <a:rPr b="0" lang="en-US" sz="1600" spc="-1" strike="noStrike">
                <a:solidFill>
                  <a:srgbClr val="ffff00"/>
                </a:solidFill>
                <a:latin typeface="DIN-Bold"/>
              </a:rPr>
              <a:t>Libraries in 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133720" y="3733920"/>
            <a:ext cx="1600200" cy="685800"/>
          </a:xfrm>
          <a:prstGeom prst="rightArrow">
            <a:avLst>
              <a:gd name="adj1" fmla="val 50000"/>
              <a:gd name="adj2" fmla="val 58333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520" y="2971800"/>
            <a:ext cx="1600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DIN-Bold"/>
              </a:rPr>
              <a:t>1000’s     </a:t>
            </a:r>
            <a:r>
              <a:rPr b="0" lang="en-US" sz="1600" spc="-1" strike="noStrike">
                <a:solidFill>
                  <a:srgbClr val="ffff00"/>
                </a:solidFill>
                <a:latin typeface="DIN-Bold"/>
              </a:rPr>
              <a:t>Movable type Monasteries Universit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2438280"/>
            <a:ext cx="1600200" cy="685800"/>
          </a:xfrm>
          <a:prstGeom prst="rightArrow">
            <a:avLst>
              <a:gd name="adj1" fmla="val 50000"/>
              <a:gd name="adj2" fmla="val 58333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81280" y="2895480"/>
            <a:ext cx="18288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DIN-Bold"/>
              </a:rPr>
              <a:t>1400’s       </a:t>
            </a:r>
            <a:r>
              <a:rPr b="0" lang="en-US" sz="1600" spc="-1" strike="noStrike">
                <a:solidFill>
                  <a:srgbClr val="ffff00"/>
                </a:solidFill>
                <a:latin typeface="DIN-Bold"/>
              </a:rPr>
              <a:t>Printing press Imperial 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733920" y="2362320"/>
            <a:ext cx="1600200" cy="685800"/>
          </a:xfrm>
          <a:prstGeom prst="rightArrow">
            <a:avLst>
              <a:gd name="adj1" fmla="val 50000"/>
              <a:gd name="adj2" fmla="val 58333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029200" y="4267080"/>
            <a:ext cx="1981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DIN-Bold"/>
              </a:rPr>
              <a:t>1600’s            </a:t>
            </a:r>
            <a:r>
              <a:rPr b="0" lang="en-US" sz="1600" spc="-1" strike="noStrike">
                <a:solidFill>
                  <a:srgbClr val="ffff00"/>
                </a:solidFill>
                <a:latin typeface="DIN-Bold"/>
              </a:rPr>
              <a:t>Bodleian Library Harvard University 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81480" y="3733920"/>
            <a:ext cx="1600200" cy="685800"/>
          </a:xfrm>
          <a:prstGeom prst="rightArrow">
            <a:avLst>
              <a:gd name="adj1" fmla="val 50000"/>
              <a:gd name="adj2" fmla="val 58333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781680" y="2895480"/>
            <a:ext cx="236232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DIN-Bold"/>
              </a:rPr>
              <a:t>1800’s                </a:t>
            </a:r>
            <a:r>
              <a:rPr b="0" lang="en-US" sz="1600" spc="-1" strike="noStrike">
                <a:solidFill>
                  <a:srgbClr val="ffff00"/>
                </a:solidFill>
                <a:latin typeface="DIN-Bold"/>
              </a:rPr>
              <a:t>Library of Congress Boston Public  Carnegie libraries Dewey Decimal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934320" y="2362320"/>
            <a:ext cx="1600200" cy="685800"/>
          </a:xfrm>
          <a:prstGeom prst="rightArrow">
            <a:avLst>
              <a:gd name="adj1" fmla="val 50000"/>
              <a:gd name="adj2" fmla="val 58333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352680" y="29340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DIN-Black"/>
              </a:rPr>
              <a:t>3000 years of library science</a:t>
            </a:r>
            <a:endParaRPr b="0" lang="en-US" sz="2800" spc="-1" strike="noStrike">
              <a:solidFill>
                <a:srgbClr val="ffff00"/>
              </a:solidFill>
              <a:latin typeface="DIN-Black"/>
            </a:endParaRPr>
          </a:p>
        </p:txBody>
      </p:sp>
      <p:sp>
        <p:nvSpPr>
          <p:cNvPr id="68" name=""/>
          <p:cNvSpPr/>
          <p:nvPr/>
        </p:nvSpPr>
        <p:spPr>
          <a:xfrm>
            <a:off x="304920" y="5486400"/>
            <a:ext cx="5562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DIN-Black"/>
              </a:rPr>
              <a:t>… </a:t>
            </a:r>
            <a:r>
              <a:rPr b="0" lang="en-US" sz="2800" spc="-1" strike="noStrike">
                <a:solidFill>
                  <a:srgbClr val="ffff00"/>
                </a:solidFill>
                <a:latin typeface="DIN-Black"/>
              </a:rPr>
              <a:t>and information technolo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981080" y="4267080"/>
            <a:ext cx="198144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DIN-Bold"/>
              </a:rPr>
              <a:t>1920-1940   </a:t>
            </a:r>
            <a:r>
              <a:rPr b="0" lang="en-US" sz="1600" spc="-1" strike="noStrike">
                <a:solidFill>
                  <a:srgbClr val="ffff00"/>
                </a:solidFill>
                <a:latin typeface="DIN-Bold"/>
              </a:rPr>
              <a:t>Electronic mass media (radio) Paperb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3733920"/>
            <a:ext cx="1600200" cy="685800"/>
          </a:xfrm>
          <a:prstGeom prst="rightArrow">
            <a:avLst>
              <a:gd name="adj1" fmla="val 50000"/>
              <a:gd name="adj2" fmla="val 58333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2971800"/>
            <a:ext cx="198108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DIN-Bold"/>
              </a:rPr>
              <a:t>1900-1920   </a:t>
            </a:r>
            <a:r>
              <a:rPr b="0" lang="en-US" sz="1600" spc="-1" strike="noStrike">
                <a:solidFill>
                  <a:srgbClr val="ffff00"/>
                </a:solidFill>
                <a:latin typeface="DIN-Bold"/>
              </a:rPr>
              <a:t>Cutter’s </a:t>
            </a:r>
            <a:r>
              <a:rPr b="0" i="1" lang="en-US" sz="1600" spc="-1" strike="noStrike">
                <a:solidFill>
                  <a:srgbClr val="ffff00"/>
                </a:solidFill>
                <a:latin typeface="DIN-Bold"/>
              </a:rPr>
              <a:t>Principles </a:t>
            </a:r>
            <a:r>
              <a:rPr b="0" lang="en-US" sz="1600" spc="-1" strike="noStrike">
                <a:solidFill>
                  <a:srgbClr val="ffff00"/>
                </a:solidFill>
                <a:latin typeface="DIN-Bold"/>
              </a:rPr>
              <a:t>Ranganathan’s </a:t>
            </a:r>
            <a:r>
              <a:rPr b="0" i="1" lang="en-US" sz="1600" spc="-1" strike="noStrike">
                <a:solidFill>
                  <a:srgbClr val="ffff00"/>
                </a:solidFill>
                <a:latin typeface="DIN-Bold"/>
              </a:rPr>
              <a:t>Prolegomena</a:t>
            </a:r>
            <a:r>
              <a:rPr b="0" lang="en-US" sz="1600" spc="-1" strike="noStrike">
                <a:solidFill>
                  <a:srgbClr val="ffff00"/>
                </a:solidFill>
                <a:latin typeface="DIN-Bold"/>
              </a:rPr>
              <a:t> Bookmob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2438280"/>
            <a:ext cx="1600200" cy="685800"/>
          </a:xfrm>
          <a:prstGeom prst="rightArrow">
            <a:avLst>
              <a:gd name="adj1" fmla="val 50000"/>
              <a:gd name="adj2" fmla="val 58333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581280" y="2895480"/>
            <a:ext cx="1828800" cy="19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DIN-Bold"/>
              </a:rPr>
              <a:t>1940-1960 </a:t>
            </a:r>
            <a:r>
              <a:rPr b="0" lang="en-US" sz="1600" spc="-1" strike="noStrike">
                <a:solidFill>
                  <a:srgbClr val="ffff00"/>
                </a:solidFill>
                <a:latin typeface="DIN-Bold"/>
              </a:rPr>
              <a:t>Digital computing TV mass media  Cryptography UDC                  NL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733920" y="2362320"/>
            <a:ext cx="1600200" cy="685800"/>
          </a:xfrm>
          <a:prstGeom prst="rightArrow">
            <a:avLst>
              <a:gd name="adj1" fmla="val 50000"/>
              <a:gd name="adj2" fmla="val 58333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029200" y="4267080"/>
            <a:ext cx="190512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DIN-Bold"/>
              </a:rPr>
              <a:t>1960-1980   </a:t>
            </a:r>
            <a:r>
              <a:rPr b="0" lang="en-US" sz="1600" spc="-1" strike="noStrike">
                <a:solidFill>
                  <a:srgbClr val="ffff00"/>
                </a:solidFill>
                <a:latin typeface="DIN-Bold"/>
              </a:rPr>
              <a:t>Text searching OCLC &amp; RLG         I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181480" y="3733920"/>
            <a:ext cx="1600200" cy="685800"/>
          </a:xfrm>
          <a:prstGeom prst="rightArrow">
            <a:avLst>
              <a:gd name="adj1" fmla="val 50000"/>
              <a:gd name="adj2" fmla="val 58333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781680" y="2895480"/>
            <a:ext cx="2362320" cy="24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DIN-Bold"/>
              </a:rPr>
              <a:t>1980-2000   </a:t>
            </a:r>
            <a:r>
              <a:rPr b="0" lang="en-US" sz="1600" spc="-1" strike="noStrike">
                <a:solidFill>
                  <a:srgbClr val="ffff00"/>
                </a:solidFill>
                <a:latin typeface="DIN-Bold"/>
              </a:rPr>
              <a:t>Personal computing   Internet mass media Search engines    Digital libraries    eCommerce         Portals                     UMLS                        eMai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934320" y="2362320"/>
            <a:ext cx="1600200" cy="685800"/>
          </a:xfrm>
          <a:prstGeom prst="rightArrow">
            <a:avLst>
              <a:gd name="adj1" fmla="val 50000"/>
              <a:gd name="adj2" fmla="val 58333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352680" y="29340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DIN-Black"/>
              </a:rPr>
              <a:t>3000 years of library science</a:t>
            </a:r>
            <a:endParaRPr b="0" lang="en-US" sz="2800" spc="-1" strike="noStrike">
              <a:solidFill>
                <a:srgbClr val="ffff00"/>
              </a:solidFill>
              <a:latin typeface="DIN-Black"/>
            </a:endParaRPr>
          </a:p>
        </p:txBody>
      </p:sp>
      <p:sp>
        <p:nvSpPr>
          <p:cNvPr id="80" name=""/>
          <p:cNvSpPr/>
          <p:nvPr/>
        </p:nvSpPr>
        <p:spPr>
          <a:xfrm>
            <a:off x="304920" y="5486400"/>
            <a:ext cx="5562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DIN-Black"/>
              </a:rPr>
              <a:t>… </a:t>
            </a:r>
            <a:r>
              <a:rPr b="0" lang="en-US" sz="2800" spc="-1" strike="noStrike">
                <a:solidFill>
                  <a:srgbClr val="ffff00"/>
                </a:solidFill>
                <a:latin typeface="DIN-Black"/>
              </a:rPr>
              <a:t>and information technolo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352680" y="29340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DIN-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DIN-Bold"/>
              </a:rPr>
              <a:t>3000 years of library science.</a:t>
            </a:r>
            <a:endParaRPr b="0" lang="en-US" sz="2800" spc="-1" strike="noStrike">
              <a:solidFill>
                <a:srgbClr val="ffffff"/>
              </a:solidFill>
              <a:latin typeface="DIN-Bold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DIN-Bold"/>
              </a:rPr>
              <a:t>Infomediation and eCommerce.</a:t>
            </a:r>
            <a:endParaRPr b="0" lang="en-US" sz="2800" spc="-1" strike="noStrike">
              <a:solidFill>
                <a:srgbClr val="ffffff"/>
              </a:solidFill>
              <a:latin typeface="DIN-Bold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DIN-Bold"/>
              </a:rPr>
              <a:t>Controlled vocabularies.</a:t>
            </a:r>
            <a:endParaRPr b="0" lang="en-US" sz="2800" spc="-1" strike="noStrike">
              <a:solidFill>
                <a:srgbClr val="ffffff"/>
              </a:solidFill>
              <a:latin typeface="DIN-Bold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DIN-Bold"/>
              </a:rPr>
              <a:t>Solutions.</a:t>
            </a:r>
            <a:endParaRPr b="0" lang="en-US" sz="2800" spc="-1" strike="noStrike">
              <a:solidFill>
                <a:srgbClr val="ffffff"/>
              </a:solidFill>
              <a:latin typeface="DIN-Bold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352680" y="29340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DIN-Black"/>
              </a:rPr>
              <a:t>Infomediation life cycle</a:t>
            </a:r>
            <a:endParaRPr b="0" lang="en-US" sz="2800" spc="-1" strike="noStrike">
              <a:solidFill>
                <a:srgbClr val="ffff00"/>
              </a:solidFill>
              <a:latin typeface="DIN-Black"/>
            </a:endParaRPr>
          </a:p>
        </p:txBody>
      </p:sp>
      <p:sp>
        <p:nvSpPr>
          <p:cNvPr id="84" name=""/>
          <p:cNvSpPr/>
          <p:nvPr/>
        </p:nvSpPr>
        <p:spPr>
          <a:xfrm>
            <a:off x="3200400" y="220968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DIN-Bold"/>
              </a:rPr>
              <a:t>Dis</a:t>
            </a:r>
            <a:r>
              <a:rPr b="0" lang="en-US" sz="2400" spc="-1" strike="noStrike">
                <a:solidFill>
                  <a:srgbClr val="ffffff"/>
                </a:solidFill>
                <a:latin typeface="DIN-Bold"/>
              </a:rPr>
              <a:t>intermedi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33520" y="3581280"/>
            <a:ext cx="3733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DIN-Bold"/>
              </a:rPr>
              <a:t>Standardization enables infomedi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05520" y="3581280"/>
            <a:ext cx="342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DIN-Bold"/>
              </a:rPr>
              <a:t>New technologies enable more cont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057400" y="2057400"/>
            <a:ext cx="1143000" cy="15238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3880"/>
              <a:gd name="textAreaBottom" fmla="*/ 152424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rot="5400000">
            <a:off x="5943600" y="2438280"/>
            <a:ext cx="1371600" cy="106704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067040"/>
              <a:gd name="textAreaBottom" fmla="*/ 1067400 h 10670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5638680" y="4495320"/>
            <a:ext cx="1447920" cy="1600200"/>
          </a:xfrm>
          <a:custGeom>
            <a:avLst/>
            <a:gdLst>
              <a:gd name="textAreaLeft" fmla="*/ 0 w 1447920"/>
              <a:gd name="textAreaRight" fmla="*/ 1448280 w 1447920"/>
              <a:gd name="textAreaTop" fmla="*/ 0 h 1600200"/>
              <a:gd name="textAreaBottom" fmla="*/ 160056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6200000">
            <a:off x="1943280" y="4304880"/>
            <a:ext cx="1447560" cy="1676520"/>
          </a:xfrm>
          <a:custGeom>
            <a:avLst/>
            <a:gdLst>
              <a:gd name="textAreaLeft" fmla="*/ 0 w 1447560"/>
              <a:gd name="textAreaRight" fmla="*/ 1447920 w 1447560"/>
              <a:gd name="textAreaTop" fmla="*/ 0 h 1676520"/>
              <a:gd name="textAreaBottom" fmla="*/ 167688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352680" y="541008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DIN-Bold"/>
              </a:rPr>
              <a:t>Medi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352680" y="29340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DIN-Black"/>
              </a:rPr>
              <a:t>Rise of Internet commerce</a:t>
            </a:r>
            <a:endParaRPr b="0" lang="en-US" sz="2800" spc="-1" strike="noStrike">
              <a:solidFill>
                <a:srgbClr val="ffff00"/>
              </a:solidFill>
              <a:latin typeface="DIN-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500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DIN-Bold"/>
              </a:rPr>
              <a:t>Advertising placement</a:t>
            </a:r>
            <a:endParaRPr b="0" lang="en-US" sz="2400" spc="-1" strike="noStrike">
              <a:solidFill>
                <a:srgbClr val="ffffff"/>
              </a:solidFill>
              <a:latin typeface="DIN-Bold"/>
            </a:endParaRPr>
          </a:p>
          <a:p>
            <a:pPr marL="228600" indent="-228600">
              <a:spcBef>
                <a:spcPts val="1500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DIN-Bold"/>
              </a:rPr>
              <a:t>Consumer shopping</a:t>
            </a:r>
            <a:endParaRPr b="0" lang="en-US" sz="2400" spc="-1" strike="noStrike">
              <a:solidFill>
                <a:srgbClr val="ffffff"/>
              </a:solidFill>
              <a:latin typeface="DIN-Bold"/>
            </a:endParaRPr>
          </a:p>
          <a:p>
            <a:pPr marL="228600" indent="-228600">
              <a:spcBef>
                <a:spcPts val="1500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DIN-Bold"/>
              </a:rPr>
              <a:t>Consumer auctions</a:t>
            </a:r>
            <a:endParaRPr b="0" lang="en-US" sz="2400" spc="-1" strike="noStrike">
              <a:solidFill>
                <a:srgbClr val="ffffff"/>
              </a:solidFill>
              <a:latin typeface="DIN-Bold"/>
            </a:endParaRPr>
          </a:p>
          <a:p>
            <a:pPr marL="228600" indent="-228600">
              <a:spcBef>
                <a:spcPts val="1500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DIN-Bold"/>
              </a:rPr>
              <a:t>Pay-per-view content</a:t>
            </a:r>
            <a:endParaRPr b="0" lang="en-US" sz="2400" spc="-1" strike="noStrike">
              <a:solidFill>
                <a:srgbClr val="ffffff"/>
              </a:solidFill>
              <a:latin typeface="DIN-Bold"/>
            </a:endParaRPr>
          </a:p>
          <a:p>
            <a:pPr marL="228600" indent="-228600">
              <a:spcBef>
                <a:spcPts val="1500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DIN-Bold"/>
              </a:rPr>
              <a:t>Business-to-business marketplace </a:t>
            </a:r>
            <a:endParaRPr b="0" lang="en-US" sz="2400" spc="-1" strike="noStrike">
              <a:solidFill>
                <a:srgbClr val="ffffff"/>
              </a:solidFill>
              <a:latin typeface="DIN-Bold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464832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352680" y="29340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DIN-Black"/>
              </a:rPr>
              <a:t>Why controlled vocabularies are important</a:t>
            </a:r>
            <a:endParaRPr b="0" lang="en-US" sz="2800" spc="-1" strike="noStrike">
              <a:solidFill>
                <a:srgbClr val="ffff00"/>
              </a:solidFill>
              <a:latin typeface="DIN-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DIN-Bold"/>
              </a:rPr>
              <a:t>There has to be some agreement on definitions to ensure that there is a shared language of business on the Internet. </a:t>
            </a:r>
            <a:endParaRPr b="0" lang="en-US" sz="2800" spc="-1" strike="noStrike">
              <a:solidFill>
                <a:srgbClr val="ffffff"/>
              </a:solidFill>
              <a:latin typeface="DIN-Bold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DIN-Bold"/>
            </a:endParaRPr>
          </a:p>
          <a:p>
            <a:pPr lvl="2" marL="1143000" indent="0" algn="r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DIN-Bold"/>
              </a:rPr>
              <a:t>The Economist Survey of Business and the Internet</a:t>
            </a:r>
            <a:endParaRPr b="0" lang="en-US" sz="2000" spc="-1" strike="noStrike">
              <a:solidFill>
                <a:srgbClr val="ffffff"/>
              </a:solidFill>
              <a:latin typeface="DIN-Bold"/>
            </a:endParaRPr>
          </a:p>
          <a:p>
            <a:pPr lvl="2" marL="1143000" indent="0" algn="r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DIN-Bold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DIN-Bold"/>
              </a:rPr>
              <a:t>(June 26, 1999)</a:t>
            </a:r>
            <a:endParaRPr b="0" lang="en-US" sz="2000" spc="-1" strike="noStrike">
              <a:solidFill>
                <a:srgbClr val="ffffff"/>
              </a:solidFill>
              <a:latin typeface="DIN-Bold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2T05:27:18Z</dcterms:created>
  <dc:creator>Joseph A. Busch</dc:creator>
  <dc:description/>
  <dc:language>en-US</dc:language>
  <cp:lastModifiedBy>Information International</cp:lastModifiedBy>
  <cp:lastPrinted>1999-09-23T03:19:59Z</cp:lastPrinted>
  <dcterms:modified xsi:type="dcterms:W3CDTF">1999-10-04T15:37:03Z</dcterms:modified>
  <cp:revision>21</cp:revision>
  <dc:subject/>
  <dc:title>From Authority Files to Ontologies: Knowledge Management in a Networked Environment </dc:title>
</cp:coreProperties>
</file>