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3FBD-CF65-4981-A535-AFAC554A6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2161-DF00-4A1B-B2DB-D7BEE0780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4F8E-5DC0-4521-BB03-1E096E28F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0C03-E66F-420C-B138-82C425A17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2293D-F12F-46D6-A4E7-D9FED95F7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14CFF-CAC2-444B-867F-C8BF46DD4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6F3E2-963F-4F7C-A2CC-2DDE03DCF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9084C-3000-4AF4-8102-0246A63CD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46E47-459D-4A86-9127-EBBDE6FFE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B02AC-DDC0-4259-A3A8-5566B72A5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2DD83-61FE-4ECE-BD35-A1F6C69DD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32A2-8DAD-46CC-9815-63F65C379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0C2DB-B77F-4645-AFBD-90EF06775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B0828-CDFA-4723-961F-E571A6A81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88D7E-82C2-455D-9A66-282F24D5F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333F1-E425-4390-A4D6-BD84EA6E0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40E1C-E1F6-4E98-A32D-B948ACAF6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2726-CB2C-4BD6-9E95-A6147169B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BDBB-0318-4025-A105-960C96BF2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09CF-D568-4AFC-A5C7-1A16EE4FA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36D5-668D-48F8-B801-F8057408E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F774-02DB-4CF0-B367-89ECE3CB7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48C8-ED1E-45CD-8CCA-AF4531735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2CE7-CBDB-48AE-A22C-B185CED45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42DB5-FA92-461B-B07A-0BD3AAA57A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96A78-DB2C-445A-8DBB-FAE790B445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usaondvd.com/" TargetMode="External"/><Relationship Id="rId2" Type="http://schemas.openxmlformats.org/officeDocument/2006/relationships/hyperlink" Target="http://www.usaondvd.com/" TargetMode="External"/><Relationship Id="rId3" Type="http://schemas.openxmlformats.org/officeDocument/2006/relationships/hyperlink" Target="http://www.usaondvd.com/" TargetMode="External"/><Relationship Id="rId4" Type="http://schemas.openxmlformats.org/officeDocument/2006/relationships/hyperlink" Target="http://www.census.gov/geo/www/tiger/landview.html" TargetMode="External"/><Relationship Id="rId5" Type="http://schemas.openxmlformats.org/officeDocument/2006/relationships/hyperlink" Target="http://www.census.gov/geo/www/tiger/landview.html" TargetMode="External"/><Relationship Id="rId6" Type="http://schemas.openxmlformats.org/officeDocument/2006/relationships/hyperlink" Target="http://www.census.gov/geo/www/tiger/landview.html" TargetMode="External"/><Relationship Id="rId7" Type="http://schemas.openxmlformats.org/officeDocument/2006/relationships/hyperlink" Target="http://www.census.gov/geo/www/tiger/landview.html" TargetMode="External"/><Relationship Id="rId8" Type="http://schemas.openxmlformats.org/officeDocument/2006/relationships/hyperlink" Target="http://www.census.gov/geo/www/tiger/landview.html" TargetMode="External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osely-coupled Web-connected DVD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VD’99: Standards, Applications and Techn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ational Institute of Standards and Techn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vember 30 – December 1, 199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Arial"/>
              </a:rPr>
              <a:t>Re-engineering EPA Data and Information</a:t>
            </a:r>
            <a:endParaRPr b="0" lang="en-US" sz="3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ffice of Environmental Inform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llection (and archiv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a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semin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right information in the most efficient way for quality integration and ac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ome Uses of DV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ltiple CD-ROM Produ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ltimedia Lab: 9 CDs (some with multiple version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xics Release Inventory: 2 C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Ds and Web Cont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ndView Warehou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edStats Warehou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vironmental Data Integ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llect, manage, disseminate and arch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-journal record of reproducible resul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ighlights of Demonstr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rplot – Mapping wind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rplot – Map Layer wind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ndView – Datab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ndView – Census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ndView – EPA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ndView – Link to EPA Web datab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rplot – Local area ma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arplot: Mapping Window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14400" y="1539720"/>
            <a:ext cx="739152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arplot: Map Layer Window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6781680" cy="50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LandView: Databas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523880" y="1601640"/>
            <a:ext cx="6629400" cy="50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LandView: Census Dat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632448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LandView: EPA Dat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143000" y="1504800"/>
            <a:ext cx="6781680" cy="50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cc66"/>
                </a:solidFill>
                <a:latin typeface="Arial"/>
              </a:rPr>
              <a:t>LandView: Link to EPA Web Database</a:t>
            </a:r>
            <a:endParaRPr b="0" lang="en-US" sz="3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295280" y="1486080"/>
            <a:ext cx="662940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LandView: Local Map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447920" y="1523880"/>
            <a:ext cx="6629400" cy="49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ontributo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ter Gattuso – U.S. Environmental Protection Agency, Office of Chemical Emergency Preparedness and Preven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rm Gunderson, U.S. Geological Survey, Mapping Divi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lph LeBarge – AlphaDVD, Managing Partn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ul Manka – U.S. Bureau of the Census, Products and Services Staf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erry McFaul – U.S. Geological Survey, Geology Division, and President of the SIGCAT Found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rand Niemann, U.S. Environmental Protection Agency, Office of Environmental Infor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eb-connected CD/DVD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b-Enabled CDs Mean Fast, Current Data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ttp://www.PlanetIT.com/docs/PIT19990714S0011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crosoft Encarta Reference Suite 99 – Best of Show at DVDPro’9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reating DVD Hybrids, Ralph LaBarge, DVD Pro ’99 and NIST DVD’9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yperDVD from Hyperlock Technolog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ndow on the World” CD in the London Sunday Times (1.5 mill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IMA in a Box” (static geospatial data on CD-ROM with URLs to dynamic data on NIMA Web sit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LandView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geographic reference like an electronic atl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vides Federal environmental and Census data on ma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vides information about the reactivity of 4,300 chemicals or mixtures of chemic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lculates vulnerable zone distances based on the Risk Management Program Guidance for Offsite Consequence Analy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LandView: Brief Histo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LandView I) – TIGER/Line Data Viewer (199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ndView II – 11 CD-ROMs (3/1995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ndView III – 11 CD-ROMS (12/1997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ndView III – About 6 CD-ROMs for special applications (1997-presen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ndView III – One DVD with additional databases (12/1998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ndView IV – One DVD (mid-200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ndView 2000 – One DVD (2001?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LandView: UR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phaDVD – </a:t>
            </a:r>
            <a:r>
              <a:rPr b="0" lang="en-US" sz="2800" spc="-1" strike="noStrike" u="sng">
                <a:solidFill>
                  <a:srgbClr val="ff0033"/>
                </a:solidFill>
                <a:uFillTx/>
                <a:latin typeface="Times New Roman"/>
                <a:hlinkClick r:id="rId1"/>
              </a:rPr>
              <a:t>http://www.</a:t>
            </a:r>
            <a:r>
              <a:rPr b="0" lang="en-US" sz="2800" spc="-1" strike="noStrike" u="sng">
                <a:solidFill>
                  <a:srgbClr val="ff0033"/>
                </a:solidFill>
                <a:uFillTx/>
                <a:latin typeface="Times New Roman"/>
                <a:hlinkClick r:id="rId2"/>
              </a:rPr>
              <a:t>usaondvd</a:t>
            </a:r>
            <a:r>
              <a:rPr b="0" lang="en-US" sz="2800" spc="-1" strike="noStrike" u="sng">
                <a:solidFill>
                  <a:srgbClr val="ff0033"/>
                </a:solidFill>
                <a:uFillTx/>
                <a:latin typeface="Times New Roman"/>
                <a:hlinkClick r:id="rId3"/>
              </a:rPr>
              <a:t>.c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ensus Bureau – </a:t>
            </a:r>
            <a:r>
              <a:rPr b="0" lang="en-US" sz="2400" spc="-1" strike="noStrike" u="sng">
                <a:solidFill>
                  <a:srgbClr val="ff0033"/>
                </a:solidFill>
                <a:uFillTx/>
                <a:latin typeface="Times New Roman"/>
                <a:hlinkClick r:id="rId4"/>
              </a:rPr>
              <a:t>http://www.census.</a:t>
            </a:r>
            <a:r>
              <a:rPr b="0" lang="en-US" sz="2400" spc="-1" strike="noStrike" u="sng">
                <a:solidFill>
                  <a:srgbClr val="ff0033"/>
                </a:solidFill>
                <a:uFillTx/>
                <a:latin typeface="Times New Roman"/>
                <a:hlinkClick r:id="rId5"/>
              </a:rPr>
              <a:t>gov</a:t>
            </a:r>
            <a:r>
              <a:rPr b="0" lang="en-US" sz="2400" spc="-1" strike="noStrike" u="sng">
                <a:solidFill>
                  <a:srgbClr val="ff0033"/>
                </a:solidFill>
                <a:uFillTx/>
                <a:latin typeface="Times New Roman"/>
                <a:hlinkClick r:id="rId6"/>
              </a:rPr>
              <a:t>/geo/www/tiger/</a:t>
            </a:r>
            <a:r>
              <a:rPr b="0" lang="en-US" sz="2400" spc="-1" strike="noStrike" u="sng">
                <a:solidFill>
                  <a:srgbClr val="ff0033"/>
                </a:solidFill>
                <a:uFillTx/>
                <a:latin typeface="Times New Roman"/>
                <a:hlinkClick r:id="rId7"/>
              </a:rPr>
              <a:t>landview</a:t>
            </a:r>
            <a:r>
              <a:rPr b="0" lang="en-US" sz="2400" spc="-1" strike="noStrike" u="sng">
                <a:solidFill>
                  <a:srgbClr val="ff0033"/>
                </a:solidFill>
                <a:uFillTx/>
                <a:latin typeface="Times New Roman"/>
                <a:hlinkClick r:id="rId8"/>
              </a:rPr>
              <a:t>.ht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PA –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epa.gov/swercepp/cameo/what.ht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GCAT – http://www.sigcat.org/usaondvd.ht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GS – http://cdserver.er.usgs.gov/lviii.ht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osely-coupl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ndView III Y2K (7/9/1999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2K Complia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n on &gt;=100 MHz P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uerying EPA’s EnviroFacts database on the We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ndView III on DV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w setup.exe for querying EPA EnviroFacts and linking to Census and USGS Web si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dition of data lay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eb-connect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MEO (Computer-Aided Management of Emergency Operations) – http://www.epa.gov/swercepp/cameo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chnical Documentation and Tutori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census.gov/geo/www/tiger/lv3tech.ht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tadata and Databa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cdserver.er.usgs.gov/lviii.ht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tribution on the Right-To-Know Net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rtk.net/landview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LandView IV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File Maker 4 for same new 32-bit interface on both Windows and Ma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net connectivity to Census, EPA, and US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proved color ramps for thematic mapp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pdated road layer based on TIGER/Line 199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designed radius calculation based upon 5 million Census bloc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apefile format import and ex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deo tutori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1T14:27:41Z</dcterms:created>
  <dc:creator>Niemann</dc:creator>
  <dc:description/>
  <dc:language>en-US</dc:language>
  <cp:lastModifiedBy>brand niemann</cp:lastModifiedBy>
  <dcterms:modified xsi:type="dcterms:W3CDTF">1999-12-02T13:36:15Z</dcterms:modified>
  <cp:revision>67</cp:revision>
  <dc:subject/>
  <dc:title>Closely-coupled Web-connected DVDs</dc:title>
</cp:coreProperties>
</file>