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220011"/>
              </a:gs>
              <a:gs pos="50000">
                <a:srgbClr val="660033"/>
              </a:gs>
              <a:gs pos="100000">
                <a:srgbClr val="220011"/>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8783640" y="444600"/>
            <a:ext cx="360360" cy="3152880"/>
          </a:xfrm>
          <a:prstGeom prst="rect">
            <a:avLst/>
          </a:prstGeom>
          <a:gradFill rotWithShape="0">
            <a:gsLst>
              <a:gs pos="0">
                <a:srgbClr val="220011"/>
              </a:gs>
              <a:gs pos="50000">
                <a:srgbClr val="9c004e"/>
              </a:gs>
              <a:gs pos="100000">
                <a:srgbClr val="220011"/>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 name=""/>
          <p:cNvSpPr/>
          <p:nvPr/>
        </p:nvSpPr>
        <p:spPr>
          <a:xfrm>
            <a:off x="0" y="0"/>
            <a:ext cx="9144360" cy="2134080"/>
          </a:xfrm>
          <a:custGeom>
            <a:avLst/>
            <a:gdLst/>
            <a:ahLst/>
            <a:rect l="0" t="0" r="r" b="b"/>
            <a:pathLst>
              <a:path w="25401" h="5928">
                <a:moveTo>
                  <a:pt x="0" y="0"/>
                </a:moveTo>
                <a:lnTo>
                  <a:pt x="25401" y="0"/>
                </a:lnTo>
                <a:lnTo>
                  <a:pt x="25401" y="4207"/>
                </a:lnTo>
                <a:lnTo>
                  <a:pt x="25237" y="4260"/>
                </a:lnTo>
                <a:lnTo>
                  <a:pt x="25074" y="4298"/>
                </a:lnTo>
                <a:lnTo>
                  <a:pt x="24911" y="4322"/>
                </a:lnTo>
                <a:lnTo>
                  <a:pt x="24708" y="4341"/>
                </a:lnTo>
                <a:lnTo>
                  <a:pt x="24303" y="4351"/>
                </a:lnTo>
                <a:lnTo>
                  <a:pt x="23857" y="4332"/>
                </a:lnTo>
                <a:lnTo>
                  <a:pt x="23328" y="4289"/>
                </a:lnTo>
                <a:lnTo>
                  <a:pt x="22799" y="4217"/>
                </a:lnTo>
                <a:lnTo>
                  <a:pt x="22230" y="4135"/>
                </a:lnTo>
                <a:lnTo>
                  <a:pt x="21622" y="4044"/>
                </a:lnTo>
                <a:lnTo>
                  <a:pt x="20321" y="3857"/>
                </a:lnTo>
                <a:lnTo>
                  <a:pt x="19669" y="3776"/>
                </a:lnTo>
                <a:lnTo>
                  <a:pt x="18937" y="3690"/>
                </a:lnTo>
                <a:lnTo>
                  <a:pt x="18205" y="3642"/>
                </a:lnTo>
                <a:lnTo>
                  <a:pt x="17434" y="3608"/>
                </a:lnTo>
                <a:lnTo>
                  <a:pt x="16662" y="3608"/>
                </a:lnTo>
                <a:lnTo>
                  <a:pt x="15890" y="3642"/>
                </a:lnTo>
                <a:lnTo>
                  <a:pt x="15485" y="3671"/>
                </a:lnTo>
                <a:lnTo>
                  <a:pt x="15039" y="3723"/>
                </a:lnTo>
                <a:lnTo>
                  <a:pt x="14590" y="3776"/>
                </a:lnTo>
                <a:lnTo>
                  <a:pt x="14105" y="3838"/>
                </a:lnTo>
                <a:lnTo>
                  <a:pt x="13086" y="4001"/>
                </a:lnTo>
                <a:lnTo>
                  <a:pt x="11987" y="4188"/>
                </a:lnTo>
                <a:lnTo>
                  <a:pt x="10850" y="4394"/>
                </a:lnTo>
                <a:lnTo>
                  <a:pt x="9673" y="4620"/>
                </a:lnTo>
                <a:lnTo>
                  <a:pt x="8491" y="4845"/>
                </a:lnTo>
                <a:lnTo>
                  <a:pt x="7354" y="5075"/>
                </a:lnTo>
                <a:lnTo>
                  <a:pt x="6176" y="5291"/>
                </a:lnTo>
                <a:lnTo>
                  <a:pt x="5079" y="5487"/>
                </a:lnTo>
                <a:lnTo>
                  <a:pt x="3981" y="5650"/>
                </a:lnTo>
                <a:lnTo>
                  <a:pt x="3496" y="5722"/>
                </a:lnTo>
                <a:lnTo>
                  <a:pt x="3006" y="5784"/>
                </a:lnTo>
                <a:lnTo>
                  <a:pt x="2517" y="5847"/>
                </a:lnTo>
                <a:lnTo>
                  <a:pt x="2072" y="5890"/>
                </a:lnTo>
                <a:lnTo>
                  <a:pt x="1666" y="5909"/>
                </a:lnTo>
                <a:lnTo>
                  <a:pt x="1260" y="5928"/>
                </a:lnTo>
                <a:lnTo>
                  <a:pt x="895" y="5928"/>
                </a:lnTo>
                <a:lnTo>
                  <a:pt x="568" y="5919"/>
                </a:lnTo>
                <a:lnTo>
                  <a:pt x="286" y="5890"/>
                </a:lnTo>
                <a:lnTo>
                  <a:pt x="0" y="5837"/>
                </a:lnTo>
                <a:lnTo>
                  <a:pt x="0" y="0"/>
                </a:lnTo>
                <a:close/>
              </a:path>
            </a:pathLst>
          </a:custGeom>
          <a:gradFill rotWithShape="0">
            <a:gsLst>
              <a:gs pos="0">
                <a:srgbClr val="220011"/>
              </a:gs>
              <a:gs pos="50000">
                <a:srgbClr val="660033"/>
              </a:gs>
              <a:gs pos="100000">
                <a:srgbClr val="220011"/>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0" y="1163520"/>
            <a:ext cx="9144360" cy="5694840"/>
          </a:xfrm>
          <a:custGeom>
            <a:avLst/>
            <a:gdLst/>
            <a:ahLst/>
            <a:rect l="0" t="0" r="r" b="b"/>
            <a:pathLst>
              <a:path w="25401" h="15819">
                <a:moveTo>
                  <a:pt x="0" y="2114"/>
                </a:moveTo>
                <a:lnTo>
                  <a:pt x="855" y="2173"/>
                </a:lnTo>
                <a:lnTo>
                  <a:pt x="1666" y="2205"/>
                </a:lnTo>
                <a:lnTo>
                  <a:pt x="2477" y="2205"/>
                </a:lnTo>
                <a:lnTo>
                  <a:pt x="3293" y="2141"/>
                </a:lnTo>
                <a:lnTo>
                  <a:pt x="4876" y="1986"/>
                </a:lnTo>
                <a:lnTo>
                  <a:pt x="6379" y="1768"/>
                </a:lnTo>
                <a:lnTo>
                  <a:pt x="7843" y="1481"/>
                </a:lnTo>
                <a:lnTo>
                  <a:pt x="9183" y="1198"/>
                </a:lnTo>
                <a:lnTo>
                  <a:pt x="10444" y="915"/>
                </a:lnTo>
                <a:lnTo>
                  <a:pt x="11622" y="692"/>
                </a:lnTo>
                <a:lnTo>
                  <a:pt x="11661" y="692"/>
                </a:lnTo>
                <a:lnTo>
                  <a:pt x="11745" y="665"/>
                </a:lnTo>
                <a:lnTo>
                  <a:pt x="11868" y="665"/>
                </a:lnTo>
                <a:lnTo>
                  <a:pt x="12071" y="633"/>
                </a:lnTo>
                <a:lnTo>
                  <a:pt x="12517" y="569"/>
                </a:lnTo>
                <a:lnTo>
                  <a:pt x="13086" y="473"/>
                </a:lnTo>
                <a:lnTo>
                  <a:pt x="13655" y="378"/>
                </a:lnTo>
                <a:lnTo>
                  <a:pt x="14184" y="318"/>
                </a:lnTo>
                <a:lnTo>
                  <a:pt x="14590" y="255"/>
                </a:lnTo>
                <a:lnTo>
                  <a:pt x="14753" y="223"/>
                </a:lnTo>
                <a:lnTo>
                  <a:pt x="14876" y="191"/>
                </a:lnTo>
                <a:lnTo>
                  <a:pt x="15524" y="95"/>
                </a:lnTo>
                <a:lnTo>
                  <a:pt x="16177" y="31"/>
                </a:lnTo>
                <a:lnTo>
                  <a:pt x="16909" y="0"/>
                </a:lnTo>
                <a:lnTo>
                  <a:pt x="17597" y="31"/>
                </a:lnTo>
                <a:lnTo>
                  <a:pt x="18368" y="95"/>
                </a:lnTo>
                <a:lnTo>
                  <a:pt x="19100" y="159"/>
                </a:lnTo>
                <a:lnTo>
                  <a:pt x="20564" y="378"/>
                </a:lnTo>
                <a:lnTo>
                  <a:pt x="22028" y="633"/>
                </a:lnTo>
                <a:lnTo>
                  <a:pt x="22676" y="756"/>
                </a:lnTo>
                <a:lnTo>
                  <a:pt x="23328" y="852"/>
                </a:lnTo>
                <a:lnTo>
                  <a:pt x="23937" y="947"/>
                </a:lnTo>
                <a:lnTo>
                  <a:pt x="24466" y="1043"/>
                </a:lnTo>
                <a:lnTo>
                  <a:pt x="24955" y="1070"/>
                </a:lnTo>
                <a:lnTo>
                  <a:pt x="25401" y="1102"/>
                </a:lnTo>
                <a:lnTo>
                  <a:pt x="25401" y="15819"/>
                </a:lnTo>
                <a:lnTo>
                  <a:pt x="0" y="15819"/>
                </a:lnTo>
                <a:lnTo>
                  <a:pt x="0" y="15787"/>
                </a:lnTo>
                <a:lnTo>
                  <a:pt x="0" y="15660"/>
                </a:lnTo>
                <a:lnTo>
                  <a:pt x="0" y="15473"/>
                </a:lnTo>
                <a:lnTo>
                  <a:pt x="0" y="15222"/>
                </a:lnTo>
                <a:lnTo>
                  <a:pt x="0" y="14908"/>
                </a:lnTo>
                <a:lnTo>
                  <a:pt x="0" y="14557"/>
                </a:lnTo>
                <a:lnTo>
                  <a:pt x="0" y="14151"/>
                </a:lnTo>
                <a:lnTo>
                  <a:pt x="0" y="13677"/>
                </a:lnTo>
                <a:lnTo>
                  <a:pt x="0" y="13172"/>
                </a:lnTo>
                <a:lnTo>
                  <a:pt x="0" y="12638"/>
                </a:lnTo>
                <a:lnTo>
                  <a:pt x="0" y="11471"/>
                </a:lnTo>
                <a:lnTo>
                  <a:pt x="0" y="10240"/>
                </a:lnTo>
                <a:lnTo>
                  <a:pt x="0" y="8983"/>
                </a:lnTo>
                <a:lnTo>
                  <a:pt x="0" y="7688"/>
                </a:lnTo>
                <a:lnTo>
                  <a:pt x="0" y="6462"/>
                </a:lnTo>
                <a:lnTo>
                  <a:pt x="0" y="5296"/>
                </a:lnTo>
                <a:lnTo>
                  <a:pt x="0" y="4758"/>
                </a:lnTo>
                <a:lnTo>
                  <a:pt x="0" y="4257"/>
                </a:lnTo>
                <a:lnTo>
                  <a:pt x="0" y="3782"/>
                </a:lnTo>
                <a:lnTo>
                  <a:pt x="0" y="3372"/>
                </a:lnTo>
                <a:lnTo>
                  <a:pt x="0" y="3025"/>
                </a:lnTo>
                <a:lnTo>
                  <a:pt x="0" y="2711"/>
                </a:lnTo>
                <a:lnTo>
                  <a:pt x="0" y="2460"/>
                </a:lnTo>
                <a:lnTo>
                  <a:pt x="0" y="2269"/>
                </a:lnTo>
                <a:lnTo>
                  <a:pt x="0" y="2141"/>
                </a:lnTo>
                <a:lnTo>
                  <a:pt x="0" y="2114"/>
                </a:lnTo>
                <a:close/>
              </a:path>
            </a:pathLst>
          </a:custGeom>
          <a:gradFill rotWithShape="0">
            <a:gsLst>
              <a:gs pos="0">
                <a:srgbClr val="220011"/>
              </a:gs>
              <a:gs pos="50000">
                <a:srgbClr val="660033"/>
              </a:gs>
              <a:gs pos="100000">
                <a:srgbClr val="220011"/>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0" y="291960"/>
            <a:ext cx="9144360" cy="854280"/>
          </a:xfrm>
          <a:custGeom>
            <a:avLst/>
            <a:gdLst/>
            <a:ahLst/>
            <a:rect l="0" t="0" r="r" b="b"/>
            <a:pathLst>
              <a:path w="25401" h="2373">
                <a:moveTo>
                  <a:pt x="0" y="647"/>
                </a:moveTo>
                <a:lnTo>
                  <a:pt x="0" y="1753"/>
                </a:lnTo>
                <a:lnTo>
                  <a:pt x="286" y="1799"/>
                </a:lnTo>
                <a:lnTo>
                  <a:pt x="568" y="1836"/>
                </a:lnTo>
                <a:lnTo>
                  <a:pt x="1300" y="1901"/>
                </a:lnTo>
                <a:lnTo>
                  <a:pt x="2155" y="1957"/>
                </a:lnTo>
                <a:lnTo>
                  <a:pt x="3130" y="1998"/>
                </a:lnTo>
                <a:lnTo>
                  <a:pt x="3659" y="2012"/>
                </a:lnTo>
                <a:lnTo>
                  <a:pt x="4228" y="2017"/>
                </a:lnTo>
                <a:lnTo>
                  <a:pt x="4796" y="2021"/>
                </a:lnTo>
                <a:lnTo>
                  <a:pt x="5365" y="2017"/>
                </a:lnTo>
                <a:lnTo>
                  <a:pt x="5974" y="2012"/>
                </a:lnTo>
                <a:lnTo>
                  <a:pt x="6582" y="1998"/>
                </a:lnTo>
                <a:lnTo>
                  <a:pt x="7195" y="1975"/>
                </a:lnTo>
                <a:lnTo>
                  <a:pt x="7803" y="1943"/>
                </a:lnTo>
                <a:lnTo>
                  <a:pt x="8130" y="1920"/>
                </a:lnTo>
                <a:lnTo>
                  <a:pt x="8451" y="1901"/>
                </a:lnTo>
                <a:lnTo>
                  <a:pt x="9183" y="1836"/>
                </a:lnTo>
                <a:lnTo>
                  <a:pt x="9955" y="1753"/>
                </a:lnTo>
                <a:lnTo>
                  <a:pt x="10726" y="1665"/>
                </a:lnTo>
                <a:lnTo>
                  <a:pt x="11582" y="1564"/>
                </a:lnTo>
                <a:lnTo>
                  <a:pt x="12437" y="1457"/>
                </a:lnTo>
                <a:lnTo>
                  <a:pt x="14144" y="1231"/>
                </a:lnTo>
                <a:lnTo>
                  <a:pt x="14995" y="1123"/>
                </a:lnTo>
                <a:lnTo>
                  <a:pt x="15851" y="1022"/>
                </a:lnTo>
                <a:lnTo>
                  <a:pt x="16662" y="924"/>
                </a:lnTo>
                <a:lnTo>
                  <a:pt x="17478" y="846"/>
                </a:lnTo>
                <a:lnTo>
                  <a:pt x="18205" y="781"/>
                </a:lnTo>
                <a:lnTo>
                  <a:pt x="18571" y="753"/>
                </a:lnTo>
                <a:lnTo>
                  <a:pt x="18937" y="735"/>
                </a:lnTo>
                <a:lnTo>
                  <a:pt x="19263" y="716"/>
                </a:lnTo>
                <a:lnTo>
                  <a:pt x="19589" y="707"/>
                </a:lnTo>
                <a:lnTo>
                  <a:pt x="19872" y="702"/>
                </a:lnTo>
                <a:lnTo>
                  <a:pt x="20158" y="707"/>
                </a:lnTo>
                <a:lnTo>
                  <a:pt x="20440" y="716"/>
                </a:lnTo>
                <a:lnTo>
                  <a:pt x="20687" y="739"/>
                </a:lnTo>
                <a:lnTo>
                  <a:pt x="20930" y="763"/>
                </a:lnTo>
                <a:lnTo>
                  <a:pt x="21172" y="795"/>
                </a:lnTo>
                <a:lnTo>
                  <a:pt x="21419" y="841"/>
                </a:lnTo>
                <a:lnTo>
                  <a:pt x="21662" y="887"/>
                </a:lnTo>
                <a:lnTo>
                  <a:pt x="21865" y="943"/>
                </a:lnTo>
                <a:lnTo>
                  <a:pt x="22067" y="994"/>
                </a:lnTo>
                <a:lnTo>
                  <a:pt x="22473" y="1123"/>
                </a:lnTo>
                <a:lnTo>
                  <a:pt x="22883" y="1268"/>
                </a:lnTo>
                <a:lnTo>
                  <a:pt x="23205" y="1420"/>
                </a:lnTo>
                <a:lnTo>
                  <a:pt x="23531" y="1568"/>
                </a:lnTo>
                <a:lnTo>
                  <a:pt x="23857" y="1725"/>
                </a:lnTo>
                <a:lnTo>
                  <a:pt x="24140" y="1869"/>
                </a:lnTo>
                <a:lnTo>
                  <a:pt x="24386" y="2003"/>
                </a:lnTo>
                <a:lnTo>
                  <a:pt x="24629" y="2123"/>
                </a:lnTo>
                <a:lnTo>
                  <a:pt x="24708" y="2179"/>
                </a:lnTo>
                <a:lnTo>
                  <a:pt x="24832" y="2225"/>
                </a:lnTo>
                <a:lnTo>
                  <a:pt x="24955" y="2271"/>
                </a:lnTo>
                <a:lnTo>
                  <a:pt x="25035" y="2308"/>
                </a:lnTo>
                <a:lnTo>
                  <a:pt x="25114" y="2331"/>
                </a:lnTo>
                <a:lnTo>
                  <a:pt x="25237" y="2354"/>
                </a:lnTo>
                <a:lnTo>
                  <a:pt x="25321" y="2364"/>
                </a:lnTo>
                <a:lnTo>
                  <a:pt x="25401" y="2373"/>
                </a:lnTo>
                <a:lnTo>
                  <a:pt x="25401" y="647"/>
                </a:lnTo>
                <a:lnTo>
                  <a:pt x="25035" y="504"/>
                </a:lnTo>
                <a:lnTo>
                  <a:pt x="24589" y="369"/>
                </a:lnTo>
                <a:lnTo>
                  <a:pt x="24060" y="245"/>
                </a:lnTo>
                <a:lnTo>
                  <a:pt x="23774" y="189"/>
                </a:lnTo>
                <a:lnTo>
                  <a:pt x="23452" y="138"/>
                </a:lnTo>
                <a:lnTo>
                  <a:pt x="23125" y="97"/>
                </a:lnTo>
                <a:lnTo>
                  <a:pt x="22760" y="64"/>
                </a:lnTo>
                <a:lnTo>
                  <a:pt x="22394" y="32"/>
                </a:lnTo>
                <a:lnTo>
                  <a:pt x="21988" y="9"/>
                </a:lnTo>
                <a:lnTo>
                  <a:pt x="21538" y="0"/>
                </a:lnTo>
                <a:lnTo>
                  <a:pt x="21093" y="0"/>
                </a:lnTo>
                <a:lnTo>
                  <a:pt x="20604" y="4"/>
                </a:lnTo>
                <a:lnTo>
                  <a:pt x="20119" y="27"/>
                </a:lnTo>
                <a:lnTo>
                  <a:pt x="19832" y="41"/>
                </a:lnTo>
                <a:lnTo>
                  <a:pt x="19550" y="64"/>
                </a:lnTo>
                <a:lnTo>
                  <a:pt x="19263" y="92"/>
                </a:lnTo>
                <a:lnTo>
                  <a:pt x="18981" y="124"/>
                </a:lnTo>
                <a:lnTo>
                  <a:pt x="18329" y="198"/>
                </a:lnTo>
                <a:lnTo>
                  <a:pt x="17636" y="291"/>
                </a:lnTo>
                <a:lnTo>
                  <a:pt x="16909" y="397"/>
                </a:lnTo>
                <a:lnTo>
                  <a:pt x="16177" y="508"/>
                </a:lnTo>
                <a:lnTo>
                  <a:pt x="15401" y="624"/>
                </a:lnTo>
                <a:lnTo>
                  <a:pt x="14629" y="749"/>
                </a:lnTo>
                <a:lnTo>
                  <a:pt x="13858" y="874"/>
                </a:lnTo>
                <a:lnTo>
                  <a:pt x="13086" y="989"/>
                </a:lnTo>
                <a:lnTo>
                  <a:pt x="12314" y="1100"/>
                </a:lnTo>
                <a:lnTo>
                  <a:pt x="11582" y="1203"/>
                </a:lnTo>
                <a:lnTo>
                  <a:pt x="10810" y="1291"/>
                </a:lnTo>
                <a:lnTo>
                  <a:pt x="10118" y="1365"/>
                </a:lnTo>
                <a:lnTo>
                  <a:pt x="9752" y="1393"/>
                </a:lnTo>
                <a:lnTo>
                  <a:pt x="9426" y="1420"/>
                </a:lnTo>
                <a:lnTo>
                  <a:pt x="9104" y="1439"/>
                </a:lnTo>
                <a:lnTo>
                  <a:pt x="8778" y="1453"/>
                </a:lnTo>
                <a:lnTo>
                  <a:pt x="8130" y="1462"/>
                </a:lnTo>
                <a:lnTo>
                  <a:pt x="7517" y="1453"/>
                </a:lnTo>
                <a:lnTo>
                  <a:pt x="6869" y="1430"/>
                </a:lnTo>
                <a:lnTo>
                  <a:pt x="6260" y="1393"/>
                </a:lnTo>
                <a:lnTo>
                  <a:pt x="5608" y="1342"/>
                </a:lnTo>
                <a:lnTo>
                  <a:pt x="4999" y="1286"/>
                </a:lnTo>
                <a:lnTo>
                  <a:pt x="4391" y="1221"/>
                </a:lnTo>
                <a:lnTo>
                  <a:pt x="3818" y="1151"/>
                </a:lnTo>
                <a:lnTo>
                  <a:pt x="2680" y="998"/>
                </a:lnTo>
                <a:lnTo>
                  <a:pt x="1666" y="855"/>
                </a:lnTo>
                <a:lnTo>
                  <a:pt x="1221" y="790"/>
                </a:lnTo>
                <a:lnTo>
                  <a:pt x="771" y="735"/>
                </a:lnTo>
                <a:lnTo>
                  <a:pt x="365" y="684"/>
                </a:lnTo>
                <a:lnTo>
                  <a:pt x="0" y="647"/>
                </a:lnTo>
                <a:close/>
              </a:path>
            </a:pathLst>
          </a:custGeom>
          <a:gradFill rotWithShape="0">
            <a:gsLst>
              <a:gs pos="0">
                <a:srgbClr val="660033"/>
              </a:gs>
              <a:gs pos="50000">
                <a:srgbClr val="220011"/>
              </a:gs>
              <a:gs pos="100000">
                <a:srgbClr val="66003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0" y="2405160"/>
            <a:ext cx="9144360" cy="1070280"/>
          </a:xfrm>
          <a:custGeom>
            <a:avLst/>
            <a:gdLst/>
            <a:ahLst/>
            <a:rect l="0" t="0" r="r" b="b"/>
            <a:pathLst>
              <a:path w="25401" h="2973">
                <a:moveTo>
                  <a:pt x="0" y="1026"/>
                </a:moveTo>
                <a:lnTo>
                  <a:pt x="0" y="1767"/>
                </a:lnTo>
                <a:lnTo>
                  <a:pt x="202" y="1819"/>
                </a:lnTo>
                <a:lnTo>
                  <a:pt x="445" y="1885"/>
                </a:lnTo>
                <a:lnTo>
                  <a:pt x="771" y="1965"/>
                </a:lnTo>
                <a:lnTo>
                  <a:pt x="1097" y="2031"/>
                </a:lnTo>
                <a:lnTo>
                  <a:pt x="1869" y="2195"/>
                </a:lnTo>
                <a:lnTo>
                  <a:pt x="2724" y="2379"/>
                </a:lnTo>
                <a:lnTo>
                  <a:pt x="3575" y="2544"/>
                </a:lnTo>
                <a:lnTo>
                  <a:pt x="4391" y="2690"/>
                </a:lnTo>
                <a:lnTo>
                  <a:pt x="5079" y="2808"/>
                </a:lnTo>
                <a:lnTo>
                  <a:pt x="5405" y="2855"/>
                </a:lnTo>
                <a:lnTo>
                  <a:pt x="5647" y="2888"/>
                </a:lnTo>
                <a:lnTo>
                  <a:pt x="5850" y="2921"/>
                </a:lnTo>
                <a:lnTo>
                  <a:pt x="5974" y="2940"/>
                </a:lnTo>
                <a:lnTo>
                  <a:pt x="6013" y="2954"/>
                </a:lnTo>
                <a:lnTo>
                  <a:pt x="6053" y="2973"/>
                </a:lnTo>
                <a:lnTo>
                  <a:pt x="6013" y="2973"/>
                </a:lnTo>
                <a:lnTo>
                  <a:pt x="5974" y="2954"/>
                </a:lnTo>
                <a:lnTo>
                  <a:pt x="5974" y="2907"/>
                </a:lnTo>
                <a:lnTo>
                  <a:pt x="6013" y="2874"/>
                </a:lnTo>
                <a:lnTo>
                  <a:pt x="6097" y="2841"/>
                </a:lnTo>
                <a:lnTo>
                  <a:pt x="6260" y="2789"/>
                </a:lnTo>
                <a:lnTo>
                  <a:pt x="6503" y="2723"/>
                </a:lnTo>
                <a:lnTo>
                  <a:pt x="6785" y="2657"/>
                </a:lnTo>
                <a:lnTo>
                  <a:pt x="7195" y="2591"/>
                </a:lnTo>
                <a:lnTo>
                  <a:pt x="7680" y="2492"/>
                </a:lnTo>
                <a:lnTo>
                  <a:pt x="8288" y="2379"/>
                </a:lnTo>
                <a:lnTo>
                  <a:pt x="8981" y="2228"/>
                </a:lnTo>
                <a:lnTo>
                  <a:pt x="9752" y="2064"/>
                </a:lnTo>
                <a:lnTo>
                  <a:pt x="10568" y="1885"/>
                </a:lnTo>
                <a:lnTo>
                  <a:pt x="11419" y="1701"/>
                </a:lnTo>
                <a:lnTo>
                  <a:pt x="13249" y="1323"/>
                </a:lnTo>
                <a:lnTo>
                  <a:pt x="15119" y="956"/>
                </a:lnTo>
                <a:lnTo>
                  <a:pt x="16014" y="810"/>
                </a:lnTo>
                <a:lnTo>
                  <a:pt x="16909" y="659"/>
                </a:lnTo>
                <a:lnTo>
                  <a:pt x="17720" y="546"/>
                </a:lnTo>
                <a:lnTo>
                  <a:pt x="18492" y="461"/>
                </a:lnTo>
                <a:lnTo>
                  <a:pt x="19184" y="414"/>
                </a:lnTo>
                <a:lnTo>
                  <a:pt x="19792" y="395"/>
                </a:lnTo>
                <a:lnTo>
                  <a:pt x="20361" y="428"/>
                </a:lnTo>
                <a:lnTo>
                  <a:pt x="20890" y="494"/>
                </a:lnTo>
                <a:lnTo>
                  <a:pt x="21375" y="612"/>
                </a:lnTo>
                <a:lnTo>
                  <a:pt x="21825" y="758"/>
                </a:lnTo>
                <a:lnTo>
                  <a:pt x="22270" y="923"/>
                </a:lnTo>
                <a:lnTo>
                  <a:pt x="22676" y="1106"/>
                </a:lnTo>
                <a:lnTo>
                  <a:pt x="23408" y="1536"/>
                </a:lnTo>
                <a:lnTo>
                  <a:pt x="24020" y="1951"/>
                </a:lnTo>
                <a:lnTo>
                  <a:pt x="24303" y="2148"/>
                </a:lnTo>
                <a:lnTo>
                  <a:pt x="24545" y="2313"/>
                </a:lnTo>
                <a:lnTo>
                  <a:pt x="24792" y="2459"/>
                </a:lnTo>
                <a:lnTo>
                  <a:pt x="25035" y="2591"/>
                </a:lnTo>
                <a:lnTo>
                  <a:pt x="25237" y="2676"/>
                </a:lnTo>
                <a:lnTo>
                  <a:pt x="25401" y="2709"/>
                </a:lnTo>
                <a:lnTo>
                  <a:pt x="25401" y="956"/>
                </a:lnTo>
                <a:lnTo>
                  <a:pt x="24871" y="810"/>
                </a:lnTo>
                <a:lnTo>
                  <a:pt x="24179" y="626"/>
                </a:lnTo>
                <a:lnTo>
                  <a:pt x="23368" y="461"/>
                </a:lnTo>
                <a:lnTo>
                  <a:pt x="22433" y="296"/>
                </a:lnTo>
                <a:lnTo>
                  <a:pt x="21375" y="150"/>
                </a:lnTo>
                <a:lnTo>
                  <a:pt x="20282" y="51"/>
                </a:lnTo>
                <a:lnTo>
                  <a:pt x="19669" y="18"/>
                </a:lnTo>
                <a:lnTo>
                  <a:pt x="19060" y="0"/>
                </a:lnTo>
                <a:lnTo>
                  <a:pt x="18452" y="0"/>
                </a:lnTo>
                <a:lnTo>
                  <a:pt x="17799" y="18"/>
                </a:lnTo>
                <a:lnTo>
                  <a:pt x="17112" y="65"/>
                </a:lnTo>
                <a:lnTo>
                  <a:pt x="16380" y="131"/>
                </a:lnTo>
                <a:lnTo>
                  <a:pt x="15608" y="230"/>
                </a:lnTo>
                <a:lnTo>
                  <a:pt x="14753" y="348"/>
                </a:lnTo>
                <a:lnTo>
                  <a:pt x="13898" y="480"/>
                </a:lnTo>
                <a:lnTo>
                  <a:pt x="12963" y="626"/>
                </a:lnTo>
                <a:lnTo>
                  <a:pt x="11137" y="956"/>
                </a:lnTo>
                <a:lnTo>
                  <a:pt x="9346" y="1271"/>
                </a:lnTo>
                <a:lnTo>
                  <a:pt x="8451" y="1422"/>
                </a:lnTo>
                <a:lnTo>
                  <a:pt x="7640" y="1555"/>
                </a:lnTo>
                <a:lnTo>
                  <a:pt x="6829" y="1687"/>
                </a:lnTo>
                <a:lnTo>
                  <a:pt x="6097" y="1786"/>
                </a:lnTo>
                <a:lnTo>
                  <a:pt x="5445" y="1852"/>
                </a:lnTo>
                <a:lnTo>
                  <a:pt x="4836" y="1899"/>
                </a:lnTo>
                <a:lnTo>
                  <a:pt x="4307" y="1918"/>
                </a:lnTo>
                <a:lnTo>
                  <a:pt x="3818" y="1918"/>
                </a:lnTo>
                <a:lnTo>
                  <a:pt x="3372" y="1899"/>
                </a:lnTo>
                <a:lnTo>
                  <a:pt x="2967" y="1866"/>
                </a:lnTo>
                <a:lnTo>
                  <a:pt x="2275" y="1753"/>
                </a:lnTo>
                <a:lnTo>
                  <a:pt x="1706" y="1588"/>
                </a:lnTo>
                <a:lnTo>
                  <a:pt x="1177" y="1422"/>
                </a:lnTo>
                <a:lnTo>
                  <a:pt x="771" y="1257"/>
                </a:lnTo>
                <a:lnTo>
                  <a:pt x="365" y="1125"/>
                </a:lnTo>
                <a:lnTo>
                  <a:pt x="0" y="1026"/>
                </a:lnTo>
                <a:close/>
              </a:path>
            </a:pathLst>
          </a:custGeom>
          <a:gradFill rotWithShape="0">
            <a:gsLst>
              <a:gs pos="0">
                <a:srgbClr val="660033"/>
              </a:gs>
              <a:gs pos="50000">
                <a:srgbClr val="56002b"/>
              </a:gs>
              <a:gs pos="100000">
                <a:srgbClr val="66003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2476440" y="1522440"/>
            <a:ext cx="6667920" cy="5335920"/>
          </a:xfrm>
          <a:custGeom>
            <a:avLst/>
            <a:gdLst/>
            <a:ahLst/>
            <a:rect l="0" t="0" r="r" b="b"/>
            <a:pathLst>
              <a:path w="18522" h="14822">
                <a:moveTo>
                  <a:pt x="0" y="14822"/>
                </a:moveTo>
                <a:lnTo>
                  <a:pt x="39" y="14560"/>
                </a:lnTo>
                <a:lnTo>
                  <a:pt x="118" y="14259"/>
                </a:lnTo>
                <a:lnTo>
                  <a:pt x="163" y="13931"/>
                </a:lnTo>
                <a:lnTo>
                  <a:pt x="242" y="13535"/>
                </a:lnTo>
                <a:lnTo>
                  <a:pt x="282" y="13140"/>
                </a:lnTo>
                <a:lnTo>
                  <a:pt x="365" y="12683"/>
                </a:lnTo>
                <a:lnTo>
                  <a:pt x="528" y="11692"/>
                </a:lnTo>
                <a:lnTo>
                  <a:pt x="687" y="10639"/>
                </a:lnTo>
                <a:lnTo>
                  <a:pt x="894" y="9486"/>
                </a:lnTo>
                <a:lnTo>
                  <a:pt x="1136" y="8333"/>
                </a:lnTo>
                <a:lnTo>
                  <a:pt x="1379" y="7112"/>
                </a:lnTo>
                <a:lnTo>
                  <a:pt x="1665" y="5959"/>
                </a:lnTo>
                <a:lnTo>
                  <a:pt x="1987" y="4806"/>
                </a:lnTo>
                <a:lnTo>
                  <a:pt x="2313" y="3720"/>
                </a:lnTo>
                <a:lnTo>
                  <a:pt x="2718" y="2734"/>
                </a:lnTo>
                <a:lnTo>
                  <a:pt x="2921" y="2272"/>
                </a:lnTo>
                <a:lnTo>
                  <a:pt x="3128" y="1877"/>
                </a:lnTo>
                <a:lnTo>
                  <a:pt x="3371" y="1481"/>
                </a:lnTo>
                <a:lnTo>
                  <a:pt x="3613" y="1119"/>
                </a:lnTo>
                <a:lnTo>
                  <a:pt x="3855" y="824"/>
                </a:lnTo>
                <a:lnTo>
                  <a:pt x="4102" y="557"/>
                </a:lnTo>
                <a:lnTo>
                  <a:pt x="4384" y="362"/>
                </a:lnTo>
                <a:lnTo>
                  <a:pt x="4671" y="195"/>
                </a:lnTo>
                <a:lnTo>
                  <a:pt x="4998" y="100"/>
                </a:lnTo>
                <a:lnTo>
                  <a:pt x="5319" y="33"/>
                </a:lnTo>
                <a:lnTo>
                  <a:pt x="5685" y="0"/>
                </a:lnTo>
                <a:lnTo>
                  <a:pt x="6051" y="0"/>
                </a:lnTo>
                <a:lnTo>
                  <a:pt x="6456" y="66"/>
                </a:lnTo>
                <a:lnTo>
                  <a:pt x="6906" y="133"/>
                </a:lnTo>
                <a:lnTo>
                  <a:pt x="7800" y="395"/>
                </a:lnTo>
                <a:lnTo>
                  <a:pt x="8774" y="757"/>
                </a:lnTo>
                <a:lnTo>
                  <a:pt x="9788" y="1186"/>
                </a:lnTo>
                <a:lnTo>
                  <a:pt x="10845" y="1676"/>
                </a:lnTo>
                <a:lnTo>
                  <a:pt x="11903" y="2239"/>
                </a:lnTo>
                <a:lnTo>
                  <a:pt x="12916" y="2829"/>
                </a:lnTo>
                <a:lnTo>
                  <a:pt x="13931" y="3458"/>
                </a:lnTo>
                <a:lnTo>
                  <a:pt x="14909" y="4049"/>
                </a:lnTo>
                <a:lnTo>
                  <a:pt x="15799" y="4644"/>
                </a:lnTo>
                <a:lnTo>
                  <a:pt x="16654" y="5169"/>
                </a:lnTo>
                <a:lnTo>
                  <a:pt x="17385" y="5664"/>
                </a:lnTo>
                <a:lnTo>
                  <a:pt x="18033" y="6059"/>
                </a:lnTo>
                <a:lnTo>
                  <a:pt x="18522" y="6355"/>
                </a:lnTo>
                <a:lnTo>
                  <a:pt x="18522" y="8466"/>
                </a:lnTo>
                <a:lnTo>
                  <a:pt x="18320" y="8366"/>
                </a:lnTo>
                <a:lnTo>
                  <a:pt x="18033" y="8199"/>
                </a:lnTo>
                <a:lnTo>
                  <a:pt x="17751" y="8038"/>
                </a:lnTo>
                <a:lnTo>
                  <a:pt x="17425" y="7837"/>
                </a:lnTo>
                <a:lnTo>
                  <a:pt x="16733" y="7346"/>
                </a:lnTo>
                <a:lnTo>
                  <a:pt x="15922" y="6750"/>
                </a:lnTo>
                <a:lnTo>
                  <a:pt x="15072" y="6093"/>
                </a:lnTo>
                <a:lnTo>
                  <a:pt x="14133" y="5402"/>
                </a:lnTo>
                <a:lnTo>
                  <a:pt x="13159" y="4678"/>
                </a:lnTo>
                <a:lnTo>
                  <a:pt x="12145" y="3954"/>
                </a:lnTo>
                <a:lnTo>
                  <a:pt x="11127" y="3258"/>
                </a:lnTo>
                <a:lnTo>
                  <a:pt x="10153" y="2601"/>
                </a:lnTo>
                <a:lnTo>
                  <a:pt x="9179" y="2010"/>
                </a:lnTo>
                <a:lnTo>
                  <a:pt x="8245" y="1514"/>
                </a:lnTo>
                <a:lnTo>
                  <a:pt x="7800" y="1314"/>
                </a:lnTo>
                <a:lnTo>
                  <a:pt x="7351" y="1152"/>
                </a:lnTo>
                <a:lnTo>
                  <a:pt x="6945" y="1019"/>
                </a:lnTo>
                <a:lnTo>
                  <a:pt x="6580" y="919"/>
                </a:lnTo>
                <a:lnTo>
                  <a:pt x="6214" y="857"/>
                </a:lnTo>
                <a:lnTo>
                  <a:pt x="5888" y="824"/>
                </a:lnTo>
                <a:lnTo>
                  <a:pt x="5566" y="857"/>
                </a:lnTo>
                <a:lnTo>
                  <a:pt x="5280" y="919"/>
                </a:lnTo>
                <a:lnTo>
                  <a:pt x="5037" y="1052"/>
                </a:lnTo>
                <a:lnTo>
                  <a:pt x="4790" y="1219"/>
                </a:lnTo>
                <a:lnTo>
                  <a:pt x="4547" y="1448"/>
                </a:lnTo>
                <a:lnTo>
                  <a:pt x="4344" y="1710"/>
                </a:lnTo>
                <a:lnTo>
                  <a:pt x="4142" y="2043"/>
                </a:lnTo>
                <a:lnTo>
                  <a:pt x="3979" y="2405"/>
                </a:lnTo>
                <a:lnTo>
                  <a:pt x="3816" y="2801"/>
                </a:lnTo>
                <a:lnTo>
                  <a:pt x="3653" y="3225"/>
                </a:lnTo>
                <a:lnTo>
                  <a:pt x="3371" y="4149"/>
                </a:lnTo>
                <a:lnTo>
                  <a:pt x="3084" y="5169"/>
                </a:lnTo>
                <a:lnTo>
                  <a:pt x="2881" y="6255"/>
                </a:lnTo>
                <a:lnTo>
                  <a:pt x="2679" y="7408"/>
                </a:lnTo>
                <a:lnTo>
                  <a:pt x="2516" y="8562"/>
                </a:lnTo>
                <a:lnTo>
                  <a:pt x="2397" y="9681"/>
                </a:lnTo>
                <a:lnTo>
                  <a:pt x="2234" y="10805"/>
                </a:lnTo>
                <a:lnTo>
                  <a:pt x="2110" y="11825"/>
                </a:lnTo>
                <a:lnTo>
                  <a:pt x="1987" y="12778"/>
                </a:lnTo>
                <a:lnTo>
                  <a:pt x="1908" y="13207"/>
                </a:lnTo>
                <a:lnTo>
                  <a:pt x="1828" y="13602"/>
                </a:lnTo>
                <a:lnTo>
                  <a:pt x="1784" y="13964"/>
                </a:lnTo>
                <a:lnTo>
                  <a:pt x="1705" y="14293"/>
                </a:lnTo>
                <a:lnTo>
                  <a:pt x="1621" y="14593"/>
                </a:lnTo>
                <a:lnTo>
                  <a:pt x="1542" y="14822"/>
                </a:lnTo>
                <a:lnTo>
                  <a:pt x="0" y="14822"/>
                </a:lnTo>
                <a:close/>
              </a:path>
            </a:pathLst>
          </a:custGeom>
          <a:gradFill rotWithShape="0">
            <a:gsLst>
              <a:gs pos="0">
                <a:srgbClr val="56002b"/>
              </a:gs>
              <a:gs pos="50000">
                <a:srgbClr val="660033"/>
              </a:gs>
              <a:gs pos="100000">
                <a:srgbClr val="56002b"/>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 name=""/>
          <p:cNvSpPr/>
          <p:nvPr/>
        </p:nvSpPr>
        <p:spPr>
          <a:xfrm>
            <a:off x="0" y="3443400"/>
            <a:ext cx="9144360" cy="3056400"/>
          </a:xfrm>
          <a:custGeom>
            <a:avLst/>
            <a:gdLst/>
            <a:ahLst/>
            <a:rect l="0" t="0" r="r" b="b"/>
            <a:pathLst>
              <a:path w="25401" h="8490">
                <a:moveTo>
                  <a:pt x="0" y="3520"/>
                </a:moveTo>
                <a:lnTo>
                  <a:pt x="0" y="4404"/>
                </a:lnTo>
                <a:lnTo>
                  <a:pt x="242" y="4593"/>
                </a:lnTo>
                <a:lnTo>
                  <a:pt x="529" y="4849"/>
                </a:lnTo>
                <a:lnTo>
                  <a:pt x="855" y="5134"/>
                </a:lnTo>
                <a:lnTo>
                  <a:pt x="1221" y="5449"/>
                </a:lnTo>
                <a:lnTo>
                  <a:pt x="2032" y="6179"/>
                </a:lnTo>
                <a:lnTo>
                  <a:pt x="2927" y="6909"/>
                </a:lnTo>
                <a:lnTo>
                  <a:pt x="3412" y="7258"/>
                </a:lnTo>
                <a:lnTo>
                  <a:pt x="3901" y="7606"/>
                </a:lnTo>
                <a:lnTo>
                  <a:pt x="4431" y="7891"/>
                </a:lnTo>
                <a:lnTo>
                  <a:pt x="4915" y="8142"/>
                </a:lnTo>
                <a:lnTo>
                  <a:pt x="5405" y="8302"/>
                </a:lnTo>
                <a:lnTo>
                  <a:pt x="5894" y="8427"/>
                </a:lnTo>
                <a:lnTo>
                  <a:pt x="6379" y="8490"/>
                </a:lnTo>
                <a:lnTo>
                  <a:pt x="6829" y="8427"/>
                </a:lnTo>
                <a:lnTo>
                  <a:pt x="7071" y="8365"/>
                </a:lnTo>
                <a:lnTo>
                  <a:pt x="7274" y="8268"/>
                </a:lnTo>
                <a:lnTo>
                  <a:pt x="7720" y="7983"/>
                </a:lnTo>
                <a:lnTo>
                  <a:pt x="8169" y="7606"/>
                </a:lnTo>
                <a:lnTo>
                  <a:pt x="8575" y="7132"/>
                </a:lnTo>
                <a:lnTo>
                  <a:pt x="9020" y="6590"/>
                </a:lnTo>
                <a:lnTo>
                  <a:pt x="9426" y="6019"/>
                </a:lnTo>
                <a:lnTo>
                  <a:pt x="10321" y="4752"/>
                </a:lnTo>
                <a:lnTo>
                  <a:pt x="10771" y="4153"/>
                </a:lnTo>
                <a:lnTo>
                  <a:pt x="11256" y="3549"/>
                </a:lnTo>
                <a:lnTo>
                  <a:pt x="11705" y="2978"/>
                </a:lnTo>
                <a:lnTo>
                  <a:pt x="12190" y="2471"/>
                </a:lnTo>
                <a:lnTo>
                  <a:pt x="12720" y="2030"/>
                </a:lnTo>
                <a:lnTo>
                  <a:pt x="13249" y="1682"/>
                </a:lnTo>
                <a:lnTo>
                  <a:pt x="13778" y="1459"/>
                </a:lnTo>
                <a:lnTo>
                  <a:pt x="14061" y="1363"/>
                </a:lnTo>
                <a:lnTo>
                  <a:pt x="14347" y="1334"/>
                </a:lnTo>
                <a:lnTo>
                  <a:pt x="14629" y="1334"/>
                </a:lnTo>
                <a:lnTo>
                  <a:pt x="14956" y="1363"/>
                </a:lnTo>
                <a:lnTo>
                  <a:pt x="15648" y="1488"/>
                </a:lnTo>
                <a:lnTo>
                  <a:pt x="16336" y="1711"/>
                </a:lnTo>
                <a:lnTo>
                  <a:pt x="17112" y="2030"/>
                </a:lnTo>
                <a:lnTo>
                  <a:pt x="17923" y="2408"/>
                </a:lnTo>
                <a:lnTo>
                  <a:pt x="18734" y="2853"/>
                </a:lnTo>
                <a:lnTo>
                  <a:pt x="19550" y="3360"/>
                </a:lnTo>
                <a:lnTo>
                  <a:pt x="20361" y="3868"/>
                </a:lnTo>
                <a:lnTo>
                  <a:pt x="21904" y="4878"/>
                </a:lnTo>
                <a:lnTo>
                  <a:pt x="22636" y="5386"/>
                </a:lnTo>
                <a:lnTo>
                  <a:pt x="23328" y="5859"/>
                </a:lnTo>
                <a:lnTo>
                  <a:pt x="23976" y="6275"/>
                </a:lnTo>
                <a:lnTo>
                  <a:pt x="24545" y="6624"/>
                </a:lnTo>
                <a:lnTo>
                  <a:pt x="24995" y="6876"/>
                </a:lnTo>
                <a:lnTo>
                  <a:pt x="25401" y="7064"/>
                </a:lnTo>
                <a:lnTo>
                  <a:pt x="25401" y="5197"/>
                </a:lnTo>
                <a:lnTo>
                  <a:pt x="25035" y="5100"/>
                </a:lnTo>
                <a:lnTo>
                  <a:pt x="24589" y="4912"/>
                </a:lnTo>
                <a:lnTo>
                  <a:pt x="24060" y="4627"/>
                </a:lnTo>
                <a:lnTo>
                  <a:pt x="23452" y="4279"/>
                </a:lnTo>
                <a:lnTo>
                  <a:pt x="22799" y="3868"/>
                </a:lnTo>
                <a:lnTo>
                  <a:pt x="22067" y="3389"/>
                </a:lnTo>
                <a:lnTo>
                  <a:pt x="21296" y="2915"/>
                </a:lnTo>
                <a:lnTo>
                  <a:pt x="20485" y="2408"/>
                </a:lnTo>
                <a:lnTo>
                  <a:pt x="19669" y="1933"/>
                </a:lnTo>
                <a:lnTo>
                  <a:pt x="18818" y="1459"/>
                </a:lnTo>
                <a:lnTo>
                  <a:pt x="18002" y="1015"/>
                </a:lnTo>
                <a:lnTo>
                  <a:pt x="17191" y="633"/>
                </a:lnTo>
                <a:lnTo>
                  <a:pt x="16419" y="348"/>
                </a:lnTo>
                <a:lnTo>
                  <a:pt x="15648" y="130"/>
                </a:lnTo>
                <a:lnTo>
                  <a:pt x="14956" y="33"/>
                </a:lnTo>
                <a:lnTo>
                  <a:pt x="14629" y="0"/>
                </a:lnTo>
                <a:lnTo>
                  <a:pt x="14308" y="33"/>
                </a:lnTo>
                <a:lnTo>
                  <a:pt x="14021" y="96"/>
                </a:lnTo>
                <a:lnTo>
                  <a:pt x="13739" y="193"/>
                </a:lnTo>
                <a:lnTo>
                  <a:pt x="13452" y="319"/>
                </a:lnTo>
                <a:lnTo>
                  <a:pt x="13210" y="444"/>
                </a:lnTo>
                <a:lnTo>
                  <a:pt x="12680" y="855"/>
                </a:lnTo>
                <a:lnTo>
                  <a:pt x="12190" y="1334"/>
                </a:lnTo>
                <a:lnTo>
                  <a:pt x="11705" y="1870"/>
                </a:lnTo>
                <a:lnTo>
                  <a:pt x="11256" y="2505"/>
                </a:lnTo>
                <a:lnTo>
                  <a:pt x="10810" y="3138"/>
                </a:lnTo>
                <a:lnTo>
                  <a:pt x="10361" y="3805"/>
                </a:lnTo>
                <a:lnTo>
                  <a:pt x="9915" y="4467"/>
                </a:lnTo>
                <a:lnTo>
                  <a:pt x="9510" y="5134"/>
                </a:lnTo>
                <a:lnTo>
                  <a:pt x="9064" y="5768"/>
                </a:lnTo>
                <a:lnTo>
                  <a:pt x="8654" y="6304"/>
                </a:lnTo>
                <a:lnTo>
                  <a:pt x="8249" y="6813"/>
                </a:lnTo>
                <a:lnTo>
                  <a:pt x="7803" y="7224"/>
                </a:lnTo>
                <a:lnTo>
                  <a:pt x="7398" y="7509"/>
                </a:lnTo>
                <a:lnTo>
                  <a:pt x="7151" y="7635"/>
                </a:lnTo>
                <a:lnTo>
                  <a:pt x="6948" y="7697"/>
                </a:lnTo>
                <a:lnTo>
                  <a:pt x="6503" y="7765"/>
                </a:lnTo>
                <a:lnTo>
                  <a:pt x="6013" y="7697"/>
                </a:lnTo>
                <a:lnTo>
                  <a:pt x="5528" y="7543"/>
                </a:lnTo>
                <a:lnTo>
                  <a:pt x="4999" y="7287"/>
                </a:lnTo>
                <a:lnTo>
                  <a:pt x="4510" y="7001"/>
                </a:lnTo>
                <a:lnTo>
                  <a:pt x="3981" y="6653"/>
                </a:lnTo>
                <a:lnTo>
                  <a:pt x="3496" y="6275"/>
                </a:lnTo>
                <a:lnTo>
                  <a:pt x="3006" y="5859"/>
                </a:lnTo>
                <a:lnTo>
                  <a:pt x="2072" y="5038"/>
                </a:lnTo>
                <a:lnTo>
                  <a:pt x="1626" y="4656"/>
                </a:lnTo>
                <a:lnTo>
                  <a:pt x="1221" y="4279"/>
                </a:lnTo>
                <a:lnTo>
                  <a:pt x="855" y="3993"/>
                </a:lnTo>
                <a:lnTo>
                  <a:pt x="529" y="3737"/>
                </a:lnTo>
                <a:lnTo>
                  <a:pt x="242" y="3583"/>
                </a:lnTo>
                <a:lnTo>
                  <a:pt x="0" y="3520"/>
                </a:lnTo>
                <a:close/>
              </a:path>
            </a:pathLst>
          </a:custGeom>
          <a:gradFill rotWithShape="0">
            <a:gsLst>
              <a:gs pos="0">
                <a:srgbClr val="660033"/>
              </a:gs>
              <a:gs pos="50000">
                <a:srgbClr val="56002b"/>
              </a:gs>
              <a:gs pos="100000">
                <a:srgbClr val="66003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0" y="3552840"/>
            <a:ext cx="6237720" cy="3366000"/>
          </a:xfrm>
          <a:custGeom>
            <a:avLst/>
            <a:gdLst/>
            <a:ahLst/>
            <a:rect l="0" t="0" r="r" b="b"/>
            <a:pathLst>
              <a:path w="17327" h="9350">
                <a:moveTo>
                  <a:pt x="0" y="1614"/>
                </a:moveTo>
                <a:lnTo>
                  <a:pt x="0" y="2069"/>
                </a:lnTo>
                <a:lnTo>
                  <a:pt x="175" y="2101"/>
                </a:lnTo>
                <a:lnTo>
                  <a:pt x="435" y="2101"/>
                </a:lnTo>
                <a:lnTo>
                  <a:pt x="787" y="2036"/>
                </a:lnTo>
                <a:lnTo>
                  <a:pt x="1222" y="1939"/>
                </a:lnTo>
                <a:lnTo>
                  <a:pt x="1690" y="1841"/>
                </a:lnTo>
                <a:lnTo>
                  <a:pt x="2213" y="1679"/>
                </a:lnTo>
                <a:lnTo>
                  <a:pt x="2797" y="1549"/>
                </a:lnTo>
                <a:lnTo>
                  <a:pt x="3408" y="1387"/>
                </a:lnTo>
                <a:lnTo>
                  <a:pt x="4687" y="1099"/>
                </a:lnTo>
                <a:lnTo>
                  <a:pt x="5970" y="839"/>
                </a:lnTo>
                <a:lnTo>
                  <a:pt x="6609" y="774"/>
                </a:lnTo>
                <a:lnTo>
                  <a:pt x="7253" y="709"/>
                </a:lnTo>
                <a:lnTo>
                  <a:pt x="7832" y="709"/>
                </a:lnTo>
                <a:lnTo>
                  <a:pt x="8388" y="774"/>
                </a:lnTo>
                <a:lnTo>
                  <a:pt x="8939" y="872"/>
                </a:lnTo>
                <a:lnTo>
                  <a:pt x="9523" y="1002"/>
                </a:lnTo>
                <a:lnTo>
                  <a:pt x="10745" y="1354"/>
                </a:lnTo>
                <a:lnTo>
                  <a:pt x="12056" y="1776"/>
                </a:lnTo>
                <a:lnTo>
                  <a:pt x="13312" y="2296"/>
                </a:lnTo>
                <a:lnTo>
                  <a:pt x="13923" y="2589"/>
                </a:lnTo>
                <a:lnTo>
                  <a:pt x="14502" y="2877"/>
                </a:lnTo>
                <a:lnTo>
                  <a:pt x="15058" y="3169"/>
                </a:lnTo>
                <a:lnTo>
                  <a:pt x="15554" y="3462"/>
                </a:lnTo>
                <a:lnTo>
                  <a:pt x="16017" y="3754"/>
                </a:lnTo>
                <a:lnTo>
                  <a:pt x="16424" y="4042"/>
                </a:lnTo>
                <a:lnTo>
                  <a:pt x="16748" y="4334"/>
                </a:lnTo>
                <a:lnTo>
                  <a:pt x="17008" y="4594"/>
                </a:lnTo>
                <a:lnTo>
                  <a:pt x="17184" y="4886"/>
                </a:lnTo>
                <a:lnTo>
                  <a:pt x="17300" y="5206"/>
                </a:lnTo>
                <a:lnTo>
                  <a:pt x="17327" y="5563"/>
                </a:lnTo>
                <a:lnTo>
                  <a:pt x="17300" y="5953"/>
                </a:lnTo>
                <a:lnTo>
                  <a:pt x="17212" y="6375"/>
                </a:lnTo>
                <a:lnTo>
                  <a:pt x="17068" y="6760"/>
                </a:lnTo>
                <a:lnTo>
                  <a:pt x="16920" y="7183"/>
                </a:lnTo>
                <a:lnTo>
                  <a:pt x="16716" y="7573"/>
                </a:lnTo>
                <a:lnTo>
                  <a:pt x="16545" y="7958"/>
                </a:lnTo>
                <a:lnTo>
                  <a:pt x="16341" y="8316"/>
                </a:lnTo>
                <a:lnTo>
                  <a:pt x="16137" y="8608"/>
                </a:lnTo>
                <a:lnTo>
                  <a:pt x="15961" y="8900"/>
                </a:lnTo>
                <a:lnTo>
                  <a:pt x="15785" y="9090"/>
                </a:lnTo>
                <a:lnTo>
                  <a:pt x="15669" y="9253"/>
                </a:lnTo>
                <a:lnTo>
                  <a:pt x="15581" y="9350"/>
                </a:lnTo>
                <a:lnTo>
                  <a:pt x="15554" y="9350"/>
                </a:lnTo>
                <a:lnTo>
                  <a:pt x="17124" y="3559"/>
                </a:lnTo>
                <a:lnTo>
                  <a:pt x="16920" y="3267"/>
                </a:lnTo>
                <a:lnTo>
                  <a:pt x="16660" y="2974"/>
                </a:lnTo>
                <a:lnTo>
                  <a:pt x="16341" y="2682"/>
                </a:lnTo>
                <a:lnTo>
                  <a:pt x="15989" y="2394"/>
                </a:lnTo>
                <a:lnTo>
                  <a:pt x="15581" y="2101"/>
                </a:lnTo>
                <a:lnTo>
                  <a:pt x="15146" y="1841"/>
                </a:lnTo>
                <a:lnTo>
                  <a:pt x="14650" y="1582"/>
                </a:lnTo>
                <a:lnTo>
                  <a:pt x="14155" y="1326"/>
                </a:lnTo>
                <a:lnTo>
                  <a:pt x="13108" y="872"/>
                </a:lnTo>
                <a:lnTo>
                  <a:pt x="12000" y="514"/>
                </a:lnTo>
                <a:lnTo>
                  <a:pt x="10893" y="222"/>
                </a:lnTo>
                <a:lnTo>
                  <a:pt x="9786" y="32"/>
                </a:lnTo>
                <a:lnTo>
                  <a:pt x="9231" y="0"/>
                </a:lnTo>
                <a:lnTo>
                  <a:pt x="8619" y="0"/>
                </a:lnTo>
                <a:lnTo>
                  <a:pt x="8008" y="32"/>
                </a:lnTo>
                <a:lnTo>
                  <a:pt x="7341" y="92"/>
                </a:lnTo>
                <a:lnTo>
                  <a:pt x="5970" y="320"/>
                </a:lnTo>
                <a:lnTo>
                  <a:pt x="4604" y="579"/>
                </a:lnTo>
                <a:lnTo>
                  <a:pt x="3232" y="872"/>
                </a:lnTo>
                <a:lnTo>
                  <a:pt x="2593" y="1034"/>
                </a:lnTo>
                <a:lnTo>
                  <a:pt x="1982" y="1196"/>
                </a:lnTo>
                <a:lnTo>
                  <a:pt x="1426" y="1326"/>
                </a:lnTo>
                <a:lnTo>
                  <a:pt x="903" y="1452"/>
                </a:lnTo>
                <a:lnTo>
                  <a:pt x="407" y="1549"/>
                </a:lnTo>
                <a:lnTo>
                  <a:pt x="0" y="1614"/>
                </a:lnTo>
                <a:close/>
              </a:path>
            </a:pathLst>
          </a:custGeom>
          <a:gradFill rotWithShape="0">
            <a:gsLst>
              <a:gs pos="0">
                <a:srgbClr val="56002b"/>
              </a:gs>
              <a:gs pos="50000">
                <a:srgbClr val="660033"/>
              </a:gs>
              <a:gs pos="100000">
                <a:srgbClr val="56002b"/>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9144000" cy="6858000"/>
          </a:xfrm>
          <a:prstGeom prst="rect">
            <a:avLst/>
          </a:prstGeom>
          <a:gradFill rotWithShape="0">
            <a:gsLst>
              <a:gs pos="0">
                <a:srgbClr val="220011"/>
              </a:gs>
              <a:gs pos="50000">
                <a:srgbClr val="660033"/>
              </a:gs>
              <a:gs pos="100000">
                <a:srgbClr val="220011"/>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8783640" y="444600"/>
            <a:ext cx="360360" cy="3152880"/>
          </a:xfrm>
          <a:prstGeom prst="rect">
            <a:avLst/>
          </a:prstGeom>
          <a:gradFill rotWithShape="0">
            <a:gsLst>
              <a:gs pos="0">
                <a:srgbClr val="220011"/>
              </a:gs>
              <a:gs pos="50000">
                <a:srgbClr val="9c004e"/>
              </a:gs>
              <a:gs pos="100000">
                <a:srgbClr val="220011"/>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p:nvPr/>
        </p:nvSpPr>
        <p:spPr>
          <a:xfrm>
            <a:off x="0" y="0"/>
            <a:ext cx="9144360" cy="2134080"/>
          </a:xfrm>
          <a:custGeom>
            <a:avLst/>
            <a:gdLst/>
            <a:ahLst/>
            <a:rect l="0" t="0" r="r" b="b"/>
            <a:pathLst>
              <a:path w="25401" h="5928">
                <a:moveTo>
                  <a:pt x="0" y="0"/>
                </a:moveTo>
                <a:lnTo>
                  <a:pt x="25401" y="0"/>
                </a:lnTo>
                <a:lnTo>
                  <a:pt x="25401" y="4207"/>
                </a:lnTo>
                <a:lnTo>
                  <a:pt x="25237" y="4260"/>
                </a:lnTo>
                <a:lnTo>
                  <a:pt x="25074" y="4298"/>
                </a:lnTo>
                <a:lnTo>
                  <a:pt x="24911" y="4322"/>
                </a:lnTo>
                <a:lnTo>
                  <a:pt x="24708" y="4341"/>
                </a:lnTo>
                <a:lnTo>
                  <a:pt x="24303" y="4351"/>
                </a:lnTo>
                <a:lnTo>
                  <a:pt x="23857" y="4332"/>
                </a:lnTo>
                <a:lnTo>
                  <a:pt x="23328" y="4289"/>
                </a:lnTo>
                <a:lnTo>
                  <a:pt x="22799" y="4217"/>
                </a:lnTo>
                <a:lnTo>
                  <a:pt x="22230" y="4135"/>
                </a:lnTo>
                <a:lnTo>
                  <a:pt x="21622" y="4044"/>
                </a:lnTo>
                <a:lnTo>
                  <a:pt x="20321" y="3857"/>
                </a:lnTo>
                <a:lnTo>
                  <a:pt x="19669" y="3776"/>
                </a:lnTo>
                <a:lnTo>
                  <a:pt x="18937" y="3690"/>
                </a:lnTo>
                <a:lnTo>
                  <a:pt x="18205" y="3642"/>
                </a:lnTo>
                <a:lnTo>
                  <a:pt x="17434" y="3608"/>
                </a:lnTo>
                <a:lnTo>
                  <a:pt x="16662" y="3608"/>
                </a:lnTo>
                <a:lnTo>
                  <a:pt x="15890" y="3642"/>
                </a:lnTo>
                <a:lnTo>
                  <a:pt x="15485" y="3671"/>
                </a:lnTo>
                <a:lnTo>
                  <a:pt x="15039" y="3723"/>
                </a:lnTo>
                <a:lnTo>
                  <a:pt x="14590" y="3776"/>
                </a:lnTo>
                <a:lnTo>
                  <a:pt x="14105" y="3838"/>
                </a:lnTo>
                <a:lnTo>
                  <a:pt x="13086" y="4001"/>
                </a:lnTo>
                <a:lnTo>
                  <a:pt x="11987" y="4188"/>
                </a:lnTo>
                <a:lnTo>
                  <a:pt x="10850" y="4394"/>
                </a:lnTo>
                <a:lnTo>
                  <a:pt x="9673" y="4620"/>
                </a:lnTo>
                <a:lnTo>
                  <a:pt x="8491" y="4845"/>
                </a:lnTo>
                <a:lnTo>
                  <a:pt x="7354" y="5075"/>
                </a:lnTo>
                <a:lnTo>
                  <a:pt x="6176" y="5291"/>
                </a:lnTo>
                <a:lnTo>
                  <a:pt x="5079" y="5487"/>
                </a:lnTo>
                <a:lnTo>
                  <a:pt x="3981" y="5650"/>
                </a:lnTo>
                <a:lnTo>
                  <a:pt x="3496" y="5722"/>
                </a:lnTo>
                <a:lnTo>
                  <a:pt x="3006" y="5784"/>
                </a:lnTo>
                <a:lnTo>
                  <a:pt x="2517" y="5847"/>
                </a:lnTo>
                <a:lnTo>
                  <a:pt x="2072" y="5890"/>
                </a:lnTo>
                <a:lnTo>
                  <a:pt x="1666" y="5909"/>
                </a:lnTo>
                <a:lnTo>
                  <a:pt x="1260" y="5928"/>
                </a:lnTo>
                <a:lnTo>
                  <a:pt x="895" y="5928"/>
                </a:lnTo>
                <a:lnTo>
                  <a:pt x="568" y="5919"/>
                </a:lnTo>
                <a:lnTo>
                  <a:pt x="286" y="5890"/>
                </a:lnTo>
                <a:lnTo>
                  <a:pt x="0" y="5837"/>
                </a:lnTo>
                <a:lnTo>
                  <a:pt x="0" y="0"/>
                </a:lnTo>
                <a:close/>
              </a:path>
            </a:pathLst>
          </a:custGeom>
          <a:gradFill rotWithShape="0">
            <a:gsLst>
              <a:gs pos="0">
                <a:srgbClr val="220011"/>
              </a:gs>
              <a:gs pos="50000">
                <a:srgbClr val="660033"/>
              </a:gs>
              <a:gs pos="100000">
                <a:srgbClr val="220011"/>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p:nvPr/>
        </p:nvSpPr>
        <p:spPr>
          <a:xfrm>
            <a:off x="0" y="1163520"/>
            <a:ext cx="9144360" cy="5694840"/>
          </a:xfrm>
          <a:custGeom>
            <a:avLst/>
            <a:gdLst/>
            <a:ahLst/>
            <a:rect l="0" t="0" r="r" b="b"/>
            <a:pathLst>
              <a:path w="25401" h="15819">
                <a:moveTo>
                  <a:pt x="0" y="2114"/>
                </a:moveTo>
                <a:lnTo>
                  <a:pt x="855" y="2173"/>
                </a:lnTo>
                <a:lnTo>
                  <a:pt x="1666" y="2205"/>
                </a:lnTo>
                <a:lnTo>
                  <a:pt x="2477" y="2205"/>
                </a:lnTo>
                <a:lnTo>
                  <a:pt x="3293" y="2141"/>
                </a:lnTo>
                <a:lnTo>
                  <a:pt x="4876" y="1986"/>
                </a:lnTo>
                <a:lnTo>
                  <a:pt x="6379" y="1768"/>
                </a:lnTo>
                <a:lnTo>
                  <a:pt x="7843" y="1481"/>
                </a:lnTo>
                <a:lnTo>
                  <a:pt x="9183" y="1198"/>
                </a:lnTo>
                <a:lnTo>
                  <a:pt x="10444" y="915"/>
                </a:lnTo>
                <a:lnTo>
                  <a:pt x="11622" y="692"/>
                </a:lnTo>
                <a:lnTo>
                  <a:pt x="11661" y="692"/>
                </a:lnTo>
                <a:lnTo>
                  <a:pt x="11745" y="665"/>
                </a:lnTo>
                <a:lnTo>
                  <a:pt x="11868" y="665"/>
                </a:lnTo>
                <a:lnTo>
                  <a:pt x="12071" y="633"/>
                </a:lnTo>
                <a:lnTo>
                  <a:pt x="12517" y="569"/>
                </a:lnTo>
                <a:lnTo>
                  <a:pt x="13086" y="473"/>
                </a:lnTo>
                <a:lnTo>
                  <a:pt x="13655" y="378"/>
                </a:lnTo>
                <a:lnTo>
                  <a:pt x="14184" y="318"/>
                </a:lnTo>
                <a:lnTo>
                  <a:pt x="14590" y="255"/>
                </a:lnTo>
                <a:lnTo>
                  <a:pt x="14753" y="223"/>
                </a:lnTo>
                <a:lnTo>
                  <a:pt x="14876" y="191"/>
                </a:lnTo>
                <a:lnTo>
                  <a:pt x="15524" y="95"/>
                </a:lnTo>
                <a:lnTo>
                  <a:pt x="16177" y="31"/>
                </a:lnTo>
                <a:lnTo>
                  <a:pt x="16909" y="0"/>
                </a:lnTo>
                <a:lnTo>
                  <a:pt x="17597" y="31"/>
                </a:lnTo>
                <a:lnTo>
                  <a:pt x="18368" y="95"/>
                </a:lnTo>
                <a:lnTo>
                  <a:pt x="19100" y="159"/>
                </a:lnTo>
                <a:lnTo>
                  <a:pt x="20564" y="378"/>
                </a:lnTo>
                <a:lnTo>
                  <a:pt x="22028" y="633"/>
                </a:lnTo>
                <a:lnTo>
                  <a:pt x="22676" y="756"/>
                </a:lnTo>
                <a:lnTo>
                  <a:pt x="23328" y="852"/>
                </a:lnTo>
                <a:lnTo>
                  <a:pt x="23937" y="947"/>
                </a:lnTo>
                <a:lnTo>
                  <a:pt x="24466" y="1043"/>
                </a:lnTo>
                <a:lnTo>
                  <a:pt x="24955" y="1070"/>
                </a:lnTo>
                <a:lnTo>
                  <a:pt x="25401" y="1102"/>
                </a:lnTo>
                <a:lnTo>
                  <a:pt x="25401" y="15819"/>
                </a:lnTo>
                <a:lnTo>
                  <a:pt x="0" y="15819"/>
                </a:lnTo>
                <a:lnTo>
                  <a:pt x="0" y="15787"/>
                </a:lnTo>
                <a:lnTo>
                  <a:pt x="0" y="15660"/>
                </a:lnTo>
                <a:lnTo>
                  <a:pt x="0" y="15473"/>
                </a:lnTo>
                <a:lnTo>
                  <a:pt x="0" y="15222"/>
                </a:lnTo>
                <a:lnTo>
                  <a:pt x="0" y="14908"/>
                </a:lnTo>
                <a:lnTo>
                  <a:pt x="0" y="14557"/>
                </a:lnTo>
                <a:lnTo>
                  <a:pt x="0" y="14151"/>
                </a:lnTo>
                <a:lnTo>
                  <a:pt x="0" y="13677"/>
                </a:lnTo>
                <a:lnTo>
                  <a:pt x="0" y="13172"/>
                </a:lnTo>
                <a:lnTo>
                  <a:pt x="0" y="12638"/>
                </a:lnTo>
                <a:lnTo>
                  <a:pt x="0" y="11471"/>
                </a:lnTo>
                <a:lnTo>
                  <a:pt x="0" y="10240"/>
                </a:lnTo>
                <a:lnTo>
                  <a:pt x="0" y="8983"/>
                </a:lnTo>
                <a:lnTo>
                  <a:pt x="0" y="7688"/>
                </a:lnTo>
                <a:lnTo>
                  <a:pt x="0" y="6462"/>
                </a:lnTo>
                <a:lnTo>
                  <a:pt x="0" y="5296"/>
                </a:lnTo>
                <a:lnTo>
                  <a:pt x="0" y="4758"/>
                </a:lnTo>
                <a:lnTo>
                  <a:pt x="0" y="4257"/>
                </a:lnTo>
                <a:lnTo>
                  <a:pt x="0" y="3782"/>
                </a:lnTo>
                <a:lnTo>
                  <a:pt x="0" y="3372"/>
                </a:lnTo>
                <a:lnTo>
                  <a:pt x="0" y="3025"/>
                </a:lnTo>
                <a:lnTo>
                  <a:pt x="0" y="2711"/>
                </a:lnTo>
                <a:lnTo>
                  <a:pt x="0" y="2460"/>
                </a:lnTo>
                <a:lnTo>
                  <a:pt x="0" y="2269"/>
                </a:lnTo>
                <a:lnTo>
                  <a:pt x="0" y="2141"/>
                </a:lnTo>
                <a:lnTo>
                  <a:pt x="0" y="2114"/>
                </a:lnTo>
                <a:close/>
              </a:path>
            </a:pathLst>
          </a:custGeom>
          <a:gradFill rotWithShape="0">
            <a:gsLst>
              <a:gs pos="0">
                <a:srgbClr val="220011"/>
              </a:gs>
              <a:gs pos="50000">
                <a:srgbClr val="660033"/>
              </a:gs>
              <a:gs pos="100000">
                <a:srgbClr val="220011"/>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0" y="291960"/>
            <a:ext cx="9144360" cy="854280"/>
          </a:xfrm>
          <a:custGeom>
            <a:avLst/>
            <a:gdLst/>
            <a:ahLst/>
            <a:rect l="0" t="0" r="r" b="b"/>
            <a:pathLst>
              <a:path w="25401" h="2373">
                <a:moveTo>
                  <a:pt x="0" y="647"/>
                </a:moveTo>
                <a:lnTo>
                  <a:pt x="0" y="1753"/>
                </a:lnTo>
                <a:lnTo>
                  <a:pt x="286" y="1799"/>
                </a:lnTo>
                <a:lnTo>
                  <a:pt x="568" y="1836"/>
                </a:lnTo>
                <a:lnTo>
                  <a:pt x="1300" y="1901"/>
                </a:lnTo>
                <a:lnTo>
                  <a:pt x="2155" y="1957"/>
                </a:lnTo>
                <a:lnTo>
                  <a:pt x="3130" y="1998"/>
                </a:lnTo>
                <a:lnTo>
                  <a:pt x="3659" y="2012"/>
                </a:lnTo>
                <a:lnTo>
                  <a:pt x="4228" y="2017"/>
                </a:lnTo>
                <a:lnTo>
                  <a:pt x="4796" y="2021"/>
                </a:lnTo>
                <a:lnTo>
                  <a:pt x="5365" y="2017"/>
                </a:lnTo>
                <a:lnTo>
                  <a:pt x="5974" y="2012"/>
                </a:lnTo>
                <a:lnTo>
                  <a:pt x="6582" y="1998"/>
                </a:lnTo>
                <a:lnTo>
                  <a:pt x="7195" y="1975"/>
                </a:lnTo>
                <a:lnTo>
                  <a:pt x="7803" y="1943"/>
                </a:lnTo>
                <a:lnTo>
                  <a:pt x="8130" y="1920"/>
                </a:lnTo>
                <a:lnTo>
                  <a:pt x="8451" y="1901"/>
                </a:lnTo>
                <a:lnTo>
                  <a:pt x="9183" y="1836"/>
                </a:lnTo>
                <a:lnTo>
                  <a:pt x="9955" y="1753"/>
                </a:lnTo>
                <a:lnTo>
                  <a:pt x="10726" y="1665"/>
                </a:lnTo>
                <a:lnTo>
                  <a:pt x="11582" y="1564"/>
                </a:lnTo>
                <a:lnTo>
                  <a:pt x="12437" y="1457"/>
                </a:lnTo>
                <a:lnTo>
                  <a:pt x="14144" y="1231"/>
                </a:lnTo>
                <a:lnTo>
                  <a:pt x="14995" y="1123"/>
                </a:lnTo>
                <a:lnTo>
                  <a:pt x="15851" y="1022"/>
                </a:lnTo>
                <a:lnTo>
                  <a:pt x="16662" y="924"/>
                </a:lnTo>
                <a:lnTo>
                  <a:pt x="17478" y="846"/>
                </a:lnTo>
                <a:lnTo>
                  <a:pt x="18205" y="781"/>
                </a:lnTo>
                <a:lnTo>
                  <a:pt x="18571" y="753"/>
                </a:lnTo>
                <a:lnTo>
                  <a:pt x="18937" y="735"/>
                </a:lnTo>
                <a:lnTo>
                  <a:pt x="19263" y="716"/>
                </a:lnTo>
                <a:lnTo>
                  <a:pt x="19589" y="707"/>
                </a:lnTo>
                <a:lnTo>
                  <a:pt x="19872" y="702"/>
                </a:lnTo>
                <a:lnTo>
                  <a:pt x="20158" y="707"/>
                </a:lnTo>
                <a:lnTo>
                  <a:pt x="20440" y="716"/>
                </a:lnTo>
                <a:lnTo>
                  <a:pt x="20687" y="739"/>
                </a:lnTo>
                <a:lnTo>
                  <a:pt x="20930" y="763"/>
                </a:lnTo>
                <a:lnTo>
                  <a:pt x="21172" y="795"/>
                </a:lnTo>
                <a:lnTo>
                  <a:pt x="21419" y="841"/>
                </a:lnTo>
                <a:lnTo>
                  <a:pt x="21662" y="887"/>
                </a:lnTo>
                <a:lnTo>
                  <a:pt x="21865" y="943"/>
                </a:lnTo>
                <a:lnTo>
                  <a:pt x="22067" y="994"/>
                </a:lnTo>
                <a:lnTo>
                  <a:pt x="22473" y="1123"/>
                </a:lnTo>
                <a:lnTo>
                  <a:pt x="22883" y="1268"/>
                </a:lnTo>
                <a:lnTo>
                  <a:pt x="23205" y="1420"/>
                </a:lnTo>
                <a:lnTo>
                  <a:pt x="23531" y="1568"/>
                </a:lnTo>
                <a:lnTo>
                  <a:pt x="23857" y="1725"/>
                </a:lnTo>
                <a:lnTo>
                  <a:pt x="24140" y="1869"/>
                </a:lnTo>
                <a:lnTo>
                  <a:pt x="24386" y="2003"/>
                </a:lnTo>
                <a:lnTo>
                  <a:pt x="24629" y="2123"/>
                </a:lnTo>
                <a:lnTo>
                  <a:pt x="24708" y="2179"/>
                </a:lnTo>
                <a:lnTo>
                  <a:pt x="24832" y="2225"/>
                </a:lnTo>
                <a:lnTo>
                  <a:pt x="24955" y="2271"/>
                </a:lnTo>
                <a:lnTo>
                  <a:pt x="25035" y="2308"/>
                </a:lnTo>
                <a:lnTo>
                  <a:pt x="25114" y="2331"/>
                </a:lnTo>
                <a:lnTo>
                  <a:pt x="25237" y="2354"/>
                </a:lnTo>
                <a:lnTo>
                  <a:pt x="25321" y="2364"/>
                </a:lnTo>
                <a:lnTo>
                  <a:pt x="25401" y="2373"/>
                </a:lnTo>
                <a:lnTo>
                  <a:pt x="25401" y="647"/>
                </a:lnTo>
                <a:lnTo>
                  <a:pt x="25035" y="504"/>
                </a:lnTo>
                <a:lnTo>
                  <a:pt x="24589" y="369"/>
                </a:lnTo>
                <a:lnTo>
                  <a:pt x="24060" y="245"/>
                </a:lnTo>
                <a:lnTo>
                  <a:pt x="23774" y="189"/>
                </a:lnTo>
                <a:lnTo>
                  <a:pt x="23452" y="138"/>
                </a:lnTo>
                <a:lnTo>
                  <a:pt x="23125" y="97"/>
                </a:lnTo>
                <a:lnTo>
                  <a:pt x="22760" y="64"/>
                </a:lnTo>
                <a:lnTo>
                  <a:pt x="22394" y="32"/>
                </a:lnTo>
                <a:lnTo>
                  <a:pt x="21988" y="9"/>
                </a:lnTo>
                <a:lnTo>
                  <a:pt x="21538" y="0"/>
                </a:lnTo>
                <a:lnTo>
                  <a:pt x="21093" y="0"/>
                </a:lnTo>
                <a:lnTo>
                  <a:pt x="20604" y="4"/>
                </a:lnTo>
                <a:lnTo>
                  <a:pt x="20119" y="27"/>
                </a:lnTo>
                <a:lnTo>
                  <a:pt x="19832" y="41"/>
                </a:lnTo>
                <a:lnTo>
                  <a:pt x="19550" y="64"/>
                </a:lnTo>
                <a:lnTo>
                  <a:pt x="19263" y="92"/>
                </a:lnTo>
                <a:lnTo>
                  <a:pt x="18981" y="124"/>
                </a:lnTo>
                <a:lnTo>
                  <a:pt x="18329" y="198"/>
                </a:lnTo>
                <a:lnTo>
                  <a:pt x="17636" y="291"/>
                </a:lnTo>
                <a:lnTo>
                  <a:pt x="16909" y="397"/>
                </a:lnTo>
                <a:lnTo>
                  <a:pt x="16177" y="508"/>
                </a:lnTo>
                <a:lnTo>
                  <a:pt x="15401" y="624"/>
                </a:lnTo>
                <a:lnTo>
                  <a:pt x="14629" y="749"/>
                </a:lnTo>
                <a:lnTo>
                  <a:pt x="13858" y="874"/>
                </a:lnTo>
                <a:lnTo>
                  <a:pt x="13086" y="989"/>
                </a:lnTo>
                <a:lnTo>
                  <a:pt x="12314" y="1100"/>
                </a:lnTo>
                <a:lnTo>
                  <a:pt x="11582" y="1203"/>
                </a:lnTo>
                <a:lnTo>
                  <a:pt x="10810" y="1291"/>
                </a:lnTo>
                <a:lnTo>
                  <a:pt x="10118" y="1365"/>
                </a:lnTo>
                <a:lnTo>
                  <a:pt x="9752" y="1393"/>
                </a:lnTo>
                <a:lnTo>
                  <a:pt x="9426" y="1420"/>
                </a:lnTo>
                <a:lnTo>
                  <a:pt x="9104" y="1439"/>
                </a:lnTo>
                <a:lnTo>
                  <a:pt x="8778" y="1453"/>
                </a:lnTo>
                <a:lnTo>
                  <a:pt x="8130" y="1462"/>
                </a:lnTo>
                <a:lnTo>
                  <a:pt x="7517" y="1453"/>
                </a:lnTo>
                <a:lnTo>
                  <a:pt x="6869" y="1430"/>
                </a:lnTo>
                <a:lnTo>
                  <a:pt x="6260" y="1393"/>
                </a:lnTo>
                <a:lnTo>
                  <a:pt x="5608" y="1342"/>
                </a:lnTo>
                <a:lnTo>
                  <a:pt x="4999" y="1286"/>
                </a:lnTo>
                <a:lnTo>
                  <a:pt x="4391" y="1221"/>
                </a:lnTo>
                <a:lnTo>
                  <a:pt x="3818" y="1151"/>
                </a:lnTo>
                <a:lnTo>
                  <a:pt x="2680" y="998"/>
                </a:lnTo>
                <a:lnTo>
                  <a:pt x="1666" y="855"/>
                </a:lnTo>
                <a:lnTo>
                  <a:pt x="1221" y="790"/>
                </a:lnTo>
                <a:lnTo>
                  <a:pt x="771" y="735"/>
                </a:lnTo>
                <a:lnTo>
                  <a:pt x="365" y="684"/>
                </a:lnTo>
                <a:lnTo>
                  <a:pt x="0" y="647"/>
                </a:lnTo>
                <a:close/>
              </a:path>
            </a:pathLst>
          </a:custGeom>
          <a:gradFill rotWithShape="0">
            <a:gsLst>
              <a:gs pos="0">
                <a:srgbClr val="660033"/>
              </a:gs>
              <a:gs pos="50000">
                <a:srgbClr val="220011"/>
              </a:gs>
              <a:gs pos="100000">
                <a:srgbClr val="66003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p:nvPr/>
        </p:nvSpPr>
        <p:spPr>
          <a:xfrm>
            <a:off x="0" y="2405160"/>
            <a:ext cx="9144360" cy="1070280"/>
          </a:xfrm>
          <a:custGeom>
            <a:avLst/>
            <a:gdLst/>
            <a:ahLst/>
            <a:rect l="0" t="0" r="r" b="b"/>
            <a:pathLst>
              <a:path w="25401" h="2973">
                <a:moveTo>
                  <a:pt x="0" y="1026"/>
                </a:moveTo>
                <a:lnTo>
                  <a:pt x="0" y="1767"/>
                </a:lnTo>
                <a:lnTo>
                  <a:pt x="202" y="1819"/>
                </a:lnTo>
                <a:lnTo>
                  <a:pt x="445" y="1885"/>
                </a:lnTo>
                <a:lnTo>
                  <a:pt x="771" y="1965"/>
                </a:lnTo>
                <a:lnTo>
                  <a:pt x="1097" y="2031"/>
                </a:lnTo>
                <a:lnTo>
                  <a:pt x="1869" y="2195"/>
                </a:lnTo>
                <a:lnTo>
                  <a:pt x="2724" y="2379"/>
                </a:lnTo>
                <a:lnTo>
                  <a:pt x="3575" y="2544"/>
                </a:lnTo>
                <a:lnTo>
                  <a:pt x="4391" y="2690"/>
                </a:lnTo>
                <a:lnTo>
                  <a:pt x="5079" y="2808"/>
                </a:lnTo>
                <a:lnTo>
                  <a:pt x="5405" y="2855"/>
                </a:lnTo>
                <a:lnTo>
                  <a:pt x="5647" y="2888"/>
                </a:lnTo>
                <a:lnTo>
                  <a:pt x="5850" y="2921"/>
                </a:lnTo>
                <a:lnTo>
                  <a:pt x="5974" y="2940"/>
                </a:lnTo>
                <a:lnTo>
                  <a:pt x="6013" y="2954"/>
                </a:lnTo>
                <a:lnTo>
                  <a:pt x="6053" y="2973"/>
                </a:lnTo>
                <a:lnTo>
                  <a:pt x="6013" y="2973"/>
                </a:lnTo>
                <a:lnTo>
                  <a:pt x="5974" y="2954"/>
                </a:lnTo>
                <a:lnTo>
                  <a:pt x="5974" y="2907"/>
                </a:lnTo>
                <a:lnTo>
                  <a:pt x="6013" y="2874"/>
                </a:lnTo>
                <a:lnTo>
                  <a:pt x="6097" y="2841"/>
                </a:lnTo>
                <a:lnTo>
                  <a:pt x="6260" y="2789"/>
                </a:lnTo>
                <a:lnTo>
                  <a:pt x="6503" y="2723"/>
                </a:lnTo>
                <a:lnTo>
                  <a:pt x="6785" y="2657"/>
                </a:lnTo>
                <a:lnTo>
                  <a:pt x="7195" y="2591"/>
                </a:lnTo>
                <a:lnTo>
                  <a:pt x="7680" y="2492"/>
                </a:lnTo>
                <a:lnTo>
                  <a:pt x="8288" y="2379"/>
                </a:lnTo>
                <a:lnTo>
                  <a:pt x="8981" y="2228"/>
                </a:lnTo>
                <a:lnTo>
                  <a:pt x="9752" y="2064"/>
                </a:lnTo>
                <a:lnTo>
                  <a:pt x="10568" y="1885"/>
                </a:lnTo>
                <a:lnTo>
                  <a:pt x="11419" y="1701"/>
                </a:lnTo>
                <a:lnTo>
                  <a:pt x="13249" y="1323"/>
                </a:lnTo>
                <a:lnTo>
                  <a:pt x="15119" y="956"/>
                </a:lnTo>
                <a:lnTo>
                  <a:pt x="16014" y="810"/>
                </a:lnTo>
                <a:lnTo>
                  <a:pt x="16909" y="659"/>
                </a:lnTo>
                <a:lnTo>
                  <a:pt x="17720" y="546"/>
                </a:lnTo>
                <a:lnTo>
                  <a:pt x="18492" y="461"/>
                </a:lnTo>
                <a:lnTo>
                  <a:pt x="19184" y="414"/>
                </a:lnTo>
                <a:lnTo>
                  <a:pt x="19792" y="395"/>
                </a:lnTo>
                <a:lnTo>
                  <a:pt x="20361" y="428"/>
                </a:lnTo>
                <a:lnTo>
                  <a:pt x="20890" y="494"/>
                </a:lnTo>
                <a:lnTo>
                  <a:pt x="21375" y="612"/>
                </a:lnTo>
                <a:lnTo>
                  <a:pt x="21825" y="758"/>
                </a:lnTo>
                <a:lnTo>
                  <a:pt x="22270" y="923"/>
                </a:lnTo>
                <a:lnTo>
                  <a:pt x="22676" y="1106"/>
                </a:lnTo>
                <a:lnTo>
                  <a:pt x="23408" y="1536"/>
                </a:lnTo>
                <a:lnTo>
                  <a:pt x="24020" y="1951"/>
                </a:lnTo>
                <a:lnTo>
                  <a:pt x="24303" y="2148"/>
                </a:lnTo>
                <a:lnTo>
                  <a:pt x="24545" y="2313"/>
                </a:lnTo>
                <a:lnTo>
                  <a:pt x="24792" y="2459"/>
                </a:lnTo>
                <a:lnTo>
                  <a:pt x="25035" y="2591"/>
                </a:lnTo>
                <a:lnTo>
                  <a:pt x="25237" y="2676"/>
                </a:lnTo>
                <a:lnTo>
                  <a:pt x="25401" y="2709"/>
                </a:lnTo>
                <a:lnTo>
                  <a:pt x="25401" y="956"/>
                </a:lnTo>
                <a:lnTo>
                  <a:pt x="24871" y="810"/>
                </a:lnTo>
                <a:lnTo>
                  <a:pt x="24179" y="626"/>
                </a:lnTo>
                <a:lnTo>
                  <a:pt x="23368" y="461"/>
                </a:lnTo>
                <a:lnTo>
                  <a:pt x="22433" y="296"/>
                </a:lnTo>
                <a:lnTo>
                  <a:pt x="21375" y="150"/>
                </a:lnTo>
                <a:lnTo>
                  <a:pt x="20282" y="51"/>
                </a:lnTo>
                <a:lnTo>
                  <a:pt x="19669" y="18"/>
                </a:lnTo>
                <a:lnTo>
                  <a:pt x="19060" y="0"/>
                </a:lnTo>
                <a:lnTo>
                  <a:pt x="18452" y="0"/>
                </a:lnTo>
                <a:lnTo>
                  <a:pt x="17799" y="18"/>
                </a:lnTo>
                <a:lnTo>
                  <a:pt x="17112" y="65"/>
                </a:lnTo>
                <a:lnTo>
                  <a:pt x="16380" y="131"/>
                </a:lnTo>
                <a:lnTo>
                  <a:pt x="15608" y="230"/>
                </a:lnTo>
                <a:lnTo>
                  <a:pt x="14753" y="348"/>
                </a:lnTo>
                <a:lnTo>
                  <a:pt x="13898" y="480"/>
                </a:lnTo>
                <a:lnTo>
                  <a:pt x="12963" y="626"/>
                </a:lnTo>
                <a:lnTo>
                  <a:pt x="11137" y="956"/>
                </a:lnTo>
                <a:lnTo>
                  <a:pt x="9346" y="1271"/>
                </a:lnTo>
                <a:lnTo>
                  <a:pt x="8451" y="1422"/>
                </a:lnTo>
                <a:lnTo>
                  <a:pt x="7640" y="1555"/>
                </a:lnTo>
                <a:lnTo>
                  <a:pt x="6829" y="1687"/>
                </a:lnTo>
                <a:lnTo>
                  <a:pt x="6097" y="1786"/>
                </a:lnTo>
                <a:lnTo>
                  <a:pt x="5445" y="1852"/>
                </a:lnTo>
                <a:lnTo>
                  <a:pt x="4836" y="1899"/>
                </a:lnTo>
                <a:lnTo>
                  <a:pt x="4307" y="1918"/>
                </a:lnTo>
                <a:lnTo>
                  <a:pt x="3818" y="1918"/>
                </a:lnTo>
                <a:lnTo>
                  <a:pt x="3372" y="1899"/>
                </a:lnTo>
                <a:lnTo>
                  <a:pt x="2967" y="1866"/>
                </a:lnTo>
                <a:lnTo>
                  <a:pt x="2275" y="1753"/>
                </a:lnTo>
                <a:lnTo>
                  <a:pt x="1706" y="1588"/>
                </a:lnTo>
                <a:lnTo>
                  <a:pt x="1177" y="1422"/>
                </a:lnTo>
                <a:lnTo>
                  <a:pt x="771" y="1257"/>
                </a:lnTo>
                <a:lnTo>
                  <a:pt x="365" y="1125"/>
                </a:lnTo>
                <a:lnTo>
                  <a:pt x="0" y="1026"/>
                </a:lnTo>
                <a:close/>
              </a:path>
            </a:pathLst>
          </a:custGeom>
          <a:gradFill rotWithShape="0">
            <a:gsLst>
              <a:gs pos="0">
                <a:srgbClr val="660033"/>
              </a:gs>
              <a:gs pos="50000">
                <a:srgbClr val="56002b"/>
              </a:gs>
              <a:gs pos="100000">
                <a:srgbClr val="66003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2476440" y="1522440"/>
            <a:ext cx="6667920" cy="5335920"/>
          </a:xfrm>
          <a:custGeom>
            <a:avLst/>
            <a:gdLst/>
            <a:ahLst/>
            <a:rect l="0" t="0" r="r" b="b"/>
            <a:pathLst>
              <a:path w="18522" h="14822">
                <a:moveTo>
                  <a:pt x="0" y="14822"/>
                </a:moveTo>
                <a:lnTo>
                  <a:pt x="39" y="14560"/>
                </a:lnTo>
                <a:lnTo>
                  <a:pt x="118" y="14259"/>
                </a:lnTo>
                <a:lnTo>
                  <a:pt x="163" y="13931"/>
                </a:lnTo>
                <a:lnTo>
                  <a:pt x="242" y="13535"/>
                </a:lnTo>
                <a:lnTo>
                  <a:pt x="282" y="13140"/>
                </a:lnTo>
                <a:lnTo>
                  <a:pt x="365" y="12683"/>
                </a:lnTo>
                <a:lnTo>
                  <a:pt x="528" y="11692"/>
                </a:lnTo>
                <a:lnTo>
                  <a:pt x="687" y="10639"/>
                </a:lnTo>
                <a:lnTo>
                  <a:pt x="894" y="9486"/>
                </a:lnTo>
                <a:lnTo>
                  <a:pt x="1136" y="8333"/>
                </a:lnTo>
                <a:lnTo>
                  <a:pt x="1379" y="7112"/>
                </a:lnTo>
                <a:lnTo>
                  <a:pt x="1665" y="5959"/>
                </a:lnTo>
                <a:lnTo>
                  <a:pt x="1987" y="4806"/>
                </a:lnTo>
                <a:lnTo>
                  <a:pt x="2313" y="3720"/>
                </a:lnTo>
                <a:lnTo>
                  <a:pt x="2718" y="2734"/>
                </a:lnTo>
                <a:lnTo>
                  <a:pt x="2921" y="2272"/>
                </a:lnTo>
                <a:lnTo>
                  <a:pt x="3128" y="1877"/>
                </a:lnTo>
                <a:lnTo>
                  <a:pt x="3371" y="1481"/>
                </a:lnTo>
                <a:lnTo>
                  <a:pt x="3613" y="1119"/>
                </a:lnTo>
                <a:lnTo>
                  <a:pt x="3855" y="824"/>
                </a:lnTo>
                <a:lnTo>
                  <a:pt x="4102" y="557"/>
                </a:lnTo>
                <a:lnTo>
                  <a:pt x="4384" y="362"/>
                </a:lnTo>
                <a:lnTo>
                  <a:pt x="4671" y="195"/>
                </a:lnTo>
                <a:lnTo>
                  <a:pt x="4998" y="100"/>
                </a:lnTo>
                <a:lnTo>
                  <a:pt x="5319" y="33"/>
                </a:lnTo>
                <a:lnTo>
                  <a:pt x="5685" y="0"/>
                </a:lnTo>
                <a:lnTo>
                  <a:pt x="6051" y="0"/>
                </a:lnTo>
                <a:lnTo>
                  <a:pt x="6456" y="66"/>
                </a:lnTo>
                <a:lnTo>
                  <a:pt x="6906" y="133"/>
                </a:lnTo>
                <a:lnTo>
                  <a:pt x="7800" y="395"/>
                </a:lnTo>
                <a:lnTo>
                  <a:pt x="8774" y="757"/>
                </a:lnTo>
                <a:lnTo>
                  <a:pt x="9788" y="1186"/>
                </a:lnTo>
                <a:lnTo>
                  <a:pt x="10845" y="1676"/>
                </a:lnTo>
                <a:lnTo>
                  <a:pt x="11903" y="2239"/>
                </a:lnTo>
                <a:lnTo>
                  <a:pt x="12916" y="2829"/>
                </a:lnTo>
                <a:lnTo>
                  <a:pt x="13931" y="3458"/>
                </a:lnTo>
                <a:lnTo>
                  <a:pt x="14909" y="4049"/>
                </a:lnTo>
                <a:lnTo>
                  <a:pt x="15799" y="4644"/>
                </a:lnTo>
                <a:lnTo>
                  <a:pt x="16654" y="5169"/>
                </a:lnTo>
                <a:lnTo>
                  <a:pt x="17385" y="5664"/>
                </a:lnTo>
                <a:lnTo>
                  <a:pt x="18033" y="6059"/>
                </a:lnTo>
                <a:lnTo>
                  <a:pt x="18522" y="6355"/>
                </a:lnTo>
                <a:lnTo>
                  <a:pt x="18522" y="8466"/>
                </a:lnTo>
                <a:lnTo>
                  <a:pt x="18320" y="8366"/>
                </a:lnTo>
                <a:lnTo>
                  <a:pt x="18033" y="8199"/>
                </a:lnTo>
                <a:lnTo>
                  <a:pt x="17751" y="8038"/>
                </a:lnTo>
                <a:lnTo>
                  <a:pt x="17425" y="7837"/>
                </a:lnTo>
                <a:lnTo>
                  <a:pt x="16733" y="7346"/>
                </a:lnTo>
                <a:lnTo>
                  <a:pt x="15922" y="6750"/>
                </a:lnTo>
                <a:lnTo>
                  <a:pt x="15072" y="6093"/>
                </a:lnTo>
                <a:lnTo>
                  <a:pt x="14133" y="5402"/>
                </a:lnTo>
                <a:lnTo>
                  <a:pt x="13159" y="4678"/>
                </a:lnTo>
                <a:lnTo>
                  <a:pt x="12145" y="3954"/>
                </a:lnTo>
                <a:lnTo>
                  <a:pt x="11127" y="3258"/>
                </a:lnTo>
                <a:lnTo>
                  <a:pt x="10153" y="2601"/>
                </a:lnTo>
                <a:lnTo>
                  <a:pt x="9179" y="2010"/>
                </a:lnTo>
                <a:lnTo>
                  <a:pt x="8245" y="1514"/>
                </a:lnTo>
                <a:lnTo>
                  <a:pt x="7800" y="1314"/>
                </a:lnTo>
                <a:lnTo>
                  <a:pt x="7351" y="1152"/>
                </a:lnTo>
                <a:lnTo>
                  <a:pt x="6945" y="1019"/>
                </a:lnTo>
                <a:lnTo>
                  <a:pt x="6580" y="919"/>
                </a:lnTo>
                <a:lnTo>
                  <a:pt x="6214" y="857"/>
                </a:lnTo>
                <a:lnTo>
                  <a:pt x="5888" y="824"/>
                </a:lnTo>
                <a:lnTo>
                  <a:pt x="5566" y="857"/>
                </a:lnTo>
                <a:lnTo>
                  <a:pt x="5280" y="919"/>
                </a:lnTo>
                <a:lnTo>
                  <a:pt x="5037" y="1052"/>
                </a:lnTo>
                <a:lnTo>
                  <a:pt x="4790" y="1219"/>
                </a:lnTo>
                <a:lnTo>
                  <a:pt x="4547" y="1448"/>
                </a:lnTo>
                <a:lnTo>
                  <a:pt x="4344" y="1710"/>
                </a:lnTo>
                <a:lnTo>
                  <a:pt x="4142" y="2043"/>
                </a:lnTo>
                <a:lnTo>
                  <a:pt x="3979" y="2405"/>
                </a:lnTo>
                <a:lnTo>
                  <a:pt x="3816" y="2801"/>
                </a:lnTo>
                <a:lnTo>
                  <a:pt x="3653" y="3225"/>
                </a:lnTo>
                <a:lnTo>
                  <a:pt x="3371" y="4149"/>
                </a:lnTo>
                <a:lnTo>
                  <a:pt x="3084" y="5169"/>
                </a:lnTo>
                <a:lnTo>
                  <a:pt x="2881" y="6255"/>
                </a:lnTo>
                <a:lnTo>
                  <a:pt x="2679" y="7408"/>
                </a:lnTo>
                <a:lnTo>
                  <a:pt x="2516" y="8562"/>
                </a:lnTo>
                <a:lnTo>
                  <a:pt x="2397" y="9681"/>
                </a:lnTo>
                <a:lnTo>
                  <a:pt x="2234" y="10805"/>
                </a:lnTo>
                <a:lnTo>
                  <a:pt x="2110" y="11825"/>
                </a:lnTo>
                <a:lnTo>
                  <a:pt x="1987" y="12778"/>
                </a:lnTo>
                <a:lnTo>
                  <a:pt x="1908" y="13207"/>
                </a:lnTo>
                <a:lnTo>
                  <a:pt x="1828" y="13602"/>
                </a:lnTo>
                <a:lnTo>
                  <a:pt x="1784" y="13964"/>
                </a:lnTo>
                <a:lnTo>
                  <a:pt x="1705" y="14293"/>
                </a:lnTo>
                <a:lnTo>
                  <a:pt x="1621" y="14593"/>
                </a:lnTo>
                <a:lnTo>
                  <a:pt x="1542" y="14822"/>
                </a:lnTo>
                <a:lnTo>
                  <a:pt x="0" y="14822"/>
                </a:lnTo>
                <a:close/>
              </a:path>
            </a:pathLst>
          </a:custGeom>
          <a:gradFill rotWithShape="0">
            <a:gsLst>
              <a:gs pos="0">
                <a:srgbClr val="56002b"/>
              </a:gs>
              <a:gs pos="50000">
                <a:srgbClr val="660033"/>
              </a:gs>
              <a:gs pos="100000">
                <a:srgbClr val="56002b"/>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0" y="3443400"/>
            <a:ext cx="9144360" cy="3056400"/>
          </a:xfrm>
          <a:custGeom>
            <a:avLst/>
            <a:gdLst/>
            <a:ahLst/>
            <a:rect l="0" t="0" r="r" b="b"/>
            <a:pathLst>
              <a:path w="25401" h="8490">
                <a:moveTo>
                  <a:pt x="0" y="3520"/>
                </a:moveTo>
                <a:lnTo>
                  <a:pt x="0" y="4404"/>
                </a:lnTo>
                <a:lnTo>
                  <a:pt x="242" y="4593"/>
                </a:lnTo>
                <a:lnTo>
                  <a:pt x="529" y="4849"/>
                </a:lnTo>
                <a:lnTo>
                  <a:pt x="855" y="5134"/>
                </a:lnTo>
                <a:lnTo>
                  <a:pt x="1221" y="5449"/>
                </a:lnTo>
                <a:lnTo>
                  <a:pt x="2032" y="6179"/>
                </a:lnTo>
                <a:lnTo>
                  <a:pt x="2927" y="6909"/>
                </a:lnTo>
                <a:lnTo>
                  <a:pt x="3412" y="7258"/>
                </a:lnTo>
                <a:lnTo>
                  <a:pt x="3901" y="7606"/>
                </a:lnTo>
                <a:lnTo>
                  <a:pt x="4431" y="7891"/>
                </a:lnTo>
                <a:lnTo>
                  <a:pt x="4915" y="8142"/>
                </a:lnTo>
                <a:lnTo>
                  <a:pt x="5405" y="8302"/>
                </a:lnTo>
                <a:lnTo>
                  <a:pt x="5894" y="8427"/>
                </a:lnTo>
                <a:lnTo>
                  <a:pt x="6379" y="8490"/>
                </a:lnTo>
                <a:lnTo>
                  <a:pt x="6829" y="8427"/>
                </a:lnTo>
                <a:lnTo>
                  <a:pt x="7071" y="8365"/>
                </a:lnTo>
                <a:lnTo>
                  <a:pt x="7274" y="8268"/>
                </a:lnTo>
                <a:lnTo>
                  <a:pt x="7720" y="7983"/>
                </a:lnTo>
                <a:lnTo>
                  <a:pt x="8169" y="7606"/>
                </a:lnTo>
                <a:lnTo>
                  <a:pt x="8575" y="7132"/>
                </a:lnTo>
                <a:lnTo>
                  <a:pt x="9020" y="6590"/>
                </a:lnTo>
                <a:lnTo>
                  <a:pt x="9426" y="6019"/>
                </a:lnTo>
                <a:lnTo>
                  <a:pt x="10321" y="4752"/>
                </a:lnTo>
                <a:lnTo>
                  <a:pt x="10771" y="4153"/>
                </a:lnTo>
                <a:lnTo>
                  <a:pt x="11256" y="3549"/>
                </a:lnTo>
                <a:lnTo>
                  <a:pt x="11705" y="2978"/>
                </a:lnTo>
                <a:lnTo>
                  <a:pt x="12190" y="2471"/>
                </a:lnTo>
                <a:lnTo>
                  <a:pt x="12720" y="2030"/>
                </a:lnTo>
                <a:lnTo>
                  <a:pt x="13249" y="1682"/>
                </a:lnTo>
                <a:lnTo>
                  <a:pt x="13778" y="1459"/>
                </a:lnTo>
                <a:lnTo>
                  <a:pt x="14061" y="1363"/>
                </a:lnTo>
                <a:lnTo>
                  <a:pt x="14347" y="1334"/>
                </a:lnTo>
                <a:lnTo>
                  <a:pt x="14629" y="1334"/>
                </a:lnTo>
                <a:lnTo>
                  <a:pt x="14956" y="1363"/>
                </a:lnTo>
                <a:lnTo>
                  <a:pt x="15648" y="1488"/>
                </a:lnTo>
                <a:lnTo>
                  <a:pt x="16336" y="1711"/>
                </a:lnTo>
                <a:lnTo>
                  <a:pt x="17112" y="2030"/>
                </a:lnTo>
                <a:lnTo>
                  <a:pt x="17923" y="2408"/>
                </a:lnTo>
                <a:lnTo>
                  <a:pt x="18734" y="2853"/>
                </a:lnTo>
                <a:lnTo>
                  <a:pt x="19550" y="3360"/>
                </a:lnTo>
                <a:lnTo>
                  <a:pt x="20361" y="3868"/>
                </a:lnTo>
                <a:lnTo>
                  <a:pt x="21904" y="4878"/>
                </a:lnTo>
                <a:lnTo>
                  <a:pt x="22636" y="5386"/>
                </a:lnTo>
                <a:lnTo>
                  <a:pt x="23328" y="5859"/>
                </a:lnTo>
                <a:lnTo>
                  <a:pt x="23976" y="6275"/>
                </a:lnTo>
                <a:lnTo>
                  <a:pt x="24545" y="6624"/>
                </a:lnTo>
                <a:lnTo>
                  <a:pt x="24995" y="6876"/>
                </a:lnTo>
                <a:lnTo>
                  <a:pt x="25401" y="7064"/>
                </a:lnTo>
                <a:lnTo>
                  <a:pt x="25401" y="5197"/>
                </a:lnTo>
                <a:lnTo>
                  <a:pt x="25035" y="5100"/>
                </a:lnTo>
                <a:lnTo>
                  <a:pt x="24589" y="4912"/>
                </a:lnTo>
                <a:lnTo>
                  <a:pt x="24060" y="4627"/>
                </a:lnTo>
                <a:lnTo>
                  <a:pt x="23452" y="4279"/>
                </a:lnTo>
                <a:lnTo>
                  <a:pt x="22799" y="3868"/>
                </a:lnTo>
                <a:lnTo>
                  <a:pt x="22067" y="3389"/>
                </a:lnTo>
                <a:lnTo>
                  <a:pt x="21296" y="2915"/>
                </a:lnTo>
                <a:lnTo>
                  <a:pt x="20485" y="2408"/>
                </a:lnTo>
                <a:lnTo>
                  <a:pt x="19669" y="1933"/>
                </a:lnTo>
                <a:lnTo>
                  <a:pt x="18818" y="1459"/>
                </a:lnTo>
                <a:lnTo>
                  <a:pt x="18002" y="1015"/>
                </a:lnTo>
                <a:lnTo>
                  <a:pt x="17191" y="633"/>
                </a:lnTo>
                <a:lnTo>
                  <a:pt x="16419" y="348"/>
                </a:lnTo>
                <a:lnTo>
                  <a:pt x="15648" y="130"/>
                </a:lnTo>
                <a:lnTo>
                  <a:pt x="14956" y="33"/>
                </a:lnTo>
                <a:lnTo>
                  <a:pt x="14629" y="0"/>
                </a:lnTo>
                <a:lnTo>
                  <a:pt x="14308" y="33"/>
                </a:lnTo>
                <a:lnTo>
                  <a:pt x="14021" y="96"/>
                </a:lnTo>
                <a:lnTo>
                  <a:pt x="13739" y="193"/>
                </a:lnTo>
                <a:lnTo>
                  <a:pt x="13452" y="319"/>
                </a:lnTo>
                <a:lnTo>
                  <a:pt x="13210" y="444"/>
                </a:lnTo>
                <a:lnTo>
                  <a:pt x="12680" y="855"/>
                </a:lnTo>
                <a:lnTo>
                  <a:pt x="12190" y="1334"/>
                </a:lnTo>
                <a:lnTo>
                  <a:pt x="11705" y="1870"/>
                </a:lnTo>
                <a:lnTo>
                  <a:pt x="11256" y="2505"/>
                </a:lnTo>
                <a:lnTo>
                  <a:pt x="10810" y="3138"/>
                </a:lnTo>
                <a:lnTo>
                  <a:pt x="10361" y="3805"/>
                </a:lnTo>
                <a:lnTo>
                  <a:pt x="9915" y="4467"/>
                </a:lnTo>
                <a:lnTo>
                  <a:pt x="9510" y="5134"/>
                </a:lnTo>
                <a:lnTo>
                  <a:pt x="9064" y="5768"/>
                </a:lnTo>
                <a:lnTo>
                  <a:pt x="8654" y="6304"/>
                </a:lnTo>
                <a:lnTo>
                  <a:pt x="8249" y="6813"/>
                </a:lnTo>
                <a:lnTo>
                  <a:pt x="7803" y="7224"/>
                </a:lnTo>
                <a:lnTo>
                  <a:pt x="7398" y="7509"/>
                </a:lnTo>
                <a:lnTo>
                  <a:pt x="7151" y="7635"/>
                </a:lnTo>
                <a:lnTo>
                  <a:pt x="6948" y="7697"/>
                </a:lnTo>
                <a:lnTo>
                  <a:pt x="6503" y="7765"/>
                </a:lnTo>
                <a:lnTo>
                  <a:pt x="6013" y="7697"/>
                </a:lnTo>
                <a:lnTo>
                  <a:pt x="5528" y="7543"/>
                </a:lnTo>
                <a:lnTo>
                  <a:pt x="4999" y="7287"/>
                </a:lnTo>
                <a:lnTo>
                  <a:pt x="4510" y="7001"/>
                </a:lnTo>
                <a:lnTo>
                  <a:pt x="3981" y="6653"/>
                </a:lnTo>
                <a:lnTo>
                  <a:pt x="3496" y="6275"/>
                </a:lnTo>
                <a:lnTo>
                  <a:pt x="3006" y="5859"/>
                </a:lnTo>
                <a:lnTo>
                  <a:pt x="2072" y="5038"/>
                </a:lnTo>
                <a:lnTo>
                  <a:pt x="1626" y="4656"/>
                </a:lnTo>
                <a:lnTo>
                  <a:pt x="1221" y="4279"/>
                </a:lnTo>
                <a:lnTo>
                  <a:pt x="855" y="3993"/>
                </a:lnTo>
                <a:lnTo>
                  <a:pt x="529" y="3737"/>
                </a:lnTo>
                <a:lnTo>
                  <a:pt x="242" y="3583"/>
                </a:lnTo>
                <a:lnTo>
                  <a:pt x="0" y="3520"/>
                </a:lnTo>
                <a:close/>
              </a:path>
            </a:pathLst>
          </a:custGeom>
          <a:gradFill rotWithShape="0">
            <a:gsLst>
              <a:gs pos="0">
                <a:srgbClr val="660033"/>
              </a:gs>
              <a:gs pos="50000">
                <a:srgbClr val="56002b"/>
              </a:gs>
              <a:gs pos="100000">
                <a:srgbClr val="66003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p:nvPr/>
        </p:nvSpPr>
        <p:spPr>
          <a:xfrm>
            <a:off x="0" y="3552840"/>
            <a:ext cx="6237720" cy="3366000"/>
          </a:xfrm>
          <a:custGeom>
            <a:avLst/>
            <a:gdLst/>
            <a:ahLst/>
            <a:rect l="0" t="0" r="r" b="b"/>
            <a:pathLst>
              <a:path w="17327" h="9350">
                <a:moveTo>
                  <a:pt x="0" y="1614"/>
                </a:moveTo>
                <a:lnTo>
                  <a:pt x="0" y="2069"/>
                </a:lnTo>
                <a:lnTo>
                  <a:pt x="175" y="2101"/>
                </a:lnTo>
                <a:lnTo>
                  <a:pt x="435" y="2101"/>
                </a:lnTo>
                <a:lnTo>
                  <a:pt x="787" y="2036"/>
                </a:lnTo>
                <a:lnTo>
                  <a:pt x="1222" y="1939"/>
                </a:lnTo>
                <a:lnTo>
                  <a:pt x="1690" y="1841"/>
                </a:lnTo>
                <a:lnTo>
                  <a:pt x="2213" y="1679"/>
                </a:lnTo>
                <a:lnTo>
                  <a:pt x="2797" y="1549"/>
                </a:lnTo>
                <a:lnTo>
                  <a:pt x="3408" y="1387"/>
                </a:lnTo>
                <a:lnTo>
                  <a:pt x="4687" y="1099"/>
                </a:lnTo>
                <a:lnTo>
                  <a:pt x="5970" y="839"/>
                </a:lnTo>
                <a:lnTo>
                  <a:pt x="6609" y="774"/>
                </a:lnTo>
                <a:lnTo>
                  <a:pt x="7253" y="709"/>
                </a:lnTo>
                <a:lnTo>
                  <a:pt x="7832" y="709"/>
                </a:lnTo>
                <a:lnTo>
                  <a:pt x="8388" y="774"/>
                </a:lnTo>
                <a:lnTo>
                  <a:pt x="8939" y="872"/>
                </a:lnTo>
                <a:lnTo>
                  <a:pt x="9523" y="1002"/>
                </a:lnTo>
                <a:lnTo>
                  <a:pt x="10745" y="1354"/>
                </a:lnTo>
                <a:lnTo>
                  <a:pt x="12056" y="1776"/>
                </a:lnTo>
                <a:lnTo>
                  <a:pt x="13312" y="2296"/>
                </a:lnTo>
                <a:lnTo>
                  <a:pt x="13923" y="2589"/>
                </a:lnTo>
                <a:lnTo>
                  <a:pt x="14502" y="2877"/>
                </a:lnTo>
                <a:lnTo>
                  <a:pt x="15058" y="3169"/>
                </a:lnTo>
                <a:lnTo>
                  <a:pt x="15554" y="3462"/>
                </a:lnTo>
                <a:lnTo>
                  <a:pt x="16017" y="3754"/>
                </a:lnTo>
                <a:lnTo>
                  <a:pt x="16424" y="4042"/>
                </a:lnTo>
                <a:lnTo>
                  <a:pt x="16748" y="4334"/>
                </a:lnTo>
                <a:lnTo>
                  <a:pt x="17008" y="4594"/>
                </a:lnTo>
                <a:lnTo>
                  <a:pt x="17184" y="4886"/>
                </a:lnTo>
                <a:lnTo>
                  <a:pt x="17300" y="5206"/>
                </a:lnTo>
                <a:lnTo>
                  <a:pt x="17327" y="5563"/>
                </a:lnTo>
                <a:lnTo>
                  <a:pt x="17300" y="5953"/>
                </a:lnTo>
                <a:lnTo>
                  <a:pt x="17212" y="6375"/>
                </a:lnTo>
                <a:lnTo>
                  <a:pt x="17068" y="6760"/>
                </a:lnTo>
                <a:lnTo>
                  <a:pt x="16920" y="7183"/>
                </a:lnTo>
                <a:lnTo>
                  <a:pt x="16716" y="7573"/>
                </a:lnTo>
                <a:lnTo>
                  <a:pt x="16545" y="7958"/>
                </a:lnTo>
                <a:lnTo>
                  <a:pt x="16341" y="8316"/>
                </a:lnTo>
                <a:lnTo>
                  <a:pt x="16137" y="8608"/>
                </a:lnTo>
                <a:lnTo>
                  <a:pt x="15961" y="8900"/>
                </a:lnTo>
                <a:lnTo>
                  <a:pt x="15785" y="9090"/>
                </a:lnTo>
                <a:lnTo>
                  <a:pt x="15669" y="9253"/>
                </a:lnTo>
                <a:lnTo>
                  <a:pt x="15581" y="9350"/>
                </a:lnTo>
                <a:lnTo>
                  <a:pt x="15554" y="9350"/>
                </a:lnTo>
                <a:lnTo>
                  <a:pt x="17124" y="3559"/>
                </a:lnTo>
                <a:lnTo>
                  <a:pt x="16920" y="3267"/>
                </a:lnTo>
                <a:lnTo>
                  <a:pt x="16660" y="2974"/>
                </a:lnTo>
                <a:lnTo>
                  <a:pt x="16341" y="2682"/>
                </a:lnTo>
                <a:lnTo>
                  <a:pt x="15989" y="2394"/>
                </a:lnTo>
                <a:lnTo>
                  <a:pt x="15581" y="2101"/>
                </a:lnTo>
                <a:lnTo>
                  <a:pt x="15146" y="1841"/>
                </a:lnTo>
                <a:lnTo>
                  <a:pt x="14650" y="1582"/>
                </a:lnTo>
                <a:lnTo>
                  <a:pt x="14155" y="1326"/>
                </a:lnTo>
                <a:lnTo>
                  <a:pt x="13108" y="872"/>
                </a:lnTo>
                <a:lnTo>
                  <a:pt x="12000" y="514"/>
                </a:lnTo>
                <a:lnTo>
                  <a:pt x="10893" y="222"/>
                </a:lnTo>
                <a:lnTo>
                  <a:pt x="9786" y="32"/>
                </a:lnTo>
                <a:lnTo>
                  <a:pt x="9231" y="0"/>
                </a:lnTo>
                <a:lnTo>
                  <a:pt x="8619" y="0"/>
                </a:lnTo>
                <a:lnTo>
                  <a:pt x="8008" y="32"/>
                </a:lnTo>
                <a:lnTo>
                  <a:pt x="7341" y="92"/>
                </a:lnTo>
                <a:lnTo>
                  <a:pt x="5970" y="320"/>
                </a:lnTo>
                <a:lnTo>
                  <a:pt x="4604" y="579"/>
                </a:lnTo>
                <a:lnTo>
                  <a:pt x="3232" y="872"/>
                </a:lnTo>
                <a:lnTo>
                  <a:pt x="2593" y="1034"/>
                </a:lnTo>
                <a:lnTo>
                  <a:pt x="1982" y="1196"/>
                </a:lnTo>
                <a:lnTo>
                  <a:pt x="1426" y="1326"/>
                </a:lnTo>
                <a:lnTo>
                  <a:pt x="903" y="1452"/>
                </a:lnTo>
                <a:lnTo>
                  <a:pt x="407" y="1549"/>
                </a:lnTo>
                <a:lnTo>
                  <a:pt x="0" y="1614"/>
                </a:lnTo>
                <a:close/>
              </a:path>
            </a:pathLst>
          </a:custGeom>
          <a:gradFill rotWithShape="0">
            <a:gsLst>
              <a:gs pos="0">
                <a:srgbClr val="56002b"/>
              </a:gs>
              <a:gs pos="50000">
                <a:srgbClr val="660033"/>
              </a:gs>
              <a:gs pos="100000">
                <a:srgbClr val="56002b"/>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114300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Knowledge Management at the Arlen Innovation Council</a:t>
            </a:r>
            <a:endParaRPr b="0" lang="en-US" sz="4000" spc="-1" strike="noStrike">
              <a:solidFill>
                <a:srgbClr val="000000"/>
              </a:solidFill>
              <a:latin typeface="Arial"/>
            </a:endParaRPr>
          </a:p>
        </p:txBody>
      </p:sp>
      <p:sp>
        <p:nvSpPr>
          <p:cNvPr id="95" name=""/>
          <p:cNvSpPr txBox="1"/>
          <p:nvPr/>
        </p:nvSpPr>
        <p:spPr>
          <a:xfrm>
            <a:off x="1371600" y="3200400"/>
            <a:ext cx="6477120" cy="2819520"/>
          </a:xfrm>
          <a:prstGeom prst="rect">
            <a:avLst/>
          </a:prstGeom>
          <a:noFill/>
          <a:ln w="0">
            <a:noFill/>
          </a:ln>
        </p:spPr>
        <p:txBody>
          <a:bodyPr lIns="0" rIns="0" tIns="0" bIns="0" anchor="t">
            <a:noAutofit/>
          </a:bodyPr>
          <a:p>
            <a:pPr algn="ctr">
              <a:lnSpc>
                <a:spcPct val="100000"/>
              </a:lnSpc>
              <a:spcBef>
                <a:spcPts val="479"/>
              </a:spcBef>
            </a:pPr>
            <a:r>
              <a:rPr b="0" lang="en-US" sz="1800" spc="-1" strike="noStrike">
                <a:solidFill>
                  <a:srgbClr val="ffffcc"/>
                </a:solidFill>
                <a:latin typeface="Arial"/>
                <a:ea typeface="Arial"/>
              </a:rPr>
              <a:t>Ben Ballengee</a:t>
            </a:r>
            <a:endParaRPr b="0" lang="en-US" sz="1800" spc="-1" strike="noStrike">
              <a:solidFill>
                <a:srgbClr val="000000"/>
              </a:solidFill>
              <a:latin typeface="Arial"/>
            </a:endParaRPr>
          </a:p>
          <a:p>
            <a:pPr algn="ctr">
              <a:lnSpc>
                <a:spcPct val="100000"/>
              </a:lnSpc>
              <a:spcBef>
                <a:spcPts val="479"/>
              </a:spcBef>
            </a:pPr>
            <a:r>
              <a:rPr b="0" lang="en-US" sz="1800" spc="-1" strike="noStrike">
                <a:solidFill>
                  <a:srgbClr val="ffffcc"/>
                </a:solidFill>
                <a:latin typeface="Arial"/>
                <a:ea typeface="Arial"/>
              </a:rPr>
              <a:t>Liz Brown</a:t>
            </a:r>
            <a:endParaRPr b="0" lang="en-US" sz="1800" spc="-1" strike="noStrike">
              <a:solidFill>
                <a:srgbClr val="000000"/>
              </a:solidFill>
              <a:latin typeface="Arial"/>
            </a:endParaRPr>
          </a:p>
          <a:p>
            <a:pPr algn="ctr">
              <a:lnSpc>
                <a:spcPct val="100000"/>
              </a:lnSpc>
              <a:spcBef>
                <a:spcPts val="479"/>
              </a:spcBef>
            </a:pPr>
            <a:r>
              <a:rPr b="0" lang="en-US" sz="1800" spc="-1" strike="noStrike">
                <a:solidFill>
                  <a:srgbClr val="ffffcc"/>
                </a:solidFill>
                <a:latin typeface="Arial"/>
                <a:ea typeface="Arial"/>
              </a:rPr>
              <a:t>Brad Crisp</a:t>
            </a:r>
            <a:endParaRPr b="0" lang="en-US" sz="1800" spc="-1" strike="noStrike">
              <a:solidFill>
                <a:srgbClr val="000000"/>
              </a:solidFill>
              <a:latin typeface="Arial"/>
            </a:endParaRPr>
          </a:p>
          <a:p>
            <a:pPr algn="ctr">
              <a:lnSpc>
                <a:spcPct val="100000"/>
              </a:lnSpc>
              <a:spcBef>
                <a:spcPts val="479"/>
              </a:spcBef>
            </a:pPr>
            <a:r>
              <a:rPr b="0" lang="en-US" sz="1800" spc="-1" strike="noStrike">
                <a:solidFill>
                  <a:srgbClr val="ffffcc"/>
                </a:solidFill>
                <a:latin typeface="Arial"/>
                <a:ea typeface="Arial"/>
              </a:rPr>
              <a:t>Scott Hinshaw</a:t>
            </a:r>
            <a:endParaRPr b="0" lang="en-US" sz="1800" spc="-1" strike="noStrike">
              <a:solidFill>
                <a:srgbClr val="000000"/>
              </a:solidFill>
              <a:latin typeface="Arial"/>
            </a:endParaRPr>
          </a:p>
          <a:p>
            <a:pPr algn="ctr">
              <a:lnSpc>
                <a:spcPct val="100000"/>
              </a:lnSpc>
              <a:spcBef>
                <a:spcPts val="479"/>
              </a:spcBef>
            </a:pPr>
            <a:r>
              <a:rPr b="0" lang="en-US" sz="1800" spc="-1" strike="noStrike">
                <a:solidFill>
                  <a:srgbClr val="ffffcc"/>
                </a:solidFill>
                <a:latin typeface="Arial"/>
                <a:ea typeface="Arial"/>
              </a:rPr>
              <a:t>Catherine Manternach</a:t>
            </a:r>
            <a:endParaRPr b="0" lang="en-US" sz="1800" spc="-1" strike="noStrike">
              <a:solidFill>
                <a:srgbClr val="000000"/>
              </a:solidFill>
              <a:latin typeface="Arial"/>
            </a:endParaRPr>
          </a:p>
          <a:p>
            <a:pPr algn="ctr">
              <a:lnSpc>
                <a:spcPct val="100000"/>
              </a:lnSpc>
              <a:spcBef>
                <a:spcPts val="479"/>
              </a:spcBef>
            </a:pPr>
            <a:endParaRPr b="0" lang="en-US" sz="1800" spc="-1" strike="noStrike">
              <a:solidFill>
                <a:srgbClr val="000000"/>
              </a:solidFill>
              <a:latin typeface="Arial"/>
            </a:endParaRPr>
          </a:p>
          <a:p>
            <a:pPr algn="ctr">
              <a:lnSpc>
                <a:spcPct val="100000"/>
              </a:lnSpc>
              <a:spcBef>
                <a:spcPts val="479"/>
              </a:spcBef>
            </a:pPr>
            <a:r>
              <a:rPr b="0" lang="en-US" sz="2000" spc="-1" strike="noStrike">
                <a:solidFill>
                  <a:srgbClr val="ffcc00"/>
                </a:solidFill>
                <a:latin typeface="Arial"/>
                <a:ea typeface="Arial"/>
              </a:rPr>
              <a:t>May 1, 199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09480" y="3808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Knowledge Transfer</a:t>
            </a:r>
            <a:endParaRPr b="0" lang="en-US" sz="4000" spc="-1" strike="noStrike">
              <a:solidFill>
                <a:srgbClr val="000000"/>
              </a:solidFill>
              <a:latin typeface="Arial"/>
            </a:endParaRPr>
          </a:p>
        </p:txBody>
      </p:sp>
      <p:sp>
        <p:nvSpPr>
          <p:cNvPr id="115" name=""/>
          <p:cNvSpPr txBox="1"/>
          <p:nvPr/>
        </p:nvSpPr>
        <p:spPr>
          <a:xfrm>
            <a:off x="304920" y="1447920"/>
            <a:ext cx="8534520" cy="46483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000" spc="-1" strike="noStrike" u="sng">
                <a:solidFill>
                  <a:srgbClr val="ffffcc"/>
                </a:solidFill>
                <a:uFillTx/>
                <a:latin typeface="Arial"/>
                <a:ea typeface="Arial"/>
              </a:rPr>
              <a:t>Brochure</a:t>
            </a:r>
            <a:r>
              <a:rPr b="0" lang="en-US" sz="3000" spc="-1" strike="noStrike">
                <a:solidFill>
                  <a:srgbClr val="ffffcc"/>
                </a:solidFill>
                <a:latin typeface="Arial"/>
                <a:ea typeface="Arial"/>
              </a:rPr>
              <a:t>: “The ‘Wisdom Web’ is a network of professional service providers who volunteer their time to assist start-up ventures at AIC.”</a:t>
            </a:r>
            <a:endParaRPr b="0" lang="en-US" sz="3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000" spc="-1" strike="noStrike" u="sng">
                <a:solidFill>
                  <a:srgbClr val="ffffcc"/>
                </a:solidFill>
                <a:uFillTx/>
                <a:latin typeface="Arial"/>
                <a:ea typeface="Arial"/>
              </a:rPr>
              <a:t>Reality</a:t>
            </a:r>
            <a:r>
              <a:rPr b="0" lang="en-US" sz="3000" spc="-1" strike="noStrike">
                <a:solidFill>
                  <a:srgbClr val="ffffcc"/>
                </a:solidFill>
                <a:latin typeface="Arial"/>
                <a:ea typeface="Arial"/>
              </a:rPr>
              <a:t>: “Wisdom Web” is a loose, informal social network that has produced marginal results.</a:t>
            </a:r>
            <a:endParaRPr b="0" lang="en-US" sz="3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000" spc="-1" strike="noStrike" u="sng">
                <a:solidFill>
                  <a:srgbClr val="ffffcc"/>
                </a:solidFill>
                <a:uFillTx/>
                <a:latin typeface="Arial"/>
                <a:ea typeface="Arial"/>
              </a:rPr>
              <a:t>Shaw</a:t>
            </a:r>
            <a:r>
              <a:rPr b="0" lang="en-US" sz="3000" spc="-1" strike="noStrike">
                <a:solidFill>
                  <a:srgbClr val="ffffcc"/>
                </a:solidFill>
                <a:latin typeface="Arial"/>
                <a:ea typeface="Arial"/>
              </a:rPr>
              <a:t>: “We need a way to build, maintain, and disseminate contact information to member companies from the Wisdom We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Knowledge Gathering</a:t>
            </a:r>
            <a:endParaRPr b="0" lang="en-US" sz="4000" spc="-1" strike="noStrike">
              <a:solidFill>
                <a:srgbClr val="000000"/>
              </a:solidFill>
              <a:latin typeface="Arial"/>
            </a:endParaRPr>
          </a:p>
        </p:txBody>
      </p:sp>
      <p:sp>
        <p:nvSpPr>
          <p:cNvPr id="117" name=""/>
          <p:cNvSpPr txBox="1"/>
          <p:nvPr/>
        </p:nvSpPr>
        <p:spPr>
          <a:xfrm>
            <a:off x="380880" y="1600200"/>
            <a:ext cx="82296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u="sng">
                <a:solidFill>
                  <a:srgbClr val="ffffcc"/>
                </a:solidFill>
                <a:uFillTx/>
                <a:latin typeface="Arial"/>
                <a:ea typeface="Arial"/>
              </a:rPr>
              <a:t>Brochure</a:t>
            </a:r>
            <a:r>
              <a:rPr b="0" lang="en-US" sz="2000" spc="-1" strike="noStrike">
                <a:solidFill>
                  <a:srgbClr val="ffffcc"/>
                </a:solidFill>
                <a:latin typeface="Arial"/>
                <a:ea typeface="Arial"/>
              </a:rPr>
              <a:t>: “AIC is housed in a modern office building which enables collaborative projects among member companie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u="sng">
                <a:solidFill>
                  <a:srgbClr val="ffffcc"/>
                </a:solidFill>
                <a:uFillTx/>
                <a:latin typeface="Arial"/>
                <a:ea typeface="Arial"/>
              </a:rPr>
              <a:t>Reality</a:t>
            </a:r>
            <a:r>
              <a:rPr b="0" lang="en-US" sz="2000" spc="-1" strike="noStrike">
                <a:solidFill>
                  <a:srgbClr val="ffffcc"/>
                </a:solidFill>
                <a:latin typeface="Arial"/>
                <a:ea typeface="Arial"/>
              </a:rPr>
              <a:t>: “The new building has hurt communication with our clients. We never see them any more.”</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ffffcc"/>
                </a:solidFill>
                <a:latin typeface="Arial"/>
                <a:ea typeface="Arial"/>
              </a:rPr>
              <a:t>Peggy Hill has shifted administrative functions from AIC staff to member companie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cc"/>
                </a:solidFill>
                <a:latin typeface="Arial"/>
                <a:ea typeface="Arial"/>
              </a:rPr>
              <a:t>Receptio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cc"/>
                </a:solidFill>
                <a:latin typeface="Arial"/>
                <a:ea typeface="Arial"/>
              </a:rPr>
              <a:t>Switchboard</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cc"/>
                </a:solidFill>
                <a:latin typeface="Arial"/>
                <a:ea typeface="Arial"/>
              </a:rPr>
              <a:t>Mail distributi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ffffcc"/>
                </a:solidFill>
                <a:latin typeface="Arial"/>
                <a:ea typeface="Arial"/>
              </a:rPr>
              <a:t>“</a:t>
            </a:r>
            <a:r>
              <a:rPr b="0" lang="en-US" sz="2000" spc="-1" strike="noStrike">
                <a:solidFill>
                  <a:srgbClr val="ffffcc"/>
                </a:solidFill>
                <a:latin typeface="Arial"/>
                <a:ea typeface="Arial"/>
              </a:rPr>
              <a:t>Handling mail and running the reception area was a very valuable source of information. We weren’t snooping, mind you, but the return addresses on envelopes and the kinds of people who called and came to visit told us a lot about what member companies were d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Existing Technology</a:t>
            </a:r>
            <a:endParaRPr b="0" lang="en-US" sz="4000" spc="-1" strike="noStrike">
              <a:solidFill>
                <a:srgbClr val="000000"/>
              </a:solidFill>
              <a:latin typeface="Arial"/>
            </a:endParaRPr>
          </a:p>
        </p:txBody>
      </p:sp>
      <p:sp>
        <p:nvSpPr>
          <p:cNvPr id="11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000" spc="-1" strike="noStrike">
                <a:solidFill>
                  <a:srgbClr val="ffffcc"/>
                </a:solidFill>
                <a:latin typeface="Arial"/>
                <a:ea typeface="Arial"/>
              </a:rPr>
              <a:t>PC-based LAN</a:t>
            </a:r>
            <a:endParaRPr b="0" lang="en-US" sz="3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000" spc="-1" strike="noStrike">
                <a:solidFill>
                  <a:srgbClr val="ffffcc"/>
                </a:solidFill>
                <a:latin typeface="Arial"/>
                <a:ea typeface="Arial"/>
              </a:rPr>
              <a:t>E-mail with web access for some employees</a:t>
            </a:r>
            <a:endParaRPr b="0" lang="en-US" sz="3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000" spc="-1" strike="noStrike">
                <a:solidFill>
                  <a:srgbClr val="ffffcc"/>
                </a:solidFill>
                <a:latin typeface="Arial"/>
                <a:ea typeface="Arial"/>
              </a:rPr>
              <a:t>ASU mainframe access for administrative employees</a:t>
            </a:r>
            <a:endParaRPr b="0" lang="en-US" sz="3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000" spc="-1" strike="noStrike">
                <a:solidFill>
                  <a:srgbClr val="ffffcc"/>
                </a:solidFill>
                <a:latin typeface="Arial"/>
                <a:ea typeface="Arial"/>
              </a:rPr>
              <a:t>Stand-alone accounting software</a:t>
            </a:r>
            <a:endParaRPr b="0" lang="en-US" sz="3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000" spc="-1" strike="noStrike">
                <a:solidFill>
                  <a:srgbClr val="ffffcc"/>
                </a:solidFill>
                <a:latin typeface="Arial"/>
                <a:ea typeface="Arial"/>
              </a:rPr>
              <a:t>Web page on ASU server last updated 12/97</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Core Competencies</a:t>
            </a:r>
            <a:endParaRPr b="0" lang="en-US" sz="4000" spc="-1" strike="noStrike">
              <a:solidFill>
                <a:srgbClr val="000000"/>
              </a:solidFill>
              <a:latin typeface="Arial"/>
            </a:endParaRPr>
          </a:p>
        </p:txBody>
      </p:sp>
      <p:sp>
        <p:nvSpPr>
          <p:cNvPr id="12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What AIC does </a:t>
            </a:r>
            <a:r>
              <a:rPr b="0" lang="en-US" sz="2400" spc="-1" strike="noStrike" u="sng">
                <a:solidFill>
                  <a:srgbClr val="ffffcc"/>
                </a:solidFill>
                <a:uFillTx/>
                <a:latin typeface="Arial"/>
                <a:ea typeface="Arial"/>
              </a:rPr>
              <a:t>best</a:t>
            </a:r>
            <a:r>
              <a:rPr b="0" lang="en-US" sz="2400" spc="-1" strike="noStrike">
                <a:solidFill>
                  <a:srgbClr val="ffffcc"/>
                </a:solidFill>
                <a:latin typeface="Arial"/>
                <a:ea typeface="Arial"/>
              </a:rPr>
              <a: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Provide low-cost office space for member compani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Provide assistance with financial and marketing resources by referring of member companies to sister organizations within CA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What AIC does </a:t>
            </a:r>
            <a:r>
              <a:rPr b="0" lang="en-US" sz="2400" spc="-1" strike="noStrike" u="sng">
                <a:solidFill>
                  <a:srgbClr val="ffffcc"/>
                </a:solidFill>
                <a:uFillTx/>
                <a:latin typeface="Arial"/>
                <a:ea typeface="Arial"/>
              </a:rPr>
              <a:t>worst</a:t>
            </a:r>
            <a:r>
              <a:rPr b="0" lang="en-US" sz="2400" spc="-1" strike="noStrike">
                <a:solidFill>
                  <a:srgbClr val="ffffcc"/>
                </a:solidFill>
                <a:latin typeface="Arial"/>
                <a:ea typeface="Arial"/>
              </a:rPr>
              <a: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Track operations of member compani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Provide access to accounting, legal, and management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Services for Member Companies</a:t>
            </a:r>
            <a:endParaRPr b="0" lang="en-US" sz="4000" spc="-1" strike="noStrike">
              <a:solidFill>
                <a:srgbClr val="000000"/>
              </a:solidFill>
              <a:latin typeface="Arial"/>
            </a:endParaRPr>
          </a:p>
        </p:txBody>
      </p:sp>
      <p:sp>
        <p:nvSpPr>
          <p:cNvPr id="123" name=""/>
          <p:cNvSpPr txBox="1"/>
          <p:nvPr/>
        </p:nvSpPr>
        <p:spPr>
          <a:xfrm>
            <a:off x="685800" y="1981080"/>
            <a:ext cx="7772400" cy="41911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ffffcc"/>
                </a:solidFill>
                <a:latin typeface="Arial"/>
                <a:ea typeface="Arial"/>
              </a:rPr>
              <a:t>Explici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Educational programs/seminar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Subsidized facilities and suppor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a:t>
            </a:r>
            <a:r>
              <a:rPr b="0" lang="en-US" sz="2400" spc="-1" strike="noStrike">
                <a:solidFill>
                  <a:srgbClr val="ffffcc"/>
                </a:solidFill>
                <a:latin typeface="Arial"/>
                <a:ea typeface="Arial"/>
              </a:rPr>
              <a:t>Wisdom Web” network</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Internship program</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ffffcc"/>
                </a:solidFill>
                <a:latin typeface="Arial"/>
                <a:ea typeface="Arial"/>
              </a:rPr>
              <a:t>Implicit</a:t>
            </a:r>
            <a:r>
              <a:rPr b="0" lang="en-US" sz="3200" spc="-1" strike="noStrike">
                <a:solidFill>
                  <a:srgbClr val="ffffcc"/>
                </a:solidFill>
                <a:latin typeface="Arial"/>
                <a:ea typeface="Arial"/>
              </a:rPr>
              <a:t>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Access to business contac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Credibility/expo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609480" y="91440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Sources of </a:t>
            </a:r>
            <a:br>
              <a:rPr sz="4000"/>
            </a:br>
            <a:r>
              <a:rPr b="1" lang="en-US" sz="4000" spc="-1" strike="noStrike">
                <a:solidFill>
                  <a:srgbClr val="ffcc00"/>
                </a:solidFill>
                <a:latin typeface="Arial"/>
                <a:ea typeface="Arial"/>
              </a:rPr>
              <a:t>Relevant Knowledge</a:t>
            </a:r>
            <a:endParaRPr b="0" lang="en-US" sz="4000" spc="-1" strike="noStrike">
              <a:solidFill>
                <a:srgbClr val="000000"/>
              </a:solidFill>
              <a:latin typeface="Arial"/>
            </a:endParaRPr>
          </a:p>
        </p:txBody>
      </p:sp>
      <p:sp>
        <p:nvSpPr>
          <p:cNvPr id="125" name=""/>
          <p:cNvSpPr txBox="1"/>
          <p:nvPr/>
        </p:nvSpPr>
        <p:spPr>
          <a:xfrm>
            <a:off x="685800" y="2133720"/>
            <a:ext cx="7772400" cy="39625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ffffcc"/>
                </a:solidFill>
                <a:latin typeface="Arial"/>
                <a:ea typeface="Arial"/>
              </a:rPr>
              <a:t>On-the-job experience of staff, interns, and clien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ffffcc"/>
                </a:solidFill>
                <a:latin typeface="Arial"/>
                <a:ea typeface="Arial"/>
              </a:rPr>
              <a:t>Experience of similar non-profits and start-up compani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ffffcc"/>
                </a:solidFill>
                <a:latin typeface="Arial"/>
                <a:ea typeface="Arial"/>
              </a:rPr>
              <a:t>Academic research</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ffffcc"/>
                </a:solidFill>
                <a:latin typeface="Arial"/>
                <a:ea typeface="Arial"/>
              </a:rPr>
              <a:t>Experience of functional or industry practitio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609480" y="76212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Ways to Transfer Knowledge</a:t>
            </a:r>
            <a:endParaRPr b="0" lang="en-US" sz="4000" spc="-1" strike="noStrike">
              <a:solidFill>
                <a:srgbClr val="000000"/>
              </a:solidFill>
              <a:latin typeface="Arial"/>
            </a:endParaRPr>
          </a:p>
        </p:txBody>
      </p:sp>
      <p:sp>
        <p:nvSpPr>
          <p:cNvPr id="12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ffffcc"/>
                </a:solidFill>
                <a:latin typeface="Arial"/>
                <a:ea typeface="Arial"/>
              </a:rPr>
              <a:t>Inform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ffffcc"/>
                </a:solidFill>
                <a:latin typeface="Arial"/>
                <a:ea typeface="Arial"/>
              </a:rPr>
              <a:t>On-the-job interaction</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ffffcc"/>
                </a:solidFill>
                <a:latin typeface="Arial"/>
                <a:ea typeface="Arial"/>
              </a:rPr>
              <a:t>Outside networking</a:t>
            </a:r>
            <a:endParaRPr b="0" lang="en-US" sz="2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ffffcc"/>
                </a:solidFill>
                <a:latin typeface="Arial"/>
                <a:ea typeface="Arial"/>
              </a:rPr>
              <a:t>Form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ffffcc"/>
                </a:solidFill>
                <a:latin typeface="Arial"/>
                <a:ea typeface="Arial"/>
              </a:rPr>
              <a:t>Talk rooms &amp; sponsored social events </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ffffcc"/>
                </a:solidFill>
                <a:latin typeface="Arial"/>
                <a:ea typeface="Arial"/>
              </a:rPr>
              <a:t>Interviews, meetings &amp; evaluations</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ffffcc"/>
                </a:solidFill>
                <a:latin typeface="Arial"/>
                <a:ea typeface="Arial"/>
              </a:rPr>
              <a:t>Consulting, mentoring &amp; apprenticeships</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ffffcc"/>
                </a:solidFill>
                <a:latin typeface="Arial"/>
                <a:ea typeface="Arial"/>
              </a:rPr>
              <a:t>Training, publications &amp; semina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Knowledge Transfer Issues</a:t>
            </a:r>
            <a:endParaRPr b="0" lang="en-US" sz="4000" spc="-1" strike="noStrike">
              <a:solidFill>
                <a:srgbClr val="000000"/>
              </a:solidFill>
              <a:latin typeface="Arial"/>
            </a:endParaRPr>
          </a:p>
        </p:txBody>
      </p:sp>
      <p:sp>
        <p:nvSpPr>
          <p:cNvPr id="12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ffffcc"/>
                </a:solidFill>
                <a:latin typeface="Arial"/>
                <a:ea typeface="Arial"/>
              </a:rPr>
              <a:t>Knowledge resides in peopl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cc"/>
                </a:solidFill>
                <a:latin typeface="Arial"/>
                <a:ea typeface="Arial"/>
              </a:rPr>
              <a:t>“</a:t>
            </a:r>
            <a:r>
              <a:rPr b="0" lang="en-US" sz="2800" spc="-1" strike="noStrike">
                <a:solidFill>
                  <a:srgbClr val="ffffcc"/>
                </a:solidFill>
                <a:latin typeface="Arial"/>
                <a:ea typeface="Arial"/>
              </a:rPr>
              <a:t>Wisdom Web” points to people with knowledge, but does not capture the knowledge itself</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cc"/>
                </a:solidFill>
                <a:latin typeface="Arial"/>
                <a:ea typeface="Arial"/>
              </a:rPr>
              <a:t>Knowledge leaves with departing employe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cc"/>
                </a:solidFill>
                <a:latin typeface="Arial"/>
                <a:ea typeface="Arial"/>
              </a:rPr>
              <a:t>Recent resignations have caused significant knowledge lo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Knowledge Transfer Issues</a:t>
            </a:r>
            <a:endParaRPr b="0" lang="en-US" sz="4000" spc="-1" strike="noStrike">
              <a:solidFill>
                <a:srgbClr val="000000"/>
              </a:solidFill>
              <a:latin typeface="Arial"/>
            </a:endParaRPr>
          </a:p>
        </p:txBody>
      </p:sp>
      <p:sp>
        <p:nvSpPr>
          <p:cNvPr id="13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ffffcc"/>
                </a:solidFill>
                <a:latin typeface="Arial"/>
                <a:ea typeface="Arial"/>
              </a:rPr>
              <a:t>Current barriers to transfer</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cc"/>
                </a:solidFill>
                <a:latin typeface="Arial"/>
                <a:ea typeface="Arial"/>
              </a:rPr>
              <a:t>Organizational instability/lack of trus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cc"/>
                </a:solidFill>
                <a:latin typeface="Arial"/>
                <a:ea typeface="Arial"/>
              </a:rPr>
              <a:t>Status/rewards to knowledge owne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cc"/>
                </a:solidFill>
                <a:latin typeface="Arial"/>
                <a:ea typeface="Arial"/>
              </a:rPr>
              <a:t>Few incentives to promote knowledge transfe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ffffcc"/>
                </a:solidFill>
                <a:latin typeface="Arial"/>
                <a:ea typeface="Arial"/>
              </a:rPr>
              <a:t>Result: AIC frequently loses access to knowledge or it is transferred haphazard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Knowledge Transfer Recommendations</a:t>
            </a:r>
            <a:endParaRPr b="0" lang="en-US" sz="4000" spc="-1" strike="noStrike">
              <a:solidFill>
                <a:srgbClr val="000000"/>
              </a:solidFill>
              <a:latin typeface="Arial"/>
            </a:endParaRPr>
          </a:p>
        </p:txBody>
      </p:sp>
      <p:sp>
        <p:nvSpPr>
          <p:cNvPr id="13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ffffcc"/>
                </a:solidFill>
                <a:latin typeface="Arial"/>
                <a:ea typeface="Arial"/>
              </a:rPr>
              <a:t>Leadership must reorganize the business and emphasize KM</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As a foundation, AIC needs more stable leadership to even consider KM. Further, management must refocus on providing core services to member compani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Thereafter, management can identify key knowledge domains and articulate the business case for managing that knowle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5800" y="53352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Introduction</a:t>
            </a:r>
            <a:endParaRPr b="0" lang="en-US" sz="4000" spc="-1" strike="noStrike">
              <a:solidFill>
                <a:srgbClr val="000000"/>
              </a:solidFill>
              <a:latin typeface="Arial"/>
            </a:endParaRPr>
          </a:p>
        </p:txBody>
      </p:sp>
      <p:sp>
        <p:nvSpPr>
          <p:cNvPr id="97" name=""/>
          <p:cNvSpPr txBox="1"/>
          <p:nvPr/>
        </p:nvSpPr>
        <p:spPr>
          <a:xfrm>
            <a:off x="1219320" y="1828800"/>
            <a:ext cx="6934320" cy="4419720"/>
          </a:xfrm>
          <a:prstGeom prst="rect">
            <a:avLst/>
          </a:prstGeom>
          <a:noFill/>
          <a:ln w="0">
            <a:noFill/>
          </a:ln>
        </p:spPr>
        <p:txBody>
          <a:bodyPr lIns="0" rIns="0" tIns="0" bIns="0" anchor="t">
            <a:noAutofit/>
          </a:bodyPr>
          <a:p>
            <a:pPr>
              <a:lnSpc>
                <a:spcPct val="100000"/>
              </a:lnSpc>
              <a:spcBef>
                <a:spcPts val="479"/>
              </a:spcBef>
            </a:pPr>
            <a:r>
              <a:rPr b="0" lang="en-US" sz="1700" spc="-1" strike="noStrike">
                <a:solidFill>
                  <a:srgbClr val="ffffcc"/>
                </a:solidFill>
                <a:latin typeface="Arial"/>
                <a:ea typeface="Arial"/>
              </a:rPr>
              <a:t>In 1988, Dr. John Rutledge and Dr. Dale Gribble founded the Institute for Creative Entrepreneurship (ICE) as a research unit of Arlen State University. Under the auspices of ICE and its subdivision, the Center for Advanced Technology (CAT), the Arlen Innovation Council (AIC) opened a year later as an experiment in nurturing the growth of start-up technology companies. Led by Director Judith Exner and funded by Arlen State University, the City of Arlen, Boomhauer County, and private donors, AIC was advised by a committee of experienced business leaders. In 1994, the AIC “experiment” was declared [</a:t>
            </a:r>
            <a:r>
              <a:rPr b="0" i="1" lang="en-US" sz="1700" spc="-1" strike="noStrike">
                <a:solidFill>
                  <a:srgbClr val="ffffcc"/>
                </a:solidFill>
                <a:latin typeface="Arial"/>
                <a:ea typeface="Arial"/>
              </a:rPr>
              <a:t>by persons unknown</a:t>
            </a:r>
            <a:r>
              <a:rPr b="0" lang="en-US" sz="1700" spc="-1" strike="noStrike">
                <a:solidFill>
                  <a:srgbClr val="ffffcc"/>
                </a:solidFill>
                <a:latin typeface="Arial"/>
                <a:ea typeface="Arial"/>
              </a:rPr>
              <a:t>] to be successfully completed. By 1997, all of the key employees involved in the founding and operation of AIC had departed, taking with them the accumulated knowledge and experience of the past eight years. Unlike most experiments, the AIC story was not compiled into research reports and maintained for future reference. Rather, AIC remained open, suffering high turnover among employees and continuing to learn the same lessons and repeat the same mistakes, year after year.</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Knowledge Transfer</a:t>
            </a:r>
            <a:br>
              <a:rPr sz="4000"/>
            </a:br>
            <a:r>
              <a:rPr b="1" lang="en-US" sz="4000" spc="-1" strike="noStrike">
                <a:solidFill>
                  <a:srgbClr val="ffcc00"/>
                </a:solidFill>
                <a:latin typeface="Arial"/>
                <a:ea typeface="Arial"/>
              </a:rPr>
              <a:t>Recommendations</a:t>
            </a:r>
            <a:endParaRPr b="0" lang="en-US" sz="4000" spc="-1" strike="noStrike">
              <a:solidFill>
                <a:srgbClr val="000000"/>
              </a:solidFill>
              <a:latin typeface="Arial"/>
            </a:endParaRPr>
          </a:p>
        </p:txBody>
      </p:sp>
      <p:sp>
        <p:nvSpPr>
          <p:cNvPr id="13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ffffcc"/>
                </a:solidFill>
                <a:latin typeface="Arial"/>
                <a:ea typeface="Arial"/>
              </a:rPr>
              <a:t>Stabilize the organization</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cc"/>
                </a:solidFill>
                <a:latin typeface="Arial"/>
                <a:ea typeface="Arial"/>
              </a:rPr>
              <a:t>New leadership</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cc"/>
                </a:solidFill>
                <a:latin typeface="Arial"/>
                <a:ea typeface="Arial"/>
              </a:rPr>
              <a:t>Actively supported by Rutledg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cc"/>
                </a:solidFill>
                <a:latin typeface="Arial"/>
                <a:ea typeface="Arial"/>
              </a:rPr>
              <a:t>Work with Rutledge to ensure smooth transition of leadership</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cc"/>
                </a:solidFill>
                <a:latin typeface="Arial"/>
                <a:ea typeface="Arial"/>
              </a:rPr>
              <a:t>Renew commitment to mission; the “experiment” will never be comple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cc"/>
                </a:solidFill>
                <a:latin typeface="Arial"/>
                <a:ea typeface="Arial"/>
              </a:rPr>
              <a:t>Reduce staff turno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Knowledge Transfer</a:t>
            </a:r>
            <a:br>
              <a:rPr sz="4000"/>
            </a:br>
            <a:r>
              <a:rPr b="1" lang="en-US" sz="4000" spc="-1" strike="noStrike">
                <a:solidFill>
                  <a:srgbClr val="ffcc00"/>
                </a:solidFill>
                <a:latin typeface="Arial"/>
                <a:ea typeface="Arial"/>
              </a:rPr>
              <a:t>Recommendations</a:t>
            </a:r>
            <a:endParaRPr b="0" lang="en-US" sz="4000" spc="-1" strike="noStrike">
              <a:solidFill>
                <a:srgbClr val="000000"/>
              </a:solidFill>
              <a:latin typeface="Arial"/>
            </a:endParaRPr>
          </a:p>
        </p:txBody>
      </p:sp>
      <p:sp>
        <p:nvSpPr>
          <p:cNvPr id="13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ffffcc"/>
                </a:solidFill>
                <a:latin typeface="Arial"/>
                <a:ea typeface="Arial"/>
              </a:rPr>
              <a:t>Address turnover issu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cc"/>
                </a:solidFill>
                <a:latin typeface="Arial"/>
                <a:ea typeface="Arial"/>
              </a:rPr>
              <a:t>AIC is a great place to be “from” because the experience provides credibility, contacts, and knowledg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cc"/>
                </a:solidFill>
                <a:latin typeface="Arial"/>
                <a:ea typeface="Arial"/>
              </a:rPr>
              <a:t>AIC must find cost-effective means to use short-term employees to capture and capitalize on knowledge OR stop the revolving do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Knowledge Transfer</a:t>
            </a:r>
            <a:br>
              <a:rPr sz="4000"/>
            </a:br>
            <a:r>
              <a:rPr b="1" lang="en-US" sz="4000" spc="-1" strike="noStrike">
                <a:solidFill>
                  <a:srgbClr val="ffcc00"/>
                </a:solidFill>
                <a:latin typeface="Arial"/>
                <a:ea typeface="Arial"/>
              </a:rPr>
              <a:t>Recommendations</a:t>
            </a:r>
            <a:endParaRPr b="0" lang="en-US" sz="4000" spc="-1" strike="noStrike">
              <a:solidFill>
                <a:srgbClr val="000000"/>
              </a:solidFill>
              <a:latin typeface="Arial"/>
            </a:endParaRPr>
          </a:p>
        </p:txBody>
      </p:sp>
      <p:sp>
        <p:nvSpPr>
          <p:cNvPr id="139" name=""/>
          <p:cNvSpPr txBox="1"/>
          <p:nvPr/>
        </p:nvSpPr>
        <p:spPr>
          <a:xfrm>
            <a:off x="762120" y="2209680"/>
            <a:ext cx="7772400" cy="38844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200" spc="-1" strike="noStrike">
                <a:solidFill>
                  <a:srgbClr val="ffffcc"/>
                </a:solidFill>
                <a:latin typeface="Arial"/>
                <a:ea typeface="Arial"/>
              </a:rPr>
              <a:t>Provide more formal structures and incentives to facilitate knowledge transfer</a:t>
            </a:r>
            <a:endParaRPr b="0" lang="en-US" sz="2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cc"/>
                </a:solidFill>
                <a:latin typeface="Arial"/>
                <a:ea typeface="Arial"/>
              </a:rPr>
              <a:t>Create a central informal meeting room</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cc"/>
                </a:solidFill>
                <a:latin typeface="Arial"/>
                <a:ea typeface="Arial"/>
              </a:rPr>
              <a:t>Redesign of office space to encourage informal conversation “around the water cool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cc"/>
                </a:solidFill>
                <a:latin typeface="Arial"/>
                <a:ea typeface="Arial"/>
              </a:rPr>
              <a:t>Return reception, switchboard, and mail distribution functions to AIC employees to encourage interaction with member companie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cc"/>
                </a:solidFill>
                <a:latin typeface="Arial"/>
                <a:ea typeface="Arial"/>
              </a:rPr>
              <a:t>Planned meetings or coffee break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cc"/>
                </a:solidFill>
                <a:latin typeface="Arial"/>
                <a:ea typeface="Arial"/>
              </a:rPr>
              <a:t>Mentor program</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cc"/>
                </a:solidFill>
                <a:latin typeface="Arial"/>
                <a:ea typeface="Arial"/>
              </a:rPr>
              <a:t>Training curriculum</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cc"/>
                </a:solidFill>
                <a:latin typeface="Arial"/>
                <a:ea typeface="Arial"/>
              </a:rPr>
              <a:t>Process/knowledge ma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Wisdom Web: Hype</a:t>
            </a:r>
            <a:endParaRPr b="0" lang="en-US" sz="4000" spc="-1" strike="noStrike">
              <a:solidFill>
                <a:srgbClr val="000000"/>
              </a:solidFill>
              <a:latin typeface="Arial"/>
            </a:endParaRPr>
          </a:p>
        </p:txBody>
      </p:sp>
      <p:sp>
        <p:nvSpPr>
          <p:cNvPr id="143" name=""/>
          <p:cNvSpPr txBox="1"/>
          <p:nvPr/>
        </p:nvSpPr>
        <p:spPr>
          <a:xfrm>
            <a:off x="762120" y="22860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Collection of experts from business and academic community</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Advice on law, tax, patents, marketing, etc.</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Provide advice to member compani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Sometimes pro bono</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Sometimes reduced fe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AIC acts as “broker” between resident companies and expe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Wisdom Web: Reality</a:t>
            </a:r>
            <a:endParaRPr b="0" lang="en-US" sz="4000" spc="-1" strike="noStrike">
              <a:solidFill>
                <a:srgbClr val="000000"/>
              </a:solidFill>
              <a:latin typeface="Arial"/>
            </a:endParaRPr>
          </a:p>
        </p:txBody>
      </p:sp>
      <p:sp>
        <p:nvSpPr>
          <p:cNvPr id="14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Loose, informal social network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No centralized resource pool</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No central point of contact for identifying experts or lessons learn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No knowledge transfer</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Between AIC ventures (resident &amp; graduate)</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Between AIC employe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Continually reinventing expert 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Wisdom Web: Why Do It?</a:t>
            </a:r>
            <a:endParaRPr b="0" lang="en-US" sz="4000" spc="-1" strike="noStrike">
              <a:solidFill>
                <a:srgbClr val="000000"/>
              </a:solidFill>
              <a:latin typeface="Arial"/>
            </a:endParaRPr>
          </a:p>
        </p:txBody>
      </p:sp>
      <p:sp>
        <p:nvSpPr>
          <p:cNvPr id="1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Potential for significant positive impac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Provides centralized, searchable resource for member companies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Leverages business and academic communiti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Leverages lessons learned from graduate and other current member compani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Reduce costs, shorten time until grad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Wisdom Web: Issues</a:t>
            </a:r>
            <a:endParaRPr b="0" lang="en-US" sz="4000" spc="-1" strike="noStrike">
              <a:solidFill>
                <a:srgbClr val="000000"/>
              </a:solidFill>
              <a:latin typeface="Arial"/>
            </a:endParaRPr>
          </a:p>
        </p:txBody>
      </p:sp>
      <p:sp>
        <p:nvSpPr>
          <p:cNvPr id="15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Developmen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Implementat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Maintenanc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Requires chang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Peopl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Process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Wisdom Web: People</a:t>
            </a:r>
            <a:endParaRPr b="0" lang="en-US" sz="4000" spc="-1" strike="noStrike">
              <a:solidFill>
                <a:srgbClr val="000000"/>
              </a:solidFill>
              <a:latin typeface="Arial"/>
            </a:endParaRPr>
          </a:p>
        </p:txBody>
      </p:sp>
      <p:sp>
        <p:nvSpPr>
          <p:cNvPr id="15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Commitment from AIC staff to provide/maintain servic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Appoint person responsible for servic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Market servic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To exper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To start up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To graduate compani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As projects for ASU stud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Wisdom Web: Processes</a:t>
            </a:r>
            <a:endParaRPr b="0" lang="en-US" sz="4000" spc="-1" strike="noStrike">
              <a:solidFill>
                <a:srgbClr val="000000"/>
              </a:solidFill>
              <a:latin typeface="Arial"/>
            </a:endParaRPr>
          </a:p>
        </p:txBody>
      </p:sp>
      <p:sp>
        <p:nvSpPr>
          <p:cNvPr id="15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ffffcc"/>
                </a:solidFill>
                <a:latin typeface="Arial"/>
                <a:ea typeface="Arial"/>
              </a:rPr>
              <a:t>Knowledge captur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cc"/>
                </a:solidFill>
                <a:latin typeface="Arial"/>
                <a:ea typeface="Arial"/>
              </a:rPr>
              <a:t>Develop procedures for systematic capture by AIC employe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cc"/>
                </a:solidFill>
                <a:latin typeface="Arial"/>
                <a:ea typeface="Arial"/>
              </a:rPr>
              <a:t>Capture by member compani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cc"/>
                </a:solidFill>
                <a:latin typeface="Arial"/>
                <a:ea typeface="Arial"/>
              </a:rPr>
              <a:t>Develop incentives to encourage captur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ffffcc"/>
                </a:solidFill>
                <a:latin typeface="Arial"/>
                <a:ea typeface="Arial"/>
              </a:rPr>
              <a:t>Knowledge organization</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cc"/>
                </a:solidFill>
                <a:latin typeface="Arial"/>
                <a:ea typeface="Arial"/>
              </a:rPr>
              <a:t>Develop outlines or taxonomies of knowledge to be maintai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Wisdom Web: Technology</a:t>
            </a:r>
            <a:endParaRPr b="0" lang="en-US" sz="4000" spc="-1" strike="noStrike">
              <a:solidFill>
                <a:srgbClr val="000000"/>
              </a:solidFill>
              <a:latin typeface="Arial"/>
            </a:endParaRPr>
          </a:p>
        </p:txBody>
      </p:sp>
      <p:sp>
        <p:nvSpPr>
          <p:cNvPr id="16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Use an intranet or the Interne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200" spc="-1" strike="noStrike">
                <a:solidFill>
                  <a:srgbClr val="ffffcc"/>
                </a:solidFill>
                <a:latin typeface="Arial"/>
                <a:ea typeface="Arial"/>
              </a:rPr>
              <a:t>Internet technologies preferable given “clean slate” nature of project and potential scale</a:t>
            </a:r>
            <a:endParaRPr b="0" lang="en-US" sz="2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200" spc="-1" strike="noStrike">
                <a:solidFill>
                  <a:srgbClr val="ffffcc"/>
                </a:solidFill>
                <a:latin typeface="Arial"/>
                <a:ea typeface="Arial"/>
              </a:rPr>
              <a:t>Security issues must be addressed concerning which parties will be allowed access to the wisdom</a:t>
            </a:r>
            <a:endParaRPr b="0" lang="en-US" sz="2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Determine scope of projec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200" spc="-1" strike="noStrike">
                <a:solidFill>
                  <a:srgbClr val="ffffcc"/>
                </a:solidFill>
                <a:latin typeface="Arial"/>
                <a:ea typeface="Arial"/>
              </a:rPr>
              <a:t>Local/national/international business communities?</a:t>
            </a:r>
            <a:endParaRPr b="0" lang="en-US" sz="2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200" spc="-1" strike="noStrike">
                <a:solidFill>
                  <a:srgbClr val="ffffcc"/>
                </a:solidFill>
                <a:latin typeface="Arial"/>
                <a:ea typeface="Arial"/>
              </a:rPr>
              <a:t>Graduate and resident companies</a:t>
            </a:r>
            <a:endParaRPr b="0" lang="en-US" sz="2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200" spc="-1" strike="noStrike">
                <a:solidFill>
                  <a:srgbClr val="ffffcc"/>
                </a:solidFill>
                <a:latin typeface="Arial"/>
                <a:ea typeface="Arial"/>
              </a:rPr>
              <a:t>Local/national/international academic communiti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AIC Timeline</a:t>
            </a:r>
            <a:endParaRPr b="0" lang="en-US" sz="4000" spc="-1" strike="noStrike">
              <a:solidFill>
                <a:srgbClr val="000000"/>
              </a:solidFill>
              <a:latin typeface="Arial"/>
            </a:endParaRPr>
          </a:p>
        </p:txBody>
      </p:sp>
      <p:sp>
        <p:nvSpPr>
          <p:cNvPr id="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u="sng">
                <a:solidFill>
                  <a:srgbClr val="ffffcc"/>
                </a:solidFill>
                <a:uFillTx/>
                <a:latin typeface="Arial"/>
                <a:ea typeface="Arial"/>
              </a:rPr>
              <a:t>1988</a:t>
            </a:r>
            <a:r>
              <a:rPr b="0" lang="en-US" sz="2800" spc="-1" strike="noStrike">
                <a:solidFill>
                  <a:srgbClr val="ffffcc"/>
                </a:solidFill>
                <a:latin typeface="Arial"/>
                <a:ea typeface="Arial"/>
              </a:rPr>
              <a:t>: Initial funding obtained by founders, Dr. John Rutledge and Dr. Dale Gribble, at Arlen State University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u="sng">
                <a:solidFill>
                  <a:srgbClr val="ffffcc"/>
                </a:solidFill>
                <a:uFillTx/>
                <a:latin typeface="Arial"/>
                <a:ea typeface="Arial"/>
              </a:rPr>
              <a:t>1989</a:t>
            </a:r>
            <a:r>
              <a:rPr b="0" lang="en-US" sz="2800" spc="-1" strike="noStrike">
                <a:solidFill>
                  <a:srgbClr val="ffffcc"/>
                </a:solidFill>
                <a:latin typeface="Arial"/>
                <a:ea typeface="Arial"/>
              </a:rPr>
              <a:t>: AIC opens its first facility in a small, off-campus office suite; Judith Exner appointed Director of AIC</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u="sng">
                <a:solidFill>
                  <a:srgbClr val="ffffcc"/>
                </a:solidFill>
                <a:uFillTx/>
                <a:latin typeface="Arial"/>
                <a:ea typeface="Arial"/>
              </a:rPr>
              <a:t>1991</a:t>
            </a:r>
            <a:r>
              <a:rPr b="0" lang="en-US" sz="2800" spc="-1" strike="noStrike">
                <a:solidFill>
                  <a:srgbClr val="ffffcc"/>
                </a:solidFill>
                <a:latin typeface="Arial"/>
                <a:ea typeface="Arial"/>
              </a:rPr>
              <a:t>: Gribble leaves Arlen State for a position at the University of Saskatchew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Wisdom Web: Technology</a:t>
            </a:r>
            <a:endParaRPr b="0" lang="en-US" sz="4000" spc="-1" strike="noStrike">
              <a:solidFill>
                <a:srgbClr val="000000"/>
              </a:solidFill>
              <a:latin typeface="Arial"/>
            </a:endParaRPr>
          </a:p>
        </p:txBody>
      </p:sp>
      <p:sp>
        <p:nvSpPr>
          <p:cNvPr id="16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Product must b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Easily searchabl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Easily maintained/updat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Simple to us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Expandabl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Product typ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Robust, scalable back-end databas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Easy-to-use front-end brows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Wisdom Web: Recommendations</a:t>
            </a:r>
            <a:endParaRPr b="0" lang="en-US" sz="4000" spc="-1" strike="noStrike">
              <a:solidFill>
                <a:srgbClr val="000000"/>
              </a:solidFill>
              <a:latin typeface="Arial"/>
            </a:endParaRPr>
          </a:p>
        </p:txBody>
      </p:sp>
      <p:sp>
        <p:nvSpPr>
          <p:cNvPr id="17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Comprehensive yellow pages includi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Name, address, phone/fax number, e-mail, expertise available, fee structure, comments from previous user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Initial user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Local business and academic communiti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Graduate compani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Resident compan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Wisdom Web: Recommendations</a:t>
            </a:r>
            <a:endParaRPr b="0" lang="en-US" sz="4000" spc="-1" strike="noStrike">
              <a:solidFill>
                <a:srgbClr val="000000"/>
              </a:solidFill>
              <a:latin typeface="Arial"/>
            </a:endParaRPr>
          </a:p>
        </p:txBody>
      </p:sp>
      <p:sp>
        <p:nvSpPr>
          <p:cNvPr id="17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Restrict access to resident companies and AIC staff</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cc"/>
                </a:solidFill>
                <a:latin typeface="Arial"/>
                <a:ea typeface="Arial"/>
              </a:rPr>
              <a:t>Avoid conflicts among outside experts and between AIC and outside expert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cc"/>
                </a:solidFill>
                <a:latin typeface="Arial"/>
                <a:ea typeface="Arial"/>
              </a:rPr>
              <a:t>Allow publication of frank comments on levels of service from outside experts by member companie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cc"/>
                </a:solidFill>
                <a:latin typeface="Arial"/>
                <a:ea typeface="Arial"/>
              </a:rPr>
              <a:t>Avoid disclosure of proprietary information among outside expert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Future expansion capabiliti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cc"/>
                </a:solidFill>
                <a:latin typeface="Arial"/>
                <a:ea typeface="Arial"/>
              </a:rPr>
              <a:t>Standard documents (business plans, financial statements, etc.)</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cc"/>
                </a:solidFill>
                <a:latin typeface="Arial"/>
                <a:ea typeface="Arial"/>
              </a:rPr>
              <a:t>Articles, newsletters, fact sheet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cc"/>
                </a:solidFill>
                <a:latin typeface="Arial"/>
                <a:ea typeface="Arial"/>
              </a:rPr>
              <a:t>Other resources added by resid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Conclusion</a:t>
            </a:r>
            <a:endParaRPr b="0" lang="en-US" sz="4000" spc="-1" strike="noStrike">
              <a:solidFill>
                <a:srgbClr val="000000"/>
              </a:solidFill>
              <a:latin typeface="Arial"/>
            </a:endParaRPr>
          </a:p>
        </p:txBody>
      </p:sp>
      <p:sp>
        <p:nvSpPr>
          <p:cNvPr id="17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Core problems involve issues of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cc"/>
                </a:solidFill>
                <a:latin typeface="Arial"/>
                <a:ea typeface="Arial"/>
              </a:rPr>
              <a:t>Leadership</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cc"/>
                </a:solidFill>
                <a:latin typeface="Arial"/>
                <a:ea typeface="Arial"/>
              </a:rPr>
              <a:t>Organizational missio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cc"/>
                </a:solidFill>
                <a:latin typeface="Arial"/>
                <a:ea typeface="Arial"/>
              </a:rPr>
              <a:t>Organizational structur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cc"/>
                </a:solidFill>
                <a:latin typeface="Arial"/>
                <a:ea typeface="Arial"/>
              </a:rPr>
              <a:t>Employee turnove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Unless these problems are addressed effectively, any KM initiative is likely to fail</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ffffcc"/>
                </a:solidFill>
                <a:latin typeface="Arial"/>
                <a:ea typeface="Arial"/>
              </a:rPr>
              <a:t>Building a “Wisdom Web” Internet repository at this stage would be fut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09480" y="45720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Timeline (cont’d)</a:t>
            </a:r>
            <a:endParaRPr b="0" lang="en-US" sz="4000" spc="-1" strike="noStrike">
              <a:solidFill>
                <a:srgbClr val="000000"/>
              </a:solidFill>
              <a:latin typeface="Arial"/>
            </a:endParaRPr>
          </a:p>
        </p:txBody>
      </p:sp>
      <p:sp>
        <p:nvSpPr>
          <p:cNvPr id="101" name=""/>
          <p:cNvSpPr txBox="1"/>
          <p:nvPr/>
        </p:nvSpPr>
        <p:spPr>
          <a:xfrm>
            <a:off x="60948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700" spc="-1" strike="noStrike" u="sng">
                <a:solidFill>
                  <a:srgbClr val="ffffcc"/>
                </a:solidFill>
                <a:uFillTx/>
                <a:latin typeface="Arial"/>
                <a:ea typeface="Arial"/>
              </a:rPr>
              <a:t>1993</a:t>
            </a:r>
            <a:r>
              <a:rPr b="0" lang="en-US" sz="2700" spc="-1" strike="noStrike">
                <a:solidFill>
                  <a:srgbClr val="ffffcc"/>
                </a:solidFill>
                <a:latin typeface="Arial"/>
                <a:ea typeface="Arial"/>
              </a:rPr>
              <a:t>: Exner promoted to Director of CAT; J.D. Tippit hired as Director of AIC</a:t>
            </a:r>
            <a:endParaRPr b="0" lang="en-US" sz="27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700" spc="-1" strike="noStrike" u="sng">
                <a:solidFill>
                  <a:srgbClr val="ffffcc"/>
                </a:solidFill>
                <a:uFillTx/>
                <a:latin typeface="Arial"/>
                <a:ea typeface="Arial"/>
              </a:rPr>
              <a:t>1994</a:t>
            </a:r>
            <a:r>
              <a:rPr b="0" lang="en-US" sz="2700" spc="-1" strike="noStrike">
                <a:solidFill>
                  <a:srgbClr val="ffffcc"/>
                </a:solidFill>
                <a:latin typeface="Arial"/>
                <a:ea typeface="Arial"/>
              </a:rPr>
              <a:t>: Gribble returns from Saskatchewan and is named Director of ICE; AIC declared a success</a:t>
            </a:r>
            <a:endParaRPr b="0" lang="en-US" sz="27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700" spc="-1" strike="noStrike" u="sng">
                <a:solidFill>
                  <a:srgbClr val="ffffcc"/>
                </a:solidFill>
                <a:uFillTx/>
                <a:latin typeface="Arial"/>
                <a:ea typeface="Arial"/>
              </a:rPr>
              <a:t>1995</a:t>
            </a:r>
            <a:r>
              <a:rPr b="0" lang="en-US" sz="2700" spc="-1" strike="noStrike">
                <a:solidFill>
                  <a:srgbClr val="ffffcc"/>
                </a:solidFill>
                <a:latin typeface="Arial"/>
                <a:ea typeface="Arial"/>
              </a:rPr>
              <a:t>: AIC moves to new offices; Tippit </a:t>
            </a:r>
            <a:r>
              <a:rPr b="1" i="1" lang="en-US" sz="2700" spc="-1" strike="noStrike">
                <a:solidFill>
                  <a:srgbClr val="ffffcc"/>
                </a:solidFill>
                <a:latin typeface="Arial"/>
                <a:ea typeface="Arial"/>
              </a:rPr>
              <a:t>resigns</a:t>
            </a:r>
            <a:r>
              <a:rPr b="0" lang="en-US" sz="2700" spc="-1" strike="noStrike">
                <a:solidFill>
                  <a:srgbClr val="ffffcc"/>
                </a:solidFill>
                <a:latin typeface="Arial"/>
                <a:ea typeface="Arial"/>
              </a:rPr>
              <a:t>; James Carville hired as Director of Education and Research at AIC</a:t>
            </a:r>
            <a:endParaRPr b="0" lang="en-US" sz="27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700" spc="-1" strike="noStrike" u="sng">
                <a:solidFill>
                  <a:srgbClr val="ffffcc"/>
                </a:solidFill>
                <a:uFillTx/>
                <a:latin typeface="Arial"/>
                <a:ea typeface="Arial"/>
              </a:rPr>
              <a:t>1996</a:t>
            </a:r>
            <a:r>
              <a:rPr b="0" lang="en-US" sz="2700" spc="-1" strike="noStrike">
                <a:solidFill>
                  <a:srgbClr val="ffffcc"/>
                </a:solidFill>
                <a:latin typeface="Arial"/>
                <a:ea typeface="Arial"/>
              </a:rPr>
              <a:t>: Peggy Hill hired as Director of Operations at AIC</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Timeline (cont’d)</a:t>
            </a:r>
            <a:endParaRPr b="0" lang="en-US" sz="4000" spc="-1" strike="noStrike">
              <a:solidFill>
                <a:srgbClr val="000000"/>
              </a:solidFill>
              <a:latin typeface="Arial"/>
            </a:endParaRPr>
          </a:p>
        </p:txBody>
      </p:sp>
      <p:sp>
        <p:nvSpPr>
          <p:cNvPr id="1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000" spc="-1" strike="noStrike" u="sng">
                <a:solidFill>
                  <a:srgbClr val="ffffcc"/>
                </a:solidFill>
                <a:uFillTx/>
                <a:latin typeface="Arial"/>
                <a:ea typeface="Arial"/>
              </a:rPr>
              <a:t>1997</a:t>
            </a:r>
            <a:r>
              <a:rPr b="0" lang="en-US" sz="3000" spc="-1" strike="noStrike">
                <a:solidFill>
                  <a:srgbClr val="ffffcc"/>
                </a:solidFill>
                <a:latin typeface="Arial"/>
                <a:ea typeface="Arial"/>
              </a:rPr>
              <a:t>: Gribble </a:t>
            </a:r>
            <a:r>
              <a:rPr b="1" i="1" lang="en-US" sz="3000" spc="-1" strike="noStrike">
                <a:solidFill>
                  <a:srgbClr val="ffffcc"/>
                </a:solidFill>
                <a:latin typeface="Arial"/>
                <a:ea typeface="Arial"/>
              </a:rPr>
              <a:t>resigns</a:t>
            </a:r>
            <a:r>
              <a:rPr b="0" lang="en-US" sz="3000" spc="-1" strike="noStrike">
                <a:solidFill>
                  <a:srgbClr val="ffffcc"/>
                </a:solidFill>
                <a:latin typeface="Arial"/>
                <a:ea typeface="Arial"/>
              </a:rPr>
              <a:t> from ICE; Exner </a:t>
            </a:r>
            <a:r>
              <a:rPr b="1" i="1" lang="en-US" sz="3000" spc="-1" strike="noStrike">
                <a:solidFill>
                  <a:srgbClr val="ffffcc"/>
                </a:solidFill>
                <a:latin typeface="Arial"/>
                <a:ea typeface="Arial"/>
              </a:rPr>
              <a:t>resigns</a:t>
            </a:r>
            <a:r>
              <a:rPr b="0" lang="en-US" sz="3000" spc="-1" strike="noStrike">
                <a:solidFill>
                  <a:srgbClr val="ffffcc"/>
                </a:solidFill>
                <a:latin typeface="Arial"/>
                <a:ea typeface="Arial"/>
              </a:rPr>
              <a:t> from CAT; Carville </a:t>
            </a:r>
            <a:r>
              <a:rPr b="1" i="1" lang="en-US" sz="3000" spc="-1" strike="noStrike">
                <a:solidFill>
                  <a:srgbClr val="ffffcc"/>
                </a:solidFill>
                <a:latin typeface="Arial"/>
                <a:ea typeface="Arial"/>
              </a:rPr>
              <a:t>resigns</a:t>
            </a:r>
            <a:r>
              <a:rPr b="0" lang="en-US" sz="3000" spc="-1" strike="noStrike">
                <a:solidFill>
                  <a:srgbClr val="ffffcc"/>
                </a:solidFill>
                <a:latin typeface="Arial"/>
                <a:ea typeface="Arial"/>
              </a:rPr>
              <a:t> from AIC</a:t>
            </a:r>
            <a:endParaRPr b="0" lang="en-US" sz="3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000" spc="-1" strike="noStrike" u="sng">
                <a:solidFill>
                  <a:srgbClr val="ffffcc"/>
                </a:solidFill>
                <a:uFillTx/>
                <a:latin typeface="Arial"/>
                <a:ea typeface="Arial"/>
              </a:rPr>
              <a:t>1998</a:t>
            </a:r>
            <a:r>
              <a:rPr b="0" lang="en-US" sz="3000" spc="-1" strike="noStrike">
                <a:solidFill>
                  <a:srgbClr val="ffffcc"/>
                </a:solidFill>
                <a:latin typeface="Arial"/>
                <a:ea typeface="Arial"/>
              </a:rPr>
              <a:t>: Rutledge emerges from retirement to act as interim director of ICE; Clay Shaw hired as Director of Education and Research at AI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 descr=""/>
          <p:cNvPicPr/>
          <p:nvPr/>
        </p:nvPicPr>
        <p:blipFill>
          <a:blip r:embed="rId1"/>
          <a:stretch/>
        </p:blipFill>
        <p:spPr>
          <a:xfrm>
            <a:off x="878040" y="1244520"/>
            <a:ext cx="7323120" cy="4995720"/>
          </a:xfrm>
          <a:prstGeom prst="rect">
            <a:avLst/>
          </a:prstGeom>
          <a:ln w="0">
            <a:noFill/>
          </a:ln>
        </p:spPr>
      </p:pic>
      <p:sp>
        <p:nvSpPr>
          <p:cNvPr id="105" name=""/>
          <p:cNvSpPr txBox="1"/>
          <p:nvPr/>
        </p:nvSpPr>
        <p:spPr>
          <a:xfrm>
            <a:off x="2214720" y="430200"/>
            <a:ext cx="4491000" cy="579600"/>
          </a:xfrm>
          <a:prstGeom prst="rect">
            <a:avLst/>
          </a:prstGeom>
          <a:noFill/>
          <a:ln w="0">
            <a:noFill/>
          </a:ln>
        </p:spPr>
        <p:txBody>
          <a:bodyPr lIns="0" rIns="0" tIns="0" bIns="0" anchor="t">
            <a:noAutofit/>
          </a:bodyPr>
          <a:p>
            <a:pPr algn="ctr">
              <a:lnSpc>
                <a:spcPct val="100000"/>
              </a:lnSpc>
            </a:pPr>
            <a:r>
              <a:rPr b="1" lang="en-US" sz="3200" spc="-1" strike="noStrike">
                <a:solidFill>
                  <a:srgbClr val="ffcc00"/>
                </a:solidFill>
                <a:latin typeface="Arial"/>
                <a:ea typeface="Arial"/>
              </a:rPr>
              <a:t>AIC Organization 199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The Headless Snake</a:t>
            </a:r>
            <a:endParaRPr b="0" lang="en-US" sz="4000" spc="-1" strike="noStrike">
              <a:solidFill>
                <a:srgbClr val="000000"/>
              </a:solidFill>
              <a:latin typeface="Arial"/>
            </a:endParaRPr>
          </a:p>
        </p:txBody>
      </p:sp>
      <p:sp>
        <p:nvSpPr>
          <p:cNvPr id="10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ffffcc"/>
                </a:solidFill>
                <a:latin typeface="Arial"/>
                <a:ea typeface="Arial"/>
              </a:rPr>
              <a:t>Departure of 3 key employees in 1997</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ffffcc"/>
                </a:solidFill>
                <a:latin typeface="Arial"/>
                <a:ea typeface="Arial"/>
              </a:rPr>
              <a:t>Leadership vacuu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ffffcc"/>
                </a:solidFill>
                <a:latin typeface="Arial"/>
                <a:ea typeface="Arial"/>
              </a:rPr>
              <a:t>Organizational turmoil</a:t>
            </a:r>
            <a:endParaRPr b="0" lang="en-US" sz="3200" spc="-1" strike="noStrike">
              <a:solidFill>
                <a:srgbClr val="000000"/>
              </a:solidFill>
              <a:latin typeface="Arial"/>
            </a:endParaRPr>
          </a:p>
        </p:txBody>
      </p:sp>
      <p:pic>
        <p:nvPicPr>
          <p:cNvPr id="108" name="" descr=""/>
          <p:cNvPicPr/>
          <p:nvPr/>
        </p:nvPicPr>
        <p:blipFill>
          <a:blip r:embed="rId1"/>
          <a:stretch/>
        </p:blipFill>
        <p:spPr>
          <a:xfrm>
            <a:off x="2209680" y="4095720"/>
            <a:ext cx="3060720" cy="2603520"/>
          </a:xfrm>
          <a:prstGeom prst="rect">
            <a:avLst/>
          </a:prstGeom>
          <a:ln w="0">
            <a:noFill/>
          </a:ln>
        </p:spPr>
      </p:pic>
      <p:pic>
        <p:nvPicPr>
          <p:cNvPr id="109" name="" descr=""/>
          <p:cNvPicPr/>
          <p:nvPr/>
        </p:nvPicPr>
        <p:blipFill>
          <a:blip r:embed="rId2"/>
          <a:stretch/>
        </p:blipFill>
        <p:spPr>
          <a:xfrm>
            <a:off x="6095880" y="4572000"/>
            <a:ext cx="1384200" cy="95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533520" y="3808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Internal Climate</a:t>
            </a:r>
            <a:endParaRPr b="0" lang="en-US" sz="4000" spc="-1" strike="noStrike">
              <a:solidFill>
                <a:srgbClr val="000000"/>
              </a:solidFill>
              <a:latin typeface="Arial"/>
            </a:endParaRPr>
          </a:p>
        </p:txBody>
      </p:sp>
      <p:sp>
        <p:nvSpPr>
          <p:cNvPr id="111" name=""/>
          <p:cNvSpPr txBox="1"/>
          <p:nvPr/>
        </p:nvSpPr>
        <p:spPr>
          <a:xfrm>
            <a:off x="457200" y="1600200"/>
            <a:ext cx="8229600" cy="46483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600" spc="-1" strike="noStrike">
                <a:solidFill>
                  <a:srgbClr val="ffffcc"/>
                </a:solidFill>
                <a:latin typeface="Arial"/>
                <a:ea typeface="Arial"/>
              </a:rPr>
              <a:t>AIC Director’s position has remained open since 1995</a:t>
            </a:r>
            <a:endParaRPr b="0" lang="en-US" sz="2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600" spc="-1" strike="noStrike" u="sng">
                <a:solidFill>
                  <a:srgbClr val="ffffcc"/>
                </a:solidFill>
                <a:uFillTx/>
                <a:latin typeface="Arial"/>
                <a:ea typeface="Arial"/>
              </a:rPr>
              <a:t>Brochure</a:t>
            </a:r>
            <a:r>
              <a:rPr b="0" lang="en-US" sz="2600" spc="-1" strike="noStrike">
                <a:solidFill>
                  <a:srgbClr val="ffffcc"/>
                </a:solidFill>
                <a:latin typeface="Arial"/>
                <a:ea typeface="Arial"/>
              </a:rPr>
              <a:t>: “AIC is </a:t>
            </a:r>
            <a:r>
              <a:rPr b="1" i="1" lang="en-US" sz="2600" spc="-1" strike="noStrike">
                <a:solidFill>
                  <a:srgbClr val="ffffcc"/>
                </a:solidFill>
                <a:latin typeface="Arial"/>
                <a:ea typeface="Arial"/>
              </a:rPr>
              <a:t>led by</a:t>
            </a:r>
            <a:r>
              <a:rPr b="0" lang="en-US" sz="2600" spc="-1" strike="noStrike">
                <a:solidFill>
                  <a:srgbClr val="ffffcc"/>
                </a:solidFill>
                <a:latin typeface="Arial"/>
                <a:ea typeface="Arial"/>
              </a:rPr>
              <a:t> Peggy Hill, Director of Operations.”</a:t>
            </a:r>
            <a:endParaRPr b="0" lang="en-US" sz="2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600" spc="-1" strike="noStrike" u="sng">
                <a:solidFill>
                  <a:srgbClr val="ffffcc"/>
                </a:solidFill>
                <a:uFillTx/>
                <a:latin typeface="Arial"/>
                <a:ea typeface="Arial"/>
              </a:rPr>
              <a:t>Reality</a:t>
            </a:r>
            <a:r>
              <a:rPr b="0" lang="en-US" sz="2600" spc="-1" strike="noStrike">
                <a:solidFill>
                  <a:srgbClr val="ffffcc"/>
                </a:solidFill>
                <a:latin typeface="Arial"/>
                <a:ea typeface="Arial"/>
              </a:rPr>
              <a:t>: “There’s a lot of political maneuvering going on for the director’s position. They’ll probably hire someone from outside.”</a:t>
            </a:r>
            <a:endParaRPr b="0" lang="en-US" sz="2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600" spc="-1" strike="noStrike" u="sng">
                <a:solidFill>
                  <a:srgbClr val="ffffcc"/>
                </a:solidFill>
                <a:uFillTx/>
                <a:latin typeface="Arial"/>
                <a:ea typeface="Arial"/>
              </a:rPr>
              <a:t>Internal memo</a:t>
            </a:r>
            <a:r>
              <a:rPr b="0" lang="en-US" sz="2600" spc="-1" strike="noStrike">
                <a:solidFill>
                  <a:srgbClr val="ffffcc"/>
                </a:solidFill>
                <a:latin typeface="Arial"/>
                <a:ea typeface="Arial"/>
              </a:rPr>
              <a:t> from Rutledge: “The future of AIC remains uncertain.”</a:t>
            </a:r>
            <a:endParaRPr b="0" lang="en-US" sz="2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600" spc="-1" strike="noStrike" u="sng">
                <a:solidFill>
                  <a:srgbClr val="ffffcc"/>
                </a:solidFill>
                <a:uFillTx/>
                <a:latin typeface="Arial"/>
                <a:ea typeface="Arial"/>
              </a:rPr>
              <a:t>Employees</a:t>
            </a:r>
            <a:r>
              <a:rPr b="0" lang="en-US" sz="2600" spc="-1" strike="noStrike">
                <a:solidFill>
                  <a:srgbClr val="ffffcc"/>
                </a:solidFill>
                <a:latin typeface="Arial"/>
                <a:ea typeface="Arial"/>
              </a:rPr>
              <a:t>: “AIC is a great place to be </a:t>
            </a:r>
            <a:r>
              <a:rPr b="1" i="1" lang="en-US" sz="2600" spc="-1" strike="noStrike">
                <a:solidFill>
                  <a:srgbClr val="ffffcc"/>
                </a:solidFill>
                <a:latin typeface="Arial"/>
                <a:ea typeface="Arial"/>
              </a:rPr>
              <a:t>from.</a:t>
            </a:r>
            <a:r>
              <a:rPr b="0" lang="en-US" sz="2600" spc="-1" strike="noStrike">
                <a:solidFill>
                  <a:srgbClr val="ffffcc"/>
                </a:solidFill>
                <a:latin typeface="Arial"/>
                <a:ea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cc00"/>
                </a:solidFill>
                <a:latin typeface="Arial"/>
                <a:ea typeface="Arial"/>
              </a:rPr>
              <a:t>Internal Climate (cont’d)</a:t>
            </a:r>
            <a:endParaRPr b="0" lang="en-US" sz="4000" spc="-1" strike="noStrike">
              <a:solidFill>
                <a:srgbClr val="000000"/>
              </a:solidFill>
              <a:latin typeface="Arial"/>
            </a:endParaRPr>
          </a:p>
        </p:txBody>
      </p:sp>
      <p:sp>
        <p:nvSpPr>
          <p:cNvPr id="113" name=""/>
          <p:cNvSpPr txBox="1"/>
          <p:nvPr/>
        </p:nvSpPr>
        <p:spPr>
          <a:xfrm>
            <a:off x="685800" y="1981080"/>
            <a:ext cx="7848720" cy="43434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200" spc="-1" strike="noStrike">
                <a:solidFill>
                  <a:srgbClr val="ffffcc"/>
                </a:solidFill>
                <a:latin typeface="Arial"/>
                <a:ea typeface="Arial"/>
              </a:rPr>
              <a:t>“</a:t>
            </a:r>
            <a:r>
              <a:rPr b="0" lang="en-US" sz="2200" spc="-1" strike="noStrike">
                <a:solidFill>
                  <a:srgbClr val="ffffcc"/>
                </a:solidFill>
                <a:latin typeface="Arial"/>
                <a:ea typeface="Arial"/>
              </a:rPr>
              <a:t>No one knows who they report to or what their roles are in the organization. The council has lost its sense of purpose and direction. Now there’s no place to go for answers.”</a:t>
            </a:r>
            <a:endParaRPr b="0" lang="en-US" sz="2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200" spc="-1" strike="noStrike">
                <a:solidFill>
                  <a:srgbClr val="ffffcc"/>
                </a:solidFill>
                <a:latin typeface="Arial"/>
                <a:ea typeface="Arial"/>
              </a:rPr>
              <a:t>Average employee tenure 2-3 years</a:t>
            </a:r>
            <a:endParaRPr b="0" lang="en-US" sz="2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cc"/>
                </a:solidFill>
                <a:latin typeface="Arial"/>
                <a:ea typeface="Arial"/>
              </a:rPr>
              <a:t>No path for advancement within AIC or ICE (“dead-end job”)</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cc"/>
                </a:solidFill>
                <a:latin typeface="Arial"/>
                <a:ea typeface="Arial"/>
              </a:rPr>
              <a:t>Excessive workload</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cc"/>
                </a:solidFill>
                <a:latin typeface="Arial"/>
                <a:ea typeface="Arial"/>
              </a:rPr>
              <a:t>Low morale</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ffffcc"/>
                </a:solidFill>
                <a:latin typeface="Arial"/>
                <a:ea typeface="Arial"/>
              </a:rPr>
              <a:t>Low pay</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200" spc="-1" strike="noStrike">
                <a:solidFill>
                  <a:srgbClr val="ffffcc"/>
                </a:solidFill>
                <a:latin typeface="Arial"/>
                <a:ea typeface="Arial"/>
              </a:rPr>
              <a:t>“</a:t>
            </a:r>
            <a:r>
              <a:rPr b="0" lang="en-US" sz="2200" spc="-1" strike="noStrike">
                <a:solidFill>
                  <a:srgbClr val="ffffcc"/>
                </a:solidFill>
                <a:latin typeface="Arial"/>
                <a:ea typeface="Arial"/>
              </a:rPr>
              <a:t>AIC has suffered a complete internal organizational upheaval since Dr. Gribble left.”</a:t>
            </a:r>
            <a:endParaRPr b="0" lang="en-US" sz="2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200" spc="-1" strike="noStrike">
                <a:solidFill>
                  <a:srgbClr val="ffffcc"/>
                </a:solidFill>
                <a:latin typeface="Arial"/>
                <a:ea typeface="Arial"/>
              </a:rPr>
              <a:t>“</a:t>
            </a:r>
            <a:r>
              <a:rPr b="0" lang="en-US" sz="2200" spc="-1" strike="noStrike">
                <a:solidFill>
                  <a:srgbClr val="ffffcc"/>
                </a:solidFill>
                <a:latin typeface="Arial"/>
                <a:ea typeface="Arial"/>
              </a:rPr>
              <a:t>Judith Exner was the driving force behind AI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en Ballengee</dc:creator>
  <dc:description/>
  <dc:language>en-US</dc:language>
  <cp:lastModifiedBy>Scott and Julie Hinshaw</cp:lastModifiedBy>
  <cp:revision>0</cp:revision>
  <dc:subject/>
  <dc:title>No Slide Title</dc:title>
</cp:coreProperties>
</file>