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AD8C-B99A-41AE-809E-A2ECA1740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4CC6-BD5E-4282-9739-298D05297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C681-7296-40E7-BBCD-CBB50895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DBBF-A298-48CE-A150-8404ECF77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33C6-D1B1-4D74-9216-AE714E793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B204-5BB1-4026-9854-345D4827D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896A-D06A-4A56-BA23-B9B606B10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F020-B58B-43EF-9752-22DDF244E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F5E1-DF73-4508-9AB0-92BD8B212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D90C-78AE-415B-9127-BE5A9963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E9B7-A173-4B07-B6C5-A0DE10574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D22B-CF55-4214-B32F-80A427275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F37B-1630-471B-8202-DFC716BAA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9160" y="1595520"/>
            <a:ext cx="114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2E3-85E2-41D9-B45B-26209F903C0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1752480"/>
            <a:ext cx="9067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116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ies in the Knowledge Oin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Daven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exas at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nd Knowled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on the Knowledge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 of our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origi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atur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deficit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 hype over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Knowledge Wort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never know in the gener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can lead to lots of specific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reduction in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production dow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 per call, fewer calls in custom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nefits will never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value of bette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already spend trillions 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hich the overall value is decidedly un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ye of little fai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ave All Those Bad Old Idea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could lead to a slavish devotion to existing ideas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a long way from that problem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in Japan they should w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problem is much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“new” ideas are combinations or repackagings of old ones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of KM systems should be encouraged to build on existing ideas, not use them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Management is an Oxymor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human and emerges from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it can’t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lso learn from structured forms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can facilitate finding the right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rs can manipulate who works with wh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for knowledge is already in short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create more of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attract it to where it’s most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become skilled at attention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ill technology really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attention economy replace the monetary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Not Too Much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right mix of knowing and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will surely focus too much on kn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 balance depen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dividual’s ability as a kno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 of the per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’s industry and business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 know for the rest of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credible Hype 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zz i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uple of conferences per month, at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hortage of books, artic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s (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nts (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vendors (ug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ith “knowledge” in their titles (st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terminological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get beyond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d-surfers look for the next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theless, I’m Optimis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knowledge workers ou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an enduring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 use of knowledge seems to correlate with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industries have no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have had a 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are getting smarter about h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8T07:04:19Z</dcterms:created>
  <dc:creator>Tom</dc:creator>
  <dc:description/>
  <cp:keywords>Index ecology CIO</cp:keywords>
  <dc:language>en-US</dc:language>
  <cp:lastModifiedBy>Tom &amp; Jodi Davenport</cp:lastModifiedBy>
  <cp:lastPrinted>1998-04-29T14:20:41Z</cp:lastPrinted>
  <dcterms:modified xsi:type="dcterms:W3CDTF">1998-05-05T12:58:28Z</dcterms:modified>
  <cp:revision>35</cp:revision>
  <dc:subject/>
  <dc:title>Balancing Technology and Ecology</dc:title>
</cp:coreProperties>
</file>