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290-B368-4633-AEF1-013E5C29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2858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3FF-DDCE-4D25-8CA4-E9ABFB19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076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E0D-A0EB-49F4-A713-4BE8DCC0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080" y="20570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3720" y="20570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2858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080" y="42858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3720" y="42858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4A4-075C-43D9-BF13-46E62443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7269-684B-4B60-AFBA-288DDDF9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B62-12AC-47EC-A93C-2752AF89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076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7D2-4A50-4165-BDDF-F958559C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7B78-0DA1-4461-84A5-2AFAE5E8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E0A9-2048-48C6-BB18-B7703C8B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A42-E9E9-4052-8DA1-FF1FC240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076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E84-8BB9-4147-B929-71F6F605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2858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48D9-3EE3-4EF7-91BB-7DC11649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E001-5F81-4B7B-8811-C88E1D9F87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8380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96200" y="46080"/>
            <a:ext cx="875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B2A5-4EA3-43B1-8922-673A3D8D3A8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nowledge Work and Knowledge Manage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 Daven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 and Knowledg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ch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Least of These Is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3657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it takes is money an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lready have much of it any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vendors are solving the problem fo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this off ‘til la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1523880"/>
            <a:ext cx="2362320" cy="2133720"/>
          </a:xfrm>
          <a:prstGeom prst="ellipse">
            <a:avLst/>
          </a:prstGeom>
          <a:solidFill>
            <a:srgbClr val="66ff66"/>
          </a:solidFill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2840" y="2362320"/>
            <a:ext cx="179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nowledge Management Technology Environm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5791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 technologies for multiple purp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 lives! (for specific narrow domai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for information access,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s for discussion and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ural nets for data into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ument management for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rastructure a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dicated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n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ktop and communications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289480" y="1854360"/>
          <a:ext cx="3618000" cy="40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9480" y="1854360"/>
                    <a:ext cx="361800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nowledge Technology Dilemma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124080" y="1981080"/>
            <a:ext cx="6019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 me now or structure me la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ilitate the work of experts or no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cus on tacit or explicit knowledg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t energy into technology or into people facilitating technology (e.g., data mining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 the knowledge or point to peo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977760"/>
            <a:ext cx="324972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676520"/>
            <a:ext cx="8001000" cy="487656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438280"/>
            <a:ext cx="6248520" cy="31244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3124080"/>
            <a:ext cx="2666880" cy="137160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M’s Really More Complex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3352680"/>
            <a:ext cx="1746000" cy="74952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1760" y="3505320"/>
            <a:ext cx="169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4724280"/>
            <a:ext cx="1746360" cy="74952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89680" y="487692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3429000"/>
            <a:ext cx="1746360" cy="74916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99360" y="3581280"/>
            <a:ext cx="116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960" y="25146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3733920"/>
            <a:ext cx="1746360" cy="74916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3886200"/>
            <a:ext cx="163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6960" y="32004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9200" y="19051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5410080"/>
            <a:ext cx="1746000" cy="74952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4760" y="5486400"/>
            <a:ext cx="11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ric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5638680"/>
            <a:ext cx="1746000" cy="74952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1800" y="5791320"/>
            <a:ext cx="142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5334120"/>
            <a:ext cx="1746000" cy="74916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4880" y="5486400"/>
            <a:ext cx="1559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naging Knowledge Cont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entlessly adding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, Comparison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ces, Concis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ucturing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standing, flex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xonom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le of thesau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chitecting for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vs. M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865760" y="2273400"/>
            <a:ext cx="420192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670572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Big Picture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Knowledge Strateg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20" y="1828800"/>
            <a:ext cx="63244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knowledge content really matters to us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does our knowledge environment need improvement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we make money on our knowledge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uld we make, buy or sell    our knowledge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we measure progress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248520" y="2449440"/>
            <a:ext cx="2895480" cy="23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nowledge Re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l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40M/yr. at Dow in patent and licens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months faster to NDA at Ro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ed customer face time at Genentech, Astra-Mer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% higher sales for new sales reps after 6 months at Sequ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facturing/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days less downtime per incident at B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er production curves at National Semico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% reduction in dispatches at Rank Xer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% reduction in cost/call at HP in two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ne Lin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" y="1581120"/>
          <a:ext cx="8888400" cy="47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81120"/>
                    <a:ext cx="888840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666880" y="4114440"/>
            <a:ext cx="472464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ucture vs.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vs.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ng term vs.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s vs. her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8120" y="1828800"/>
            <a:ext cx="2361960" cy="2133720"/>
          </a:xfrm>
          <a:prstGeom prst="ellipse">
            <a:avLst/>
          </a:prstGeom>
          <a:solidFill>
            <a:srgbClr val="66ff66"/>
          </a:solidFill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Now Abideth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3200400"/>
            <a:ext cx="2361960" cy="2133720"/>
          </a:xfrm>
          <a:prstGeom prst="ellipse">
            <a:avLst/>
          </a:prstGeom>
          <a:solidFill>
            <a:srgbClr val="66ffff"/>
          </a:solidFill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3200400"/>
            <a:ext cx="2279520" cy="2133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1960" y="2590920"/>
            <a:ext cx="169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1760" y="40384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99160" y="4038480"/>
            <a:ext cx="116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the greatest of these is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organizational structure, culture, networks, roles and responsibiliti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ng knowledge and learning from it are highly volitional and largely invi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ft stuff is always the hard stu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1523880"/>
            <a:ext cx="2279520" cy="2133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13000" y="236232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ople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nowledge Works through Network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A Communities of Practice, Interest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exist before (or at least simultaneously with)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financial community” that was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meet socially and FtF on occa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ength of weak ties (for sear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trong ties needed for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48560" y="1143000"/>
            <a:ext cx="1495440" cy="2130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4727520"/>
            <a:ext cx="1495440" cy="2130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762120"/>
            <a:ext cx="1495440" cy="213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648560" y="4727520"/>
            <a:ext cx="1495440" cy="2130480"/>
          </a:xfrm>
          <a:prstGeom prst="rect">
            <a:avLst/>
          </a:prstGeom>
          <a:ln w="0">
            <a:noFill/>
          </a:ln>
        </p:spPr>
      </p:pic>
      <p:cxnSp>
        <p:nvCxnSpPr>
          <p:cNvPr id="61" name=""/>
          <p:cNvCxnSpPr>
            <a:stCxn id="59" idx="3"/>
            <a:endCxn id="57" idx="1"/>
          </p:cNvCxnSpPr>
          <p:nvPr/>
        </p:nvCxnSpPr>
        <p:spPr>
          <a:xfrm>
            <a:off x="1495440" y="1827360"/>
            <a:ext cx="6153840" cy="381600"/>
          </a:xfrm>
          <a:prstGeom prst="straightConnector1">
            <a:avLst/>
          </a:prstGeom>
          <a:ln w="12600">
            <a:solidFill>
              <a:srgbClr val="3365fb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62" name=""/>
          <p:cNvCxnSpPr>
            <a:stCxn id="59" idx="2"/>
            <a:endCxn id="58" idx="0"/>
          </p:cNvCxnSpPr>
          <p:nvPr/>
        </p:nvCxnSpPr>
        <p:spPr>
          <a:xfrm>
            <a:off x="747360" y="2892240"/>
            <a:ext cx="1080" cy="1835640"/>
          </a:xfrm>
          <a:prstGeom prst="straightConnector1">
            <a:avLst/>
          </a:prstGeom>
          <a:ln w="12600">
            <a:solidFill>
              <a:srgbClr val="3365fb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63" name=""/>
          <p:cNvCxnSpPr>
            <a:stCxn id="58" idx="3"/>
            <a:endCxn id="60" idx="1"/>
          </p:cNvCxnSpPr>
          <p:nvPr/>
        </p:nvCxnSpPr>
        <p:spPr>
          <a:xfrm>
            <a:off x="1495440" y="5792400"/>
            <a:ext cx="6153840" cy="1080"/>
          </a:xfrm>
          <a:prstGeom prst="straightConnector1">
            <a:avLst/>
          </a:prstGeom>
          <a:ln w="12600">
            <a:solidFill>
              <a:srgbClr val="3365fb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64" name=""/>
          <p:cNvCxnSpPr>
            <a:stCxn id="57" idx="2"/>
            <a:endCxn id="60" idx="0"/>
          </p:cNvCxnSpPr>
          <p:nvPr/>
        </p:nvCxnSpPr>
        <p:spPr>
          <a:xfrm>
            <a:off x="8395920" y="3273120"/>
            <a:ext cx="1080" cy="1454760"/>
          </a:xfrm>
          <a:prstGeom prst="straightConnector1">
            <a:avLst/>
          </a:prstGeom>
          <a:ln w="12600">
            <a:solidFill>
              <a:srgbClr val="3365fb"/>
            </a:solidFill>
            <a:miter/>
            <a:headEnd len="sm" type="triangle" w="sm"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Roles of Peop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ledge l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KO vs. 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ledge initiative mana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ledge foot sold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work facilit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orters and ed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st importantly, everybody 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much division of knowledge lab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832280" y="984240"/>
          <a:ext cx="40388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32280" y="984240"/>
                    <a:ext cx="40388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520" y="1903320"/>
            <a:ext cx="62485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cultures oriented to creating and sharing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hortation vs.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aluation and incentive structures that reward knowledge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atively democratic knowledge poli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nowledge-Oriented Culture and Organiz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875120" y="3890880"/>
          <a:ext cx="4267440" cy="27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5120" y="3890880"/>
                    <a:ext cx="426744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e 2nd Greatest is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3809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ledge work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ing, R&amp;D, customer service, consulting, managing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ledge management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, capture, refine, distribute, use, mon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1523880"/>
            <a:ext cx="2362320" cy="2133720"/>
          </a:xfrm>
          <a:prstGeom prst="ellipse">
            <a:avLst/>
          </a:prstGeom>
          <a:solidFill>
            <a:srgbClr val="66ffff"/>
          </a:solidFill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89680" y="2362320"/>
            <a:ext cx="1270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ing Knowledge Work Proce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call it reengineering, but don’t leave it al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cess orientation is OK, but also expl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and with whom peopl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ing the unit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knowledge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486400" y="2819520"/>
          <a:ext cx="36576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819520"/>
                    <a:ext cx="36576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28800" y="5226120"/>
            <a:ext cx="1095480" cy="163188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king Knowledge Proce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7400" y="5759280"/>
            <a:ext cx="84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rea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48520" y="1563840"/>
            <a:ext cx="1095480" cy="157608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ff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96080" y="1523880"/>
            <a:ext cx="1095480" cy="163224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00800" y="1523880"/>
            <a:ext cx="1095120" cy="163224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1480" y="1503360"/>
            <a:ext cx="1095480" cy="163188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2160" y="1523880"/>
            <a:ext cx="1095480" cy="163224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19360" y="1523880"/>
            <a:ext cx="1095120" cy="163224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1760" y="2173320"/>
            <a:ext cx="84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3720" y="2173320"/>
            <a:ext cx="75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6360" y="2173320"/>
            <a:ext cx="9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opos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1280" y="2173320"/>
            <a:ext cx="89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live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360" y="2173320"/>
            <a:ext cx="8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ses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76600" y="2173320"/>
            <a:ext cx="80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a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380880" y="1752480"/>
            <a:ext cx="20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e.g.) The Consulting Proces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762120" y="541008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owledge Management Proces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429000"/>
            <a:ext cx="533520" cy="685800"/>
          </a:xfrm>
          <a:prstGeom prst="upDownArrow">
            <a:avLst>
              <a:gd name="adj1" fmla="val 50000"/>
              <a:gd name="adj2" fmla="val 25589"/>
            </a:avLst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610480" y="3429000"/>
            <a:ext cx="533520" cy="685800"/>
          </a:xfrm>
          <a:prstGeom prst="upDownArrow">
            <a:avLst>
              <a:gd name="adj1" fmla="val 50000"/>
              <a:gd name="adj2" fmla="val 25589"/>
            </a:avLst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48520" y="5189400"/>
            <a:ext cx="1095480" cy="157644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ff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96080" y="5149800"/>
            <a:ext cx="1095480" cy="163188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0800" y="5149800"/>
            <a:ext cx="1095120" cy="163188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1480" y="5129280"/>
            <a:ext cx="1095480" cy="163188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2160" y="5149800"/>
            <a:ext cx="1095480" cy="1631880"/>
          </a:xfrm>
          <a:custGeom>
            <a:avLst/>
            <a:gdLst/>
            <a:ahLst/>
            <a:rect l="l" t="t" r="r" b="b"/>
            <a:pathLst>
              <a:path w="1458" h="1425">
                <a:moveTo>
                  <a:pt x="925" y="336"/>
                </a:moveTo>
                <a:lnTo>
                  <a:pt x="0" y="336"/>
                </a:lnTo>
                <a:lnTo>
                  <a:pt x="0" y="1089"/>
                </a:lnTo>
                <a:lnTo>
                  <a:pt x="953" y="1089"/>
                </a:lnTo>
                <a:lnTo>
                  <a:pt x="953" y="1424"/>
                </a:lnTo>
                <a:lnTo>
                  <a:pt x="1457" y="727"/>
                </a:lnTo>
                <a:lnTo>
                  <a:pt x="925" y="0"/>
                </a:lnTo>
                <a:lnTo>
                  <a:pt x="925" y="336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7760" y="5607000"/>
            <a:ext cx="1061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pture/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or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2680" y="5759280"/>
            <a:ext cx="82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fin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040" y="5607000"/>
            <a:ext cx="947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b-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5759280"/>
            <a:ext cx="5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46080" y="5759280"/>
            <a:ext cx="99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4400" y="5835600"/>
            <a:ext cx="84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rea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9520" y="3200400"/>
            <a:ext cx="449604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ots and prot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de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2520" y="3505320"/>
            <a:ext cx="261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Link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Mechanis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9T20:43:54Z</dcterms:created>
  <dc:creator>Brett R. Bunch</dc:creator>
  <dc:description/>
  <dc:language>en-US</dc:language>
  <cp:lastModifiedBy>Tom &amp; Jodi Davenport</cp:lastModifiedBy>
  <cp:lastPrinted>1997-09-09T02:30:42Z</cp:lastPrinted>
  <dcterms:modified xsi:type="dcterms:W3CDTF">1998-03-11T03:08:58Z</dcterms:modified>
  <cp:revision>24</cp:revision>
  <dc:subject/>
  <dc:title>Managing Knowledge</dc:title>
</cp:coreProperties>
</file>