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42100" cy="9777413"/>
  <p:custShowLst>
    <p:custShow name="Spring 2003" id="0">
      <p:sldLst>
        <p:sld r:id="rId4"/>
        <p:sld r:id="rId5"/>
        <p:sld r:id="rId6"/>
        <p:sld r:id="rId8"/>
        <p:sld r:id="rId9"/>
        <p:sld r:id="rId10"/>
        <p:sld r:id="rId11"/>
        <p:sld r:id="rId13"/>
        <p:sld r:id="rId14"/>
        <p:sld r:id="rId15"/>
        <p:sld r:id="rId16"/>
        <p:sld r:id="rId17"/>
        <p:sld r:id="rId18"/>
        <p:sld r:id="rId20"/>
        <p:sld r:id="rId21"/>
        <p:sld r:id="rId22"/>
        <p:sld r:id="rId23"/>
        <p:sld r:id="rId24"/>
        <p:sld r:id="rId25"/>
        <p:sld r:id="rId26"/>
        <p:sld r:id="rId27"/>
        <p:sld r:id="rId30"/>
        <p:sld r:id="rId31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63600" y="907920"/>
            <a:ext cx="3898800" cy="2924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85600" y="4662360"/>
            <a:ext cx="4870440" cy="43466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240" bIns="3924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8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te clusteren in 2 groep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-    1 op gebied van Behavioural invals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-    1 op gebied Information/Knowledge transfer invals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vandaag gekozen voor symboliek van het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huis begin je te bouwen bij het Fund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Fundament moet af zijn voordat je de Muren op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Plafond en dak zijn resultante van Fundament en M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Het geheel heeft value based Knowledge Management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0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ntroduction  </a:t>
            </a:r>
            <a:fld id="{5725C999-557B-4A02-8E18-469586D45983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Knowledge Management?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tion technology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uters as support tools for dealing with large quantities of knowledge an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usiness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nefits for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hilosophical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pistemology: what is knowledge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in Perspectiv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76520" y="1603440"/>
          <a:ext cx="5937120" cy="48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3440"/>
                    <a:ext cx="593712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959280" y="6553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veiby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Defini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arl-Erik Sveiby (Organization Theorist)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Knowledge Management is the art of creating value from an organizations intangible assets.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John Gundy, Knowledge Ability (KM Company)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Knowledge Management is the process of placing knowledge under management remit.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9280" y="6553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veiby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Phas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1992 - 1995: productivity enhance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nformation technology used to share knowledge across organiz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tus Notes, Web pages, project databases, best practices, ..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1995 - 2000: customer rel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nformation about customers be utiliz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ata warehousing, data mi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2000 - 2003: intera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active Web pages, e-commerc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2002 - ??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operability (XML, Web services and related technologies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pretation (ontologies, Semantic Web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9280" y="6553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veiby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 rot="16200000">
            <a:off x="2703240" y="-725400"/>
            <a:ext cx="2667240" cy="6756480"/>
          </a:xfrm>
          <a:custGeom>
            <a:avLst/>
            <a:gdLst>
              <a:gd name="textAreaLeft" fmla="*/ -360 w 2667240"/>
              <a:gd name="textAreaRight" fmla="*/ 2667240 w 2667240"/>
              <a:gd name="textAreaTop" fmla="*/ 0 h 6756480"/>
              <a:gd name="textAreaBottom" fmla="*/ 6756840 h 675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c7300"/>
              </a:gs>
              <a:gs pos="100000">
                <a:srgbClr val="30c200"/>
              </a:gs>
            </a:gsLst>
            <a:lin ang="5400000"/>
          </a:gradFill>
          <a:ln w="2556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2520" y="1616040"/>
            <a:ext cx="7370640" cy="447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fundamen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of KM represents a set of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Behavioural/Structural Conditions</a:t>
            </a:r>
            <a:br>
              <a:rPr sz="2400"/>
            </a:b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401760" indent="-401760">
              <a:spcBef>
                <a:spcPts val="601"/>
              </a:spcBef>
              <a:spcAft>
                <a:spcPts val="4799"/>
              </a:spcAft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wall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of KM represent a set of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Operational Conditions</a:t>
            </a:r>
            <a:br>
              <a:rPr sz="2400"/>
            </a:b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401760" indent="-4017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roof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of KM represents the corporate knowledge by which learning, innovation, speed and productivity will be enhanc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639200" y="2597040"/>
            <a:ext cx="1374480" cy="1049400"/>
            <a:chOff x="7639200" y="2597040"/>
            <a:chExt cx="1374480" cy="1049400"/>
          </a:xfrm>
        </p:grpSpPr>
        <p:sp>
          <p:nvSpPr>
            <p:cNvPr id="79" name=""/>
            <p:cNvSpPr/>
            <p:nvPr/>
          </p:nvSpPr>
          <p:spPr>
            <a:xfrm>
              <a:off x="8667720" y="2914560"/>
              <a:ext cx="1440" cy="73044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28120" y="3646440"/>
              <a:ext cx="94284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78880" y="3314520"/>
              <a:ext cx="266760" cy="325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43840" y="2793960"/>
              <a:ext cx="0" cy="52236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119800" y="3316320"/>
              <a:ext cx="82548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725960" y="2917800"/>
              <a:ext cx="1800" cy="72216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728120" y="3316320"/>
              <a:ext cx="392040" cy="31896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15480" y="2914560"/>
              <a:ext cx="2880" cy="40176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9600" y="2863800"/>
              <a:ext cx="64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39200" y="2813040"/>
              <a:ext cx="1326960" cy="100080"/>
            </a:xfrm>
            <a:prstGeom prst="parallelogram">
              <a:avLst>
                <a:gd name="adj" fmla="val 339332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5440" y="2959200"/>
              <a:ext cx="46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45440" y="2959200"/>
              <a:ext cx="46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218440" y="2620800"/>
              <a:ext cx="235080" cy="14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01160" y="2905200"/>
              <a:ext cx="14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01160" y="2905200"/>
              <a:ext cx="14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8320" y="2598840"/>
              <a:ext cx="855360" cy="268200"/>
            </a:xfrm>
            <a:custGeom>
              <a:avLst/>
              <a:gdLst/>
              <a:ahLst/>
              <a:rect l="l" t="t" r="r" b="b"/>
              <a:pathLst>
                <a:path w="539" h="169">
                  <a:moveTo>
                    <a:pt x="409" y="168"/>
                  </a:moveTo>
                  <a:lnTo>
                    <a:pt x="538" y="123"/>
                  </a:lnTo>
                  <a:lnTo>
                    <a:pt x="180" y="0"/>
                  </a:lnTo>
                  <a:lnTo>
                    <a:pt x="0" y="26"/>
                  </a:lnTo>
                  <a:lnTo>
                    <a:pt x="409" y="168"/>
                  </a:lnTo>
                </a:path>
              </a:pathLst>
            </a:custGeom>
            <a:noFill/>
            <a:ln cap="rnd" w="12600">
              <a:solidFill>
                <a:srgbClr val="00cece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75840" y="2597040"/>
              <a:ext cx="496800" cy="208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39200" y="2641680"/>
              <a:ext cx="1112760" cy="26496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618320" y="1306440"/>
            <a:ext cx="1489320" cy="1046160"/>
            <a:chOff x="7618320" y="1306440"/>
            <a:chExt cx="1489320" cy="1046160"/>
          </a:xfrm>
        </p:grpSpPr>
        <p:sp>
          <p:nvSpPr>
            <p:cNvPr id="98" name=""/>
            <p:cNvSpPr/>
            <p:nvPr/>
          </p:nvSpPr>
          <p:spPr>
            <a:xfrm>
              <a:off x="8744040" y="1631880"/>
              <a:ext cx="0" cy="69696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13720" y="2330280"/>
              <a:ext cx="1030320" cy="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724960" y="2011320"/>
              <a:ext cx="320760" cy="34128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45720" y="1501920"/>
              <a:ext cx="0" cy="509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8139240" y="2009880"/>
              <a:ext cx="907920" cy="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13720" y="1646280"/>
              <a:ext cx="0" cy="6811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715160" y="1987200"/>
              <a:ext cx="466920" cy="33660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37440" y="1644480"/>
              <a:ext cx="0" cy="365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63080" y="1569960"/>
              <a:ext cx="936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18320" y="1523880"/>
              <a:ext cx="1447920" cy="82800"/>
            </a:xfrm>
            <a:prstGeom prst="parallelogram">
              <a:avLst>
                <a:gd name="adj" fmla="val 447536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80360" y="1657440"/>
              <a:ext cx="64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80360" y="1657440"/>
              <a:ext cx="64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253360" y="1331640"/>
              <a:ext cx="252360" cy="140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9600" y="1609560"/>
              <a:ext cx="32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804160" y="1503000"/>
              <a:ext cx="279360" cy="8892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1609560"/>
              <a:ext cx="32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821800" y="1501560"/>
              <a:ext cx="285840" cy="99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34520" y="1306440"/>
              <a:ext cx="539640" cy="208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8320" y="1347840"/>
              <a:ext cx="1217880" cy="25704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439040" y="4173480"/>
            <a:ext cx="1555560" cy="1127160"/>
            <a:chOff x="7439040" y="4173480"/>
            <a:chExt cx="1555560" cy="1127160"/>
          </a:xfrm>
        </p:grpSpPr>
        <p:sp>
          <p:nvSpPr>
            <p:cNvPr id="118" name=""/>
            <p:cNvSpPr/>
            <p:nvPr/>
          </p:nvSpPr>
          <p:spPr>
            <a:xfrm>
              <a:off x="8623440" y="4532400"/>
              <a:ext cx="0" cy="7682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20040" y="5300640"/>
              <a:ext cx="110340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32800" y="4950000"/>
              <a:ext cx="316080" cy="349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947080" y="4384800"/>
              <a:ext cx="0" cy="565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980120" y="4948200"/>
              <a:ext cx="96660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0040" y="4546440"/>
              <a:ext cx="0" cy="75276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521480" y="4950000"/>
              <a:ext cx="461880" cy="342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80480" y="4548240"/>
              <a:ext cx="0" cy="403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09000" y="4459320"/>
              <a:ext cx="32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29520" y="4560840"/>
              <a:ext cx="79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29520" y="4560840"/>
              <a:ext cx="79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8099280" y="4200480"/>
              <a:ext cx="270000" cy="158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77320" y="4503600"/>
              <a:ext cx="936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6800" y="4385880"/>
              <a:ext cx="301680" cy="10476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503600"/>
              <a:ext cx="936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594640" y="4376520"/>
              <a:ext cx="355680" cy="16020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97720" y="4173480"/>
              <a:ext cx="596880" cy="22716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39040" y="4235400"/>
              <a:ext cx="1270080" cy="32724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080200" y="4176360"/>
              <a:ext cx="324000" cy="5868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1800" y="382320"/>
            <a:ext cx="914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Analogy: Building a Hous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centives for Knowledge Shar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60240" y="1697040"/>
            <a:ext cx="6577560" cy="4813200"/>
            <a:chOff x="2460240" y="1697040"/>
            <a:chExt cx="6577560" cy="4813200"/>
          </a:xfrm>
        </p:grpSpPr>
        <p:sp>
          <p:nvSpPr>
            <p:cNvPr id="141" name=""/>
            <p:cNvSpPr/>
            <p:nvPr/>
          </p:nvSpPr>
          <p:spPr>
            <a:xfrm>
              <a:off x="2508120" y="4438800"/>
              <a:ext cx="4954680" cy="998280"/>
            </a:xfrm>
            <a:custGeom>
              <a:avLst/>
              <a:gdLst/>
              <a:ahLst/>
              <a:rect l="l" t="t" r="r" b="b"/>
              <a:pathLst>
                <a:path w="3121" h="629">
                  <a:moveTo>
                    <a:pt x="0" y="628"/>
                  </a:moveTo>
                  <a:lnTo>
                    <a:pt x="841" y="0"/>
                  </a:lnTo>
                  <a:lnTo>
                    <a:pt x="3120" y="0"/>
                  </a:lnTo>
                  <a:lnTo>
                    <a:pt x="2467" y="628"/>
                  </a:lnTo>
                  <a:lnTo>
                    <a:pt x="0" y="628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8040" y="2344680"/>
              <a:ext cx="25560" cy="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78240" y="3063960"/>
              <a:ext cx="0" cy="236376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394320" y="4427640"/>
              <a:ext cx="1103400" cy="1008000"/>
            </a:xfrm>
            <a:prstGeom prst="line">
              <a:avLst/>
            </a:prstGeom>
            <a:ln w="25560">
              <a:solidFill>
                <a:srgbClr val="00cec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97720" y="2604960"/>
              <a:ext cx="0" cy="182268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835080" y="4422600"/>
              <a:ext cx="3662280" cy="5040"/>
            </a:xfrm>
            <a:prstGeom prst="line">
              <a:avLst/>
            </a:prstGeom>
            <a:ln w="25560">
              <a:solidFill>
                <a:srgbClr val="00cece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479680" y="4460400"/>
              <a:ext cx="1343160" cy="963720"/>
            </a:xfrm>
            <a:prstGeom prst="line">
              <a:avLst/>
            </a:prstGeom>
            <a:ln w="25560">
              <a:solidFill>
                <a:srgbClr val="00cece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65880" y="3063960"/>
              <a:ext cx="0" cy="238104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73200" y="5446800"/>
              <a:ext cx="3891240" cy="0"/>
            </a:xfrm>
            <a:prstGeom prst="line">
              <a:avLst/>
            </a:prstGeom>
            <a:ln w="25560">
              <a:solidFill>
                <a:srgbClr val="00cece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36880" y="2608200"/>
              <a:ext cx="0" cy="185436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84360" y="2549520"/>
              <a:ext cx="5052960" cy="507960"/>
            </a:xfrm>
            <a:prstGeom prst="parallelogram">
              <a:avLst>
                <a:gd name="adj" fmla="val 254584"/>
              </a:avLst>
            </a:prstGeom>
            <a:noFill/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600440" y="1698480"/>
              <a:ext cx="917640" cy="10800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507000" y="2208240"/>
              <a:ext cx="935280" cy="25704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19880" y="1697040"/>
              <a:ext cx="1917720" cy="50976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84360" y="1805040"/>
              <a:ext cx="4065840" cy="6714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613640" y="3772080"/>
              <a:ext cx="1424160" cy="977760"/>
              <a:chOff x="7613640" y="3772080"/>
              <a:chExt cx="1424160" cy="977760"/>
            </a:xfrm>
          </p:grpSpPr>
          <p:sp>
            <p:nvSpPr>
              <p:cNvPr id="157" name=""/>
              <p:cNvSpPr/>
              <p:nvPr/>
            </p:nvSpPr>
            <p:spPr>
              <a:xfrm>
                <a:off x="7642080" y="3772080"/>
                <a:ext cx="1295640" cy="97776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13640" y="3798720"/>
                <a:ext cx="1424160" cy="90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240" rIns="84240" tIns="42840" bIns="428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3160"/>
                    <a:tab algn="l" pos="1606680"/>
                    <a:tab algn="l" pos="2409840"/>
                    <a:tab algn="l" pos="3213000"/>
                    <a:tab algn="l" pos="4016520"/>
                    <a:tab algn="l" pos="4819680"/>
                    <a:tab algn="l" pos="5622840"/>
                    <a:tab algn="l" pos="6426360"/>
                    <a:tab algn="l" pos="7229520"/>
                    <a:tab algn="l" pos="8032680"/>
                    <a:tab algn="l" pos="8836200"/>
                    <a:tab algn="l" pos="9639360"/>
                    <a:tab algn="l" pos="10442520"/>
                  </a:tabLst>
                </a:pPr>
                <a:r>
                  <a:rPr b="1" i="1" lang="en-US" sz="1800" spc="-1" strike="noStrike">
                    <a:solidFill>
                      <a:srgbClr val="00cece"/>
                    </a:solidFill>
                    <a:latin typeface="Arial"/>
                  </a:rPr>
                  <a:t>Open, </a:t>
                </a:r>
                <a:endParaRPr b="0" lang="en-US" sz="18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03160"/>
                    <a:tab algn="l" pos="1606680"/>
                    <a:tab algn="l" pos="2409840"/>
                    <a:tab algn="l" pos="3213000"/>
                    <a:tab algn="l" pos="4016520"/>
                    <a:tab algn="l" pos="4819680"/>
                    <a:tab algn="l" pos="5622840"/>
                    <a:tab algn="l" pos="6426360"/>
                    <a:tab algn="l" pos="7229520"/>
                    <a:tab algn="l" pos="8032680"/>
                    <a:tab algn="l" pos="8836200"/>
                    <a:tab algn="l" pos="9639360"/>
                    <a:tab algn="l" pos="10442520"/>
                  </a:tabLst>
                </a:pPr>
                <a:r>
                  <a:rPr b="1" i="1" lang="en-US" sz="1800" spc="-1" strike="noStrike">
                    <a:solidFill>
                      <a:srgbClr val="00cece"/>
                    </a:solidFill>
                    <a:latin typeface="Arial"/>
                  </a:rPr>
                  <a:t>sharing </a:t>
                </a:r>
                <a:endParaRPr b="0" lang="en-US" sz="18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03160"/>
                    <a:tab algn="l" pos="1606680"/>
                    <a:tab algn="l" pos="2409840"/>
                    <a:tab algn="l" pos="3213000"/>
                    <a:tab algn="l" pos="4016520"/>
                    <a:tab algn="l" pos="4819680"/>
                    <a:tab algn="l" pos="5622840"/>
                    <a:tab algn="l" pos="6426360"/>
                    <a:tab algn="l" pos="7229520"/>
                    <a:tab algn="l" pos="8032680"/>
                    <a:tab algn="l" pos="8836200"/>
                    <a:tab algn="l" pos="9639360"/>
                    <a:tab algn="l" pos="10442520"/>
                  </a:tabLst>
                </a:pPr>
                <a:r>
                  <a:rPr b="1" i="1" lang="en-US" sz="1800" spc="-1" strike="noStrike">
                    <a:solidFill>
                      <a:srgbClr val="00cece"/>
                    </a:solidFill>
                    <a:latin typeface="Arial"/>
                  </a:rPr>
                  <a:t>culture</a:t>
                </a:r>
                <a:endParaRPr b="0" lang="en-US" sz="1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rot="18960000">
              <a:off x="6445440" y="4889160"/>
              <a:ext cx="17496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KNOWLEDGE SHAR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126120" y="5575320"/>
              <a:ext cx="1339920" cy="934920"/>
              <a:chOff x="6126120" y="5575320"/>
              <a:chExt cx="1339920" cy="934920"/>
            </a:xfrm>
          </p:grpSpPr>
          <p:sp>
            <p:nvSpPr>
              <p:cNvPr id="161" name=""/>
              <p:cNvSpPr/>
              <p:nvPr/>
            </p:nvSpPr>
            <p:spPr>
              <a:xfrm>
                <a:off x="6126120" y="5630760"/>
                <a:ext cx="1295280" cy="8794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70760" y="5575320"/>
                <a:ext cx="1295280" cy="90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240" rIns="84240" tIns="42840" bIns="428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3160"/>
                    <a:tab algn="l" pos="1606680"/>
                    <a:tab algn="l" pos="2409840"/>
                    <a:tab algn="l" pos="3213000"/>
                    <a:tab algn="l" pos="4016520"/>
                    <a:tab algn="l" pos="4819680"/>
                    <a:tab algn="l" pos="5622840"/>
                    <a:tab algn="l" pos="6426360"/>
                    <a:tab algn="l" pos="7229520"/>
                    <a:tab algn="l" pos="8032680"/>
                    <a:tab algn="l" pos="8836200"/>
                    <a:tab algn="l" pos="9639360"/>
                    <a:tab algn="l" pos="10442520"/>
                  </a:tabLst>
                </a:pPr>
                <a:r>
                  <a:rPr b="1" i="1" lang="en-US" sz="1800" spc="-1" strike="noStrike">
                    <a:solidFill>
                      <a:srgbClr val="00cece"/>
                    </a:solidFill>
                    <a:latin typeface="Arial"/>
                  </a:rPr>
                  <a:t>Non-sharing culture</a:t>
                </a:r>
                <a:endParaRPr b="0" lang="en-US" sz="1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19320000">
              <a:off x="2411280" y="4681080"/>
              <a:ext cx="13287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TEAMWORK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9280" y="4151160"/>
              <a:ext cx="200160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COMMITMENT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20880" y="5500800"/>
              <a:ext cx="294156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ORGANISATION STRUCTURE &amp; PROCESS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400" spc="-1" strike="noStrike">
                  <a:solidFill>
                    <a:srgbClr val="00cece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09520" y="1306440"/>
            <a:ext cx="2533680" cy="172044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6666cb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erformance metric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Science workshop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Technology exchange network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Extra budg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grated Systems for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17720" y="2343240"/>
            <a:ext cx="7072200" cy="3752640"/>
            <a:chOff x="1917720" y="2343240"/>
            <a:chExt cx="7072200" cy="3752640"/>
          </a:xfrm>
        </p:grpSpPr>
        <p:sp>
          <p:nvSpPr>
            <p:cNvPr id="170" name=""/>
            <p:cNvSpPr/>
            <p:nvPr/>
          </p:nvSpPr>
          <p:spPr>
            <a:xfrm>
              <a:off x="7248600" y="4513320"/>
              <a:ext cx="1635120" cy="10666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30920" y="2990880"/>
              <a:ext cx="23760" cy="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22400" y="3709800"/>
              <a:ext cx="0" cy="2363760"/>
            </a:xfrm>
            <a:prstGeom prst="line">
              <a:avLst/>
            </a:prstGeom>
            <a:ln w="50760">
              <a:solidFill>
                <a:srgbClr val="00cece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829480" y="5073480"/>
              <a:ext cx="1112760" cy="100656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42240" y="3251160"/>
              <a:ext cx="0" cy="182232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281040" y="5068800"/>
              <a:ext cx="3660840" cy="468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922400" y="5106600"/>
              <a:ext cx="1344600" cy="96372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10400" y="3709800"/>
              <a:ext cx="0" cy="2381400"/>
            </a:xfrm>
            <a:prstGeom prst="line">
              <a:avLst/>
            </a:prstGeom>
            <a:ln w="50760">
              <a:solidFill>
                <a:srgbClr val="00cece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20960" y="6092640"/>
              <a:ext cx="3889440" cy="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82840" y="3254400"/>
              <a:ext cx="0" cy="1854000"/>
            </a:xfrm>
            <a:prstGeom prst="line">
              <a:avLst/>
            </a:prstGeom>
            <a:ln w="50760">
              <a:solidFill>
                <a:srgbClr val="00cece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28880" y="3195720"/>
              <a:ext cx="5018040" cy="507960"/>
            </a:xfrm>
            <a:prstGeom prst="parallelogram">
              <a:avLst>
                <a:gd name="adj" fmla="val 252824"/>
              </a:avLst>
            </a:prstGeom>
            <a:noFill/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044960" y="2344680"/>
              <a:ext cx="917640" cy="10800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951520" y="2854440"/>
              <a:ext cx="934920" cy="25704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64040" y="2343240"/>
              <a:ext cx="1917720" cy="50940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28880" y="2450880"/>
              <a:ext cx="4065480" cy="67176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6680" y="4626000"/>
              <a:ext cx="1724040" cy="9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800" spc="-1" strike="noStrike">
                  <a:solidFill>
                    <a:srgbClr val="00cece"/>
                  </a:solidFill>
                  <a:latin typeface="Arial"/>
                </a:rPr>
                <a:t>Separate information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800" spc="-1" strike="noStrike">
                  <a:solidFill>
                    <a:srgbClr val="00cece"/>
                  </a:solidFill>
                  <a:latin typeface="Arial"/>
                </a:rPr>
                <a:t>system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19520" y="4317840"/>
              <a:ext cx="208584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RESEARCH 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3951360"/>
              <a:ext cx="17240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ENABLING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TECHNOLOGI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1540000">
              <a:off x="3240000" y="3708360"/>
              <a:ext cx="16797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UPGRAD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OF EXISTING KNOWLEDG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400" spc="-1" strike="noStrike">
                  <a:solidFill>
                    <a:srgbClr val="00cece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41480" y="4452840"/>
              <a:ext cx="137016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GENER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OF NEW IDEAS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29520" y="2684520"/>
              <a:ext cx="1635120" cy="10666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94600" y="2808360"/>
              <a:ext cx="1795320" cy="9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800" spc="-1" strike="noStrike">
                  <a:solidFill>
                    <a:srgbClr val="00cece"/>
                  </a:solidFill>
                  <a:latin typeface="Arial"/>
                </a:rPr>
                <a:t>Integrated Information System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17720" y="5097600"/>
              <a:ext cx="4954680" cy="998280"/>
            </a:xfrm>
            <a:custGeom>
              <a:avLst/>
              <a:gdLst/>
              <a:ahLst/>
              <a:rect l="l" t="t" r="r" b="b"/>
              <a:pathLst>
                <a:path w="3121" h="629">
                  <a:moveTo>
                    <a:pt x="0" y="628"/>
                  </a:moveTo>
                  <a:lnTo>
                    <a:pt x="841" y="0"/>
                  </a:lnTo>
                  <a:lnTo>
                    <a:pt x="3120" y="0"/>
                  </a:lnTo>
                  <a:lnTo>
                    <a:pt x="2467" y="628"/>
                  </a:lnTo>
                  <a:lnTo>
                    <a:pt x="0" y="628"/>
                  </a:lnTo>
                </a:path>
              </a:pathLst>
            </a:custGeom>
            <a:noFill/>
            <a:ln w="9360">
              <a:solidFill>
                <a:srgbClr val="fcfe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09520" y="1488960"/>
            <a:ext cx="2533680" cy="196380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6666cb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Database 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Groupwar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Web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User-interface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Intran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Behavioral and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ructural Compon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726160" y="968760"/>
            <a:ext cx="2783160" cy="2174040"/>
            <a:chOff x="5726160" y="968760"/>
            <a:chExt cx="2783160" cy="2174040"/>
          </a:xfrm>
        </p:grpSpPr>
        <p:sp>
          <p:nvSpPr>
            <p:cNvPr id="197" name=""/>
            <p:cNvSpPr/>
            <p:nvPr/>
          </p:nvSpPr>
          <p:spPr>
            <a:xfrm>
              <a:off x="5785920" y="2438280"/>
              <a:ext cx="264132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5520" rIns="155520" tIns="77760" bIns="7776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Univers 45 Light"/>
                </a:rPr>
                <a:t>Preparing initiativ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Univers 45 Light"/>
                </a:rPr>
                <a:t>Initiative in plac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726160" y="968760"/>
              <a:ext cx="2783160" cy="1605240"/>
              <a:chOff x="5726160" y="968760"/>
              <a:chExt cx="2783160" cy="1605240"/>
            </a:xfrm>
          </p:grpSpPr>
          <p:sp>
            <p:nvSpPr>
              <p:cNvPr id="199" name=""/>
              <p:cNvSpPr/>
              <p:nvPr/>
            </p:nvSpPr>
            <p:spPr>
              <a:xfrm>
                <a:off x="6012000" y="2171880"/>
                <a:ext cx="1804680" cy="0"/>
              </a:xfrm>
              <a:prstGeom prst="line">
                <a:avLst/>
              </a:prstGeom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8600000">
                <a:off x="5661000" y="1467000"/>
                <a:ext cx="14943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not in place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8600000">
                <a:off x="6253560" y="1629000"/>
                <a:ext cx="1105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starting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8600000">
                <a:off x="6870960" y="1539000"/>
                <a:ext cx="1290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advanc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8600000">
                <a:off x="7432920" y="1608480"/>
                <a:ext cx="11163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realis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18120" y="2178000"/>
                <a:ext cx="1177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34000" y="217800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78760" y="217800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93200" y="2178000"/>
                <a:ext cx="11736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26160" y="215892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1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42040" y="215892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2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87880" y="2158920"/>
                <a:ext cx="547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3  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02320" y="215892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4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745560" y="3260880"/>
            <a:ext cx="7635960" cy="2446920"/>
            <a:chOff x="745560" y="3260880"/>
            <a:chExt cx="7635960" cy="2446920"/>
          </a:xfrm>
        </p:grpSpPr>
        <p:sp>
          <p:nvSpPr>
            <p:cNvPr id="213" name=""/>
            <p:cNvSpPr/>
            <p:nvPr/>
          </p:nvSpPr>
          <p:spPr>
            <a:xfrm>
              <a:off x="2009160" y="5176800"/>
              <a:ext cx="16495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Hierarchical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organisation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21320" y="5172120"/>
              <a:ext cx="33796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Process-oriented</a:t>
              </a:r>
              <a:br>
                <a:rPr sz="1800"/>
              </a:b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organisation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023920" y="4017600"/>
              <a:ext cx="1074960" cy="101916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00320" y="4017960"/>
              <a:ext cx="3301920" cy="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52920" y="4809960"/>
              <a:ext cx="1791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Power cultur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60120" y="4013280"/>
              <a:ext cx="202140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Open &amp; sharing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cultur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5560" y="4451400"/>
              <a:ext cx="132516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Focus on</a:t>
              </a:r>
              <a:br>
                <a:rPr sz="1800"/>
              </a:b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individual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succes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80480" y="3517920"/>
              <a:ext cx="124560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Focus on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group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succes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0480" y="3260880"/>
              <a:ext cx="188424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No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understanding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of KM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1840" y="3479760"/>
              <a:ext cx="22654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Top manag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commitment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73000" y="515628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cfeb9"/>
                  </a:solidFill>
                  <a:latin typeface="Univers 45 Light"/>
                </a:rPr>
                <a:t>2,3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35080" y="4025880"/>
              <a:ext cx="4346640" cy="1039680"/>
            </a:xfrm>
            <a:prstGeom prst="parallelogram">
              <a:avLst>
                <a:gd name="adj" fmla="val 104499"/>
              </a:avLst>
            </a:prstGeom>
            <a:solidFill>
              <a:srgbClr val="fc0128"/>
            </a:solidFill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48720" y="452772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cfeb9"/>
                  </a:solidFill>
                  <a:latin typeface="Univers 45 Light"/>
                </a:rPr>
                <a:t>2,0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11320" y="5062680"/>
              <a:ext cx="1752480" cy="0"/>
            </a:xfrm>
            <a:prstGeom prst="line">
              <a:avLst/>
            </a:prstGeom>
            <a:ln w="50760">
              <a:solidFill>
                <a:srgbClr val="e62a05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364000" y="4529160"/>
              <a:ext cx="533520" cy="533520"/>
            </a:xfrm>
            <a:prstGeom prst="line">
              <a:avLst/>
            </a:prstGeom>
            <a:ln w="50760">
              <a:solidFill>
                <a:srgbClr val="e62a05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78000" y="3995640"/>
              <a:ext cx="1143000" cy="0"/>
            </a:xfrm>
            <a:prstGeom prst="line">
              <a:avLst/>
            </a:prstGeom>
            <a:ln w="50760">
              <a:solidFill>
                <a:srgbClr val="e62a05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011320" y="4529160"/>
              <a:ext cx="533520" cy="533520"/>
            </a:xfrm>
            <a:prstGeom prst="line">
              <a:avLst/>
            </a:prstGeom>
            <a:ln w="50760">
              <a:solidFill>
                <a:srgbClr val="e62a05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883120" y="4425480"/>
              <a:ext cx="109800" cy="117720"/>
            </a:xfrm>
            <a:prstGeom prst="line">
              <a:avLst/>
            </a:prstGeom>
            <a:ln w="50760">
              <a:solidFill>
                <a:srgbClr val="30c2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529000" y="4352760"/>
              <a:ext cx="230040" cy="198720"/>
            </a:xfrm>
            <a:prstGeom prst="line">
              <a:avLst/>
            </a:prstGeom>
            <a:ln w="50760">
              <a:solidFill>
                <a:srgbClr val="30c2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2760" y="5056200"/>
              <a:ext cx="216000" cy="0"/>
            </a:xfrm>
            <a:prstGeom prst="line">
              <a:avLst/>
            </a:prstGeom>
            <a:ln w="50760">
              <a:solidFill>
                <a:srgbClr val="30c2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21000" y="4024440"/>
              <a:ext cx="990720" cy="0"/>
            </a:xfrm>
            <a:prstGeom prst="line">
              <a:avLst/>
            </a:prstGeom>
            <a:ln w="50760">
              <a:solidFill>
                <a:srgbClr val="30c2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77720" y="452772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cfeb9"/>
                  </a:solidFill>
                  <a:latin typeface="Univers 45 Light"/>
                </a:rPr>
                <a:t>2,1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72960" y="399420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cfeb9"/>
                  </a:solidFill>
                  <a:latin typeface="Univers 45 Light"/>
                </a:rPr>
                <a:t>1,9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906480" y="6005520"/>
            <a:ext cx="827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Univers 45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Univers 45 Light"/>
              </a:rPr>
              <a:t>On the behavioural/structural axis, there is still enough improvement potential.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44600" y="5754600"/>
            <a:ext cx="8832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Operational Compon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396120" y="1806840"/>
            <a:ext cx="2772000" cy="2174400"/>
            <a:chOff x="6396120" y="1806840"/>
            <a:chExt cx="2772000" cy="2174400"/>
          </a:xfrm>
        </p:grpSpPr>
        <p:sp>
          <p:nvSpPr>
            <p:cNvPr id="241" name=""/>
            <p:cNvSpPr/>
            <p:nvPr/>
          </p:nvSpPr>
          <p:spPr>
            <a:xfrm>
              <a:off x="6455880" y="3276720"/>
              <a:ext cx="264132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5520" rIns="155520" tIns="77760" bIns="7776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Univers 45 Light"/>
                </a:rPr>
                <a:t>Preparing initiativ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Univers 45 Light"/>
                </a:rPr>
                <a:t>Initiative in plac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396120" y="1806840"/>
              <a:ext cx="2772000" cy="1605600"/>
              <a:chOff x="6396120" y="1806840"/>
              <a:chExt cx="2772000" cy="1605600"/>
            </a:xfrm>
          </p:grpSpPr>
          <p:sp>
            <p:nvSpPr>
              <p:cNvPr id="243" name=""/>
              <p:cNvSpPr/>
              <p:nvPr/>
            </p:nvSpPr>
            <p:spPr>
              <a:xfrm>
                <a:off x="6681960" y="3009960"/>
                <a:ext cx="1804680" cy="0"/>
              </a:xfrm>
              <a:prstGeom prst="line">
                <a:avLst/>
              </a:prstGeom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8600000">
                <a:off x="6330960" y="2305080"/>
                <a:ext cx="14943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not in place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8600000">
                <a:off x="6923520" y="2467080"/>
                <a:ext cx="1105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starting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600000">
                <a:off x="7548840" y="2378520"/>
                <a:ext cx="1290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advanc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600000">
                <a:off x="8091720" y="2445120"/>
                <a:ext cx="11163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realis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688080" y="3016080"/>
                <a:ext cx="11736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03960" y="301608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48720" y="301608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362800" y="3016080"/>
                <a:ext cx="1177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396120" y="299736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1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12000" y="299736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2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57840" y="2997360"/>
                <a:ext cx="547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3  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072280" y="299736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4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1652760" y="1438200"/>
            <a:ext cx="4371840" cy="4194360"/>
          </a:xfrm>
          <a:prstGeom prst="cube">
            <a:avLst>
              <a:gd name="adj" fmla="val 24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52760" y="2100240"/>
            <a:ext cx="3328920" cy="385920"/>
          </a:xfrm>
          <a:prstGeom prst="triangle">
            <a:avLst>
              <a:gd name="adj" fmla="val 49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14760" y="1035000"/>
            <a:ext cx="3328920" cy="390600"/>
          </a:xfrm>
          <a:prstGeom prst="triangle">
            <a:avLst>
              <a:gd name="adj" fmla="val 49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341520" y="1028880"/>
            <a:ext cx="1019520" cy="104112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650960" y="4593960"/>
            <a:ext cx="1074600" cy="101916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27360" y="4594320"/>
            <a:ext cx="330192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727360" y="1460160"/>
            <a:ext cx="0" cy="313380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75640" y="4027320"/>
            <a:ext cx="23140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Knowledge stor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mentally an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physicall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05160" y="1306440"/>
            <a:ext cx="21265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Integrat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databases linked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with workflow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" y="5092560"/>
            <a:ext cx="14454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Ad-hoc 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knowledg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cre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720" y="2470320"/>
            <a:ext cx="1482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Structured,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strategic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knowledg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cre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4160" y="4165560"/>
            <a:ext cx="1250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Ad-hoc data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collec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47520" y="319896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20"/>
                </a:solidFill>
                <a:latin typeface="Univers 45 Light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2560" y="444024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2,0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77400" y="324324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76960" y="1438200"/>
            <a:ext cx="1328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Professional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research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method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641600" y="4525560"/>
            <a:ext cx="0" cy="11113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641600" y="4179960"/>
            <a:ext cx="0" cy="37440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724120" y="3341520"/>
            <a:ext cx="0" cy="127008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029280" y="3357720"/>
            <a:ext cx="0" cy="123984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724120" y="3053880"/>
            <a:ext cx="0" cy="30348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12840" y="2577960"/>
            <a:ext cx="11739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support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decision-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mak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22240" y="5311800"/>
            <a:ext cx="2045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Non-customized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data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22800" y="3060360"/>
            <a:ext cx="0" cy="291960"/>
          </a:xfrm>
          <a:prstGeom prst="line">
            <a:avLst/>
          </a:prstGeom>
          <a:ln w="25560">
            <a:solidFill>
              <a:srgbClr val="30c2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28640" y="4591080"/>
            <a:ext cx="4402440" cy="1106280"/>
          </a:xfrm>
          <a:custGeom>
            <a:avLst/>
            <a:gdLst/>
            <a:ahLst/>
            <a:rect l="l" t="t" r="r" b="b"/>
            <a:pathLst>
              <a:path w="2773" h="697">
                <a:moveTo>
                  <a:pt x="0" y="666"/>
                </a:moveTo>
                <a:lnTo>
                  <a:pt x="690" y="0"/>
                </a:lnTo>
                <a:lnTo>
                  <a:pt x="2772" y="0"/>
                </a:lnTo>
                <a:lnTo>
                  <a:pt x="2112" y="660"/>
                </a:lnTo>
                <a:lnTo>
                  <a:pt x="6" y="660"/>
                </a:lnTo>
                <a:lnTo>
                  <a:pt x="6" y="696"/>
                </a:lnTo>
              </a:path>
            </a:pathLst>
          </a:custGeom>
          <a:noFill/>
          <a:ln w="93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93560" y="423720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1,9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989600" y="4049640"/>
            <a:ext cx="0" cy="51912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89600" y="4568760"/>
            <a:ext cx="0" cy="108288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89600" y="4539960"/>
            <a:ext cx="0" cy="10969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9000" y="5907240"/>
            <a:ext cx="8488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Univers 45 Light"/>
              </a:rPr>
              <a:t>A quick fix is not possible with regard to the implementation of KM.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Univers 45 Light"/>
              </a:rPr>
              <a:t>Step by step, the KM performance should be improved.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ustrial vs. Knowledge Compan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3600" y="6553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???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se Study: KM for Course Prepar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asy case: re-use existing materia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 book, presentation material, student assignments, exams, pro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icult case: brand-new cour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existing material suitable for teaching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isting sour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search monographs, edited volumes, related text books, conference proceedings, journal special issues, articles, technical reports, white papers, company brochures, Web pag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Development as KM Applic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velopment of a course outlin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 of relevant materi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traction of relevant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 of various knowledge pie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fferent representation media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aper (books, journals)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microfilm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digital (electronic versions of books, journals, etc; Web pages; data bases, computer programs)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esent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sentation mediu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 of 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velopment of exerci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s for Course Prepar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urse outlin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cece"/>
                </a:solidFill>
                <a:latin typeface="Arial"/>
              </a:rPr>
              <a:t>paper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ditor, spreadshee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dentification of material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earch engines, library catalog/DB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rganization of material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cece"/>
                </a:solidFill>
                <a:latin typeface="Arial"/>
              </a:rPr>
              <a:t>folders, labels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irectories, fil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traction of knowledg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cece"/>
                </a:solidFill>
                <a:latin typeface="Arial"/>
              </a:rPr>
              <a:t>paper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ext editor, help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gration of pieces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resentation program, help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sentation of knowledg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resentation progra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ext edito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velopment of exercises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ext editor,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elp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c0"/>
                </a:solidFill>
                <a:latin typeface="Arial"/>
              </a:rPr>
              <a:t>Deficiencies of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much of the tedious work is left to the instructor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little support for important knowledge management activities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primitive tools are used for high-level tasks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lvl="2" marL="925920" indent="-205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rectories, file names for the categorization of knowledge i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at Cal Pol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kind of knowledge is essential for such an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are the tools in common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76312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for Stud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are important KM nee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KM tasks do you perform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ich tools and techniques do you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can be improved through smarter comput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sentation of 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traction of 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dentification of 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gration of 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managem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Introd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ith the increase in the amount of information and knowledge, knowledge management will play a very important role in our professional and personal liv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lthough a lot of knowledge is available in digital form, computer support for KM is medioc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ny basic techniques and methods have been developed, but their integration into easily usable systems and tools is still miss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Introd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hy do we need to know all this stuff?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hat you should know afterwar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I can find out if you know what you should know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arm-Up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 Study: My Personal Need for K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nding and organizing materials for this clas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ols to support thi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 Study: KM at an Organization like Cal Po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ll the old and new ter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f you know this, you may be able to survive the clas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: non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: som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s: t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ts and Knowledge Manage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Proliferation of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all stre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 physical asse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ke money by utilizing knowledge about investment opportunit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sulta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ave knowledge about some specialized task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ll customers what to do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y be gone by the time their solutions are found to be flaw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ergy broker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anies that don’t own any physical facilities, but buy and sell ener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de enormous  profits during the 2000/2001 energy crisi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ow much knowledge do you manage?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 a stud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your job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your private lif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amount of information and knowledge available increases steadi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becomes difficult to keep track of relevant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demands for applying knowledge to a particular task also become strong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job expec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etitive pressur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benefits from utilizing knowledge become great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igher profi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tter produ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re knowledgeable peopl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e aware of the role of knowledge in professional and private lif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derstand the impact of knowledge (or lack of it) for important decis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derstand the necessity for knowledge management to deal with the large amount of knowledge and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cuss the role of computer-based tools and technologies for knowledge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0T20:24:40Z</cp:lastPrinted>
  <dcterms:modified xsi:type="dcterms:W3CDTF">2003-04-01T21:33:23Z</dcterms:modified>
  <cp:revision>39</cp:revision>
  <dc:subject/>
  <dc:title>CSC 480: Artificial Intelligence</dc:title>
</cp:coreProperties>
</file>