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5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3.xml.rels" ContentType="application/vnd.openxmlformats-package.relationships+xml"/>
  <Override PartName="/ppt/notesSlides/notesSlide33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3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media/image4.png" ContentType="image/png"/>
  <Override PartName="/ppt/media/image2.pct" ContentType="image/x-pict"/>
  <Override PartName="/ppt/media/image5.png" ContentType="image/png"/>
  <Override PartName="/ppt/media/image3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</p:sldIdLst>
  <p:sldSz cx="9144000" cy="6858000"/>
  <p:notesSz cx="6642100" cy="9777413"/>
  <p:custShowLst>
    <p:custShow name="Lecture 1" id="0">
      <p:sldLst>
        <p:sld r:id="rId6"/>
        <p:sld r:id="rId12"/>
        <p:sld r:id="rId13"/>
        <p:sld r:id="rId14"/>
        <p:sld r:id="rId15"/>
        <p:sld r:id="rId16"/>
        <p:sld r:id="rId17"/>
        <p:sld r:id="rId18"/>
        <p:sld r:id="rId19"/>
        <p:sld r:id="rId20"/>
        <p:sld r:id="rId22"/>
        <p:sld r:id="rId23"/>
        <p:sld r:id="rId24"/>
        <p:sld r:id="rId25"/>
        <p:sld r:id="rId26"/>
        <p:sld r:id="rId27"/>
        <p:sld r:id="rId28"/>
        <p:sld r:id="rId29"/>
        <p:sld r:id="rId30"/>
        <p:sld r:id="rId31"/>
        <p:sld r:id="rId32"/>
        <p:sld r:id="rId34"/>
        <p:sld r:id="rId35"/>
        <p:sld r:id="rId37"/>
        <p:sld r:id="rId38"/>
        <p:sld r:id="rId39"/>
        <p:sld r:id="rId41"/>
        <p:sld r:id="rId43"/>
        <p:sld r:id="rId45"/>
        <p:sld r:id="rId46"/>
        <p:sld r:id="rId47"/>
        <p:sld r:id="rId48"/>
        <p:sld r:id="rId49"/>
        <p:sld r:id="rId50"/>
        <p:sld r:id="rId51"/>
        <p:sld r:id="rId52"/>
        <p:sld r:id="rId53"/>
        <p:sld r:id="rId54"/>
        <p:sld r:id="rId55"/>
        <p:sld r:id="rId56"/>
        <p:sld r:id="rId57"/>
        <p:sld r:id="rId58"/>
        <p:sld r:id="rId59"/>
        <p:sld r:id="rId60"/>
        <p:sld r:id="rId61"/>
        <p:sld r:id="rId62"/>
        <p:sld r:id="rId63"/>
        <p:sld r:id="rId66"/>
        <p:sld r:id="rId67"/>
        <p:sld r:id="rId70"/>
      </p:sldLst>
    </p:custShow>
    <p:custShow name="Spring 2003" id="1">
      <p:sldLst>
        <p:sld r:id="rId6"/>
        <p:sld r:id="rId10"/>
        <p:sld r:id="rId11"/>
        <p:sld r:id="rId12"/>
        <p:sld r:id="rId13"/>
        <p:sld r:id="rId14"/>
        <p:sld r:id="rId15"/>
        <p:sld r:id="rId16"/>
        <p:sld r:id="rId17"/>
        <p:sld r:id="rId18"/>
        <p:sld r:id="rId19"/>
        <p:sld r:id="rId20"/>
        <p:sld r:id="rId21"/>
        <p:sld r:id="rId22"/>
        <p:sld r:id="rId23"/>
        <p:sld r:id="rId24"/>
        <p:sld r:id="rId25"/>
        <p:sld r:id="rId26"/>
        <p:sld r:id="rId27"/>
        <p:sld r:id="rId28"/>
        <p:sld r:id="rId29"/>
        <p:sld r:id="rId30"/>
        <p:sld r:id="rId31"/>
        <p:sld r:id="rId32"/>
        <p:sld r:id="rId33"/>
        <p:sld r:id="rId34"/>
        <p:sld r:id="rId35"/>
        <p:sld r:id="rId36"/>
        <p:sld r:id="rId37"/>
        <p:sld r:id="rId38"/>
        <p:sld r:id="rId39"/>
        <p:sld r:id="rId40"/>
        <p:sld r:id="rId41"/>
        <p:sld r:id="rId42"/>
        <p:sld r:id="rId43"/>
        <p:sld r:id="rId44"/>
        <p:sld r:id="rId45"/>
        <p:sld r:id="rId46"/>
        <p:sld r:id="rId47"/>
        <p:sld r:id="rId48"/>
        <p:sld r:id="rId49"/>
        <p:sld r:id="rId50"/>
        <p:sld r:id="rId51"/>
        <p:sld r:id="rId52"/>
        <p:sld r:id="rId53"/>
        <p:sld r:id="rId54"/>
        <p:sld r:id="rId55"/>
        <p:sld r:id="rId56"/>
        <p:sld r:id="rId57"/>
        <p:sld r:id="rId58"/>
        <p:sld r:id="rId59"/>
        <p:sld r:id="rId60"/>
        <p:sld r:id="rId61"/>
        <p:sld r:id="rId62"/>
        <p:sld r:id="rId63"/>
        <p:sld r:id="rId64"/>
        <p:sld r:id="rId65"/>
        <p:sld r:id="rId66"/>
        <p:sld r:id="rId67"/>
        <p:sld r:id="rId71"/>
        <p:sld r:id="rId72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42000" cy="977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041120" y="858600"/>
            <a:ext cx="455940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885600" y="4645080"/>
            <a:ext cx="4870440" cy="440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sldImg"/>
          </p:nvPr>
        </p:nvSpPr>
        <p:spPr>
          <a:xfrm>
            <a:off x="1263600" y="906480"/>
            <a:ext cx="3898800" cy="2924280"/>
          </a:xfrm>
          <a:prstGeom prst="rect">
            <a:avLst/>
          </a:prstGeom>
          <a:ln w="0">
            <a:noFill/>
          </a:ln>
        </p:spPr>
      </p:sp>
      <p:sp>
        <p:nvSpPr>
          <p:cNvPr id="1140" name="PlaceHolder 2"/>
          <p:cNvSpPr>
            <a:spLocks noGrp="1"/>
          </p:cNvSpPr>
          <p:nvPr>
            <p:ph type="body"/>
          </p:nvPr>
        </p:nvSpPr>
        <p:spPr>
          <a:xfrm>
            <a:off x="884160" y="4644720"/>
            <a:ext cx="4873680" cy="43974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a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than 50% of the respondents state that Ö globalization, rapid  technology development, further integration of products/services and shorter product life cycles are changes which will take place in their industry in the next 5 ye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sldImg"/>
          </p:nvPr>
        </p:nvSpPr>
        <p:spPr>
          <a:xfrm>
            <a:off x="1263600" y="906480"/>
            <a:ext cx="3898800" cy="2924280"/>
          </a:xfrm>
          <a:prstGeom prst="rect">
            <a:avLst/>
          </a:prstGeom>
          <a:ln w="0">
            <a:noFill/>
          </a:ln>
        </p:spPr>
      </p:sp>
      <p:sp>
        <p:nvSpPr>
          <p:cNvPr id="1142" name="PlaceHolder 2"/>
          <p:cNvSpPr>
            <a:spLocks noGrp="1"/>
          </p:cNvSpPr>
          <p:nvPr>
            <p:ph type="body"/>
          </p:nvPr>
        </p:nvSpPr>
        <p:spPr>
          <a:xfrm>
            <a:off x="884160" y="4644720"/>
            <a:ext cx="4873680" cy="43974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ark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ollowing statements have been considered as slightly fals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Ö people's competencies are mapp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Ö people don't receive an overflow of inform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Ö people have sufficient time to share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Ö knowledge is re-u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Ö knowledge creation is a structured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Ö information is sufficiently sorted out, compiled and summarized into knowledg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ollowing statements have been judged as slightly true 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Ö performances are improved based on the exchange of experiences/best pract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Ö people are stimulated to present new ideas; there is an appropriate structure to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review th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Ö people are willing to share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Ö knowledge is available at the right pla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Ö people do learn from mistak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sldImg"/>
          </p:nvPr>
        </p:nvSpPr>
        <p:spPr>
          <a:xfrm>
            <a:off x="1263600" y="907920"/>
            <a:ext cx="3898800" cy="2924280"/>
          </a:xfrm>
          <a:prstGeom prst="rect">
            <a:avLst/>
          </a:prstGeom>
          <a:ln w="0">
            <a:noFill/>
          </a:ln>
        </p:spPr>
      </p:sp>
      <p:sp>
        <p:nvSpPr>
          <p:cNvPr id="1144" name="PlaceHolder 2"/>
          <p:cNvSpPr>
            <a:spLocks noGrp="1"/>
          </p:cNvSpPr>
          <p:nvPr>
            <p:ph type="body"/>
          </p:nvPr>
        </p:nvSpPr>
        <p:spPr>
          <a:xfrm>
            <a:off x="885600" y="4662360"/>
            <a:ext cx="4870440" cy="434664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240" bIns="39240" anchor="t">
            <a:no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Univers 55"/>
              </a:rPr>
              <a:t>*  8 bottlenec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Univers 55"/>
              </a:rPr>
              <a:t>*  te clusteren in 2 groepe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Univers 55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Univers 55"/>
              </a:rPr>
              <a:t>-    1 op gebied van Behavioral invalsho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Univers 55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Univers 55"/>
              </a:rPr>
              <a:t>-    1 op gebied Information/Knowledge transfer invalsho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Univers 55"/>
              </a:rPr>
              <a:t>*  vandaag gekozen voor symboliek van het hu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Univers 55"/>
              </a:rPr>
              <a:t>*  huis begin je te bouwen bij het Funda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Univers 55"/>
              </a:rPr>
              <a:t>*  Fundament moet af zijn voordat je de Muren opz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Univers 55"/>
              </a:rPr>
              <a:t>*  Plafond en dak zijn resultante van Fundament en Mu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Univers 55"/>
              </a:rPr>
              <a:t>*  Het geheel heeft value based Knowledge Management tot gevol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240" y="3875400"/>
            <a:ext cx="883908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431316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57400" y="1447560"/>
            <a:ext cx="431316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240" y="3875400"/>
            <a:ext cx="431316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57400" y="3875400"/>
            <a:ext cx="431316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284580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16600" y="1447560"/>
            <a:ext cx="284580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05320" y="1447560"/>
            <a:ext cx="284580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240" y="3875400"/>
            <a:ext cx="284580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16600" y="3875400"/>
            <a:ext cx="284580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05320" y="3875400"/>
            <a:ext cx="284580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431316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57400" y="1447560"/>
            <a:ext cx="431316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338040"/>
            <a:ext cx="8610480" cy="373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431316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57400" y="1447560"/>
            <a:ext cx="431316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240" y="3875400"/>
            <a:ext cx="431316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431316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7400" y="1447560"/>
            <a:ext cx="431316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57400" y="3875400"/>
            <a:ext cx="431316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431316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57400" y="1447560"/>
            <a:ext cx="431316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240" y="3875400"/>
            <a:ext cx="883908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700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2" marL="1028880" indent="-228600">
              <a:spcBef>
                <a:spcPts val="700"/>
              </a:spcBef>
              <a:buClr>
                <a:srgbClr val="ff33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3" marL="1371600" indent="-228600">
              <a:spcBef>
                <a:spcPts val="700"/>
              </a:spcBef>
              <a:buClr>
                <a:srgbClr val="c000c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cece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cfeb9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cfeb9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989680" y="6566040"/>
            <a:ext cx="3035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3840" y="6541920"/>
            <a:ext cx="26182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ff00"/>
                </a:solidFill>
                <a:latin typeface="Arial"/>
              </a:rPr>
              <a:t>© 2001-2003 Franz J. Kurfess</a:t>
            </a:r>
            <a:endParaRPr b="0" lang="en-US" sz="1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705720" y="6553080"/>
            <a:ext cx="228744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feb9"/>
                </a:solidFill>
                <a:latin typeface="Arial"/>
              </a:rPr>
              <a:t>KM in Organizations  </a:t>
            </a:r>
            <a:fld id="{C86F460E-0085-4B3C-90E5-29195DF97C68}" type="slidenum">
              <a:rPr b="1" lang="en-US" sz="1400" spc="-1" strike="noStrike">
                <a:solidFill>
                  <a:srgbClr val="fcfeb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file:///Knowledge-Exchange.ppt#Knowledge Management in Organizations" TargetMode="External"/><Relationship Id="rId2" Type="http://schemas.openxmlformats.org/officeDocument/2006/relationships/hyperlink" Target="file:///Knowledge-Exchange.ppt#Knowledge Management in Organizations" TargetMode="External"/><Relationship Id="rId3" Type="http://schemas.openxmlformats.org/officeDocument/2006/relationships/hyperlink" Target="file:///Knowledge-Exchange.ppt#Knowledge Management in Organizations" TargetMode="External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file:///Knowledge-Exchange.ppt#Knowledge Management in Organizations" TargetMode="External"/><Relationship Id="rId2" Type="http://schemas.openxmlformats.org/officeDocument/2006/relationships/hyperlink" Target="file:///Knowledge-Exchange.ppt#Knowledge Management in Organizations" TargetMode="External"/><Relationship Id="rId3" Type="http://schemas.openxmlformats.org/officeDocument/2006/relationships/hyperlink" Target="file:///Knowledge-Exchange.ppt#Knowledge Management in Organizations" TargetMode="External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file:///Knowledge-Exchange.ppt#Knowledge Management in Organizations" TargetMode="External"/><Relationship Id="rId2" Type="http://schemas.openxmlformats.org/officeDocument/2006/relationships/hyperlink" Target="file:///Knowledge-Exchange.ppt#Knowledge Management in Organizations" TargetMode="External"/><Relationship Id="rId3" Type="http://schemas.openxmlformats.org/officeDocument/2006/relationships/hyperlink" Target="file:///Knowledge-Exchange.ppt#Knowledge Management in Organizations" TargetMode="External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file:///Knowledge-Exchange.ppt#Knowledge Management in Organizations" TargetMode="External"/><Relationship Id="rId2" Type="http://schemas.openxmlformats.org/officeDocument/2006/relationships/hyperlink" Target="file:///Knowledge-Exchange.ppt#Knowledge Management in Organizations" TargetMode="External"/><Relationship Id="rId3" Type="http://schemas.openxmlformats.org/officeDocument/2006/relationships/hyperlink" Target="file:///Knowledge-Exchange.ppt#Knowledge Management in Organizations" TargetMode="External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file:///Knowledge-Exchange.ppt#Knowledge Management in Organizations" TargetMode="External"/><Relationship Id="rId2" Type="http://schemas.openxmlformats.org/officeDocument/2006/relationships/hyperlink" Target="file:///Knowledge-Exchange.ppt#Knowledge Management in Organizations" TargetMode="External"/><Relationship Id="rId3" Type="http://schemas.openxmlformats.org/officeDocument/2006/relationships/hyperlink" Target="file:///Knowledge-Exchange.ppt#Knowledge Management in Organizations" TargetMode="External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file:///Knowledge-Exchange.ppt#Knowledge Management in Organizations" TargetMode="External"/><Relationship Id="rId2" Type="http://schemas.openxmlformats.org/officeDocument/2006/relationships/hyperlink" Target="file:///Knowledge-Exchange.ppt#Knowledge Management in Organizations" TargetMode="External"/><Relationship Id="rId3" Type="http://schemas.openxmlformats.org/officeDocument/2006/relationships/hyperlink" Target="file:///Knowledge-Exchange.ppt#Knowledge Management in Organizations" TargetMode="External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file:///Knowledge-Exchange.ppt#Knowledge Management in Organizations" TargetMode="External"/><Relationship Id="rId2" Type="http://schemas.openxmlformats.org/officeDocument/2006/relationships/hyperlink" Target="file:///Knowledge-Exchange.ppt#Knowledge Management in Organizations" TargetMode="External"/><Relationship Id="rId3" Type="http://schemas.openxmlformats.org/officeDocument/2006/relationships/hyperlink" Target="file:///Knowledge-Exchange.ppt#Knowledge Management in Organizations" TargetMode="External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file:///Knowledge-Exchange.ppt#Knowledge Management in Organizations" TargetMode="External"/><Relationship Id="rId2" Type="http://schemas.openxmlformats.org/officeDocument/2006/relationships/hyperlink" Target="file:///Knowledge-Exchange.ppt#Knowledge Management in Organizations" TargetMode="External"/><Relationship Id="rId3" Type="http://schemas.openxmlformats.org/officeDocument/2006/relationships/hyperlink" Target="file:///Knowledge-Exchange.ppt#Knowledge Management in Organizations" TargetMode="External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file:///Knowledge-Exchange.ppt#Knowledge Management in Organizations" TargetMode="External"/><Relationship Id="rId2" Type="http://schemas.openxmlformats.org/officeDocument/2006/relationships/hyperlink" Target="file:///Knowledge-Exchange.ppt#Knowledge Management in Organizations" TargetMode="External"/><Relationship Id="rId3" Type="http://schemas.openxmlformats.org/officeDocument/2006/relationships/hyperlink" Target="file:///Knowledge-Exchange.ppt#Knowledge Management in Organizations" TargetMode="External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file:///Knowledge-Exchange.ppt#Knowledge Management in Organizations" TargetMode="External"/><Relationship Id="rId2" Type="http://schemas.openxmlformats.org/officeDocument/2006/relationships/hyperlink" Target="file:///Knowledge-Exchange.ppt#Knowledge Management in Organizations" TargetMode="External"/><Relationship Id="rId3" Type="http://schemas.openxmlformats.org/officeDocument/2006/relationships/hyperlink" Target="file:///Knowledge-Exchange.ppt#Knowledge Management in Organizations" TargetMode="External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file:///Knowledge-Exchange.ppt#Knowledge Management in Organizations" TargetMode="External"/><Relationship Id="rId2" Type="http://schemas.openxmlformats.org/officeDocument/2006/relationships/hyperlink" Target="file:///Knowledge-Exchange.ppt#Knowledge Management in Organizations" TargetMode="External"/><Relationship Id="rId3" Type="http://schemas.openxmlformats.org/officeDocument/2006/relationships/hyperlink" Target="file:///Knowledge-Exchange.ppt#Knowledge Management in Organizations" TargetMode="External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file:///Knowledge-Exchange.ppt#Knowledge Management in Organizations" TargetMode="External"/><Relationship Id="rId2" Type="http://schemas.openxmlformats.org/officeDocument/2006/relationships/hyperlink" Target="file:///Knowledge-Exchange.ppt#Knowledge Management in Organizations" TargetMode="External"/><Relationship Id="rId3" Type="http://schemas.openxmlformats.org/officeDocument/2006/relationships/hyperlink" Target="file:///Knowledge-Exchange.ppt#Knowledge Management in Organizations" TargetMode="External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file:///Knowledge-Exchange.ppt#Knowledge Management in Organizations" TargetMode="External"/><Relationship Id="rId2" Type="http://schemas.openxmlformats.org/officeDocument/2006/relationships/hyperlink" Target="file:///Knowledge-Exchange.ppt#Knowledge Management in Organizations" TargetMode="External"/><Relationship Id="rId3" Type="http://schemas.openxmlformats.org/officeDocument/2006/relationships/hyperlink" Target="file:///Knowledge-Exchange.ppt#Knowledge Management in Organizations" TargetMode="External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file:///Knowledge-Exchange.ppt#Knowledge Management in Organizations" TargetMode="External"/><Relationship Id="rId2" Type="http://schemas.openxmlformats.org/officeDocument/2006/relationships/hyperlink" Target="file:///Knowledge-Exchange.ppt#Knowledge Management in Organizations" TargetMode="External"/><Relationship Id="rId3" Type="http://schemas.openxmlformats.org/officeDocument/2006/relationships/hyperlink" Target="file:///Knowledge-Exchange.ppt#Knowledge Management in Organizations" TargetMode="External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file:///Knowledge-Exchange.ppt#Knowledge Management in Organizations" TargetMode="External"/><Relationship Id="rId2" Type="http://schemas.openxmlformats.org/officeDocument/2006/relationships/hyperlink" Target="file:///Knowledge-Exchange.ppt#Knowledge Management in Organizations" TargetMode="External"/><Relationship Id="rId3" Type="http://schemas.openxmlformats.org/officeDocument/2006/relationships/hyperlink" Target="file:///Knowledge-Exchange.ppt#Knowledge Management in Organizations" TargetMode="External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file:///Knowledge-Exchange.ppt#Knowledge Management in Organizations" TargetMode="External"/><Relationship Id="rId2" Type="http://schemas.openxmlformats.org/officeDocument/2006/relationships/hyperlink" Target="file:///Knowledge-Exchange.ppt#Knowledge Management in Organizations" TargetMode="External"/><Relationship Id="rId3" Type="http://schemas.openxmlformats.org/officeDocument/2006/relationships/hyperlink" Target="file:///Knowledge-Exchange.ppt#Knowledge Management in Organizations" TargetMode="External"/><Relationship Id="rId4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file:///Knowledge-Exchange.ppt#Knowledge Management in Organizations" TargetMode="External"/><Relationship Id="rId2" Type="http://schemas.openxmlformats.org/officeDocument/2006/relationships/hyperlink" Target="file:///Knowledge-Exchange.ppt#Knowledge Management in Organizations" TargetMode="External"/><Relationship Id="rId3" Type="http://schemas.openxmlformats.org/officeDocument/2006/relationships/hyperlink" Target="file:///Knowledge-Exchange.ppt#Knowledge Management in Organizations" TargetMode="External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file:///Knowledge-Exchange.ppt#Knowledge Management in Organizations" TargetMode="External"/><Relationship Id="rId2" Type="http://schemas.openxmlformats.org/officeDocument/2006/relationships/hyperlink" Target="file:///Knowledge-Exchange.ppt#Knowledge Management in Organizations" TargetMode="External"/><Relationship Id="rId3" Type="http://schemas.openxmlformats.org/officeDocument/2006/relationships/hyperlink" Target="file:///Knowledge-Exchange.ppt#Knowledge Management in Organizations" TargetMode="External"/><Relationship Id="rId4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file:///Knowledge-Exchange.ppt#Knowledge Management in Organizations" TargetMode="External"/><Relationship Id="rId2" Type="http://schemas.openxmlformats.org/officeDocument/2006/relationships/hyperlink" Target="file:///Knowledge-Exchange.ppt#Knowledge Management in Organizations" TargetMode="External"/><Relationship Id="rId3" Type="http://schemas.openxmlformats.org/officeDocument/2006/relationships/hyperlink" Target="file:///Knowledge-Exchange.ppt#Knowledge Management in Organizations" TargetMode="External"/><Relationship Id="rId4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file:///Knowledge-Exchange.ppt#Knowledge Management in Organizations" TargetMode="External"/><Relationship Id="rId2" Type="http://schemas.openxmlformats.org/officeDocument/2006/relationships/hyperlink" Target="file:///Knowledge-Exchange.ppt#Knowledge Management in Organizations" TargetMode="External"/><Relationship Id="rId3" Type="http://schemas.openxmlformats.org/officeDocument/2006/relationships/hyperlink" Target="file:///Knowledge-Exchange.ppt#Knowledge Management in Organizations" TargetMode="External"/><Relationship Id="rId4" Type="http://schemas.openxmlformats.org/officeDocument/2006/relationships/image" Target="../media/image1.pct"/><Relationship Id="rId5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file:///Knowledge-Exchange.ppt#Knowledge Management in Organizations" TargetMode="External"/><Relationship Id="rId2" Type="http://schemas.openxmlformats.org/officeDocument/2006/relationships/hyperlink" Target="file:///Knowledge-Exchange.ppt#Knowledge Management in Organizations" TargetMode="External"/><Relationship Id="rId3" Type="http://schemas.openxmlformats.org/officeDocument/2006/relationships/hyperlink" Target="file:///Knowledge-Exchange.ppt#Knowledge Management in Organizations" TargetMode="External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hyperlink" Target="file:///Knowledge-Exchange.ppt#Knowledge Management in Organizations" TargetMode="External"/><Relationship Id="rId2" Type="http://schemas.openxmlformats.org/officeDocument/2006/relationships/hyperlink" Target="file:///Knowledge-Exchange.ppt#Knowledge Management in Organizations" TargetMode="External"/><Relationship Id="rId3" Type="http://schemas.openxmlformats.org/officeDocument/2006/relationships/hyperlink" Target="file:///Knowledge-Exchange.ppt#Knowledge Management in Organizations" TargetMode="External"/><Relationship Id="rId4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file:///Knowledge-Exchange.ppt#Knowledge Management in Organizations" TargetMode="External"/><Relationship Id="rId2" Type="http://schemas.openxmlformats.org/officeDocument/2006/relationships/hyperlink" Target="file:///Knowledge-Exchange.ppt#Knowledge Management in Organizations" TargetMode="External"/><Relationship Id="rId3" Type="http://schemas.openxmlformats.org/officeDocument/2006/relationships/hyperlink" Target="file:///Knowledge-Exchange.ppt#Knowledge Management in Organizations" TargetMode="External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hyperlink" Target="file:///Knowledge-Exchange.ppt#Knowledge Management in Organizations" TargetMode="External"/><Relationship Id="rId2" Type="http://schemas.openxmlformats.org/officeDocument/2006/relationships/hyperlink" Target="file:///Knowledge-Exchange.ppt#Knowledge Management in Organizations" TargetMode="External"/><Relationship Id="rId3" Type="http://schemas.openxmlformats.org/officeDocument/2006/relationships/hyperlink" Target="file:///Knowledge-Exchange.ppt#Knowledge Management in Organizations" TargetMode="External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file:///Knowledge-Exchange.ppt#Knowledge Management in Organizations" TargetMode="External"/><Relationship Id="rId2" Type="http://schemas.openxmlformats.org/officeDocument/2006/relationships/hyperlink" Target="file:///Knowledge-Exchange.ppt#Knowledge Management in Organizations" TargetMode="External"/><Relationship Id="rId3" Type="http://schemas.openxmlformats.org/officeDocument/2006/relationships/hyperlink" Target="file:///Knowledge-Exchange.ppt#Knowledge Management in Organizations" TargetMode="External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hyperlink" Target="file:///Knowledge-Exchange.ppt#Knowledge Management in Organizations" TargetMode="External"/><Relationship Id="rId2" Type="http://schemas.openxmlformats.org/officeDocument/2006/relationships/hyperlink" Target="file:///Knowledge-Exchange.ppt#Knowledge Management in Organizations" TargetMode="External"/><Relationship Id="rId3" Type="http://schemas.openxmlformats.org/officeDocument/2006/relationships/hyperlink" Target="file:///Knowledge-Exchange.ppt#Knowledge Management in Organizations" TargetMode="External"/><Relationship Id="rId4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hyperlink" Target="file:///Knowledge-Exchange.ppt#Knowledge Management in Organizations" TargetMode="External"/><Relationship Id="rId2" Type="http://schemas.openxmlformats.org/officeDocument/2006/relationships/hyperlink" Target="file:///Knowledge-Exchange.ppt#Knowledge Management in Organizations" TargetMode="External"/><Relationship Id="rId3" Type="http://schemas.openxmlformats.org/officeDocument/2006/relationships/hyperlink" Target="file:///Knowledge-Exchange.ppt#Knowledge Management in Organizations" TargetMode="External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hyperlink" Target="file:///Knowledge-Exchange.ppt#Knowledge Management in Organizations" TargetMode="External"/><Relationship Id="rId2" Type="http://schemas.openxmlformats.org/officeDocument/2006/relationships/hyperlink" Target="file:///Knowledge-Exchange.ppt#Knowledge Management in Organizations" TargetMode="External"/><Relationship Id="rId3" Type="http://schemas.openxmlformats.org/officeDocument/2006/relationships/hyperlink" Target="file:///Knowledge-Exchange.ppt#Knowledge Management in Organizations" TargetMode="External"/><Relationship Id="rId4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hyperlink" Target="file:///Knowledge-Exchange.ppt#Knowledge Management in Organizations" TargetMode="External"/><Relationship Id="rId2" Type="http://schemas.openxmlformats.org/officeDocument/2006/relationships/hyperlink" Target="file:///Knowledge-Exchange.ppt#Knowledge Management in Organizations" TargetMode="External"/><Relationship Id="rId3" Type="http://schemas.openxmlformats.org/officeDocument/2006/relationships/hyperlink" Target="file:///Knowledge-Exchange.ppt#Knowledge Management in Organizations" TargetMode="External"/><Relationship Id="rId4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file:///Knowledge-Exchange.ppt#Knowledge Management in Organizations" TargetMode="External"/><Relationship Id="rId2" Type="http://schemas.openxmlformats.org/officeDocument/2006/relationships/hyperlink" Target="file:///Knowledge-Exchange.ppt#Knowledge Management in Organizations" TargetMode="External"/><Relationship Id="rId3" Type="http://schemas.openxmlformats.org/officeDocument/2006/relationships/hyperlink" Target="file:///Knowledge-Exchange.ppt#Knowledge Management in Organizations" TargetMode="External"/><Relationship Id="rId4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hyperlink" Target="file:///Knowledge-Exchange.ppt#Knowledge Management in Organizations" TargetMode="External"/><Relationship Id="rId2" Type="http://schemas.openxmlformats.org/officeDocument/2006/relationships/hyperlink" Target="file:///Knowledge-Exchange.ppt#Knowledge Management in Organizations" TargetMode="External"/><Relationship Id="rId3" Type="http://schemas.openxmlformats.org/officeDocument/2006/relationships/hyperlink" Target="file:///Knowledge-Exchange.ppt#Knowledge Management in Organizations" TargetMode="External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hyperlink" Target="file:///Knowledge-Exchange.ppt#Knowledge Management in Organizations" TargetMode="External"/><Relationship Id="rId2" Type="http://schemas.openxmlformats.org/officeDocument/2006/relationships/hyperlink" Target="file:///Knowledge-Exchange.ppt#Knowledge Management in Organizations" TargetMode="External"/><Relationship Id="rId3" Type="http://schemas.openxmlformats.org/officeDocument/2006/relationships/hyperlink" Target="file:///Knowledge-Exchange.ppt#Knowledge Management in Organizations" TargetMode="External"/><Relationship Id="rId4" Type="http://schemas.openxmlformats.org/officeDocument/2006/relationships/image" Target="../media/image2.pct"/><Relationship Id="rId5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hyperlink" Target="file:///Knowledge-Exchange.ppt#Knowledge Management in Organizations" TargetMode="External"/><Relationship Id="rId2" Type="http://schemas.openxmlformats.org/officeDocument/2006/relationships/hyperlink" Target="file:///Knowledge-Exchange.ppt#Knowledge Management in Organizations" TargetMode="External"/><Relationship Id="rId3" Type="http://schemas.openxmlformats.org/officeDocument/2006/relationships/hyperlink" Target="file:///Knowledge-Exchange.ppt#Knowledge Management in Organizations" TargetMode="External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hyperlink" Target="file:///Knowledge-Exchange.ppt#Knowledge Management in Organizations" TargetMode="External"/><Relationship Id="rId2" Type="http://schemas.openxmlformats.org/officeDocument/2006/relationships/hyperlink" Target="file:///Knowledge-Exchange.ppt#Knowledge Management in Organizations" TargetMode="External"/><Relationship Id="rId3" Type="http://schemas.openxmlformats.org/officeDocument/2006/relationships/hyperlink" Target="file:///Knowledge-Exchange.ppt#Knowledge Management in Organizations" TargetMode="External"/><Relationship Id="rId4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hyperlink" Target="file:///Knowledge-Exchange.ppt#Knowledge Management in Organizations" TargetMode="External"/><Relationship Id="rId2" Type="http://schemas.openxmlformats.org/officeDocument/2006/relationships/hyperlink" Target="file:///Knowledge-Exchange.ppt#Knowledge Management in Organizations" TargetMode="External"/><Relationship Id="rId3" Type="http://schemas.openxmlformats.org/officeDocument/2006/relationships/hyperlink" Target="file:///Knowledge-Exchange.ppt#Knowledge Management in Organizations" TargetMode="External"/><Relationship Id="rId4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hyperlink" Target="file:///Knowledge-Exchange.ppt#Knowledge Management in Organizations" TargetMode="External"/><Relationship Id="rId2" Type="http://schemas.openxmlformats.org/officeDocument/2006/relationships/hyperlink" Target="file:///Knowledge-Exchange.ppt#Knowledge Management in Organizations" TargetMode="External"/><Relationship Id="rId3" Type="http://schemas.openxmlformats.org/officeDocument/2006/relationships/hyperlink" Target="file:///Knowledge-Exchange.ppt#Knowledge Management in Organizations" TargetMode="External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hyperlink" Target="file:///Knowledge-Exchange.ppt#Knowledge Management in Organizations" TargetMode="External"/><Relationship Id="rId2" Type="http://schemas.openxmlformats.org/officeDocument/2006/relationships/hyperlink" Target="file:///Knowledge-Exchange.ppt#Knowledge Management in Organizations" TargetMode="External"/><Relationship Id="rId3" Type="http://schemas.openxmlformats.org/officeDocument/2006/relationships/hyperlink" Target="file:///Knowledge-Exchange.ppt#Knowledge Management in Organizations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hyperlink" Target="file:///Knowledge-Exchange.ppt#Knowledge Management in Organizations" TargetMode="External"/><Relationship Id="rId2" Type="http://schemas.openxmlformats.org/officeDocument/2006/relationships/hyperlink" Target="file:///Knowledge-Exchange.ppt#Knowledge Management in Organizations" TargetMode="External"/><Relationship Id="rId3" Type="http://schemas.openxmlformats.org/officeDocument/2006/relationships/hyperlink" Target="file:///Knowledge-Exchange.ppt#Knowledge Management in Organizations" TargetMode="External"/><Relationship Id="rId4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hyperlink" Target="file:///Knowledge-Exchange.ppt#Knowledge Management in Organizations" TargetMode="External"/><Relationship Id="rId2" Type="http://schemas.openxmlformats.org/officeDocument/2006/relationships/hyperlink" Target="file:///Knowledge-Exchange.ppt#Knowledge Management in Organizations" TargetMode="External"/><Relationship Id="rId3" Type="http://schemas.openxmlformats.org/officeDocument/2006/relationships/hyperlink" Target="file:///Knowledge-Exchange.ppt#Knowledge Management in Organizations" TargetMode="External"/><Relationship Id="rId4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hyperlink" Target="file:///Knowledge-Exchange.ppt#Knowledge Management in Organizations" TargetMode="External"/><Relationship Id="rId2" Type="http://schemas.openxmlformats.org/officeDocument/2006/relationships/hyperlink" Target="file:///Knowledge-Exchange.ppt#Knowledge Management in Organizations" TargetMode="External"/><Relationship Id="rId3" Type="http://schemas.openxmlformats.org/officeDocument/2006/relationships/hyperlink" Target="file:///Knowledge-Exchange.ppt#Knowledge Management in Organizations" TargetMode="External"/><Relationship Id="rId4" Type="http://schemas.openxmlformats.org/officeDocument/2006/relationships/hyperlink" Target="file:///Knowledge-Exchange.ppt#Knowledge Management in Organizations" TargetMode="External"/><Relationship Id="rId5" Type="http://schemas.openxmlformats.org/officeDocument/2006/relationships/hyperlink" Target="file:///Knowledge-Exchange.ppt#Knowledge Management in Organizations" TargetMode="External"/><Relationship Id="rId6" Type="http://schemas.openxmlformats.org/officeDocument/2006/relationships/slideLayout" Target="../slideLayouts/slideLayout4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file:///Knowledge-Exchange.ppt#Knowledge Management in Organizations" TargetMode="External"/><Relationship Id="rId3" Type="http://schemas.openxmlformats.org/officeDocument/2006/relationships/hyperlink" Target="file:///Knowledge-Exchange.ppt#Knowledge Management in Organizations" TargetMode="External"/><Relationship Id="rId4" Type="http://schemas.openxmlformats.org/officeDocument/2006/relationships/hyperlink" Target="file:///Knowledge-Exchange.ppt#Knowledge Management in Organizations" TargetMode="External"/><Relationship Id="rId5" Type="http://schemas.openxmlformats.org/officeDocument/2006/relationships/hyperlink" Target="file:///Knowledge-Exchange.ppt#Knowledge Management in Organizations" TargetMode="External"/><Relationship Id="rId6" Type="http://schemas.openxmlformats.org/officeDocument/2006/relationships/hyperlink" Target="file:///Knowledge-Exchange.ppt#Knowledge Management in Organizations" TargetMode="External"/><Relationship Id="rId7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hyperlink" Target="file:///Knowledge-Exchange.ppt#Knowledge Management in Organizations" TargetMode="External"/><Relationship Id="rId2" Type="http://schemas.openxmlformats.org/officeDocument/2006/relationships/hyperlink" Target="file:///Knowledge-Exchange.ppt#Knowledge Management in Organizations" TargetMode="External"/><Relationship Id="rId3" Type="http://schemas.openxmlformats.org/officeDocument/2006/relationships/hyperlink" Target="file:///Knowledge-Exchange.ppt#Knowledge Management in Organizations" TargetMode="External"/><Relationship Id="rId4" Type="http://schemas.openxmlformats.org/officeDocument/2006/relationships/hyperlink" Target="file:///Knowledge-Exchange.ppt#Knowledge Management in Organizations" TargetMode="External"/><Relationship Id="rId5" Type="http://schemas.openxmlformats.org/officeDocument/2006/relationships/hyperlink" Target="file:///Knowledge-Exchange.ppt#Knowledge Management in Organizations" TargetMode="External"/><Relationship Id="rId6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hyperlink" Target="file:///Knowledge-Exchange.ppt#Knowledge Management in Organizations" TargetMode="External"/><Relationship Id="rId2" Type="http://schemas.openxmlformats.org/officeDocument/2006/relationships/hyperlink" Target="file:///Knowledge-Exchange.ppt#Knowledge Management in Organizations" TargetMode="External"/><Relationship Id="rId3" Type="http://schemas.openxmlformats.org/officeDocument/2006/relationships/hyperlink" Target="file:///Knowledge-Exchange.ppt#Knowledge Management in Organizations" TargetMode="External"/><Relationship Id="rId4" Type="http://schemas.openxmlformats.org/officeDocument/2006/relationships/hyperlink" Target="file:///Knowledge-Exchange.ppt#Knowledge Management in Organizations" TargetMode="External"/><Relationship Id="rId5" Type="http://schemas.openxmlformats.org/officeDocument/2006/relationships/hyperlink" Target="file:///Knowledge-Exchange.ppt#Knowledge Management in Organizations" TargetMode="External"/><Relationship Id="rId6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hyperlink" Target="file:///Knowledge-Exchange.ppt#Knowledge Management in Organizations" TargetMode="External"/><Relationship Id="rId2" Type="http://schemas.openxmlformats.org/officeDocument/2006/relationships/hyperlink" Target="file:///Knowledge-Exchange.ppt#Knowledge Management in Organizations" TargetMode="External"/><Relationship Id="rId3" Type="http://schemas.openxmlformats.org/officeDocument/2006/relationships/hyperlink" Target="file:///Knowledge-Exchange.ppt#Knowledge Management in Organizations" TargetMode="External"/><Relationship Id="rId4" Type="http://schemas.openxmlformats.org/officeDocument/2006/relationships/hyperlink" Target="file:///Knowledge-Exchange.ppt#Knowledge Management in Organizations" TargetMode="External"/><Relationship Id="rId5" Type="http://schemas.openxmlformats.org/officeDocument/2006/relationships/hyperlink" Target="file:///Knowledge-Exchange.ppt#Knowledge Management in Organizations" TargetMode="External"/><Relationship Id="rId6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hyperlink" Target="file:///Knowledge-Exchange.ppt#Knowledge Management in Organizations" TargetMode="External"/><Relationship Id="rId2" Type="http://schemas.openxmlformats.org/officeDocument/2006/relationships/hyperlink" Target="file:///Knowledge-Exchange.ppt#Knowledge Management in Organizations" TargetMode="External"/><Relationship Id="rId3" Type="http://schemas.openxmlformats.org/officeDocument/2006/relationships/hyperlink" Target="file:///Knowledge-Exchange.ppt#Knowledge Management in Organizations" TargetMode="External"/><Relationship Id="rId4" Type="http://schemas.openxmlformats.org/officeDocument/2006/relationships/hyperlink" Target="file:///Knowledge-Exchange.ppt#Knowledge Management in Organizations" TargetMode="External"/><Relationship Id="rId5" Type="http://schemas.openxmlformats.org/officeDocument/2006/relationships/hyperlink" Target="file:///Knowledge-Exchange.ppt#Knowledge Management in Organizations" TargetMode="External"/><Relationship Id="rId6" Type="http://schemas.openxmlformats.org/officeDocument/2006/relationships/slideLayout" Target="../slideLayouts/slideLayout4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hyperlink" Target="file:///Knowledge-Exchange.ppt#Knowledge Management in Organizations" TargetMode="External"/><Relationship Id="rId2" Type="http://schemas.openxmlformats.org/officeDocument/2006/relationships/hyperlink" Target="file:///Knowledge-Exchange.ppt#Knowledge Management in Organizations" TargetMode="External"/><Relationship Id="rId3" Type="http://schemas.openxmlformats.org/officeDocument/2006/relationships/hyperlink" Target="file:///Knowledge-Exchange.ppt#Knowledge Management in Organizations" TargetMode="External"/><Relationship Id="rId4" Type="http://schemas.openxmlformats.org/officeDocument/2006/relationships/hyperlink" Target="file:///Knowledge-Exchange.ppt#Knowledge Management in Organizations" TargetMode="External"/><Relationship Id="rId5" Type="http://schemas.openxmlformats.org/officeDocument/2006/relationships/hyperlink" Target="file:///Knowledge-Exchange.ppt#Knowledge Management in Organizations" TargetMode="External"/><Relationship Id="rId6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file:///Knowledge-Exchange.ppt#Knowledge Management in Organizations" TargetMode="External"/><Relationship Id="rId3" Type="http://schemas.openxmlformats.org/officeDocument/2006/relationships/hyperlink" Target="file:///Knowledge-Exchange.ppt#Knowledge Management in Organizations" TargetMode="External"/><Relationship Id="rId4" Type="http://schemas.openxmlformats.org/officeDocument/2006/relationships/hyperlink" Target="file:///Knowledge-Exchange.ppt#Knowledge Management in Organizations" TargetMode="External"/><Relationship Id="rId5" Type="http://schemas.openxmlformats.org/officeDocument/2006/relationships/hyperlink" Target="file:///Knowledge-Exchange.ppt#Knowledge Management in Organizations" TargetMode="External"/><Relationship Id="rId6" Type="http://schemas.openxmlformats.org/officeDocument/2006/relationships/hyperlink" Target="file:///Knowledge-Exchange.ppt#Knowledge Management in Organizations" TargetMode="External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hyperlink" Target="file:///Knowledge-Exchange.ppt#Knowledge Management in Organizations" TargetMode="External"/><Relationship Id="rId2" Type="http://schemas.openxmlformats.org/officeDocument/2006/relationships/hyperlink" Target="file:///Knowledge-Exchange.ppt#Knowledge Management in Organizations" TargetMode="External"/><Relationship Id="rId3" Type="http://schemas.openxmlformats.org/officeDocument/2006/relationships/hyperlink" Target="file:///Knowledge-Exchange.ppt#Knowledge Management in Organizations" TargetMode="External"/><Relationship Id="rId4" Type="http://schemas.openxmlformats.org/officeDocument/2006/relationships/hyperlink" Target="file:///Knowledge-Exchange.ppt#Knowledge Management in Organizations" TargetMode="External"/><Relationship Id="rId5" Type="http://schemas.openxmlformats.org/officeDocument/2006/relationships/hyperlink" Target="file:///Knowledge-Exchange.ppt#Knowledge Management in Organizations" TargetMode="External"/><Relationship Id="rId6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file:///Knowledge-Exchange.ppt#Knowledge Management in Organizations" TargetMode="External"/><Relationship Id="rId3" Type="http://schemas.openxmlformats.org/officeDocument/2006/relationships/slideLayout" Target="../slideLayouts/slideLayout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hyperlink" Target="http://www.kpmg.com/" TargetMode="External"/><Relationship Id="rId2" Type="http://schemas.openxmlformats.org/officeDocument/2006/relationships/hyperlink" Target="http://www.kpmg.com/" TargetMode="External"/><Relationship Id="rId3" Type="http://schemas.openxmlformats.org/officeDocument/2006/relationships/hyperlink" Target="http://www.kpmg.com/" TargetMode="External"/><Relationship Id="rId4" Type="http://schemas.openxmlformats.org/officeDocument/2006/relationships/hyperlink" Target="http://www.kpmg.com/" TargetMode="External"/><Relationship Id="rId5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CPE/CSC 580: </a:t>
            </a:r>
            <a:br>
              <a:rPr sz="4400"/>
            </a:b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Knowledge Management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Dr. Franz J. Kurfes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Computer Science Department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Cal Poly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Pre-Historic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no written language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drawings, icons for storage purpose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spoken language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main method for collection, organization, distribution of knowledge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coordinated KM very difficult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very limited common representation scheme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very limited systematic collection, organization and distribution method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mostly dependent on individual/small group effort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Antiquity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written language system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persistent storage for document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duplication and distribution of documents possible, but tedious 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limited coordination efforts for KM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systematic collection and organization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2" marL="1028880" indent="-228600">
              <a:spcBef>
                <a:spcPts val="499"/>
              </a:spcBef>
              <a:buClr>
                <a:srgbClr val="ff3399"/>
              </a:buClr>
              <a:buSzPct val="6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record keeping, libraries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coordination mostly by government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2" marL="1028880" indent="-228600">
              <a:spcBef>
                <a:spcPts val="499"/>
              </a:spcBef>
              <a:buClr>
                <a:srgbClr val="ff3399"/>
              </a:buClr>
              <a:buSzPct val="6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substantial overhead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Gutenberg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efficient duplication system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printing press allows mass-production of document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greater distribution of knowledge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somewhat extended KM effort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coordination by governments and other organization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2" marL="1028880" indent="-228600">
              <a:spcBef>
                <a:spcPts val="499"/>
              </a:spcBef>
              <a:buClr>
                <a:srgbClr val="ff3399"/>
              </a:buClr>
              <a:buSzPct val="6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churches, local entities, land and property owners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Industrial Age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883944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6000"/>
          </a:bodyPr>
          <a:p>
            <a:pPr marL="245520" indent="-24552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emergence of large-scale organization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589680" indent="-24552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mass production of good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589680" indent="-24552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administration of large constituencie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45520" indent="-24552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requires efficient knowledge management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589680" indent="-24552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administrative system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2" marL="884520" indent="-196560">
              <a:spcBef>
                <a:spcPts val="499"/>
              </a:spcBef>
              <a:buClr>
                <a:srgbClr val="ff3399"/>
              </a:buClr>
              <a:buSzPct val="6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coordination of resources, materials; distribution of products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2" marL="884520" indent="-196560">
              <a:spcBef>
                <a:spcPts val="499"/>
              </a:spcBef>
              <a:buClr>
                <a:srgbClr val="ff3399"/>
              </a:buClr>
              <a:buSzPct val="6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internal information flow; record keeping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245520" indent="-24552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paper-based office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589680" indent="-24552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storage and distribution of document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45520" indent="-24552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new technologie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589680" indent="-24552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typewriters, stencil duplicators, vertical files, telephones, photography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042440" y="6524640"/>
            <a:ext cx="196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000c0"/>
                </a:solidFill>
                <a:uFillTx/>
                <a:latin typeface="Times New Roman"/>
                <a:hlinkClick r:id="rId1"/>
              </a:rPr>
              <a:t>[</a:t>
            </a:r>
            <a:r>
              <a:rPr b="0" lang="en-US" sz="1600" spc="-1" strike="noStrike" u="sng">
                <a:solidFill>
                  <a:srgbClr val="c000c0"/>
                </a:solidFill>
                <a:uFillTx/>
                <a:latin typeface="Times New Roman"/>
                <a:hlinkClick r:id="rId2"/>
              </a:rPr>
              <a:t>Black &amp; Brunt 2000</a:t>
            </a:r>
            <a:r>
              <a:rPr b="0" lang="en-US" sz="1600" spc="-1" strike="noStrike" u="sng">
                <a:solidFill>
                  <a:srgbClr val="c000c0"/>
                </a:solidFill>
                <a:uFillTx/>
                <a:latin typeface="Times New Roman"/>
                <a:hlinkClick r:id="rId3"/>
              </a:rPr>
              <a:t>]</a:t>
            </a:r>
            <a:endParaRPr b="0" lang="en-US" sz="16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Effects on KM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268560" indent="-26856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systematic, planned knowledge and information management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68560" indent="-26856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complex, dedicated information system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44400" indent="-26856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based on human labor and paper as storage medium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2" marL="966960" indent="-214560">
              <a:spcBef>
                <a:spcPts val="499"/>
              </a:spcBef>
              <a:buClr>
                <a:srgbClr val="ff3399"/>
              </a:buClr>
              <a:buSzPct val="6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manual” information technology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1" marL="644400" indent="-26856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requires precise methods and processes 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44400" indent="-26856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rational, planned system of 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2" marL="966960" indent="-214560">
              <a:spcBef>
                <a:spcPts val="499"/>
              </a:spcBef>
              <a:buClr>
                <a:srgbClr val="ff3399"/>
              </a:buClr>
              <a:buSzPct val="6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registration, filing, indexing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268560" indent="-26856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support for strategic planning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44400" indent="-26856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usage of gathered information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44400" indent="-26856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extraction of knowledge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042440" y="6524640"/>
            <a:ext cx="196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000c0"/>
                </a:solidFill>
                <a:uFillTx/>
                <a:latin typeface="Times New Roman"/>
                <a:hlinkClick r:id="rId1"/>
              </a:rPr>
              <a:t>[</a:t>
            </a:r>
            <a:r>
              <a:rPr b="0" lang="en-US" sz="1600" spc="-1" strike="noStrike" u="sng">
                <a:solidFill>
                  <a:srgbClr val="c000c0"/>
                </a:solidFill>
                <a:uFillTx/>
                <a:latin typeface="Times New Roman"/>
                <a:hlinkClick r:id="rId2"/>
              </a:rPr>
              <a:t>Black &amp; Brunt 2000</a:t>
            </a:r>
            <a:r>
              <a:rPr b="0" lang="en-US" sz="1600" spc="-1" strike="noStrike" u="sng">
                <a:solidFill>
                  <a:srgbClr val="c000c0"/>
                </a:solidFill>
                <a:uFillTx/>
                <a:latin typeface="Times New Roman"/>
                <a:hlinkClick r:id="rId3"/>
              </a:rPr>
              <a:t>]</a:t>
            </a:r>
            <a:endParaRPr b="0" lang="en-US" sz="16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Manual KM is Onerous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259920" indent="-25992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usually based on central repositorie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59920" indent="-25992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every document received must be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23880" indent="-25992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numbered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23880" indent="-25992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recorded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23880" indent="-25992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categorized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23880" indent="-25992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filed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59920" indent="-25992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several indexes must be generated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23880" indent="-25992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usually dependent on the purpose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2" marL="936000" indent="-207720">
              <a:spcBef>
                <a:spcPts val="499"/>
              </a:spcBef>
              <a:buClr>
                <a:srgbClr val="ff3399"/>
              </a:buClr>
              <a:buSzPct val="6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e.g. people, places, subjects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259920" indent="-25992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placeholders for temporarily removed documents 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23880" indent="-25992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transit cards”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042440" y="6524640"/>
            <a:ext cx="196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000c0"/>
                </a:solidFill>
                <a:uFillTx/>
                <a:latin typeface="Times New Roman"/>
                <a:hlinkClick r:id="rId1"/>
              </a:rPr>
              <a:t>[</a:t>
            </a:r>
            <a:r>
              <a:rPr b="0" lang="en-US" sz="1600" spc="-1" strike="noStrike" u="sng">
                <a:solidFill>
                  <a:srgbClr val="c000c0"/>
                </a:solidFill>
                <a:uFillTx/>
                <a:latin typeface="Times New Roman"/>
                <a:hlinkClick r:id="rId2"/>
              </a:rPr>
              <a:t>Black &amp; Brunt 2000</a:t>
            </a:r>
            <a:r>
              <a:rPr b="0" lang="en-US" sz="1600" spc="-1" strike="noStrike" u="sng">
                <a:solidFill>
                  <a:srgbClr val="c000c0"/>
                </a:solidFill>
                <a:uFillTx/>
                <a:latin typeface="Times New Roman"/>
                <a:hlinkClick r:id="rId3"/>
              </a:rPr>
              <a:t>]</a:t>
            </a:r>
            <a:endParaRPr b="0" lang="en-US" sz="16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Problems with Manual KM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8000"/>
          </a:bodyPr>
          <a:p>
            <a:pPr marL="251280" indent="-25128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organization method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03360" indent="-25128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alphabetical or subject-based indexing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51280" indent="-25128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sloppy work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03360" indent="-25128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incorrect categorization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03360" indent="-25128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incomplete indice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51280" indent="-25128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uncontrolled vocabulary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03360" indent="-25128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spelling variations, 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51280" indent="-25128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efficiency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03360" indent="-25128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delays in processing file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51280" indent="-25128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tracking of information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03360" indent="-25128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distributed across file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042440" y="6524640"/>
            <a:ext cx="196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000c0"/>
                </a:solidFill>
                <a:uFillTx/>
                <a:latin typeface="Times New Roman"/>
                <a:hlinkClick r:id="rId1"/>
              </a:rPr>
              <a:t>[</a:t>
            </a:r>
            <a:r>
              <a:rPr b="0" lang="en-US" sz="1600" spc="-1" strike="noStrike" u="sng">
                <a:solidFill>
                  <a:srgbClr val="c000c0"/>
                </a:solidFill>
                <a:uFillTx/>
                <a:latin typeface="Times New Roman"/>
                <a:hlinkClick r:id="rId2"/>
              </a:rPr>
              <a:t>Black &amp; Brunt 2000</a:t>
            </a:r>
            <a:r>
              <a:rPr b="0" lang="en-US" sz="1600" spc="-1" strike="noStrike" u="sng">
                <a:solidFill>
                  <a:srgbClr val="c000c0"/>
                </a:solidFill>
                <a:uFillTx/>
                <a:latin typeface="Times New Roman"/>
                <a:hlinkClick r:id="rId3"/>
              </a:rPr>
              <a:t>]</a:t>
            </a:r>
            <a:endParaRPr b="0" lang="en-US" sz="16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KM and the  Yorkshire Ripper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268560" indent="-26856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information available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44400" indent="-26856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files of suspects 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2" marL="966960" indent="-214560">
              <a:spcBef>
                <a:spcPts val="499"/>
              </a:spcBef>
              <a:buClr>
                <a:srgbClr val="ff3399"/>
              </a:buClr>
              <a:buSzPct val="6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in the West Yorkshire police station (coordinators)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2" marL="966960" indent="-214560">
              <a:spcBef>
                <a:spcPts val="499"/>
              </a:spcBef>
              <a:buClr>
                <a:srgbClr val="ff3399"/>
              </a:buClr>
              <a:buSzPct val="6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contains the file of the murderer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1" marL="644400" indent="-26856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links between murderer and victim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2" marL="966960" indent="-214560">
              <a:spcBef>
                <a:spcPts val="499"/>
              </a:spcBef>
              <a:buClr>
                <a:srgbClr val="ff3399"/>
              </a:buClr>
              <a:buSzPct val="6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a list of individuals who could have received in their wages a bank note found on one of the victims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2" marL="966960" indent="-214560">
              <a:spcBef>
                <a:spcPts val="499"/>
              </a:spcBef>
              <a:buClr>
                <a:srgbClr val="ff3399"/>
              </a:buClr>
              <a:buSzPct val="6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the list contained the name of the murderer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268560" indent="-26856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utilization of information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44400" indent="-26856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no match was made between the files of suspects and the list of individual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44400" indent="-26856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why?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042440" y="6524640"/>
            <a:ext cx="196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000c0"/>
                </a:solidFill>
                <a:uFillTx/>
                <a:latin typeface="Times New Roman"/>
                <a:hlinkClick r:id="rId1"/>
              </a:rPr>
              <a:t>[</a:t>
            </a:r>
            <a:r>
              <a:rPr b="0" lang="en-US" sz="1600" spc="-1" strike="noStrike" u="sng">
                <a:solidFill>
                  <a:srgbClr val="c000c0"/>
                </a:solidFill>
                <a:uFillTx/>
                <a:latin typeface="Times New Roman"/>
                <a:hlinkClick r:id="rId2"/>
              </a:rPr>
              <a:t>Black &amp; Brunt 2000</a:t>
            </a:r>
            <a:r>
              <a:rPr b="0" lang="en-US" sz="1600" spc="-1" strike="noStrike" u="sng">
                <a:solidFill>
                  <a:srgbClr val="c000c0"/>
                </a:solidFill>
                <a:uFillTx/>
                <a:latin typeface="Times New Roman"/>
                <a:hlinkClick r:id="rId3"/>
              </a:rPr>
              <a:t>]</a:t>
            </a:r>
            <a:endParaRPr b="0" lang="en-US" sz="16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The Case of the Yorkshire Ripper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hunt for the serial killer Peter Sutcliffe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a list of possible suspects was provided to police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2" marL="1028880" indent="-228600">
              <a:spcBef>
                <a:spcPts val="499"/>
              </a:spcBef>
              <a:buClr>
                <a:srgbClr val="ff3399"/>
              </a:buClr>
              <a:buSzPct val="6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individuals who could have received in their wages a bank note found on one of the victims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2" marL="1028880" indent="-228600">
              <a:spcBef>
                <a:spcPts val="499"/>
              </a:spcBef>
              <a:buClr>
                <a:srgbClr val="ff3399"/>
              </a:buClr>
              <a:buSzPct val="6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the list included Sutcliffe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the list was checked against the files of suspect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2" marL="1028880" indent="-228600">
              <a:spcBef>
                <a:spcPts val="499"/>
              </a:spcBef>
              <a:buClr>
                <a:srgbClr val="ff3399"/>
              </a:buClr>
              <a:buSzPct val="6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Sutcliffe’s file was not in the registry, but on the desk of a detective, and no transit records had been made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2" marL="1028880" indent="-228600">
              <a:spcBef>
                <a:spcPts val="499"/>
              </a:spcBef>
              <a:buClr>
                <a:srgbClr val="ff3399"/>
              </a:buClr>
              <a:buSzPct val="6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no match was found between the two sets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Sutcliffe committed more murders after that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042440" y="6524640"/>
            <a:ext cx="196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000c0"/>
                </a:solidFill>
                <a:uFillTx/>
                <a:latin typeface="Times New Roman"/>
                <a:hlinkClick r:id="rId1"/>
              </a:rPr>
              <a:t>[</a:t>
            </a:r>
            <a:r>
              <a:rPr b="0" lang="en-US" sz="1600" spc="-1" strike="noStrike" u="sng">
                <a:solidFill>
                  <a:srgbClr val="c000c0"/>
                </a:solidFill>
                <a:uFillTx/>
                <a:latin typeface="Times New Roman"/>
                <a:hlinkClick r:id="rId2"/>
              </a:rPr>
              <a:t>Black &amp; Brunt 2000</a:t>
            </a:r>
            <a:r>
              <a:rPr b="0" lang="en-US" sz="1600" spc="-1" strike="noStrike" u="sng">
                <a:solidFill>
                  <a:srgbClr val="c000c0"/>
                </a:solidFill>
                <a:uFillTx/>
                <a:latin typeface="Times New Roman"/>
                <a:hlinkClick r:id="rId3"/>
              </a:rPr>
              <a:t>]</a:t>
            </a:r>
            <a:endParaRPr b="0" lang="en-US" sz="16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Knowledge Management in Organizations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based on data collected by the Harris Research Centre in Spring 1998 on behalf of KPMG Management Consulting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sample covered 100 leading UK companie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040640" y="6524640"/>
            <a:ext cx="135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000c0"/>
                </a:solidFill>
                <a:uFillTx/>
                <a:latin typeface="Times New Roman"/>
                <a:hlinkClick r:id="rId1"/>
              </a:rPr>
              <a:t>[</a:t>
            </a:r>
            <a:r>
              <a:rPr b="0" lang="en-US" sz="1600" spc="-1" strike="noStrike" u="sng">
                <a:solidFill>
                  <a:srgbClr val="c000c0"/>
                </a:solidFill>
                <a:uFillTx/>
                <a:latin typeface="Times New Roman"/>
                <a:hlinkClick r:id="rId2"/>
              </a:rPr>
              <a:t>KPMG</a:t>
            </a:r>
            <a:r>
              <a:rPr b="0" lang="en-US" sz="1600" spc="-1" strike="noStrike" u="sng">
                <a:solidFill>
                  <a:srgbClr val="c000c0"/>
                </a:solidFill>
                <a:uFillTx/>
                <a:latin typeface="Times New Roman"/>
                <a:hlinkClick r:id="rId3"/>
              </a:rPr>
              <a:t> 1998]</a:t>
            </a:r>
            <a:endParaRPr b="0" lang="en-US" sz="16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Course Overview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28240" y="1218960"/>
            <a:ext cx="434340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262800" indent="-26280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62800" indent="-26280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Knowledge Processing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30720" indent="-262800"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Knowledge Acquisition, Representation and Manipulation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262800" indent="-26280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Knowledge Organization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30720" indent="-262800"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Classification, Categorization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1" marL="630720" indent="-262800"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Ontologies, Taxonomies, Thesauri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262800" indent="-26280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Knowledge Retrieval 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30720" indent="-262800"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Information Retrieval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1" marL="630720" indent="-262800"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Knowledge Navigation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262800" indent="-26280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Knowledge Presentation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30720" indent="-262800"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Knowledge Visualization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723920" y="1218960"/>
            <a:ext cx="434340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265680" indent="-26568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Knowledge Exchange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37560" indent="-265680"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Knowledge Capture, Transfer, and Distribution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265680" indent="-26568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Usage of Knowledge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37560" indent="-265680"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Access Patterns, User Feedback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265680" indent="-26568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Knowledge Management Technique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37560" indent="-265680"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Topic Maps, Agents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265680" indent="-26568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Knowledge Management Tool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65680" indent="-26568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Knowledge Management in Organization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Relevance of Knowledge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271440" indent="-2714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for many organizations, what they know  becomes more important than traditional sources of economic power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51240" indent="-2714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capital, land, facilities, labor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71440" indent="-2714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competitive advantage through knowledge-based competencie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51240" indent="-2714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technological know-how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51240" indent="-2714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product design skill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51240" indent="-2714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problem solving expertise 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51240" indent="-2714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creativity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51240" indent="-2714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ability to innovate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040640" y="6524640"/>
            <a:ext cx="135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000c0"/>
                </a:solidFill>
                <a:uFillTx/>
                <a:latin typeface="Times New Roman"/>
                <a:hlinkClick r:id="rId1"/>
              </a:rPr>
              <a:t>[</a:t>
            </a:r>
            <a:r>
              <a:rPr b="0" lang="en-US" sz="1600" spc="-1" strike="noStrike" u="sng">
                <a:solidFill>
                  <a:srgbClr val="c000c0"/>
                </a:solidFill>
                <a:uFillTx/>
                <a:latin typeface="Times New Roman"/>
                <a:hlinkClick r:id="rId2"/>
              </a:rPr>
              <a:t>KPMG</a:t>
            </a:r>
            <a:r>
              <a:rPr b="0" lang="en-US" sz="1600" spc="-1" strike="noStrike" u="sng">
                <a:solidFill>
                  <a:srgbClr val="c000c0"/>
                </a:solidFill>
                <a:uFillTx/>
                <a:latin typeface="Times New Roman"/>
                <a:hlinkClick r:id="rId3"/>
              </a:rPr>
              <a:t> 1998]</a:t>
            </a:r>
            <a:endParaRPr b="0" lang="en-US" sz="16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Risks of Knowledge Loss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knowledge of best practice in important areas of operation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damage to relationships with key clients or supplier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loss of income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040640" y="6524640"/>
            <a:ext cx="135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000c0"/>
                </a:solidFill>
                <a:uFillTx/>
                <a:latin typeface="Times New Roman"/>
                <a:hlinkClick r:id="rId1"/>
              </a:rPr>
              <a:t>[</a:t>
            </a:r>
            <a:r>
              <a:rPr b="0" lang="en-US" sz="1600" spc="-1" strike="noStrike" u="sng">
                <a:solidFill>
                  <a:srgbClr val="c000c0"/>
                </a:solidFill>
                <a:uFillTx/>
                <a:latin typeface="Times New Roman"/>
                <a:hlinkClick r:id="rId2"/>
              </a:rPr>
              <a:t>KPMG</a:t>
            </a:r>
            <a:r>
              <a:rPr b="0" lang="en-US" sz="1600" spc="-1" strike="noStrike" u="sng">
                <a:solidFill>
                  <a:srgbClr val="c000c0"/>
                </a:solidFill>
                <a:uFillTx/>
                <a:latin typeface="Times New Roman"/>
                <a:hlinkClick r:id="rId3"/>
              </a:rPr>
              <a:t> 1998]</a:t>
            </a:r>
            <a:endParaRPr b="0" lang="en-US" sz="16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Most Critical Knowledge Types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knowledge about customer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market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products and service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competitor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skills of employee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40640" y="6524640"/>
            <a:ext cx="135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000c0"/>
                </a:solidFill>
                <a:uFillTx/>
                <a:latin typeface="Times New Roman"/>
                <a:hlinkClick r:id="rId1"/>
              </a:rPr>
              <a:t>[</a:t>
            </a:r>
            <a:r>
              <a:rPr b="0" lang="en-US" sz="1600" spc="-1" strike="noStrike" u="sng">
                <a:solidFill>
                  <a:srgbClr val="c000c0"/>
                </a:solidFill>
                <a:uFillTx/>
                <a:latin typeface="Times New Roman"/>
                <a:hlinkClick r:id="rId2"/>
              </a:rPr>
              <a:t>KPMG</a:t>
            </a:r>
            <a:r>
              <a:rPr b="0" lang="en-US" sz="1600" spc="-1" strike="noStrike" u="sng">
                <a:solidFill>
                  <a:srgbClr val="c000c0"/>
                </a:solidFill>
                <a:uFillTx/>
                <a:latin typeface="Times New Roman"/>
                <a:hlinkClick r:id="rId3"/>
              </a:rPr>
              <a:t> 1998]</a:t>
            </a:r>
            <a:endParaRPr b="0" lang="en-US" sz="16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Impediments 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people want to share knowledge but don’t have the time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wasted efforts through re-inventing the wheel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lack of rewards and incentive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relatively few people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are unwilling to share knowledge or best practice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think there is too much knowledge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040640" y="6524640"/>
            <a:ext cx="135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000c0"/>
                </a:solidFill>
                <a:uFillTx/>
                <a:latin typeface="Times New Roman"/>
                <a:hlinkClick r:id="rId1"/>
              </a:rPr>
              <a:t>[</a:t>
            </a:r>
            <a:r>
              <a:rPr b="0" lang="en-US" sz="1600" spc="-1" strike="noStrike" u="sng">
                <a:solidFill>
                  <a:srgbClr val="c000c0"/>
                </a:solidFill>
                <a:uFillTx/>
                <a:latin typeface="Times New Roman"/>
                <a:hlinkClick r:id="rId2"/>
              </a:rPr>
              <a:t>KPMG</a:t>
            </a:r>
            <a:r>
              <a:rPr b="0" lang="en-US" sz="1600" spc="-1" strike="noStrike" u="sng">
                <a:solidFill>
                  <a:srgbClr val="c000c0"/>
                </a:solidFill>
                <a:uFillTx/>
                <a:latin typeface="Times New Roman"/>
                <a:hlinkClick r:id="rId3"/>
              </a:rPr>
              <a:t> 1998]</a:t>
            </a:r>
            <a:endParaRPr b="0" lang="en-US" sz="16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Driving Needs for KM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almost exclusively financial consideration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improving profit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defending market share against competitor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cost reduction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growing revenue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040640" y="6524640"/>
            <a:ext cx="135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000c0"/>
                </a:solidFill>
                <a:uFillTx/>
                <a:latin typeface="Times New Roman"/>
                <a:hlinkClick r:id="rId1"/>
              </a:rPr>
              <a:t>[</a:t>
            </a:r>
            <a:r>
              <a:rPr b="0" lang="en-US" sz="1600" spc="-1" strike="noStrike" u="sng">
                <a:solidFill>
                  <a:srgbClr val="c000c0"/>
                </a:solidFill>
                <a:uFillTx/>
                <a:latin typeface="Times New Roman"/>
                <a:hlinkClick r:id="rId2"/>
              </a:rPr>
              <a:t>KPMG</a:t>
            </a:r>
            <a:r>
              <a:rPr b="0" lang="en-US" sz="1600" spc="-1" strike="noStrike" u="sng">
                <a:solidFill>
                  <a:srgbClr val="c000c0"/>
                </a:solidFill>
                <a:uFillTx/>
                <a:latin typeface="Times New Roman"/>
                <a:hlinkClick r:id="rId3"/>
              </a:rPr>
              <a:t> 1998]</a:t>
            </a:r>
            <a:endParaRPr b="0" lang="en-US" sz="16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Possible Benefits of KM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conventional (budget-focused)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better decision making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faster response time to key issue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improved productivity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reduced cost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increased profit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other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new business opportunitie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better staff retention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040640" y="6524640"/>
            <a:ext cx="135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000c0"/>
                </a:solidFill>
                <a:uFillTx/>
                <a:latin typeface="Times New Roman"/>
                <a:hlinkClick r:id="rId1"/>
              </a:rPr>
              <a:t>[</a:t>
            </a:r>
            <a:r>
              <a:rPr b="0" lang="en-US" sz="1600" spc="-1" strike="noStrike" u="sng">
                <a:solidFill>
                  <a:srgbClr val="c000c0"/>
                </a:solidFill>
                <a:uFillTx/>
                <a:latin typeface="Times New Roman"/>
                <a:hlinkClick r:id="rId2"/>
              </a:rPr>
              <a:t>KPMG</a:t>
            </a:r>
            <a:r>
              <a:rPr b="0" lang="en-US" sz="1600" spc="-1" strike="noStrike" u="sng">
                <a:solidFill>
                  <a:srgbClr val="c000c0"/>
                </a:solidFill>
                <a:uFillTx/>
                <a:latin typeface="Times New Roman"/>
                <a:hlinkClick r:id="rId3"/>
              </a:rPr>
              <a:t> 1998]</a:t>
            </a:r>
            <a:endParaRPr b="0" lang="en-US" sz="16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Technological Infrastructure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Internet acces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intranet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document management system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groupware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data warehousing, data mining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decision support system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extranet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040640" y="6524640"/>
            <a:ext cx="135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000c0"/>
                </a:solidFill>
                <a:uFillTx/>
                <a:latin typeface="Times New Roman"/>
                <a:hlinkClick r:id="rId1"/>
              </a:rPr>
              <a:t>[</a:t>
            </a:r>
            <a:r>
              <a:rPr b="0" lang="en-US" sz="1600" spc="-1" strike="noStrike" u="sng">
                <a:solidFill>
                  <a:srgbClr val="c000c0"/>
                </a:solidFill>
                <a:uFillTx/>
                <a:latin typeface="Times New Roman"/>
                <a:hlinkClick r:id="rId2"/>
              </a:rPr>
              <a:t>KPMG</a:t>
            </a:r>
            <a:r>
              <a:rPr b="0" lang="en-US" sz="1600" spc="-1" strike="noStrike" u="sng">
                <a:solidFill>
                  <a:srgbClr val="c000c0"/>
                </a:solidFill>
                <a:uFillTx/>
                <a:latin typeface="Times New Roman"/>
                <a:hlinkClick r:id="rId3"/>
              </a:rPr>
              <a:t> 1998]</a:t>
            </a:r>
            <a:endParaRPr b="0" lang="en-US" sz="16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376200"/>
            <a:ext cx="91425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040640" y="6524640"/>
            <a:ext cx="135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000c0"/>
                </a:solidFill>
                <a:uFillTx/>
                <a:latin typeface="Times New Roman"/>
                <a:hlinkClick r:id="rId1"/>
              </a:rPr>
              <a:t>[</a:t>
            </a:r>
            <a:r>
              <a:rPr b="0" lang="en-US" sz="1600" spc="-1" strike="noStrike" u="sng">
                <a:solidFill>
                  <a:srgbClr val="c000c0"/>
                </a:solidFill>
                <a:uFillTx/>
                <a:latin typeface="Times New Roman"/>
                <a:hlinkClick r:id="rId2"/>
              </a:rPr>
              <a:t>KPMG</a:t>
            </a:r>
            <a:r>
              <a:rPr b="0" lang="en-US" sz="1600" spc="-1" strike="noStrike" u="sng">
                <a:solidFill>
                  <a:srgbClr val="c000c0"/>
                </a:solidFill>
                <a:uFillTx/>
                <a:latin typeface="Times New Roman"/>
                <a:hlinkClick r:id="rId3"/>
              </a:rPr>
              <a:t> 1999]</a:t>
            </a:r>
            <a:endParaRPr b="0" lang="en-US" sz="16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Survey Background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280080" indent="-28008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Objective</a:t>
            </a: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71760" indent="-28008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Establish the extent to which companies regard knowledge  management as important and pursue initiatives to implement and master it</a:t>
            </a: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80080" indent="-28008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Target group 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71760" indent="-28008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Mid- to large-size companies from a variety of industries. The research was conducted among chief executives, business unit managers, product managers, marketing managers and R&amp;D manager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80080" indent="-28008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Questionnaire 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71760" indent="-28008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Data from 25 companies was processed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Definitions for the Survey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Knowledge 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the knowledge in the business about customers, products, processes, competitors and so on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Knowledge management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the discipline of capturing knowledge-based competencies, storing and disseminating them for the benefit of the organization. 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040640" y="6524640"/>
            <a:ext cx="135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000c0"/>
                </a:solidFill>
                <a:uFillTx/>
                <a:latin typeface="Times New Roman"/>
                <a:hlinkClick r:id="rId1"/>
              </a:rPr>
              <a:t>[</a:t>
            </a:r>
            <a:r>
              <a:rPr b="0" lang="en-US" sz="1600" spc="-1" strike="noStrike" u="sng">
                <a:solidFill>
                  <a:srgbClr val="c000c0"/>
                </a:solidFill>
                <a:uFillTx/>
                <a:latin typeface="Times New Roman"/>
                <a:hlinkClick r:id="rId2"/>
              </a:rPr>
              <a:t>KPMG</a:t>
            </a:r>
            <a:r>
              <a:rPr b="0" lang="en-US" sz="1600" spc="-1" strike="noStrike" u="sng">
                <a:solidFill>
                  <a:srgbClr val="c000c0"/>
                </a:solidFill>
                <a:uFillTx/>
                <a:latin typeface="Times New Roman"/>
                <a:hlinkClick r:id="rId3"/>
              </a:rPr>
              <a:t> 1999]</a:t>
            </a:r>
            <a:endParaRPr b="0" lang="en-US" sz="16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Respondents’ Profile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106640" y="1312920"/>
            <a:ext cx="6989760" cy="4118040"/>
          </a:xfrm>
          <a:prstGeom prst="rect">
            <a:avLst/>
          </a:prstGeom>
          <a:solidFill>
            <a:srgbClr val="feff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48720" y="1546200"/>
            <a:ext cx="4237200" cy="3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8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ze responding organizations</a:t>
            </a:r>
            <a:endParaRPr b="0" lang="en-US" sz="2200" spc="-1" strike="noStrike">
              <a:solidFill>
                <a:srgbClr val="fcfeb9"/>
              </a:solidFill>
              <a:latin typeface="Times New Roman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1904760" y="1933200"/>
            <a:ext cx="3298680" cy="3318120"/>
            <a:chOff x="1904760" y="1933200"/>
            <a:chExt cx="3298680" cy="3318120"/>
          </a:xfrm>
        </p:grpSpPr>
        <p:grpSp>
          <p:nvGrpSpPr>
            <p:cNvPr id="123" name=""/>
            <p:cNvGrpSpPr/>
            <p:nvPr/>
          </p:nvGrpSpPr>
          <p:grpSpPr>
            <a:xfrm>
              <a:off x="1904760" y="1933200"/>
              <a:ext cx="3298680" cy="3318120"/>
              <a:chOff x="1904760" y="1933200"/>
              <a:chExt cx="3298680" cy="3318120"/>
            </a:xfrm>
          </p:grpSpPr>
          <p:sp>
            <p:nvSpPr>
              <p:cNvPr id="124" name=""/>
              <p:cNvSpPr/>
              <p:nvPr/>
            </p:nvSpPr>
            <p:spPr>
              <a:xfrm>
                <a:off x="1906920" y="1936800"/>
                <a:ext cx="3294360" cy="3314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696" y="1"/>
                    </a:moveTo>
                    <a:arcTo wR="10800" hR="10800" stAng="-5433117" swAng="514291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696" y="1"/>
                    </a:moveTo>
                    <a:arcTo wR="10800" hR="10800" stAng="-5433117" swAng="5142916"/>
                  </a:path>
                </a:pathLst>
              </a:custGeom>
              <a:solidFill>
                <a:srgbClr val="552de3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904760" y="1933200"/>
                <a:ext cx="3298680" cy="3312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61" y="9888"/>
                    </a:moveTo>
                    <a:arcTo wR="10800" hR="10800" stAng="-290617" swAng="440198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61" y="9888"/>
                    </a:moveTo>
                    <a:arcTo wR="10800" hR="10800" stAng="-290617" swAng="4401986"/>
                  </a:path>
                </a:pathLst>
              </a:custGeom>
              <a:solidFill>
                <a:srgbClr val="990066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1905840" y="1935000"/>
                <a:ext cx="3290400" cy="3314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4759" y="20848"/>
                    </a:moveTo>
                    <a:arcTo wR="10800" hR="10800" stAng="4109760" swAng="264139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4759" y="20848"/>
                    </a:moveTo>
                    <a:arcTo wR="10800" hR="10800" stAng="4109760" swAng="2641390"/>
                  </a:path>
                </a:pathLst>
              </a:custGeom>
              <a:solidFill>
                <a:srgbClr val="eeaf36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905120" y="1936080"/>
                <a:ext cx="3295080" cy="3315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658" y="20774"/>
                    </a:moveTo>
                    <a:arcTo wR="10800" hR="10800" stAng="6753039" swAng="598702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658" y="20774"/>
                    </a:moveTo>
                    <a:arcTo wR="10800" hR="10800" stAng="6753039" swAng="5987028"/>
                  </a:path>
                </a:pathLst>
              </a:custGeom>
              <a:solidFill>
                <a:srgbClr val="66cdcd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1906920" y="1936800"/>
                <a:ext cx="3294720" cy="3314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75" y="5024"/>
                    </a:moveTo>
                    <a:arcTo wR="10800" hR="10800" stAng="-8859933" swAng="342681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75" y="5024"/>
                    </a:moveTo>
                    <a:arcTo wR="10800" hR="10800" stAng="-8859933" swAng="3426816"/>
                  </a:path>
                </a:pathLst>
              </a:custGeom>
              <a:solidFill>
                <a:srgbClr val="330099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</p:grpSp>
        <p:sp>
          <p:nvSpPr>
            <p:cNvPr id="129" name=""/>
            <p:cNvSpPr/>
            <p:nvPr/>
          </p:nvSpPr>
          <p:spPr>
            <a:xfrm>
              <a:off x="3894120" y="2679840"/>
              <a:ext cx="8967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85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cfeb9"/>
                  </a:solidFill>
                  <a:latin typeface="Arial"/>
                </a:rPr>
                <a:t>24%</a:t>
              </a:r>
              <a:endParaRPr b="0" lang="en-US" sz="28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046400" y="3933720"/>
              <a:ext cx="8967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85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cfeb9"/>
                  </a:solidFill>
                  <a:latin typeface="Arial"/>
                </a:rPr>
                <a:t>20%</a:t>
              </a:r>
              <a:endParaRPr b="0" lang="en-US" sz="28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065400" y="4564080"/>
              <a:ext cx="8967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85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cfeb9"/>
                  </a:solidFill>
                  <a:latin typeface="Arial"/>
                </a:rPr>
                <a:t>12%</a:t>
              </a:r>
              <a:endParaRPr b="0" lang="en-US" sz="28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244600" y="3700440"/>
              <a:ext cx="8967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85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cfeb9"/>
                  </a:solidFill>
                  <a:latin typeface="Arial"/>
                </a:rPr>
                <a:t>28%</a:t>
              </a:r>
              <a:endParaRPr b="0" lang="en-US" sz="28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641680" y="2489040"/>
              <a:ext cx="8967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85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cfeb9"/>
                  </a:solidFill>
                  <a:latin typeface="Arial"/>
                </a:rPr>
                <a:t>16%</a:t>
              </a:r>
              <a:endParaRPr b="0" lang="en-US" sz="28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5769360" y="2787480"/>
            <a:ext cx="20664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2f2fff"/>
              </a:buClr>
              <a:buSzPct val="12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-500</a:t>
            </a:r>
            <a:endParaRPr b="0" lang="en-US" sz="1800" spc="-1" strike="noStrike">
              <a:solidFill>
                <a:srgbClr val="fcfeb9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990066"/>
              </a:buClr>
              <a:buSzPct val="12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1-5.000</a:t>
            </a:r>
            <a:endParaRPr b="0" lang="en-US" sz="1800" spc="-1" strike="noStrike">
              <a:solidFill>
                <a:srgbClr val="fcfeb9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eeaf36"/>
              </a:buClr>
              <a:buSzPct val="12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001-25.000</a:t>
            </a:r>
            <a:endParaRPr b="0" lang="en-US" sz="1800" spc="-1" strike="noStrike">
              <a:solidFill>
                <a:srgbClr val="fcfeb9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66cdcd"/>
              </a:buClr>
              <a:buSzPct val="12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.001-100.000</a:t>
            </a:r>
            <a:endParaRPr b="0" lang="en-US" sz="1800" spc="-1" strike="noStrike">
              <a:solidFill>
                <a:srgbClr val="fcfeb9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330099"/>
              </a:buClr>
              <a:buSzPct val="12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100.000</a:t>
            </a:r>
            <a:endParaRPr b="0" lang="en-US" sz="18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106640" y="1025640"/>
            <a:ext cx="6926040" cy="447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040640" y="6524640"/>
            <a:ext cx="135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000c0"/>
                </a:solidFill>
                <a:uFillTx/>
                <a:latin typeface="Times New Roman"/>
                <a:hlinkClick r:id="rId1"/>
              </a:rPr>
              <a:t>[</a:t>
            </a:r>
            <a:r>
              <a:rPr b="0" lang="en-US" sz="1600" spc="-1" strike="noStrike" u="sng">
                <a:solidFill>
                  <a:srgbClr val="c000c0"/>
                </a:solidFill>
                <a:uFillTx/>
                <a:latin typeface="Times New Roman"/>
                <a:hlinkClick r:id="rId2"/>
              </a:rPr>
              <a:t>KPMG</a:t>
            </a:r>
            <a:r>
              <a:rPr b="0" lang="en-US" sz="1600" spc="-1" strike="noStrike" u="sng">
                <a:solidFill>
                  <a:srgbClr val="c000c0"/>
                </a:solidFill>
                <a:uFillTx/>
                <a:latin typeface="Times New Roman"/>
                <a:hlinkClick r:id="rId3"/>
              </a:rPr>
              <a:t> 1999]</a:t>
            </a:r>
            <a:endParaRPr b="0" lang="en-US" sz="16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33160" y="5638680"/>
            <a:ext cx="830556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7000"/>
          </a:bodyPr>
          <a:p>
            <a:pPr marL="248400" indent="-248400">
              <a:spcBef>
                <a:spcPts val="601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Average size respondents +/- 35.000 people.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48400" indent="-248400">
              <a:spcBef>
                <a:spcPts val="601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Representative sample of 25 mid- to large- size companies.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Overview KM in Organizations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434340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Motivation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Objective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Evaluation Criteria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Historical Perspective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Ad Hoc KM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Organized KM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KM and Computers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Current Trends and Tendencie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Status of KM in Organizations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Plans for KM in Organizations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47960" y="1676160"/>
            <a:ext cx="434340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Knowledge Workers and Knowledge Organization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Industrial vs. Knowledge Age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Mutual Benefits for Workers and Organizations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Important Concepts and Term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Chapter Summary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1730520" y="1312920"/>
            <a:ext cx="5678280" cy="1962000"/>
            <a:chOff x="1730520" y="1312920"/>
            <a:chExt cx="5678280" cy="1962000"/>
          </a:xfrm>
        </p:grpSpPr>
        <p:sp>
          <p:nvSpPr>
            <p:cNvPr id="139" name=""/>
            <p:cNvSpPr/>
            <p:nvPr/>
          </p:nvSpPr>
          <p:spPr>
            <a:xfrm>
              <a:off x="1730520" y="1312920"/>
              <a:ext cx="5678280" cy="1962000"/>
            </a:xfrm>
            <a:prstGeom prst="rect">
              <a:avLst/>
            </a:prstGeom>
            <a:solidFill>
              <a:srgbClr val="feff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335400" y="1928880"/>
              <a:ext cx="3722760" cy="882720"/>
            </a:xfrm>
            <a:custGeom>
              <a:avLst/>
              <a:gdLst/>
              <a:ahLst/>
              <a:rect l="l" t="t" r="r" b="b"/>
              <a:pathLst>
                <a:path w="2345" h="556">
                  <a:moveTo>
                    <a:pt x="0" y="0"/>
                  </a:moveTo>
                  <a:lnTo>
                    <a:pt x="2344" y="0"/>
                  </a:lnTo>
                  <a:lnTo>
                    <a:pt x="2344" y="555"/>
                  </a:lnTo>
                  <a:lnTo>
                    <a:pt x="0" y="555"/>
                  </a:lnTo>
                  <a:lnTo>
                    <a:pt x="0" y="0"/>
                  </a:lnTo>
                </a:path>
              </a:pathLst>
            </a:custGeom>
            <a:solidFill>
              <a:srgbClr val="e3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335400" y="1928880"/>
              <a:ext cx="3722760" cy="882720"/>
            </a:xfrm>
            <a:custGeom>
              <a:avLst/>
              <a:gdLst/>
              <a:ahLst/>
              <a:rect l="l" t="t" r="r" b="b"/>
              <a:pathLst>
                <a:path w="2345" h="556">
                  <a:moveTo>
                    <a:pt x="0" y="0"/>
                  </a:moveTo>
                  <a:lnTo>
                    <a:pt x="2344" y="0"/>
                  </a:lnTo>
                  <a:lnTo>
                    <a:pt x="2344" y="555"/>
                  </a:lnTo>
                  <a:lnTo>
                    <a:pt x="0" y="555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335400" y="2505240"/>
              <a:ext cx="596880" cy="169560"/>
            </a:xfrm>
            <a:custGeom>
              <a:avLst/>
              <a:gdLst/>
              <a:ahLst/>
              <a:rect l="l" t="t" r="r" b="b"/>
              <a:pathLst>
                <a:path w="376" h="107">
                  <a:moveTo>
                    <a:pt x="0" y="0"/>
                  </a:moveTo>
                  <a:lnTo>
                    <a:pt x="375" y="0"/>
                  </a:lnTo>
                  <a:lnTo>
                    <a:pt x="375" y="106"/>
                  </a:lnTo>
                  <a:lnTo>
                    <a:pt x="0" y="106"/>
                  </a:lnTo>
                  <a:lnTo>
                    <a:pt x="0" y="0"/>
                  </a:lnTo>
                </a:path>
              </a:pathLst>
            </a:custGeom>
            <a:solidFill>
              <a:srgbClr val="8080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335400" y="2063880"/>
              <a:ext cx="3127320" cy="171360"/>
            </a:xfrm>
            <a:custGeom>
              <a:avLst/>
              <a:gdLst/>
              <a:ahLst/>
              <a:rect l="l" t="t" r="r" b="b"/>
              <a:pathLst>
                <a:path w="1970" h="108">
                  <a:moveTo>
                    <a:pt x="0" y="0"/>
                  </a:moveTo>
                  <a:lnTo>
                    <a:pt x="1969" y="0"/>
                  </a:lnTo>
                  <a:lnTo>
                    <a:pt x="1969" y="107"/>
                  </a:lnTo>
                  <a:lnTo>
                    <a:pt x="0" y="107"/>
                  </a:lnTo>
                  <a:lnTo>
                    <a:pt x="0" y="0"/>
                  </a:lnTo>
                </a:path>
              </a:pathLst>
            </a:custGeom>
            <a:solidFill>
              <a:srgbClr val="8080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335400" y="2809800"/>
              <a:ext cx="3720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flipV="1">
              <a:off x="3335400" y="2759040"/>
              <a:ext cx="0" cy="101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flipV="1">
              <a:off x="4083120" y="2759040"/>
              <a:ext cx="0" cy="101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V="1">
              <a:off x="4830840" y="2759040"/>
              <a:ext cx="0" cy="101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V="1">
              <a:off x="5560920" y="2759040"/>
              <a:ext cx="0" cy="101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flipV="1">
              <a:off x="6308640" y="2759040"/>
              <a:ext cx="0" cy="101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flipV="1">
              <a:off x="7056360" y="2759040"/>
              <a:ext cx="0" cy="101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335400" y="1928880"/>
              <a:ext cx="0" cy="880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284640" y="2809800"/>
              <a:ext cx="101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284640" y="2368440"/>
              <a:ext cx="101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284640" y="1928880"/>
              <a:ext cx="101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048560" y="1463760"/>
              <a:ext cx="113904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8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Location</a:t>
              </a:r>
              <a:endParaRPr b="0" lang="en-US" sz="18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192120" y="2903400"/>
              <a:ext cx="291600" cy="28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85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5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888720" y="2903400"/>
              <a:ext cx="398520" cy="28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85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5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636440" y="2903400"/>
              <a:ext cx="398520" cy="28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85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5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366520" y="2903400"/>
              <a:ext cx="398520" cy="28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85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5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114240" y="2903400"/>
              <a:ext cx="398520" cy="28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85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5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809760" y="2903400"/>
              <a:ext cx="505080" cy="28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85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5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85120" y="2411280"/>
              <a:ext cx="1261080" cy="28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85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One location</a:t>
              </a:r>
              <a:endParaRPr b="0" lang="en-US" sz="15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932120" y="1836720"/>
              <a:ext cx="1420920" cy="28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85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More than one</a:t>
              </a:r>
              <a:endParaRPr b="0" lang="en-US" sz="15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205000" y="2090880"/>
              <a:ext cx="846360" cy="28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85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location</a:t>
              </a:r>
              <a:endParaRPr b="0" lang="en-US" sz="15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1747800" y="3451320"/>
            <a:ext cx="5645160" cy="1896840"/>
            <a:chOff x="1747800" y="3451320"/>
            <a:chExt cx="5645160" cy="1896840"/>
          </a:xfrm>
        </p:grpSpPr>
        <p:sp>
          <p:nvSpPr>
            <p:cNvPr id="166" name=""/>
            <p:cNvSpPr/>
            <p:nvPr/>
          </p:nvSpPr>
          <p:spPr>
            <a:xfrm>
              <a:off x="1747800" y="3451320"/>
              <a:ext cx="5645160" cy="1896840"/>
            </a:xfrm>
            <a:prstGeom prst="rect">
              <a:avLst/>
            </a:prstGeom>
            <a:solidFill>
              <a:srgbClr val="feffab"/>
            </a:solidFill>
            <a:ln w="12600">
              <a:solidFill>
                <a:srgbClr val="fcfeb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535120" y="4033800"/>
              <a:ext cx="4519800" cy="773280"/>
            </a:xfrm>
            <a:custGeom>
              <a:avLst/>
              <a:gdLst/>
              <a:ahLst/>
              <a:rect l="l" t="t" r="r" b="b"/>
              <a:pathLst>
                <a:path w="2847" h="487">
                  <a:moveTo>
                    <a:pt x="0" y="0"/>
                  </a:moveTo>
                  <a:lnTo>
                    <a:pt x="2846" y="0"/>
                  </a:lnTo>
                  <a:lnTo>
                    <a:pt x="2846" y="486"/>
                  </a:lnTo>
                  <a:lnTo>
                    <a:pt x="0" y="486"/>
                  </a:lnTo>
                  <a:lnTo>
                    <a:pt x="0" y="0"/>
                  </a:lnTo>
                </a:path>
              </a:pathLst>
            </a:custGeom>
            <a:solidFill>
              <a:srgbClr val="e3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535120" y="4033800"/>
              <a:ext cx="4519800" cy="773280"/>
            </a:xfrm>
            <a:custGeom>
              <a:avLst/>
              <a:gdLst/>
              <a:ahLst/>
              <a:rect l="l" t="t" r="r" b="b"/>
              <a:pathLst>
                <a:path w="2847" h="487">
                  <a:moveTo>
                    <a:pt x="0" y="0"/>
                  </a:moveTo>
                  <a:lnTo>
                    <a:pt x="2846" y="0"/>
                  </a:lnTo>
                  <a:lnTo>
                    <a:pt x="2846" y="486"/>
                  </a:lnTo>
                  <a:lnTo>
                    <a:pt x="0" y="486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535120" y="4537080"/>
              <a:ext cx="1811520" cy="152280"/>
            </a:xfrm>
            <a:custGeom>
              <a:avLst/>
              <a:gdLst/>
              <a:ahLst/>
              <a:rect l="l" t="t" r="r" b="b"/>
              <a:pathLst>
                <a:path w="1141" h="96">
                  <a:moveTo>
                    <a:pt x="0" y="0"/>
                  </a:moveTo>
                  <a:lnTo>
                    <a:pt x="1140" y="0"/>
                  </a:lnTo>
                  <a:lnTo>
                    <a:pt x="1140" y="95"/>
                  </a:lnTo>
                  <a:lnTo>
                    <a:pt x="0" y="95"/>
                  </a:lnTo>
                  <a:lnTo>
                    <a:pt x="0" y="0"/>
                  </a:lnTo>
                </a:path>
              </a:pathLst>
            </a:custGeom>
            <a:solidFill>
              <a:srgbClr val="8080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535120" y="4151160"/>
              <a:ext cx="3841920" cy="152640"/>
            </a:xfrm>
            <a:custGeom>
              <a:avLst/>
              <a:gdLst/>
              <a:ahLst/>
              <a:rect l="l" t="t" r="r" b="b"/>
              <a:pathLst>
                <a:path w="2420" h="96">
                  <a:moveTo>
                    <a:pt x="0" y="0"/>
                  </a:moveTo>
                  <a:lnTo>
                    <a:pt x="2419" y="0"/>
                  </a:lnTo>
                  <a:lnTo>
                    <a:pt x="2419" y="95"/>
                  </a:lnTo>
                  <a:lnTo>
                    <a:pt x="0" y="95"/>
                  </a:lnTo>
                  <a:lnTo>
                    <a:pt x="0" y="0"/>
                  </a:lnTo>
                </a:path>
              </a:pathLst>
            </a:custGeom>
            <a:solidFill>
              <a:srgbClr val="8080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535120" y="4805280"/>
              <a:ext cx="4518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V="1">
              <a:off x="2535120" y="4754520"/>
              <a:ext cx="0" cy="100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3668760" y="4754520"/>
              <a:ext cx="0" cy="100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V="1">
              <a:off x="4802040" y="4754520"/>
              <a:ext cx="0" cy="100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V="1">
              <a:off x="5919840" y="4754520"/>
              <a:ext cx="0" cy="100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V="1">
              <a:off x="7053120" y="4754520"/>
              <a:ext cx="0" cy="100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535120" y="4033800"/>
              <a:ext cx="0" cy="771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484360" y="4805280"/>
              <a:ext cx="101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484360" y="4419720"/>
              <a:ext cx="101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484360" y="4033800"/>
              <a:ext cx="101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397320" y="3568680"/>
              <a:ext cx="242244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8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oreign subsidiaries</a:t>
              </a:r>
              <a:endParaRPr b="0" lang="en-US" sz="18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66640" y="4870440"/>
              <a:ext cx="291600" cy="28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85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5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448800" y="4870440"/>
              <a:ext cx="398520" cy="28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85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5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582440" y="4870440"/>
              <a:ext cx="398520" cy="28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85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5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699880" y="4870440"/>
              <a:ext cx="398520" cy="28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85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5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33520" y="4870440"/>
              <a:ext cx="398520" cy="28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85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5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062080" y="4400640"/>
              <a:ext cx="428760" cy="28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85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No</a:t>
              </a:r>
              <a:endParaRPr b="0" lang="en-US" sz="15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942560" y="4014720"/>
              <a:ext cx="514080" cy="28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85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Yes</a:t>
              </a:r>
              <a:endParaRPr b="0" lang="en-US" sz="15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4040640" y="6524640"/>
            <a:ext cx="135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000c0"/>
                </a:solidFill>
                <a:uFillTx/>
                <a:latin typeface="Times New Roman"/>
                <a:hlinkClick r:id="rId1"/>
              </a:rPr>
              <a:t>[</a:t>
            </a:r>
            <a:r>
              <a:rPr b="0" lang="en-US" sz="1600" spc="-1" strike="noStrike" u="sng">
                <a:solidFill>
                  <a:srgbClr val="c000c0"/>
                </a:solidFill>
                <a:uFillTx/>
                <a:latin typeface="Times New Roman"/>
                <a:hlinkClick r:id="rId2"/>
              </a:rPr>
              <a:t>KPMG</a:t>
            </a:r>
            <a:r>
              <a:rPr b="0" lang="en-US" sz="1600" spc="-1" strike="noStrike" u="sng">
                <a:solidFill>
                  <a:srgbClr val="c000c0"/>
                </a:solidFill>
                <a:uFillTx/>
                <a:latin typeface="Times New Roman"/>
                <a:hlinkClick r:id="rId3"/>
              </a:rPr>
              <a:t> 1999]</a:t>
            </a:r>
            <a:endParaRPr b="0" lang="en-US" sz="16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Respondents’ Profile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228240" y="5638680"/>
            <a:ext cx="883908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8000"/>
          </a:bodyPr>
          <a:p>
            <a:pPr marL="222840" indent="-222840">
              <a:spcBef>
                <a:spcPts val="601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Most companies have numerous locations in more than one country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Respondents’ Profile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673200" y="1306440"/>
            <a:ext cx="7792920" cy="3743280"/>
            <a:chOff x="673200" y="1306440"/>
            <a:chExt cx="7792920" cy="3743280"/>
          </a:xfrm>
        </p:grpSpPr>
        <p:sp>
          <p:nvSpPr>
            <p:cNvPr id="194" name=""/>
            <p:cNvSpPr/>
            <p:nvPr/>
          </p:nvSpPr>
          <p:spPr>
            <a:xfrm>
              <a:off x="673200" y="1306440"/>
              <a:ext cx="7792920" cy="3743280"/>
            </a:xfrm>
            <a:prstGeom prst="rect">
              <a:avLst/>
            </a:prstGeom>
            <a:solidFill>
              <a:srgbClr val="feff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grpSp>
          <p:nvGrpSpPr>
            <p:cNvPr id="195" name=""/>
            <p:cNvGrpSpPr/>
            <p:nvPr/>
          </p:nvGrpSpPr>
          <p:grpSpPr>
            <a:xfrm>
              <a:off x="863280" y="1459080"/>
              <a:ext cx="7417080" cy="3442320"/>
              <a:chOff x="863280" y="1459080"/>
              <a:chExt cx="7417080" cy="3442320"/>
            </a:xfrm>
          </p:grpSpPr>
          <p:sp>
            <p:nvSpPr>
              <p:cNvPr id="196" name=""/>
              <p:cNvSpPr/>
              <p:nvPr/>
            </p:nvSpPr>
            <p:spPr>
              <a:xfrm>
                <a:off x="1235160" y="1609560"/>
                <a:ext cx="7045200" cy="2776680"/>
              </a:xfrm>
              <a:custGeom>
                <a:avLst/>
                <a:gdLst/>
                <a:ahLst/>
                <a:rect l="l" t="t" r="r" b="b"/>
                <a:pathLst>
                  <a:path w="4438" h="1749">
                    <a:moveTo>
                      <a:pt x="0" y="0"/>
                    </a:moveTo>
                    <a:lnTo>
                      <a:pt x="4437" y="0"/>
                    </a:lnTo>
                    <a:lnTo>
                      <a:pt x="4437" y="1748"/>
                    </a:lnTo>
                    <a:lnTo>
                      <a:pt x="0" y="174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3e3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1235160" y="1609560"/>
                <a:ext cx="7045200" cy="2776680"/>
              </a:xfrm>
              <a:custGeom>
                <a:avLst/>
                <a:gdLst/>
                <a:ahLst/>
                <a:rect l="l" t="t" r="r" b="b"/>
                <a:pathLst>
                  <a:path w="4438" h="1749">
                    <a:moveTo>
                      <a:pt x="0" y="0"/>
                    </a:moveTo>
                    <a:lnTo>
                      <a:pt x="4437" y="0"/>
                    </a:lnTo>
                    <a:lnTo>
                      <a:pt x="4437" y="1748"/>
                    </a:lnTo>
                    <a:lnTo>
                      <a:pt x="0" y="1748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1471680" y="3151080"/>
                <a:ext cx="306360" cy="1235160"/>
              </a:xfrm>
              <a:custGeom>
                <a:avLst/>
                <a:gdLst/>
                <a:ahLst/>
                <a:rect l="l" t="t" r="r" b="b"/>
                <a:pathLst>
                  <a:path w="193" h="778">
                    <a:moveTo>
                      <a:pt x="0" y="0"/>
                    </a:moveTo>
                    <a:lnTo>
                      <a:pt x="192" y="0"/>
                    </a:lnTo>
                    <a:lnTo>
                      <a:pt x="192" y="777"/>
                    </a:lnTo>
                    <a:lnTo>
                      <a:pt x="0" y="77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8080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2247840" y="3151080"/>
                <a:ext cx="320760" cy="1235160"/>
              </a:xfrm>
              <a:custGeom>
                <a:avLst/>
                <a:gdLst/>
                <a:ahLst/>
                <a:rect l="l" t="t" r="r" b="b"/>
                <a:pathLst>
                  <a:path w="202" h="778">
                    <a:moveTo>
                      <a:pt x="0" y="0"/>
                    </a:moveTo>
                    <a:lnTo>
                      <a:pt x="201" y="0"/>
                    </a:lnTo>
                    <a:lnTo>
                      <a:pt x="201" y="777"/>
                    </a:lnTo>
                    <a:lnTo>
                      <a:pt x="0" y="77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8080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3038400" y="2535120"/>
                <a:ext cx="306360" cy="1851120"/>
              </a:xfrm>
              <a:custGeom>
                <a:avLst/>
                <a:gdLst/>
                <a:ahLst/>
                <a:rect l="l" t="t" r="r" b="b"/>
                <a:pathLst>
                  <a:path w="193" h="1166">
                    <a:moveTo>
                      <a:pt x="0" y="0"/>
                    </a:moveTo>
                    <a:lnTo>
                      <a:pt x="192" y="0"/>
                    </a:lnTo>
                    <a:lnTo>
                      <a:pt x="192" y="1165"/>
                    </a:lnTo>
                    <a:lnTo>
                      <a:pt x="0" y="116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8080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814920" y="1919160"/>
                <a:ext cx="320400" cy="2467080"/>
              </a:xfrm>
              <a:custGeom>
                <a:avLst/>
                <a:gdLst/>
                <a:ahLst/>
                <a:rect l="l" t="t" r="r" b="b"/>
                <a:pathLst>
                  <a:path w="202" h="1554">
                    <a:moveTo>
                      <a:pt x="0" y="0"/>
                    </a:moveTo>
                    <a:lnTo>
                      <a:pt x="201" y="0"/>
                    </a:lnTo>
                    <a:lnTo>
                      <a:pt x="201" y="1553"/>
                    </a:lnTo>
                    <a:lnTo>
                      <a:pt x="0" y="155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8080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4605480" y="1919160"/>
                <a:ext cx="306360" cy="2467080"/>
              </a:xfrm>
              <a:custGeom>
                <a:avLst/>
                <a:gdLst/>
                <a:ahLst/>
                <a:rect l="l" t="t" r="r" b="b"/>
                <a:pathLst>
                  <a:path w="193" h="1554">
                    <a:moveTo>
                      <a:pt x="0" y="0"/>
                    </a:moveTo>
                    <a:lnTo>
                      <a:pt x="192" y="0"/>
                    </a:lnTo>
                    <a:lnTo>
                      <a:pt x="192" y="1553"/>
                    </a:lnTo>
                    <a:lnTo>
                      <a:pt x="0" y="155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8080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5381640" y="2535120"/>
                <a:ext cx="320760" cy="1851120"/>
              </a:xfrm>
              <a:custGeom>
                <a:avLst/>
                <a:gdLst/>
                <a:ahLst/>
                <a:rect l="l" t="t" r="r" b="b"/>
                <a:pathLst>
                  <a:path w="202" h="1166">
                    <a:moveTo>
                      <a:pt x="0" y="0"/>
                    </a:moveTo>
                    <a:lnTo>
                      <a:pt x="201" y="0"/>
                    </a:lnTo>
                    <a:lnTo>
                      <a:pt x="201" y="1165"/>
                    </a:lnTo>
                    <a:lnTo>
                      <a:pt x="0" y="116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8080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6172200" y="2535120"/>
                <a:ext cx="306360" cy="1851120"/>
              </a:xfrm>
              <a:custGeom>
                <a:avLst/>
                <a:gdLst/>
                <a:ahLst/>
                <a:rect l="l" t="t" r="r" b="b"/>
                <a:pathLst>
                  <a:path w="193" h="1166">
                    <a:moveTo>
                      <a:pt x="0" y="0"/>
                    </a:moveTo>
                    <a:lnTo>
                      <a:pt x="192" y="0"/>
                    </a:lnTo>
                    <a:lnTo>
                      <a:pt x="192" y="1165"/>
                    </a:lnTo>
                    <a:lnTo>
                      <a:pt x="0" y="116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8080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6948360" y="3151080"/>
                <a:ext cx="320760" cy="1235160"/>
              </a:xfrm>
              <a:custGeom>
                <a:avLst/>
                <a:gdLst/>
                <a:ahLst/>
                <a:rect l="l" t="t" r="r" b="b"/>
                <a:pathLst>
                  <a:path w="202" h="778">
                    <a:moveTo>
                      <a:pt x="0" y="0"/>
                    </a:moveTo>
                    <a:lnTo>
                      <a:pt x="201" y="0"/>
                    </a:lnTo>
                    <a:lnTo>
                      <a:pt x="201" y="777"/>
                    </a:lnTo>
                    <a:lnTo>
                      <a:pt x="0" y="77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8080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738920" y="3151080"/>
                <a:ext cx="306360" cy="1235160"/>
              </a:xfrm>
              <a:custGeom>
                <a:avLst/>
                <a:gdLst/>
                <a:ahLst/>
                <a:rect l="l" t="t" r="r" b="b"/>
                <a:pathLst>
                  <a:path w="193" h="778">
                    <a:moveTo>
                      <a:pt x="0" y="0"/>
                    </a:moveTo>
                    <a:lnTo>
                      <a:pt x="192" y="0"/>
                    </a:lnTo>
                    <a:lnTo>
                      <a:pt x="192" y="777"/>
                    </a:lnTo>
                    <a:lnTo>
                      <a:pt x="0" y="77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8080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1235160" y="1609560"/>
                <a:ext cx="0" cy="2775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1193760" y="4384800"/>
                <a:ext cx="82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1193760" y="4076640"/>
                <a:ext cx="82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1193760" y="3767040"/>
                <a:ext cx="82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1193760" y="3459240"/>
                <a:ext cx="82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1193760" y="3151080"/>
                <a:ext cx="82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1193760" y="2843280"/>
                <a:ext cx="82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1193760" y="2535120"/>
                <a:ext cx="82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1193760" y="2227320"/>
                <a:ext cx="82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1193760" y="1919160"/>
                <a:ext cx="82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1193760" y="1609560"/>
                <a:ext cx="82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1235160" y="4384800"/>
                <a:ext cx="7043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flipV="1">
                <a:off x="1235160" y="4330440"/>
                <a:ext cx="0" cy="106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V="1">
                <a:off x="2011320" y="4330440"/>
                <a:ext cx="0" cy="106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flipV="1">
                <a:off x="2801880" y="4330440"/>
                <a:ext cx="0" cy="106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V="1">
                <a:off x="3578400" y="4330440"/>
                <a:ext cx="0" cy="106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flipV="1">
                <a:off x="4368960" y="4330440"/>
                <a:ext cx="0" cy="106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V="1">
                <a:off x="5145120" y="4330440"/>
                <a:ext cx="0" cy="106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flipV="1">
                <a:off x="5935680" y="4330440"/>
                <a:ext cx="0" cy="106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flipV="1">
                <a:off x="6711840" y="4330440"/>
                <a:ext cx="0" cy="106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flipV="1">
                <a:off x="7502400" y="4330440"/>
                <a:ext cx="0" cy="106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flipV="1">
                <a:off x="8278920" y="4330440"/>
                <a:ext cx="0" cy="106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1489680" y="2825640"/>
                <a:ext cx="270360" cy="24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85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12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2265840" y="2825640"/>
                <a:ext cx="270360" cy="24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85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12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3000600" y="2209680"/>
                <a:ext cx="355680" cy="24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85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2</a:t>
                </a:r>
                <a:endParaRPr b="0" lang="en-US" sz="12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3789360" y="1593720"/>
                <a:ext cx="355680" cy="24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85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6</a:t>
                </a:r>
                <a:endParaRPr b="0" lang="en-US" sz="12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4579920" y="1593720"/>
                <a:ext cx="355680" cy="24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85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6</a:t>
                </a:r>
                <a:endParaRPr b="0" lang="en-US" sz="12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5356440" y="2209680"/>
                <a:ext cx="355680" cy="24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85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2</a:t>
                </a:r>
                <a:endParaRPr b="0" lang="en-US" sz="12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6134400" y="2209680"/>
                <a:ext cx="355680" cy="24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85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2</a:t>
                </a:r>
                <a:endParaRPr b="0" lang="en-US" sz="12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6966720" y="2825640"/>
                <a:ext cx="270360" cy="24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85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12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7755480" y="2825640"/>
                <a:ext cx="270360" cy="24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85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12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948240" y="4233960"/>
                <a:ext cx="270360" cy="24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85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2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948240" y="3924360"/>
                <a:ext cx="270360" cy="24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85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948240" y="3616200"/>
                <a:ext cx="270360" cy="24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85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2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948240" y="3308400"/>
                <a:ext cx="270360" cy="24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85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12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948240" y="3000240"/>
                <a:ext cx="270360" cy="24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85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12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863640" y="2692440"/>
                <a:ext cx="355680" cy="24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85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12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863640" y="2384280"/>
                <a:ext cx="355680" cy="24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85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2</a:t>
                </a:r>
                <a:endParaRPr b="0" lang="en-US" sz="12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863640" y="2076480"/>
                <a:ext cx="355680" cy="24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85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4</a:t>
                </a:r>
                <a:endParaRPr b="0" lang="en-US" sz="12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863640" y="1768320"/>
                <a:ext cx="355680" cy="24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85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6</a:t>
                </a:r>
                <a:endParaRPr b="0" lang="en-US" sz="12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863280" y="1459080"/>
                <a:ext cx="533880" cy="24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85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8% </a:t>
                </a:r>
                <a:endParaRPr b="0" lang="en-US" sz="12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1168200" y="4437000"/>
                <a:ext cx="92124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85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Bus/Fin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Services</a:t>
                </a:r>
                <a:endParaRPr b="0" lang="en-US" sz="14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2028240" y="4437000"/>
                <a:ext cx="71244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85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Retail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&amp; Dist.</a:t>
                </a:r>
                <a:endParaRPr b="0" lang="en-US" sz="14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3032640" y="4437000"/>
                <a:ext cx="343440" cy="273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85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IT</a:t>
                </a:r>
                <a:endParaRPr b="0" lang="en-US" sz="14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3534840" y="4437000"/>
                <a:ext cx="867960" cy="273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85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Telecom</a:t>
                </a:r>
                <a:endParaRPr b="0" lang="en-US" sz="14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4408920" y="4437000"/>
                <a:ext cx="71244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85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Elec-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tronics</a:t>
                </a:r>
                <a:endParaRPr b="0" lang="en-US" sz="14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5144040" y="4437000"/>
                <a:ext cx="81000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85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Chem.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&amp; Food</a:t>
                </a:r>
                <a:endParaRPr b="0" lang="en-US" sz="14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5917680" y="4446720"/>
                <a:ext cx="77940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85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Engi-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neering</a:t>
                </a:r>
                <a:endParaRPr b="0" lang="en-US" sz="14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6738480" y="4437000"/>
                <a:ext cx="750600" cy="273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85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Energy</a:t>
                </a:r>
                <a:endParaRPr b="0" lang="en-US" sz="14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7562160" y="4437000"/>
                <a:ext cx="631440" cy="273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85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Other</a:t>
                </a:r>
                <a:endParaRPr b="0" lang="en-US" sz="14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57" name=""/>
          <p:cNvSpPr/>
          <p:nvPr/>
        </p:nvSpPr>
        <p:spPr>
          <a:xfrm>
            <a:off x="4040640" y="6524640"/>
            <a:ext cx="135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000c0"/>
                </a:solidFill>
                <a:uFillTx/>
                <a:latin typeface="Times New Roman"/>
                <a:hlinkClick r:id="rId1"/>
              </a:rPr>
              <a:t>[</a:t>
            </a:r>
            <a:r>
              <a:rPr b="0" lang="en-US" sz="1600" spc="-1" strike="noStrike" u="sng">
                <a:solidFill>
                  <a:srgbClr val="c000c0"/>
                </a:solidFill>
                <a:uFillTx/>
                <a:latin typeface="Times New Roman"/>
                <a:hlinkClick r:id="rId2"/>
              </a:rPr>
              <a:t>KPMG</a:t>
            </a:r>
            <a:r>
              <a:rPr b="0" lang="en-US" sz="1600" spc="-1" strike="noStrike" u="sng">
                <a:solidFill>
                  <a:srgbClr val="c000c0"/>
                </a:solidFill>
                <a:uFillTx/>
                <a:latin typeface="Times New Roman"/>
                <a:hlinkClick r:id="rId3"/>
              </a:rPr>
              <a:t> 1999]</a:t>
            </a:r>
            <a:endParaRPr b="0" lang="en-US" sz="16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228240" y="5333760"/>
            <a:ext cx="883908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601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Respondents were from various industries.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998640" y="1293840"/>
            <a:ext cx="7143480" cy="4551480"/>
          </a:xfrm>
          <a:prstGeom prst="rect">
            <a:avLst/>
          </a:prstGeom>
          <a:solidFill>
            <a:srgbClr val="feffa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Respondents’ Profile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471680" y="1481040"/>
            <a:ext cx="618192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8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Companies perceived their KM position as:</a:t>
            </a:r>
            <a:endParaRPr b="0" lang="en-US" sz="23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536800" y="3025800"/>
            <a:ext cx="211968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85000"/>
              </a:lnSpc>
              <a:spcBef>
                <a:spcPts val="1188"/>
              </a:spcBef>
              <a:buClr>
                <a:srgbClr val="30c200"/>
              </a:buClr>
              <a:buSzPct val="12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Leading</a:t>
            </a:r>
            <a:endParaRPr b="0" lang="en-US" sz="1900" spc="-1" strike="noStrike">
              <a:solidFill>
                <a:srgbClr val="fcfeb9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88"/>
              </a:spcBef>
              <a:buClr>
                <a:srgbClr val="2f2fff"/>
              </a:buClr>
              <a:buSzPct val="12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Intermediate</a:t>
            </a:r>
            <a:endParaRPr b="0" lang="en-US" sz="1900" spc="-1" strike="noStrike">
              <a:solidFill>
                <a:srgbClr val="fcfeb9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88"/>
              </a:spcBef>
              <a:buClr>
                <a:srgbClr val="990066"/>
              </a:buClr>
              <a:buSzPct val="12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Lagging behind</a:t>
            </a:r>
            <a:endParaRPr b="0" lang="en-US" sz="19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040640" y="6524640"/>
            <a:ext cx="135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000c0"/>
                </a:solidFill>
                <a:uFillTx/>
                <a:latin typeface="Times New Roman"/>
                <a:hlinkClick r:id="rId1"/>
              </a:rPr>
              <a:t>[</a:t>
            </a:r>
            <a:r>
              <a:rPr b="0" lang="en-US" sz="1600" spc="-1" strike="noStrike" u="sng">
                <a:solidFill>
                  <a:srgbClr val="c000c0"/>
                </a:solidFill>
                <a:uFillTx/>
                <a:latin typeface="Times New Roman"/>
                <a:hlinkClick r:id="rId2"/>
              </a:rPr>
              <a:t>KPMG</a:t>
            </a:r>
            <a:r>
              <a:rPr b="0" lang="en-US" sz="1600" spc="-1" strike="noStrike" u="sng">
                <a:solidFill>
                  <a:srgbClr val="c000c0"/>
                </a:solidFill>
                <a:uFillTx/>
                <a:latin typeface="Times New Roman"/>
                <a:hlinkClick r:id="rId3"/>
              </a:rPr>
              <a:t> 1999]</a:t>
            </a:r>
            <a:endParaRPr b="0" lang="en-US" sz="1600" spc="-1" strike="noStrike">
              <a:solidFill>
                <a:srgbClr val="fcfeb9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4"/>
          <a:stretch/>
        </p:blipFill>
        <p:spPr>
          <a:xfrm>
            <a:off x="1523880" y="2057400"/>
            <a:ext cx="3354480" cy="33498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5" name=""/>
          <p:cNvGrpSpPr/>
          <p:nvPr/>
        </p:nvGrpSpPr>
        <p:grpSpPr>
          <a:xfrm>
            <a:off x="228600" y="1600200"/>
            <a:ext cx="8755920" cy="3492360"/>
            <a:chOff x="228600" y="1600200"/>
            <a:chExt cx="8755920" cy="3492360"/>
          </a:xfrm>
        </p:grpSpPr>
        <p:sp>
          <p:nvSpPr>
            <p:cNvPr id="266" name=""/>
            <p:cNvSpPr/>
            <p:nvPr/>
          </p:nvSpPr>
          <p:spPr>
            <a:xfrm>
              <a:off x="228600" y="1600200"/>
              <a:ext cx="8737560" cy="3492360"/>
            </a:xfrm>
            <a:prstGeom prst="rect">
              <a:avLst/>
            </a:prstGeom>
            <a:solidFill>
              <a:srgbClr val="feffab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443320" y="1801800"/>
              <a:ext cx="6234120" cy="2943360"/>
            </a:xfrm>
            <a:custGeom>
              <a:avLst/>
              <a:gdLst/>
              <a:ahLst/>
              <a:rect l="l" t="t" r="r" b="b"/>
              <a:pathLst>
                <a:path w="3927" h="1854">
                  <a:moveTo>
                    <a:pt x="0" y="0"/>
                  </a:moveTo>
                  <a:lnTo>
                    <a:pt x="3926" y="0"/>
                  </a:lnTo>
                  <a:lnTo>
                    <a:pt x="3926" y="1853"/>
                  </a:lnTo>
                  <a:lnTo>
                    <a:pt x="0" y="1853"/>
                  </a:lnTo>
                  <a:lnTo>
                    <a:pt x="0" y="0"/>
                  </a:lnTo>
                </a:path>
              </a:pathLst>
            </a:custGeom>
            <a:solidFill>
              <a:srgbClr val="e3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062160" y="1801800"/>
              <a:ext cx="0" cy="2941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692520" y="1801800"/>
              <a:ext cx="0" cy="2941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309920" y="1801800"/>
              <a:ext cx="0" cy="2941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940280" y="1801800"/>
              <a:ext cx="0" cy="2941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559480" y="1801800"/>
              <a:ext cx="0" cy="2941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176880" y="1801800"/>
              <a:ext cx="0" cy="2941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807240" y="1801800"/>
              <a:ext cx="0" cy="2941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426440" y="1801800"/>
              <a:ext cx="0" cy="2941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8056440" y="1801800"/>
              <a:ext cx="0" cy="2941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8675640" y="1801800"/>
              <a:ext cx="0" cy="2941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443320" y="1801800"/>
              <a:ext cx="6234120" cy="2943360"/>
            </a:xfrm>
            <a:custGeom>
              <a:avLst/>
              <a:gdLst/>
              <a:ahLst/>
              <a:rect l="l" t="t" r="r" b="b"/>
              <a:pathLst>
                <a:path w="3927" h="1854">
                  <a:moveTo>
                    <a:pt x="0" y="0"/>
                  </a:moveTo>
                  <a:lnTo>
                    <a:pt x="3926" y="0"/>
                  </a:lnTo>
                  <a:lnTo>
                    <a:pt x="3926" y="1853"/>
                  </a:lnTo>
                  <a:lnTo>
                    <a:pt x="0" y="185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443320" y="4452840"/>
              <a:ext cx="1250640" cy="165240"/>
            </a:xfrm>
            <a:custGeom>
              <a:avLst/>
              <a:gdLst/>
              <a:ahLst/>
              <a:rect l="l" t="t" r="r" b="b"/>
              <a:pathLst>
                <a:path w="788" h="104">
                  <a:moveTo>
                    <a:pt x="0" y="0"/>
                  </a:moveTo>
                  <a:lnTo>
                    <a:pt x="787" y="0"/>
                  </a:lnTo>
                  <a:lnTo>
                    <a:pt x="787" y="103"/>
                  </a:lnTo>
                  <a:lnTo>
                    <a:pt x="0" y="103"/>
                  </a:lnTo>
                  <a:lnTo>
                    <a:pt x="0" y="0"/>
                  </a:lnTo>
                </a:path>
              </a:pathLst>
            </a:custGeom>
            <a:solidFill>
              <a:srgbClr val="8080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443320" y="4025880"/>
              <a:ext cx="4238640" cy="174600"/>
            </a:xfrm>
            <a:custGeom>
              <a:avLst/>
              <a:gdLst/>
              <a:ahLst/>
              <a:rect l="l" t="t" r="r" b="b"/>
              <a:pathLst>
                <a:path w="2670" h="110">
                  <a:moveTo>
                    <a:pt x="0" y="0"/>
                  </a:moveTo>
                  <a:lnTo>
                    <a:pt x="2669" y="0"/>
                  </a:lnTo>
                  <a:lnTo>
                    <a:pt x="2669" y="109"/>
                  </a:lnTo>
                  <a:lnTo>
                    <a:pt x="0" y="109"/>
                  </a:lnTo>
                  <a:lnTo>
                    <a:pt x="0" y="0"/>
                  </a:lnTo>
                </a:path>
              </a:pathLst>
            </a:custGeom>
            <a:solidFill>
              <a:srgbClr val="8080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443320" y="3608280"/>
              <a:ext cx="4740120" cy="163440"/>
            </a:xfrm>
            <a:custGeom>
              <a:avLst/>
              <a:gdLst/>
              <a:ahLst/>
              <a:rect l="l" t="t" r="r" b="b"/>
              <a:pathLst>
                <a:path w="2986" h="103">
                  <a:moveTo>
                    <a:pt x="0" y="0"/>
                  </a:moveTo>
                  <a:lnTo>
                    <a:pt x="2985" y="0"/>
                  </a:lnTo>
                  <a:lnTo>
                    <a:pt x="2985" y="102"/>
                  </a:lnTo>
                  <a:lnTo>
                    <a:pt x="0" y="102"/>
                  </a:lnTo>
                  <a:lnTo>
                    <a:pt x="0" y="0"/>
                  </a:lnTo>
                </a:path>
              </a:pathLst>
            </a:custGeom>
            <a:solidFill>
              <a:srgbClr val="8080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443320" y="3192480"/>
              <a:ext cx="4984560" cy="163440"/>
            </a:xfrm>
            <a:custGeom>
              <a:avLst/>
              <a:gdLst/>
              <a:ahLst/>
              <a:rect l="l" t="t" r="r" b="b"/>
              <a:pathLst>
                <a:path w="3140" h="103">
                  <a:moveTo>
                    <a:pt x="0" y="0"/>
                  </a:moveTo>
                  <a:lnTo>
                    <a:pt x="3139" y="0"/>
                  </a:lnTo>
                  <a:lnTo>
                    <a:pt x="3139" y="102"/>
                  </a:lnTo>
                  <a:lnTo>
                    <a:pt x="0" y="102"/>
                  </a:lnTo>
                  <a:lnTo>
                    <a:pt x="0" y="0"/>
                  </a:lnTo>
                </a:path>
              </a:pathLst>
            </a:custGeom>
            <a:solidFill>
              <a:srgbClr val="8080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443320" y="2774880"/>
              <a:ext cx="1996920" cy="163440"/>
            </a:xfrm>
            <a:custGeom>
              <a:avLst/>
              <a:gdLst/>
              <a:ahLst/>
              <a:rect l="l" t="t" r="r" b="b"/>
              <a:pathLst>
                <a:path w="1258" h="103">
                  <a:moveTo>
                    <a:pt x="0" y="0"/>
                  </a:moveTo>
                  <a:lnTo>
                    <a:pt x="1257" y="0"/>
                  </a:lnTo>
                  <a:lnTo>
                    <a:pt x="1257" y="102"/>
                  </a:lnTo>
                  <a:lnTo>
                    <a:pt x="0" y="102"/>
                  </a:lnTo>
                  <a:lnTo>
                    <a:pt x="0" y="0"/>
                  </a:lnTo>
                </a:path>
              </a:pathLst>
            </a:custGeom>
            <a:solidFill>
              <a:srgbClr val="8080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443320" y="2346480"/>
              <a:ext cx="3490920" cy="176040"/>
            </a:xfrm>
            <a:custGeom>
              <a:avLst/>
              <a:gdLst/>
              <a:ahLst/>
              <a:rect l="l" t="t" r="r" b="b"/>
              <a:pathLst>
                <a:path w="2199" h="111">
                  <a:moveTo>
                    <a:pt x="0" y="0"/>
                  </a:moveTo>
                  <a:lnTo>
                    <a:pt x="2198" y="0"/>
                  </a:lnTo>
                  <a:lnTo>
                    <a:pt x="2198" y="110"/>
                  </a:lnTo>
                  <a:lnTo>
                    <a:pt x="0" y="110"/>
                  </a:lnTo>
                  <a:lnTo>
                    <a:pt x="0" y="0"/>
                  </a:lnTo>
                </a:path>
              </a:pathLst>
            </a:custGeom>
            <a:solidFill>
              <a:srgbClr val="8080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443320" y="1930320"/>
              <a:ext cx="1752480" cy="163440"/>
            </a:xfrm>
            <a:custGeom>
              <a:avLst/>
              <a:gdLst/>
              <a:ahLst/>
              <a:rect l="l" t="t" r="r" b="b"/>
              <a:pathLst>
                <a:path w="1104" h="103">
                  <a:moveTo>
                    <a:pt x="0" y="0"/>
                  </a:moveTo>
                  <a:lnTo>
                    <a:pt x="1103" y="0"/>
                  </a:lnTo>
                  <a:lnTo>
                    <a:pt x="1103" y="102"/>
                  </a:lnTo>
                  <a:lnTo>
                    <a:pt x="0" y="102"/>
                  </a:lnTo>
                  <a:lnTo>
                    <a:pt x="0" y="0"/>
                  </a:lnTo>
                </a:path>
              </a:pathLst>
            </a:custGeom>
            <a:solidFill>
              <a:srgbClr val="8080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443320" y="4743360"/>
              <a:ext cx="623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>
              <a:off x="3062160" y="4743000"/>
              <a:ext cx="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>
              <a:off x="3692520" y="4743000"/>
              <a:ext cx="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>
              <a:off x="4309920" y="4743000"/>
              <a:ext cx="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4940280" y="4743000"/>
              <a:ext cx="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5559480" y="4743000"/>
              <a:ext cx="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 flipV="1">
              <a:off x="6176880" y="4743000"/>
              <a:ext cx="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flipV="1">
              <a:off x="6807240" y="4743000"/>
              <a:ext cx="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 flipV="1">
              <a:off x="7426440" y="4743000"/>
              <a:ext cx="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 flipV="1">
              <a:off x="8056440" y="4743000"/>
              <a:ext cx="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 flipV="1">
              <a:off x="8675640" y="4743000"/>
              <a:ext cx="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356920" y="4757760"/>
              <a:ext cx="255240" cy="22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85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899800" y="4792680"/>
              <a:ext cx="325080" cy="22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85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0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530160" y="4792680"/>
              <a:ext cx="325080" cy="22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85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147560" y="4792680"/>
              <a:ext cx="325080" cy="22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85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0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777920" y="4792680"/>
              <a:ext cx="325080" cy="22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85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5397120" y="4792680"/>
              <a:ext cx="325080" cy="22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85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0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014520" y="4792680"/>
              <a:ext cx="325080" cy="22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85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644880" y="4792680"/>
              <a:ext cx="325080" cy="22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85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70</a:t>
              </a:r>
              <a:endParaRPr b="0" lang="en-US" sz="10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7264080" y="4792680"/>
              <a:ext cx="325080" cy="22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85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894080" y="4792680"/>
              <a:ext cx="325080" cy="22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85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90</a:t>
              </a:r>
              <a:endParaRPr b="0" lang="en-US" sz="10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8476560" y="4792680"/>
              <a:ext cx="507960" cy="22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85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0%</a:t>
              </a:r>
              <a:endParaRPr b="0" lang="en-US" sz="10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802800" y="4322880"/>
              <a:ext cx="16664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r">
                <a:lnSpc>
                  <a:spcPct val="85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80"/>
                  </a:solidFill>
                  <a:latin typeface="Arial"/>
                </a:rPr>
                <a:t>Production shift to</a:t>
              </a:r>
              <a:br>
                <a:rPr sz="1400"/>
              </a:br>
              <a:r>
                <a:rPr b="0" lang="en-US" sz="1400" spc="-1" strike="noStrike">
                  <a:solidFill>
                    <a:srgbClr val="000080"/>
                  </a:solidFill>
                  <a:latin typeface="Arial"/>
                </a:rPr>
                <a:t>low-cost  countries</a:t>
              </a:r>
              <a:endParaRPr b="0" lang="en-US" sz="1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27120" y="3889440"/>
              <a:ext cx="18432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r">
                <a:lnSpc>
                  <a:spcPct val="85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80"/>
                  </a:solidFill>
                  <a:latin typeface="Arial"/>
                </a:rPr>
                <a:t>Further integration of</a:t>
              </a:r>
              <a:br>
                <a:rPr sz="1400"/>
              </a:br>
              <a:r>
                <a:rPr b="0" lang="en-US" sz="1400" spc="-1" strike="noStrike">
                  <a:solidFill>
                    <a:srgbClr val="000080"/>
                  </a:solidFill>
                  <a:latin typeface="Arial"/>
                </a:rPr>
                <a:t> products/services</a:t>
              </a:r>
              <a:endParaRPr b="0" lang="en-US" sz="1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903240" y="3471840"/>
              <a:ext cx="15642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r">
                <a:lnSpc>
                  <a:spcPct val="85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80"/>
                  </a:solidFill>
                  <a:latin typeface="Arial"/>
                </a:rPr>
                <a:t>Rapid technology</a:t>
              </a:r>
              <a:br>
                <a:rPr sz="1400"/>
              </a:br>
              <a:r>
                <a:rPr b="0" lang="en-US" sz="1400" spc="-1" strike="noStrike">
                  <a:solidFill>
                    <a:srgbClr val="000080"/>
                  </a:solidFill>
                  <a:latin typeface="Arial"/>
                </a:rPr>
                <a:t>development</a:t>
              </a:r>
              <a:endParaRPr b="0" lang="en-US" sz="1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1249200" y="3092400"/>
              <a:ext cx="1216800" cy="27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r">
                <a:lnSpc>
                  <a:spcPct val="85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80"/>
                  </a:solidFill>
                  <a:latin typeface="Arial"/>
                </a:rPr>
                <a:t>Globalization</a:t>
              </a:r>
              <a:endParaRPr b="0" lang="en-US" sz="1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96160" y="2682720"/>
              <a:ext cx="1873800" cy="27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r">
                <a:lnSpc>
                  <a:spcPct val="85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80"/>
                  </a:solidFill>
                  <a:latin typeface="Arial"/>
                </a:rPr>
                <a:t>(Mass) customization</a:t>
              </a:r>
              <a:endParaRPr b="0" lang="en-US" sz="1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67560" y="2273400"/>
              <a:ext cx="2103840" cy="27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r">
                <a:lnSpc>
                  <a:spcPct val="85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80"/>
                  </a:solidFill>
                  <a:latin typeface="Arial"/>
                </a:rPr>
                <a:t>Shorter product lifecycle</a:t>
              </a:r>
              <a:endParaRPr b="0" lang="en-US" sz="1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773280" y="1765440"/>
              <a:ext cx="16952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r">
                <a:lnSpc>
                  <a:spcPct val="85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80"/>
                  </a:solidFill>
                  <a:latin typeface="Arial"/>
                </a:rPr>
                <a:t>Deverticalization of</a:t>
              </a:r>
              <a:br>
                <a:rPr sz="1400"/>
              </a:br>
              <a:r>
                <a:rPr b="0" lang="en-US" sz="1400" spc="-1" strike="noStrike">
                  <a:solidFill>
                    <a:srgbClr val="000080"/>
                  </a:solidFill>
                  <a:latin typeface="Arial"/>
                </a:rPr>
                <a:t>supply chain</a:t>
              </a:r>
              <a:endParaRPr b="0" lang="en-US" sz="1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4040640" y="6524640"/>
            <a:ext cx="135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000c0"/>
                </a:solidFill>
                <a:uFillTx/>
                <a:latin typeface="Times New Roman"/>
                <a:hlinkClick r:id="rId1"/>
              </a:rPr>
              <a:t>[</a:t>
            </a:r>
            <a:r>
              <a:rPr b="0" lang="en-US" sz="1600" spc="-1" strike="noStrike" u="sng">
                <a:solidFill>
                  <a:srgbClr val="c000c0"/>
                </a:solidFill>
                <a:uFillTx/>
                <a:latin typeface="Times New Roman"/>
                <a:hlinkClick r:id="rId2"/>
              </a:rPr>
              <a:t>KPMG</a:t>
            </a:r>
            <a:r>
              <a:rPr b="0" lang="en-US" sz="1600" spc="-1" strike="noStrike" u="sng">
                <a:solidFill>
                  <a:srgbClr val="c000c0"/>
                </a:solidFill>
                <a:uFillTx/>
                <a:latin typeface="Times New Roman"/>
                <a:hlinkClick r:id="rId3"/>
              </a:rPr>
              <a:t> 1999]</a:t>
            </a:r>
            <a:endParaRPr b="0" lang="en-US" sz="16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Changes in Business Environment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228240" y="5334120"/>
            <a:ext cx="883908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9000"/>
          </a:bodyPr>
          <a:p>
            <a:pPr marL="196920" indent="-196920">
              <a:spcBef>
                <a:spcPts val="601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Globalization, rapid technology development, further integration of products and services and shorter product life cycles are regarded as the main business changes.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Major Issues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grpSp>
        <p:nvGrpSpPr>
          <p:cNvPr id="319" name=""/>
          <p:cNvGrpSpPr/>
          <p:nvPr/>
        </p:nvGrpSpPr>
        <p:grpSpPr>
          <a:xfrm>
            <a:off x="137160" y="1306440"/>
            <a:ext cx="8863560" cy="3675240"/>
            <a:chOff x="137160" y="1306440"/>
            <a:chExt cx="8863560" cy="3675240"/>
          </a:xfrm>
        </p:grpSpPr>
        <p:sp>
          <p:nvSpPr>
            <p:cNvPr id="320" name=""/>
            <p:cNvSpPr/>
            <p:nvPr/>
          </p:nvSpPr>
          <p:spPr>
            <a:xfrm>
              <a:off x="179280" y="1306440"/>
              <a:ext cx="8755200" cy="3675240"/>
            </a:xfrm>
            <a:prstGeom prst="rect">
              <a:avLst/>
            </a:prstGeom>
            <a:solidFill>
              <a:srgbClr val="feff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735200" y="1486080"/>
              <a:ext cx="6953040" cy="3117600"/>
            </a:xfrm>
            <a:custGeom>
              <a:avLst/>
              <a:gdLst/>
              <a:ahLst/>
              <a:rect l="l" t="t" r="r" b="b"/>
              <a:pathLst>
                <a:path w="4380" h="1964">
                  <a:moveTo>
                    <a:pt x="0" y="0"/>
                  </a:moveTo>
                  <a:lnTo>
                    <a:pt x="4379" y="0"/>
                  </a:lnTo>
                  <a:lnTo>
                    <a:pt x="4379" y="1963"/>
                  </a:lnTo>
                  <a:lnTo>
                    <a:pt x="0" y="1963"/>
                  </a:lnTo>
                  <a:lnTo>
                    <a:pt x="0" y="0"/>
                  </a:lnTo>
                </a:path>
              </a:pathLst>
            </a:custGeom>
            <a:solidFill>
              <a:srgbClr val="e3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2432160" y="1486080"/>
              <a:ext cx="0" cy="3116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130560" y="1486080"/>
              <a:ext cx="0" cy="3116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814920" y="1486080"/>
              <a:ext cx="0" cy="3116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4513320" y="1486080"/>
              <a:ext cx="0" cy="3116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210280" y="1486080"/>
              <a:ext cx="0" cy="3116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08680" y="1486080"/>
              <a:ext cx="0" cy="3116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605640" y="1486080"/>
              <a:ext cx="0" cy="3116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7291440" y="1486080"/>
              <a:ext cx="0" cy="3116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7988400" y="1486080"/>
              <a:ext cx="0" cy="3116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8686800" y="1486080"/>
              <a:ext cx="0" cy="3116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735200" y="1486080"/>
              <a:ext cx="6953040" cy="3117600"/>
            </a:xfrm>
            <a:custGeom>
              <a:avLst/>
              <a:gdLst/>
              <a:ahLst/>
              <a:rect l="l" t="t" r="r" b="b"/>
              <a:pathLst>
                <a:path w="4380" h="1964">
                  <a:moveTo>
                    <a:pt x="0" y="0"/>
                  </a:moveTo>
                  <a:lnTo>
                    <a:pt x="4379" y="0"/>
                  </a:lnTo>
                  <a:lnTo>
                    <a:pt x="4379" y="1963"/>
                  </a:lnTo>
                  <a:lnTo>
                    <a:pt x="0" y="196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1735200" y="4295880"/>
              <a:ext cx="3892320" cy="172800"/>
            </a:xfrm>
            <a:custGeom>
              <a:avLst/>
              <a:gdLst/>
              <a:ahLst/>
              <a:rect l="l" t="t" r="r" b="b"/>
              <a:pathLst>
                <a:path w="2452" h="109">
                  <a:moveTo>
                    <a:pt x="0" y="0"/>
                  </a:moveTo>
                  <a:lnTo>
                    <a:pt x="2451" y="0"/>
                  </a:lnTo>
                  <a:lnTo>
                    <a:pt x="2451" y="108"/>
                  </a:lnTo>
                  <a:lnTo>
                    <a:pt x="0" y="108"/>
                  </a:lnTo>
                  <a:lnTo>
                    <a:pt x="0" y="0"/>
                  </a:lnTo>
                </a:path>
              </a:pathLst>
            </a:custGeom>
            <a:solidFill>
              <a:srgbClr val="8080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735200" y="3843360"/>
              <a:ext cx="4174920" cy="185760"/>
            </a:xfrm>
            <a:custGeom>
              <a:avLst/>
              <a:gdLst/>
              <a:ahLst/>
              <a:rect l="l" t="t" r="r" b="b"/>
              <a:pathLst>
                <a:path w="2630" h="117">
                  <a:moveTo>
                    <a:pt x="0" y="0"/>
                  </a:moveTo>
                  <a:lnTo>
                    <a:pt x="2629" y="0"/>
                  </a:lnTo>
                  <a:lnTo>
                    <a:pt x="2629" y="116"/>
                  </a:lnTo>
                  <a:lnTo>
                    <a:pt x="0" y="116"/>
                  </a:lnTo>
                  <a:lnTo>
                    <a:pt x="0" y="0"/>
                  </a:lnTo>
                </a:path>
              </a:pathLst>
            </a:custGeom>
            <a:solidFill>
              <a:srgbClr val="8080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1735200" y="3403440"/>
              <a:ext cx="5288040" cy="173160"/>
            </a:xfrm>
            <a:custGeom>
              <a:avLst/>
              <a:gdLst/>
              <a:ahLst/>
              <a:rect l="l" t="t" r="r" b="b"/>
              <a:pathLst>
                <a:path w="3331" h="109">
                  <a:moveTo>
                    <a:pt x="0" y="0"/>
                  </a:moveTo>
                  <a:lnTo>
                    <a:pt x="3330" y="0"/>
                  </a:lnTo>
                  <a:lnTo>
                    <a:pt x="3330" y="108"/>
                  </a:lnTo>
                  <a:lnTo>
                    <a:pt x="0" y="108"/>
                  </a:lnTo>
                  <a:lnTo>
                    <a:pt x="0" y="0"/>
                  </a:lnTo>
                </a:path>
              </a:pathLst>
            </a:custGeom>
            <a:solidFill>
              <a:srgbClr val="8080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735200" y="2952720"/>
              <a:ext cx="5557680" cy="184320"/>
            </a:xfrm>
            <a:custGeom>
              <a:avLst/>
              <a:gdLst/>
              <a:ahLst/>
              <a:rect l="l" t="t" r="r" b="b"/>
              <a:pathLst>
                <a:path w="3501" h="116">
                  <a:moveTo>
                    <a:pt x="0" y="0"/>
                  </a:moveTo>
                  <a:lnTo>
                    <a:pt x="3500" y="0"/>
                  </a:lnTo>
                  <a:lnTo>
                    <a:pt x="3500" y="115"/>
                  </a:lnTo>
                  <a:lnTo>
                    <a:pt x="0" y="115"/>
                  </a:lnTo>
                  <a:lnTo>
                    <a:pt x="0" y="0"/>
                  </a:lnTo>
                </a:path>
              </a:pathLst>
            </a:custGeom>
            <a:solidFill>
              <a:srgbClr val="8080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735200" y="2513160"/>
              <a:ext cx="3060720" cy="171360"/>
            </a:xfrm>
            <a:custGeom>
              <a:avLst/>
              <a:gdLst/>
              <a:ahLst/>
              <a:rect l="l" t="t" r="r" b="b"/>
              <a:pathLst>
                <a:path w="1928" h="108">
                  <a:moveTo>
                    <a:pt x="0" y="0"/>
                  </a:moveTo>
                  <a:lnTo>
                    <a:pt x="1927" y="0"/>
                  </a:lnTo>
                  <a:lnTo>
                    <a:pt x="1927" y="107"/>
                  </a:lnTo>
                  <a:lnTo>
                    <a:pt x="0" y="107"/>
                  </a:lnTo>
                  <a:lnTo>
                    <a:pt x="0" y="0"/>
                  </a:lnTo>
                </a:path>
              </a:pathLst>
            </a:custGeom>
            <a:solidFill>
              <a:srgbClr val="8080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735200" y="2060640"/>
              <a:ext cx="3611520" cy="183960"/>
            </a:xfrm>
            <a:custGeom>
              <a:avLst/>
              <a:gdLst/>
              <a:ahLst/>
              <a:rect l="l" t="t" r="r" b="b"/>
              <a:pathLst>
                <a:path w="2275" h="116">
                  <a:moveTo>
                    <a:pt x="0" y="0"/>
                  </a:moveTo>
                  <a:lnTo>
                    <a:pt x="2274" y="0"/>
                  </a:lnTo>
                  <a:lnTo>
                    <a:pt x="2274" y="115"/>
                  </a:lnTo>
                  <a:lnTo>
                    <a:pt x="0" y="115"/>
                  </a:lnTo>
                  <a:lnTo>
                    <a:pt x="0" y="0"/>
                  </a:lnTo>
                </a:path>
              </a:pathLst>
            </a:custGeom>
            <a:solidFill>
              <a:srgbClr val="8080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735200" y="1620720"/>
              <a:ext cx="1947960" cy="171720"/>
            </a:xfrm>
            <a:custGeom>
              <a:avLst/>
              <a:gdLst/>
              <a:ahLst/>
              <a:rect l="l" t="t" r="r" b="b"/>
              <a:pathLst>
                <a:path w="1227" h="108">
                  <a:moveTo>
                    <a:pt x="0" y="0"/>
                  </a:moveTo>
                  <a:lnTo>
                    <a:pt x="1226" y="0"/>
                  </a:lnTo>
                  <a:lnTo>
                    <a:pt x="1226" y="107"/>
                  </a:lnTo>
                  <a:lnTo>
                    <a:pt x="0" y="107"/>
                  </a:lnTo>
                  <a:lnTo>
                    <a:pt x="0" y="0"/>
                  </a:lnTo>
                </a:path>
              </a:pathLst>
            </a:custGeom>
            <a:solidFill>
              <a:srgbClr val="8080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735200" y="4602240"/>
              <a:ext cx="6951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2432160" y="4601880"/>
              <a:ext cx="0" cy="36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 flipV="1">
              <a:off x="3130560" y="4601880"/>
              <a:ext cx="0" cy="36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3814920" y="4601880"/>
              <a:ext cx="0" cy="36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4513320" y="4601880"/>
              <a:ext cx="0" cy="36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flipV="1">
              <a:off x="5210280" y="4601880"/>
              <a:ext cx="0" cy="36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908680" y="4601880"/>
              <a:ext cx="0" cy="36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 flipV="1">
              <a:off x="6605640" y="4601880"/>
              <a:ext cx="0" cy="36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 flipV="1">
              <a:off x="7291440" y="4601880"/>
              <a:ext cx="0" cy="36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 flipV="1">
              <a:off x="7988400" y="4601880"/>
              <a:ext cx="0" cy="36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 flipV="1">
              <a:off x="8686800" y="4601880"/>
              <a:ext cx="0" cy="36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727280" y="1587600"/>
              <a:ext cx="0" cy="3116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1618920" y="4638600"/>
              <a:ext cx="26280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85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1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2241360" y="4629240"/>
              <a:ext cx="34056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85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1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2937960" y="4629240"/>
              <a:ext cx="34056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85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1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623760" y="4629240"/>
              <a:ext cx="34056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85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1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4322520" y="4629240"/>
              <a:ext cx="34056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85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1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019480" y="4629240"/>
              <a:ext cx="34056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85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1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716080" y="4629240"/>
              <a:ext cx="34056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85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1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414840" y="4629240"/>
              <a:ext cx="34056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85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70</a:t>
              </a:r>
              <a:endParaRPr b="0" lang="en-US" sz="11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7100640" y="4629240"/>
              <a:ext cx="34056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85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1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797600" y="4629240"/>
              <a:ext cx="34056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85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90</a:t>
              </a:r>
              <a:endParaRPr b="0" lang="en-US" sz="11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8457480" y="4629240"/>
              <a:ext cx="54324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85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100%</a:t>
              </a:r>
              <a:endParaRPr b="0" lang="en-US" sz="11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621360" y="4184640"/>
              <a:ext cx="11102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r">
                <a:lnSpc>
                  <a:spcPct val="85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80"/>
                  </a:solidFill>
                  <a:latin typeface="Arial"/>
                </a:rPr>
                <a:t>Costs/</a:t>
              </a:r>
              <a:br>
                <a:rPr sz="1400"/>
              </a:br>
              <a:r>
                <a:rPr b="0" lang="en-US" sz="1400" spc="-1" strike="noStrike">
                  <a:solidFill>
                    <a:srgbClr val="000080"/>
                  </a:solidFill>
                  <a:latin typeface="Arial"/>
                </a:rPr>
                <a:t>Productivity</a:t>
              </a:r>
              <a:endParaRPr b="0" lang="en-US" sz="1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988560" y="3789360"/>
              <a:ext cx="741240" cy="27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r">
                <a:lnSpc>
                  <a:spcPct val="85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80"/>
                  </a:solidFill>
                  <a:latin typeface="Arial"/>
                </a:rPr>
                <a:t>Quality</a:t>
              </a:r>
              <a:endParaRPr b="0" lang="en-US" sz="1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21800" y="3349800"/>
              <a:ext cx="1009440" cy="27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r">
                <a:lnSpc>
                  <a:spcPct val="85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80"/>
                  </a:solidFill>
                  <a:latin typeface="Arial"/>
                </a:rPr>
                <a:t>Innovation</a:t>
              </a:r>
              <a:endParaRPr b="0" lang="en-US" sz="1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653040" y="2897280"/>
              <a:ext cx="10767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r">
                <a:lnSpc>
                  <a:spcPct val="85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80"/>
                  </a:solidFill>
                  <a:latin typeface="Arial"/>
                </a:rPr>
                <a:t>Alliances/</a:t>
              </a:r>
              <a:br>
                <a:rPr sz="1400"/>
              </a:br>
              <a:r>
                <a:rPr b="0" lang="en-US" sz="1400" spc="-1" strike="noStrike">
                  <a:solidFill>
                    <a:srgbClr val="000080"/>
                  </a:solidFill>
                  <a:latin typeface="Arial"/>
                </a:rPr>
                <a:t>Networking</a:t>
              </a:r>
              <a:endParaRPr b="0" lang="en-US" sz="1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810360" y="2457360"/>
              <a:ext cx="919440" cy="27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r">
                <a:lnSpc>
                  <a:spcPct val="85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80"/>
                  </a:solidFill>
                  <a:latin typeface="Arial"/>
                </a:rPr>
                <a:t>Flexibility</a:t>
              </a:r>
              <a:endParaRPr b="0" lang="en-US" sz="1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137160" y="1906560"/>
              <a:ext cx="15962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r">
                <a:lnSpc>
                  <a:spcPct val="85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80"/>
                  </a:solidFill>
                  <a:latin typeface="Arial"/>
                </a:rPr>
                <a:t>Time to market /</a:t>
              </a:r>
              <a:br>
                <a:rPr sz="1400"/>
              </a:br>
              <a:r>
                <a:rPr b="0" lang="en-US" sz="1400" spc="-1" strike="noStrike">
                  <a:solidFill>
                    <a:srgbClr val="000080"/>
                  </a:solidFill>
                  <a:latin typeface="Arial"/>
                </a:rPr>
                <a:t> Responsiveness </a:t>
              </a:r>
              <a:endParaRPr b="0" lang="en-US" sz="1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583560" y="1565280"/>
              <a:ext cx="1148040" cy="27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r">
                <a:lnSpc>
                  <a:spcPct val="85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80"/>
                  </a:solidFill>
                  <a:latin typeface="Arial"/>
                </a:rPr>
                <a:t>Outsourcing</a:t>
              </a:r>
              <a:endParaRPr b="0" lang="en-US" sz="1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</p:grpSp>
      <p:sp>
        <p:nvSpPr>
          <p:cNvPr id="370" name=""/>
          <p:cNvSpPr/>
          <p:nvPr/>
        </p:nvSpPr>
        <p:spPr>
          <a:xfrm>
            <a:off x="4040640" y="6524640"/>
            <a:ext cx="135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000c0"/>
                </a:solidFill>
                <a:uFillTx/>
                <a:latin typeface="Times New Roman"/>
                <a:hlinkClick r:id="rId1"/>
              </a:rPr>
              <a:t>[</a:t>
            </a:r>
            <a:r>
              <a:rPr b="0" lang="en-US" sz="1600" spc="-1" strike="noStrike" u="sng">
                <a:solidFill>
                  <a:srgbClr val="c000c0"/>
                </a:solidFill>
                <a:uFillTx/>
                <a:latin typeface="Times New Roman"/>
                <a:hlinkClick r:id="rId2"/>
              </a:rPr>
              <a:t>KPMG</a:t>
            </a:r>
            <a:r>
              <a:rPr b="0" lang="en-US" sz="1600" spc="-1" strike="noStrike" u="sng">
                <a:solidFill>
                  <a:srgbClr val="c000c0"/>
                </a:solidFill>
                <a:uFillTx/>
                <a:latin typeface="Times New Roman"/>
                <a:hlinkClick r:id="rId3"/>
              </a:rPr>
              <a:t> 1999]</a:t>
            </a:r>
            <a:endParaRPr b="0" lang="en-US" sz="16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240" y="510516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257040" indent="-257040">
              <a:spcBef>
                <a:spcPts val="499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In line with the expected key changes and issues, more effective management of knowledge is required in the near future (84%).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257040" indent="-257040">
              <a:spcBef>
                <a:spcPts val="499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Only 4% of respondents regard current level of managing knowledge appropriate. 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Still a Long Way to Go...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06280" y="1028880"/>
            <a:ext cx="8785440" cy="4781520"/>
          </a:xfrm>
          <a:prstGeom prst="rect">
            <a:avLst/>
          </a:prstGeom>
          <a:solidFill>
            <a:srgbClr val="feff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1600" y="1343160"/>
            <a:ext cx="3874320" cy="41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 algn="r">
              <a:lnSpc>
                <a:spcPct val="200000"/>
              </a:lnSpc>
              <a:tabLst>
                <a:tab algn="l" pos="0"/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1" lang="en-US" sz="1400" spc="-1" strike="noStrike">
                <a:solidFill>
                  <a:srgbClr val="000020"/>
                </a:solidFill>
                <a:latin typeface="Univers 45 Light"/>
              </a:rPr>
              <a:t>Information transformed into knowledge</a:t>
            </a:r>
            <a:endParaRPr b="0" lang="en-US" sz="1400" spc="-1" strike="noStrike">
              <a:solidFill>
                <a:srgbClr val="fcfeb9"/>
              </a:solidFill>
              <a:latin typeface="Times New Roman"/>
            </a:endParaRPr>
          </a:p>
          <a:p>
            <a:pPr algn="r">
              <a:lnSpc>
                <a:spcPct val="200000"/>
              </a:lnSpc>
              <a:tabLst>
                <a:tab algn="l" pos="0"/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0" lang="en-US" sz="1200" spc="-1" strike="noStrike">
                <a:solidFill>
                  <a:srgbClr val="000020"/>
                </a:solidFill>
                <a:latin typeface="Univers 45 Light"/>
              </a:rPr>
              <a:t>New ideas are stimulated</a:t>
            </a: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  <a:p>
            <a:pPr algn="r">
              <a:lnSpc>
                <a:spcPct val="200000"/>
              </a:lnSpc>
              <a:tabLst>
                <a:tab algn="l" pos="0"/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1" lang="en-US" sz="1400" spc="-1" strike="noStrike">
                <a:solidFill>
                  <a:srgbClr val="000020"/>
                </a:solidFill>
                <a:latin typeface="Univers 45 Light"/>
              </a:rPr>
              <a:t>Knowledge-creation is structured process</a:t>
            </a:r>
            <a:endParaRPr b="0" lang="en-US" sz="1400" spc="-1" strike="noStrike">
              <a:solidFill>
                <a:srgbClr val="fcfeb9"/>
              </a:solidFill>
              <a:latin typeface="Times New Roman"/>
            </a:endParaRPr>
          </a:p>
          <a:p>
            <a:pPr algn="r">
              <a:lnSpc>
                <a:spcPct val="200000"/>
              </a:lnSpc>
              <a:tabLst>
                <a:tab algn="l" pos="0"/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0" lang="en-US" sz="1200" spc="-1" strike="noStrike">
                <a:solidFill>
                  <a:srgbClr val="000020"/>
                </a:solidFill>
                <a:latin typeface="Univers 45 Light"/>
              </a:rPr>
              <a:t>Knowledge is available at right places</a:t>
            </a: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  <a:p>
            <a:pPr algn="r">
              <a:lnSpc>
                <a:spcPct val="200000"/>
              </a:lnSpc>
              <a:tabLst>
                <a:tab algn="l" pos="0"/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0" lang="en-US" sz="1200" spc="-1" strike="noStrike">
                <a:solidFill>
                  <a:srgbClr val="000020"/>
                </a:solidFill>
                <a:latin typeface="Univers 45 Light"/>
              </a:rPr>
              <a:t>Mistakes used as learning experience</a:t>
            </a: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  <a:p>
            <a:pPr algn="r">
              <a:lnSpc>
                <a:spcPct val="200000"/>
              </a:lnSpc>
              <a:tabLst>
                <a:tab algn="l" pos="0"/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0" lang="en-US" sz="1200" spc="-1" strike="noStrike">
                <a:solidFill>
                  <a:srgbClr val="000020"/>
                </a:solidFill>
                <a:latin typeface="Univers 45 Light"/>
              </a:rPr>
              <a:t>Improvement o.b.o. experiences and best practices</a:t>
            </a: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  <a:p>
            <a:pPr algn="r">
              <a:lnSpc>
                <a:spcPct val="85000"/>
              </a:lnSpc>
              <a:tabLst>
                <a:tab algn="l" pos="0"/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1" lang="en-US" sz="1400" spc="-1" strike="noStrike">
                <a:solidFill>
                  <a:srgbClr val="000020"/>
                </a:solidFill>
                <a:latin typeface="Univers 45 Light"/>
              </a:rPr>
              <a:t>Knowledge is re-used</a:t>
            </a:r>
            <a:br>
              <a:rPr sz="1400"/>
            </a:br>
            <a:r>
              <a:rPr b="0" lang="en-US" sz="1400" spc="-1" strike="noStrike">
                <a:solidFill>
                  <a:srgbClr val="000020"/>
                </a:solidFill>
                <a:latin typeface="Univers 45 Light"/>
              </a:rPr>
              <a:t>(not re-inventing the wheel)</a:t>
            </a:r>
            <a:endParaRPr b="0" lang="en-US" sz="1400" spc="-1" strike="noStrike">
              <a:solidFill>
                <a:srgbClr val="fcfeb9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1" lang="en-US" sz="1400" spc="-1" strike="noStrike">
                <a:solidFill>
                  <a:srgbClr val="000020"/>
                </a:solidFill>
                <a:latin typeface="Univers 45 Light"/>
              </a:rPr>
              <a:t>People's competencies are mapped</a:t>
            </a:r>
            <a:endParaRPr b="0" lang="en-US" sz="1400" spc="-1" strike="noStrike">
              <a:solidFill>
                <a:srgbClr val="fcfeb9"/>
              </a:solidFill>
              <a:latin typeface="Times New Roman"/>
            </a:endParaRPr>
          </a:p>
          <a:p>
            <a:pPr algn="r">
              <a:lnSpc>
                <a:spcPct val="200000"/>
              </a:lnSpc>
              <a:tabLst>
                <a:tab algn="l" pos="0"/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1" lang="en-US" sz="1400" spc="-1" strike="noStrike">
                <a:solidFill>
                  <a:srgbClr val="000020"/>
                </a:solidFill>
                <a:latin typeface="Univers 45 Light"/>
              </a:rPr>
              <a:t>No overflow of information</a:t>
            </a:r>
            <a:endParaRPr b="0" lang="en-US" sz="1400" spc="-1" strike="noStrike">
              <a:solidFill>
                <a:srgbClr val="fcfeb9"/>
              </a:solidFill>
              <a:latin typeface="Times New Roman"/>
            </a:endParaRPr>
          </a:p>
          <a:p>
            <a:pPr algn="r">
              <a:lnSpc>
                <a:spcPct val="200000"/>
              </a:lnSpc>
              <a:tabLst>
                <a:tab algn="l" pos="0"/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1" lang="en-US" sz="1400" spc="-1" strike="noStrike">
                <a:solidFill>
                  <a:srgbClr val="000020"/>
                </a:solidFill>
                <a:latin typeface="Univers 45 Light"/>
              </a:rPr>
              <a:t>Sufficient time to share knowledge</a:t>
            </a:r>
            <a:endParaRPr b="0" lang="en-US" sz="1400" spc="-1" strike="noStrike">
              <a:solidFill>
                <a:srgbClr val="fcfeb9"/>
              </a:solidFill>
              <a:latin typeface="Times New Roman"/>
            </a:endParaRPr>
          </a:p>
          <a:p>
            <a:pPr algn="r">
              <a:lnSpc>
                <a:spcPct val="200000"/>
              </a:lnSpc>
              <a:tabLst>
                <a:tab algn="l" pos="0"/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0" lang="en-US" sz="1200" spc="-1" strike="noStrike">
                <a:solidFill>
                  <a:srgbClr val="000020"/>
                </a:solidFill>
                <a:latin typeface="Univers 45 Light"/>
              </a:rPr>
              <a:t>Willingness to share knowledge</a:t>
            </a: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533840" y="1092240"/>
            <a:ext cx="4305240" cy="444600"/>
          </a:xfrm>
          <a:prstGeom prst="rect">
            <a:avLst/>
          </a:prstGeom>
          <a:solidFill>
            <a:srgbClr val="aeaeff"/>
          </a:solidFill>
          <a:ln w="12600">
            <a:solidFill>
              <a:srgbClr val="0000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grpSp>
        <p:nvGrpSpPr>
          <p:cNvPr id="376" name=""/>
          <p:cNvGrpSpPr/>
          <p:nvPr/>
        </p:nvGrpSpPr>
        <p:grpSpPr>
          <a:xfrm>
            <a:off x="4915800" y="5543640"/>
            <a:ext cx="3519360" cy="332280"/>
            <a:chOff x="4915800" y="5543640"/>
            <a:chExt cx="3519360" cy="332280"/>
          </a:xfrm>
        </p:grpSpPr>
        <p:sp>
          <p:nvSpPr>
            <p:cNvPr id="377" name=""/>
            <p:cNvSpPr/>
            <p:nvPr/>
          </p:nvSpPr>
          <p:spPr>
            <a:xfrm>
              <a:off x="6004800" y="5543640"/>
              <a:ext cx="2779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7240"/>
                  <a:tab algn="l" pos="1374840"/>
                  <a:tab algn="l" pos="2062080"/>
                  <a:tab algn="l" pos="2749680"/>
                  <a:tab algn="l" pos="3436920"/>
                  <a:tab algn="l" pos="4124160"/>
                  <a:tab algn="l" pos="4811760"/>
                  <a:tab algn="l" pos="5499000"/>
                  <a:tab algn="l" pos="6186600"/>
                  <a:tab algn="l" pos="6873840"/>
                  <a:tab algn="l" pos="7561440"/>
                  <a:tab algn="l" pos="8248680"/>
                  <a:tab algn="l" pos="8935920"/>
                  <a:tab algn="l" pos="9623520"/>
                  <a:tab algn="l" pos="10310760"/>
                </a:tabLst>
              </a:pPr>
              <a:r>
                <a:rPr b="1" lang="en-US" sz="1600" spc="-1" strike="noStrike">
                  <a:solidFill>
                    <a:srgbClr val="00002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095240" y="5543640"/>
              <a:ext cx="2779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7240"/>
                  <a:tab algn="l" pos="1374840"/>
                  <a:tab algn="l" pos="2062080"/>
                  <a:tab algn="l" pos="2749680"/>
                  <a:tab algn="l" pos="3436920"/>
                  <a:tab algn="l" pos="4124160"/>
                  <a:tab algn="l" pos="4811760"/>
                  <a:tab algn="l" pos="5499000"/>
                  <a:tab algn="l" pos="6186600"/>
                  <a:tab algn="l" pos="6873840"/>
                  <a:tab algn="l" pos="7561440"/>
                  <a:tab algn="l" pos="8248680"/>
                  <a:tab algn="l" pos="8935920"/>
                  <a:tab algn="l" pos="9623520"/>
                  <a:tab algn="l" pos="10310760"/>
                </a:tabLst>
              </a:pPr>
              <a:r>
                <a:rPr b="1" lang="en-US" sz="1600" spc="-1" strike="noStrike">
                  <a:solidFill>
                    <a:srgbClr val="000020"/>
                  </a:solidFill>
                  <a:latin typeface="Times New Roman"/>
                </a:rPr>
                <a:t>3</a:t>
              </a:r>
              <a:endParaRPr b="0" lang="en-US" sz="16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8157240" y="5543640"/>
              <a:ext cx="2779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7240"/>
                  <a:tab algn="l" pos="1374840"/>
                  <a:tab algn="l" pos="2062080"/>
                  <a:tab algn="l" pos="2749680"/>
                  <a:tab algn="l" pos="3436920"/>
                  <a:tab algn="l" pos="4124160"/>
                  <a:tab algn="l" pos="4811760"/>
                  <a:tab algn="l" pos="5499000"/>
                  <a:tab algn="l" pos="6186600"/>
                  <a:tab algn="l" pos="6873840"/>
                  <a:tab algn="l" pos="7561440"/>
                  <a:tab algn="l" pos="8248680"/>
                  <a:tab algn="l" pos="8935920"/>
                  <a:tab algn="l" pos="9623520"/>
                  <a:tab algn="l" pos="10310760"/>
                </a:tabLst>
              </a:pPr>
              <a:r>
                <a:rPr b="1" lang="en-US" sz="1600" spc="-1" strike="noStrike">
                  <a:solidFill>
                    <a:srgbClr val="000020"/>
                  </a:solidFill>
                  <a:latin typeface="Times New Roman"/>
                </a:rPr>
                <a:t>4</a:t>
              </a:r>
              <a:endParaRPr b="0" lang="en-US" sz="16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915800" y="5543640"/>
              <a:ext cx="2779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7240"/>
                  <a:tab algn="l" pos="1374840"/>
                  <a:tab algn="l" pos="2062080"/>
                  <a:tab algn="l" pos="2749680"/>
                  <a:tab algn="l" pos="3436920"/>
                  <a:tab algn="l" pos="4124160"/>
                  <a:tab algn="l" pos="4811760"/>
                  <a:tab algn="l" pos="5499000"/>
                  <a:tab algn="l" pos="6186600"/>
                  <a:tab algn="l" pos="6873840"/>
                  <a:tab algn="l" pos="7561440"/>
                  <a:tab algn="l" pos="8248680"/>
                  <a:tab algn="l" pos="8935920"/>
                  <a:tab algn="l" pos="9623520"/>
                  <a:tab algn="l" pos="10310760"/>
                </a:tabLst>
              </a:pPr>
              <a:r>
                <a:rPr b="1" lang="en-US" sz="1600" spc="-1" strike="noStrike">
                  <a:solidFill>
                    <a:srgbClr val="00002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4524480" y="1603440"/>
            <a:ext cx="4343400" cy="3981240"/>
            <a:chOff x="4524480" y="1603440"/>
            <a:chExt cx="4343400" cy="3981240"/>
          </a:xfrm>
        </p:grpSpPr>
        <p:sp>
          <p:nvSpPr>
            <p:cNvPr id="382" name=""/>
            <p:cNvSpPr/>
            <p:nvPr/>
          </p:nvSpPr>
          <p:spPr>
            <a:xfrm>
              <a:off x="4530960" y="1611360"/>
              <a:ext cx="4330800" cy="3967200"/>
            </a:xfrm>
            <a:prstGeom prst="rect">
              <a:avLst/>
            </a:prstGeom>
            <a:solidFill>
              <a:srgbClr val="e3e3e3"/>
            </a:solidFill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067720" y="1603440"/>
              <a:ext cx="0" cy="398124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53480" y="1603440"/>
              <a:ext cx="0" cy="398124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7239240" y="1603440"/>
              <a:ext cx="0" cy="398124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8325000" y="1603440"/>
              <a:ext cx="0" cy="398124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24480" y="1967040"/>
              <a:ext cx="4343400" cy="0"/>
            </a:xfrm>
            <a:prstGeom prst="line">
              <a:avLst/>
            </a:prstGeom>
            <a:ln w="12600">
              <a:solidFill>
                <a:srgbClr val="00002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4524480" y="2328840"/>
              <a:ext cx="4343400" cy="0"/>
            </a:xfrm>
            <a:prstGeom prst="line">
              <a:avLst/>
            </a:prstGeom>
            <a:ln w="12600">
              <a:solidFill>
                <a:srgbClr val="00002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524480" y="2690640"/>
              <a:ext cx="4343400" cy="0"/>
            </a:xfrm>
            <a:prstGeom prst="line">
              <a:avLst/>
            </a:prstGeom>
            <a:ln w="12600">
              <a:solidFill>
                <a:srgbClr val="00002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524480" y="3052800"/>
              <a:ext cx="4343400" cy="0"/>
            </a:xfrm>
            <a:prstGeom prst="line">
              <a:avLst/>
            </a:prstGeom>
            <a:ln w="12600">
              <a:solidFill>
                <a:srgbClr val="00002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524480" y="3414600"/>
              <a:ext cx="4343400" cy="0"/>
            </a:xfrm>
            <a:prstGeom prst="line">
              <a:avLst/>
            </a:prstGeom>
            <a:ln w="12600">
              <a:solidFill>
                <a:srgbClr val="00002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4524480" y="3776760"/>
              <a:ext cx="4343400" cy="0"/>
            </a:xfrm>
            <a:prstGeom prst="line">
              <a:avLst/>
            </a:prstGeom>
            <a:ln w="12600">
              <a:solidFill>
                <a:srgbClr val="00002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524480" y="4138560"/>
              <a:ext cx="4343400" cy="0"/>
            </a:xfrm>
            <a:prstGeom prst="line">
              <a:avLst/>
            </a:prstGeom>
            <a:ln w="12600">
              <a:solidFill>
                <a:srgbClr val="00002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524480" y="4500720"/>
              <a:ext cx="4343400" cy="0"/>
            </a:xfrm>
            <a:prstGeom prst="line">
              <a:avLst/>
            </a:prstGeom>
            <a:ln w="12600">
              <a:solidFill>
                <a:srgbClr val="00002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4524480" y="4861080"/>
              <a:ext cx="4343400" cy="0"/>
            </a:xfrm>
            <a:prstGeom prst="line">
              <a:avLst/>
            </a:prstGeom>
            <a:ln w="12600">
              <a:solidFill>
                <a:srgbClr val="00002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4524480" y="5222880"/>
              <a:ext cx="4343400" cy="0"/>
            </a:xfrm>
            <a:prstGeom prst="line">
              <a:avLst/>
            </a:prstGeom>
            <a:ln w="12600">
              <a:solidFill>
                <a:srgbClr val="00002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610600" y="1604880"/>
              <a:ext cx="0" cy="3976920"/>
            </a:xfrm>
            <a:prstGeom prst="line">
              <a:avLst/>
            </a:prstGeom>
            <a:ln w="12600">
              <a:solidFill>
                <a:srgbClr val="00002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6696360" y="1604880"/>
              <a:ext cx="0" cy="3976920"/>
            </a:xfrm>
            <a:prstGeom prst="line">
              <a:avLst/>
            </a:prstGeom>
            <a:ln w="12600">
              <a:solidFill>
                <a:srgbClr val="00002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4530960" y="1682640"/>
              <a:ext cx="2251080" cy="158760"/>
            </a:xfrm>
            <a:prstGeom prst="rect">
              <a:avLst/>
            </a:prstGeom>
            <a:gradFill rotWithShape="0">
              <a:gsLst>
                <a:gs pos="0">
                  <a:srgbClr val="ff6633"/>
                </a:gs>
                <a:gs pos="100000">
                  <a:srgbClr val="ffff99"/>
                </a:gs>
              </a:gsLst>
              <a:lin ang="10800000"/>
            </a:gradFill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4530960" y="2044800"/>
              <a:ext cx="1870200" cy="177840"/>
            </a:xfrm>
            <a:prstGeom prst="rect">
              <a:avLst/>
            </a:prstGeom>
            <a:gradFill rotWithShape="0">
              <a:gsLst>
                <a:gs pos="0">
                  <a:srgbClr val="ff6633"/>
                </a:gs>
                <a:gs pos="100000">
                  <a:srgbClr val="ffff99"/>
                </a:gs>
              </a:gsLst>
              <a:lin ang="10800000"/>
            </a:gradFill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4530960" y="2406600"/>
              <a:ext cx="2251080" cy="196920"/>
            </a:xfrm>
            <a:prstGeom prst="rect">
              <a:avLst/>
            </a:prstGeom>
            <a:gradFill rotWithShape="0">
              <a:gsLst>
                <a:gs pos="0">
                  <a:srgbClr val="ff6633"/>
                </a:gs>
                <a:gs pos="100000">
                  <a:srgbClr val="ffff99"/>
                </a:gs>
              </a:gsLst>
              <a:lin ang="10800000"/>
            </a:gradFill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4530960" y="3130560"/>
              <a:ext cx="2022480" cy="158760"/>
            </a:xfrm>
            <a:prstGeom prst="rect">
              <a:avLst/>
            </a:prstGeom>
            <a:gradFill rotWithShape="0">
              <a:gsLst>
                <a:gs pos="0">
                  <a:srgbClr val="ff6633"/>
                </a:gs>
                <a:gs pos="100000">
                  <a:srgbClr val="ffff99"/>
                </a:gs>
              </a:gsLst>
              <a:lin ang="10800000"/>
            </a:gradFill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4530960" y="3492360"/>
              <a:ext cx="1565280" cy="177840"/>
            </a:xfrm>
            <a:prstGeom prst="rect">
              <a:avLst/>
            </a:prstGeom>
            <a:gradFill rotWithShape="0">
              <a:gsLst>
                <a:gs pos="0">
                  <a:srgbClr val="ff9966"/>
                </a:gs>
                <a:gs pos="100000">
                  <a:srgbClr val="ffff99"/>
                </a:gs>
              </a:gsLst>
              <a:lin ang="10800000"/>
            </a:gradFill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4530960" y="3854520"/>
              <a:ext cx="2556000" cy="196920"/>
            </a:xfrm>
            <a:prstGeom prst="rect">
              <a:avLst/>
            </a:prstGeom>
            <a:gradFill rotWithShape="0">
              <a:gsLst>
                <a:gs pos="0">
                  <a:srgbClr val="ff6633"/>
                </a:gs>
                <a:gs pos="100000">
                  <a:srgbClr val="ffff99"/>
                </a:gs>
              </a:gsLst>
              <a:lin ang="10800000"/>
            </a:gradFill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4530960" y="4216320"/>
              <a:ext cx="2860560" cy="216000"/>
            </a:xfrm>
            <a:prstGeom prst="rect">
              <a:avLst/>
            </a:prstGeom>
            <a:gradFill rotWithShape="0">
              <a:gsLst>
                <a:gs pos="0">
                  <a:srgbClr val="cc0000"/>
                </a:gs>
                <a:gs pos="100000">
                  <a:srgbClr val="ffff99"/>
                </a:gs>
              </a:gsLst>
              <a:lin ang="10800000"/>
            </a:gradFill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530960" y="4578480"/>
              <a:ext cx="2708280" cy="158760"/>
            </a:xfrm>
            <a:prstGeom prst="rect">
              <a:avLst/>
            </a:prstGeom>
            <a:gradFill rotWithShape="0">
              <a:gsLst>
                <a:gs pos="0">
                  <a:srgbClr val="cc0000"/>
                </a:gs>
                <a:gs pos="100000">
                  <a:srgbClr val="ffff99"/>
                </a:gs>
              </a:gsLst>
              <a:lin ang="10800000"/>
            </a:gradFill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530960" y="4940280"/>
              <a:ext cx="2708280" cy="177840"/>
            </a:xfrm>
            <a:prstGeom prst="rect">
              <a:avLst/>
            </a:prstGeom>
            <a:gradFill rotWithShape="0">
              <a:gsLst>
                <a:gs pos="0">
                  <a:srgbClr val="cc0000"/>
                </a:gs>
                <a:gs pos="100000">
                  <a:srgbClr val="ffff99"/>
                </a:gs>
              </a:gsLst>
              <a:lin ang="10800000"/>
            </a:gradFill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4530960" y="5375160"/>
              <a:ext cx="1946160" cy="123840"/>
            </a:xfrm>
            <a:prstGeom prst="rect">
              <a:avLst/>
            </a:prstGeom>
            <a:gradFill rotWithShape="0">
              <a:gsLst>
                <a:gs pos="0">
                  <a:srgbClr val="ff6633"/>
                </a:gs>
                <a:gs pos="100000">
                  <a:srgbClr val="ffff99"/>
                </a:gs>
              </a:gsLst>
              <a:lin ang="10800000"/>
            </a:gradFill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4530960" y="2825640"/>
              <a:ext cx="2022480" cy="158760"/>
            </a:xfrm>
            <a:prstGeom prst="rect">
              <a:avLst/>
            </a:prstGeom>
            <a:gradFill rotWithShape="0">
              <a:gsLst>
                <a:gs pos="0">
                  <a:srgbClr val="ff6633"/>
                </a:gs>
                <a:gs pos="100000">
                  <a:srgbClr val="ffff99"/>
                </a:gs>
              </a:gsLst>
              <a:lin ang="10800000"/>
            </a:gradFill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</p:grpSp>
      <p:sp>
        <p:nvSpPr>
          <p:cNvPr id="410" name=""/>
          <p:cNvSpPr/>
          <p:nvPr/>
        </p:nvSpPr>
        <p:spPr>
          <a:xfrm>
            <a:off x="4791240" y="1201680"/>
            <a:ext cx="58104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1" i="1" lang="en-US" sz="1600" spc="-1" strike="noStrike">
                <a:solidFill>
                  <a:srgbClr val="000080"/>
                </a:solidFill>
                <a:latin typeface="Times New Roman"/>
              </a:rPr>
              <a:t>True</a:t>
            </a:r>
            <a:endParaRPr b="0" lang="en-US" sz="16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7941960" y="1201680"/>
            <a:ext cx="63900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1" i="1" lang="en-US" sz="1600" spc="-1" strike="noStrike">
                <a:solidFill>
                  <a:srgbClr val="000080"/>
                </a:solidFill>
                <a:latin typeface="Times New Roman"/>
              </a:rPr>
              <a:t>False</a:t>
            </a:r>
            <a:endParaRPr b="0" lang="en-US" sz="16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913000" y="1096920"/>
            <a:ext cx="818640" cy="5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1" i="1" lang="en-US" sz="1600" spc="-1" strike="noStrike">
                <a:solidFill>
                  <a:srgbClr val="000080"/>
                </a:solidFill>
                <a:latin typeface="Times New Roman"/>
              </a:rPr>
              <a:t>Slightly</a:t>
            </a:r>
            <a:endParaRPr b="0" lang="en-US" sz="1600" spc="-1" strike="noStrike">
              <a:solidFill>
                <a:srgbClr val="fcfeb9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1" i="1" lang="en-US" sz="1600" spc="-1" strike="noStrike">
                <a:solidFill>
                  <a:srgbClr val="000080"/>
                </a:solidFill>
                <a:latin typeface="Times New Roman"/>
              </a:rPr>
              <a:t>True</a:t>
            </a:r>
            <a:endParaRPr b="0" lang="en-US" sz="16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960600" y="1096920"/>
            <a:ext cx="818640" cy="5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1" i="1" lang="en-US" sz="1600" spc="-1" strike="noStrike">
                <a:solidFill>
                  <a:srgbClr val="000080"/>
                </a:solidFill>
                <a:latin typeface="Times New Roman"/>
              </a:rPr>
              <a:t>Slightly</a:t>
            </a:r>
            <a:endParaRPr b="0" lang="en-US" sz="1600" spc="-1" strike="noStrike">
              <a:solidFill>
                <a:srgbClr val="fcfeb9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1" i="1" lang="en-US" sz="1600" spc="-1" strike="noStrike">
                <a:solidFill>
                  <a:srgbClr val="000080"/>
                </a:solidFill>
                <a:latin typeface="Times New Roman"/>
              </a:rPr>
              <a:t>False</a:t>
            </a:r>
            <a:endParaRPr b="0" lang="en-US" sz="16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040640" y="6524640"/>
            <a:ext cx="135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000c0"/>
                </a:solidFill>
                <a:uFillTx/>
                <a:latin typeface="Times New Roman"/>
                <a:hlinkClick r:id="rId1"/>
              </a:rPr>
              <a:t>[</a:t>
            </a:r>
            <a:r>
              <a:rPr b="0" lang="en-US" sz="1600" spc="-1" strike="noStrike" u="sng">
                <a:solidFill>
                  <a:srgbClr val="c000c0"/>
                </a:solidFill>
                <a:uFillTx/>
                <a:latin typeface="Times New Roman"/>
                <a:hlinkClick r:id="rId2"/>
              </a:rPr>
              <a:t>KPMG</a:t>
            </a:r>
            <a:r>
              <a:rPr b="0" lang="en-US" sz="1600" spc="-1" strike="noStrike" u="sng">
                <a:solidFill>
                  <a:srgbClr val="c000c0"/>
                </a:solidFill>
                <a:uFillTx/>
                <a:latin typeface="Times New Roman"/>
                <a:hlinkClick r:id="rId3"/>
              </a:rPr>
              <a:t> 1999]</a:t>
            </a:r>
            <a:endParaRPr b="0" lang="en-US" sz="16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228240" y="5790960"/>
            <a:ext cx="88390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1000"/>
          </a:bodyPr>
          <a:p>
            <a:pPr marL="231480" indent="-231480">
              <a:spcBef>
                <a:spcPts val="601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Most companies acknowledge that managing knowledge can be improved for a wide range of aspects. 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IT Infrastructure &amp; Software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grpSp>
        <p:nvGrpSpPr>
          <p:cNvPr id="417" name=""/>
          <p:cNvGrpSpPr/>
          <p:nvPr/>
        </p:nvGrpSpPr>
        <p:grpSpPr>
          <a:xfrm>
            <a:off x="394200" y="838080"/>
            <a:ext cx="8526960" cy="4807080"/>
            <a:chOff x="394200" y="838080"/>
            <a:chExt cx="8526960" cy="4807080"/>
          </a:xfrm>
        </p:grpSpPr>
        <p:sp>
          <p:nvSpPr>
            <p:cNvPr id="418" name=""/>
            <p:cNvSpPr/>
            <p:nvPr/>
          </p:nvSpPr>
          <p:spPr>
            <a:xfrm>
              <a:off x="1260000" y="838080"/>
              <a:ext cx="75366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80"/>
                  </a:solidFill>
                  <a:latin typeface="Univers 45 Light"/>
                </a:rPr>
                <a:t> </a:t>
              </a:r>
              <a:r>
                <a:rPr b="0" lang="en-US" sz="1600" spc="-1" strike="noStrike">
                  <a:solidFill>
                    <a:srgbClr val="000080"/>
                  </a:solidFill>
                  <a:latin typeface="Univers 45 Light"/>
                </a:rPr>
                <a:t>IT infrastructure and software used to collect, share and analyze information</a:t>
              </a:r>
              <a:endParaRPr b="0" lang="en-US" sz="16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399960" y="1079280"/>
              <a:ext cx="8496360" cy="4443480"/>
            </a:xfrm>
            <a:prstGeom prst="rect">
              <a:avLst/>
            </a:prstGeom>
            <a:solidFill>
              <a:srgbClr val="feff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533680" y="1184040"/>
              <a:ext cx="6105600" cy="4008600"/>
            </a:xfrm>
            <a:custGeom>
              <a:avLst/>
              <a:gdLst/>
              <a:ahLst/>
              <a:rect l="l" t="t" r="r" b="b"/>
              <a:pathLst>
                <a:path w="3846" h="2525">
                  <a:moveTo>
                    <a:pt x="0" y="0"/>
                  </a:moveTo>
                  <a:lnTo>
                    <a:pt x="3845" y="0"/>
                  </a:lnTo>
                  <a:lnTo>
                    <a:pt x="3845" y="2524"/>
                  </a:lnTo>
                  <a:lnTo>
                    <a:pt x="0" y="2524"/>
                  </a:lnTo>
                  <a:lnTo>
                    <a:pt x="0" y="0"/>
                  </a:lnTo>
                </a:path>
              </a:pathLst>
            </a:custGeom>
            <a:solidFill>
              <a:srgbClr val="e3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151080" y="1184040"/>
              <a:ext cx="0" cy="4007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3753000" y="1184040"/>
              <a:ext cx="0" cy="4007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4368960" y="1184040"/>
              <a:ext cx="0" cy="4007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970520" y="1184040"/>
              <a:ext cx="0" cy="4007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586480" y="1184040"/>
              <a:ext cx="0" cy="4007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202440" y="1184040"/>
              <a:ext cx="0" cy="4007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6804000" y="1184040"/>
              <a:ext cx="0" cy="4007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7419960" y="1184040"/>
              <a:ext cx="0" cy="4007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8021520" y="1184040"/>
              <a:ext cx="0" cy="4007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8637480" y="1184040"/>
              <a:ext cx="0" cy="4007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2533680" y="1184040"/>
              <a:ext cx="6105600" cy="4008600"/>
            </a:xfrm>
            <a:custGeom>
              <a:avLst/>
              <a:gdLst/>
              <a:ahLst/>
              <a:rect l="l" t="t" r="r" b="b"/>
              <a:pathLst>
                <a:path w="3846" h="2525">
                  <a:moveTo>
                    <a:pt x="0" y="0"/>
                  </a:moveTo>
                  <a:lnTo>
                    <a:pt x="3845" y="0"/>
                  </a:lnTo>
                  <a:lnTo>
                    <a:pt x="3845" y="2524"/>
                  </a:lnTo>
                  <a:lnTo>
                    <a:pt x="0" y="2524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533680" y="4843440"/>
              <a:ext cx="1220760" cy="204840"/>
            </a:xfrm>
            <a:custGeom>
              <a:avLst/>
              <a:gdLst/>
              <a:ahLst/>
              <a:rect l="l" t="t" r="r" b="b"/>
              <a:pathLst>
                <a:path w="769" h="129">
                  <a:moveTo>
                    <a:pt x="0" y="0"/>
                  </a:moveTo>
                  <a:lnTo>
                    <a:pt x="768" y="0"/>
                  </a:lnTo>
                  <a:lnTo>
                    <a:pt x="768" y="128"/>
                  </a:lnTo>
                  <a:lnTo>
                    <a:pt x="0" y="128"/>
                  </a:lnTo>
                  <a:lnTo>
                    <a:pt x="0" y="0"/>
                  </a:lnTo>
                </a:path>
              </a:pathLst>
            </a:custGeom>
            <a:solidFill>
              <a:srgbClr val="8080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2533680" y="4340160"/>
              <a:ext cx="1954080" cy="204840"/>
            </a:xfrm>
            <a:custGeom>
              <a:avLst/>
              <a:gdLst/>
              <a:ahLst/>
              <a:rect l="l" t="t" r="r" b="b"/>
              <a:pathLst>
                <a:path w="1231" h="129">
                  <a:moveTo>
                    <a:pt x="0" y="0"/>
                  </a:moveTo>
                  <a:lnTo>
                    <a:pt x="1230" y="0"/>
                  </a:lnTo>
                  <a:lnTo>
                    <a:pt x="1230" y="128"/>
                  </a:lnTo>
                  <a:lnTo>
                    <a:pt x="0" y="128"/>
                  </a:lnTo>
                  <a:lnTo>
                    <a:pt x="0" y="0"/>
                  </a:lnTo>
                </a:path>
              </a:pathLst>
            </a:custGeom>
            <a:solidFill>
              <a:srgbClr val="8080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533680" y="3848040"/>
              <a:ext cx="485640" cy="193680"/>
            </a:xfrm>
            <a:custGeom>
              <a:avLst/>
              <a:gdLst/>
              <a:ahLst/>
              <a:rect l="l" t="t" r="r" b="b"/>
              <a:pathLst>
                <a:path w="306" h="122">
                  <a:moveTo>
                    <a:pt x="0" y="0"/>
                  </a:moveTo>
                  <a:lnTo>
                    <a:pt x="305" y="0"/>
                  </a:lnTo>
                  <a:lnTo>
                    <a:pt x="305" y="121"/>
                  </a:lnTo>
                  <a:lnTo>
                    <a:pt x="0" y="121"/>
                  </a:lnTo>
                  <a:lnTo>
                    <a:pt x="0" y="0"/>
                  </a:lnTo>
                </a:path>
              </a:pathLst>
            </a:custGeom>
            <a:solidFill>
              <a:srgbClr val="8080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2533680" y="3343320"/>
              <a:ext cx="3670200" cy="206280"/>
            </a:xfrm>
            <a:custGeom>
              <a:avLst/>
              <a:gdLst/>
              <a:ahLst/>
              <a:rect l="l" t="t" r="r" b="b"/>
              <a:pathLst>
                <a:path w="2312" h="130">
                  <a:moveTo>
                    <a:pt x="0" y="0"/>
                  </a:moveTo>
                  <a:lnTo>
                    <a:pt x="2311" y="0"/>
                  </a:lnTo>
                  <a:lnTo>
                    <a:pt x="2311" y="129"/>
                  </a:lnTo>
                  <a:lnTo>
                    <a:pt x="0" y="129"/>
                  </a:lnTo>
                  <a:lnTo>
                    <a:pt x="0" y="0"/>
                  </a:lnTo>
                </a:path>
              </a:pathLst>
            </a:custGeom>
            <a:solidFill>
              <a:srgbClr val="8080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2533680" y="2840040"/>
              <a:ext cx="4403520" cy="204840"/>
            </a:xfrm>
            <a:custGeom>
              <a:avLst/>
              <a:gdLst/>
              <a:ahLst/>
              <a:rect l="l" t="t" r="r" b="b"/>
              <a:pathLst>
                <a:path w="2774" h="129">
                  <a:moveTo>
                    <a:pt x="0" y="0"/>
                  </a:moveTo>
                  <a:lnTo>
                    <a:pt x="2773" y="0"/>
                  </a:lnTo>
                  <a:lnTo>
                    <a:pt x="2773" y="128"/>
                  </a:lnTo>
                  <a:lnTo>
                    <a:pt x="0" y="128"/>
                  </a:lnTo>
                  <a:lnTo>
                    <a:pt x="0" y="0"/>
                  </a:lnTo>
                </a:path>
              </a:pathLst>
            </a:custGeom>
            <a:solidFill>
              <a:srgbClr val="8080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2533680" y="2336760"/>
              <a:ext cx="1220760" cy="204840"/>
            </a:xfrm>
            <a:custGeom>
              <a:avLst/>
              <a:gdLst/>
              <a:ahLst/>
              <a:rect l="l" t="t" r="r" b="b"/>
              <a:pathLst>
                <a:path w="769" h="129">
                  <a:moveTo>
                    <a:pt x="0" y="0"/>
                  </a:moveTo>
                  <a:lnTo>
                    <a:pt x="768" y="0"/>
                  </a:lnTo>
                  <a:lnTo>
                    <a:pt x="768" y="128"/>
                  </a:lnTo>
                  <a:lnTo>
                    <a:pt x="0" y="128"/>
                  </a:lnTo>
                  <a:lnTo>
                    <a:pt x="0" y="0"/>
                  </a:lnTo>
                </a:path>
              </a:pathLst>
            </a:custGeom>
            <a:solidFill>
              <a:srgbClr val="8080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533680" y="1844640"/>
              <a:ext cx="4403520" cy="193680"/>
            </a:xfrm>
            <a:custGeom>
              <a:avLst/>
              <a:gdLst/>
              <a:ahLst/>
              <a:rect l="l" t="t" r="r" b="b"/>
              <a:pathLst>
                <a:path w="2774" h="122">
                  <a:moveTo>
                    <a:pt x="0" y="0"/>
                  </a:moveTo>
                  <a:lnTo>
                    <a:pt x="2773" y="0"/>
                  </a:lnTo>
                  <a:lnTo>
                    <a:pt x="2773" y="121"/>
                  </a:lnTo>
                  <a:lnTo>
                    <a:pt x="0" y="121"/>
                  </a:lnTo>
                  <a:lnTo>
                    <a:pt x="0" y="0"/>
                  </a:lnTo>
                </a:path>
              </a:pathLst>
            </a:custGeom>
            <a:solidFill>
              <a:srgbClr val="8080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533680" y="1339920"/>
              <a:ext cx="5637240" cy="206280"/>
            </a:xfrm>
            <a:custGeom>
              <a:avLst/>
              <a:gdLst/>
              <a:ahLst/>
              <a:rect l="l" t="t" r="r" b="b"/>
              <a:pathLst>
                <a:path w="3551" h="130">
                  <a:moveTo>
                    <a:pt x="0" y="0"/>
                  </a:moveTo>
                  <a:lnTo>
                    <a:pt x="3550" y="0"/>
                  </a:lnTo>
                  <a:lnTo>
                    <a:pt x="3550" y="129"/>
                  </a:lnTo>
                  <a:lnTo>
                    <a:pt x="0" y="129"/>
                  </a:lnTo>
                  <a:lnTo>
                    <a:pt x="0" y="0"/>
                  </a:lnTo>
                </a:path>
              </a:pathLst>
            </a:custGeom>
            <a:solidFill>
              <a:srgbClr val="8080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2533680" y="5191200"/>
              <a:ext cx="6103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 flipV="1">
              <a:off x="2533680" y="5190840"/>
              <a:ext cx="0" cy="36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 flipV="1">
              <a:off x="3151080" y="5190840"/>
              <a:ext cx="0" cy="36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 flipV="1">
              <a:off x="3753000" y="5190840"/>
              <a:ext cx="0" cy="36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 flipV="1">
              <a:off x="4368960" y="5190840"/>
              <a:ext cx="0" cy="36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 flipV="1">
              <a:off x="4970520" y="5190840"/>
              <a:ext cx="0" cy="36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 flipV="1">
              <a:off x="5586480" y="5190840"/>
              <a:ext cx="0" cy="36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 flipV="1">
              <a:off x="6202440" y="5190840"/>
              <a:ext cx="0" cy="36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 flipV="1">
              <a:off x="6804000" y="5190840"/>
              <a:ext cx="0" cy="36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 flipV="1">
              <a:off x="7419960" y="5190840"/>
              <a:ext cx="0" cy="36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 flipV="1">
              <a:off x="8021520" y="5190840"/>
              <a:ext cx="0" cy="36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V="1">
              <a:off x="8637480" y="5190840"/>
              <a:ext cx="0" cy="36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533680" y="1184040"/>
              <a:ext cx="0" cy="4007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372760" y="5222880"/>
              <a:ext cx="255240" cy="22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85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2944440" y="5222880"/>
              <a:ext cx="325080" cy="22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85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0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3546000" y="5222880"/>
              <a:ext cx="325080" cy="22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85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4161960" y="5222880"/>
              <a:ext cx="325080" cy="22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85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0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4763520" y="5222880"/>
              <a:ext cx="325080" cy="22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85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5379480" y="5222880"/>
              <a:ext cx="325080" cy="22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85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0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5997240" y="5222880"/>
              <a:ext cx="325080" cy="22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85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6598800" y="5222880"/>
              <a:ext cx="325080" cy="22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85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70</a:t>
              </a:r>
              <a:endParaRPr b="0" lang="en-US" sz="10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214760" y="5222880"/>
              <a:ext cx="325080" cy="22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85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16320" y="5222880"/>
              <a:ext cx="325080" cy="22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85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90</a:t>
              </a:r>
              <a:endParaRPr b="0" lang="en-US" sz="10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413200" y="5248080"/>
              <a:ext cx="507960" cy="22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85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0%</a:t>
              </a:r>
              <a:endParaRPr b="0" lang="en-US" sz="10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2520" y="4707000"/>
              <a:ext cx="1684800" cy="50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r">
                <a:lnSpc>
                  <a:spcPct val="8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80"/>
                  </a:solidFill>
                  <a:latin typeface="Arial"/>
                </a:rPr>
                <a:t>Expert/Decision</a:t>
              </a:r>
              <a:br>
                <a:rPr sz="1600"/>
              </a:br>
              <a:r>
                <a:rPr b="0" lang="en-US" sz="1600" spc="-1" strike="noStrike">
                  <a:solidFill>
                    <a:srgbClr val="000080"/>
                  </a:solidFill>
                  <a:latin typeface="Arial"/>
                </a:rPr>
                <a:t>support software</a:t>
              </a:r>
              <a:endParaRPr b="0" lang="en-US" sz="16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1897560" y="4282920"/>
              <a:ext cx="602640" cy="29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r">
                <a:lnSpc>
                  <a:spcPct val="8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80"/>
                  </a:solidFill>
                  <a:latin typeface="Arial"/>
                </a:rPr>
                <a:t>ERP</a:t>
              </a:r>
              <a:endParaRPr b="0" lang="en-US" sz="16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654840" y="3778200"/>
              <a:ext cx="1843200" cy="29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r">
                <a:lnSpc>
                  <a:spcPct val="8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80"/>
                  </a:solidFill>
                  <a:latin typeface="Arial"/>
                </a:rPr>
                <a:t>Workflow software</a:t>
              </a:r>
              <a:endParaRPr b="0" lang="en-US" sz="16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1341360" y="3282840"/>
              <a:ext cx="1186200" cy="29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r">
                <a:lnSpc>
                  <a:spcPct val="8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80"/>
                  </a:solidFill>
                  <a:latin typeface="Arial"/>
                </a:rPr>
                <a:t>Groupware</a:t>
              </a:r>
              <a:endParaRPr b="0" lang="en-US" sz="16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394200" y="2687760"/>
              <a:ext cx="2103840" cy="50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r">
                <a:lnSpc>
                  <a:spcPct val="8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80"/>
                  </a:solidFill>
                  <a:latin typeface="Arial"/>
                </a:rPr>
                <a:t>Database/Document</a:t>
              </a:r>
              <a:br>
                <a:rPr sz="1600"/>
              </a:br>
              <a:r>
                <a:rPr b="0" lang="en-US" sz="1600" spc="-1" strike="noStrike">
                  <a:solidFill>
                    <a:srgbClr val="000080"/>
                  </a:solidFill>
                  <a:latin typeface="Arial"/>
                </a:rPr>
                <a:t>Management System</a:t>
              </a:r>
              <a:endParaRPr b="0" lang="en-US" sz="16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1557360" y="2273400"/>
              <a:ext cx="941040" cy="29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r">
                <a:lnSpc>
                  <a:spcPct val="8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80"/>
                  </a:solidFill>
                  <a:latin typeface="Arial"/>
                </a:rPr>
                <a:t>Extranet</a:t>
              </a:r>
              <a:endParaRPr b="0" lang="en-US" sz="16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625040" y="1778040"/>
              <a:ext cx="872280" cy="29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r">
                <a:lnSpc>
                  <a:spcPct val="8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80"/>
                  </a:solidFill>
                  <a:latin typeface="Arial"/>
                </a:rPr>
                <a:t>Intranet</a:t>
              </a:r>
              <a:endParaRPr b="0" lang="en-US" sz="16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1625040" y="1263600"/>
              <a:ext cx="872280" cy="29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r">
                <a:lnSpc>
                  <a:spcPct val="8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80"/>
                  </a:solidFill>
                  <a:latin typeface="Arial"/>
                </a:rPr>
                <a:t>Internet</a:t>
              </a:r>
              <a:endParaRPr b="0" lang="en-US" sz="16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7711920" y="5400720"/>
              <a:ext cx="18432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</p:grpSp>
      <p:sp>
        <p:nvSpPr>
          <p:cNvPr id="473" name=""/>
          <p:cNvSpPr/>
          <p:nvPr/>
        </p:nvSpPr>
        <p:spPr>
          <a:xfrm>
            <a:off x="4040640" y="6524640"/>
            <a:ext cx="135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000c0"/>
                </a:solidFill>
                <a:uFillTx/>
                <a:latin typeface="Times New Roman"/>
                <a:hlinkClick r:id="rId1"/>
              </a:rPr>
              <a:t>[</a:t>
            </a:r>
            <a:r>
              <a:rPr b="0" lang="en-US" sz="1600" spc="-1" strike="noStrike" u="sng">
                <a:solidFill>
                  <a:srgbClr val="c000c0"/>
                </a:solidFill>
                <a:uFillTx/>
                <a:latin typeface="Times New Roman"/>
                <a:hlinkClick r:id="rId2"/>
              </a:rPr>
              <a:t>KPMG</a:t>
            </a:r>
            <a:r>
              <a:rPr b="0" lang="en-US" sz="1600" spc="-1" strike="noStrike" u="sng">
                <a:solidFill>
                  <a:srgbClr val="c000c0"/>
                </a:solidFill>
                <a:uFillTx/>
                <a:latin typeface="Times New Roman"/>
                <a:hlinkClick r:id="rId3"/>
              </a:rPr>
              <a:t> 1999]</a:t>
            </a:r>
            <a:endParaRPr b="0" lang="en-US" sz="16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28240" y="5486400"/>
            <a:ext cx="883908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0000"/>
          </a:bodyPr>
          <a:p>
            <a:pPr marL="199800" indent="-199800">
              <a:spcBef>
                <a:spcPts val="601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Internet, intranet, databases and groupware are used by more than 50% of the respondent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199800" indent="-199800">
              <a:spcBef>
                <a:spcPts val="601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workflow software is rarely used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Vision and the Human Factor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4276800" y="2095560"/>
            <a:ext cx="1108080" cy="41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364000" y="2095560"/>
            <a:ext cx="1106640" cy="41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448320" y="2095560"/>
            <a:ext cx="1170000" cy="41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7597800" y="2095560"/>
            <a:ext cx="1106640" cy="41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grpSp>
        <p:nvGrpSpPr>
          <p:cNvPr id="480" name=""/>
          <p:cNvGrpSpPr/>
          <p:nvPr/>
        </p:nvGrpSpPr>
        <p:grpSpPr>
          <a:xfrm>
            <a:off x="615960" y="1682640"/>
            <a:ext cx="7531200" cy="3873600"/>
            <a:chOff x="615960" y="1682640"/>
            <a:chExt cx="7531200" cy="3873600"/>
          </a:xfrm>
        </p:grpSpPr>
        <p:sp>
          <p:nvSpPr>
            <p:cNvPr id="481" name=""/>
            <p:cNvSpPr/>
            <p:nvPr/>
          </p:nvSpPr>
          <p:spPr>
            <a:xfrm>
              <a:off x="615960" y="1682640"/>
              <a:ext cx="7531200" cy="3873600"/>
            </a:xfrm>
            <a:prstGeom prst="rect">
              <a:avLst/>
            </a:prstGeom>
            <a:solidFill>
              <a:srgbClr val="feffab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3398760" y="2468520"/>
              <a:ext cx="4353120" cy="2683080"/>
            </a:xfrm>
            <a:prstGeom prst="rect">
              <a:avLst/>
            </a:prstGeom>
            <a:solidFill>
              <a:srgbClr val="e3e3e3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3421080" y="1835280"/>
              <a:ext cx="4330800" cy="450720"/>
            </a:xfrm>
            <a:prstGeom prst="rect">
              <a:avLst/>
            </a:prstGeom>
            <a:solidFill>
              <a:srgbClr val="e3e3e3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763920" y="2360520"/>
              <a:ext cx="2647440" cy="277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t">
              <a:spAutoFit/>
            </a:bodyPr>
            <a:p>
              <a:pPr algn="r">
                <a:lnSpc>
                  <a:spcPct val="210000"/>
                </a:lnSpc>
                <a:tabLst>
                  <a:tab algn="l" pos="0"/>
                  <a:tab algn="l" pos="687240"/>
                  <a:tab algn="l" pos="1374840"/>
                  <a:tab algn="l" pos="2062080"/>
                  <a:tab algn="l" pos="2749680"/>
                  <a:tab algn="l" pos="3436920"/>
                  <a:tab algn="l" pos="4124160"/>
                  <a:tab algn="l" pos="4811760"/>
                  <a:tab algn="l" pos="5499000"/>
                  <a:tab algn="l" pos="6186600"/>
                  <a:tab algn="l" pos="6873840"/>
                  <a:tab algn="l" pos="7561440"/>
                  <a:tab algn="l" pos="8248680"/>
                  <a:tab algn="l" pos="8935920"/>
                  <a:tab algn="l" pos="9623520"/>
                  <a:tab algn="l" pos="10310760"/>
                </a:tabLst>
              </a:pPr>
              <a:r>
                <a:rPr b="1" lang="en-US" sz="1400" spc="-1" strike="noStrike">
                  <a:solidFill>
                    <a:srgbClr val="000080"/>
                  </a:solidFill>
                  <a:latin typeface="Univers 45 Light"/>
                </a:rPr>
                <a:t>Vision / Strategy</a:t>
              </a:r>
              <a:endParaRPr b="0" lang="en-US" sz="1400" spc="-1" strike="noStrike">
                <a:solidFill>
                  <a:srgbClr val="fcfeb9"/>
                </a:solidFill>
                <a:latin typeface="Times New Roman"/>
              </a:endParaRPr>
            </a:p>
            <a:p>
              <a:pPr algn="r">
                <a:lnSpc>
                  <a:spcPct val="210000"/>
                </a:lnSpc>
                <a:tabLst>
                  <a:tab algn="l" pos="0"/>
                  <a:tab algn="l" pos="687240"/>
                  <a:tab algn="l" pos="1374840"/>
                  <a:tab algn="l" pos="2062080"/>
                  <a:tab algn="l" pos="2749680"/>
                  <a:tab algn="l" pos="3436920"/>
                  <a:tab algn="l" pos="4124160"/>
                  <a:tab algn="l" pos="4811760"/>
                  <a:tab algn="l" pos="5499000"/>
                  <a:tab algn="l" pos="6186600"/>
                  <a:tab algn="l" pos="6873840"/>
                  <a:tab algn="l" pos="7561440"/>
                  <a:tab algn="l" pos="8248680"/>
                  <a:tab algn="l" pos="8935920"/>
                  <a:tab algn="l" pos="9623520"/>
                  <a:tab algn="l" pos="10310760"/>
                </a:tabLst>
              </a:pPr>
              <a:r>
                <a:rPr b="0" lang="en-US" sz="1400" spc="-1" strike="noStrike">
                  <a:solidFill>
                    <a:srgbClr val="000080"/>
                  </a:solidFill>
                  <a:latin typeface="Univers 45 Light"/>
                </a:rPr>
                <a:t>Organizational structure</a:t>
              </a:r>
              <a:endParaRPr b="0" lang="en-US" sz="1400" spc="-1" strike="noStrike">
                <a:solidFill>
                  <a:srgbClr val="fcfeb9"/>
                </a:solidFill>
                <a:latin typeface="Times New Roman"/>
              </a:endParaRPr>
            </a:p>
            <a:p>
              <a:pPr algn="r">
                <a:lnSpc>
                  <a:spcPct val="210000"/>
                </a:lnSpc>
                <a:tabLst>
                  <a:tab algn="l" pos="0"/>
                  <a:tab algn="l" pos="687240"/>
                  <a:tab algn="l" pos="1374840"/>
                  <a:tab algn="l" pos="2062080"/>
                  <a:tab algn="l" pos="2749680"/>
                  <a:tab algn="l" pos="3436920"/>
                  <a:tab algn="l" pos="4124160"/>
                  <a:tab algn="l" pos="4811760"/>
                  <a:tab algn="l" pos="5499000"/>
                  <a:tab algn="l" pos="6186600"/>
                  <a:tab algn="l" pos="6873840"/>
                  <a:tab algn="l" pos="7561440"/>
                  <a:tab algn="l" pos="8248680"/>
                  <a:tab algn="l" pos="8935920"/>
                  <a:tab algn="l" pos="9623520"/>
                  <a:tab algn="l" pos="10310760"/>
                </a:tabLst>
              </a:pPr>
              <a:r>
                <a:rPr b="0" lang="en-US" sz="1400" spc="-1" strike="noStrike">
                  <a:solidFill>
                    <a:srgbClr val="000080"/>
                  </a:solidFill>
                  <a:latin typeface="Univers 45 Light"/>
                </a:rPr>
                <a:t>IT systems</a:t>
              </a:r>
              <a:endParaRPr b="0" lang="en-US" sz="1400" spc="-1" strike="noStrike">
                <a:solidFill>
                  <a:srgbClr val="fcfeb9"/>
                </a:solidFill>
                <a:latin typeface="Times New Roman"/>
              </a:endParaRPr>
            </a:p>
            <a:p>
              <a:pPr algn="r">
                <a:lnSpc>
                  <a:spcPct val="210000"/>
                </a:lnSpc>
                <a:tabLst>
                  <a:tab algn="l" pos="0"/>
                  <a:tab algn="l" pos="687240"/>
                  <a:tab algn="l" pos="1374840"/>
                  <a:tab algn="l" pos="2062080"/>
                  <a:tab algn="l" pos="2749680"/>
                  <a:tab algn="l" pos="3436920"/>
                  <a:tab algn="l" pos="4124160"/>
                  <a:tab algn="l" pos="4811760"/>
                  <a:tab algn="l" pos="5499000"/>
                  <a:tab algn="l" pos="6186600"/>
                  <a:tab algn="l" pos="6873840"/>
                  <a:tab algn="l" pos="7561440"/>
                  <a:tab algn="l" pos="8248680"/>
                  <a:tab algn="l" pos="8935920"/>
                  <a:tab algn="l" pos="9623520"/>
                  <a:tab algn="l" pos="10310760"/>
                </a:tabLst>
              </a:pPr>
              <a:r>
                <a:rPr b="1" lang="en-US" sz="1400" spc="-1" strike="noStrike">
                  <a:solidFill>
                    <a:srgbClr val="000080"/>
                  </a:solidFill>
                  <a:latin typeface="Univers 45 Light"/>
                </a:rPr>
                <a:t>Personnel (profile, attitude)</a:t>
              </a:r>
              <a:endParaRPr b="0" lang="en-US" sz="1400" spc="-1" strike="noStrike">
                <a:solidFill>
                  <a:srgbClr val="fcfeb9"/>
                </a:solidFill>
                <a:latin typeface="Times New Roman"/>
              </a:endParaRPr>
            </a:p>
            <a:p>
              <a:pPr algn="r">
                <a:lnSpc>
                  <a:spcPct val="210000"/>
                </a:lnSpc>
                <a:tabLst>
                  <a:tab algn="l" pos="0"/>
                  <a:tab algn="l" pos="687240"/>
                  <a:tab algn="l" pos="1374840"/>
                  <a:tab algn="l" pos="2062080"/>
                  <a:tab algn="l" pos="2749680"/>
                  <a:tab algn="l" pos="3436920"/>
                  <a:tab algn="l" pos="4124160"/>
                  <a:tab algn="l" pos="4811760"/>
                  <a:tab algn="l" pos="5499000"/>
                  <a:tab algn="l" pos="6186600"/>
                  <a:tab algn="l" pos="6873840"/>
                  <a:tab algn="l" pos="7561440"/>
                  <a:tab algn="l" pos="8248680"/>
                  <a:tab algn="l" pos="8935920"/>
                  <a:tab algn="l" pos="9623520"/>
                  <a:tab algn="l" pos="10310760"/>
                </a:tabLst>
              </a:pPr>
              <a:r>
                <a:rPr b="1" lang="en-US" sz="1400" spc="-1" strike="noStrike">
                  <a:solidFill>
                    <a:srgbClr val="000080"/>
                  </a:solidFill>
                  <a:latin typeface="Univers 45 Light"/>
                </a:rPr>
                <a:t>Culture</a:t>
              </a:r>
              <a:endParaRPr b="0" lang="en-US" sz="1400" spc="-1" strike="noStrike">
                <a:solidFill>
                  <a:srgbClr val="fcfeb9"/>
                </a:solidFill>
                <a:latin typeface="Times New Roman"/>
              </a:endParaRPr>
            </a:p>
            <a:p>
              <a:pPr algn="r">
                <a:lnSpc>
                  <a:spcPct val="210000"/>
                </a:lnSpc>
                <a:tabLst>
                  <a:tab algn="l" pos="0"/>
                  <a:tab algn="l" pos="687240"/>
                  <a:tab algn="l" pos="1374840"/>
                  <a:tab algn="l" pos="2062080"/>
                  <a:tab algn="l" pos="2749680"/>
                  <a:tab algn="l" pos="3436920"/>
                  <a:tab algn="l" pos="4124160"/>
                  <a:tab algn="l" pos="4811760"/>
                  <a:tab algn="l" pos="5499000"/>
                  <a:tab algn="l" pos="6186600"/>
                  <a:tab algn="l" pos="6873840"/>
                  <a:tab algn="l" pos="7561440"/>
                  <a:tab algn="l" pos="8248680"/>
                  <a:tab algn="l" pos="8935920"/>
                  <a:tab algn="l" pos="9623520"/>
                  <a:tab algn="l" pos="10310760"/>
                </a:tabLst>
              </a:pPr>
              <a:r>
                <a:rPr b="0" lang="en-US" sz="1400" spc="-1" strike="noStrike">
                  <a:solidFill>
                    <a:srgbClr val="000080"/>
                  </a:solidFill>
                  <a:latin typeface="Univers 45 Light"/>
                </a:rPr>
                <a:t>Management style</a:t>
              </a:r>
              <a:endParaRPr b="0" lang="en-US" sz="1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3421440" y="1866960"/>
              <a:ext cx="15044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7240"/>
                  <a:tab algn="l" pos="1374840"/>
                  <a:tab algn="l" pos="2062080"/>
                  <a:tab algn="l" pos="2749680"/>
                  <a:tab algn="l" pos="3436920"/>
                  <a:tab algn="l" pos="4124160"/>
                  <a:tab algn="l" pos="4811760"/>
                  <a:tab algn="l" pos="5499000"/>
                  <a:tab algn="l" pos="6186600"/>
                  <a:tab algn="l" pos="6873840"/>
                  <a:tab algn="l" pos="7561440"/>
                  <a:tab algn="l" pos="8248680"/>
                  <a:tab algn="l" pos="8935920"/>
                  <a:tab algn="l" pos="9623520"/>
                  <a:tab algn="l" pos="10310760"/>
                </a:tabLst>
              </a:pPr>
              <a:r>
                <a:rPr b="1" i="1" lang="en-US" sz="1800" spc="-1" strike="noStrike">
                  <a:solidFill>
                    <a:srgbClr val="000020"/>
                  </a:solidFill>
                  <a:latin typeface="Times New Roman"/>
                </a:rPr>
                <a:t>Not important</a:t>
              </a:r>
              <a:endParaRPr b="0" lang="en-US" sz="18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6131160" y="1866960"/>
              <a:ext cx="16066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7240"/>
                  <a:tab algn="l" pos="1374840"/>
                  <a:tab algn="l" pos="2062080"/>
                  <a:tab algn="l" pos="2749680"/>
                  <a:tab algn="l" pos="3436920"/>
                  <a:tab algn="l" pos="4124160"/>
                  <a:tab algn="l" pos="4811760"/>
                  <a:tab algn="l" pos="5499000"/>
                  <a:tab algn="l" pos="6186600"/>
                  <a:tab algn="l" pos="6873840"/>
                  <a:tab algn="l" pos="7561440"/>
                  <a:tab algn="l" pos="8248680"/>
                  <a:tab algn="l" pos="8935920"/>
                  <a:tab algn="l" pos="9623520"/>
                  <a:tab algn="l" pos="10310760"/>
                </a:tabLst>
              </a:pPr>
              <a:r>
                <a:rPr b="1" i="1" lang="en-US" sz="1800" spc="-1" strike="noStrike">
                  <a:solidFill>
                    <a:srgbClr val="000080"/>
                  </a:solidFill>
                  <a:latin typeface="Times New Roman"/>
                </a:rPr>
                <a:t>Very important</a:t>
              </a:r>
              <a:endParaRPr b="0" lang="en-US" sz="18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4925520" y="5245200"/>
              <a:ext cx="25812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7240"/>
                  <a:tab algn="l" pos="1374840"/>
                  <a:tab algn="l" pos="2062080"/>
                  <a:tab algn="l" pos="2749680"/>
                  <a:tab algn="l" pos="3436920"/>
                  <a:tab algn="l" pos="4124160"/>
                  <a:tab algn="l" pos="4811760"/>
                  <a:tab algn="l" pos="5499000"/>
                  <a:tab algn="l" pos="6186600"/>
                  <a:tab algn="l" pos="6873840"/>
                  <a:tab algn="l" pos="7561440"/>
                  <a:tab algn="l" pos="8248680"/>
                  <a:tab algn="l" pos="8935920"/>
                  <a:tab algn="l" pos="9623520"/>
                  <a:tab algn="l" pos="10310760"/>
                </a:tabLst>
              </a:pPr>
              <a:r>
                <a:rPr b="1" lang="en-US" sz="1300" spc="-1" strike="noStrike">
                  <a:solidFill>
                    <a:srgbClr val="000080"/>
                  </a:solidFill>
                  <a:latin typeface="Times New Roman"/>
                </a:rPr>
                <a:t>2</a:t>
              </a:r>
              <a:endParaRPr b="0" lang="en-US" sz="13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6006600" y="5245200"/>
              <a:ext cx="25812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7240"/>
                  <a:tab algn="l" pos="1374840"/>
                  <a:tab algn="l" pos="2062080"/>
                  <a:tab algn="l" pos="2749680"/>
                  <a:tab algn="l" pos="3436920"/>
                  <a:tab algn="l" pos="4124160"/>
                  <a:tab algn="l" pos="4811760"/>
                  <a:tab algn="l" pos="5499000"/>
                  <a:tab algn="l" pos="6186600"/>
                  <a:tab algn="l" pos="6873840"/>
                  <a:tab algn="l" pos="7561440"/>
                  <a:tab algn="l" pos="8248680"/>
                  <a:tab algn="l" pos="8935920"/>
                  <a:tab algn="l" pos="9623520"/>
                  <a:tab algn="l" pos="10310760"/>
                </a:tabLst>
              </a:pPr>
              <a:r>
                <a:rPr b="1" lang="en-US" sz="1300" spc="-1" strike="noStrike">
                  <a:solidFill>
                    <a:srgbClr val="000080"/>
                  </a:solidFill>
                  <a:latin typeface="Times New Roman"/>
                </a:rPr>
                <a:t>3</a:t>
              </a:r>
              <a:endParaRPr b="0" lang="en-US" sz="13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7097400" y="5246640"/>
              <a:ext cx="25812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7240"/>
                  <a:tab algn="l" pos="1374840"/>
                  <a:tab algn="l" pos="2062080"/>
                  <a:tab algn="l" pos="2749680"/>
                  <a:tab algn="l" pos="3436920"/>
                  <a:tab algn="l" pos="4124160"/>
                  <a:tab algn="l" pos="4811760"/>
                  <a:tab algn="l" pos="5499000"/>
                  <a:tab algn="l" pos="6186600"/>
                  <a:tab algn="l" pos="6873840"/>
                  <a:tab algn="l" pos="7561440"/>
                  <a:tab algn="l" pos="8248680"/>
                  <a:tab algn="l" pos="8935920"/>
                  <a:tab algn="l" pos="9623520"/>
                  <a:tab algn="l" pos="10310760"/>
                </a:tabLst>
              </a:pPr>
              <a:r>
                <a:rPr b="1" lang="en-US" sz="1300" spc="-1" strike="noStrike">
                  <a:solidFill>
                    <a:srgbClr val="000080"/>
                  </a:solidFill>
                  <a:latin typeface="Times New Roman"/>
                </a:rPr>
                <a:t>4</a:t>
              </a:r>
              <a:endParaRPr b="0" lang="en-US" sz="13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3843000" y="5245200"/>
              <a:ext cx="25812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7240"/>
                  <a:tab algn="l" pos="1374840"/>
                  <a:tab algn="l" pos="2062080"/>
                  <a:tab algn="l" pos="2749680"/>
                  <a:tab algn="l" pos="3436920"/>
                  <a:tab algn="l" pos="4124160"/>
                  <a:tab algn="l" pos="4811760"/>
                  <a:tab algn="l" pos="5499000"/>
                  <a:tab algn="l" pos="6186600"/>
                  <a:tab algn="l" pos="6873840"/>
                  <a:tab algn="l" pos="7561440"/>
                  <a:tab algn="l" pos="8248680"/>
                  <a:tab algn="l" pos="8935920"/>
                  <a:tab algn="l" pos="9623520"/>
                  <a:tab algn="l" pos="10310760"/>
                </a:tabLst>
              </a:pPr>
              <a:r>
                <a:rPr b="1" lang="en-US" sz="1300" spc="-1" strike="noStrike">
                  <a:solidFill>
                    <a:srgbClr val="000080"/>
                  </a:solidFill>
                  <a:latin typeface="Times New Roman"/>
                </a:rPr>
                <a:t>1</a:t>
              </a:r>
              <a:endParaRPr b="0" lang="en-US" sz="13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3421080" y="2997360"/>
              <a:ext cx="2363760" cy="234720"/>
            </a:xfrm>
            <a:prstGeom prst="rect">
              <a:avLst/>
            </a:prstGeom>
            <a:gradFill rotWithShape="0">
              <a:gsLst>
                <a:gs pos="0">
                  <a:srgbClr val="00cece"/>
                </a:gs>
                <a:gs pos="100000">
                  <a:srgbClr val="0000ff"/>
                </a:gs>
              </a:gsLst>
              <a:lin ang="10800000"/>
            </a:gradFill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421080" y="3454560"/>
              <a:ext cx="2719440" cy="234720"/>
            </a:xfrm>
            <a:prstGeom prst="rect">
              <a:avLst/>
            </a:prstGeom>
            <a:gradFill rotWithShape="0">
              <a:gsLst>
                <a:gs pos="0">
                  <a:srgbClr val="00cece"/>
                </a:gs>
                <a:gs pos="100000">
                  <a:srgbClr val="0000ff"/>
                </a:gs>
              </a:gsLst>
              <a:lin ang="10800000"/>
            </a:gradFill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3421080" y="3911760"/>
              <a:ext cx="3151080" cy="234720"/>
            </a:xfrm>
            <a:prstGeom prst="rect">
              <a:avLst/>
            </a:prstGeom>
            <a:gradFill rotWithShape="0">
              <a:gsLst>
                <a:gs pos="0">
                  <a:srgbClr val="00cece"/>
                </a:gs>
                <a:gs pos="100000">
                  <a:srgbClr val="0000ff"/>
                </a:gs>
              </a:gsLst>
              <a:lin ang="10800000"/>
            </a:gradFill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3421080" y="4368960"/>
              <a:ext cx="3316320" cy="234720"/>
            </a:xfrm>
            <a:prstGeom prst="rect">
              <a:avLst/>
            </a:prstGeom>
            <a:gradFill rotWithShape="0">
              <a:gsLst>
                <a:gs pos="0">
                  <a:srgbClr val="00cece"/>
                </a:gs>
                <a:gs pos="100000">
                  <a:srgbClr val="0000ff"/>
                </a:gs>
              </a:gsLst>
              <a:lin ang="10800000"/>
            </a:gradFill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3421080" y="4826160"/>
              <a:ext cx="2897280" cy="234720"/>
            </a:xfrm>
            <a:prstGeom prst="rect">
              <a:avLst/>
            </a:prstGeom>
            <a:gradFill rotWithShape="0">
              <a:gsLst>
                <a:gs pos="0">
                  <a:srgbClr val="00cece"/>
                </a:gs>
                <a:gs pos="100000">
                  <a:srgbClr val="0000ff"/>
                </a:gs>
              </a:gsLst>
              <a:lin ang="10800000"/>
            </a:gradFill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3421080" y="2558880"/>
              <a:ext cx="3544920" cy="216000"/>
            </a:xfrm>
            <a:prstGeom prst="rect">
              <a:avLst/>
            </a:prstGeom>
            <a:gradFill rotWithShape="0">
              <a:gsLst>
                <a:gs pos="0">
                  <a:srgbClr val="00cece"/>
                </a:gs>
                <a:gs pos="100000">
                  <a:srgbClr val="0000ff"/>
                </a:gs>
              </a:gsLst>
              <a:lin ang="10800000"/>
            </a:gradFill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3957480" y="2460600"/>
              <a:ext cx="0" cy="272088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5043600" y="2460600"/>
              <a:ext cx="0" cy="272088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6129360" y="2460600"/>
              <a:ext cx="0" cy="272088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7215120" y="2460600"/>
              <a:ext cx="0" cy="272088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3414600" y="3338640"/>
              <a:ext cx="4343400" cy="0"/>
            </a:xfrm>
            <a:prstGeom prst="line">
              <a:avLst/>
            </a:prstGeom>
            <a:ln w="12600">
              <a:solidFill>
                <a:srgbClr val="000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3414600" y="3852720"/>
              <a:ext cx="4343400" cy="0"/>
            </a:xfrm>
            <a:prstGeom prst="line">
              <a:avLst/>
            </a:prstGeom>
            <a:ln w="12600">
              <a:solidFill>
                <a:srgbClr val="000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3414600" y="4272120"/>
              <a:ext cx="4343400" cy="0"/>
            </a:xfrm>
            <a:prstGeom prst="line">
              <a:avLst/>
            </a:prstGeom>
            <a:ln w="12600">
              <a:solidFill>
                <a:srgbClr val="000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3414600" y="4710240"/>
              <a:ext cx="4343400" cy="0"/>
            </a:xfrm>
            <a:prstGeom prst="line">
              <a:avLst/>
            </a:prstGeom>
            <a:ln w="12600">
              <a:solidFill>
                <a:srgbClr val="000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4500720" y="2462040"/>
              <a:ext cx="0" cy="2718000"/>
            </a:xfrm>
            <a:prstGeom prst="line">
              <a:avLst/>
            </a:prstGeom>
            <a:ln w="12600">
              <a:solidFill>
                <a:srgbClr val="00002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5586480" y="2462040"/>
              <a:ext cx="0" cy="2718000"/>
            </a:xfrm>
            <a:prstGeom prst="line">
              <a:avLst/>
            </a:prstGeom>
            <a:ln w="12600">
              <a:solidFill>
                <a:srgbClr val="000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6672240" y="2462040"/>
              <a:ext cx="0" cy="2718000"/>
            </a:xfrm>
            <a:prstGeom prst="line">
              <a:avLst/>
            </a:prstGeom>
            <a:ln w="12600">
              <a:solidFill>
                <a:srgbClr val="000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3414600" y="2900520"/>
              <a:ext cx="4343400" cy="0"/>
            </a:xfrm>
            <a:prstGeom prst="line">
              <a:avLst/>
            </a:prstGeom>
            <a:ln w="12600">
              <a:solidFill>
                <a:srgbClr val="000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</p:grpSp>
      <p:sp>
        <p:nvSpPr>
          <p:cNvPr id="509" name=""/>
          <p:cNvSpPr/>
          <p:nvPr/>
        </p:nvSpPr>
        <p:spPr>
          <a:xfrm>
            <a:off x="4040640" y="6524640"/>
            <a:ext cx="135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000c0"/>
                </a:solidFill>
                <a:uFillTx/>
                <a:latin typeface="Times New Roman"/>
                <a:hlinkClick r:id="rId1"/>
              </a:rPr>
              <a:t>[</a:t>
            </a:r>
            <a:r>
              <a:rPr b="0" lang="en-US" sz="1600" spc="-1" strike="noStrike" u="sng">
                <a:solidFill>
                  <a:srgbClr val="c000c0"/>
                </a:solidFill>
                <a:uFillTx/>
                <a:latin typeface="Times New Roman"/>
                <a:hlinkClick r:id="rId2"/>
              </a:rPr>
              <a:t>KPMG</a:t>
            </a:r>
            <a:r>
              <a:rPr b="0" lang="en-US" sz="1600" spc="-1" strike="noStrike" u="sng">
                <a:solidFill>
                  <a:srgbClr val="c000c0"/>
                </a:solidFill>
                <a:uFillTx/>
                <a:latin typeface="Times New Roman"/>
                <a:hlinkClick r:id="rId3"/>
              </a:rPr>
              <a:t> 1999]</a:t>
            </a:r>
            <a:endParaRPr b="0" lang="en-US" sz="16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228240" y="5638320"/>
            <a:ext cx="883908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262800" indent="-262800">
              <a:spcBef>
                <a:spcPts val="601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Knowledge management must be vision-based and respect soft values.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KM Initiatives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476280" y="1306440"/>
            <a:ext cx="8172360" cy="4541760"/>
          </a:xfrm>
          <a:prstGeom prst="rect">
            <a:avLst/>
          </a:prstGeom>
          <a:solidFill>
            <a:srgbClr val="feff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1141560" y="1957320"/>
            <a:ext cx="3482280" cy="3473640"/>
            <a:chOff x="1141560" y="1957320"/>
            <a:chExt cx="3482280" cy="3473640"/>
          </a:xfrm>
        </p:grpSpPr>
        <p:sp>
          <p:nvSpPr>
            <p:cNvPr id="514" name=""/>
            <p:cNvSpPr/>
            <p:nvPr/>
          </p:nvSpPr>
          <p:spPr>
            <a:xfrm>
              <a:off x="1146600" y="1959120"/>
              <a:ext cx="3475800" cy="3470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692" y="1"/>
                  </a:moveTo>
                  <a:arcTo wR="10800" hR="10800" stAng="-5434533" swAng="7830388"/>
                  <a:lnTo>
                    <a:pt x="10800" y="10800"/>
                  </a:lnTo>
                  <a:close/>
                </a:path>
                <a:path fill="none" w="21600" h="21600">
                  <a:moveTo>
                    <a:pt x="10692" y="1"/>
                  </a:moveTo>
                  <a:arcTo wR="10800" hR="10800" stAng="-5434533" swAng="7830388"/>
                </a:path>
              </a:pathLst>
            </a:custGeom>
            <a:solidFill>
              <a:srgbClr val="e62a05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1144080" y="1960560"/>
              <a:ext cx="3479040" cy="3470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20" y="17563"/>
                  </a:moveTo>
                  <a:arcTo wR="10800" hR="10800" stAng="2326150" swAng="7036429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20" y="17563"/>
                  </a:moveTo>
                  <a:arcTo wR="10800" hR="10800" stAng="2326150" swAng="7036429"/>
                </a:path>
              </a:pathLst>
            </a:custGeom>
            <a:solidFill>
              <a:srgbClr val="eeaf36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1141560" y="1957320"/>
              <a:ext cx="3482280" cy="3473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28" y="15180"/>
                  </a:moveTo>
                  <a:arcTo wR="10800" hR="10800" stAng="9364435" swAng="6797944"/>
                  <a:lnTo>
                    <a:pt x="10800" y="10800"/>
                  </a:lnTo>
                  <a:close/>
                </a:path>
                <a:path fill="none" w="21600" h="21600">
                  <a:moveTo>
                    <a:pt x="928" y="15180"/>
                  </a:moveTo>
                  <a:arcTo wR="10800" hR="10800" stAng="9364435" swAng="6797944"/>
                </a:path>
              </a:pathLst>
            </a:custGeom>
            <a:solidFill>
              <a:srgbClr val="30c200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3281400" y="2863800"/>
              <a:ext cx="934920" cy="4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1240" rIns="111240" tIns="55440" bIns="55440" anchor="t">
              <a:spAutoFit/>
            </a:bodyPr>
            <a:p>
              <a:pPr>
                <a:lnSpc>
                  <a:spcPct val="85000"/>
                </a:lnSpc>
                <a:spcBef>
                  <a:spcPts val="1749"/>
                </a:spcBef>
                <a:tabLst>
                  <a:tab algn="l" pos="0"/>
                  <a:tab algn="l" pos="1316160"/>
                  <a:tab algn="l" pos="2631960"/>
                  <a:tab algn="l" pos="3948120"/>
                  <a:tab algn="l" pos="5264280"/>
                  <a:tab algn="l" pos="6580080"/>
                  <a:tab algn="l" pos="7896240"/>
                  <a:tab algn="l" pos="9212400"/>
                  <a:tab algn="l" pos="10528200"/>
                </a:tabLst>
              </a:pPr>
              <a:r>
                <a:rPr b="1" lang="en-US" sz="2800" spc="-1" strike="noStrike">
                  <a:solidFill>
                    <a:srgbClr val="fcfeb9"/>
                  </a:solidFill>
                  <a:latin typeface="Arial"/>
                </a:rPr>
                <a:t>36%</a:t>
              </a:r>
              <a:endParaRPr b="0" lang="en-US" sz="28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2352600" y="4433760"/>
              <a:ext cx="934920" cy="4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1240" rIns="111240" tIns="55440" bIns="55440" anchor="t">
              <a:spAutoFit/>
            </a:bodyPr>
            <a:p>
              <a:pPr>
                <a:lnSpc>
                  <a:spcPct val="85000"/>
                </a:lnSpc>
                <a:spcBef>
                  <a:spcPts val="1749"/>
                </a:spcBef>
                <a:tabLst>
                  <a:tab algn="l" pos="0"/>
                  <a:tab algn="l" pos="1316160"/>
                  <a:tab algn="l" pos="2631960"/>
                  <a:tab algn="l" pos="3948120"/>
                  <a:tab algn="l" pos="5264280"/>
                  <a:tab algn="l" pos="6580080"/>
                  <a:tab algn="l" pos="7896240"/>
                  <a:tab algn="l" pos="9212400"/>
                  <a:tab algn="l" pos="10528200"/>
                </a:tabLst>
              </a:pPr>
              <a:r>
                <a:rPr b="1" lang="en-US" sz="2800" spc="-1" strike="noStrike">
                  <a:solidFill>
                    <a:srgbClr val="fcfeb9"/>
                  </a:solidFill>
                  <a:latin typeface="Arial"/>
                </a:rPr>
                <a:t>32%</a:t>
              </a:r>
              <a:endParaRPr b="0" lang="en-US" sz="28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589040" y="2863800"/>
              <a:ext cx="934920" cy="4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1240" rIns="111240" tIns="55440" bIns="55440" anchor="t">
              <a:spAutoFit/>
            </a:bodyPr>
            <a:p>
              <a:pPr>
                <a:lnSpc>
                  <a:spcPct val="85000"/>
                </a:lnSpc>
                <a:spcBef>
                  <a:spcPts val="1749"/>
                </a:spcBef>
                <a:tabLst>
                  <a:tab algn="l" pos="0"/>
                  <a:tab algn="l" pos="1316160"/>
                  <a:tab algn="l" pos="2631960"/>
                  <a:tab algn="l" pos="3948120"/>
                  <a:tab algn="l" pos="5264280"/>
                  <a:tab algn="l" pos="6580080"/>
                  <a:tab algn="l" pos="7896240"/>
                  <a:tab algn="l" pos="9212400"/>
                  <a:tab algn="l" pos="10528200"/>
                </a:tabLst>
              </a:pPr>
              <a:r>
                <a:rPr b="1" lang="en-US" sz="2800" spc="-1" strike="noStrike">
                  <a:solidFill>
                    <a:srgbClr val="fcfeb9"/>
                  </a:solidFill>
                  <a:latin typeface="Arial"/>
                </a:rPr>
                <a:t>32%</a:t>
              </a:r>
              <a:endParaRPr b="0" lang="en-US" sz="28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</p:grpSp>
      <p:sp>
        <p:nvSpPr>
          <p:cNvPr id="520" name=""/>
          <p:cNvSpPr/>
          <p:nvPr/>
        </p:nvSpPr>
        <p:spPr>
          <a:xfrm>
            <a:off x="5534280" y="3035160"/>
            <a:ext cx="2802600" cy="13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e62a05"/>
              </a:buClr>
              <a:buSzPct val="12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ither in place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r preparing</a:t>
            </a:r>
            <a:endParaRPr b="0" lang="en-US" sz="1800" spc="-1" strike="noStrike">
              <a:solidFill>
                <a:srgbClr val="fcfeb9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eeaf36"/>
              </a:buClr>
              <a:buSzPct val="12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paring/Investigating</a:t>
            </a:r>
            <a:endParaRPr b="0" lang="en-US" sz="1800" spc="-1" strike="noStrike">
              <a:solidFill>
                <a:srgbClr val="fcfeb9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30c200"/>
              </a:buClr>
              <a:buSzPct val="12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place</a:t>
            </a:r>
            <a:endParaRPr b="0" lang="en-US" sz="18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040640" y="6524640"/>
            <a:ext cx="135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000c0"/>
                </a:solidFill>
                <a:uFillTx/>
                <a:latin typeface="Times New Roman"/>
                <a:hlinkClick r:id="rId1"/>
              </a:rPr>
              <a:t>[</a:t>
            </a:r>
            <a:r>
              <a:rPr b="0" lang="en-US" sz="1600" spc="-1" strike="noStrike" u="sng">
                <a:solidFill>
                  <a:srgbClr val="c000c0"/>
                </a:solidFill>
                <a:uFillTx/>
                <a:latin typeface="Times New Roman"/>
                <a:hlinkClick r:id="rId2"/>
              </a:rPr>
              <a:t>KPMG</a:t>
            </a:r>
            <a:r>
              <a:rPr b="0" lang="en-US" sz="1600" spc="-1" strike="noStrike" u="sng">
                <a:solidFill>
                  <a:srgbClr val="c000c0"/>
                </a:solidFill>
                <a:uFillTx/>
                <a:latin typeface="Times New Roman"/>
                <a:hlinkClick r:id="rId3"/>
              </a:rPr>
              <a:t> 1999]</a:t>
            </a:r>
            <a:endParaRPr b="0" lang="en-US" sz="16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10480" cy="80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KM Implementation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57200" y="838080"/>
            <a:ext cx="8172360" cy="4267080"/>
            <a:chOff x="457200" y="838080"/>
            <a:chExt cx="8172360" cy="4267080"/>
          </a:xfrm>
        </p:grpSpPr>
        <p:sp>
          <p:nvSpPr>
            <p:cNvPr id="524" name=""/>
            <p:cNvSpPr/>
            <p:nvPr/>
          </p:nvSpPr>
          <p:spPr>
            <a:xfrm>
              <a:off x="457200" y="838080"/>
              <a:ext cx="8172360" cy="4267080"/>
            </a:xfrm>
            <a:prstGeom prst="rect">
              <a:avLst/>
            </a:prstGeom>
            <a:solidFill>
              <a:srgbClr val="feff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grpSp>
          <p:nvGrpSpPr>
            <p:cNvPr id="525" name=""/>
            <p:cNvGrpSpPr/>
            <p:nvPr/>
          </p:nvGrpSpPr>
          <p:grpSpPr>
            <a:xfrm>
              <a:off x="497160" y="990360"/>
              <a:ext cx="4381200" cy="3896280"/>
              <a:chOff x="497160" y="990360"/>
              <a:chExt cx="4381200" cy="3896280"/>
            </a:xfrm>
          </p:grpSpPr>
          <p:sp>
            <p:nvSpPr>
              <p:cNvPr id="526" name=""/>
              <p:cNvSpPr/>
              <p:nvPr/>
            </p:nvSpPr>
            <p:spPr>
              <a:xfrm>
                <a:off x="903240" y="990360"/>
                <a:ext cx="3975120" cy="3503520"/>
              </a:xfrm>
              <a:custGeom>
                <a:avLst/>
                <a:gdLst/>
                <a:ahLst/>
                <a:rect l="l" t="t" r="r" b="b"/>
                <a:pathLst>
                  <a:path w="2504" h="2207">
                    <a:moveTo>
                      <a:pt x="0" y="0"/>
                    </a:moveTo>
                    <a:lnTo>
                      <a:pt x="0" y="2206"/>
                    </a:lnTo>
                    <a:lnTo>
                      <a:pt x="2503" y="2206"/>
                    </a:lnTo>
                  </a:path>
                </a:pathLst>
              </a:custGeom>
              <a:noFill/>
              <a:ln cap="rnd" w="50760">
                <a:solidFill>
                  <a:srgbClr val="00cece"/>
                </a:solidFill>
                <a:round/>
                <a:headEnd len="lg" type="stealth" w="med"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933480" y="4587480"/>
                <a:ext cx="3713040" cy="299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85000"/>
                  </a:lnSpc>
                  <a:spcBef>
                    <a:spcPts val="1001"/>
                  </a:spcBef>
                  <a:tabLst>
                    <a:tab algn="l" pos="0"/>
                    <a:tab algn="ctr" pos="476280"/>
                    <a:tab algn="ctr" pos="1714680"/>
                    <a:tab algn="ctr" pos="295272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20"/>
                    </a:solidFill>
                    <a:latin typeface="Arial"/>
                  </a:rPr>
                  <a:t>	</a:t>
                </a:r>
                <a:r>
                  <a:rPr b="1" lang="en-US" sz="1600" spc="-1" strike="noStrike">
                    <a:solidFill>
                      <a:srgbClr val="000020"/>
                    </a:solidFill>
                    <a:latin typeface="Arial"/>
                  </a:rPr>
                  <a:t>1995</a:t>
                </a:r>
                <a:r>
                  <a:rPr b="1" lang="en-US" sz="1600" spc="-1" strike="noStrike">
                    <a:solidFill>
                      <a:srgbClr val="000020"/>
                    </a:solidFill>
                    <a:latin typeface="Arial"/>
                  </a:rPr>
                  <a:t>	</a:t>
                </a:r>
                <a:r>
                  <a:rPr b="1" lang="en-US" sz="1600" spc="-1" strike="noStrike">
                    <a:solidFill>
                      <a:srgbClr val="000020"/>
                    </a:solidFill>
                    <a:latin typeface="Arial"/>
                  </a:rPr>
                  <a:t>1995-1998</a:t>
                </a:r>
                <a:r>
                  <a:rPr b="1" lang="en-US" sz="1600" spc="-1" strike="noStrike">
                    <a:solidFill>
                      <a:srgbClr val="000020"/>
                    </a:solidFill>
                    <a:latin typeface="Arial"/>
                  </a:rPr>
                  <a:t>	</a:t>
                </a:r>
                <a:r>
                  <a:rPr b="1" lang="en-US" sz="1600" spc="-1" strike="noStrike">
                    <a:solidFill>
                      <a:srgbClr val="000020"/>
                    </a:solidFill>
                    <a:latin typeface="Arial"/>
                  </a:rPr>
                  <a:t>1998</a:t>
                </a:r>
                <a:endParaRPr b="0" lang="en-US" sz="16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1052640" y="3765240"/>
                <a:ext cx="939600" cy="714240"/>
              </a:xfrm>
              <a:prstGeom prst="rect">
                <a:avLst/>
              </a:prstGeom>
              <a:gradFill rotWithShape="0">
                <a:gsLst>
                  <a:gs pos="0">
                    <a:srgbClr val="66ff33"/>
                  </a:gs>
                  <a:gs pos="100000">
                    <a:srgbClr val="46b123"/>
                  </a:gs>
                </a:gsLst>
                <a:lin ang="5400000"/>
              </a:gradFill>
              <a:ln w="25560">
                <a:solidFill>
                  <a:srgbClr val="00cec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3502080" y="3419280"/>
                <a:ext cx="939600" cy="1060200"/>
              </a:xfrm>
              <a:prstGeom prst="rect">
                <a:avLst/>
              </a:prstGeom>
              <a:gradFill rotWithShape="0">
                <a:gsLst>
                  <a:gs pos="0">
                    <a:srgbClr val="66ff33"/>
                  </a:gs>
                  <a:gs pos="100000">
                    <a:srgbClr val="46b123"/>
                  </a:gs>
                </a:gsLst>
                <a:lin ang="5400000"/>
              </a:gradFill>
              <a:ln w="25560">
                <a:solidFill>
                  <a:srgbClr val="00cec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2286000" y="2104560"/>
                <a:ext cx="939960" cy="2374920"/>
              </a:xfrm>
              <a:prstGeom prst="rect">
                <a:avLst/>
              </a:prstGeom>
              <a:gradFill rotWithShape="0">
                <a:gsLst>
                  <a:gs pos="0">
                    <a:srgbClr val="66ff33"/>
                  </a:gs>
                  <a:gs pos="100000">
                    <a:srgbClr val="46b123"/>
                  </a:gs>
                </a:gsLst>
                <a:lin ang="5400000"/>
              </a:gradFill>
              <a:ln w="25560">
                <a:solidFill>
                  <a:srgbClr val="00cec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497160" y="1265040"/>
                <a:ext cx="533880" cy="341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25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20"/>
                    </a:solidFill>
                    <a:latin typeface="Arial"/>
                  </a:rPr>
                  <a:t>70 -</a:t>
                </a:r>
                <a:endParaRPr b="0" lang="en-US" sz="1600" spc="-1" strike="noStrike">
                  <a:solidFill>
                    <a:srgbClr val="fcfeb9"/>
                  </a:solidFill>
                  <a:latin typeface="Times New Roman"/>
                </a:endParaRPr>
              </a:p>
              <a:p>
                <a:pPr algn="ctr">
                  <a:lnSpc>
                    <a:spcPct val="125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20"/>
                    </a:solidFill>
                    <a:latin typeface="Arial"/>
                  </a:rPr>
                  <a:t>60 -</a:t>
                </a:r>
                <a:endParaRPr b="0" lang="en-US" sz="1600" spc="-1" strike="noStrike">
                  <a:solidFill>
                    <a:srgbClr val="fcfeb9"/>
                  </a:solidFill>
                  <a:latin typeface="Times New Roman"/>
                </a:endParaRPr>
              </a:p>
              <a:p>
                <a:pPr algn="ctr">
                  <a:lnSpc>
                    <a:spcPct val="125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20"/>
                    </a:solidFill>
                    <a:latin typeface="Arial"/>
                  </a:rPr>
                  <a:t>50 -</a:t>
                </a:r>
                <a:endParaRPr b="0" lang="en-US" sz="1600" spc="-1" strike="noStrike">
                  <a:solidFill>
                    <a:srgbClr val="fcfeb9"/>
                  </a:solidFill>
                  <a:latin typeface="Times New Roman"/>
                </a:endParaRPr>
              </a:p>
              <a:p>
                <a:pPr algn="ctr">
                  <a:lnSpc>
                    <a:spcPct val="125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20"/>
                    </a:solidFill>
                    <a:latin typeface="Arial"/>
                  </a:rPr>
                  <a:t>40 -</a:t>
                </a:r>
                <a:endParaRPr b="0" lang="en-US" sz="1600" spc="-1" strike="noStrike">
                  <a:solidFill>
                    <a:srgbClr val="fcfeb9"/>
                  </a:solidFill>
                  <a:latin typeface="Times New Roman"/>
                </a:endParaRPr>
              </a:p>
              <a:p>
                <a:pPr algn="ctr">
                  <a:lnSpc>
                    <a:spcPct val="125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20"/>
                    </a:solidFill>
                    <a:latin typeface="Arial"/>
                  </a:rPr>
                  <a:t>30 -</a:t>
                </a:r>
                <a:endParaRPr b="0" lang="en-US" sz="1600" spc="-1" strike="noStrike">
                  <a:solidFill>
                    <a:srgbClr val="fcfeb9"/>
                  </a:solidFill>
                  <a:latin typeface="Times New Roman"/>
                </a:endParaRPr>
              </a:p>
              <a:p>
                <a:pPr algn="ctr">
                  <a:lnSpc>
                    <a:spcPct val="125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20"/>
                    </a:solidFill>
                    <a:latin typeface="Arial"/>
                  </a:rPr>
                  <a:t>20 -</a:t>
                </a:r>
                <a:endParaRPr b="0" lang="en-US" sz="1600" spc="-1" strike="noStrike">
                  <a:solidFill>
                    <a:srgbClr val="fcfeb9"/>
                  </a:solidFill>
                  <a:latin typeface="Times New Roman"/>
                </a:endParaRPr>
              </a:p>
              <a:p>
                <a:pPr algn="ctr">
                  <a:lnSpc>
                    <a:spcPct val="125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20"/>
                    </a:solidFill>
                    <a:latin typeface="Arial"/>
                  </a:rPr>
                  <a:t>10 -</a:t>
                </a:r>
                <a:endParaRPr b="0" lang="en-US" sz="1600" spc="-1" strike="noStrike">
                  <a:solidFill>
                    <a:srgbClr val="fcfeb9"/>
                  </a:solidFill>
                  <a:latin typeface="Times New Roman"/>
                </a:endParaRPr>
              </a:p>
              <a:p>
                <a:pPr algn="ctr">
                  <a:lnSpc>
                    <a:spcPct val="125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20"/>
                    </a:solidFill>
                    <a:latin typeface="Arial"/>
                  </a:rPr>
                  <a:t>0 -</a:t>
                </a:r>
                <a:endParaRPr b="0" lang="en-US" sz="16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</p:grpSp>
        <p:grpSp>
          <p:nvGrpSpPr>
            <p:cNvPr id="532" name=""/>
            <p:cNvGrpSpPr/>
            <p:nvPr/>
          </p:nvGrpSpPr>
          <p:grpSpPr>
            <a:xfrm>
              <a:off x="5403960" y="996840"/>
              <a:ext cx="2899800" cy="4001400"/>
              <a:chOff x="5403960" y="996840"/>
              <a:chExt cx="2899800" cy="4001400"/>
            </a:xfrm>
          </p:grpSpPr>
          <p:sp>
            <p:nvSpPr>
              <p:cNvPr id="533" name=""/>
              <p:cNvSpPr/>
              <p:nvPr/>
            </p:nvSpPr>
            <p:spPr>
              <a:xfrm>
                <a:off x="5405760" y="997920"/>
                <a:ext cx="2894760" cy="2892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55" y="9816"/>
                    </a:moveTo>
                    <a:arcTo wR="10800" hR="10800" stAng="-313543" swAng="355057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55" y="9816"/>
                    </a:moveTo>
                    <a:arcTo wR="10800" hR="10800" stAng="-313543" swAng="3550577"/>
                  </a:path>
                </a:pathLst>
              </a:custGeom>
              <a:solidFill>
                <a:srgbClr val="e62a05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5408280" y="998640"/>
                <a:ext cx="2895480" cy="2891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7409" y="19342"/>
                    </a:moveTo>
                    <a:arcTo wR="10800" hR="10800" stAng="3136197" swAng="622778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7409" y="19342"/>
                    </a:moveTo>
                    <a:arcTo wR="10800" hR="10800" stAng="3136197" swAng="6227780"/>
                  </a:path>
                </a:pathLst>
              </a:custGeom>
              <a:solidFill>
                <a:srgbClr val="eeaf36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5403960" y="996840"/>
                <a:ext cx="2898360" cy="289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929" y="15181"/>
                    </a:moveTo>
                    <a:arcTo wR="10800" hR="10800" stAng="9363977" swAng="1219071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929" y="15181"/>
                    </a:moveTo>
                    <a:arcTo wR="10800" hR="10800" stAng="9363977" swAng="12190718"/>
                  </a:path>
                </a:pathLst>
              </a:custGeom>
              <a:solidFill>
                <a:srgbClr val="30c200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7219800" y="2560320"/>
                <a:ext cx="912600" cy="46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0080" rIns="100080" tIns="50760" bIns="50760" anchor="t">
                <a:spAutoFit/>
              </a:bodyPr>
              <a:p>
                <a:pPr>
                  <a:lnSpc>
                    <a:spcPct val="85000"/>
                  </a:lnSpc>
                  <a:spcBef>
                    <a:spcPts val="1749"/>
                  </a:spcBef>
                  <a:tabLst>
                    <a:tab algn="l" pos="0"/>
                    <a:tab algn="l" pos="1065240"/>
                    <a:tab algn="l" pos="2130480"/>
                    <a:tab algn="l" pos="3195720"/>
                    <a:tab algn="l" pos="4260960"/>
                    <a:tab algn="l" pos="5326200"/>
                    <a:tab algn="l" pos="6391440"/>
                    <a:tab algn="l" pos="7456320"/>
                    <a:tab algn="l" pos="8521560"/>
                    <a:tab algn="l" pos="9586800"/>
                    <a:tab algn="l" pos="10652040"/>
                  </a:tabLst>
                </a:pPr>
                <a:r>
                  <a:rPr b="1" lang="en-US" sz="2800" spc="-1" strike="noStrike">
                    <a:solidFill>
                      <a:srgbClr val="000020"/>
                    </a:solidFill>
                    <a:latin typeface="Arial"/>
                  </a:rPr>
                  <a:t>12%</a:t>
                </a:r>
                <a:endParaRPr b="0" lang="en-US" sz="28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6210360" y="3012840"/>
                <a:ext cx="912600" cy="46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0080" rIns="100080" tIns="50760" bIns="50760" anchor="t">
                <a:spAutoFit/>
              </a:bodyPr>
              <a:p>
                <a:pPr>
                  <a:lnSpc>
                    <a:spcPct val="85000"/>
                  </a:lnSpc>
                  <a:spcBef>
                    <a:spcPts val="1749"/>
                  </a:spcBef>
                  <a:tabLst>
                    <a:tab algn="l" pos="0"/>
                    <a:tab algn="l" pos="1065240"/>
                    <a:tab algn="l" pos="2130480"/>
                    <a:tab algn="l" pos="3195720"/>
                    <a:tab algn="l" pos="4260960"/>
                    <a:tab algn="l" pos="5326200"/>
                    <a:tab algn="l" pos="6391440"/>
                    <a:tab algn="l" pos="7456320"/>
                    <a:tab algn="l" pos="8521560"/>
                    <a:tab algn="l" pos="9586800"/>
                    <a:tab algn="l" pos="10652040"/>
                  </a:tabLst>
                </a:pPr>
                <a:r>
                  <a:rPr b="1" lang="en-US" sz="2800" spc="-1" strike="noStrike">
                    <a:solidFill>
                      <a:srgbClr val="000020"/>
                    </a:solidFill>
                    <a:latin typeface="Arial"/>
                  </a:rPr>
                  <a:t>25%</a:t>
                </a:r>
                <a:endParaRPr b="0" lang="en-US" sz="28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6283440" y="1504800"/>
                <a:ext cx="912600" cy="46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0080" rIns="100080" tIns="50760" bIns="50760" anchor="t">
                <a:spAutoFit/>
              </a:bodyPr>
              <a:p>
                <a:pPr>
                  <a:lnSpc>
                    <a:spcPct val="85000"/>
                  </a:lnSpc>
                  <a:spcBef>
                    <a:spcPts val="1749"/>
                  </a:spcBef>
                  <a:tabLst>
                    <a:tab algn="l" pos="0"/>
                    <a:tab algn="l" pos="1065240"/>
                    <a:tab algn="l" pos="2130480"/>
                    <a:tab algn="l" pos="3195720"/>
                    <a:tab algn="l" pos="4260960"/>
                    <a:tab algn="l" pos="5326200"/>
                    <a:tab algn="l" pos="6391440"/>
                    <a:tab algn="l" pos="7456320"/>
                    <a:tab algn="l" pos="8521560"/>
                    <a:tab algn="l" pos="9586800"/>
                    <a:tab algn="l" pos="10652040"/>
                  </a:tabLst>
                </a:pPr>
                <a:r>
                  <a:rPr b="1" lang="en-US" sz="2800" spc="-1" strike="noStrike">
                    <a:solidFill>
                      <a:srgbClr val="000020"/>
                    </a:solidFill>
                    <a:latin typeface="Arial"/>
                  </a:rPr>
                  <a:t>63%</a:t>
                </a:r>
                <a:endParaRPr b="0" lang="en-US" sz="28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5913360" y="4103280"/>
                <a:ext cx="2119680" cy="894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marL="285840" indent="-285840">
                  <a:lnSpc>
                    <a:spcPct val="110000"/>
                  </a:lnSpc>
                  <a:buClr>
                    <a:srgbClr val="66ff33"/>
                  </a:buClr>
                  <a:buSzPct val="120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20"/>
                    </a:solidFill>
                    <a:latin typeface="Univers 45 Light"/>
                  </a:rPr>
                  <a:t>Company level </a:t>
                </a:r>
                <a:endParaRPr b="0" lang="en-US" sz="1600" spc="-1" strike="noStrike">
                  <a:solidFill>
                    <a:srgbClr val="fcfeb9"/>
                  </a:solidFill>
                  <a:latin typeface="Times New Roman"/>
                </a:endParaRPr>
              </a:p>
              <a:p>
                <a:pPr marL="285840" indent="-285840">
                  <a:lnSpc>
                    <a:spcPct val="110000"/>
                  </a:lnSpc>
                  <a:buClr>
                    <a:srgbClr val="eeaf36"/>
                  </a:buClr>
                  <a:buSzPct val="120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20"/>
                    </a:solidFill>
                    <a:latin typeface="Univers 45 Light"/>
                  </a:rPr>
                  <a:t>Division/BU level </a:t>
                </a:r>
                <a:endParaRPr b="0" lang="en-US" sz="1600" spc="-1" strike="noStrike">
                  <a:solidFill>
                    <a:srgbClr val="fcfeb9"/>
                  </a:solidFill>
                  <a:latin typeface="Times New Roman"/>
                </a:endParaRPr>
              </a:p>
              <a:p>
                <a:pPr marL="285840" indent="-285840">
                  <a:lnSpc>
                    <a:spcPct val="110000"/>
                  </a:lnSpc>
                  <a:buClr>
                    <a:srgbClr val="e62a05"/>
                  </a:buClr>
                  <a:buSzPct val="120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20"/>
                    </a:solidFill>
                    <a:latin typeface="Univers 45 Light"/>
                  </a:rPr>
                  <a:t>Department level</a:t>
                </a:r>
                <a:endParaRPr b="0" lang="en-US" sz="16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40" name=""/>
          <p:cNvSpPr/>
          <p:nvPr/>
        </p:nvSpPr>
        <p:spPr>
          <a:xfrm>
            <a:off x="4040640" y="6524640"/>
            <a:ext cx="135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000c0"/>
                </a:solidFill>
                <a:uFillTx/>
                <a:latin typeface="Times New Roman"/>
                <a:hlinkClick r:id="rId1"/>
              </a:rPr>
              <a:t>[</a:t>
            </a:r>
            <a:r>
              <a:rPr b="0" lang="en-US" sz="1600" spc="-1" strike="noStrike" u="sng">
                <a:solidFill>
                  <a:srgbClr val="c000c0"/>
                </a:solidFill>
                <a:uFillTx/>
                <a:latin typeface="Times New Roman"/>
                <a:hlinkClick r:id="rId2"/>
              </a:rPr>
              <a:t>KPMG</a:t>
            </a:r>
            <a:r>
              <a:rPr b="0" lang="en-US" sz="1600" spc="-1" strike="noStrike" u="sng">
                <a:solidFill>
                  <a:srgbClr val="c000c0"/>
                </a:solidFill>
                <a:uFillTx/>
                <a:latin typeface="Times New Roman"/>
                <a:hlinkClick r:id="rId3"/>
              </a:rPr>
              <a:t> 1999]</a:t>
            </a:r>
            <a:endParaRPr b="0" lang="en-US" sz="16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228240" y="5029200"/>
            <a:ext cx="883908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0000"/>
          </a:bodyPr>
          <a:p>
            <a:pPr marL="199800" indent="-199800">
              <a:spcBef>
                <a:spcPts val="601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Companies that have been preparing for a launch for 2 years may lose critical commitment to implement knowledge management successfully.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199800" indent="-199800">
              <a:spcBef>
                <a:spcPts val="601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Effectiveness of initiatives at departmental level is doubtful.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Logistics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Introduction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Course Material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textbook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handout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Web page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CourseInfo/Blackboard System and Alternative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Term Project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Lab and Homework Assignment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Exam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Grading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Reasons for KM Initiatives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grpSp>
        <p:nvGrpSpPr>
          <p:cNvPr id="543" name=""/>
          <p:cNvGrpSpPr/>
          <p:nvPr/>
        </p:nvGrpSpPr>
        <p:grpSpPr>
          <a:xfrm>
            <a:off x="334440" y="1465200"/>
            <a:ext cx="8574480" cy="3770280"/>
            <a:chOff x="334440" y="1465200"/>
            <a:chExt cx="8574480" cy="3770280"/>
          </a:xfrm>
        </p:grpSpPr>
        <p:sp>
          <p:nvSpPr>
            <p:cNvPr id="544" name=""/>
            <p:cNvSpPr/>
            <p:nvPr/>
          </p:nvSpPr>
          <p:spPr>
            <a:xfrm>
              <a:off x="369720" y="1465200"/>
              <a:ext cx="8539200" cy="3770280"/>
            </a:xfrm>
            <a:prstGeom prst="rect">
              <a:avLst/>
            </a:prstGeom>
            <a:solidFill>
              <a:srgbClr val="feffab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3048120" y="1736640"/>
              <a:ext cx="5556240" cy="3102120"/>
            </a:xfrm>
            <a:custGeom>
              <a:avLst/>
              <a:gdLst/>
              <a:ahLst/>
              <a:rect l="l" t="t" r="r" b="b"/>
              <a:pathLst>
                <a:path w="3500" h="1954">
                  <a:moveTo>
                    <a:pt x="0" y="0"/>
                  </a:moveTo>
                  <a:lnTo>
                    <a:pt x="3499" y="0"/>
                  </a:lnTo>
                  <a:lnTo>
                    <a:pt x="3499" y="1953"/>
                  </a:lnTo>
                  <a:lnTo>
                    <a:pt x="0" y="1953"/>
                  </a:lnTo>
                  <a:lnTo>
                    <a:pt x="0" y="0"/>
                  </a:lnTo>
                </a:path>
              </a:pathLst>
            </a:custGeom>
            <a:solidFill>
              <a:srgbClr val="e3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3741840" y="1736640"/>
              <a:ext cx="0" cy="3100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4433760" y="1736640"/>
              <a:ext cx="0" cy="3100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5126040" y="1736640"/>
              <a:ext cx="0" cy="3100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5830920" y="1736640"/>
              <a:ext cx="0" cy="3100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6524640" y="1736640"/>
              <a:ext cx="0" cy="3100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7216920" y="1736640"/>
              <a:ext cx="0" cy="3100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7910640" y="1736640"/>
              <a:ext cx="0" cy="3100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8602560" y="1736640"/>
              <a:ext cx="0" cy="3100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3048120" y="1736640"/>
              <a:ext cx="5556240" cy="3102120"/>
            </a:xfrm>
            <a:custGeom>
              <a:avLst/>
              <a:gdLst/>
              <a:ahLst/>
              <a:rect l="l" t="t" r="r" b="b"/>
              <a:pathLst>
                <a:path w="3500" h="1954">
                  <a:moveTo>
                    <a:pt x="0" y="0"/>
                  </a:moveTo>
                  <a:lnTo>
                    <a:pt x="3499" y="0"/>
                  </a:lnTo>
                  <a:lnTo>
                    <a:pt x="3499" y="1953"/>
                  </a:lnTo>
                  <a:lnTo>
                    <a:pt x="0" y="195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3048120" y="4467240"/>
              <a:ext cx="909360" cy="222120"/>
            </a:xfrm>
            <a:custGeom>
              <a:avLst/>
              <a:gdLst/>
              <a:ahLst/>
              <a:rect l="l" t="t" r="r" b="b"/>
              <a:pathLst>
                <a:path w="573" h="140">
                  <a:moveTo>
                    <a:pt x="0" y="0"/>
                  </a:moveTo>
                  <a:lnTo>
                    <a:pt x="572" y="0"/>
                  </a:lnTo>
                  <a:lnTo>
                    <a:pt x="572" y="139"/>
                  </a:lnTo>
                  <a:lnTo>
                    <a:pt x="0" y="139"/>
                  </a:lnTo>
                  <a:lnTo>
                    <a:pt x="0" y="0"/>
                  </a:lnTo>
                </a:path>
              </a:pathLst>
            </a:custGeom>
            <a:solidFill>
              <a:srgbClr val="8080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3048120" y="3959280"/>
              <a:ext cx="4792680" cy="209520"/>
            </a:xfrm>
            <a:custGeom>
              <a:avLst/>
              <a:gdLst/>
              <a:ahLst/>
              <a:rect l="l" t="t" r="r" b="b"/>
              <a:pathLst>
                <a:path w="3019" h="132">
                  <a:moveTo>
                    <a:pt x="0" y="0"/>
                  </a:moveTo>
                  <a:lnTo>
                    <a:pt x="3018" y="0"/>
                  </a:lnTo>
                  <a:lnTo>
                    <a:pt x="3018" y="131"/>
                  </a:lnTo>
                  <a:lnTo>
                    <a:pt x="0" y="131"/>
                  </a:lnTo>
                  <a:lnTo>
                    <a:pt x="0" y="0"/>
                  </a:lnTo>
                </a:path>
              </a:pathLst>
            </a:custGeom>
            <a:solidFill>
              <a:srgbClr val="8080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3048120" y="3438360"/>
              <a:ext cx="1733400" cy="220680"/>
            </a:xfrm>
            <a:custGeom>
              <a:avLst/>
              <a:gdLst/>
              <a:ahLst/>
              <a:rect l="l" t="t" r="r" b="b"/>
              <a:pathLst>
                <a:path w="1092" h="139">
                  <a:moveTo>
                    <a:pt x="0" y="0"/>
                  </a:moveTo>
                  <a:lnTo>
                    <a:pt x="1091" y="0"/>
                  </a:lnTo>
                  <a:lnTo>
                    <a:pt x="1091" y="138"/>
                  </a:lnTo>
                  <a:lnTo>
                    <a:pt x="0" y="138"/>
                  </a:lnTo>
                  <a:lnTo>
                    <a:pt x="0" y="0"/>
                  </a:lnTo>
                </a:path>
              </a:pathLst>
            </a:custGeom>
            <a:solidFill>
              <a:srgbClr val="8080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048120" y="2917800"/>
              <a:ext cx="3895560" cy="220680"/>
            </a:xfrm>
            <a:custGeom>
              <a:avLst/>
              <a:gdLst/>
              <a:ahLst/>
              <a:rect l="l" t="t" r="r" b="b"/>
              <a:pathLst>
                <a:path w="2454" h="139">
                  <a:moveTo>
                    <a:pt x="0" y="0"/>
                  </a:moveTo>
                  <a:lnTo>
                    <a:pt x="2453" y="0"/>
                  </a:lnTo>
                  <a:lnTo>
                    <a:pt x="2453" y="138"/>
                  </a:lnTo>
                  <a:lnTo>
                    <a:pt x="0" y="138"/>
                  </a:lnTo>
                  <a:lnTo>
                    <a:pt x="0" y="0"/>
                  </a:lnTo>
                </a:path>
              </a:pathLst>
            </a:custGeom>
            <a:solidFill>
              <a:srgbClr val="8080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048120" y="2408400"/>
              <a:ext cx="3477960" cy="209520"/>
            </a:xfrm>
            <a:custGeom>
              <a:avLst/>
              <a:gdLst/>
              <a:ahLst/>
              <a:rect l="l" t="t" r="r" b="b"/>
              <a:pathLst>
                <a:path w="2191" h="132">
                  <a:moveTo>
                    <a:pt x="0" y="0"/>
                  </a:moveTo>
                  <a:lnTo>
                    <a:pt x="2190" y="0"/>
                  </a:lnTo>
                  <a:lnTo>
                    <a:pt x="2190" y="131"/>
                  </a:lnTo>
                  <a:lnTo>
                    <a:pt x="0" y="131"/>
                  </a:lnTo>
                  <a:lnTo>
                    <a:pt x="0" y="0"/>
                  </a:lnTo>
                </a:path>
              </a:pathLst>
            </a:custGeom>
            <a:solidFill>
              <a:srgbClr val="8080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3048120" y="1887480"/>
              <a:ext cx="2641320" cy="222480"/>
            </a:xfrm>
            <a:custGeom>
              <a:avLst/>
              <a:gdLst/>
              <a:ahLst/>
              <a:rect l="l" t="t" r="r" b="b"/>
              <a:pathLst>
                <a:path w="1664" h="140">
                  <a:moveTo>
                    <a:pt x="0" y="0"/>
                  </a:moveTo>
                  <a:lnTo>
                    <a:pt x="1663" y="0"/>
                  </a:lnTo>
                  <a:lnTo>
                    <a:pt x="1663" y="139"/>
                  </a:lnTo>
                  <a:lnTo>
                    <a:pt x="0" y="139"/>
                  </a:lnTo>
                  <a:lnTo>
                    <a:pt x="0" y="0"/>
                  </a:lnTo>
                </a:path>
              </a:pathLst>
            </a:custGeom>
            <a:solidFill>
              <a:srgbClr val="8080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3048120" y="4836960"/>
              <a:ext cx="5554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 flipV="1">
              <a:off x="3741840" y="4836600"/>
              <a:ext cx="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 flipV="1">
              <a:off x="4433760" y="4836600"/>
              <a:ext cx="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 flipV="1">
              <a:off x="5126040" y="4836600"/>
              <a:ext cx="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 flipV="1">
              <a:off x="5830920" y="4836600"/>
              <a:ext cx="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 flipV="1">
              <a:off x="6524640" y="4836600"/>
              <a:ext cx="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 flipV="1">
              <a:off x="7216920" y="4836600"/>
              <a:ext cx="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 flipV="1">
              <a:off x="7910640" y="4836600"/>
              <a:ext cx="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 flipV="1">
              <a:off x="8602560" y="4836600"/>
              <a:ext cx="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3011400" y="4836960"/>
              <a:ext cx="73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011400" y="4316400"/>
              <a:ext cx="73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011400" y="3808440"/>
              <a:ext cx="73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011400" y="3287880"/>
              <a:ext cx="73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3011400" y="2766960"/>
              <a:ext cx="73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3011400" y="2257560"/>
              <a:ext cx="73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3011400" y="1736640"/>
              <a:ext cx="73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893320" y="4862520"/>
              <a:ext cx="255240" cy="22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85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550680" y="4862520"/>
              <a:ext cx="325080" cy="22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85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0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4244400" y="4862520"/>
              <a:ext cx="325080" cy="22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85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936680" y="4862520"/>
              <a:ext cx="325080" cy="22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85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0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5641560" y="4862520"/>
              <a:ext cx="325080" cy="22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85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6335280" y="4862520"/>
              <a:ext cx="325080" cy="22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85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0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7027200" y="4862520"/>
              <a:ext cx="325080" cy="22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85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7720920" y="4862520"/>
              <a:ext cx="325080" cy="22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85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70</a:t>
              </a:r>
              <a:endParaRPr b="0" lang="en-US" sz="10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8413200" y="4862520"/>
              <a:ext cx="438120" cy="22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85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80%</a:t>
              </a:r>
              <a:endParaRPr b="0" lang="en-US" sz="10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2284560" y="4495680"/>
              <a:ext cx="763560" cy="27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r">
                <a:lnSpc>
                  <a:spcPct val="85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80"/>
                  </a:solidFill>
                  <a:latin typeface="Arial"/>
                </a:rPr>
                <a:t>Other</a:t>
              </a:r>
              <a:endParaRPr b="0" lang="en-US" sz="1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495360" y="3343320"/>
              <a:ext cx="25527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r">
                <a:lnSpc>
                  <a:spcPct val="85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80"/>
                  </a:solidFill>
                  <a:latin typeface="Arial"/>
                </a:rPr>
                <a:t>To improve staff attitude/morale/competencies</a:t>
              </a:r>
              <a:endParaRPr b="0" lang="en-US" sz="1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995400" y="2824200"/>
              <a:ext cx="20610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r">
                <a:lnSpc>
                  <a:spcPct val="85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80"/>
                  </a:solidFill>
                  <a:latin typeface="Arial"/>
                </a:rPr>
                <a:t>To improve potential for</a:t>
              </a:r>
              <a:br>
                <a:rPr sz="1400"/>
              </a:br>
              <a:r>
                <a:rPr b="0" lang="en-US" sz="1400" spc="-1" strike="noStrike">
                  <a:solidFill>
                    <a:srgbClr val="000080"/>
                  </a:solidFill>
                  <a:latin typeface="Arial"/>
                </a:rPr>
                <a:t>innovation</a:t>
              </a:r>
              <a:endParaRPr b="0" lang="en-US" sz="1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334440" y="2406600"/>
              <a:ext cx="2724120" cy="27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r">
                <a:lnSpc>
                  <a:spcPct val="85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80"/>
                  </a:solidFill>
                  <a:latin typeface="Arial"/>
                </a:rPr>
                <a:t>To improve market performance</a:t>
              </a:r>
              <a:endParaRPr b="0" lang="en-US" sz="1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89520" y="1876320"/>
              <a:ext cx="2670840" cy="27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r">
                <a:lnSpc>
                  <a:spcPct val="85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80"/>
                  </a:solidFill>
                  <a:latin typeface="Arial"/>
                </a:rPr>
                <a:t>To execute a strategic direction</a:t>
              </a:r>
              <a:endParaRPr b="0" lang="en-US" sz="1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729360" y="3881520"/>
              <a:ext cx="2326320" cy="43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r">
                <a:lnSpc>
                  <a:spcPct val="8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80"/>
                  </a:solidFill>
                  <a:latin typeface="Arial"/>
                </a:rPr>
                <a:t>To improve communication</a:t>
              </a:r>
              <a:endParaRPr b="0" lang="en-US" sz="1400" spc="-1" strike="noStrike">
                <a:solidFill>
                  <a:srgbClr val="fcfeb9"/>
                </a:solidFill>
                <a:latin typeface="Times New Roman"/>
              </a:endParaRPr>
            </a:p>
            <a:p>
              <a:pPr algn="r">
                <a:lnSpc>
                  <a:spcPct val="8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80"/>
                  </a:solidFill>
                  <a:latin typeface="Arial"/>
                </a:rPr>
                <a:t>and decision-making</a:t>
              </a:r>
              <a:endParaRPr b="0" lang="en-US" sz="1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</p:grpSp>
      <p:sp>
        <p:nvSpPr>
          <p:cNvPr id="592" name=""/>
          <p:cNvSpPr/>
          <p:nvPr/>
        </p:nvSpPr>
        <p:spPr>
          <a:xfrm>
            <a:off x="4040640" y="6524640"/>
            <a:ext cx="135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000c0"/>
                </a:solidFill>
                <a:uFillTx/>
                <a:latin typeface="Times New Roman"/>
                <a:hlinkClick r:id="rId1"/>
              </a:rPr>
              <a:t>[</a:t>
            </a:r>
            <a:r>
              <a:rPr b="0" lang="en-US" sz="1600" spc="-1" strike="noStrike" u="sng">
                <a:solidFill>
                  <a:srgbClr val="c000c0"/>
                </a:solidFill>
                <a:uFillTx/>
                <a:latin typeface="Times New Roman"/>
                <a:hlinkClick r:id="rId2"/>
              </a:rPr>
              <a:t>KPMG</a:t>
            </a:r>
            <a:r>
              <a:rPr b="0" lang="en-US" sz="1600" spc="-1" strike="noStrike" u="sng">
                <a:solidFill>
                  <a:srgbClr val="c000c0"/>
                </a:solidFill>
                <a:uFillTx/>
                <a:latin typeface="Times New Roman"/>
                <a:hlinkClick r:id="rId3"/>
              </a:rPr>
              <a:t> 1999]</a:t>
            </a:r>
            <a:endParaRPr b="0" lang="en-US" sz="16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304560" y="5486400"/>
            <a:ext cx="883908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601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Other key motives touch upon innovation potential, market performance or a strategic direction.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R&amp;D and KM Initiatives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grpSp>
        <p:nvGrpSpPr>
          <p:cNvPr id="595" name=""/>
          <p:cNvGrpSpPr/>
          <p:nvPr/>
        </p:nvGrpSpPr>
        <p:grpSpPr>
          <a:xfrm>
            <a:off x="703440" y="1306440"/>
            <a:ext cx="7738920" cy="3749400"/>
            <a:chOff x="703440" y="1306440"/>
            <a:chExt cx="7738920" cy="3749400"/>
          </a:xfrm>
        </p:grpSpPr>
        <p:sp>
          <p:nvSpPr>
            <p:cNvPr id="596" name=""/>
            <p:cNvSpPr/>
            <p:nvPr/>
          </p:nvSpPr>
          <p:spPr>
            <a:xfrm>
              <a:off x="703440" y="1306440"/>
              <a:ext cx="7738920" cy="3745080"/>
            </a:xfrm>
            <a:prstGeom prst="rect">
              <a:avLst/>
            </a:prstGeom>
            <a:solidFill>
              <a:srgbClr val="feff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grpSp>
          <p:nvGrpSpPr>
            <p:cNvPr id="597" name=""/>
            <p:cNvGrpSpPr/>
            <p:nvPr/>
          </p:nvGrpSpPr>
          <p:grpSpPr>
            <a:xfrm>
              <a:off x="749160" y="1459080"/>
              <a:ext cx="7643160" cy="3596760"/>
              <a:chOff x="749160" y="1459080"/>
              <a:chExt cx="7643160" cy="3596760"/>
            </a:xfrm>
          </p:grpSpPr>
          <p:sp>
            <p:nvSpPr>
              <p:cNvPr id="598" name=""/>
              <p:cNvSpPr/>
              <p:nvPr/>
            </p:nvSpPr>
            <p:spPr>
              <a:xfrm>
                <a:off x="2743200" y="1744560"/>
                <a:ext cx="5373720" cy="3041640"/>
              </a:xfrm>
              <a:custGeom>
                <a:avLst/>
                <a:gdLst/>
                <a:ahLst/>
                <a:rect l="l" t="t" r="r" b="b"/>
                <a:pathLst>
                  <a:path w="3385" h="1916">
                    <a:moveTo>
                      <a:pt x="0" y="0"/>
                    </a:moveTo>
                    <a:lnTo>
                      <a:pt x="3384" y="0"/>
                    </a:lnTo>
                    <a:lnTo>
                      <a:pt x="3384" y="1915"/>
                    </a:lnTo>
                    <a:lnTo>
                      <a:pt x="0" y="191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3e3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3417840" y="1744560"/>
                <a:ext cx="0" cy="3040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4092480" y="1744560"/>
                <a:ext cx="0" cy="3040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4754520" y="1744560"/>
                <a:ext cx="0" cy="3040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5429160" y="1744560"/>
                <a:ext cx="0" cy="3040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6103800" y="1744560"/>
                <a:ext cx="0" cy="3040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6778800" y="1744560"/>
                <a:ext cx="0" cy="3040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7440480" y="1744560"/>
                <a:ext cx="0" cy="3040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8115480" y="1744560"/>
                <a:ext cx="0" cy="3040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2743200" y="1744560"/>
                <a:ext cx="5373720" cy="3041640"/>
              </a:xfrm>
              <a:custGeom>
                <a:avLst/>
                <a:gdLst/>
                <a:ahLst/>
                <a:rect l="l" t="t" r="r" b="b"/>
                <a:pathLst>
                  <a:path w="3385" h="1916">
                    <a:moveTo>
                      <a:pt x="0" y="0"/>
                    </a:moveTo>
                    <a:lnTo>
                      <a:pt x="3384" y="0"/>
                    </a:lnTo>
                    <a:lnTo>
                      <a:pt x="3384" y="1915"/>
                    </a:lnTo>
                    <a:lnTo>
                      <a:pt x="0" y="1915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2743200" y="4545000"/>
                <a:ext cx="401760" cy="150840"/>
              </a:xfrm>
              <a:custGeom>
                <a:avLst/>
                <a:gdLst/>
                <a:ahLst/>
                <a:rect l="l" t="t" r="r" b="b"/>
                <a:pathLst>
                  <a:path w="253" h="95">
                    <a:moveTo>
                      <a:pt x="0" y="0"/>
                    </a:moveTo>
                    <a:lnTo>
                      <a:pt x="252" y="0"/>
                    </a:lnTo>
                    <a:lnTo>
                      <a:pt x="252" y="94"/>
                    </a:lnTo>
                    <a:lnTo>
                      <a:pt x="0" y="9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8080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2743200" y="4213080"/>
                <a:ext cx="1681200" cy="139680"/>
              </a:xfrm>
              <a:custGeom>
                <a:avLst/>
                <a:gdLst/>
                <a:ahLst/>
                <a:rect l="l" t="t" r="r" b="b"/>
                <a:pathLst>
                  <a:path w="1059" h="88">
                    <a:moveTo>
                      <a:pt x="0" y="0"/>
                    </a:moveTo>
                    <a:lnTo>
                      <a:pt x="1058" y="0"/>
                    </a:lnTo>
                    <a:lnTo>
                      <a:pt x="1058" y="87"/>
                    </a:lnTo>
                    <a:lnTo>
                      <a:pt x="0" y="8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8080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2743200" y="3870360"/>
                <a:ext cx="1281240" cy="150840"/>
              </a:xfrm>
              <a:custGeom>
                <a:avLst/>
                <a:gdLst/>
                <a:ahLst/>
                <a:rect l="l" t="t" r="r" b="b"/>
                <a:pathLst>
                  <a:path w="807" h="95">
                    <a:moveTo>
                      <a:pt x="0" y="0"/>
                    </a:moveTo>
                    <a:lnTo>
                      <a:pt x="806" y="0"/>
                    </a:lnTo>
                    <a:lnTo>
                      <a:pt x="806" y="94"/>
                    </a:lnTo>
                    <a:lnTo>
                      <a:pt x="0" y="9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8080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2743200" y="3540240"/>
                <a:ext cx="4230720" cy="137880"/>
              </a:xfrm>
              <a:custGeom>
                <a:avLst/>
                <a:gdLst/>
                <a:ahLst/>
                <a:rect l="l" t="t" r="r" b="b"/>
                <a:pathLst>
                  <a:path w="2665" h="87">
                    <a:moveTo>
                      <a:pt x="0" y="0"/>
                    </a:moveTo>
                    <a:lnTo>
                      <a:pt x="2664" y="0"/>
                    </a:lnTo>
                    <a:lnTo>
                      <a:pt x="2664" y="86"/>
                    </a:lnTo>
                    <a:lnTo>
                      <a:pt x="0" y="8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8080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2743200" y="3195720"/>
                <a:ext cx="1681200" cy="150840"/>
              </a:xfrm>
              <a:custGeom>
                <a:avLst/>
                <a:gdLst/>
                <a:ahLst/>
                <a:rect l="l" t="t" r="r" b="b"/>
                <a:pathLst>
                  <a:path w="1059" h="95">
                    <a:moveTo>
                      <a:pt x="0" y="0"/>
                    </a:moveTo>
                    <a:lnTo>
                      <a:pt x="1058" y="0"/>
                    </a:lnTo>
                    <a:lnTo>
                      <a:pt x="1058" y="94"/>
                    </a:lnTo>
                    <a:lnTo>
                      <a:pt x="0" y="9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8080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2743200" y="2865600"/>
                <a:ext cx="1281240" cy="137880"/>
              </a:xfrm>
              <a:custGeom>
                <a:avLst/>
                <a:gdLst/>
                <a:ahLst/>
                <a:rect l="l" t="t" r="r" b="b"/>
                <a:pathLst>
                  <a:path w="807" h="87">
                    <a:moveTo>
                      <a:pt x="0" y="0"/>
                    </a:moveTo>
                    <a:lnTo>
                      <a:pt x="806" y="0"/>
                    </a:lnTo>
                    <a:lnTo>
                      <a:pt x="806" y="86"/>
                    </a:lnTo>
                    <a:lnTo>
                      <a:pt x="0" y="8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8080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2743200" y="2522520"/>
                <a:ext cx="2550960" cy="149400"/>
              </a:xfrm>
              <a:custGeom>
                <a:avLst/>
                <a:gdLst/>
                <a:ahLst/>
                <a:rect l="l" t="t" r="r" b="b"/>
                <a:pathLst>
                  <a:path w="1607" h="94">
                    <a:moveTo>
                      <a:pt x="0" y="0"/>
                    </a:moveTo>
                    <a:lnTo>
                      <a:pt x="1606" y="0"/>
                    </a:lnTo>
                    <a:lnTo>
                      <a:pt x="1606" y="93"/>
                    </a:lnTo>
                    <a:lnTo>
                      <a:pt x="0" y="9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8080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2743200" y="2190600"/>
                <a:ext cx="2082960" cy="138240"/>
              </a:xfrm>
              <a:custGeom>
                <a:avLst/>
                <a:gdLst/>
                <a:ahLst/>
                <a:rect l="l" t="t" r="r" b="b"/>
                <a:pathLst>
                  <a:path w="1312" h="87">
                    <a:moveTo>
                      <a:pt x="0" y="0"/>
                    </a:moveTo>
                    <a:lnTo>
                      <a:pt x="1311" y="0"/>
                    </a:lnTo>
                    <a:lnTo>
                      <a:pt x="1311" y="86"/>
                    </a:lnTo>
                    <a:lnTo>
                      <a:pt x="0" y="8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8080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2743200" y="1847880"/>
                <a:ext cx="2962440" cy="149040"/>
              </a:xfrm>
              <a:custGeom>
                <a:avLst/>
                <a:gdLst/>
                <a:ahLst/>
                <a:rect l="l" t="t" r="r" b="b"/>
                <a:pathLst>
                  <a:path w="1866" h="94">
                    <a:moveTo>
                      <a:pt x="0" y="0"/>
                    </a:moveTo>
                    <a:lnTo>
                      <a:pt x="1865" y="0"/>
                    </a:lnTo>
                    <a:lnTo>
                      <a:pt x="1865" y="93"/>
                    </a:lnTo>
                    <a:lnTo>
                      <a:pt x="0" y="9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8080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2743200" y="4784760"/>
                <a:ext cx="5372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flipV="1">
                <a:off x="2743200" y="4784400"/>
                <a:ext cx="0" cy="34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flipV="1">
                <a:off x="3417840" y="4784400"/>
                <a:ext cx="0" cy="34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 flipV="1">
                <a:off x="4092480" y="4784400"/>
                <a:ext cx="0" cy="34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flipV="1">
                <a:off x="4754520" y="4784400"/>
                <a:ext cx="0" cy="34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flipV="1">
                <a:off x="5429160" y="4784400"/>
                <a:ext cx="0" cy="34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flipV="1">
                <a:off x="6103800" y="4784400"/>
                <a:ext cx="0" cy="34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flipV="1">
                <a:off x="6778800" y="4784400"/>
                <a:ext cx="0" cy="34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flipV="1">
                <a:off x="7440480" y="4784400"/>
                <a:ext cx="0" cy="34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flipV="1">
                <a:off x="8115480" y="4784400"/>
                <a:ext cx="0" cy="34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2743200" y="1744560"/>
                <a:ext cx="0" cy="3040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2697120" y="4784760"/>
                <a:ext cx="92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2697120" y="4441680"/>
                <a:ext cx="92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2697120" y="4111560"/>
                <a:ext cx="92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2697120" y="3768840"/>
                <a:ext cx="92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2697120" y="3436920"/>
                <a:ext cx="92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2697120" y="3094200"/>
                <a:ext cx="92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2697120" y="2762280"/>
                <a:ext cx="92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2697120" y="2419200"/>
                <a:ext cx="92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2697120" y="2087640"/>
                <a:ext cx="92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2697120" y="1744560"/>
                <a:ext cx="92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2615760" y="4834080"/>
                <a:ext cx="255240" cy="221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85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0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3256920" y="4834080"/>
                <a:ext cx="325080" cy="221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85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10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3930120" y="4834080"/>
                <a:ext cx="325080" cy="221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85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20</a:t>
                </a:r>
                <a:endParaRPr b="0" lang="en-US" sz="10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4593600" y="4834080"/>
                <a:ext cx="325080" cy="221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85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30</a:t>
                </a:r>
                <a:endParaRPr b="0" lang="en-US" sz="10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5268240" y="4834080"/>
                <a:ext cx="325080" cy="221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85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40</a:t>
                </a:r>
                <a:endParaRPr b="0" lang="en-US" sz="10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5943240" y="4834080"/>
                <a:ext cx="325080" cy="221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85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50</a:t>
                </a:r>
                <a:endParaRPr b="0" lang="en-US" sz="10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6617880" y="4834080"/>
                <a:ext cx="325080" cy="221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85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60</a:t>
                </a:r>
                <a:endParaRPr b="0" lang="en-US" sz="10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7279920" y="4834080"/>
                <a:ext cx="325080" cy="221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85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70</a:t>
                </a:r>
                <a:endParaRPr b="0" lang="en-US" sz="10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7954200" y="4834080"/>
                <a:ext cx="438120" cy="221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85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80%</a:t>
                </a:r>
                <a:endParaRPr b="0" lang="en-US" sz="10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grpSp>
            <p:nvGrpSpPr>
              <p:cNvPr id="647" name=""/>
              <p:cNvGrpSpPr/>
              <p:nvPr/>
            </p:nvGrpSpPr>
            <p:grpSpPr>
              <a:xfrm>
                <a:off x="749160" y="1459080"/>
                <a:ext cx="2030760" cy="3289680"/>
                <a:chOff x="749160" y="1459080"/>
                <a:chExt cx="2030760" cy="3289680"/>
              </a:xfrm>
            </p:grpSpPr>
            <p:sp>
              <p:nvSpPr>
                <p:cNvPr id="648" name=""/>
                <p:cNvSpPr/>
                <p:nvPr/>
              </p:nvSpPr>
              <p:spPr>
                <a:xfrm>
                  <a:off x="1895400" y="4475160"/>
                  <a:ext cx="881640" cy="273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 algn="r">
                    <a:lnSpc>
                      <a:spcPct val="85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80"/>
                      </a:solidFill>
                      <a:latin typeface="Arial"/>
                    </a:rPr>
                    <a:t>Logistics</a:t>
                  </a:r>
                  <a:endParaRPr b="0" lang="en-US" sz="1400" spc="-1" strike="noStrike">
                    <a:solidFill>
                      <a:srgbClr val="fcfeb9"/>
                    </a:solidFill>
                    <a:latin typeface="Times New Roman"/>
                  </a:endParaRPr>
                </a:p>
              </p:txBody>
            </p:sp>
            <p:sp>
              <p:nvSpPr>
                <p:cNvPr id="649" name=""/>
                <p:cNvSpPr/>
                <p:nvPr/>
              </p:nvSpPr>
              <p:spPr>
                <a:xfrm>
                  <a:off x="1312920" y="4133880"/>
                  <a:ext cx="1465200" cy="273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 algn="r">
                    <a:lnSpc>
                      <a:spcPct val="85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80"/>
                      </a:solidFill>
                      <a:latin typeface="Arial"/>
                    </a:rPr>
                    <a:t>Sales/Marketing</a:t>
                  </a:r>
                  <a:endParaRPr b="0" lang="en-US" sz="1400" spc="-1" strike="noStrike">
                    <a:solidFill>
                      <a:srgbClr val="fcfeb9"/>
                    </a:solidFill>
                    <a:latin typeface="Times New Roman"/>
                  </a:endParaRPr>
                </a:p>
              </p:txBody>
            </p:sp>
            <p:sp>
              <p:nvSpPr>
                <p:cNvPr id="650" name=""/>
                <p:cNvSpPr/>
                <p:nvPr/>
              </p:nvSpPr>
              <p:spPr>
                <a:xfrm>
                  <a:off x="1072080" y="3828960"/>
                  <a:ext cx="1707480" cy="24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 algn="r">
                    <a:lnSpc>
                      <a:spcPct val="85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80"/>
                      </a:solidFill>
                      <a:latin typeface="Arial"/>
                    </a:rPr>
                    <a:t>Operations/Production</a:t>
                  </a:r>
                  <a:endParaRPr b="0" lang="en-US" sz="1200" spc="-1" strike="noStrike">
                    <a:solidFill>
                      <a:srgbClr val="fcfeb9"/>
                    </a:solidFill>
                    <a:latin typeface="Times New Roman"/>
                  </a:endParaRPr>
                </a:p>
              </p:txBody>
            </p:sp>
            <p:sp>
              <p:nvSpPr>
                <p:cNvPr id="651" name=""/>
                <p:cNvSpPr/>
                <p:nvPr/>
              </p:nvSpPr>
              <p:spPr>
                <a:xfrm>
                  <a:off x="2203920" y="3487680"/>
                  <a:ext cx="569160" cy="273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 algn="r">
                    <a:lnSpc>
                      <a:spcPct val="85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80"/>
                      </a:solidFill>
                      <a:latin typeface="Arial"/>
                    </a:rPr>
                    <a:t>R&amp;D</a:t>
                  </a:r>
                  <a:endParaRPr b="0" lang="en-US" sz="1400" spc="-1" strike="noStrike">
                    <a:solidFill>
                      <a:srgbClr val="fcfeb9"/>
                    </a:solidFill>
                    <a:latin typeface="Times New Roman"/>
                  </a:endParaRPr>
                </a:p>
              </p:txBody>
            </p:sp>
            <p:sp>
              <p:nvSpPr>
                <p:cNvPr id="652" name=""/>
                <p:cNvSpPr/>
                <p:nvPr/>
              </p:nvSpPr>
              <p:spPr>
                <a:xfrm>
                  <a:off x="1613880" y="3125880"/>
                  <a:ext cx="1162080" cy="24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 algn="r">
                    <a:lnSpc>
                      <a:spcPct val="85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80"/>
                      </a:solidFill>
                      <a:latin typeface="Arial"/>
                    </a:rPr>
                    <a:t>IT Department</a:t>
                  </a:r>
                  <a:endParaRPr b="0" lang="en-US" sz="1200" spc="-1" strike="noStrike">
                    <a:solidFill>
                      <a:srgbClr val="fcfeb9"/>
                    </a:solidFill>
                    <a:latin typeface="Times New Roman"/>
                  </a:endParaRPr>
                </a:p>
              </p:txBody>
            </p:sp>
            <p:sp>
              <p:nvSpPr>
                <p:cNvPr id="653" name=""/>
                <p:cNvSpPr/>
                <p:nvPr/>
              </p:nvSpPr>
              <p:spPr>
                <a:xfrm>
                  <a:off x="2184480" y="2792520"/>
                  <a:ext cx="588960" cy="273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 algn="r">
                    <a:lnSpc>
                      <a:spcPct val="85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80"/>
                      </a:solidFill>
                      <a:latin typeface="Arial"/>
                    </a:rPr>
                    <a:t>HRM</a:t>
                  </a:r>
                  <a:endParaRPr b="0" lang="en-US" sz="1400" spc="-1" strike="noStrike">
                    <a:solidFill>
                      <a:srgbClr val="fcfeb9"/>
                    </a:solidFill>
                    <a:latin typeface="Times New Roman"/>
                  </a:endParaRPr>
                </a:p>
              </p:txBody>
            </p:sp>
            <p:sp>
              <p:nvSpPr>
                <p:cNvPr id="654" name=""/>
                <p:cNvSpPr/>
                <p:nvPr/>
              </p:nvSpPr>
              <p:spPr>
                <a:xfrm>
                  <a:off x="749160" y="2451240"/>
                  <a:ext cx="2030760" cy="273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 algn="r">
                    <a:lnSpc>
                      <a:spcPct val="85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80"/>
                      </a:solidFill>
                      <a:latin typeface="Arial"/>
                    </a:rPr>
                    <a:t>Business Unit manager</a:t>
                  </a:r>
                  <a:endParaRPr b="0" lang="en-US" sz="1400" spc="-1" strike="noStrike">
                    <a:solidFill>
                      <a:srgbClr val="fcfeb9"/>
                    </a:solidFill>
                    <a:latin typeface="Times New Roman"/>
                  </a:endParaRPr>
                </a:p>
              </p:txBody>
            </p:sp>
            <p:sp>
              <p:nvSpPr>
                <p:cNvPr id="655" name=""/>
                <p:cNvSpPr/>
                <p:nvPr/>
              </p:nvSpPr>
              <p:spPr>
                <a:xfrm>
                  <a:off x="936000" y="2125800"/>
                  <a:ext cx="1841760" cy="24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 algn="r">
                    <a:lnSpc>
                      <a:spcPct val="85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80"/>
                      </a:solidFill>
                      <a:latin typeface="Arial"/>
                    </a:rPr>
                    <a:t>Chief Information Officer</a:t>
                  </a:r>
                  <a:endParaRPr b="0" lang="en-US" sz="1200" spc="-1" strike="noStrike">
                    <a:solidFill>
                      <a:srgbClr val="fcfeb9"/>
                    </a:solidFill>
                    <a:latin typeface="Times New Roman"/>
                  </a:endParaRPr>
                </a:p>
              </p:txBody>
            </p:sp>
            <p:sp>
              <p:nvSpPr>
                <p:cNvPr id="656" name=""/>
                <p:cNvSpPr/>
                <p:nvPr/>
              </p:nvSpPr>
              <p:spPr>
                <a:xfrm>
                  <a:off x="1679040" y="1814400"/>
                  <a:ext cx="1096560" cy="273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 algn="r">
                    <a:lnSpc>
                      <a:spcPct val="85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80"/>
                      </a:solidFill>
                      <a:latin typeface="Arial"/>
                    </a:rPr>
                    <a:t>Board/CEO</a:t>
                  </a:r>
                  <a:endParaRPr b="0" lang="en-US" sz="1400" spc="-1" strike="noStrike">
                    <a:solidFill>
                      <a:srgbClr val="fcfeb9"/>
                    </a:solidFill>
                    <a:latin typeface="Times New Roman"/>
                  </a:endParaRPr>
                </a:p>
              </p:txBody>
            </p:sp>
            <p:sp>
              <p:nvSpPr>
                <p:cNvPr id="657" name=""/>
                <p:cNvSpPr/>
                <p:nvPr/>
              </p:nvSpPr>
              <p:spPr>
                <a:xfrm>
                  <a:off x="1290960" y="1459080"/>
                  <a:ext cx="1478880" cy="299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 algn="r">
                    <a:lnSpc>
                      <a:spcPct val="85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80"/>
                      </a:solidFill>
                      <a:latin typeface="Arial"/>
                    </a:rPr>
                    <a:t>KM Initiators:</a:t>
                  </a:r>
                  <a:endParaRPr b="0" lang="en-US" sz="1600" spc="-1" strike="noStrike">
                    <a:solidFill>
                      <a:srgbClr val="fcfeb9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58" name=""/>
          <p:cNvSpPr/>
          <p:nvPr/>
        </p:nvSpPr>
        <p:spPr>
          <a:xfrm>
            <a:off x="4040640" y="6524640"/>
            <a:ext cx="135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000c0"/>
                </a:solidFill>
                <a:uFillTx/>
                <a:latin typeface="Times New Roman"/>
                <a:hlinkClick r:id="rId1"/>
              </a:rPr>
              <a:t>[</a:t>
            </a:r>
            <a:r>
              <a:rPr b="0" lang="en-US" sz="1600" spc="-1" strike="noStrike" u="sng">
                <a:solidFill>
                  <a:srgbClr val="c000c0"/>
                </a:solidFill>
                <a:uFillTx/>
                <a:latin typeface="Times New Roman"/>
                <a:hlinkClick r:id="rId2"/>
              </a:rPr>
              <a:t>KPMG</a:t>
            </a:r>
            <a:r>
              <a:rPr b="0" lang="en-US" sz="1600" spc="-1" strike="noStrike" u="sng">
                <a:solidFill>
                  <a:srgbClr val="c000c0"/>
                </a:solidFill>
                <a:uFillTx/>
                <a:latin typeface="Times New Roman"/>
                <a:hlinkClick r:id="rId3"/>
              </a:rPr>
              <a:t> 1999]</a:t>
            </a:r>
            <a:endParaRPr b="0" lang="en-US" sz="16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228240" y="5333760"/>
            <a:ext cx="8839080" cy="99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280080" indent="-280080">
              <a:spcBef>
                <a:spcPts val="601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In 69% of the cases, more than 1 person leads the initiative.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80080" indent="-280080">
              <a:spcBef>
                <a:spcPts val="601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In KM initiative at company level, the board is usually involved.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228600" y="-119160"/>
            <a:ext cx="8610480" cy="80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Coverage of KM Initiatives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grpSp>
        <p:nvGrpSpPr>
          <p:cNvPr id="661" name=""/>
          <p:cNvGrpSpPr/>
          <p:nvPr/>
        </p:nvGrpSpPr>
        <p:grpSpPr>
          <a:xfrm>
            <a:off x="298440" y="685800"/>
            <a:ext cx="8543880" cy="4443480"/>
            <a:chOff x="298440" y="685800"/>
            <a:chExt cx="8543880" cy="4443480"/>
          </a:xfrm>
        </p:grpSpPr>
        <p:sp>
          <p:nvSpPr>
            <p:cNvPr id="662" name=""/>
            <p:cNvSpPr/>
            <p:nvPr/>
          </p:nvSpPr>
          <p:spPr>
            <a:xfrm>
              <a:off x="298440" y="685800"/>
              <a:ext cx="8543880" cy="4443480"/>
            </a:xfrm>
            <a:prstGeom prst="rect">
              <a:avLst/>
            </a:prstGeom>
            <a:solidFill>
              <a:srgbClr val="feff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2394000" y="835200"/>
              <a:ext cx="5413320" cy="3922560"/>
            </a:xfrm>
            <a:custGeom>
              <a:avLst/>
              <a:gdLst/>
              <a:ahLst/>
              <a:rect l="l" t="t" r="r" b="b"/>
              <a:pathLst>
                <a:path w="3410" h="2471">
                  <a:moveTo>
                    <a:pt x="0" y="0"/>
                  </a:moveTo>
                  <a:lnTo>
                    <a:pt x="3409" y="0"/>
                  </a:lnTo>
                  <a:lnTo>
                    <a:pt x="3409" y="2470"/>
                  </a:lnTo>
                  <a:lnTo>
                    <a:pt x="0" y="2470"/>
                  </a:lnTo>
                  <a:lnTo>
                    <a:pt x="0" y="0"/>
                  </a:lnTo>
                </a:path>
              </a:pathLst>
            </a:custGeom>
            <a:solidFill>
              <a:srgbClr val="e3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2394000" y="835200"/>
              <a:ext cx="5413320" cy="3922560"/>
            </a:xfrm>
            <a:custGeom>
              <a:avLst/>
              <a:gdLst/>
              <a:ahLst/>
              <a:rect l="l" t="t" r="r" b="b"/>
              <a:pathLst>
                <a:path w="3410" h="2471">
                  <a:moveTo>
                    <a:pt x="0" y="0"/>
                  </a:moveTo>
                  <a:lnTo>
                    <a:pt x="3409" y="0"/>
                  </a:lnTo>
                  <a:lnTo>
                    <a:pt x="3409" y="2470"/>
                  </a:lnTo>
                  <a:lnTo>
                    <a:pt x="0" y="247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2394000" y="4488120"/>
              <a:ext cx="2712960" cy="160200"/>
            </a:xfrm>
            <a:custGeom>
              <a:avLst/>
              <a:gdLst/>
              <a:ahLst/>
              <a:rect l="l" t="t" r="r" b="b"/>
              <a:pathLst>
                <a:path w="1709" h="101">
                  <a:moveTo>
                    <a:pt x="0" y="0"/>
                  </a:moveTo>
                  <a:lnTo>
                    <a:pt x="1708" y="0"/>
                  </a:lnTo>
                  <a:lnTo>
                    <a:pt x="1708" y="100"/>
                  </a:lnTo>
                  <a:lnTo>
                    <a:pt x="0" y="100"/>
                  </a:lnTo>
                  <a:lnTo>
                    <a:pt x="0" y="0"/>
                  </a:lnTo>
                </a:path>
              </a:pathLst>
            </a:custGeom>
            <a:solidFill>
              <a:srgbClr val="8080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2394000" y="4087800"/>
              <a:ext cx="1674720" cy="171720"/>
            </a:xfrm>
            <a:custGeom>
              <a:avLst/>
              <a:gdLst/>
              <a:ahLst/>
              <a:rect l="l" t="t" r="r" b="b"/>
              <a:pathLst>
                <a:path w="1055" h="108">
                  <a:moveTo>
                    <a:pt x="0" y="0"/>
                  </a:moveTo>
                  <a:lnTo>
                    <a:pt x="1054" y="0"/>
                  </a:lnTo>
                  <a:lnTo>
                    <a:pt x="1054" y="107"/>
                  </a:lnTo>
                  <a:lnTo>
                    <a:pt x="0" y="107"/>
                  </a:lnTo>
                  <a:lnTo>
                    <a:pt x="0" y="0"/>
                  </a:lnTo>
                </a:path>
              </a:pathLst>
            </a:custGeom>
            <a:solidFill>
              <a:srgbClr val="8080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2394000" y="3702240"/>
              <a:ext cx="3035160" cy="158760"/>
            </a:xfrm>
            <a:custGeom>
              <a:avLst/>
              <a:gdLst/>
              <a:ahLst/>
              <a:rect l="l" t="t" r="r" b="b"/>
              <a:pathLst>
                <a:path w="1912" h="100">
                  <a:moveTo>
                    <a:pt x="0" y="0"/>
                  </a:moveTo>
                  <a:lnTo>
                    <a:pt x="1911" y="0"/>
                  </a:lnTo>
                  <a:lnTo>
                    <a:pt x="1911" y="99"/>
                  </a:lnTo>
                  <a:lnTo>
                    <a:pt x="0" y="99"/>
                  </a:lnTo>
                  <a:lnTo>
                    <a:pt x="0" y="0"/>
                  </a:lnTo>
                </a:path>
              </a:pathLst>
            </a:custGeom>
            <a:solidFill>
              <a:srgbClr val="8080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394000" y="3301920"/>
              <a:ext cx="706320" cy="171720"/>
            </a:xfrm>
            <a:custGeom>
              <a:avLst/>
              <a:gdLst/>
              <a:ahLst/>
              <a:rect l="l" t="t" r="r" b="b"/>
              <a:pathLst>
                <a:path w="445" h="108">
                  <a:moveTo>
                    <a:pt x="0" y="0"/>
                  </a:moveTo>
                  <a:lnTo>
                    <a:pt x="444" y="0"/>
                  </a:lnTo>
                  <a:lnTo>
                    <a:pt x="444" y="107"/>
                  </a:lnTo>
                  <a:lnTo>
                    <a:pt x="0" y="107"/>
                  </a:lnTo>
                  <a:lnTo>
                    <a:pt x="0" y="0"/>
                  </a:lnTo>
                </a:path>
              </a:pathLst>
            </a:custGeom>
            <a:solidFill>
              <a:srgbClr val="8080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2394000" y="2914920"/>
              <a:ext cx="3135240" cy="160200"/>
            </a:xfrm>
            <a:custGeom>
              <a:avLst/>
              <a:gdLst/>
              <a:ahLst/>
              <a:rect l="l" t="t" r="r" b="b"/>
              <a:pathLst>
                <a:path w="1975" h="101">
                  <a:moveTo>
                    <a:pt x="0" y="0"/>
                  </a:moveTo>
                  <a:lnTo>
                    <a:pt x="1974" y="0"/>
                  </a:lnTo>
                  <a:lnTo>
                    <a:pt x="1974" y="100"/>
                  </a:lnTo>
                  <a:lnTo>
                    <a:pt x="0" y="100"/>
                  </a:lnTo>
                  <a:lnTo>
                    <a:pt x="0" y="0"/>
                  </a:lnTo>
                </a:path>
              </a:pathLst>
            </a:custGeom>
            <a:solidFill>
              <a:srgbClr val="8080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2394000" y="2527560"/>
              <a:ext cx="2712960" cy="160200"/>
            </a:xfrm>
            <a:custGeom>
              <a:avLst/>
              <a:gdLst/>
              <a:ahLst/>
              <a:rect l="l" t="t" r="r" b="b"/>
              <a:pathLst>
                <a:path w="1709" h="101">
                  <a:moveTo>
                    <a:pt x="0" y="0"/>
                  </a:moveTo>
                  <a:lnTo>
                    <a:pt x="1708" y="0"/>
                  </a:lnTo>
                  <a:lnTo>
                    <a:pt x="1708" y="100"/>
                  </a:lnTo>
                  <a:lnTo>
                    <a:pt x="0" y="100"/>
                  </a:lnTo>
                  <a:lnTo>
                    <a:pt x="0" y="0"/>
                  </a:lnTo>
                </a:path>
              </a:pathLst>
            </a:custGeom>
            <a:solidFill>
              <a:srgbClr val="8080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2394000" y="2129040"/>
              <a:ext cx="1674720" cy="171360"/>
            </a:xfrm>
            <a:custGeom>
              <a:avLst/>
              <a:gdLst/>
              <a:ahLst/>
              <a:rect l="l" t="t" r="r" b="b"/>
              <a:pathLst>
                <a:path w="1055" h="108">
                  <a:moveTo>
                    <a:pt x="0" y="0"/>
                  </a:moveTo>
                  <a:lnTo>
                    <a:pt x="1054" y="0"/>
                  </a:lnTo>
                  <a:lnTo>
                    <a:pt x="1054" y="107"/>
                  </a:lnTo>
                  <a:lnTo>
                    <a:pt x="0" y="107"/>
                  </a:lnTo>
                  <a:lnTo>
                    <a:pt x="0" y="0"/>
                  </a:lnTo>
                </a:path>
              </a:pathLst>
            </a:custGeom>
            <a:solidFill>
              <a:srgbClr val="8080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2394000" y="1741680"/>
              <a:ext cx="2712960" cy="158760"/>
            </a:xfrm>
            <a:custGeom>
              <a:avLst/>
              <a:gdLst/>
              <a:ahLst/>
              <a:rect l="l" t="t" r="r" b="b"/>
              <a:pathLst>
                <a:path w="1709" h="100">
                  <a:moveTo>
                    <a:pt x="0" y="0"/>
                  </a:moveTo>
                  <a:lnTo>
                    <a:pt x="1708" y="0"/>
                  </a:lnTo>
                  <a:lnTo>
                    <a:pt x="1708" y="99"/>
                  </a:lnTo>
                  <a:lnTo>
                    <a:pt x="0" y="99"/>
                  </a:lnTo>
                  <a:lnTo>
                    <a:pt x="0" y="0"/>
                  </a:lnTo>
                </a:path>
              </a:pathLst>
            </a:custGeom>
            <a:solidFill>
              <a:srgbClr val="8080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2394000" y="1343160"/>
              <a:ext cx="2057400" cy="171360"/>
            </a:xfrm>
            <a:custGeom>
              <a:avLst/>
              <a:gdLst/>
              <a:ahLst/>
              <a:rect l="l" t="t" r="r" b="b"/>
              <a:pathLst>
                <a:path w="1296" h="108">
                  <a:moveTo>
                    <a:pt x="0" y="0"/>
                  </a:moveTo>
                  <a:lnTo>
                    <a:pt x="1295" y="0"/>
                  </a:lnTo>
                  <a:lnTo>
                    <a:pt x="1295" y="107"/>
                  </a:lnTo>
                  <a:lnTo>
                    <a:pt x="0" y="107"/>
                  </a:lnTo>
                  <a:lnTo>
                    <a:pt x="0" y="0"/>
                  </a:lnTo>
                </a:path>
              </a:pathLst>
            </a:custGeom>
            <a:solidFill>
              <a:srgbClr val="8080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2394000" y="954360"/>
              <a:ext cx="4062240" cy="160200"/>
            </a:xfrm>
            <a:custGeom>
              <a:avLst/>
              <a:gdLst/>
              <a:ahLst/>
              <a:rect l="l" t="t" r="r" b="b"/>
              <a:pathLst>
                <a:path w="2559" h="101">
                  <a:moveTo>
                    <a:pt x="0" y="0"/>
                  </a:moveTo>
                  <a:lnTo>
                    <a:pt x="2558" y="0"/>
                  </a:lnTo>
                  <a:lnTo>
                    <a:pt x="2558" y="100"/>
                  </a:lnTo>
                  <a:lnTo>
                    <a:pt x="0" y="100"/>
                  </a:lnTo>
                  <a:lnTo>
                    <a:pt x="0" y="0"/>
                  </a:lnTo>
                </a:path>
              </a:pathLst>
            </a:custGeom>
            <a:solidFill>
              <a:srgbClr val="8080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105520" y="4488120"/>
              <a:ext cx="1673280" cy="160200"/>
            </a:xfrm>
            <a:custGeom>
              <a:avLst/>
              <a:gdLst/>
              <a:ahLst/>
              <a:rect l="l" t="t" r="r" b="b"/>
              <a:pathLst>
                <a:path w="1054" h="101">
                  <a:moveTo>
                    <a:pt x="0" y="0"/>
                  </a:moveTo>
                  <a:lnTo>
                    <a:pt x="1053" y="0"/>
                  </a:lnTo>
                  <a:lnTo>
                    <a:pt x="1053" y="100"/>
                  </a:lnTo>
                  <a:lnTo>
                    <a:pt x="0" y="100"/>
                  </a:lnTo>
                  <a:lnTo>
                    <a:pt x="0" y="0"/>
                  </a:lnTo>
                </a:path>
              </a:pathLst>
            </a:custGeom>
            <a:solidFill>
              <a:srgbClr val="e62a05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4067280" y="4087800"/>
              <a:ext cx="3033720" cy="171720"/>
            </a:xfrm>
            <a:custGeom>
              <a:avLst/>
              <a:gdLst/>
              <a:ahLst/>
              <a:rect l="l" t="t" r="r" b="b"/>
              <a:pathLst>
                <a:path w="1911" h="108">
                  <a:moveTo>
                    <a:pt x="0" y="0"/>
                  </a:moveTo>
                  <a:lnTo>
                    <a:pt x="1910" y="0"/>
                  </a:lnTo>
                  <a:lnTo>
                    <a:pt x="1910" y="107"/>
                  </a:lnTo>
                  <a:lnTo>
                    <a:pt x="0" y="107"/>
                  </a:lnTo>
                  <a:lnTo>
                    <a:pt x="0" y="0"/>
                  </a:lnTo>
                </a:path>
              </a:pathLst>
            </a:custGeom>
            <a:solidFill>
              <a:srgbClr val="e62a05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427720" y="3702240"/>
              <a:ext cx="1673280" cy="158760"/>
            </a:xfrm>
            <a:custGeom>
              <a:avLst/>
              <a:gdLst/>
              <a:ahLst/>
              <a:rect l="l" t="t" r="r" b="b"/>
              <a:pathLst>
                <a:path w="1054" h="100">
                  <a:moveTo>
                    <a:pt x="0" y="0"/>
                  </a:moveTo>
                  <a:lnTo>
                    <a:pt x="1053" y="0"/>
                  </a:lnTo>
                  <a:lnTo>
                    <a:pt x="1053" y="99"/>
                  </a:lnTo>
                  <a:lnTo>
                    <a:pt x="0" y="99"/>
                  </a:lnTo>
                  <a:lnTo>
                    <a:pt x="0" y="0"/>
                  </a:lnTo>
                </a:path>
              </a:pathLst>
            </a:custGeom>
            <a:solidFill>
              <a:srgbClr val="e62a05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3098880" y="3301920"/>
              <a:ext cx="3730680" cy="171720"/>
            </a:xfrm>
            <a:custGeom>
              <a:avLst/>
              <a:gdLst/>
              <a:ahLst/>
              <a:rect l="l" t="t" r="r" b="b"/>
              <a:pathLst>
                <a:path w="2350" h="108">
                  <a:moveTo>
                    <a:pt x="0" y="0"/>
                  </a:moveTo>
                  <a:lnTo>
                    <a:pt x="2349" y="0"/>
                  </a:lnTo>
                  <a:lnTo>
                    <a:pt x="2349" y="107"/>
                  </a:lnTo>
                  <a:lnTo>
                    <a:pt x="0" y="107"/>
                  </a:lnTo>
                  <a:lnTo>
                    <a:pt x="0" y="0"/>
                  </a:lnTo>
                </a:path>
              </a:pathLst>
            </a:custGeom>
            <a:solidFill>
              <a:srgbClr val="e62a05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5527800" y="2914920"/>
              <a:ext cx="2066760" cy="160200"/>
            </a:xfrm>
            <a:custGeom>
              <a:avLst/>
              <a:gdLst/>
              <a:ahLst/>
              <a:rect l="l" t="t" r="r" b="b"/>
              <a:pathLst>
                <a:path w="1302" h="101">
                  <a:moveTo>
                    <a:pt x="0" y="0"/>
                  </a:moveTo>
                  <a:lnTo>
                    <a:pt x="1301" y="0"/>
                  </a:lnTo>
                  <a:lnTo>
                    <a:pt x="1301" y="100"/>
                  </a:lnTo>
                  <a:lnTo>
                    <a:pt x="0" y="100"/>
                  </a:lnTo>
                  <a:lnTo>
                    <a:pt x="0" y="0"/>
                  </a:lnTo>
                </a:path>
              </a:pathLst>
            </a:custGeom>
            <a:solidFill>
              <a:srgbClr val="e62a05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5105520" y="2527560"/>
              <a:ext cx="2055600" cy="160200"/>
            </a:xfrm>
            <a:custGeom>
              <a:avLst/>
              <a:gdLst/>
              <a:ahLst/>
              <a:rect l="l" t="t" r="r" b="b"/>
              <a:pathLst>
                <a:path w="1295" h="101">
                  <a:moveTo>
                    <a:pt x="0" y="0"/>
                  </a:moveTo>
                  <a:lnTo>
                    <a:pt x="1294" y="0"/>
                  </a:lnTo>
                  <a:lnTo>
                    <a:pt x="1294" y="100"/>
                  </a:lnTo>
                  <a:lnTo>
                    <a:pt x="0" y="100"/>
                  </a:lnTo>
                  <a:lnTo>
                    <a:pt x="0" y="0"/>
                  </a:lnTo>
                </a:path>
              </a:pathLst>
            </a:custGeom>
            <a:solidFill>
              <a:srgbClr val="e62a05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067280" y="2129040"/>
              <a:ext cx="2711520" cy="171360"/>
            </a:xfrm>
            <a:custGeom>
              <a:avLst/>
              <a:gdLst/>
              <a:ahLst/>
              <a:rect l="l" t="t" r="r" b="b"/>
              <a:pathLst>
                <a:path w="1708" h="108">
                  <a:moveTo>
                    <a:pt x="0" y="0"/>
                  </a:moveTo>
                  <a:lnTo>
                    <a:pt x="1707" y="0"/>
                  </a:lnTo>
                  <a:lnTo>
                    <a:pt x="1707" y="107"/>
                  </a:lnTo>
                  <a:lnTo>
                    <a:pt x="0" y="107"/>
                  </a:lnTo>
                  <a:lnTo>
                    <a:pt x="0" y="0"/>
                  </a:lnTo>
                </a:path>
              </a:pathLst>
            </a:custGeom>
            <a:solidFill>
              <a:srgbClr val="e62a05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5105520" y="1741680"/>
              <a:ext cx="1350720" cy="158760"/>
            </a:xfrm>
            <a:custGeom>
              <a:avLst/>
              <a:gdLst/>
              <a:ahLst/>
              <a:rect l="l" t="t" r="r" b="b"/>
              <a:pathLst>
                <a:path w="851" h="100">
                  <a:moveTo>
                    <a:pt x="0" y="0"/>
                  </a:moveTo>
                  <a:lnTo>
                    <a:pt x="850" y="0"/>
                  </a:lnTo>
                  <a:lnTo>
                    <a:pt x="850" y="99"/>
                  </a:lnTo>
                  <a:lnTo>
                    <a:pt x="0" y="99"/>
                  </a:lnTo>
                  <a:lnTo>
                    <a:pt x="0" y="0"/>
                  </a:lnTo>
                </a:path>
              </a:pathLst>
            </a:custGeom>
            <a:solidFill>
              <a:srgbClr val="e62a05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4449600" y="1343160"/>
              <a:ext cx="2379960" cy="171360"/>
            </a:xfrm>
            <a:custGeom>
              <a:avLst/>
              <a:gdLst/>
              <a:ahLst/>
              <a:rect l="l" t="t" r="r" b="b"/>
              <a:pathLst>
                <a:path w="1499" h="108">
                  <a:moveTo>
                    <a:pt x="0" y="0"/>
                  </a:moveTo>
                  <a:lnTo>
                    <a:pt x="1498" y="0"/>
                  </a:lnTo>
                  <a:lnTo>
                    <a:pt x="1498" y="107"/>
                  </a:lnTo>
                  <a:lnTo>
                    <a:pt x="0" y="107"/>
                  </a:lnTo>
                  <a:lnTo>
                    <a:pt x="0" y="0"/>
                  </a:lnTo>
                </a:path>
              </a:pathLst>
            </a:custGeom>
            <a:solidFill>
              <a:srgbClr val="e62a05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6454800" y="954360"/>
              <a:ext cx="706320" cy="160200"/>
            </a:xfrm>
            <a:custGeom>
              <a:avLst/>
              <a:gdLst/>
              <a:ahLst/>
              <a:rect l="l" t="t" r="r" b="b"/>
              <a:pathLst>
                <a:path w="445" h="101">
                  <a:moveTo>
                    <a:pt x="0" y="0"/>
                  </a:moveTo>
                  <a:lnTo>
                    <a:pt x="444" y="0"/>
                  </a:lnTo>
                  <a:lnTo>
                    <a:pt x="444" y="100"/>
                  </a:lnTo>
                  <a:lnTo>
                    <a:pt x="0" y="100"/>
                  </a:lnTo>
                  <a:lnTo>
                    <a:pt x="0" y="0"/>
                  </a:lnTo>
                </a:path>
              </a:pathLst>
            </a:custGeom>
            <a:solidFill>
              <a:srgbClr val="e62a05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777000" y="4488120"/>
              <a:ext cx="1030320" cy="160200"/>
            </a:xfrm>
            <a:custGeom>
              <a:avLst/>
              <a:gdLst/>
              <a:ahLst/>
              <a:rect l="l" t="t" r="r" b="b"/>
              <a:pathLst>
                <a:path w="649" h="101">
                  <a:moveTo>
                    <a:pt x="0" y="0"/>
                  </a:moveTo>
                  <a:lnTo>
                    <a:pt x="648" y="0"/>
                  </a:lnTo>
                  <a:lnTo>
                    <a:pt x="648" y="100"/>
                  </a:lnTo>
                  <a:lnTo>
                    <a:pt x="0" y="100"/>
                  </a:lnTo>
                  <a:lnTo>
                    <a:pt x="0" y="0"/>
                  </a:lnTo>
                </a:path>
              </a:pathLst>
            </a:custGeom>
            <a:solidFill>
              <a:srgbClr val="ffffc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7099200" y="4087800"/>
              <a:ext cx="708120" cy="171720"/>
            </a:xfrm>
            <a:custGeom>
              <a:avLst/>
              <a:gdLst/>
              <a:ahLst/>
              <a:rect l="l" t="t" r="r" b="b"/>
              <a:pathLst>
                <a:path w="446" h="108">
                  <a:moveTo>
                    <a:pt x="0" y="0"/>
                  </a:moveTo>
                  <a:lnTo>
                    <a:pt x="445" y="0"/>
                  </a:lnTo>
                  <a:lnTo>
                    <a:pt x="445" y="107"/>
                  </a:lnTo>
                  <a:lnTo>
                    <a:pt x="0" y="107"/>
                  </a:lnTo>
                  <a:lnTo>
                    <a:pt x="0" y="0"/>
                  </a:lnTo>
                </a:path>
              </a:pathLst>
            </a:custGeom>
            <a:solidFill>
              <a:srgbClr val="ffffc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7099200" y="3702240"/>
              <a:ext cx="708120" cy="158760"/>
            </a:xfrm>
            <a:custGeom>
              <a:avLst/>
              <a:gdLst/>
              <a:ahLst/>
              <a:rect l="l" t="t" r="r" b="b"/>
              <a:pathLst>
                <a:path w="446" h="100">
                  <a:moveTo>
                    <a:pt x="0" y="0"/>
                  </a:moveTo>
                  <a:lnTo>
                    <a:pt x="445" y="0"/>
                  </a:lnTo>
                  <a:lnTo>
                    <a:pt x="445" y="99"/>
                  </a:lnTo>
                  <a:lnTo>
                    <a:pt x="0" y="99"/>
                  </a:lnTo>
                  <a:lnTo>
                    <a:pt x="0" y="0"/>
                  </a:lnTo>
                </a:path>
              </a:pathLst>
            </a:custGeom>
            <a:solidFill>
              <a:srgbClr val="ffffc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6827760" y="3301920"/>
              <a:ext cx="979560" cy="171720"/>
            </a:xfrm>
            <a:custGeom>
              <a:avLst/>
              <a:gdLst/>
              <a:ahLst/>
              <a:rect l="l" t="t" r="r" b="b"/>
              <a:pathLst>
                <a:path w="617" h="108">
                  <a:moveTo>
                    <a:pt x="0" y="0"/>
                  </a:moveTo>
                  <a:lnTo>
                    <a:pt x="616" y="0"/>
                  </a:lnTo>
                  <a:lnTo>
                    <a:pt x="616" y="107"/>
                  </a:lnTo>
                  <a:lnTo>
                    <a:pt x="0" y="107"/>
                  </a:lnTo>
                  <a:lnTo>
                    <a:pt x="0" y="0"/>
                  </a:lnTo>
                </a:path>
              </a:pathLst>
            </a:custGeom>
            <a:solidFill>
              <a:srgbClr val="ffffc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7593120" y="2914920"/>
              <a:ext cx="214200" cy="160200"/>
            </a:xfrm>
            <a:custGeom>
              <a:avLst/>
              <a:gdLst/>
              <a:ahLst/>
              <a:rect l="l" t="t" r="r" b="b"/>
              <a:pathLst>
                <a:path w="135" h="101">
                  <a:moveTo>
                    <a:pt x="0" y="0"/>
                  </a:moveTo>
                  <a:lnTo>
                    <a:pt x="134" y="0"/>
                  </a:lnTo>
                  <a:lnTo>
                    <a:pt x="134" y="100"/>
                  </a:lnTo>
                  <a:lnTo>
                    <a:pt x="0" y="100"/>
                  </a:lnTo>
                  <a:lnTo>
                    <a:pt x="0" y="0"/>
                  </a:lnTo>
                </a:path>
              </a:pathLst>
            </a:custGeom>
            <a:solidFill>
              <a:srgbClr val="ffffc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7159680" y="2527560"/>
              <a:ext cx="647640" cy="160200"/>
            </a:xfrm>
            <a:custGeom>
              <a:avLst/>
              <a:gdLst/>
              <a:ahLst/>
              <a:rect l="l" t="t" r="r" b="b"/>
              <a:pathLst>
                <a:path w="408" h="101">
                  <a:moveTo>
                    <a:pt x="0" y="0"/>
                  </a:moveTo>
                  <a:lnTo>
                    <a:pt x="407" y="0"/>
                  </a:lnTo>
                  <a:lnTo>
                    <a:pt x="407" y="100"/>
                  </a:lnTo>
                  <a:lnTo>
                    <a:pt x="0" y="100"/>
                  </a:lnTo>
                  <a:lnTo>
                    <a:pt x="0" y="0"/>
                  </a:lnTo>
                </a:path>
              </a:pathLst>
            </a:custGeom>
            <a:solidFill>
              <a:srgbClr val="ffffc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6777000" y="2129040"/>
              <a:ext cx="1030320" cy="171360"/>
            </a:xfrm>
            <a:custGeom>
              <a:avLst/>
              <a:gdLst/>
              <a:ahLst/>
              <a:rect l="l" t="t" r="r" b="b"/>
              <a:pathLst>
                <a:path w="649" h="108">
                  <a:moveTo>
                    <a:pt x="0" y="0"/>
                  </a:moveTo>
                  <a:lnTo>
                    <a:pt x="648" y="0"/>
                  </a:lnTo>
                  <a:lnTo>
                    <a:pt x="648" y="107"/>
                  </a:lnTo>
                  <a:lnTo>
                    <a:pt x="0" y="107"/>
                  </a:lnTo>
                  <a:lnTo>
                    <a:pt x="0" y="0"/>
                  </a:lnTo>
                </a:path>
              </a:pathLst>
            </a:custGeom>
            <a:solidFill>
              <a:srgbClr val="ffffc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6454800" y="1741680"/>
              <a:ext cx="1352520" cy="158760"/>
            </a:xfrm>
            <a:custGeom>
              <a:avLst/>
              <a:gdLst/>
              <a:ahLst/>
              <a:rect l="l" t="t" r="r" b="b"/>
              <a:pathLst>
                <a:path w="852" h="100">
                  <a:moveTo>
                    <a:pt x="0" y="0"/>
                  </a:moveTo>
                  <a:lnTo>
                    <a:pt x="851" y="0"/>
                  </a:lnTo>
                  <a:lnTo>
                    <a:pt x="851" y="99"/>
                  </a:lnTo>
                  <a:lnTo>
                    <a:pt x="0" y="99"/>
                  </a:lnTo>
                  <a:lnTo>
                    <a:pt x="0" y="0"/>
                  </a:lnTo>
                </a:path>
              </a:pathLst>
            </a:custGeom>
            <a:solidFill>
              <a:srgbClr val="ffffc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6827760" y="1343160"/>
              <a:ext cx="979560" cy="171360"/>
            </a:xfrm>
            <a:custGeom>
              <a:avLst/>
              <a:gdLst/>
              <a:ahLst/>
              <a:rect l="l" t="t" r="r" b="b"/>
              <a:pathLst>
                <a:path w="617" h="108">
                  <a:moveTo>
                    <a:pt x="0" y="0"/>
                  </a:moveTo>
                  <a:lnTo>
                    <a:pt x="616" y="0"/>
                  </a:lnTo>
                  <a:lnTo>
                    <a:pt x="616" y="107"/>
                  </a:lnTo>
                  <a:lnTo>
                    <a:pt x="0" y="107"/>
                  </a:lnTo>
                  <a:lnTo>
                    <a:pt x="0" y="0"/>
                  </a:lnTo>
                </a:path>
              </a:pathLst>
            </a:custGeom>
            <a:solidFill>
              <a:srgbClr val="ffffc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7159680" y="954360"/>
              <a:ext cx="647640" cy="160200"/>
            </a:xfrm>
            <a:custGeom>
              <a:avLst/>
              <a:gdLst/>
              <a:ahLst/>
              <a:rect l="l" t="t" r="r" b="b"/>
              <a:pathLst>
                <a:path w="408" h="101">
                  <a:moveTo>
                    <a:pt x="0" y="0"/>
                  </a:moveTo>
                  <a:lnTo>
                    <a:pt x="407" y="0"/>
                  </a:lnTo>
                  <a:lnTo>
                    <a:pt x="407" y="100"/>
                  </a:lnTo>
                  <a:lnTo>
                    <a:pt x="0" y="100"/>
                  </a:lnTo>
                  <a:lnTo>
                    <a:pt x="0" y="0"/>
                  </a:lnTo>
                </a:path>
              </a:pathLst>
            </a:custGeom>
            <a:solidFill>
              <a:srgbClr val="ffffc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2394000" y="4756320"/>
              <a:ext cx="5411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 flipV="1">
              <a:off x="2394000" y="4726080"/>
              <a:ext cx="0" cy="60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 flipV="1">
              <a:off x="2938320" y="4726080"/>
              <a:ext cx="0" cy="60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 flipV="1">
              <a:off x="3471840" y="4726080"/>
              <a:ext cx="0" cy="60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 flipV="1">
              <a:off x="4016520" y="4726080"/>
              <a:ext cx="0" cy="60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 flipV="1">
              <a:off x="4560840" y="4726080"/>
              <a:ext cx="0" cy="60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 flipV="1">
              <a:off x="5094360" y="4726080"/>
              <a:ext cx="0" cy="60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 flipV="1">
              <a:off x="5638680" y="4726080"/>
              <a:ext cx="0" cy="60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 flipV="1">
              <a:off x="6183360" y="4726080"/>
              <a:ext cx="0" cy="60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 flipV="1">
              <a:off x="6726240" y="4726080"/>
              <a:ext cx="0" cy="60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 flipV="1">
              <a:off x="7261200" y="4726080"/>
              <a:ext cx="0" cy="60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 flipV="1">
              <a:off x="7805880" y="4726080"/>
              <a:ext cx="0" cy="60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2394000" y="835200"/>
              <a:ext cx="0" cy="3921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2354400" y="4756320"/>
              <a:ext cx="81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2354400" y="4367160"/>
              <a:ext cx="81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2354400" y="3970440"/>
              <a:ext cx="81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2354400" y="3581640"/>
              <a:ext cx="81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2354400" y="3184560"/>
              <a:ext cx="81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2354400" y="2795760"/>
              <a:ext cx="81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354400" y="2406600"/>
              <a:ext cx="81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2354400" y="2009880"/>
              <a:ext cx="81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2354400" y="1621080"/>
              <a:ext cx="81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2354400" y="1224000"/>
              <a:ext cx="81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2354400" y="835200"/>
              <a:ext cx="81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2270880" y="4792680"/>
              <a:ext cx="249120" cy="20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85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2775600" y="4792680"/>
              <a:ext cx="345240" cy="20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85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,1</a:t>
              </a:r>
              <a:endParaRPr b="0" lang="en-US" sz="9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3308760" y="4792680"/>
              <a:ext cx="345240" cy="20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85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,2</a:t>
              </a:r>
              <a:endParaRPr b="0" lang="en-US" sz="9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3853440" y="4792680"/>
              <a:ext cx="345240" cy="20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85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,3</a:t>
              </a:r>
              <a:endParaRPr b="0" lang="en-US" sz="9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4396320" y="4792680"/>
              <a:ext cx="345240" cy="20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85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,4</a:t>
              </a:r>
              <a:endParaRPr b="0" lang="en-US" sz="9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4931280" y="4792680"/>
              <a:ext cx="345240" cy="20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85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,5</a:t>
              </a:r>
              <a:endParaRPr b="0" lang="en-US" sz="9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5475960" y="4792680"/>
              <a:ext cx="345240" cy="20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85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,6</a:t>
              </a:r>
              <a:endParaRPr b="0" lang="en-US" sz="9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6018840" y="4792680"/>
              <a:ext cx="345240" cy="20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85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,7</a:t>
              </a:r>
              <a:endParaRPr b="0" lang="en-US" sz="9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6563160" y="4792680"/>
              <a:ext cx="345240" cy="20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85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,8</a:t>
              </a:r>
              <a:endParaRPr b="0" lang="en-US" sz="9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7096680" y="4792680"/>
              <a:ext cx="345240" cy="20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85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,9</a:t>
              </a:r>
              <a:endParaRPr b="0" lang="en-US" sz="9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7682760" y="4792680"/>
              <a:ext cx="249120" cy="20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85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430200" y="4391280"/>
              <a:ext cx="1957320" cy="35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r">
                <a:lnSpc>
                  <a:spcPct val="85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80"/>
                  </a:solidFill>
                  <a:latin typeface="Arial"/>
                </a:rPr>
                <a:t>Processes/jobs affected by the initiative</a:t>
              </a:r>
              <a:endParaRPr b="0" lang="en-US" sz="10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406440" y="4019760"/>
              <a:ext cx="1981080" cy="35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r">
                <a:lnSpc>
                  <a:spcPct val="85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80"/>
                  </a:solidFill>
                  <a:latin typeface="Arial"/>
                </a:rPr>
                <a:t>Incentives changed to stimulate knowledge</a:t>
              </a:r>
              <a:endParaRPr b="0" lang="en-US" sz="10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982440" y="4119840"/>
              <a:ext cx="185040" cy="37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85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0"/>
              </a:br>
              <a:endParaRPr b="0" lang="en-US" sz="10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703440" y="3614760"/>
              <a:ext cx="1684080" cy="35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r">
                <a:lnSpc>
                  <a:spcPct val="85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80"/>
                  </a:solidFill>
                  <a:latin typeface="Arial"/>
                </a:rPr>
                <a:t>Special people appointed to manage knowledge</a:t>
              </a:r>
              <a:endParaRPr b="0" lang="en-US" sz="10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420840" y="3213360"/>
              <a:ext cx="1966680" cy="35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r">
                <a:lnSpc>
                  <a:spcPct val="85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80"/>
                  </a:solidFill>
                  <a:latin typeface="Arial"/>
                </a:rPr>
                <a:t>Workflow linked to knowledge database</a:t>
              </a:r>
              <a:endParaRPr b="0" lang="en-US" sz="10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304920" y="2836800"/>
              <a:ext cx="2082600" cy="35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r">
                <a:lnSpc>
                  <a:spcPct val="85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80"/>
                  </a:solidFill>
                  <a:latin typeface="Arial"/>
                </a:rPr>
                <a:t>Formats defined for meaningful presentation of data</a:t>
              </a:r>
              <a:endParaRPr b="0" lang="en-US" sz="10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444600" y="2424240"/>
              <a:ext cx="1942920" cy="35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r">
                <a:lnSpc>
                  <a:spcPct val="85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80"/>
                  </a:solidFill>
                  <a:latin typeface="Arial"/>
                </a:rPr>
                <a:t>Processes defined for info gathering/maintenance</a:t>
              </a:r>
              <a:endParaRPr b="0" lang="en-US" sz="10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549360" y="2027160"/>
              <a:ext cx="1838160" cy="35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r">
                <a:lnSpc>
                  <a:spcPct val="85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80"/>
                  </a:solidFill>
                  <a:latin typeface="Arial"/>
                </a:rPr>
                <a:t>Information needs, flows and owners are clear</a:t>
              </a:r>
              <a:endParaRPr b="0" lang="en-US" sz="10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1256760" y="1706760"/>
              <a:ext cx="1123920" cy="22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85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80"/>
                  </a:solidFill>
                  <a:latin typeface="Arial"/>
                </a:rPr>
                <a:t>Budget allocated</a:t>
              </a:r>
              <a:endParaRPr b="0" lang="en-US" sz="10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330120" y="1239840"/>
              <a:ext cx="2057400" cy="35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r">
                <a:lnSpc>
                  <a:spcPct val="85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80"/>
                  </a:solidFill>
                  <a:latin typeface="Arial"/>
                </a:rPr>
                <a:t>Knowledge management strategy with objectives </a:t>
              </a:r>
              <a:endParaRPr b="0" lang="en-US" sz="10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406440" y="862200"/>
              <a:ext cx="1981080" cy="35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r">
                <a:lnSpc>
                  <a:spcPct val="85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80"/>
                  </a:solidFill>
                  <a:latin typeface="Arial"/>
                </a:rPr>
                <a:t>Initiative embedded in</a:t>
              </a:r>
              <a:br>
                <a:rPr sz="1000"/>
              </a:br>
              <a:r>
                <a:rPr b="0" lang="en-US" sz="1000" spc="-1" strike="noStrike">
                  <a:solidFill>
                    <a:srgbClr val="000080"/>
                  </a:solidFill>
                  <a:latin typeface="Arial"/>
                </a:rPr>
                <a:t>business plan</a:t>
              </a:r>
              <a:endParaRPr b="0" lang="en-US" sz="10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1173240" y="984240"/>
              <a:ext cx="183960" cy="21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grpSp>
          <p:nvGrpSpPr>
            <p:cNvPr id="742" name=""/>
            <p:cNvGrpSpPr/>
            <p:nvPr/>
          </p:nvGrpSpPr>
          <p:grpSpPr>
            <a:xfrm>
              <a:off x="7880760" y="2413080"/>
              <a:ext cx="791640" cy="1039320"/>
              <a:chOff x="7880760" y="2413080"/>
              <a:chExt cx="791640" cy="1039320"/>
            </a:xfrm>
          </p:grpSpPr>
          <p:sp>
            <p:nvSpPr>
              <p:cNvPr id="743" name=""/>
              <p:cNvSpPr/>
              <p:nvPr/>
            </p:nvSpPr>
            <p:spPr>
              <a:xfrm>
                <a:off x="7880760" y="2413080"/>
                <a:ext cx="791640" cy="1039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marL="190440" indent="-190440">
                  <a:lnSpc>
                    <a:spcPct val="85000"/>
                  </a:lnSpc>
                  <a:spcBef>
                    <a:spcPts val="876"/>
                  </a:spcBef>
                  <a:buClr>
                    <a:srgbClr val="2f2fff"/>
                  </a:buClr>
                  <a:buSzPct val="120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Yes</a:t>
                </a:r>
                <a:endParaRPr b="0" lang="en-US" sz="1400" spc="-1" strike="noStrike">
                  <a:solidFill>
                    <a:srgbClr val="fcfeb9"/>
                  </a:solidFill>
                  <a:latin typeface="Times New Roman"/>
                </a:endParaRPr>
              </a:p>
              <a:p>
                <a:pPr marL="190440" indent="-190440">
                  <a:lnSpc>
                    <a:spcPct val="85000"/>
                  </a:lnSpc>
                  <a:spcBef>
                    <a:spcPts val="876"/>
                  </a:spcBef>
                  <a:buClr>
                    <a:srgbClr val="e62a05"/>
                  </a:buClr>
                  <a:buSzPct val="120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No</a:t>
                </a:r>
                <a:endParaRPr b="0" lang="en-US" sz="1400" spc="-1" strike="noStrike">
                  <a:solidFill>
                    <a:srgbClr val="fcfeb9"/>
                  </a:solidFill>
                  <a:latin typeface="Times New Roman"/>
                </a:endParaRPr>
              </a:p>
              <a:p>
                <a:pPr marL="190440" indent="-190440">
                  <a:lnSpc>
                    <a:spcPct val="85000"/>
                  </a:lnSpc>
                  <a:spcBef>
                    <a:spcPts val="876"/>
                  </a:spcBef>
                  <a:buClr>
                    <a:srgbClr val="fcfeb9"/>
                  </a:buClr>
                  <a:buSzPct val="120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Don’t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know</a:t>
                </a:r>
                <a:endParaRPr b="0" lang="en-US" sz="14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7988400" y="3024360"/>
                <a:ext cx="128520" cy="120600"/>
              </a:xfrm>
              <a:prstGeom prst="rect">
                <a:avLst/>
              </a:prstGeom>
              <a:noFill/>
              <a:ln w="12600">
                <a:solidFill>
                  <a:srgbClr val="00002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45" name=""/>
          <p:cNvSpPr/>
          <p:nvPr/>
        </p:nvSpPr>
        <p:spPr>
          <a:xfrm>
            <a:off x="4040640" y="6524640"/>
            <a:ext cx="135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000c0"/>
                </a:solidFill>
                <a:uFillTx/>
                <a:latin typeface="Times New Roman"/>
                <a:hlinkClick r:id="rId1"/>
              </a:rPr>
              <a:t>[</a:t>
            </a:r>
            <a:r>
              <a:rPr b="0" lang="en-US" sz="1600" spc="-1" strike="noStrike" u="sng">
                <a:solidFill>
                  <a:srgbClr val="c000c0"/>
                </a:solidFill>
                <a:uFillTx/>
                <a:latin typeface="Times New Roman"/>
                <a:hlinkClick r:id="rId2"/>
              </a:rPr>
              <a:t>KPMG</a:t>
            </a:r>
            <a:r>
              <a:rPr b="0" lang="en-US" sz="1600" spc="-1" strike="noStrike" u="sng">
                <a:solidFill>
                  <a:srgbClr val="c000c0"/>
                </a:solidFill>
                <a:uFillTx/>
                <a:latin typeface="Times New Roman"/>
                <a:hlinkClick r:id="rId3"/>
              </a:rPr>
              <a:t> 1999]</a:t>
            </a:r>
            <a:endParaRPr b="0" lang="en-US" sz="16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228240" y="5105520"/>
            <a:ext cx="883908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499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Initiatives often lack direction (44%), 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499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Unclear understanding of info needs, flows, owners (50%), 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499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No use of stimulating incentive schemes (56%) and 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499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No link between workflow and databases (69%)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10480" cy="80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Bottlenecks for KM Implementation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grpSp>
        <p:nvGrpSpPr>
          <p:cNvPr id="748" name=""/>
          <p:cNvGrpSpPr/>
          <p:nvPr/>
        </p:nvGrpSpPr>
        <p:grpSpPr>
          <a:xfrm>
            <a:off x="270000" y="838080"/>
            <a:ext cx="8497800" cy="4924800"/>
            <a:chOff x="270000" y="838080"/>
            <a:chExt cx="8497800" cy="4924800"/>
          </a:xfrm>
        </p:grpSpPr>
        <p:sp>
          <p:nvSpPr>
            <p:cNvPr id="749" name=""/>
            <p:cNvSpPr/>
            <p:nvPr/>
          </p:nvSpPr>
          <p:spPr>
            <a:xfrm>
              <a:off x="385920" y="838080"/>
              <a:ext cx="8381880" cy="4890960"/>
            </a:xfrm>
            <a:prstGeom prst="rect">
              <a:avLst/>
            </a:prstGeom>
            <a:solidFill>
              <a:srgbClr val="feff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630520" y="996840"/>
              <a:ext cx="5871960" cy="4406760"/>
            </a:xfrm>
            <a:custGeom>
              <a:avLst/>
              <a:gdLst/>
              <a:ahLst/>
              <a:rect l="l" t="t" r="r" b="b"/>
              <a:pathLst>
                <a:path w="3699" h="2776">
                  <a:moveTo>
                    <a:pt x="0" y="0"/>
                  </a:moveTo>
                  <a:lnTo>
                    <a:pt x="3698" y="0"/>
                  </a:lnTo>
                  <a:lnTo>
                    <a:pt x="3698" y="2775"/>
                  </a:lnTo>
                  <a:lnTo>
                    <a:pt x="0" y="2775"/>
                  </a:lnTo>
                  <a:lnTo>
                    <a:pt x="0" y="0"/>
                  </a:lnTo>
                </a:path>
              </a:pathLst>
            </a:custGeom>
            <a:solidFill>
              <a:srgbClr val="e3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3220920" y="996840"/>
              <a:ext cx="0" cy="4405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3801960" y="996840"/>
              <a:ext cx="0" cy="4405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4390920" y="996840"/>
              <a:ext cx="0" cy="4405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4981680" y="996840"/>
              <a:ext cx="0" cy="4405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5570640" y="996840"/>
              <a:ext cx="0" cy="4405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6151680" y="996840"/>
              <a:ext cx="0" cy="4405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6740640" y="996840"/>
              <a:ext cx="0" cy="4405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7331040" y="996840"/>
              <a:ext cx="0" cy="4405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7912080" y="996840"/>
              <a:ext cx="0" cy="4405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8501040" y="996840"/>
              <a:ext cx="0" cy="4405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2630520" y="996840"/>
              <a:ext cx="5871960" cy="4406760"/>
            </a:xfrm>
            <a:custGeom>
              <a:avLst/>
              <a:gdLst/>
              <a:ahLst/>
              <a:rect l="l" t="t" r="r" b="b"/>
              <a:pathLst>
                <a:path w="3699" h="2776">
                  <a:moveTo>
                    <a:pt x="0" y="0"/>
                  </a:moveTo>
                  <a:lnTo>
                    <a:pt x="3698" y="0"/>
                  </a:lnTo>
                  <a:lnTo>
                    <a:pt x="3698" y="2775"/>
                  </a:lnTo>
                  <a:lnTo>
                    <a:pt x="0" y="2775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2630520" y="5121000"/>
              <a:ext cx="2228760" cy="169920"/>
            </a:xfrm>
            <a:custGeom>
              <a:avLst/>
              <a:gdLst/>
              <a:ahLst/>
              <a:rect l="l" t="t" r="r" b="b"/>
              <a:pathLst>
                <a:path w="1404" h="107">
                  <a:moveTo>
                    <a:pt x="0" y="0"/>
                  </a:moveTo>
                  <a:lnTo>
                    <a:pt x="1403" y="0"/>
                  </a:lnTo>
                  <a:lnTo>
                    <a:pt x="1403" y="106"/>
                  </a:lnTo>
                  <a:lnTo>
                    <a:pt x="0" y="106"/>
                  </a:lnTo>
                  <a:lnTo>
                    <a:pt x="0" y="0"/>
                  </a:lnTo>
                </a:path>
              </a:pathLst>
            </a:custGeom>
            <a:solidFill>
              <a:srgbClr val="8080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630520" y="4727160"/>
              <a:ext cx="2581200" cy="160560"/>
            </a:xfrm>
            <a:custGeom>
              <a:avLst/>
              <a:gdLst/>
              <a:ahLst/>
              <a:rect l="l" t="t" r="r" b="b"/>
              <a:pathLst>
                <a:path w="1626" h="101">
                  <a:moveTo>
                    <a:pt x="0" y="0"/>
                  </a:moveTo>
                  <a:lnTo>
                    <a:pt x="1625" y="0"/>
                  </a:lnTo>
                  <a:lnTo>
                    <a:pt x="1625" y="100"/>
                  </a:lnTo>
                  <a:lnTo>
                    <a:pt x="0" y="100"/>
                  </a:lnTo>
                  <a:lnTo>
                    <a:pt x="0" y="0"/>
                  </a:lnTo>
                </a:path>
              </a:pathLst>
            </a:custGeom>
            <a:solidFill>
              <a:srgbClr val="8080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2630520" y="4323960"/>
              <a:ext cx="2941560" cy="169920"/>
            </a:xfrm>
            <a:custGeom>
              <a:avLst/>
              <a:gdLst/>
              <a:ahLst/>
              <a:rect l="l" t="t" r="r" b="b"/>
              <a:pathLst>
                <a:path w="1853" h="107">
                  <a:moveTo>
                    <a:pt x="0" y="0"/>
                  </a:moveTo>
                  <a:lnTo>
                    <a:pt x="1852" y="0"/>
                  </a:lnTo>
                  <a:lnTo>
                    <a:pt x="1852" y="106"/>
                  </a:lnTo>
                  <a:lnTo>
                    <a:pt x="0" y="106"/>
                  </a:lnTo>
                  <a:lnTo>
                    <a:pt x="0" y="0"/>
                  </a:lnTo>
                </a:path>
              </a:pathLst>
            </a:custGeom>
            <a:solidFill>
              <a:srgbClr val="8080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2630520" y="3920760"/>
              <a:ext cx="3294000" cy="171720"/>
            </a:xfrm>
            <a:custGeom>
              <a:avLst/>
              <a:gdLst/>
              <a:ahLst/>
              <a:rect l="l" t="t" r="r" b="b"/>
              <a:pathLst>
                <a:path w="2075" h="108">
                  <a:moveTo>
                    <a:pt x="0" y="0"/>
                  </a:moveTo>
                  <a:lnTo>
                    <a:pt x="2074" y="0"/>
                  </a:lnTo>
                  <a:lnTo>
                    <a:pt x="2074" y="107"/>
                  </a:lnTo>
                  <a:lnTo>
                    <a:pt x="0" y="107"/>
                  </a:lnTo>
                  <a:lnTo>
                    <a:pt x="0" y="0"/>
                  </a:lnTo>
                </a:path>
              </a:pathLst>
            </a:custGeom>
            <a:solidFill>
              <a:srgbClr val="8080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2630520" y="3517560"/>
              <a:ext cx="763560" cy="171720"/>
            </a:xfrm>
            <a:custGeom>
              <a:avLst/>
              <a:gdLst/>
              <a:ahLst/>
              <a:rect l="l" t="t" r="r" b="b"/>
              <a:pathLst>
                <a:path w="481" h="108">
                  <a:moveTo>
                    <a:pt x="0" y="0"/>
                  </a:moveTo>
                  <a:lnTo>
                    <a:pt x="480" y="0"/>
                  </a:lnTo>
                  <a:lnTo>
                    <a:pt x="480" y="107"/>
                  </a:lnTo>
                  <a:lnTo>
                    <a:pt x="0" y="107"/>
                  </a:lnTo>
                  <a:lnTo>
                    <a:pt x="0" y="0"/>
                  </a:lnTo>
                </a:path>
              </a:pathLst>
            </a:custGeom>
            <a:solidFill>
              <a:srgbClr val="8080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630520" y="3125520"/>
              <a:ext cx="3294000" cy="160200"/>
            </a:xfrm>
            <a:custGeom>
              <a:avLst/>
              <a:gdLst/>
              <a:ahLst/>
              <a:rect l="l" t="t" r="r" b="b"/>
              <a:pathLst>
                <a:path w="2075" h="101">
                  <a:moveTo>
                    <a:pt x="0" y="0"/>
                  </a:moveTo>
                  <a:lnTo>
                    <a:pt x="2074" y="0"/>
                  </a:lnTo>
                  <a:lnTo>
                    <a:pt x="2074" y="100"/>
                  </a:lnTo>
                  <a:lnTo>
                    <a:pt x="0" y="100"/>
                  </a:lnTo>
                  <a:lnTo>
                    <a:pt x="0" y="0"/>
                  </a:lnTo>
                </a:path>
              </a:pathLst>
            </a:custGeom>
            <a:solidFill>
              <a:srgbClr val="8080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2630520" y="2722320"/>
              <a:ext cx="2941560" cy="169920"/>
            </a:xfrm>
            <a:custGeom>
              <a:avLst/>
              <a:gdLst/>
              <a:ahLst/>
              <a:rect l="l" t="t" r="r" b="b"/>
              <a:pathLst>
                <a:path w="1853" h="107">
                  <a:moveTo>
                    <a:pt x="0" y="0"/>
                  </a:moveTo>
                  <a:lnTo>
                    <a:pt x="1852" y="0"/>
                  </a:lnTo>
                  <a:lnTo>
                    <a:pt x="1852" y="106"/>
                  </a:lnTo>
                  <a:lnTo>
                    <a:pt x="0" y="106"/>
                  </a:lnTo>
                  <a:lnTo>
                    <a:pt x="0" y="0"/>
                  </a:lnTo>
                </a:path>
              </a:pathLst>
            </a:custGeom>
            <a:solidFill>
              <a:srgbClr val="8080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2630520" y="2319120"/>
              <a:ext cx="2581200" cy="169920"/>
            </a:xfrm>
            <a:custGeom>
              <a:avLst/>
              <a:gdLst/>
              <a:ahLst/>
              <a:rect l="l" t="t" r="r" b="b"/>
              <a:pathLst>
                <a:path w="1626" h="107">
                  <a:moveTo>
                    <a:pt x="0" y="0"/>
                  </a:moveTo>
                  <a:lnTo>
                    <a:pt x="1625" y="0"/>
                  </a:lnTo>
                  <a:lnTo>
                    <a:pt x="1625" y="106"/>
                  </a:lnTo>
                  <a:lnTo>
                    <a:pt x="0" y="106"/>
                  </a:lnTo>
                  <a:lnTo>
                    <a:pt x="0" y="0"/>
                  </a:lnTo>
                </a:path>
              </a:pathLst>
            </a:custGeom>
            <a:solidFill>
              <a:srgbClr val="8080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2630520" y="1915920"/>
              <a:ext cx="2941560" cy="169920"/>
            </a:xfrm>
            <a:custGeom>
              <a:avLst/>
              <a:gdLst/>
              <a:ahLst/>
              <a:rect l="l" t="t" r="r" b="b"/>
              <a:pathLst>
                <a:path w="1853" h="107">
                  <a:moveTo>
                    <a:pt x="0" y="0"/>
                  </a:moveTo>
                  <a:lnTo>
                    <a:pt x="1852" y="0"/>
                  </a:lnTo>
                  <a:lnTo>
                    <a:pt x="1852" y="106"/>
                  </a:lnTo>
                  <a:lnTo>
                    <a:pt x="0" y="106"/>
                  </a:lnTo>
                  <a:lnTo>
                    <a:pt x="0" y="0"/>
                  </a:lnTo>
                </a:path>
              </a:pathLst>
            </a:custGeom>
            <a:solidFill>
              <a:srgbClr val="8080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630520" y="1522080"/>
              <a:ext cx="3703680" cy="160560"/>
            </a:xfrm>
            <a:custGeom>
              <a:avLst/>
              <a:gdLst/>
              <a:ahLst/>
              <a:rect l="l" t="t" r="r" b="b"/>
              <a:pathLst>
                <a:path w="2333" h="101">
                  <a:moveTo>
                    <a:pt x="0" y="0"/>
                  </a:moveTo>
                  <a:lnTo>
                    <a:pt x="2332" y="0"/>
                  </a:lnTo>
                  <a:lnTo>
                    <a:pt x="2332" y="100"/>
                  </a:lnTo>
                  <a:lnTo>
                    <a:pt x="0" y="100"/>
                  </a:lnTo>
                  <a:lnTo>
                    <a:pt x="0" y="0"/>
                  </a:lnTo>
                </a:path>
              </a:pathLst>
            </a:custGeom>
            <a:solidFill>
              <a:srgbClr val="8080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2630520" y="1118880"/>
              <a:ext cx="3294000" cy="169920"/>
            </a:xfrm>
            <a:custGeom>
              <a:avLst/>
              <a:gdLst/>
              <a:ahLst/>
              <a:rect l="l" t="t" r="r" b="b"/>
              <a:pathLst>
                <a:path w="2075" h="107">
                  <a:moveTo>
                    <a:pt x="0" y="0"/>
                  </a:moveTo>
                  <a:lnTo>
                    <a:pt x="2074" y="0"/>
                  </a:lnTo>
                  <a:lnTo>
                    <a:pt x="2074" y="106"/>
                  </a:lnTo>
                  <a:lnTo>
                    <a:pt x="0" y="106"/>
                  </a:lnTo>
                  <a:lnTo>
                    <a:pt x="0" y="0"/>
                  </a:lnTo>
                </a:path>
              </a:pathLst>
            </a:custGeom>
            <a:solidFill>
              <a:srgbClr val="8080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2630520" y="5402160"/>
              <a:ext cx="5870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 flipV="1">
              <a:off x="2604960" y="5382720"/>
              <a:ext cx="0" cy="2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 flipV="1">
              <a:off x="3220920" y="5401800"/>
              <a:ext cx="0" cy="2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 flipV="1">
              <a:off x="3801960" y="5401800"/>
              <a:ext cx="0" cy="2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 flipV="1">
              <a:off x="4390920" y="5401800"/>
              <a:ext cx="0" cy="2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V="1">
              <a:off x="4981680" y="5401800"/>
              <a:ext cx="0" cy="2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V="1">
              <a:off x="5570640" y="5401800"/>
              <a:ext cx="0" cy="2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6151680" y="5401800"/>
              <a:ext cx="0" cy="2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 flipV="1">
              <a:off x="6740640" y="5401800"/>
              <a:ext cx="0" cy="2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flipV="1">
              <a:off x="7331040" y="5401800"/>
              <a:ext cx="0" cy="2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 flipV="1">
              <a:off x="7912080" y="5401800"/>
              <a:ext cx="0" cy="2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8501040" y="5401800"/>
              <a:ext cx="0" cy="2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604960" y="977760"/>
              <a:ext cx="0" cy="4405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2529000" y="5383080"/>
              <a:ext cx="75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529000" y="4979880"/>
              <a:ext cx="75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2529000" y="4586040"/>
              <a:ext cx="75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2529000" y="4182840"/>
              <a:ext cx="75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529000" y="3781080"/>
              <a:ext cx="75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2529000" y="3377880"/>
              <a:ext cx="75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2529000" y="2984400"/>
              <a:ext cx="75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2529000" y="2581200"/>
              <a:ext cx="75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529000" y="2177640"/>
              <a:ext cx="75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2529000" y="1774440"/>
              <a:ext cx="75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2529000" y="1380960"/>
              <a:ext cx="75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2529000" y="977760"/>
              <a:ext cx="75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313000" y="5392440"/>
              <a:ext cx="241560" cy="19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85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3072240" y="5437080"/>
              <a:ext cx="297720" cy="19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85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8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3653280" y="5437080"/>
              <a:ext cx="297720" cy="19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85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8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242240" y="5437080"/>
              <a:ext cx="297720" cy="19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85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8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832640" y="5437080"/>
              <a:ext cx="297720" cy="19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85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8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5421600" y="5437080"/>
              <a:ext cx="297720" cy="19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85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8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6002640" y="5437080"/>
              <a:ext cx="297720" cy="19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85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8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6591600" y="5437080"/>
              <a:ext cx="297720" cy="19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85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70</a:t>
              </a:r>
              <a:endParaRPr b="0" lang="en-US" sz="8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7182360" y="5437080"/>
              <a:ext cx="297720" cy="19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85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8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7763400" y="5437080"/>
              <a:ext cx="297720" cy="19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85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90</a:t>
              </a:r>
              <a:endParaRPr b="0" lang="en-US" sz="8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8323920" y="5437080"/>
              <a:ext cx="354240" cy="19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85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8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1409040" y="5054400"/>
              <a:ext cx="1198440" cy="22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r">
                <a:lnSpc>
                  <a:spcPct val="85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80"/>
                  </a:solidFill>
                  <a:latin typeface="Arial"/>
                </a:rPr>
                <a:t>Lack of IT support</a:t>
              </a:r>
              <a:endParaRPr b="0" lang="en-US" sz="10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841320" y="4651200"/>
              <a:ext cx="1765440" cy="22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r">
                <a:lnSpc>
                  <a:spcPct val="85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80"/>
                  </a:solidFill>
                  <a:latin typeface="Arial"/>
                </a:rPr>
                <a:t>Lack of KM techniques/tools</a:t>
              </a:r>
              <a:endParaRPr b="0" lang="en-US" sz="10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03200" y="4248000"/>
              <a:ext cx="2201400" cy="22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r">
                <a:lnSpc>
                  <a:spcPct val="85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80"/>
                  </a:solidFill>
                  <a:latin typeface="Arial"/>
                </a:rPr>
                <a:t>Hierarchical organizational structure</a:t>
              </a:r>
              <a:endParaRPr b="0" lang="en-US" sz="10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509760" y="3838320"/>
              <a:ext cx="2095200" cy="40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r">
                <a:lnSpc>
                  <a:spcPct val="85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80"/>
                  </a:solidFill>
                  <a:latin typeface="Arial"/>
                </a:rPr>
                <a:t>Emphasis on short term results</a:t>
              </a:r>
              <a:endParaRPr b="0" lang="en-US" sz="12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1176480" y="3450960"/>
              <a:ext cx="1430280" cy="22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r">
                <a:lnSpc>
                  <a:spcPct val="85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80"/>
                  </a:solidFill>
                  <a:latin typeface="Arial"/>
                </a:rPr>
                <a:t>Lack of true teamwork</a:t>
              </a:r>
              <a:endParaRPr b="0" lang="en-US" sz="10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587520" y="3017520"/>
              <a:ext cx="2017440" cy="40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r">
                <a:lnSpc>
                  <a:spcPct val="85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80"/>
                  </a:solidFill>
                  <a:latin typeface="Arial"/>
                </a:rPr>
                <a:t>Too little time to share information</a:t>
              </a:r>
              <a:endParaRPr b="0" lang="en-US" sz="12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507960" y="2593800"/>
              <a:ext cx="2097000" cy="35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r">
                <a:lnSpc>
                  <a:spcPct val="85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80"/>
                  </a:solidFill>
                  <a:latin typeface="Arial"/>
                </a:rPr>
                <a:t>Current culture does not encourage knowledge sharing</a:t>
              </a:r>
              <a:endParaRPr b="0" lang="en-US" sz="10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1669320" y="2252520"/>
              <a:ext cx="937800" cy="22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r">
                <a:lnSpc>
                  <a:spcPct val="85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80"/>
                  </a:solidFill>
                  <a:latin typeface="Arial"/>
                </a:rPr>
                <a:t>Lack of funds</a:t>
              </a:r>
              <a:endParaRPr b="0" lang="en-US" sz="10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1128600" y="1796760"/>
              <a:ext cx="1476360" cy="35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r">
                <a:lnSpc>
                  <a:spcPct val="85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80"/>
                  </a:solidFill>
                  <a:latin typeface="Arial"/>
                </a:rPr>
                <a:t>Lack of commitment senior management</a:t>
              </a:r>
              <a:endParaRPr b="0" lang="en-US" sz="10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657360" y="1446120"/>
              <a:ext cx="1947600" cy="24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r">
                <a:lnSpc>
                  <a:spcPct val="85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80"/>
                  </a:solidFill>
                  <a:latin typeface="Arial"/>
                </a:rPr>
                <a:t>KM is no top priority</a:t>
              </a:r>
              <a:endParaRPr b="0" lang="en-US" sz="12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270000" y="983880"/>
              <a:ext cx="2334960" cy="40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r">
                <a:lnSpc>
                  <a:spcPct val="85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80"/>
                  </a:solidFill>
                  <a:latin typeface="Arial"/>
                </a:rPr>
                <a:t>Lack of understanding of KM and its potential benefits</a:t>
              </a:r>
              <a:endParaRPr b="0" lang="en-US" sz="12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8439120" y="5518080"/>
              <a:ext cx="2901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000" spc="-1" strike="noStrike">
                  <a:solidFill>
                    <a:srgbClr val="fcfeb9"/>
                  </a:solidFill>
                  <a:latin typeface="Times New Roman"/>
                </a:rPr>
                <a:t>%</a:t>
              </a:r>
              <a:endParaRPr b="0" lang="en-US" sz="10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</p:grpSp>
      <p:sp>
        <p:nvSpPr>
          <p:cNvPr id="821" name=""/>
          <p:cNvSpPr/>
          <p:nvPr/>
        </p:nvSpPr>
        <p:spPr>
          <a:xfrm>
            <a:off x="4040640" y="6524640"/>
            <a:ext cx="135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000c0"/>
                </a:solidFill>
                <a:uFillTx/>
                <a:latin typeface="Times New Roman"/>
                <a:hlinkClick r:id="rId1"/>
              </a:rPr>
              <a:t>[</a:t>
            </a:r>
            <a:r>
              <a:rPr b="0" lang="en-US" sz="1600" spc="-1" strike="noStrike" u="sng">
                <a:solidFill>
                  <a:srgbClr val="c000c0"/>
                </a:solidFill>
                <a:uFillTx/>
                <a:latin typeface="Times New Roman"/>
                <a:hlinkClick r:id="rId2"/>
              </a:rPr>
              <a:t>KPMG</a:t>
            </a:r>
            <a:r>
              <a:rPr b="0" lang="en-US" sz="1600" spc="-1" strike="noStrike" u="sng">
                <a:solidFill>
                  <a:srgbClr val="c000c0"/>
                </a:solidFill>
                <a:uFillTx/>
                <a:latin typeface="Times New Roman"/>
                <a:hlinkClick r:id="rId3"/>
              </a:rPr>
              <a:t> 1999]</a:t>
            </a:r>
            <a:endParaRPr b="0" lang="en-US" sz="16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152280" y="579132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601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Major road blocks are a lack of understanding, interest, patience for results and time for sharing information.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80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Unfavorable Conditions for KM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grpSp>
        <p:nvGrpSpPr>
          <p:cNvPr id="824" name=""/>
          <p:cNvGrpSpPr/>
          <p:nvPr/>
        </p:nvGrpSpPr>
        <p:grpSpPr>
          <a:xfrm>
            <a:off x="1417680" y="5538960"/>
            <a:ext cx="6965640" cy="785160"/>
            <a:chOff x="1417680" y="5538960"/>
            <a:chExt cx="6965640" cy="785160"/>
          </a:xfrm>
        </p:grpSpPr>
        <p:sp>
          <p:nvSpPr>
            <p:cNvPr id="825" name=""/>
            <p:cNvSpPr/>
            <p:nvPr/>
          </p:nvSpPr>
          <p:spPr>
            <a:xfrm>
              <a:off x="7227720" y="5538960"/>
              <a:ext cx="1155600" cy="785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70" y="0"/>
                  </a:moveTo>
                  <a:arcTo wR="10800" hR="10800" stAng="-5409430" swAng="1080943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70" y="0"/>
                  </a:moveTo>
                  <a:arcTo wR="10800" hR="10800" stAng="-5409430" swAng="10809430"/>
                </a:path>
              </a:pathLst>
            </a:custGeom>
            <a:noFill/>
            <a:ln cap="rnd" w="5076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1417680" y="6318720"/>
              <a:ext cx="6364080" cy="0"/>
            </a:xfrm>
            <a:prstGeom prst="line">
              <a:avLst/>
            </a:prstGeom>
            <a:ln w="50760">
              <a:solidFill>
                <a:srgbClr val="ff3399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</p:grpSp>
      <p:sp>
        <p:nvSpPr>
          <p:cNvPr id="827" name=""/>
          <p:cNvSpPr/>
          <p:nvPr/>
        </p:nvSpPr>
        <p:spPr>
          <a:xfrm>
            <a:off x="685800" y="5715000"/>
            <a:ext cx="79437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c0128"/>
                </a:solidFill>
                <a:latin typeface="Times New Roman"/>
              </a:rPr>
              <a:t>… </a:t>
            </a:r>
            <a:r>
              <a:rPr b="0" i="1" lang="en-US" sz="3600" spc="-1" strike="noStrike">
                <a:solidFill>
                  <a:srgbClr val="fc0128"/>
                </a:solidFill>
                <a:latin typeface="Times New Roman"/>
              </a:rPr>
              <a:t>then don’t start a KM initiative</a:t>
            </a:r>
            <a:endParaRPr b="0" lang="en-US" sz="36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4040640" y="6524640"/>
            <a:ext cx="135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000c0"/>
                </a:solidFill>
                <a:uFillTx/>
                <a:latin typeface="Times New Roman"/>
                <a:hlinkClick r:id="rId1"/>
              </a:rPr>
              <a:t>[</a:t>
            </a:r>
            <a:r>
              <a:rPr b="0" lang="en-US" sz="1600" spc="-1" strike="noStrike" u="sng">
                <a:solidFill>
                  <a:srgbClr val="c000c0"/>
                </a:solidFill>
                <a:uFillTx/>
                <a:latin typeface="Times New Roman"/>
                <a:hlinkClick r:id="rId2"/>
              </a:rPr>
              <a:t>KPMG</a:t>
            </a:r>
            <a:r>
              <a:rPr b="0" lang="en-US" sz="1600" spc="-1" strike="noStrike" u="sng">
                <a:solidFill>
                  <a:srgbClr val="c000c0"/>
                </a:solidFill>
                <a:uFillTx/>
                <a:latin typeface="Times New Roman"/>
                <a:hlinkClick r:id="rId3"/>
              </a:rPr>
              <a:t> 1999]</a:t>
            </a:r>
            <a:endParaRPr b="0" lang="en-US" sz="16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380880" y="990720"/>
            <a:ext cx="6724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ff00"/>
                </a:solidFill>
                <a:latin typeface="Times New Roman"/>
              </a:rPr>
              <a:t>If this is your company ...</a:t>
            </a:r>
            <a:endParaRPr b="0" lang="en-US" sz="3600" spc="-1" strike="noStrike">
              <a:solidFill>
                <a:srgbClr val="fcfeb9"/>
              </a:solidFill>
              <a:latin typeface="Times New Roman"/>
            </a:endParaRPr>
          </a:p>
        </p:txBody>
      </p:sp>
      <p:grpSp>
        <p:nvGrpSpPr>
          <p:cNvPr id="830" name=""/>
          <p:cNvGrpSpPr/>
          <p:nvPr/>
        </p:nvGrpSpPr>
        <p:grpSpPr>
          <a:xfrm>
            <a:off x="1384200" y="1641600"/>
            <a:ext cx="6407280" cy="4073400"/>
            <a:chOff x="1384200" y="1641600"/>
            <a:chExt cx="6407280" cy="4073400"/>
          </a:xfrm>
        </p:grpSpPr>
        <p:pic>
          <p:nvPicPr>
            <p:cNvPr id="831" name="" descr=""/>
            <p:cNvPicPr/>
            <p:nvPr/>
          </p:nvPicPr>
          <p:blipFill>
            <a:blip r:embed="rId4"/>
            <a:srcRect l="0" t="0" r="1862422" b="2198"/>
            <a:stretch/>
          </p:blipFill>
          <p:spPr>
            <a:xfrm>
              <a:off x="1384200" y="1641600"/>
              <a:ext cx="6407280" cy="407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2" name=""/>
            <p:cNvSpPr/>
            <p:nvPr/>
          </p:nvSpPr>
          <p:spPr>
            <a:xfrm>
              <a:off x="2733120" y="1949400"/>
              <a:ext cx="4647960" cy="46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38240" rIns="138240" tIns="69840" bIns="698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714680"/>
                  <a:tab algn="l" pos="3429000"/>
                  <a:tab algn="l" pos="5143680"/>
                  <a:tab algn="l" pos="6858000"/>
                  <a:tab algn="l" pos="8572680"/>
                  <a:tab algn="l" pos="10287000"/>
                </a:tabLst>
              </a:pPr>
              <a:r>
                <a:rPr b="1" lang="en-US" sz="2100" spc="-1" strike="noStrike">
                  <a:solidFill>
                    <a:srgbClr val="000080"/>
                  </a:solidFill>
                  <a:latin typeface="Univers 45 Light"/>
                </a:rPr>
                <a:t>No commitment or not a priority</a:t>
              </a:r>
              <a:endParaRPr b="0" lang="en-US" sz="21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1871280" y="2863800"/>
              <a:ext cx="2523600" cy="46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38240" rIns="138240" tIns="69840" bIns="698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714680"/>
                  <a:tab algn="l" pos="3429000"/>
                  <a:tab algn="l" pos="5143680"/>
                  <a:tab algn="l" pos="6858000"/>
                  <a:tab algn="l" pos="8572680"/>
                  <a:tab algn="l" pos="10287000"/>
                </a:tabLst>
              </a:pPr>
              <a:r>
                <a:rPr b="1" lang="en-US" sz="2100" spc="-1" strike="noStrike">
                  <a:solidFill>
                    <a:srgbClr val="000020"/>
                  </a:solidFill>
                  <a:latin typeface="Univers 45 Light"/>
                </a:rPr>
                <a:t>Short-term focus</a:t>
              </a:r>
              <a:endParaRPr b="0" lang="en-US" sz="21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2223000" y="3664080"/>
              <a:ext cx="4701240" cy="46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38240" rIns="138240" tIns="69840" bIns="698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714680"/>
                  <a:tab algn="l" pos="3429000"/>
                  <a:tab algn="l" pos="5143680"/>
                  <a:tab algn="l" pos="6858000"/>
                  <a:tab algn="l" pos="8572680"/>
                  <a:tab algn="l" pos="10287000"/>
                </a:tabLst>
              </a:pPr>
              <a:r>
                <a:rPr b="1" lang="en-US" sz="2100" spc="-1" strike="noStrike">
                  <a:solidFill>
                    <a:srgbClr val="000020"/>
                  </a:solidFill>
                  <a:latin typeface="Univers 45 Light"/>
                </a:rPr>
                <a:t>Insufficient understanding of KM</a:t>
              </a:r>
              <a:endParaRPr b="0" lang="en-US" sz="21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4800600" y="4572000"/>
              <a:ext cx="2990880" cy="822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3089520" y="4214880"/>
              <a:ext cx="4581000" cy="46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38240" rIns="138240" tIns="69840" bIns="698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714680"/>
                  <a:tab algn="l" pos="3429000"/>
                  <a:tab algn="l" pos="5143680"/>
                  <a:tab algn="l" pos="6858000"/>
                  <a:tab algn="l" pos="8572680"/>
                  <a:tab algn="l" pos="10287000"/>
                </a:tabLst>
              </a:pPr>
              <a:r>
                <a:rPr b="1" lang="en-US" sz="2100" spc="-1" strike="noStrike">
                  <a:solidFill>
                    <a:srgbClr val="000020"/>
                  </a:solidFill>
                  <a:latin typeface="Univers 45 Light"/>
                </a:rPr>
                <a:t>Overtaxed organization/no time</a:t>
              </a:r>
              <a:endParaRPr b="0" lang="en-US" sz="21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</p:grpSp>
    </p:spTree>
  </p:cSld>
  <p:transition spd="slow">
    <p:split dir="out" orient="vert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"/>
          <p:cNvSpPr/>
          <p:nvPr/>
        </p:nvSpPr>
        <p:spPr>
          <a:xfrm flipH="1" rot="16200000">
            <a:off x="3199320" y="-1576080"/>
            <a:ext cx="2667240" cy="8458200"/>
          </a:xfrm>
          <a:custGeom>
            <a:avLst/>
            <a:gdLst>
              <a:gd name="textAreaLeft" fmla="*/ -360 w 2667240"/>
              <a:gd name="textAreaRight" fmla="*/ 2667240 w 2667240"/>
              <a:gd name="textAreaTop" fmla="*/ 0 h 8458200"/>
              <a:gd name="textAreaBottom" fmla="*/ 8458560 h 8458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1c7300"/>
              </a:gs>
              <a:gs pos="100000">
                <a:srgbClr val="30c2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grpSp>
        <p:nvGrpSpPr>
          <p:cNvPr id="838" name=""/>
          <p:cNvGrpSpPr/>
          <p:nvPr/>
        </p:nvGrpSpPr>
        <p:grpSpPr>
          <a:xfrm>
            <a:off x="3828960" y="1714680"/>
            <a:ext cx="1374480" cy="1049040"/>
            <a:chOff x="3828960" y="1714680"/>
            <a:chExt cx="1374480" cy="1049040"/>
          </a:xfrm>
        </p:grpSpPr>
        <p:sp>
          <p:nvSpPr>
            <p:cNvPr id="839" name=""/>
            <p:cNvSpPr/>
            <p:nvPr/>
          </p:nvSpPr>
          <p:spPr>
            <a:xfrm>
              <a:off x="4857480" y="2031840"/>
              <a:ext cx="1440" cy="730080"/>
            </a:xfrm>
            <a:prstGeom prst="line">
              <a:avLst/>
            </a:prstGeom>
            <a:ln w="507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3917880" y="2763720"/>
              <a:ext cx="942840" cy="0"/>
            </a:xfrm>
            <a:prstGeom prst="line">
              <a:avLst/>
            </a:prstGeom>
            <a:ln w="12600">
              <a:solidFill>
                <a:srgbClr val="00cece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 flipV="1">
              <a:off x="4868640" y="2432160"/>
              <a:ext cx="266760" cy="324720"/>
            </a:xfrm>
            <a:prstGeom prst="line">
              <a:avLst/>
            </a:prstGeom>
            <a:ln w="12600">
              <a:solidFill>
                <a:srgbClr val="00cece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133600" y="1911240"/>
              <a:ext cx="0" cy="522000"/>
            </a:xfrm>
            <a:prstGeom prst="line">
              <a:avLst/>
            </a:prstGeom>
            <a:ln w="507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 flipH="1">
              <a:off x="4309560" y="2433600"/>
              <a:ext cx="825480" cy="0"/>
            </a:xfrm>
            <a:prstGeom prst="line">
              <a:avLst/>
            </a:prstGeom>
            <a:ln w="12600">
              <a:solidFill>
                <a:srgbClr val="00cece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 flipH="1">
              <a:off x="3915720" y="2035080"/>
              <a:ext cx="1800" cy="721800"/>
            </a:xfrm>
            <a:prstGeom prst="line">
              <a:avLst/>
            </a:prstGeom>
            <a:ln w="507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 flipV="1">
              <a:off x="3917880" y="2433240"/>
              <a:ext cx="392040" cy="318600"/>
            </a:xfrm>
            <a:prstGeom prst="line">
              <a:avLst/>
            </a:prstGeom>
            <a:ln w="12600">
              <a:solidFill>
                <a:srgbClr val="00cece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4305240" y="2031840"/>
              <a:ext cx="2880" cy="401400"/>
            </a:xfrm>
            <a:prstGeom prst="line">
              <a:avLst/>
            </a:prstGeom>
            <a:ln w="507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4419360" y="1981080"/>
              <a:ext cx="6480" cy="0"/>
            </a:xfrm>
            <a:prstGeom prst="line">
              <a:avLst/>
            </a:prstGeom>
            <a:ln w="12600">
              <a:solidFill>
                <a:srgbClr val="00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3828960" y="1930320"/>
              <a:ext cx="1326960" cy="99720"/>
            </a:xfrm>
            <a:prstGeom prst="parallelogram">
              <a:avLst>
                <a:gd name="adj" fmla="val 340557"/>
              </a:avLst>
            </a:prstGeom>
            <a:noFill/>
            <a:ln w="12600">
              <a:solidFill>
                <a:srgbClr val="00cece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480" bIns="1548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4435200" y="2076480"/>
              <a:ext cx="4680" cy="0"/>
            </a:xfrm>
            <a:prstGeom prst="line">
              <a:avLst/>
            </a:prstGeom>
            <a:ln w="12600">
              <a:solidFill>
                <a:srgbClr val="00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4435200" y="2076480"/>
              <a:ext cx="4680" cy="0"/>
            </a:xfrm>
            <a:prstGeom prst="line">
              <a:avLst/>
            </a:prstGeom>
            <a:ln w="12600">
              <a:solidFill>
                <a:srgbClr val="00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 flipV="1">
              <a:off x="4408200" y="1737720"/>
              <a:ext cx="235080" cy="14040"/>
            </a:xfrm>
            <a:prstGeom prst="line">
              <a:avLst/>
            </a:prstGeom>
            <a:ln w="12600">
              <a:solidFill>
                <a:srgbClr val="00cece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4390920" y="2022480"/>
              <a:ext cx="1440" cy="0"/>
            </a:xfrm>
            <a:prstGeom prst="line">
              <a:avLst/>
            </a:prstGeom>
            <a:ln w="12600">
              <a:solidFill>
                <a:srgbClr val="00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4390920" y="2022480"/>
              <a:ext cx="1440" cy="0"/>
            </a:xfrm>
            <a:prstGeom prst="line">
              <a:avLst/>
            </a:prstGeom>
            <a:ln w="12600">
              <a:solidFill>
                <a:srgbClr val="00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4348080" y="1716120"/>
              <a:ext cx="855360" cy="267840"/>
            </a:xfrm>
            <a:custGeom>
              <a:avLst/>
              <a:gdLst/>
              <a:ahLst/>
              <a:rect l="l" t="t" r="r" b="b"/>
              <a:pathLst>
                <a:path w="539" h="169">
                  <a:moveTo>
                    <a:pt x="409" y="168"/>
                  </a:moveTo>
                  <a:lnTo>
                    <a:pt x="538" y="123"/>
                  </a:lnTo>
                  <a:lnTo>
                    <a:pt x="180" y="0"/>
                  </a:lnTo>
                  <a:lnTo>
                    <a:pt x="0" y="26"/>
                  </a:lnTo>
                  <a:lnTo>
                    <a:pt x="409" y="168"/>
                  </a:lnTo>
                </a:path>
              </a:pathLst>
            </a:custGeom>
            <a:noFill/>
            <a:ln cap="rnd" w="12600">
              <a:solidFill>
                <a:srgbClr val="00cece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4665600" y="1714680"/>
              <a:ext cx="496800" cy="207720"/>
            </a:xfrm>
            <a:prstGeom prst="line">
              <a:avLst/>
            </a:prstGeom>
            <a:ln w="12600">
              <a:solidFill>
                <a:srgbClr val="00cece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3828960" y="1758960"/>
              <a:ext cx="1112760" cy="264600"/>
            </a:xfrm>
            <a:prstGeom prst="triangle">
              <a:avLst>
                <a:gd name="adj" fmla="val 49995"/>
              </a:avLst>
            </a:prstGeom>
            <a:noFill/>
            <a:ln w="12600">
              <a:solidFill>
                <a:srgbClr val="00cece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400" bIns="414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</p:grpSp>
      <p:grpSp>
        <p:nvGrpSpPr>
          <p:cNvPr id="857" name=""/>
          <p:cNvGrpSpPr/>
          <p:nvPr/>
        </p:nvGrpSpPr>
        <p:grpSpPr>
          <a:xfrm>
            <a:off x="762120" y="1716120"/>
            <a:ext cx="1488600" cy="1046160"/>
            <a:chOff x="762120" y="1716120"/>
            <a:chExt cx="1488600" cy="1046160"/>
          </a:xfrm>
        </p:grpSpPr>
        <p:sp>
          <p:nvSpPr>
            <p:cNvPr id="858" name=""/>
            <p:cNvSpPr/>
            <p:nvPr/>
          </p:nvSpPr>
          <p:spPr>
            <a:xfrm>
              <a:off x="1887480" y="2041560"/>
              <a:ext cx="0" cy="696960"/>
            </a:xfrm>
            <a:prstGeom prst="line">
              <a:avLst/>
            </a:prstGeom>
            <a:ln w="12600">
              <a:solidFill>
                <a:srgbClr val="00cece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2189160" y="1911600"/>
              <a:ext cx="0" cy="509400"/>
            </a:xfrm>
            <a:prstGeom prst="line">
              <a:avLst/>
            </a:prstGeom>
            <a:ln w="12600">
              <a:solidFill>
                <a:srgbClr val="00cece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857160" y="2055960"/>
              <a:ext cx="0" cy="681120"/>
            </a:xfrm>
            <a:prstGeom prst="line">
              <a:avLst/>
            </a:prstGeom>
            <a:ln w="12600">
              <a:solidFill>
                <a:srgbClr val="00cece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grpSp>
          <p:nvGrpSpPr>
            <p:cNvPr id="861" name=""/>
            <p:cNvGrpSpPr/>
            <p:nvPr/>
          </p:nvGrpSpPr>
          <p:grpSpPr>
            <a:xfrm>
              <a:off x="857160" y="2396880"/>
              <a:ext cx="1332360" cy="365400"/>
              <a:chOff x="857160" y="2396880"/>
              <a:chExt cx="1332360" cy="365400"/>
            </a:xfrm>
          </p:grpSpPr>
          <p:sp>
            <p:nvSpPr>
              <p:cNvPr id="862" name=""/>
              <p:cNvSpPr/>
              <p:nvPr/>
            </p:nvSpPr>
            <p:spPr>
              <a:xfrm>
                <a:off x="857160" y="2739960"/>
                <a:ext cx="1029960" cy="0"/>
              </a:xfrm>
              <a:prstGeom prst="line">
                <a:avLst/>
              </a:prstGeom>
              <a:ln w="50760">
                <a:solidFill>
                  <a:srgbClr val="00cec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 flipV="1">
                <a:off x="1868040" y="2421000"/>
                <a:ext cx="320400" cy="341280"/>
              </a:xfrm>
              <a:prstGeom prst="line">
                <a:avLst/>
              </a:prstGeom>
              <a:ln w="50760">
                <a:solidFill>
                  <a:srgbClr val="00cec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flipH="1">
                <a:off x="1281960" y="2419560"/>
                <a:ext cx="907560" cy="0"/>
              </a:xfrm>
              <a:prstGeom prst="line">
                <a:avLst/>
              </a:prstGeom>
              <a:ln w="50760">
                <a:solidFill>
                  <a:srgbClr val="00cec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flipV="1">
                <a:off x="858240" y="2396880"/>
                <a:ext cx="466560" cy="336600"/>
              </a:xfrm>
              <a:prstGeom prst="line">
                <a:avLst/>
              </a:prstGeom>
              <a:ln w="50760">
                <a:solidFill>
                  <a:srgbClr val="00cec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</p:grpSp>
        <p:sp>
          <p:nvSpPr>
            <p:cNvPr id="866" name=""/>
            <p:cNvSpPr/>
            <p:nvPr/>
          </p:nvSpPr>
          <p:spPr>
            <a:xfrm>
              <a:off x="1280880" y="2054160"/>
              <a:ext cx="0" cy="365400"/>
            </a:xfrm>
            <a:prstGeom prst="line">
              <a:avLst/>
            </a:prstGeom>
            <a:ln w="12600">
              <a:solidFill>
                <a:srgbClr val="00cece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1406520" y="1979640"/>
              <a:ext cx="9000" cy="0"/>
            </a:xfrm>
            <a:prstGeom prst="line">
              <a:avLst/>
            </a:prstGeom>
            <a:ln w="12600">
              <a:solidFill>
                <a:srgbClr val="00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762120" y="1933560"/>
              <a:ext cx="1447560" cy="82800"/>
            </a:xfrm>
            <a:prstGeom prst="parallelogram">
              <a:avLst>
                <a:gd name="adj" fmla="val 447425"/>
              </a:avLst>
            </a:prstGeom>
            <a:noFill/>
            <a:ln w="12600">
              <a:solidFill>
                <a:srgbClr val="00cece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1423800" y="2067120"/>
              <a:ext cx="6120" cy="0"/>
            </a:xfrm>
            <a:prstGeom prst="line">
              <a:avLst/>
            </a:prstGeom>
            <a:ln w="12600">
              <a:solidFill>
                <a:srgbClr val="00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423800" y="2067120"/>
              <a:ext cx="6120" cy="0"/>
            </a:xfrm>
            <a:prstGeom prst="line">
              <a:avLst/>
            </a:prstGeom>
            <a:ln w="12600">
              <a:solidFill>
                <a:srgbClr val="00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 flipV="1">
              <a:off x="1396800" y="1741320"/>
              <a:ext cx="252000" cy="14040"/>
            </a:xfrm>
            <a:prstGeom prst="line">
              <a:avLst/>
            </a:prstGeom>
            <a:ln w="12600">
              <a:solidFill>
                <a:srgbClr val="00cece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1373040" y="2019240"/>
              <a:ext cx="2880" cy="0"/>
            </a:xfrm>
            <a:prstGeom prst="line">
              <a:avLst/>
            </a:prstGeom>
            <a:ln w="12600">
              <a:solidFill>
                <a:srgbClr val="00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 flipV="1">
              <a:off x="1947600" y="1912680"/>
              <a:ext cx="279000" cy="88920"/>
            </a:xfrm>
            <a:prstGeom prst="line">
              <a:avLst/>
            </a:prstGeom>
            <a:ln w="12600">
              <a:solidFill>
                <a:srgbClr val="00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1373040" y="2019240"/>
              <a:ext cx="2880" cy="0"/>
            </a:xfrm>
            <a:prstGeom prst="line">
              <a:avLst/>
            </a:prstGeom>
            <a:ln w="12600">
              <a:solidFill>
                <a:srgbClr val="00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 flipV="1">
              <a:off x="1965240" y="1911240"/>
              <a:ext cx="285480" cy="99720"/>
            </a:xfrm>
            <a:prstGeom prst="line">
              <a:avLst/>
            </a:prstGeom>
            <a:ln w="12600">
              <a:solidFill>
                <a:srgbClr val="00cece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1677960" y="1716120"/>
              <a:ext cx="539280" cy="208080"/>
            </a:xfrm>
            <a:prstGeom prst="line">
              <a:avLst/>
            </a:prstGeom>
            <a:ln w="12600">
              <a:solidFill>
                <a:srgbClr val="00cece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62120" y="1757520"/>
              <a:ext cx="1217520" cy="257040"/>
            </a:xfrm>
            <a:prstGeom prst="triangle">
              <a:avLst>
                <a:gd name="adj" fmla="val 49995"/>
              </a:avLst>
            </a:prstGeom>
            <a:noFill/>
            <a:ln w="12600">
              <a:solidFill>
                <a:srgbClr val="00cece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</p:grpSp>
      <p:grpSp>
        <p:nvGrpSpPr>
          <p:cNvPr id="878" name=""/>
          <p:cNvGrpSpPr/>
          <p:nvPr/>
        </p:nvGrpSpPr>
        <p:grpSpPr>
          <a:xfrm>
            <a:off x="6781680" y="1676520"/>
            <a:ext cx="1555920" cy="1127160"/>
            <a:chOff x="6781680" y="1676520"/>
            <a:chExt cx="1555920" cy="1127160"/>
          </a:xfrm>
        </p:grpSpPr>
        <p:sp>
          <p:nvSpPr>
            <p:cNvPr id="879" name=""/>
            <p:cNvSpPr/>
            <p:nvPr/>
          </p:nvSpPr>
          <p:spPr>
            <a:xfrm>
              <a:off x="7966080" y="2035080"/>
              <a:ext cx="0" cy="768600"/>
            </a:xfrm>
            <a:prstGeom prst="line">
              <a:avLst/>
            </a:prstGeom>
            <a:ln w="12600">
              <a:solidFill>
                <a:srgbClr val="00cece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6862680" y="2803680"/>
              <a:ext cx="1103400" cy="0"/>
            </a:xfrm>
            <a:prstGeom prst="line">
              <a:avLst/>
            </a:prstGeom>
            <a:ln w="12600">
              <a:solidFill>
                <a:srgbClr val="00cece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 flipV="1">
              <a:off x="7975440" y="2452680"/>
              <a:ext cx="316080" cy="349200"/>
            </a:xfrm>
            <a:prstGeom prst="line">
              <a:avLst/>
            </a:prstGeom>
            <a:ln w="12600">
              <a:solidFill>
                <a:srgbClr val="00cece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8290080" y="1887480"/>
              <a:ext cx="0" cy="565200"/>
            </a:xfrm>
            <a:prstGeom prst="line">
              <a:avLst/>
            </a:prstGeom>
            <a:ln w="12600">
              <a:solidFill>
                <a:srgbClr val="00cece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 flipH="1">
              <a:off x="7323120" y="2451240"/>
              <a:ext cx="966960" cy="0"/>
            </a:xfrm>
            <a:prstGeom prst="line">
              <a:avLst/>
            </a:prstGeom>
            <a:ln w="12600">
              <a:solidFill>
                <a:srgbClr val="00cece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6862680" y="2049480"/>
              <a:ext cx="0" cy="752400"/>
            </a:xfrm>
            <a:prstGeom prst="line">
              <a:avLst/>
            </a:prstGeom>
            <a:ln w="12600">
              <a:solidFill>
                <a:srgbClr val="00cece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 flipV="1">
              <a:off x="6864480" y="2452320"/>
              <a:ext cx="461880" cy="343080"/>
            </a:xfrm>
            <a:prstGeom prst="line">
              <a:avLst/>
            </a:prstGeom>
            <a:ln w="12600">
              <a:solidFill>
                <a:srgbClr val="00cece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23120" y="2050920"/>
              <a:ext cx="0" cy="403200"/>
            </a:xfrm>
            <a:prstGeom prst="line">
              <a:avLst/>
            </a:prstGeom>
            <a:ln w="12600">
              <a:solidFill>
                <a:srgbClr val="00cece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451640" y="1962000"/>
              <a:ext cx="3240" cy="0"/>
            </a:xfrm>
            <a:prstGeom prst="line">
              <a:avLst/>
            </a:prstGeom>
            <a:ln w="12600">
              <a:solidFill>
                <a:srgbClr val="00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472520" y="2063880"/>
              <a:ext cx="7920" cy="0"/>
            </a:xfrm>
            <a:prstGeom prst="line">
              <a:avLst/>
            </a:prstGeom>
            <a:ln w="12600">
              <a:solidFill>
                <a:srgbClr val="00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72520" y="2063880"/>
              <a:ext cx="7920" cy="0"/>
            </a:xfrm>
            <a:prstGeom prst="line">
              <a:avLst/>
            </a:prstGeom>
            <a:ln w="12600">
              <a:solidFill>
                <a:srgbClr val="00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 flipV="1">
              <a:off x="7442280" y="1703520"/>
              <a:ext cx="269640" cy="15840"/>
            </a:xfrm>
            <a:prstGeom prst="line">
              <a:avLst/>
            </a:prstGeom>
            <a:ln w="12600">
              <a:solidFill>
                <a:srgbClr val="00cece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419960" y="2006640"/>
              <a:ext cx="9720" cy="0"/>
            </a:xfrm>
            <a:prstGeom prst="line">
              <a:avLst/>
            </a:prstGeom>
            <a:ln w="12600">
              <a:solidFill>
                <a:srgbClr val="00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 flipV="1">
              <a:off x="8029440" y="1888920"/>
              <a:ext cx="301680" cy="104760"/>
            </a:xfrm>
            <a:prstGeom prst="line">
              <a:avLst/>
            </a:prstGeom>
            <a:ln w="12600">
              <a:solidFill>
                <a:srgbClr val="00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419960" y="2006640"/>
              <a:ext cx="9720" cy="0"/>
            </a:xfrm>
            <a:prstGeom prst="line">
              <a:avLst/>
            </a:prstGeom>
            <a:ln w="12600">
              <a:solidFill>
                <a:srgbClr val="00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 flipV="1">
              <a:off x="7937640" y="1879200"/>
              <a:ext cx="355320" cy="160200"/>
            </a:xfrm>
            <a:prstGeom prst="line">
              <a:avLst/>
            </a:prstGeom>
            <a:ln w="507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7740720" y="1676520"/>
              <a:ext cx="596880" cy="226800"/>
            </a:xfrm>
            <a:prstGeom prst="line">
              <a:avLst/>
            </a:prstGeom>
            <a:ln w="507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6781680" y="1738440"/>
              <a:ext cx="1270080" cy="326880"/>
            </a:xfrm>
            <a:prstGeom prst="triangle">
              <a:avLst>
                <a:gd name="adj" fmla="val 49995"/>
              </a:avLst>
            </a:prstGeom>
            <a:noFill/>
            <a:ln w="507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 flipV="1">
              <a:off x="7423200" y="1679400"/>
              <a:ext cx="323640" cy="59040"/>
            </a:xfrm>
            <a:prstGeom prst="line">
              <a:avLst/>
            </a:prstGeom>
            <a:ln w="507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</p:grpSp>
      <p:sp>
        <p:nvSpPr>
          <p:cNvPr id="898" name=""/>
          <p:cNvSpPr/>
          <p:nvPr/>
        </p:nvSpPr>
        <p:spPr>
          <a:xfrm>
            <a:off x="4040640" y="6524640"/>
            <a:ext cx="135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000c0"/>
                </a:solidFill>
                <a:uFillTx/>
                <a:latin typeface="Times New Roman"/>
                <a:hlinkClick r:id="rId1"/>
              </a:rPr>
              <a:t>[</a:t>
            </a:r>
            <a:r>
              <a:rPr b="0" lang="en-US" sz="1600" spc="-1" strike="noStrike" u="sng">
                <a:solidFill>
                  <a:srgbClr val="c000c0"/>
                </a:solidFill>
                <a:uFillTx/>
                <a:latin typeface="Times New Roman"/>
                <a:hlinkClick r:id="rId2"/>
              </a:rPr>
              <a:t>KPMG</a:t>
            </a:r>
            <a:r>
              <a:rPr b="0" lang="en-US" sz="1600" spc="-1" strike="noStrike" u="sng">
                <a:solidFill>
                  <a:srgbClr val="c000c0"/>
                </a:solidFill>
                <a:uFillTx/>
                <a:latin typeface="Times New Roman"/>
                <a:hlinkClick r:id="rId3"/>
              </a:rPr>
              <a:t> 1999]</a:t>
            </a:r>
            <a:endParaRPr b="0" lang="en-US" sz="16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KM is Like Building a House...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152280" y="4038120"/>
            <a:ext cx="8763120" cy="213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280080" indent="-280080">
              <a:spcBef>
                <a:spcPts val="601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00cece"/>
                </a:solidFill>
                <a:latin typeface="Arial"/>
              </a:rPr>
              <a:t>fundament </a:t>
            </a: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of KM represents a set of Behavioral/Structural Condition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80080" indent="-280080">
              <a:spcBef>
                <a:spcPts val="601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walls</a:t>
            </a: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 of KM represent a set of Operational Condition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80080" indent="-280080">
              <a:spcBef>
                <a:spcPts val="601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cc6600"/>
                </a:solidFill>
                <a:latin typeface="Arial"/>
              </a:rPr>
              <a:t>roof</a:t>
            </a: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 of KM represents the corporate knowledge by which learning, innovation, speed and productivity will be enhanced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"/>
          <p:cNvSpPr/>
          <p:nvPr/>
        </p:nvSpPr>
        <p:spPr>
          <a:xfrm>
            <a:off x="209520" y="2874960"/>
            <a:ext cx="1771560" cy="2450520"/>
          </a:xfrm>
          <a:prstGeom prst="rect">
            <a:avLst/>
          </a:prstGeom>
          <a:gradFill rotWithShape="0">
            <a:gsLst>
              <a:gs pos="0">
                <a:srgbClr val="8080ff"/>
              </a:gs>
              <a:gs pos="100000">
                <a:srgbClr val="6666cb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14480" rIns="114480" tIns="114480" bIns="114480" anchor="t">
            <a:spAutoFit/>
          </a:bodyPr>
          <a:p>
            <a:pPr marL="285840" indent="-285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HOW?</a:t>
            </a:r>
            <a:endParaRPr b="0" lang="en-US" sz="1800" spc="-1" strike="noStrike">
              <a:solidFill>
                <a:srgbClr val="fcfeb9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cfeb9"/>
                </a:solidFill>
                <a:latin typeface="Arial"/>
              </a:rPr>
              <a:t>Performance metrics</a:t>
            </a:r>
            <a:endParaRPr b="0" lang="en-US" sz="1600" spc="-1" strike="noStrike">
              <a:solidFill>
                <a:srgbClr val="fcfeb9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cfeb9"/>
                </a:solidFill>
                <a:latin typeface="Arial"/>
              </a:rPr>
              <a:t>Science workshops</a:t>
            </a:r>
            <a:endParaRPr b="0" lang="en-US" sz="1600" spc="-1" strike="noStrike">
              <a:solidFill>
                <a:srgbClr val="fcfeb9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cfeb9"/>
                </a:solidFill>
                <a:latin typeface="Arial"/>
              </a:rPr>
              <a:t>Technology exchange networks</a:t>
            </a:r>
            <a:endParaRPr b="0" lang="en-US" sz="1600" spc="-1" strike="noStrike">
              <a:solidFill>
                <a:srgbClr val="fcfeb9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cfeb9"/>
                </a:solidFill>
                <a:latin typeface="Arial"/>
              </a:rPr>
              <a:t>Extra budget</a:t>
            </a:r>
            <a:endParaRPr b="0" lang="en-US" sz="16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2508120" y="4438800"/>
            <a:ext cx="4954680" cy="998280"/>
          </a:xfrm>
          <a:custGeom>
            <a:avLst/>
            <a:gdLst/>
            <a:ahLst/>
            <a:rect l="l" t="t" r="r" b="b"/>
            <a:pathLst>
              <a:path w="3121" h="629">
                <a:moveTo>
                  <a:pt x="0" y="628"/>
                </a:moveTo>
                <a:lnTo>
                  <a:pt x="841" y="0"/>
                </a:lnTo>
                <a:lnTo>
                  <a:pt x="3120" y="0"/>
                </a:lnTo>
                <a:lnTo>
                  <a:pt x="2467" y="628"/>
                </a:lnTo>
                <a:lnTo>
                  <a:pt x="0" y="628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6188040" y="2344680"/>
            <a:ext cx="25560" cy="0"/>
          </a:xfrm>
          <a:prstGeom prst="line">
            <a:avLst/>
          </a:prstGeom>
          <a:ln w="1260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2478240" y="3063960"/>
            <a:ext cx="0" cy="2363760"/>
          </a:xfrm>
          <a:prstGeom prst="line">
            <a:avLst/>
          </a:prstGeom>
          <a:ln w="12600">
            <a:solidFill>
              <a:srgbClr val="fcfeb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 flipV="1">
            <a:off x="6394320" y="4427640"/>
            <a:ext cx="1103400" cy="1008000"/>
          </a:xfrm>
          <a:prstGeom prst="line">
            <a:avLst/>
          </a:prstGeom>
          <a:ln w="38160">
            <a:solidFill>
              <a:srgbClr val="00cec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7497720" y="2604960"/>
            <a:ext cx="0" cy="1822680"/>
          </a:xfrm>
          <a:prstGeom prst="line">
            <a:avLst/>
          </a:prstGeom>
          <a:ln w="12600">
            <a:solidFill>
              <a:srgbClr val="fcfeb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 flipH="1">
            <a:off x="3835080" y="4422600"/>
            <a:ext cx="3662280" cy="5040"/>
          </a:xfrm>
          <a:prstGeom prst="line">
            <a:avLst/>
          </a:prstGeom>
          <a:ln w="38160">
            <a:solidFill>
              <a:srgbClr val="00cece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 flipV="1">
            <a:off x="2479680" y="4460400"/>
            <a:ext cx="1343160" cy="963720"/>
          </a:xfrm>
          <a:prstGeom prst="line">
            <a:avLst/>
          </a:prstGeom>
          <a:ln w="38160">
            <a:solidFill>
              <a:srgbClr val="00cece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6365880" y="3063960"/>
            <a:ext cx="0" cy="2381040"/>
          </a:xfrm>
          <a:prstGeom prst="line">
            <a:avLst/>
          </a:prstGeom>
          <a:ln w="12600">
            <a:solidFill>
              <a:srgbClr val="fcfeb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2473200" y="5446800"/>
            <a:ext cx="3891240" cy="0"/>
          </a:xfrm>
          <a:prstGeom prst="line">
            <a:avLst/>
          </a:prstGeom>
          <a:ln w="38160">
            <a:solidFill>
              <a:srgbClr val="00cece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3836880" y="2608200"/>
            <a:ext cx="0" cy="1854360"/>
          </a:xfrm>
          <a:prstGeom prst="line">
            <a:avLst/>
          </a:prstGeom>
          <a:ln w="12600">
            <a:solidFill>
              <a:srgbClr val="fcfeb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2484360" y="2549520"/>
            <a:ext cx="5052960" cy="507960"/>
          </a:xfrm>
          <a:prstGeom prst="parallelogram">
            <a:avLst>
              <a:gd name="adj" fmla="val 254584"/>
            </a:avLst>
          </a:prstGeom>
          <a:noFill/>
          <a:ln w="12600">
            <a:solidFill>
              <a:srgbClr val="fcfeb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 flipV="1">
            <a:off x="4600440" y="1698480"/>
            <a:ext cx="917640" cy="108000"/>
          </a:xfrm>
          <a:prstGeom prst="line">
            <a:avLst/>
          </a:prstGeom>
          <a:ln w="12600">
            <a:solidFill>
              <a:srgbClr val="fcfeb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 flipV="1">
            <a:off x="6507000" y="2208240"/>
            <a:ext cx="935280" cy="257040"/>
          </a:xfrm>
          <a:prstGeom prst="line">
            <a:avLst/>
          </a:prstGeom>
          <a:ln w="12600">
            <a:solidFill>
              <a:srgbClr val="fcfeb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5519880" y="1697040"/>
            <a:ext cx="1917720" cy="509760"/>
          </a:xfrm>
          <a:prstGeom prst="line">
            <a:avLst/>
          </a:prstGeom>
          <a:ln w="12600">
            <a:solidFill>
              <a:srgbClr val="fcfeb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2484360" y="1805040"/>
            <a:ext cx="4065840" cy="671400"/>
          </a:xfrm>
          <a:prstGeom prst="triangle">
            <a:avLst>
              <a:gd name="adj" fmla="val 49995"/>
            </a:avLst>
          </a:prstGeom>
          <a:noFill/>
          <a:ln w="12600">
            <a:solidFill>
              <a:srgbClr val="fcfeb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grpSp>
        <p:nvGrpSpPr>
          <p:cNvPr id="917" name=""/>
          <p:cNvGrpSpPr/>
          <p:nvPr/>
        </p:nvGrpSpPr>
        <p:grpSpPr>
          <a:xfrm>
            <a:off x="7719840" y="3733920"/>
            <a:ext cx="1424160" cy="977760"/>
            <a:chOff x="7719840" y="3733920"/>
            <a:chExt cx="1424160" cy="977760"/>
          </a:xfrm>
        </p:grpSpPr>
        <p:sp>
          <p:nvSpPr>
            <p:cNvPr id="918" name=""/>
            <p:cNvSpPr/>
            <p:nvPr/>
          </p:nvSpPr>
          <p:spPr>
            <a:xfrm>
              <a:off x="7748280" y="3733920"/>
              <a:ext cx="1295640" cy="977760"/>
            </a:xfrm>
            <a:prstGeom prst="ellipse">
              <a:avLst/>
            </a:prstGeom>
            <a:gradFill rotWithShape="0">
              <a:gsLst>
                <a:gs pos="0">
                  <a:srgbClr val="d6b19c"/>
                </a:gs>
                <a:gs pos="100000">
                  <a:srgbClr val="663012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7719840" y="3760560"/>
              <a:ext cx="1424160" cy="90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4240" rIns="84240" tIns="42840" bIns="4284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03160"/>
                  <a:tab algn="l" pos="1606680"/>
                  <a:tab algn="l" pos="2409840"/>
                  <a:tab algn="l" pos="3213000"/>
                  <a:tab algn="l" pos="4016520"/>
                  <a:tab algn="l" pos="4819680"/>
                  <a:tab algn="l" pos="5622840"/>
                  <a:tab algn="l" pos="6426360"/>
                  <a:tab algn="l" pos="7229520"/>
                  <a:tab algn="l" pos="8032680"/>
                  <a:tab algn="l" pos="8836200"/>
                  <a:tab algn="l" pos="9639360"/>
                  <a:tab algn="l" pos="10442520"/>
                </a:tabLst>
              </a:pPr>
              <a:r>
                <a:rPr b="0" lang="en-US" sz="1800" spc="-1" strike="noStrike">
                  <a:solidFill>
                    <a:srgbClr val="fcfeb9"/>
                  </a:solidFill>
                  <a:latin typeface="Arial"/>
                </a:rPr>
                <a:t>Open, </a:t>
              </a:r>
              <a:endParaRPr b="0" lang="en-US" sz="1800" spc="-1" strike="noStrike">
                <a:solidFill>
                  <a:srgbClr val="fcfeb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803160"/>
                  <a:tab algn="l" pos="1606680"/>
                  <a:tab algn="l" pos="2409840"/>
                  <a:tab algn="l" pos="3213000"/>
                  <a:tab algn="l" pos="4016520"/>
                  <a:tab algn="l" pos="4819680"/>
                  <a:tab algn="l" pos="5622840"/>
                  <a:tab algn="l" pos="6426360"/>
                  <a:tab algn="l" pos="7229520"/>
                  <a:tab algn="l" pos="8032680"/>
                  <a:tab algn="l" pos="8836200"/>
                  <a:tab algn="l" pos="9639360"/>
                  <a:tab algn="l" pos="10442520"/>
                </a:tabLst>
              </a:pPr>
              <a:r>
                <a:rPr b="0" lang="en-US" sz="1800" spc="-1" strike="noStrike">
                  <a:solidFill>
                    <a:srgbClr val="fcfeb9"/>
                  </a:solidFill>
                  <a:latin typeface="Arial"/>
                </a:rPr>
                <a:t>sharing </a:t>
              </a:r>
              <a:endParaRPr b="0" lang="en-US" sz="1800" spc="-1" strike="noStrike">
                <a:solidFill>
                  <a:srgbClr val="fcfeb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803160"/>
                  <a:tab algn="l" pos="1606680"/>
                  <a:tab algn="l" pos="2409840"/>
                  <a:tab algn="l" pos="3213000"/>
                  <a:tab algn="l" pos="4016520"/>
                  <a:tab algn="l" pos="4819680"/>
                  <a:tab algn="l" pos="5622840"/>
                  <a:tab algn="l" pos="6426360"/>
                  <a:tab algn="l" pos="7229520"/>
                  <a:tab algn="l" pos="8032680"/>
                  <a:tab algn="l" pos="8836200"/>
                  <a:tab algn="l" pos="9639360"/>
                  <a:tab algn="l" pos="10442520"/>
                </a:tabLst>
              </a:pPr>
              <a:r>
                <a:rPr b="0" lang="en-US" sz="1800" spc="-1" strike="noStrike">
                  <a:solidFill>
                    <a:srgbClr val="fcfeb9"/>
                  </a:solidFill>
                  <a:latin typeface="Arial"/>
                </a:rPr>
                <a:t>culture</a:t>
              </a:r>
              <a:endParaRPr b="0" lang="en-US" sz="18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</p:grpSp>
      <p:sp>
        <p:nvSpPr>
          <p:cNvPr id="920" name=""/>
          <p:cNvSpPr/>
          <p:nvPr/>
        </p:nvSpPr>
        <p:spPr>
          <a:xfrm rot="18960000">
            <a:off x="6445440" y="4889160"/>
            <a:ext cx="1749600" cy="5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840" bIns="42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en-US" sz="1400" spc="-1" strike="noStrike">
                <a:solidFill>
                  <a:srgbClr val="00cece"/>
                </a:solidFill>
                <a:latin typeface="Arial"/>
              </a:rPr>
              <a:t>KNOWLEDGE SHARING</a:t>
            </a:r>
            <a:endParaRPr b="0" lang="en-US" sz="1400" spc="-1" strike="noStrike">
              <a:solidFill>
                <a:srgbClr val="fcfeb9"/>
              </a:solidFill>
              <a:latin typeface="Times New Roman"/>
            </a:endParaRPr>
          </a:p>
        </p:txBody>
      </p:sp>
      <p:grpSp>
        <p:nvGrpSpPr>
          <p:cNvPr id="921" name=""/>
          <p:cNvGrpSpPr/>
          <p:nvPr/>
        </p:nvGrpSpPr>
        <p:grpSpPr>
          <a:xfrm>
            <a:off x="6095880" y="5562720"/>
            <a:ext cx="1339920" cy="934920"/>
            <a:chOff x="6095880" y="5562720"/>
            <a:chExt cx="1339920" cy="934920"/>
          </a:xfrm>
        </p:grpSpPr>
        <p:sp>
          <p:nvSpPr>
            <p:cNvPr id="922" name=""/>
            <p:cNvSpPr/>
            <p:nvPr/>
          </p:nvSpPr>
          <p:spPr>
            <a:xfrm>
              <a:off x="6095880" y="5618160"/>
              <a:ext cx="1295280" cy="879480"/>
            </a:xfrm>
            <a:prstGeom prst="ellipse">
              <a:avLst/>
            </a:prstGeom>
            <a:gradFill rotWithShape="0">
              <a:gsLst>
                <a:gs pos="0">
                  <a:srgbClr val="d6b19c"/>
                </a:gs>
                <a:gs pos="100000">
                  <a:srgbClr val="663012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6140520" y="5562720"/>
              <a:ext cx="1295280" cy="90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4240" rIns="84240" tIns="42840" bIns="4284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03160"/>
                  <a:tab algn="l" pos="1606680"/>
                  <a:tab algn="l" pos="2409840"/>
                  <a:tab algn="l" pos="3213000"/>
                  <a:tab algn="l" pos="4016520"/>
                  <a:tab algn="l" pos="4819680"/>
                  <a:tab algn="l" pos="5622840"/>
                  <a:tab algn="l" pos="6426360"/>
                  <a:tab algn="l" pos="7229520"/>
                  <a:tab algn="l" pos="8032680"/>
                  <a:tab algn="l" pos="8836200"/>
                  <a:tab algn="l" pos="9639360"/>
                  <a:tab algn="l" pos="10442520"/>
                </a:tabLst>
              </a:pPr>
              <a:r>
                <a:rPr b="0" lang="en-US" sz="1800" spc="-1" strike="noStrike">
                  <a:solidFill>
                    <a:srgbClr val="fcfeb9"/>
                  </a:solidFill>
                  <a:latin typeface="Arial"/>
                </a:rPr>
                <a:t>Non-sharing culture</a:t>
              </a:r>
              <a:endParaRPr b="0" lang="en-US" sz="18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</p:grpSp>
      <p:sp>
        <p:nvSpPr>
          <p:cNvPr id="924" name=""/>
          <p:cNvSpPr/>
          <p:nvPr/>
        </p:nvSpPr>
        <p:spPr>
          <a:xfrm rot="19320000">
            <a:off x="2411280" y="4681080"/>
            <a:ext cx="1328760" cy="2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840" bIns="42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en-US" sz="1400" spc="-1" strike="noStrike">
                <a:solidFill>
                  <a:srgbClr val="00cece"/>
                </a:solidFill>
                <a:latin typeface="Arial"/>
              </a:rPr>
              <a:t>TEAMWORK</a:t>
            </a:r>
            <a:endParaRPr b="0" lang="en-US" sz="1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4229280" y="4151160"/>
            <a:ext cx="2001600" cy="2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840" bIns="42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en-US" sz="1400" spc="-1" strike="noStrike">
                <a:solidFill>
                  <a:srgbClr val="00cece"/>
                </a:solidFill>
                <a:latin typeface="Arial"/>
              </a:rPr>
              <a:t>COMMITMENT</a:t>
            </a:r>
            <a:endParaRPr b="0" lang="en-US" sz="1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2720880" y="5500800"/>
            <a:ext cx="2941560" cy="7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840" bIns="42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en-US" sz="1400" spc="-1" strike="noStrike">
                <a:solidFill>
                  <a:srgbClr val="00cece"/>
                </a:solidFill>
                <a:latin typeface="Arial"/>
              </a:rPr>
              <a:t>ORGANISATION STRUCTURE &amp; PROCESSES</a:t>
            </a:r>
            <a:endParaRPr b="0" lang="en-US" sz="1400" spc="-1" strike="noStrike">
              <a:solidFill>
                <a:srgbClr val="fcfeb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i="1" lang="en-US" sz="1400" spc="-1" strike="noStrike">
                <a:solidFill>
                  <a:srgbClr val="00cece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4040640" y="6524640"/>
            <a:ext cx="135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000c0"/>
                </a:solidFill>
                <a:uFillTx/>
                <a:latin typeface="Times New Roman"/>
                <a:hlinkClick r:id="rId1"/>
              </a:rPr>
              <a:t>[</a:t>
            </a:r>
            <a:r>
              <a:rPr b="0" lang="en-US" sz="1600" spc="-1" strike="noStrike" u="sng">
                <a:solidFill>
                  <a:srgbClr val="c000c0"/>
                </a:solidFill>
                <a:uFillTx/>
                <a:latin typeface="Times New Roman"/>
                <a:hlinkClick r:id="rId2"/>
              </a:rPr>
              <a:t>KPMG</a:t>
            </a:r>
            <a:r>
              <a:rPr b="0" lang="en-US" sz="1600" spc="-1" strike="noStrike" u="sng">
                <a:solidFill>
                  <a:srgbClr val="c000c0"/>
                </a:solidFill>
                <a:uFillTx/>
                <a:latin typeface="Times New Roman"/>
                <a:hlinkClick r:id="rId3"/>
              </a:rPr>
              <a:t> 1999]</a:t>
            </a:r>
            <a:endParaRPr b="0" lang="en-US" sz="16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Rewards and Incentives 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"/>
          <p:cNvSpPr/>
          <p:nvPr/>
        </p:nvSpPr>
        <p:spPr>
          <a:xfrm>
            <a:off x="7248600" y="4330800"/>
            <a:ext cx="1635120" cy="1066680"/>
          </a:xfrm>
          <a:prstGeom prst="ellipse">
            <a:avLst/>
          </a:prstGeom>
          <a:gradFill rotWithShape="0">
            <a:gsLst>
              <a:gs pos="0">
                <a:srgbClr val="d6b19c"/>
              </a:gs>
              <a:gs pos="100000">
                <a:srgbClr val="66301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5830920" y="2808360"/>
            <a:ext cx="23760" cy="0"/>
          </a:xfrm>
          <a:prstGeom prst="line">
            <a:avLst/>
          </a:prstGeom>
          <a:ln w="1260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1922400" y="3527280"/>
            <a:ext cx="0" cy="2363760"/>
          </a:xfrm>
          <a:prstGeom prst="line">
            <a:avLst/>
          </a:prstGeom>
          <a:ln w="38160">
            <a:solidFill>
              <a:srgbClr val="00ff00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6858000" y="3048120"/>
            <a:ext cx="0" cy="1822320"/>
          </a:xfrm>
          <a:prstGeom prst="line">
            <a:avLst/>
          </a:prstGeom>
          <a:ln w="38160">
            <a:solidFill>
              <a:srgbClr val="00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810400" y="3527280"/>
            <a:ext cx="0" cy="2381400"/>
          </a:xfrm>
          <a:prstGeom prst="line">
            <a:avLst/>
          </a:prstGeom>
          <a:ln w="38160">
            <a:solidFill>
              <a:srgbClr val="00ff00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1920960" y="5910120"/>
            <a:ext cx="3889440" cy="0"/>
          </a:xfrm>
          <a:prstGeom prst="line">
            <a:avLst/>
          </a:prstGeom>
          <a:ln w="12600">
            <a:solidFill>
              <a:srgbClr val="fcfeb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3282840" y="3071880"/>
            <a:ext cx="0" cy="1854000"/>
          </a:xfrm>
          <a:prstGeom prst="line">
            <a:avLst/>
          </a:prstGeom>
          <a:ln w="38160">
            <a:solidFill>
              <a:srgbClr val="00ff00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 flipV="1">
            <a:off x="4044960" y="2162160"/>
            <a:ext cx="917640" cy="10800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 flipV="1">
            <a:off x="5951520" y="2671920"/>
            <a:ext cx="934920" cy="25704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4964040" y="2160720"/>
            <a:ext cx="1917720" cy="50940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1928880" y="2268360"/>
            <a:ext cx="4065480" cy="671760"/>
          </a:xfrm>
          <a:prstGeom prst="triangle">
            <a:avLst>
              <a:gd name="adj" fmla="val 49995"/>
            </a:avLst>
          </a:prstGeom>
          <a:noFill/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7186680" y="4443480"/>
            <a:ext cx="1724040" cy="90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840" bIns="42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1800" spc="-1" strike="noStrike">
                <a:solidFill>
                  <a:srgbClr val="fcfeb9"/>
                </a:solidFill>
                <a:latin typeface="Arial"/>
              </a:rPr>
              <a:t>Separate information </a:t>
            </a:r>
            <a:endParaRPr b="0" lang="en-US" sz="1800" spc="-1" strike="noStrike">
              <a:solidFill>
                <a:srgbClr val="fcfeb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1800" spc="-1" strike="noStrike">
                <a:solidFill>
                  <a:srgbClr val="fcfeb9"/>
                </a:solidFill>
                <a:latin typeface="Arial"/>
              </a:rPr>
              <a:t>systems</a:t>
            </a:r>
            <a:endParaRPr b="0" lang="en-US" sz="18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3719520" y="4135320"/>
            <a:ext cx="2085840" cy="7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840" bIns="4284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en-US" sz="1400" spc="-1" strike="noStrike">
                <a:solidFill>
                  <a:srgbClr val="00ff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fcfeb9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en-US" sz="1400" spc="-1" strike="noStrike">
                <a:solidFill>
                  <a:srgbClr val="00ff00"/>
                </a:solidFill>
                <a:latin typeface="Arial"/>
              </a:rPr>
              <a:t>Research  </a:t>
            </a:r>
            <a:endParaRPr b="0" lang="en-US" sz="1400" spc="-1" strike="noStrike">
              <a:solidFill>
                <a:srgbClr val="fcfeb9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en-US" sz="1400" spc="-1" strike="noStrike">
                <a:solidFill>
                  <a:srgbClr val="00ff00"/>
                </a:solidFill>
                <a:latin typeface="Arial"/>
              </a:rPr>
              <a:t>Process</a:t>
            </a:r>
            <a:endParaRPr b="0" lang="en-US" sz="1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7039080" y="3768840"/>
            <a:ext cx="1724040" cy="5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840" bIns="42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en-US" sz="1400" spc="-1" strike="noStrike">
                <a:solidFill>
                  <a:srgbClr val="00ff00"/>
                </a:solidFill>
                <a:latin typeface="Arial"/>
              </a:rPr>
              <a:t>Enabling </a:t>
            </a:r>
            <a:endParaRPr b="0" lang="en-US" sz="1400" spc="-1" strike="noStrike">
              <a:solidFill>
                <a:srgbClr val="fcfeb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en-US" sz="1400" spc="-1" strike="noStrike">
                <a:solidFill>
                  <a:srgbClr val="00ff00"/>
                </a:solidFill>
                <a:latin typeface="Arial"/>
              </a:rPr>
              <a:t>Technologies</a:t>
            </a:r>
            <a:endParaRPr b="0" lang="en-US" sz="1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 rot="15600">
            <a:off x="3276720" y="3558960"/>
            <a:ext cx="1679400" cy="93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840" bIns="42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en-US" sz="1400" spc="-1" strike="noStrike">
                <a:solidFill>
                  <a:srgbClr val="00ff00"/>
                </a:solidFill>
                <a:latin typeface="Arial"/>
              </a:rPr>
              <a:t>Upgrading</a:t>
            </a:r>
            <a:endParaRPr b="0" lang="en-US" sz="1400" spc="-1" strike="noStrike">
              <a:solidFill>
                <a:srgbClr val="fcfeb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en-US" sz="1400" spc="-1" strike="noStrike">
                <a:solidFill>
                  <a:srgbClr val="00ff00"/>
                </a:solidFill>
                <a:latin typeface="Arial"/>
              </a:rPr>
              <a:t>Of Existing Knowledge</a:t>
            </a:r>
            <a:endParaRPr b="0" lang="en-US" sz="1400" spc="-1" strike="noStrike">
              <a:solidFill>
                <a:srgbClr val="fcfeb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i="1" lang="en-US" sz="1400" spc="-1" strike="noStrike">
                <a:solidFill>
                  <a:srgbClr val="00ff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1978200" y="4270320"/>
            <a:ext cx="1369800" cy="5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840" bIns="42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en-US" sz="1400" spc="-1" strike="noStrike">
                <a:solidFill>
                  <a:srgbClr val="00ff00"/>
                </a:solidFill>
                <a:latin typeface="Arial"/>
              </a:rPr>
              <a:t>Generation</a:t>
            </a:r>
            <a:endParaRPr b="0" lang="en-US" sz="1400" spc="-1" strike="noStrike">
              <a:solidFill>
                <a:srgbClr val="fcfeb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en-US" sz="1400" spc="-1" strike="noStrike">
                <a:solidFill>
                  <a:srgbClr val="00ff00"/>
                </a:solidFill>
                <a:latin typeface="Arial"/>
              </a:rPr>
              <a:t>Of New Ideas </a:t>
            </a:r>
            <a:endParaRPr b="0" lang="en-US" sz="1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7229520" y="2502000"/>
            <a:ext cx="1635120" cy="1066680"/>
          </a:xfrm>
          <a:prstGeom prst="ellipse">
            <a:avLst/>
          </a:prstGeom>
          <a:gradFill rotWithShape="0">
            <a:gsLst>
              <a:gs pos="0">
                <a:srgbClr val="d6b19c"/>
              </a:gs>
              <a:gs pos="100000">
                <a:srgbClr val="66301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7194600" y="2625840"/>
            <a:ext cx="1795320" cy="90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840" bIns="42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1800" spc="-1" strike="noStrike">
                <a:solidFill>
                  <a:srgbClr val="fcfeb9"/>
                </a:solidFill>
                <a:latin typeface="Arial"/>
              </a:rPr>
              <a:t>Integrated Information System</a:t>
            </a:r>
            <a:endParaRPr b="0" lang="en-US" sz="18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1917720" y="4915080"/>
            <a:ext cx="4954680" cy="998280"/>
          </a:xfrm>
          <a:custGeom>
            <a:avLst/>
            <a:gdLst/>
            <a:ahLst/>
            <a:rect l="l" t="t" r="r" b="b"/>
            <a:pathLst>
              <a:path w="3121" h="629">
                <a:moveTo>
                  <a:pt x="0" y="628"/>
                </a:moveTo>
                <a:lnTo>
                  <a:pt x="841" y="0"/>
                </a:lnTo>
                <a:lnTo>
                  <a:pt x="3120" y="0"/>
                </a:lnTo>
                <a:lnTo>
                  <a:pt x="2467" y="628"/>
                </a:lnTo>
                <a:lnTo>
                  <a:pt x="0" y="628"/>
                </a:lnTo>
              </a:path>
            </a:pathLst>
          </a:custGeom>
          <a:noFill/>
          <a:ln w="9360">
            <a:solidFill>
              <a:srgbClr val="00cec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0" y="2971800"/>
            <a:ext cx="1542960" cy="2450520"/>
          </a:xfrm>
          <a:prstGeom prst="rect">
            <a:avLst/>
          </a:prstGeom>
          <a:gradFill rotWithShape="0">
            <a:gsLst>
              <a:gs pos="0">
                <a:srgbClr val="8080ff"/>
              </a:gs>
              <a:gs pos="100000">
                <a:srgbClr val="6666cb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14480" rIns="114480" tIns="114480" bIns="114480" anchor="t">
            <a:spAutoFit/>
          </a:bodyPr>
          <a:p>
            <a:pPr marL="285840" indent="-285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HOW?</a:t>
            </a:r>
            <a:endParaRPr b="0" lang="en-US" sz="1800" spc="-1" strike="noStrike">
              <a:solidFill>
                <a:srgbClr val="fcfeb9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cfeb9"/>
                </a:solidFill>
                <a:latin typeface="Arial"/>
              </a:rPr>
              <a:t>Database  technology</a:t>
            </a:r>
            <a:endParaRPr b="0" lang="en-US" sz="1600" spc="-1" strike="noStrike">
              <a:solidFill>
                <a:srgbClr val="fcfeb9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cfeb9"/>
                </a:solidFill>
                <a:latin typeface="Arial"/>
              </a:rPr>
              <a:t>Groupware</a:t>
            </a:r>
            <a:endParaRPr b="0" lang="en-US" sz="1600" spc="-1" strike="noStrike">
              <a:solidFill>
                <a:srgbClr val="fcfeb9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cfeb9"/>
                </a:solidFill>
                <a:latin typeface="Arial"/>
              </a:rPr>
              <a:t>Web technology</a:t>
            </a:r>
            <a:endParaRPr b="0" lang="en-US" sz="1600" spc="-1" strike="noStrike">
              <a:solidFill>
                <a:srgbClr val="fcfeb9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cfeb9"/>
                </a:solidFill>
                <a:latin typeface="Arial"/>
              </a:rPr>
              <a:t>User-interface technology</a:t>
            </a:r>
            <a:endParaRPr b="0" lang="en-US" sz="1600" spc="-1" strike="noStrike">
              <a:solidFill>
                <a:srgbClr val="fcfeb9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cfeb9"/>
                </a:solidFill>
                <a:latin typeface="Arial"/>
              </a:rPr>
              <a:t>Intranet</a:t>
            </a:r>
            <a:endParaRPr b="0" lang="en-US" sz="16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4040640" y="6524640"/>
            <a:ext cx="135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000c0"/>
                </a:solidFill>
                <a:uFillTx/>
                <a:latin typeface="Times New Roman"/>
                <a:hlinkClick r:id="rId1"/>
              </a:rPr>
              <a:t>[</a:t>
            </a:r>
            <a:r>
              <a:rPr b="0" lang="en-US" sz="1600" spc="-1" strike="noStrike" u="sng">
                <a:solidFill>
                  <a:srgbClr val="c000c0"/>
                </a:solidFill>
                <a:uFillTx/>
                <a:latin typeface="Times New Roman"/>
                <a:hlinkClick r:id="rId2"/>
              </a:rPr>
              <a:t>KPMG</a:t>
            </a:r>
            <a:r>
              <a:rPr b="0" lang="en-US" sz="1600" spc="-1" strike="noStrike" u="sng">
                <a:solidFill>
                  <a:srgbClr val="c000c0"/>
                </a:solidFill>
                <a:uFillTx/>
                <a:latin typeface="Times New Roman"/>
                <a:hlinkClick r:id="rId3"/>
              </a:rPr>
              <a:t> 1999]</a:t>
            </a:r>
            <a:endParaRPr b="0" lang="en-US" sz="16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Integrated Systems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1905120" y="3048120"/>
            <a:ext cx="4952880" cy="465120"/>
          </a:xfrm>
          <a:custGeom>
            <a:avLst/>
            <a:gdLst/>
            <a:ahLst/>
            <a:rect l="l" t="t" r="r" b="b"/>
            <a:pathLst>
              <a:path w="3121" h="629">
                <a:moveTo>
                  <a:pt x="0" y="628"/>
                </a:moveTo>
                <a:lnTo>
                  <a:pt x="841" y="0"/>
                </a:lnTo>
                <a:lnTo>
                  <a:pt x="3120" y="0"/>
                </a:lnTo>
                <a:lnTo>
                  <a:pt x="2467" y="628"/>
                </a:lnTo>
                <a:lnTo>
                  <a:pt x="0" y="628"/>
                </a:ln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"/>
          <p:cNvSpPr/>
          <p:nvPr/>
        </p:nvSpPr>
        <p:spPr>
          <a:xfrm>
            <a:off x="2035080" y="4025880"/>
            <a:ext cx="4346640" cy="1039680"/>
          </a:xfrm>
          <a:prstGeom prst="parallelogram">
            <a:avLst>
              <a:gd name="adj" fmla="val 104499"/>
            </a:avLst>
          </a:prstGeom>
          <a:solidFill>
            <a:srgbClr val="00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KM Behavioral and Structural Components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grpSp>
        <p:nvGrpSpPr>
          <p:cNvPr id="954" name=""/>
          <p:cNvGrpSpPr/>
          <p:nvPr/>
        </p:nvGrpSpPr>
        <p:grpSpPr>
          <a:xfrm>
            <a:off x="5727600" y="997200"/>
            <a:ext cx="2766600" cy="2145600"/>
            <a:chOff x="5727600" y="997200"/>
            <a:chExt cx="2766600" cy="2145600"/>
          </a:xfrm>
        </p:grpSpPr>
        <p:sp>
          <p:nvSpPr>
            <p:cNvPr id="955" name=""/>
            <p:cNvSpPr/>
            <p:nvPr/>
          </p:nvSpPr>
          <p:spPr>
            <a:xfrm>
              <a:off x="5869440" y="2438280"/>
              <a:ext cx="2472120" cy="70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55520" rIns="155520" tIns="77760" bIns="77760" anchor="t">
              <a:spAutoFit/>
            </a:bodyPr>
            <a:p>
              <a:pPr marL="285840" indent="-285840">
                <a:lnSpc>
                  <a:spcPct val="100000"/>
                </a:lnSpc>
                <a:buClr>
                  <a:srgbClr val="e62a05"/>
                </a:buClr>
                <a:buSzPct val="120000"/>
                <a:buFont typeface="Wingdings" charset="2"/>
                <a:buChar char=""/>
                <a:tabLst>
                  <a:tab algn="l" pos="2174760"/>
                  <a:tab algn="l" pos="4349880"/>
                  <a:tab algn="l" pos="6524640"/>
                  <a:tab algn="l" pos="8699400"/>
                  <a:tab algn="l" pos="10874520"/>
                </a:tabLst>
              </a:pPr>
              <a:r>
                <a:rPr b="0" lang="en-US" sz="1800" spc="-1" strike="noStrike">
                  <a:solidFill>
                    <a:srgbClr val="fcfeb9"/>
                  </a:solidFill>
                  <a:latin typeface="Arial"/>
                </a:rPr>
                <a:t>Preparing initiative</a:t>
              </a:r>
              <a:endParaRPr b="0" lang="en-US" sz="1800" spc="-1" strike="noStrike">
                <a:solidFill>
                  <a:srgbClr val="fcfeb9"/>
                </a:solidFill>
                <a:latin typeface="Times New Roman"/>
              </a:endParaRPr>
            </a:p>
            <a:p>
              <a:pPr marL="285840" indent="-285840">
                <a:lnSpc>
                  <a:spcPct val="100000"/>
                </a:lnSpc>
                <a:buClr>
                  <a:srgbClr val="30c200"/>
                </a:buClr>
                <a:buSzPct val="120000"/>
                <a:buFont typeface="Wingdings" charset="2"/>
                <a:buChar char=""/>
                <a:tabLst>
                  <a:tab algn="l" pos="2174760"/>
                  <a:tab algn="l" pos="4349880"/>
                  <a:tab algn="l" pos="6524640"/>
                  <a:tab algn="l" pos="8699400"/>
                  <a:tab algn="l" pos="10874520"/>
                </a:tabLst>
              </a:pPr>
              <a:r>
                <a:rPr b="0" lang="en-US" sz="1800" spc="-1" strike="noStrike">
                  <a:solidFill>
                    <a:srgbClr val="fcfeb9"/>
                  </a:solidFill>
                  <a:latin typeface="Arial"/>
                </a:rPr>
                <a:t>Initiative in place</a:t>
              </a:r>
              <a:endParaRPr b="0" lang="en-US" sz="18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grpSp>
          <p:nvGrpSpPr>
            <p:cNvPr id="956" name=""/>
            <p:cNvGrpSpPr/>
            <p:nvPr/>
          </p:nvGrpSpPr>
          <p:grpSpPr>
            <a:xfrm>
              <a:off x="5727600" y="997200"/>
              <a:ext cx="2766600" cy="1576800"/>
              <a:chOff x="5727600" y="997200"/>
              <a:chExt cx="2766600" cy="1576800"/>
            </a:xfrm>
          </p:grpSpPr>
          <p:sp>
            <p:nvSpPr>
              <p:cNvPr id="957" name=""/>
              <p:cNvSpPr/>
              <p:nvPr/>
            </p:nvSpPr>
            <p:spPr>
              <a:xfrm>
                <a:off x="6012000" y="2171880"/>
                <a:ext cx="1804680" cy="0"/>
              </a:xfrm>
              <a:prstGeom prst="line">
                <a:avLst/>
              </a:prstGeom>
              <a:ln w="12600">
                <a:solidFill>
                  <a:srgbClr val="fcfe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 rot="18600000">
                <a:off x="5699160" y="1465920"/>
                <a:ext cx="1418040" cy="415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55520" rIns="155520" tIns="77760" bIns="77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174760"/>
                    <a:tab algn="l" pos="4349880"/>
                    <a:tab algn="l" pos="6524640"/>
                    <a:tab algn="l" pos="8699400"/>
                    <a:tab algn="l" pos="10874520"/>
                  </a:tabLst>
                </a:pPr>
                <a:r>
                  <a:rPr b="0" lang="en-US" sz="1700" spc="-1" strike="noStrike">
                    <a:solidFill>
                      <a:srgbClr val="fcfeb9"/>
                    </a:solidFill>
                    <a:latin typeface="Arial"/>
                  </a:rPr>
                  <a:t>not in place</a:t>
                </a:r>
                <a:endParaRPr b="0" lang="en-US" sz="17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 rot="18600000">
                <a:off x="6298200" y="1630080"/>
                <a:ext cx="1020600" cy="415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55520" rIns="155520" tIns="77760" bIns="77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174760"/>
                    <a:tab algn="l" pos="4349880"/>
                    <a:tab algn="l" pos="6524640"/>
                    <a:tab algn="l" pos="8699400"/>
                    <a:tab algn="l" pos="10874520"/>
                  </a:tabLst>
                </a:pPr>
                <a:r>
                  <a:rPr b="0" lang="en-US" sz="1700" spc="-1" strike="noStrike">
                    <a:solidFill>
                      <a:srgbClr val="fcfeb9"/>
                    </a:solidFill>
                    <a:latin typeface="Arial"/>
                  </a:rPr>
                  <a:t>starting</a:t>
                </a:r>
                <a:endParaRPr b="0" lang="en-US" sz="17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 rot="18600000">
                <a:off x="6892560" y="1537200"/>
                <a:ext cx="1250640" cy="415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55520" rIns="155520" tIns="77760" bIns="77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174760"/>
                    <a:tab algn="l" pos="4349880"/>
                    <a:tab algn="l" pos="6524640"/>
                    <a:tab algn="l" pos="8699400"/>
                    <a:tab algn="l" pos="10874520"/>
                  </a:tabLst>
                </a:pPr>
                <a:r>
                  <a:rPr b="0" lang="en-US" sz="1700" spc="-1" strike="noStrike">
                    <a:solidFill>
                      <a:srgbClr val="fcfeb9"/>
                    </a:solidFill>
                    <a:latin typeface="Arial"/>
                  </a:rPr>
                  <a:t>advanced</a:t>
                </a:r>
                <a:endParaRPr b="0" lang="en-US" sz="17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 rot="18600000">
                <a:off x="7455600" y="1607040"/>
                <a:ext cx="1070640" cy="415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55520" rIns="155520" tIns="77760" bIns="77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174760"/>
                    <a:tab algn="l" pos="4349880"/>
                    <a:tab algn="l" pos="6524640"/>
                    <a:tab algn="l" pos="8699400"/>
                    <a:tab algn="l" pos="10874520"/>
                  </a:tabLst>
                </a:pPr>
                <a:r>
                  <a:rPr b="0" lang="en-US" sz="1700" spc="-1" strike="noStrike">
                    <a:solidFill>
                      <a:srgbClr val="fcfeb9"/>
                    </a:solidFill>
                    <a:latin typeface="Arial"/>
                  </a:rPr>
                  <a:t>realized</a:t>
                </a:r>
                <a:endParaRPr b="0" lang="en-US" sz="17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6018120" y="2178000"/>
                <a:ext cx="117720" cy="115920"/>
              </a:xfrm>
              <a:prstGeom prst="rect">
                <a:avLst/>
              </a:prstGeom>
              <a:solidFill>
                <a:srgbClr val="fcfeb9"/>
              </a:solidFill>
              <a:ln w="12600">
                <a:solidFill>
                  <a:srgbClr val="fcfe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6534000" y="2178000"/>
                <a:ext cx="115920" cy="115920"/>
              </a:xfrm>
              <a:prstGeom prst="rect">
                <a:avLst/>
              </a:prstGeom>
              <a:solidFill>
                <a:srgbClr val="fcfeb9"/>
              </a:solidFill>
              <a:ln w="12600">
                <a:solidFill>
                  <a:srgbClr val="fcfe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7178760" y="2178000"/>
                <a:ext cx="115920" cy="115920"/>
              </a:xfrm>
              <a:prstGeom prst="rect">
                <a:avLst/>
              </a:prstGeom>
              <a:solidFill>
                <a:srgbClr val="fcfeb9"/>
              </a:solidFill>
              <a:ln w="12600">
                <a:solidFill>
                  <a:srgbClr val="fcfe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7693200" y="2178000"/>
                <a:ext cx="117360" cy="115920"/>
              </a:xfrm>
              <a:prstGeom prst="rect">
                <a:avLst/>
              </a:prstGeom>
              <a:solidFill>
                <a:srgbClr val="fcfeb9"/>
              </a:solidFill>
              <a:ln w="12600">
                <a:solidFill>
                  <a:srgbClr val="fcfe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5727600" y="2158920"/>
                <a:ext cx="432000" cy="415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55520" rIns="155520" tIns="77760" bIns="77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174760"/>
                    <a:tab algn="l" pos="4349880"/>
                    <a:tab algn="l" pos="6524640"/>
                    <a:tab algn="l" pos="8699400"/>
                    <a:tab algn="l" pos="10874520"/>
                  </a:tabLst>
                </a:pPr>
                <a:r>
                  <a:rPr b="0" lang="en-US" sz="1700" spc="-1" strike="noStrike">
                    <a:solidFill>
                      <a:srgbClr val="fcfeb9"/>
                    </a:solidFill>
                    <a:latin typeface="Arial"/>
                  </a:rPr>
                  <a:t>1</a:t>
                </a:r>
                <a:endParaRPr b="0" lang="en-US" sz="17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6243480" y="2158920"/>
                <a:ext cx="432000" cy="415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55520" rIns="155520" tIns="77760" bIns="77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174760"/>
                    <a:tab algn="l" pos="4349880"/>
                    <a:tab algn="l" pos="6524640"/>
                    <a:tab algn="l" pos="8699400"/>
                    <a:tab algn="l" pos="10874520"/>
                  </a:tabLst>
                </a:pPr>
                <a:r>
                  <a:rPr b="0" lang="en-US" sz="1700" spc="-1" strike="noStrike">
                    <a:solidFill>
                      <a:srgbClr val="fcfeb9"/>
                    </a:solidFill>
                    <a:latin typeface="Arial"/>
                  </a:rPr>
                  <a:t>2</a:t>
                </a:r>
                <a:endParaRPr b="0" lang="en-US" sz="17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6887160" y="2158920"/>
                <a:ext cx="551160" cy="415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55520" rIns="155520" tIns="77760" bIns="7776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2174760"/>
                    <a:tab algn="l" pos="4349880"/>
                    <a:tab algn="l" pos="6524640"/>
                    <a:tab algn="l" pos="8699400"/>
                    <a:tab algn="l" pos="10874520"/>
                  </a:tabLst>
                </a:pPr>
                <a:r>
                  <a:rPr b="0" lang="en-US" sz="1700" spc="-1" strike="noStrike">
                    <a:solidFill>
                      <a:srgbClr val="fcfeb9"/>
                    </a:solidFill>
                    <a:latin typeface="Arial"/>
                  </a:rPr>
                  <a:t>3  </a:t>
                </a:r>
                <a:endParaRPr b="0" lang="en-US" sz="17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7404120" y="2158920"/>
                <a:ext cx="432000" cy="415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55520" rIns="155520" tIns="77760" bIns="77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174760"/>
                    <a:tab algn="l" pos="4349880"/>
                    <a:tab algn="l" pos="6524640"/>
                    <a:tab algn="l" pos="8699400"/>
                    <a:tab algn="l" pos="10874520"/>
                  </a:tabLst>
                </a:pPr>
                <a:r>
                  <a:rPr b="0" lang="en-US" sz="1700" spc="-1" strike="noStrike">
                    <a:solidFill>
                      <a:srgbClr val="fcfeb9"/>
                    </a:solidFill>
                    <a:latin typeface="Arial"/>
                  </a:rPr>
                  <a:t>4</a:t>
                </a:r>
                <a:endParaRPr b="0" lang="en-US" sz="17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70" name=""/>
          <p:cNvSpPr/>
          <p:nvPr/>
        </p:nvSpPr>
        <p:spPr>
          <a:xfrm>
            <a:off x="2055960" y="5176800"/>
            <a:ext cx="155520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cece"/>
                </a:solidFill>
                <a:latin typeface="Arial"/>
              </a:rPr>
              <a:t>Hierarchical </a:t>
            </a:r>
            <a:endParaRPr b="0" lang="en-US" sz="1800" spc="-1" strike="noStrike">
              <a:solidFill>
                <a:srgbClr val="fcfeb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cece"/>
                </a:solidFill>
                <a:latin typeface="Arial"/>
              </a:rPr>
              <a:t>organization</a:t>
            </a:r>
            <a:endParaRPr b="0" lang="en-US" sz="18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4621320" y="5172120"/>
            <a:ext cx="337968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cece"/>
                </a:solidFill>
                <a:latin typeface="Arial"/>
              </a:rPr>
              <a:t>Process-oriented</a:t>
            </a:r>
            <a:br>
              <a:rPr sz="1800"/>
            </a:br>
            <a:r>
              <a:rPr b="1" lang="en-US" sz="1800" spc="-1" strike="noStrike">
                <a:solidFill>
                  <a:srgbClr val="00cece"/>
                </a:solidFill>
                <a:latin typeface="Arial"/>
              </a:rPr>
              <a:t>organization</a:t>
            </a:r>
            <a:endParaRPr b="0" lang="en-US" sz="18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5500080" y="4809960"/>
            <a:ext cx="1696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cece"/>
                </a:solidFill>
                <a:latin typeface="Arial"/>
              </a:rPr>
              <a:t>Power culture</a:t>
            </a:r>
            <a:endParaRPr b="0" lang="en-US" sz="18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6394320" y="4013280"/>
            <a:ext cx="195300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cece"/>
                </a:solidFill>
                <a:latin typeface="Arial"/>
              </a:rPr>
              <a:t>Open &amp; sharing </a:t>
            </a:r>
            <a:endParaRPr b="0" lang="en-US" sz="1800" spc="-1" strike="noStrike">
              <a:solidFill>
                <a:srgbClr val="fcfeb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cece"/>
                </a:solidFill>
                <a:latin typeface="Arial"/>
              </a:rPr>
              <a:t>culture</a:t>
            </a:r>
            <a:endParaRPr b="0" lang="en-US" sz="18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780840" y="4451400"/>
            <a:ext cx="1254960" cy="75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cece"/>
                </a:solidFill>
                <a:latin typeface="Arial"/>
              </a:rPr>
              <a:t>Focus on</a:t>
            </a:r>
            <a:br>
              <a:rPr sz="1800"/>
            </a:br>
            <a:r>
              <a:rPr b="1" lang="en-US" sz="1800" spc="-1" strike="noStrike">
                <a:solidFill>
                  <a:srgbClr val="00cece"/>
                </a:solidFill>
                <a:latin typeface="Arial"/>
              </a:rPr>
              <a:t>individual</a:t>
            </a:r>
            <a:endParaRPr b="0" lang="en-US" sz="1800" spc="-1" strike="noStrike">
              <a:solidFill>
                <a:srgbClr val="fcfeb9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cece"/>
                </a:solidFill>
                <a:latin typeface="Arial"/>
              </a:rPr>
              <a:t>success</a:t>
            </a:r>
            <a:endParaRPr b="0" lang="en-US" sz="18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1670040" y="3517920"/>
            <a:ext cx="1267200" cy="75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cece"/>
                </a:solidFill>
                <a:latin typeface="Arial"/>
              </a:rPr>
              <a:t>Focus on </a:t>
            </a:r>
            <a:endParaRPr b="0" lang="en-US" sz="1800" spc="-1" strike="noStrike">
              <a:solidFill>
                <a:srgbClr val="fcfeb9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cece"/>
                </a:solidFill>
                <a:latin typeface="Arial"/>
              </a:rPr>
              <a:t>group </a:t>
            </a:r>
            <a:endParaRPr b="0" lang="en-US" sz="1800" spc="-1" strike="noStrike">
              <a:solidFill>
                <a:srgbClr val="fcfeb9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cece"/>
                </a:solidFill>
                <a:latin typeface="Arial"/>
              </a:rPr>
              <a:t>success</a:t>
            </a:r>
            <a:endParaRPr b="0" lang="en-US" sz="18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3175200" y="3260880"/>
            <a:ext cx="1774440" cy="75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cece"/>
                </a:solidFill>
                <a:latin typeface="Arial"/>
              </a:rPr>
              <a:t>No </a:t>
            </a:r>
            <a:endParaRPr b="0" lang="en-US" sz="1800" spc="-1" strike="noStrike">
              <a:solidFill>
                <a:srgbClr val="fcfeb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cece"/>
                </a:solidFill>
                <a:latin typeface="Arial"/>
              </a:rPr>
              <a:t>understanding</a:t>
            </a:r>
            <a:endParaRPr b="0" lang="en-US" sz="1800" spc="-1" strike="noStrike">
              <a:solidFill>
                <a:srgbClr val="fcfeb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cece"/>
                </a:solidFill>
                <a:latin typeface="Arial"/>
              </a:rPr>
              <a:t>of KM</a:t>
            </a:r>
            <a:endParaRPr b="0" lang="en-US" sz="18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5423400" y="3479760"/>
            <a:ext cx="214200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cece"/>
                </a:solidFill>
                <a:latin typeface="Arial"/>
              </a:rPr>
              <a:t>Top management </a:t>
            </a:r>
            <a:br>
              <a:rPr sz="1800"/>
            </a:br>
            <a:r>
              <a:rPr b="1" lang="en-US" sz="1800" spc="-1" strike="noStrike">
                <a:solidFill>
                  <a:srgbClr val="00cece"/>
                </a:solidFill>
                <a:latin typeface="Arial"/>
              </a:rPr>
              <a:t>commitment </a:t>
            </a:r>
            <a:endParaRPr b="0" lang="en-US" sz="18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3576600" y="5156280"/>
            <a:ext cx="466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fcfeb9"/>
                </a:solidFill>
                <a:latin typeface="Arial"/>
              </a:rPr>
              <a:t>2,3</a:t>
            </a:r>
            <a:endParaRPr b="0" lang="en-US" sz="16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452680" y="4527720"/>
            <a:ext cx="466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fcfeb9"/>
                </a:solidFill>
                <a:latin typeface="Arial"/>
              </a:rPr>
              <a:t>2,0</a:t>
            </a:r>
            <a:endParaRPr b="0" lang="en-US" sz="16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2011320" y="5059440"/>
            <a:ext cx="1752480" cy="0"/>
          </a:xfrm>
          <a:prstGeom prst="line">
            <a:avLst/>
          </a:prstGeom>
          <a:ln w="50760">
            <a:solidFill>
              <a:srgbClr val="e62a05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 flipV="1">
            <a:off x="5334120" y="4529160"/>
            <a:ext cx="533160" cy="533520"/>
          </a:xfrm>
          <a:prstGeom prst="line">
            <a:avLst/>
          </a:prstGeom>
          <a:ln w="50760">
            <a:solidFill>
              <a:srgbClr val="e62a05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3124080" y="4010040"/>
            <a:ext cx="1143000" cy="0"/>
          </a:xfrm>
          <a:prstGeom prst="line">
            <a:avLst/>
          </a:prstGeom>
          <a:ln w="50760">
            <a:solidFill>
              <a:srgbClr val="e62a05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 flipV="1">
            <a:off x="2011320" y="4529160"/>
            <a:ext cx="533520" cy="533520"/>
          </a:xfrm>
          <a:prstGeom prst="line">
            <a:avLst/>
          </a:prstGeom>
          <a:ln w="50760">
            <a:solidFill>
              <a:srgbClr val="e62a05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 flipV="1">
            <a:off x="5883120" y="4425480"/>
            <a:ext cx="109800" cy="117720"/>
          </a:xfrm>
          <a:prstGeom prst="line">
            <a:avLst/>
          </a:prstGeom>
          <a:ln w="50760">
            <a:solidFill>
              <a:srgbClr val="30c2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 flipV="1">
            <a:off x="2529000" y="4352760"/>
            <a:ext cx="230040" cy="198720"/>
          </a:xfrm>
          <a:prstGeom prst="line">
            <a:avLst/>
          </a:prstGeom>
          <a:ln w="50760">
            <a:solidFill>
              <a:srgbClr val="30c2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3722760" y="5059440"/>
            <a:ext cx="216000" cy="0"/>
          </a:xfrm>
          <a:prstGeom prst="line">
            <a:avLst/>
          </a:prstGeom>
          <a:ln w="50760">
            <a:solidFill>
              <a:srgbClr val="30c2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4267080" y="4010040"/>
            <a:ext cx="990720" cy="0"/>
          </a:xfrm>
          <a:prstGeom prst="line">
            <a:avLst/>
          </a:prstGeom>
          <a:ln w="50760">
            <a:solidFill>
              <a:srgbClr val="30c2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5881680" y="4527720"/>
            <a:ext cx="466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fcfeb9"/>
                </a:solidFill>
                <a:latin typeface="Arial"/>
              </a:rPr>
              <a:t>2,1</a:t>
            </a:r>
            <a:endParaRPr b="0" lang="en-US" sz="16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3976560" y="3994200"/>
            <a:ext cx="466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fcfeb9"/>
                </a:solidFill>
                <a:latin typeface="Arial"/>
              </a:rPr>
              <a:t>1,9</a:t>
            </a:r>
            <a:endParaRPr b="0" lang="en-US" sz="16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4040640" y="6521400"/>
            <a:ext cx="135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000c0"/>
                </a:solidFill>
                <a:uFillTx/>
                <a:latin typeface="Times New Roman"/>
                <a:hlinkClick r:id="rId1"/>
              </a:rPr>
              <a:t>[</a:t>
            </a:r>
            <a:r>
              <a:rPr b="0" lang="en-US" sz="1600" spc="-1" strike="noStrike" u="sng">
                <a:solidFill>
                  <a:srgbClr val="c000c0"/>
                </a:solidFill>
                <a:uFillTx/>
                <a:latin typeface="Times New Roman"/>
                <a:hlinkClick r:id="rId2"/>
              </a:rPr>
              <a:t>KPMG</a:t>
            </a:r>
            <a:r>
              <a:rPr b="0" lang="en-US" sz="1600" spc="-1" strike="noStrike" u="sng">
                <a:solidFill>
                  <a:srgbClr val="c000c0"/>
                </a:solidFill>
                <a:uFillTx/>
                <a:latin typeface="Times New Roman"/>
                <a:hlinkClick r:id="rId3"/>
              </a:rPr>
              <a:t> 1999]</a:t>
            </a:r>
            <a:endParaRPr b="0" lang="en-US" sz="16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152280" y="5790960"/>
            <a:ext cx="883944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1000"/>
          </a:bodyPr>
          <a:p>
            <a:pPr marL="231480" indent="-231480">
              <a:spcBef>
                <a:spcPts val="601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On the behavioral/structural axis, there is still enough improvement potential.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"/>
          <p:cNvSpPr/>
          <p:nvPr/>
        </p:nvSpPr>
        <p:spPr>
          <a:xfrm>
            <a:off x="444600" y="5754600"/>
            <a:ext cx="88326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KM Operational Components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grpSp>
        <p:nvGrpSpPr>
          <p:cNvPr id="994" name=""/>
          <p:cNvGrpSpPr/>
          <p:nvPr/>
        </p:nvGrpSpPr>
        <p:grpSpPr>
          <a:xfrm>
            <a:off x="6397560" y="1835280"/>
            <a:ext cx="2755440" cy="2145960"/>
            <a:chOff x="6397560" y="1835280"/>
            <a:chExt cx="2755440" cy="2145960"/>
          </a:xfrm>
        </p:grpSpPr>
        <p:sp>
          <p:nvSpPr>
            <p:cNvPr id="995" name=""/>
            <p:cNvSpPr/>
            <p:nvPr/>
          </p:nvSpPr>
          <p:spPr>
            <a:xfrm>
              <a:off x="6539400" y="3276720"/>
              <a:ext cx="2472120" cy="70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55520" rIns="155520" tIns="77760" bIns="77760" anchor="t">
              <a:spAutoFit/>
            </a:bodyPr>
            <a:p>
              <a:pPr marL="285840" indent="-285840">
                <a:lnSpc>
                  <a:spcPct val="100000"/>
                </a:lnSpc>
                <a:buClr>
                  <a:srgbClr val="e62a05"/>
                </a:buClr>
                <a:buSzPct val="120000"/>
                <a:buFont typeface="Wingdings" charset="2"/>
                <a:buChar char=""/>
                <a:tabLst>
                  <a:tab algn="l" pos="2174760"/>
                  <a:tab algn="l" pos="4349880"/>
                  <a:tab algn="l" pos="6524640"/>
                  <a:tab algn="l" pos="8699400"/>
                  <a:tab algn="l" pos="10874520"/>
                </a:tabLst>
              </a:pPr>
              <a:r>
                <a:rPr b="0" lang="en-US" sz="1800" spc="-1" strike="noStrike">
                  <a:solidFill>
                    <a:srgbClr val="fcfeb9"/>
                  </a:solidFill>
                  <a:latin typeface="Arial"/>
                </a:rPr>
                <a:t>Preparing initiative</a:t>
              </a:r>
              <a:endParaRPr b="0" lang="en-US" sz="1800" spc="-1" strike="noStrike">
                <a:solidFill>
                  <a:srgbClr val="fcfeb9"/>
                </a:solidFill>
                <a:latin typeface="Times New Roman"/>
              </a:endParaRPr>
            </a:p>
            <a:p>
              <a:pPr marL="285840" indent="-285840">
                <a:lnSpc>
                  <a:spcPct val="100000"/>
                </a:lnSpc>
                <a:buClr>
                  <a:srgbClr val="30c200"/>
                </a:buClr>
                <a:buSzPct val="120000"/>
                <a:buFont typeface="Wingdings" charset="2"/>
                <a:buChar char=""/>
                <a:tabLst>
                  <a:tab algn="l" pos="2174760"/>
                  <a:tab algn="l" pos="4349880"/>
                  <a:tab algn="l" pos="6524640"/>
                  <a:tab algn="l" pos="8699400"/>
                  <a:tab algn="l" pos="10874520"/>
                </a:tabLst>
              </a:pPr>
              <a:r>
                <a:rPr b="0" lang="en-US" sz="1800" spc="-1" strike="noStrike">
                  <a:solidFill>
                    <a:srgbClr val="fcfeb9"/>
                  </a:solidFill>
                  <a:latin typeface="Arial"/>
                </a:rPr>
                <a:t>Initiative in place</a:t>
              </a:r>
              <a:endParaRPr b="0" lang="en-US" sz="18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grpSp>
          <p:nvGrpSpPr>
            <p:cNvPr id="996" name=""/>
            <p:cNvGrpSpPr/>
            <p:nvPr/>
          </p:nvGrpSpPr>
          <p:grpSpPr>
            <a:xfrm>
              <a:off x="6397560" y="1835280"/>
              <a:ext cx="2755440" cy="1577160"/>
              <a:chOff x="6397560" y="1835280"/>
              <a:chExt cx="2755440" cy="1577160"/>
            </a:xfrm>
          </p:grpSpPr>
          <p:sp>
            <p:nvSpPr>
              <p:cNvPr id="997" name=""/>
              <p:cNvSpPr/>
              <p:nvPr/>
            </p:nvSpPr>
            <p:spPr>
              <a:xfrm>
                <a:off x="6681960" y="3009960"/>
                <a:ext cx="1804680" cy="0"/>
              </a:xfrm>
              <a:prstGeom prst="line">
                <a:avLst/>
              </a:prstGeom>
              <a:ln w="12600">
                <a:solidFill>
                  <a:srgbClr val="fcfe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 rot="18600000">
                <a:off x="6369120" y="2304000"/>
                <a:ext cx="1418040" cy="415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55520" rIns="155520" tIns="77760" bIns="77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174760"/>
                    <a:tab algn="l" pos="4349880"/>
                    <a:tab algn="l" pos="6524640"/>
                    <a:tab algn="l" pos="8699400"/>
                    <a:tab algn="l" pos="10874520"/>
                  </a:tabLst>
                </a:pPr>
                <a:r>
                  <a:rPr b="0" lang="en-US" sz="1700" spc="-1" strike="noStrike">
                    <a:solidFill>
                      <a:srgbClr val="fcfeb9"/>
                    </a:solidFill>
                    <a:latin typeface="Arial"/>
                  </a:rPr>
                  <a:t>not in place</a:t>
                </a:r>
                <a:endParaRPr b="0" lang="en-US" sz="17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 rot="18600000">
                <a:off x="6968160" y="2468160"/>
                <a:ext cx="1020600" cy="415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55520" rIns="155520" tIns="77760" bIns="77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174760"/>
                    <a:tab algn="l" pos="4349880"/>
                    <a:tab algn="l" pos="6524640"/>
                    <a:tab algn="l" pos="8699400"/>
                    <a:tab algn="l" pos="10874520"/>
                  </a:tabLst>
                </a:pPr>
                <a:r>
                  <a:rPr b="0" lang="en-US" sz="1700" spc="-1" strike="noStrike">
                    <a:solidFill>
                      <a:srgbClr val="fcfeb9"/>
                    </a:solidFill>
                    <a:latin typeface="Arial"/>
                  </a:rPr>
                  <a:t>starting</a:t>
                </a:r>
                <a:endParaRPr b="0" lang="en-US" sz="17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 rot="18600000">
                <a:off x="7570440" y="2377080"/>
                <a:ext cx="1250640" cy="415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55520" rIns="155520" tIns="77760" bIns="77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174760"/>
                    <a:tab algn="l" pos="4349880"/>
                    <a:tab algn="l" pos="6524640"/>
                    <a:tab algn="l" pos="8699400"/>
                    <a:tab algn="l" pos="10874520"/>
                  </a:tabLst>
                </a:pPr>
                <a:r>
                  <a:rPr b="0" lang="en-US" sz="1700" spc="-1" strike="noStrike">
                    <a:solidFill>
                      <a:srgbClr val="fcfeb9"/>
                    </a:solidFill>
                    <a:latin typeface="Arial"/>
                  </a:rPr>
                  <a:t>advanced</a:t>
                </a:r>
                <a:endParaRPr b="0" lang="en-US" sz="17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 rot="18600000">
                <a:off x="8114400" y="2443680"/>
                <a:ext cx="1070640" cy="415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55520" rIns="155520" tIns="77760" bIns="77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174760"/>
                    <a:tab algn="l" pos="4349880"/>
                    <a:tab algn="l" pos="6524640"/>
                    <a:tab algn="l" pos="8699400"/>
                    <a:tab algn="l" pos="10874520"/>
                  </a:tabLst>
                </a:pPr>
                <a:r>
                  <a:rPr b="0" lang="en-US" sz="1700" spc="-1" strike="noStrike">
                    <a:solidFill>
                      <a:srgbClr val="fcfeb9"/>
                    </a:solidFill>
                    <a:latin typeface="Arial"/>
                  </a:rPr>
                  <a:t>realized</a:t>
                </a:r>
                <a:endParaRPr b="0" lang="en-US" sz="17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6688080" y="3016080"/>
                <a:ext cx="117360" cy="115920"/>
              </a:xfrm>
              <a:prstGeom prst="rect">
                <a:avLst/>
              </a:prstGeom>
              <a:solidFill>
                <a:srgbClr val="fcfeb9"/>
              </a:solidFill>
              <a:ln w="12600">
                <a:solidFill>
                  <a:srgbClr val="fcfe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>
                <a:off x="7203960" y="3016080"/>
                <a:ext cx="115920" cy="115920"/>
              </a:xfrm>
              <a:prstGeom prst="rect">
                <a:avLst/>
              </a:prstGeom>
              <a:solidFill>
                <a:srgbClr val="fcfeb9"/>
              </a:solidFill>
              <a:ln w="12600">
                <a:solidFill>
                  <a:srgbClr val="fcfe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7848720" y="3016080"/>
                <a:ext cx="115920" cy="115920"/>
              </a:xfrm>
              <a:prstGeom prst="rect">
                <a:avLst/>
              </a:prstGeom>
              <a:solidFill>
                <a:srgbClr val="fcfeb9"/>
              </a:solidFill>
              <a:ln w="12600">
                <a:solidFill>
                  <a:srgbClr val="fcfe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8362800" y="3016080"/>
                <a:ext cx="117720" cy="115920"/>
              </a:xfrm>
              <a:prstGeom prst="rect">
                <a:avLst/>
              </a:prstGeom>
              <a:solidFill>
                <a:srgbClr val="fcfeb9"/>
              </a:solidFill>
              <a:ln w="12600">
                <a:solidFill>
                  <a:srgbClr val="fcfe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6397560" y="2997360"/>
                <a:ext cx="432000" cy="415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55520" rIns="155520" tIns="77760" bIns="77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174760"/>
                    <a:tab algn="l" pos="4349880"/>
                    <a:tab algn="l" pos="6524640"/>
                    <a:tab algn="l" pos="8699400"/>
                    <a:tab algn="l" pos="10874520"/>
                  </a:tabLst>
                </a:pPr>
                <a:r>
                  <a:rPr b="0" lang="en-US" sz="1700" spc="-1" strike="noStrike">
                    <a:solidFill>
                      <a:srgbClr val="fcfeb9"/>
                    </a:solidFill>
                    <a:latin typeface="Arial"/>
                  </a:rPr>
                  <a:t>1</a:t>
                </a:r>
                <a:endParaRPr b="0" lang="en-US" sz="17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6913440" y="2997360"/>
                <a:ext cx="432000" cy="415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55520" rIns="155520" tIns="77760" bIns="77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174760"/>
                    <a:tab algn="l" pos="4349880"/>
                    <a:tab algn="l" pos="6524640"/>
                    <a:tab algn="l" pos="8699400"/>
                    <a:tab algn="l" pos="10874520"/>
                  </a:tabLst>
                </a:pPr>
                <a:r>
                  <a:rPr b="0" lang="en-US" sz="1700" spc="-1" strike="noStrike">
                    <a:solidFill>
                      <a:srgbClr val="fcfeb9"/>
                    </a:solidFill>
                    <a:latin typeface="Arial"/>
                  </a:rPr>
                  <a:t>2</a:t>
                </a:r>
                <a:endParaRPr b="0" lang="en-US" sz="17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7557120" y="2997360"/>
                <a:ext cx="551160" cy="415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55520" rIns="155520" tIns="77760" bIns="7776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2174760"/>
                    <a:tab algn="l" pos="4349880"/>
                    <a:tab algn="l" pos="6524640"/>
                    <a:tab algn="l" pos="8699400"/>
                    <a:tab algn="l" pos="10874520"/>
                  </a:tabLst>
                </a:pPr>
                <a:r>
                  <a:rPr b="0" lang="en-US" sz="1700" spc="-1" strike="noStrike">
                    <a:solidFill>
                      <a:srgbClr val="fcfeb9"/>
                    </a:solidFill>
                    <a:latin typeface="Arial"/>
                  </a:rPr>
                  <a:t>3  </a:t>
                </a:r>
                <a:endParaRPr b="0" lang="en-US" sz="17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8074080" y="2997360"/>
                <a:ext cx="432000" cy="415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55520" rIns="155520" tIns="77760" bIns="77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174760"/>
                    <a:tab algn="l" pos="4349880"/>
                    <a:tab algn="l" pos="6524640"/>
                    <a:tab algn="l" pos="8699400"/>
                    <a:tab algn="l" pos="10874520"/>
                  </a:tabLst>
                </a:pPr>
                <a:r>
                  <a:rPr b="0" lang="en-US" sz="1700" spc="-1" strike="noStrike">
                    <a:solidFill>
                      <a:srgbClr val="fcfeb9"/>
                    </a:solidFill>
                    <a:latin typeface="Arial"/>
                  </a:rPr>
                  <a:t>4</a:t>
                </a:r>
                <a:endParaRPr b="0" lang="en-US" sz="17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10" name=""/>
          <p:cNvSpPr/>
          <p:nvPr/>
        </p:nvSpPr>
        <p:spPr>
          <a:xfrm>
            <a:off x="1652760" y="1438200"/>
            <a:ext cx="4371840" cy="4194360"/>
          </a:xfrm>
          <a:prstGeom prst="cube">
            <a:avLst>
              <a:gd name="adj" fmla="val 24995"/>
            </a:avLst>
          </a:prstGeom>
          <a:solidFill>
            <a:srgbClr val="d6cafe"/>
          </a:solidFill>
          <a:ln w="12600">
            <a:solidFill>
              <a:srgbClr val="0000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1652760" y="2100240"/>
            <a:ext cx="3328920" cy="385920"/>
          </a:xfrm>
          <a:prstGeom prst="triangle">
            <a:avLst>
              <a:gd name="adj" fmla="val 49995"/>
            </a:avLst>
          </a:prstGeom>
          <a:solidFill>
            <a:srgbClr val="d6cafe"/>
          </a:solidFill>
          <a:ln w="12600">
            <a:solidFill>
              <a:srgbClr val="0000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2714760" y="1035000"/>
            <a:ext cx="3328920" cy="390600"/>
          </a:xfrm>
          <a:prstGeom prst="triangle">
            <a:avLst>
              <a:gd name="adj" fmla="val 49995"/>
            </a:avLst>
          </a:prstGeom>
          <a:solidFill>
            <a:srgbClr val="d6cafe"/>
          </a:solidFill>
          <a:ln w="12600">
            <a:solidFill>
              <a:srgbClr val="0000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 flipV="1">
            <a:off x="3341520" y="1028880"/>
            <a:ext cx="1019520" cy="1041120"/>
          </a:xfrm>
          <a:prstGeom prst="line">
            <a:avLst/>
          </a:prstGeom>
          <a:ln w="12600">
            <a:solidFill>
              <a:srgbClr val="0000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 flipV="1">
            <a:off x="1650960" y="4593960"/>
            <a:ext cx="1074600" cy="1019160"/>
          </a:xfrm>
          <a:prstGeom prst="line">
            <a:avLst/>
          </a:prstGeom>
          <a:ln w="12600">
            <a:solidFill>
              <a:srgbClr val="0000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2727360" y="4594320"/>
            <a:ext cx="3301920" cy="0"/>
          </a:xfrm>
          <a:prstGeom prst="line">
            <a:avLst/>
          </a:prstGeom>
          <a:ln w="12600">
            <a:solidFill>
              <a:srgbClr val="0000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 flipV="1">
            <a:off x="2727360" y="1460160"/>
            <a:ext cx="0" cy="3133800"/>
          </a:xfrm>
          <a:prstGeom prst="line">
            <a:avLst/>
          </a:prstGeom>
          <a:ln w="12600">
            <a:solidFill>
              <a:srgbClr val="0000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6019560" y="4027320"/>
            <a:ext cx="2073240" cy="75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Arial"/>
              </a:rPr>
              <a:t>Knowledge stored </a:t>
            </a:r>
            <a:endParaRPr b="0" lang="en-US" sz="1800" spc="-1" strike="noStrike">
              <a:solidFill>
                <a:srgbClr val="fcfeb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Arial"/>
              </a:rPr>
              <a:t>mentally and </a:t>
            </a:r>
            <a:endParaRPr b="0" lang="en-US" sz="1800" spc="-1" strike="noStrike">
              <a:solidFill>
                <a:srgbClr val="fcfeb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Arial"/>
              </a:rPr>
              <a:t>physically</a:t>
            </a:r>
            <a:endParaRPr b="0" lang="en-US" sz="18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6056640" y="1306440"/>
            <a:ext cx="1895040" cy="75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Arial"/>
              </a:rPr>
              <a:t>Integrated </a:t>
            </a:r>
            <a:endParaRPr b="0" lang="en-US" sz="1800" spc="-1" strike="noStrike">
              <a:solidFill>
                <a:srgbClr val="fcfeb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Arial"/>
              </a:rPr>
              <a:t>databases linked</a:t>
            </a:r>
            <a:endParaRPr b="0" lang="en-US" sz="1800" spc="-1" strike="noStrike">
              <a:solidFill>
                <a:srgbClr val="fcfeb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Arial"/>
              </a:rPr>
              <a:t>with workflow</a:t>
            </a:r>
            <a:endParaRPr b="0" lang="en-US" sz="18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342720" y="5092560"/>
            <a:ext cx="1273320" cy="75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Arial"/>
              </a:rPr>
              <a:t>Ad-hoc </a:t>
            </a:r>
            <a:br>
              <a:rPr sz="1800"/>
            </a:br>
            <a:r>
              <a:rPr b="0" lang="en-US" sz="1800" spc="-1" strike="noStrike">
                <a:solidFill>
                  <a:srgbClr val="00ff00"/>
                </a:solidFill>
                <a:latin typeface="Arial"/>
              </a:rPr>
              <a:t>knowledge</a:t>
            </a:r>
            <a:endParaRPr b="0" lang="en-US" sz="1800" spc="-1" strike="noStrike">
              <a:solidFill>
                <a:srgbClr val="fcfeb9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Arial"/>
              </a:rPr>
              <a:t>creation</a:t>
            </a:r>
            <a:endParaRPr b="0" lang="en-US" sz="18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339840" y="2470320"/>
            <a:ext cx="130212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Arial"/>
              </a:rPr>
              <a:t>Structured,</a:t>
            </a:r>
            <a:endParaRPr b="0" lang="en-US" sz="1800" spc="-1" strike="noStrike">
              <a:solidFill>
                <a:srgbClr val="fcfeb9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Arial"/>
              </a:rPr>
              <a:t>strategic</a:t>
            </a:r>
            <a:endParaRPr b="0" lang="en-US" sz="1800" spc="-1" strike="noStrike">
              <a:solidFill>
                <a:srgbClr val="fcfeb9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Arial"/>
              </a:rPr>
              <a:t>knowledge</a:t>
            </a:r>
            <a:endParaRPr b="0" lang="en-US" sz="1800" spc="-1" strike="noStrike">
              <a:solidFill>
                <a:srgbClr val="fcfeb9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Arial"/>
              </a:rPr>
              <a:t>creation</a:t>
            </a:r>
            <a:endParaRPr b="0" lang="en-US" sz="18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2700720" y="4165560"/>
            <a:ext cx="121212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330099"/>
                </a:solidFill>
                <a:latin typeface="Arial"/>
              </a:rPr>
              <a:t>Ad-hoc data</a:t>
            </a:r>
            <a:endParaRPr b="0" lang="en-US" sz="1400" spc="-1" strike="noStrike">
              <a:solidFill>
                <a:srgbClr val="fcfeb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330099"/>
                </a:solidFill>
                <a:latin typeface="Arial"/>
              </a:rPr>
              <a:t>collection</a:t>
            </a:r>
            <a:endParaRPr b="0" lang="en-US" sz="1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5447520" y="3198960"/>
            <a:ext cx="474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20"/>
                </a:solidFill>
                <a:latin typeface="Univers 45 Light"/>
              </a:rPr>
              <a:t>2,1</a:t>
            </a:r>
            <a:endParaRPr b="0" lang="en-US" sz="16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1672560" y="4440240"/>
            <a:ext cx="474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330099"/>
                </a:solidFill>
                <a:latin typeface="Univers 45 Light"/>
              </a:rPr>
              <a:t>2,0</a:t>
            </a:r>
            <a:endParaRPr b="0" lang="en-US" sz="16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2777400" y="3243240"/>
            <a:ext cx="474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330099"/>
                </a:solidFill>
                <a:latin typeface="Univers 45 Light"/>
              </a:rPr>
              <a:t>2,1</a:t>
            </a:r>
            <a:endParaRPr b="0" lang="en-US" sz="16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2686680" y="1438200"/>
            <a:ext cx="1305360" cy="6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330099"/>
                </a:solidFill>
                <a:latin typeface="Arial"/>
              </a:rPr>
              <a:t>Professional </a:t>
            </a:r>
            <a:endParaRPr b="0" lang="en-US" sz="1400" spc="-1" strike="noStrike">
              <a:solidFill>
                <a:srgbClr val="fcfeb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330099"/>
                </a:solidFill>
                <a:latin typeface="Arial"/>
              </a:rPr>
              <a:t>research</a:t>
            </a:r>
            <a:endParaRPr b="0" lang="en-US" sz="1400" spc="-1" strike="noStrike">
              <a:solidFill>
                <a:srgbClr val="fcfeb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330099"/>
                </a:solidFill>
                <a:latin typeface="Arial"/>
              </a:rPr>
              <a:t>methods</a:t>
            </a:r>
            <a:endParaRPr b="0" lang="en-US" sz="1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 flipV="1">
            <a:off x="1641600" y="4525560"/>
            <a:ext cx="0" cy="1111320"/>
          </a:xfrm>
          <a:prstGeom prst="line">
            <a:avLst/>
          </a:prstGeom>
          <a:ln w="50760">
            <a:solidFill>
              <a:srgbClr val="e62a05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 flipV="1">
            <a:off x="1641600" y="4179960"/>
            <a:ext cx="0" cy="374400"/>
          </a:xfrm>
          <a:prstGeom prst="line">
            <a:avLst/>
          </a:prstGeom>
          <a:ln w="50760">
            <a:solidFill>
              <a:srgbClr val="30c2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 flipV="1">
            <a:off x="2724120" y="3341520"/>
            <a:ext cx="0" cy="1270080"/>
          </a:xfrm>
          <a:prstGeom prst="line">
            <a:avLst/>
          </a:prstGeom>
          <a:ln w="50760">
            <a:solidFill>
              <a:srgbClr val="e62a05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 flipV="1">
            <a:off x="6029280" y="3357720"/>
            <a:ext cx="0" cy="1239840"/>
          </a:xfrm>
          <a:prstGeom prst="line">
            <a:avLst/>
          </a:prstGeom>
          <a:ln w="50760">
            <a:solidFill>
              <a:srgbClr val="e62a05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 flipV="1">
            <a:off x="2724120" y="3053880"/>
            <a:ext cx="0" cy="303480"/>
          </a:xfrm>
          <a:prstGeom prst="line">
            <a:avLst/>
          </a:prstGeom>
          <a:ln w="50760">
            <a:solidFill>
              <a:srgbClr val="30c2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3934800" y="2577960"/>
            <a:ext cx="113292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330099"/>
                </a:solidFill>
                <a:latin typeface="Arial"/>
              </a:rPr>
              <a:t>Knowledge</a:t>
            </a:r>
            <a:endParaRPr b="0" lang="en-US" sz="1400" spc="-1" strike="noStrike">
              <a:solidFill>
                <a:srgbClr val="fcfeb9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330099"/>
                </a:solidFill>
                <a:latin typeface="Arial"/>
              </a:rPr>
              <a:t>supporting</a:t>
            </a:r>
            <a:endParaRPr b="0" lang="en-US" sz="1400" spc="-1" strike="noStrike">
              <a:solidFill>
                <a:srgbClr val="fcfeb9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330099"/>
                </a:solidFill>
                <a:latin typeface="Arial"/>
              </a:rPr>
              <a:t>decision-</a:t>
            </a:r>
            <a:endParaRPr b="0" lang="en-US" sz="1400" spc="-1" strike="noStrike">
              <a:solidFill>
                <a:srgbClr val="fcfeb9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330099"/>
                </a:solidFill>
                <a:latin typeface="Arial"/>
              </a:rPr>
              <a:t>making</a:t>
            </a:r>
            <a:endParaRPr b="0" lang="en-US" sz="1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5365440" y="5311800"/>
            <a:ext cx="183240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Arial"/>
              </a:rPr>
              <a:t>Non-customized</a:t>
            </a:r>
            <a:br>
              <a:rPr sz="1800"/>
            </a:br>
            <a:r>
              <a:rPr b="0" lang="en-US" sz="1800" spc="-1" strike="noStrike">
                <a:solidFill>
                  <a:srgbClr val="00ff00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 flipV="1">
            <a:off x="6022800" y="3060360"/>
            <a:ext cx="0" cy="291960"/>
          </a:xfrm>
          <a:prstGeom prst="line">
            <a:avLst/>
          </a:prstGeom>
          <a:ln w="25560">
            <a:solidFill>
              <a:srgbClr val="30c2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1628640" y="4591080"/>
            <a:ext cx="4402440" cy="1106280"/>
          </a:xfrm>
          <a:custGeom>
            <a:avLst/>
            <a:gdLst/>
            <a:ahLst/>
            <a:rect l="l" t="t" r="r" b="b"/>
            <a:pathLst>
              <a:path w="2773" h="697">
                <a:moveTo>
                  <a:pt x="0" y="666"/>
                </a:moveTo>
                <a:lnTo>
                  <a:pt x="690" y="0"/>
                </a:lnTo>
                <a:lnTo>
                  <a:pt x="2772" y="0"/>
                </a:lnTo>
                <a:lnTo>
                  <a:pt x="2112" y="660"/>
                </a:lnTo>
                <a:lnTo>
                  <a:pt x="6" y="660"/>
                </a:lnTo>
                <a:lnTo>
                  <a:pt x="6" y="696"/>
                </a:lnTo>
              </a:path>
            </a:pathLst>
          </a:custGeom>
          <a:noFill/>
          <a:ln w="9360">
            <a:solidFill>
              <a:srgbClr val="fcfeb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4993560" y="4237200"/>
            <a:ext cx="474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330099"/>
                </a:solidFill>
                <a:latin typeface="Univers 45 Light"/>
              </a:rPr>
              <a:t>1,9</a:t>
            </a:r>
            <a:endParaRPr b="0" lang="en-US" sz="16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 flipV="1">
            <a:off x="4989600" y="4049640"/>
            <a:ext cx="0" cy="519120"/>
          </a:xfrm>
          <a:prstGeom prst="line">
            <a:avLst/>
          </a:prstGeom>
          <a:ln w="50760">
            <a:solidFill>
              <a:srgbClr val="30c2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4989600" y="4568760"/>
            <a:ext cx="0" cy="1082880"/>
          </a:xfrm>
          <a:prstGeom prst="line">
            <a:avLst/>
          </a:prstGeom>
          <a:ln w="1260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 flipV="1">
            <a:off x="4989600" y="4539960"/>
            <a:ext cx="0" cy="1096920"/>
          </a:xfrm>
          <a:prstGeom prst="line">
            <a:avLst/>
          </a:prstGeom>
          <a:ln w="50760">
            <a:solidFill>
              <a:srgbClr val="e62a05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4040640" y="6524640"/>
            <a:ext cx="135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000c0"/>
                </a:solidFill>
                <a:uFillTx/>
                <a:latin typeface="Times New Roman"/>
                <a:hlinkClick r:id="rId1"/>
              </a:rPr>
              <a:t>[</a:t>
            </a:r>
            <a:r>
              <a:rPr b="0" lang="en-US" sz="1600" spc="-1" strike="noStrike" u="sng">
                <a:solidFill>
                  <a:srgbClr val="c000c0"/>
                </a:solidFill>
                <a:uFillTx/>
                <a:latin typeface="Times New Roman"/>
                <a:hlinkClick r:id="rId2"/>
              </a:rPr>
              <a:t>KPMG</a:t>
            </a:r>
            <a:r>
              <a:rPr b="0" lang="en-US" sz="1600" spc="-1" strike="noStrike" u="sng">
                <a:solidFill>
                  <a:srgbClr val="c000c0"/>
                </a:solidFill>
                <a:uFillTx/>
                <a:latin typeface="Times New Roman"/>
                <a:hlinkClick r:id="rId3"/>
              </a:rPr>
              <a:t> 1999]</a:t>
            </a:r>
            <a:endParaRPr b="0" lang="en-US" sz="16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228240" y="5714640"/>
            <a:ext cx="891540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3000"/>
          </a:bodyPr>
          <a:p>
            <a:pPr marL="237240" indent="-237240">
              <a:spcBef>
                <a:spcPts val="601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A quick fix is not possible for the implementation of KM.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37240" indent="-237240">
              <a:spcBef>
                <a:spcPts val="601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Step by step, the KM performance should be improved.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Bridge-In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Mixed Feelings about KM Benefits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grpSp>
        <p:nvGrpSpPr>
          <p:cNvPr id="1042" name=""/>
          <p:cNvGrpSpPr/>
          <p:nvPr/>
        </p:nvGrpSpPr>
        <p:grpSpPr>
          <a:xfrm>
            <a:off x="552600" y="1916280"/>
            <a:ext cx="3504960" cy="2428560"/>
            <a:chOff x="552600" y="1916280"/>
            <a:chExt cx="3504960" cy="2428560"/>
          </a:xfrm>
        </p:grpSpPr>
        <p:sp>
          <p:nvSpPr>
            <p:cNvPr id="1043" name=""/>
            <p:cNvSpPr/>
            <p:nvPr/>
          </p:nvSpPr>
          <p:spPr>
            <a:xfrm>
              <a:off x="552600" y="1916280"/>
              <a:ext cx="3473280" cy="2428560"/>
            </a:xfrm>
            <a:prstGeom prst="rect">
              <a:avLst/>
            </a:prstGeom>
            <a:solidFill>
              <a:srgbClr val="feff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571680" y="1986120"/>
              <a:ext cx="3485880" cy="29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8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20"/>
                  </a:solidFill>
                  <a:latin typeface="Arial"/>
                </a:rPr>
                <a:t>Overall satisfying results?</a:t>
              </a:r>
              <a:endParaRPr b="0" lang="en-US" sz="16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grpSp>
          <p:nvGrpSpPr>
            <p:cNvPr id="1045" name=""/>
            <p:cNvGrpSpPr/>
            <p:nvPr/>
          </p:nvGrpSpPr>
          <p:grpSpPr>
            <a:xfrm>
              <a:off x="587160" y="2376360"/>
              <a:ext cx="3329640" cy="1687320"/>
              <a:chOff x="587160" y="2376360"/>
              <a:chExt cx="3329640" cy="1687320"/>
            </a:xfrm>
          </p:grpSpPr>
          <p:sp>
            <p:nvSpPr>
              <p:cNvPr id="1046" name=""/>
              <p:cNvSpPr/>
              <p:nvPr/>
            </p:nvSpPr>
            <p:spPr>
              <a:xfrm>
                <a:off x="1012680" y="2376360"/>
                <a:ext cx="1555560" cy="1562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756" y="0"/>
                    </a:moveTo>
                    <a:arcTo wR="10800" hR="10800" stAng="-5414031" swAng="799778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756" y="0"/>
                    </a:moveTo>
                    <a:arcTo wR="10800" hR="10800" stAng="-5414031" swAng="7997789"/>
                  </a:path>
                </a:pathLst>
              </a:custGeom>
              <a:solidFill>
                <a:srgbClr val="30c200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1012680" y="2376360"/>
                <a:ext cx="1555560" cy="1562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8691" y="18174"/>
                    </a:moveTo>
                    <a:arcTo wR="10800" hR="10800" stAng="2583757" swAng="283030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8691" y="18174"/>
                    </a:moveTo>
                    <a:arcTo wR="10800" hR="10800" stAng="2583757" swAng="2830302"/>
                  </a:path>
                </a:pathLst>
              </a:custGeom>
              <a:solidFill>
                <a:srgbClr val="e62a05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1012680" y="2378160"/>
                <a:ext cx="1555560" cy="15616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756" y="21600"/>
                    </a:moveTo>
                    <a:arcTo wR="10800" hR="10800" stAng="5414060" swAng="1077190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756" y="21600"/>
                    </a:moveTo>
                    <a:arcTo wR="10800" hR="10800" stAng="5414060" swAng="10771909"/>
                  </a:path>
                </a:pathLst>
              </a:custGeom>
              <a:solidFill>
                <a:srgbClr val="eeaf36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2436480" y="2583000"/>
                <a:ext cx="491400" cy="24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85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37%</a:t>
                </a:r>
                <a:endParaRPr b="0" lang="en-US" sz="12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2047680" y="3816360"/>
                <a:ext cx="491400" cy="24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85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3%</a:t>
                </a:r>
                <a:endParaRPr b="0" lang="en-US" sz="12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587160" y="2986200"/>
                <a:ext cx="491400" cy="24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85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50%</a:t>
                </a:r>
                <a:endParaRPr b="0" lang="en-US" sz="12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2864880" y="3021120"/>
                <a:ext cx="1051920" cy="747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marL="95400" indent="-95400">
                  <a:lnSpc>
                    <a:spcPct val="85000"/>
                  </a:lnSpc>
                  <a:spcBef>
                    <a:spcPts val="751"/>
                  </a:spcBef>
                  <a:buClr>
                    <a:srgbClr val="30c200"/>
                  </a:buClr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Yes</a:t>
                </a:r>
                <a:endParaRPr b="0" lang="en-US" sz="1200" spc="-1" strike="noStrike">
                  <a:solidFill>
                    <a:srgbClr val="fcfeb9"/>
                  </a:solidFill>
                  <a:latin typeface="Times New Roman"/>
                </a:endParaRPr>
              </a:p>
              <a:p>
                <a:pPr marL="95400" indent="-95400">
                  <a:lnSpc>
                    <a:spcPct val="85000"/>
                  </a:lnSpc>
                  <a:spcBef>
                    <a:spcPts val="751"/>
                  </a:spcBef>
                  <a:buClr>
                    <a:srgbClr val="e62a05"/>
                  </a:buClr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No</a:t>
                </a:r>
                <a:endParaRPr b="0" lang="en-US" sz="1200" spc="-1" strike="noStrike">
                  <a:solidFill>
                    <a:srgbClr val="fcfeb9"/>
                  </a:solidFill>
                  <a:latin typeface="Times New Roman"/>
                </a:endParaRPr>
              </a:p>
              <a:p>
                <a:pPr marL="95400" indent="-95400">
                  <a:lnSpc>
                    <a:spcPct val="85000"/>
                  </a:lnSpc>
                  <a:spcBef>
                    <a:spcPts val="751"/>
                  </a:spcBef>
                  <a:buClr>
                    <a:srgbClr val="eeaf36"/>
                  </a:buClr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on't know</a:t>
                </a:r>
                <a:endParaRPr b="0" lang="en-US" sz="12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</p:grpSp>
        <p:sp>
          <p:nvSpPr>
            <p:cNvPr id="1053" name=""/>
            <p:cNvSpPr/>
            <p:nvPr/>
          </p:nvSpPr>
          <p:spPr>
            <a:xfrm>
              <a:off x="767160" y="3997440"/>
              <a:ext cx="2013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20"/>
                  </a:solidFill>
                  <a:latin typeface="Univers 45 Light"/>
                </a:rPr>
                <a:t>(*) KM initiative in place</a:t>
              </a:r>
              <a:endParaRPr b="0" lang="en-US" sz="12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</p:grpSp>
      <p:grpSp>
        <p:nvGrpSpPr>
          <p:cNvPr id="1054" name=""/>
          <p:cNvGrpSpPr/>
          <p:nvPr/>
        </p:nvGrpSpPr>
        <p:grpSpPr>
          <a:xfrm>
            <a:off x="4385160" y="1924200"/>
            <a:ext cx="4587480" cy="2414520"/>
            <a:chOff x="4385160" y="1924200"/>
            <a:chExt cx="4587480" cy="2414520"/>
          </a:xfrm>
        </p:grpSpPr>
        <p:sp>
          <p:nvSpPr>
            <p:cNvPr id="1055" name=""/>
            <p:cNvSpPr/>
            <p:nvPr/>
          </p:nvSpPr>
          <p:spPr>
            <a:xfrm>
              <a:off x="4392720" y="1924200"/>
              <a:ext cx="4459320" cy="2414520"/>
            </a:xfrm>
            <a:prstGeom prst="rect">
              <a:avLst/>
            </a:prstGeom>
            <a:solidFill>
              <a:srgbClr val="feffab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5784840" y="2036880"/>
              <a:ext cx="2903400" cy="1798560"/>
            </a:xfrm>
            <a:prstGeom prst="rect">
              <a:avLst/>
            </a:prstGeom>
            <a:solidFill>
              <a:srgbClr val="d1d1ff"/>
            </a:solidFill>
            <a:ln w="12600">
              <a:solidFill>
                <a:srgbClr val="fcfeb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6146640" y="2075040"/>
              <a:ext cx="0" cy="1776240"/>
            </a:xfrm>
            <a:prstGeom prst="line">
              <a:avLst/>
            </a:prstGeom>
            <a:ln w="12600">
              <a:solidFill>
                <a:srgbClr val="fcfeb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6880320" y="2075040"/>
              <a:ext cx="0" cy="1776240"/>
            </a:xfrm>
            <a:prstGeom prst="line">
              <a:avLst/>
            </a:prstGeom>
            <a:ln w="12600">
              <a:solidFill>
                <a:srgbClr val="fcfeb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6513480" y="2075040"/>
              <a:ext cx="0" cy="1776240"/>
            </a:xfrm>
            <a:prstGeom prst="line">
              <a:avLst/>
            </a:prstGeom>
            <a:ln w="12600">
              <a:solidFill>
                <a:srgbClr val="fcfeb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7248600" y="2075040"/>
              <a:ext cx="0" cy="1776240"/>
            </a:xfrm>
            <a:prstGeom prst="line">
              <a:avLst/>
            </a:prstGeom>
            <a:ln w="12600">
              <a:solidFill>
                <a:srgbClr val="fcfeb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7616880" y="2075040"/>
              <a:ext cx="0" cy="1776240"/>
            </a:xfrm>
            <a:prstGeom prst="line">
              <a:avLst/>
            </a:prstGeom>
            <a:ln w="12600">
              <a:solidFill>
                <a:srgbClr val="fcfeb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7983360" y="2075040"/>
              <a:ext cx="0" cy="1776240"/>
            </a:xfrm>
            <a:prstGeom prst="line">
              <a:avLst/>
            </a:prstGeom>
            <a:ln w="12600">
              <a:solidFill>
                <a:srgbClr val="fcfeb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5719680" y="3870360"/>
              <a:ext cx="3252960" cy="17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27000" bIns="27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ctr" pos="762120"/>
                  <a:tab algn="ctr" pos="1143000"/>
                  <a:tab algn="ctr" pos="1523880"/>
                  <a:tab algn="ctr" pos="1809720"/>
                  <a:tab algn="ctr" pos="2190600"/>
                  <a:tab algn="ctr" pos="2476440"/>
                  <a:tab algn="l" pos="2532240"/>
                  <a:tab algn="l" pos="2762280"/>
                  <a:tab algn="l" pos="2992320"/>
                  <a:tab algn="l" pos="3222720"/>
                  <a:tab algn="l" pos="3452760"/>
                  <a:tab algn="l" pos="3683160"/>
                  <a:tab algn="l" pos="3913200"/>
                  <a:tab algn="l" pos="4143240"/>
                  <a:tab algn="l" pos="4373640"/>
                  <a:tab algn="l" pos="4603680"/>
                  <a:tab algn="l" pos="4834080"/>
                  <a:tab algn="l" pos="5064120"/>
                  <a:tab algn="l" pos="5294160"/>
                  <a:tab algn="l" pos="5524560"/>
                  <a:tab algn="l" pos="5754600"/>
                  <a:tab algn="l" pos="5985000"/>
                  <a:tab algn="l" pos="6215040"/>
                  <a:tab algn="l" pos="6445080"/>
                  <a:tab algn="l" pos="6675480"/>
                  <a:tab algn="l" pos="6905520"/>
                </a:tabLst>
              </a:pPr>
              <a:r>
                <a:rPr b="1" lang="en-US" sz="800" spc="-1" strike="noStrike">
                  <a:solidFill>
                    <a:srgbClr val="000020"/>
                  </a:solidFill>
                  <a:latin typeface="Univers 45 Light"/>
                </a:rPr>
                <a:t>0         10         20</a:t>
              </a:r>
              <a:r>
                <a:rPr b="1" lang="en-US" sz="800" spc="-1" strike="noStrike">
                  <a:solidFill>
                    <a:srgbClr val="000020"/>
                  </a:solidFill>
                  <a:latin typeface="Univers 45 Light"/>
                </a:rPr>
                <a:t>	</a:t>
              </a:r>
              <a:r>
                <a:rPr b="1" lang="en-US" sz="800" spc="-1" strike="noStrike">
                  <a:solidFill>
                    <a:srgbClr val="000020"/>
                  </a:solidFill>
                  <a:latin typeface="Univers 45 Light"/>
                </a:rPr>
                <a:t>         30         40         50          60        70       80%</a:t>
              </a:r>
              <a:endParaRPr b="0" lang="en-US" sz="8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5784840" y="2144880"/>
              <a:ext cx="1971720" cy="112680"/>
            </a:xfrm>
            <a:prstGeom prst="rect">
              <a:avLst/>
            </a:prstGeom>
            <a:solidFill>
              <a:srgbClr val="6666ff"/>
            </a:solidFill>
            <a:ln w="12600">
              <a:solidFill>
                <a:srgbClr val="fcfeb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5784840" y="2589120"/>
              <a:ext cx="2340000" cy="115920"/>
            </a:xfrm>
            <a:prstGeom prst="rect">
              <a:avLst/>
            </a:prstGeom>
            <a:solidFill>
              <a:srgbClr val="6666ff"/>
            </a:solidFill>
            <a:ln w="12600">
              <a:solidFill>
                <a:srgbClr val="fcfeb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5784840" y="3032280"/>
              <a:ext cx="2192400" cy="114120"/>
            </a:xfrm>
            <a:prstGeom prst="rect">
              <a:avLst/>
            </a:prstGeom>
            <a:solidFill>
              <a:srgbClr val="6666ff"/>
            </a:solidFill>
            <a:ln w="12600">
              <a:solidFill>
                <a:srgbClr val="fcfeb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5784840" y="3476520"/>
              <a:ext cx="1751040" cy="114480"/>
            </a:xfrm>
            <a:prstGeom prst="rect">
              <a:avLst/>
            </a:prstGeom>
            <a:solidFill>
              <a:srgbClr val="6666ff"/>
            </a:solidFill>
            <a:ln w="12600">
              <a:solidFill>
                <a:srgbClr val="fcfeb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4385160" y="2957400"/>
              <a:ext cx="935640" cy="26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6080" rIns="46080" tIns="22320" bIns="2232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189000"/>
                  <a:tab algn="l" pos="378000"/>
                  <a:tab algn="l" pos="566640"/>
                  <a:tab algn="l" pos="755640"/>
                  <a:tab algn="l" pos="944640"/>
                  <a:tab algn="l" pos="1133640"/>
                  <a:tab algn="l" pos="1322280"/>
                  <a:tab algn="l" pos="1511280"/>
                  <a:tab algn="l" pos="1700280"/>
                  <a:tab algn="l" pos="1889280"/>
                  <a:tab algn="l" pos="2077920"/>
                  <a:tab algn="l" pos="2266920"/>
                  <a:tab algn="l" pos="2455920"/>
                  <a:tab algn="l" pos="2644920"/>
                  <a:tab algn="l" pos="2833560"/>
                  <a:tab algn="l" pos="3022560"/>
                  <a:tab algn="l" pos="3211560"/>
                  <a:tab algn="l" pos="3400560"/>
                  <a:tab algn="l" pos="3589200"/>
                  <a:tab algn="l" pos="3778200"/>
                </a:tabLst>
              </a:pPr>
              <a:r>
                <a:rPr b="0" lang="en-US" sz="900" spc="-1" strike="noStrike">
                  <a:solidFill>
                    <a:srgbClr val="000020"/>
                  </a:solidFill>
                  <a:latin typeface="Univers 45 Light"/>
                </a:rPr>
                <a:t>Improved staff</a:t>
              </a:r>
              <a:endParaRPr b="0" lang="en-US" sz="900" spc="-1" strike="noStrike">
                <a:solidFill>
                  <a:srgbClr val="fcfeb9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189000"/>
                  <a:tab algn="l" pos="378000"/>
                  <a:tab algn="l" pos="566640"/>
                  <a:tab algn="l" pos="755640"/>
                  <a:tab algn="l" pos="944640"/>
                  <a:tab algn="l" pos="1133640"/>
                  <a:tab algn="l" pos="1322280"/>
                  <a:tab algn="l" pos="1511280"/>
                  <a:tab algn="l" pos="1700280"/>
                  <a:tab algn="l" pos="1889280"/>
                  <a:tab algn="l" pos="2077920"/>
                  <a:tab algn="l" pos="2266920"/>
                  <a:tab algn="l" pos="2455920"/>
                  <a:tab algn="l" pos="2644920"/>
                  <a:tab algn="l" pos="2833560"/>
                  <a:tab algn="l" pos="3022560"/>
                  <a:tab algn="l" pos="3211560"/>
                  <a:tab algn="l" pos="3400560"/>
                  <a:tab algn="l" pos="3589200"/>
                  <a:tab algn="l" pos="3778200"/>
                </a:tabLst>
              </a:pPr>
              <a:r>
                <a:rPr b="0" lang="en-US" sz="900" spc="-1" strike="noStrike">
                  <a:solidFill>
                    <a:srgbClr val="000020"/>
                  </a:solidFill>
                  <a:latin typeface="Univers 45 Light"/>
                </a:rPr>
                <a:t>morale/attitude</a:t>
              </a:r>
              <a:endParaRPr b="0" lang="en-US" sz="9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4401000" y="3406680"/>
              <a:ext cx="1040760" cy="37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6080" rIns="46080" tIns="22320" bIns="2232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189000"/>
                  <a:tab algn="l" pos="378000"/>
                  <a:tab algn="l" pos="566640"/>
                  <a:tab algn="l" pos="755640"/>
                  <a:tab algn="l" pos="944640"/>
                  <a:tab algn="l" pos="1133640"/>
                  <a:tab algn="l" pos="1322280"/>
                  <a:tab algn="l" pos="1511280"/>
                  <a:tab algn="l" pos="1700280"/>
                  <a:tab algn="l" pos="1889280"/>
                  <a:tab algn="l" pos="2077920"/>
                  <a:tab algn="l" pos="2266920"/>
                  <a:tab algn="l" pos="2455920"/>
                  <a:tab algn="l" pos="2644920"/>
                  <a:tab algn="l" pos="2833560"/>
                  <a:tab algn="l" pos="3022560"/>
                  <a:tab algn="l" pos="3211560"/>
                  <a:tab algn="l" pos="3400560"/>
                  <a:tab algn="l" pos="3589200"/>
                  <a:tab algn="l" pos="3778200"/>
                </a:tabLst>
              </a:pPr>
              <a:r>
                <a:rPr b="0" lang="en-US" sz="900" spc="-1" strike="noStrike">
                  <a:solidFill>
                    <a:srgbClr val="000020"/>
                  </a:solidFill>
                  <a:latin typeface="Univers 45 Light"/>
                </a:rPr>
                <a:t>Enhanced</a:t>
              </a:r>
              <a:endParaRPr b="0" lang="en-US" sz="900" spc="-1" strike="noStrike">
                <a:solidFill>
                  <a:srgbClr val="fcfeb9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189000"/>
                  <a:tab algn="l" pos="378000"/>
                  <a:tab algn="l" pos="566640"/>
                  <a:tab algn="l" pos="755640"/>
                  <a:tab algn="l" pos="944640"/>
                  <a:tab algn="l" pos="1133640"/>
                  <a:tab algn="l" pos="1322280"/>
                  <a:tab algn="l" pos="1511280"/>
                  <a:tab algn="l" pos="1700280"/>
                  <a:tab algn="l" pos="1889280"/>
                  <a:tab algn="l" pos="2077920"/>
                  <a:tab algn="l" pos="2266920"/>
                  <a:tab algn="l" pos="2455920"/>
                  <a:tab algn="l" pos="2644920"/>
                  <a:tab algn="l" pos="2833560"/>
                  <a:tab algn="l" pos="3022560"/>
                  <a:tab algn="l" pos="3211560"/>
                  <a:tab algn="l" pos="3400560"/>
                  <a:tab algn="l" pos="3589200"/>
                  <a:tab algn="l" pos="3778200"/>
                </a:tabLst>
              </a:pPr>
              <a:r>
                <a:rPr b="0" lang="en-US" sz="900" spc="-1" strike="noStrike">
                  <a:solidFill>
                    <a:srgbClr val="000020"/>
                  </a:solidFill>
                  <a:latin typeface="Univers 45 Light"/>
                </a:rPr>
                <a:t>communication &amp;</a:t>
              </a:r>
              <a:endParaRPr b="0" lang="en-US" sz="900" spc="-1" strike="noStrike">
                <a:solidFill>
                  <a:srgbClr val="fcfeb9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189000"/>
                  <a:tab algn="l" pos="378000"/>
                  <a:tab algn="l" pos="566640"/>
                  <a:tab algn="l" pos="755640"/>
                  <a:tab algn="l" pos="944640"/>
                  <a:tab algn="l" pos="1133640"/>
                  <a:tab algn="l" pos="1322280"/>
                  <a:tab algn="l" pos="1511280"/>
                  <a:tab algn="l" pos="1700280"/>
                  <a:tab algn="l" pos="1889280"/>
                  <a:tab algn="l" pos="2077920"/>
                  <a:tab algn="l" pos="2266920"/>
                  <a:tab algn="l" pos="2455920"/>
                  <a:tab algn="l" pos="2644920"/>
                  <a:tab algn="l" pos="2833560"/>
                  <a:tab algn="l" pos="3022560"/>
                  <a:tab algn="l" pos="3211560"/>
                  <a:tab algn="l" pos="3400560"/>
                  <a:tab algn="l" pos="3589200"/>
                  <a:tab algn="l" pos="3778200"/>
                </a:tabLst>
              </a:pPr>
              <a:r>
                <a:rPr b="0" lang="en-US" sz="900" spc="-1" strike="noStrike">
                  <a:solidFill>
                    <a:srgbClr val="000020"/>
                  </a:solidFill>
                  <a:latin typeface="Univers 45 Light"/>
                </a:rPr>
                <a:t>decision making</a:t>
              </a:r>
              <a:endParaRPr b="0" lang="en-US" sz="9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4405320" y="2514600"/>
              <a:ext cx="1127520" cy="26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6080" rIns="46080" tIns="22320" bIns="2232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189000"/>
                  <a:tab algn="l" pos="378000"/>
                  <a:tab algn="l" pos="566640"/>
                  <a:tab algn="l" pos="755640"/>
                  <a:tab algn="l" pos="944640"/>
                  <a:tab algn="l" pos="1133640"/>
                  <a:tab algn="l" pos="1322280"/>
                  <a:tab algn="l" pos="1511280"/>
                  <a:tab algn="l" pos="1700280"/>
                  <a:tab algn="l" pos="1889280"/>
                  <a:tab algn="l" pos="2077920"/>
                  <a:tab algn="l" pos="2266920"/>
                  <a:tab algn="l" pos="2455920"/>
                  <a:tab algn="l" pos="2644920"/>
                  <a:tab algn="l" pos="2833560"/>
                  <a:tab algn="l" pos="3022560"/>
                  <a:tab algn="l" pos="3211560"/>
                  <a:tab algn="l" pos="3400560"/>
                  <a:tab algn="l" pos="3589200"/>
                  <a:tab algn="l" pos="3778200"/>
                </a:tabLst>
              </a:pPr>
              <a:r>
                <a:rPr b="0" lang="en-US" sz="900" spc="-1" strike="noStrike">
                  <a:solidFill>
                    <a:srgbClr val="000020"/>
                  </a:solidFill>
                  <a:latin typeface="Univers 45 Light"/>
                </a:rPr>
                <a:t>Increased potential</a:t>
              </a:r>
              <a:endParaRPr b="0" lang="en-US" sz="900" spc="-1" strike="noStrike">
                <a:solidFill>
                  <a:srgbClr val="fcfeb9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189000"/>
                  <a:tab algn="l" pos="378000"/>
                  <a:tab algn="l" pos="566640"/>
                  <a:tab algn="l" pos="755640"/>
                  <a:tab algn="l" pos="944640"/>
                  <a:tab algn="l" pos="1133640"/>
                  <a:tab algn="l" pos="1322280"/>
                  <a:tab algn="l" pos="1511280"/>
                  <a:tab algn="l" pos="1700280"/>
                  <a:tab algn="l" pos="1889280"/>
                  <a:tab algn="l" pos="2077920"/>
                  <a:tab algn="l" pos="2266920"/>
                  <a:tab algn="l" pos="2455920"/>
                  <a:tab algn="l" pos="2644920"/>
                  <a:tab algn="l" pos="2833560"/>
                  <a:tab algn="l" pos="3022560"/>
                  <a:tab algn="l" pos="3211560"/>
                  <a:tab algn="l" pos="3400560"/>
                  <a:tab algn="l" pos="3589200"/>
                  <a:tab algn="l" pos="3778200"/>
                </a:tabLst>
              </a:pPr>
              <a:r>
                <a:rPr b="0" lang="en-US" sz="900" spc="-1" strike="noStrike">
                  <a:solidFill>
                    <a:srgbClr val="000020"/>
                  </a:solidFill>
                  <a:latin typeface="Univers 45 Light"/>
                </a:rPr>
                <a:t>for innovation</a:t>
              </a:r>
              <a:endParaRPr b="0" lang="en-US" sz="9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4400280" y="2070000"/>
              <a:ext cx="1203840" cy="26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6080" rIns="46080" tIns="22320" bIns="2232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189000"/>
                  <a:tab algn="l" pos="378000"/>
                  <a:tab algn="l" pos="566640"/>
                  <a:tab algn="l" pos="755640"/>
                  <a:tab algn="l" pos="944640"/>
                  <a:tab algn="l" pos="1133640"/>
                  <a:tab algn="l" pos="1322280"/>
                  <a:tab algn="l" pos="1511280"/>
                  <a:tab algn="l" pos="1700280"/>
                  <a:tab algn="l" pos="1889280"/>
                  <a:tab algn="l" pos="2077920"/>
                  <a:tab algn="l" pos="2266920"/>
                  <a:tab algn="l" pos="2455920"/>
                  <a:tab algn="l" pos="2644920"/>
                  <a:tab algn="l" pos="2833560"/>
                  <a:tab algn="l" pos="3022560"/>
                  <a:tab algn="l" pos="3211560"/>
                  <a:tab algn="l" pos="3400560"/>
                  <a:tab algn="l" pos="3589200"/>
                  <a:tab algn="l" pos="3778200"/>
                </a:tabLst>
              </a:pPr>
              <a:r>
                <a:rPr b="0" lang="en-US" sz="900" spc="-1" strike="noStrike">
                  <a:solidFill>
                    <a:srgbClr val="000020"/>
                  </a:solidFill>
                  <a:latin typeface="Univers 45 Light"/>
                </a:rPr>
                <a:t>Improved</a:t>
              </a:r>
              <a:endParaRPr b="0" lang="en-US" sz="900" spc="-1" strike="noStrike">
                <a:solidFill>
                  <a:srgbClr val="fcfeb9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189000"/>
                  <a:tab algn="l" pos="378000"/>
                  <a:tab algn="l" pos="566640"/>
                  <a:tab algn="l" pos="755640"/>
                  <a:tab algn="l" pos="944640"/>
                  <a:tab algn="l" pos="1133640"/>
                  <a:tab algn="l" pos="1322280"/>
                  <a:tab algn="l" pos="1511280"/>
                  <a:tab algn="l" pos="1700280"/>
                  <a:tab algn="l" pos="1889280"/>
                  <a:tab algn="l" pos="2077920"/>
                  <a:tab algn="l" pos="2266920"/>
                  <a:tab algn="l" pos="2455920"/>
                  <a:tab algn="l" pos="2644920"/>
                  <a:tab algn="l" pos="2833560"/>
                  <a:tab algn="l" pos="3022560"/>
                  <a:tab algn="l" pos="3211560"/>
                  <a:tab algn="l" pos="3400560"/>
                  <a:tab algn="l" pos="3589200"/>
                  <a:tab algn="l" pos="3778200"/>
                </a:tabLst>
              </a:pPr>
              <a:r>
                <a:rPr b="0" lang="en-US" sz="900" spc="-1" strike="noStrike">
                  <a:solidFill>
                    <a:srgbClr val="000020"/>
                  </a:solidFill>
                  <a:latin typeface="Univers 45 Light"/>
                </a:rPr>
                <a:t>market performance</a:t>
              </a:r>
              <a:endParaRPr b="0" lang="en-US" sz="9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5784840" y="2270160"/>
              <a:ext cx="1825560" cy="115920"/>
            </a:xfrm>
            <a:prstGeom prst="rect">
              <a:avLst/>
            </a:prstGeom>
            <a:solidFill>
              <a:srgbClr val="990066"/>
            </a:solidFill>
            <a:ln w="12600">
              <a:solidFill>
                <a:srgbClr val="fcfeb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5784840" y="2717640"/>
              <a:ext cx="2043000" cy="113040"/>
            </a:xfrm>
            <a:prstGeom prst="rect">
              <a:avLst/>
            </a:prstGeom>
            <a:solidFill>
              <a:srgbClr val="990066"/>
            </a:solidFill>
            <a:ln w="12600">
              <a:solidFill>
                <a:srgbClr val="fcfeb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5784840" y="3159000"/>
              <a:ext cx="941400" cy="114480"/>
            </a:xfrm>
            <a:prstGeom prst="rect">
              <a:avLst/>
            </a:prstGeom>
            <a:solidFill>
              <a:srgbClr val="990066"/>
            </a:solidFill>
            <a:ln w="12600">
              <a:solidFill>
                <a:srgbClr val="fcfeb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5784840" y="3603600"/>
              <a:ext cx="2486160" cy="114480"/>
            </a:xfrm>
            <a:prstGeom prst="rect">
              <a:avLst/>
            </a:prstGeom>
            <a:solidFill>
              <a:srgbClr val="990066"/>
            </a:solidFill>
            <a:ln w="12600">
              <a:solidFill>
                <a:srgbClr val="fcfeb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4511520" y="3957480"/>
              <a:ext cx="133560" cy="114480"/>
            </a:xfrm>
            <a:prstGeom prst="rect">
              <a:avLst/>
            </a:prstGeom>
            <a:solidFill>
              <a:srgbClr val="6666ff"/>
            </a:solidFill>
            <a:ln w="12600">
              <a:solidFill>
                <a:srgbClr val="fcfeb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4511520" y="4148280"/>
              <a:ext cx="133560" cy="114120"/>
            </a:xfrm>
            <a:prstGeom prst="rect">
              <a:avLst/>
            </a:prstGeom>
            <a:solidFill>
              <a:srgbClr val="990066"/>
            </a:solidFill>
            <a:ln w="12600">
              <a:solidFill>
                <a:srgbClr val="fcfeb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4665960" y="3943440"/>
              <a:ext cx="1085400" cy="19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0760" rIns="50760" tIns="27000" bIns="27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30040"/>
                  <a:tab algn="l" pos="460440"/>
                  <a:tab algn="l" pos="690480"/>
                  <a:tab algn="l" pos="920880"/>
                  <a:tab algn="l" pos="1150920"/>
                  <a:tab algn="l" pos="1380960"/>
                  <a:tab algn="l" pos="1611360"/>
                  <a:tab algn="l" pos="1841400"/>
                  <a:tab algn="l" pos="2071800"/>
                  <a:tab algn="l" pos="2301840"/>
                  <a:tab algn="l" pos="2532240"/>
                  <a:tab algn="l" pos="2762280"/>
                  <a:tab algn="l" pos="2992320"/>
                  <a:tab algn="l" pos="3222720"/>
                  <a:tab algn="l" pos="3452760"/>
                  <a:tab algn="l" pos="3683160"/>
                  <a:tab algn="l" pos="3913200"/>
                  <a:tab algn="l" pos="4143240"/>
                  <a:tab algn="l" pos="4373640"/>
                  <a:tab algn="l" pos="4603680"/>
                </a:tabLst>
              </a:pPr>
              <a:r>
                <a:rPr b="0" lang="en-US" sz="900" spc="-1" strike="noStrike">
                  <a:solidFill>
                    <a:srgbClr val="000020"/>
                  </a:solidFill>
                  <a:latin typeface="Univers 45 Light"/>
                </a:rPr>
                <a:t>Perceived benefits</a:t>
              </a:r>
              <a:endParaRPr b="0" lang="en-US" sz="9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4687920" y="4111560"/>
              <a:ext cx="1979640" cy="19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27000" bIns="27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30040"/>
                  <a:tab algn="l" pos="460440"/>
                  <a:tab algn="l" pos="690480"/>
                  <a:tab algn="l" pos="920880"/>
                  <a:tab algn="l" pos="1150920"/>
                  <a:tab algn="l" pos="1380960"/>
                  <a:tab algn="l" pos="1611360"/>
                  <a:tab algn="l" pos="1841400"/>
                  <a:tab algn="l" pos="2071800"/>
                  <a:tab algn="l" pos="2301840"/>
                  <a:tab algn="l" pos="2532240"/>
                  <a:tab algn="l" pos="2762280"/>
                  <a:tab algn="l" pos="2992320"/>
                  <a:tab algn="l" pos="3222720"/>
                  <a:tab algn="l" pos="3452760"/>
                  <a:tab algn="l" pos="3683160"/>
                  <a:tab algn="l" pos="3913200"/>
                  <a:tab algn="l" pos="4143240"/>
                  <a:tab algn="l" pos="4373640"/>
                  <a:tab algn="l" pos="4603680"/>
                </a:tabLst>
              </a:pPr>
              <a:r>
                <a:rPr b="0" lang="en-US" sz="900" spc="-1" strike="noStrike">
                  <a:solidFill>
                    <a:srgbClr val="000020"/>
                  </a:solidFill>
                  <a:latin typeface="Univers 45 Light"/>
                </a:rPr>
                <a:t>Reason to launch initiative</a:t>
              </a:r>
              <a:endParaRPr b="0" lang="en-US" sz="9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8337600" y="2046240"/>
              <a:ext cx="0" cy="1778040"/>
            </a:xfrm>
            <a:prstGeom prst="line">
              <a:avLst/>
            </a:prstGeom>
            <a:ln w="12600">
              <a:solidFill>
                <a:srgbClr val="fcfeb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</p:grpSp>
      <p:sp>
        <p:nvSpPr>
          <p:cNvPr id="1081" name=""/>
          <p:cNvSpPr/>
          <p:nvPr/>
        </p:nvSpPr>
        <p:spPr>
          <a:xfrm>
            <a:off x="4040640" y="6524640"/>
            <a:ext cx="135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000c0"/>
                </a:solidFill>
                <a:uFillTx/>
                <a:latin typeface="Times New Roman"/>
                <a:hlinkClick r:id="rId1"/>
              </a:rPr>
              <a:t>[</a:t>
            </a:r>
            <a:r>
              <a:rPr b="0" lang="en-US" sz="1600" spc="-1" strike="noStrike" u="sng">
                <a:solidFill>
                  <a:srgbClr val="c000c0"/>
                </a:solidFill>
                <a:uFillTx/>
                <a:latin typeface="Times New Roman"/>
                <a:hlinkClick r:id="rId2"/>
              </a:rPr>
              <a:t>KPMG</a:t>
            </a:r>
            <a:r>
              <a:rPr b="0" lang="en-US" sz="1600" spc="-1" strike="noStrike" u="sng">
                <a:solidFill>
                  <a:srgbClr val="c000c0"/>
                </a:solidFill>
                <a:uFillTx/>
                <a:latin typeface="Times New Roman"/>
                <a:hlinkClick r:id="rId3"/>
              </a:rPr>
              <a:t> 1999]</a:t>
            </a:r>
            <a:endParaRPr b="0" lang="en-US" sz="16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/>
          </p:nvPr>
        </p:nvSpPr>
        <p:spPr>
          <a:xfrm>
            <a:off x="304560" y="4419720"/>
            <a:ext cx="8839080" cy="1676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-277200">
              <a:spcBef>
                <a:spcPts val="601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Too early or difficult for 50% to judge whether overall results are satisfying.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77200" indent="-277200">
              <a:spcBef>
                <a:spcPts val="601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Improved communication &amp; decision making is not (yet) proven. 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77200" indent="-277200">
              <a:spcBef>
                <a:spcPts val="601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Improved staff morale/commitment is a welcomed spin-off.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Knowledge-Intensive Organizations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tacit knowledge is one of the critical asset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since tacit knowledge is difficult to capture, people become very important asset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such organizations are vulnerable because people are mobile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core activities are difficult or impossible to automate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rely on problem solving, experience, communication, creativity, innovation, intuition, …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success is not only based on financial criteria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but what are the other criteria?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1085" name=""/>
          <p:cNvSpPr/>
          <p:nvPr/>
        </p:nvSpPr>
        <p:spPr>
          <a:xfrm>
            <a:off x="3662280" y="6597720"/>
            <a:ext cx="2044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000c0"/>
                </a:solidFill>
                <a:uFillTx/>
                <a:latin typeface="Times New Roman"/>
                <a:hlinkClick r:id="rId1"/>
              </a:rPr>
              <a:t>[</a:t>
            </a:r>
            <a:r>
              <a:rPr b="0" lang="en-US" sz="1600" spc="-1" strike="noStrike" u="sng">
                <a:solidFill>
                  <a:srgbClr val="c000c0"/>
                </a:solidFill>
                <a:uFillTx/>
                <a:latin typeface="Times New Roman"/>
                <a:hlinkClick r:id="rId2"/>
              </a:rPr>
              <a:t>Haak &amp; Deprez</a:t>
            </a:r>
            <a:r>
              <a:rPr b="0" lang="en-US" sz="1600" spc="-1" strike="noStrike" u="sng">
                <a:solidFill>
                  <a:srgbClr val="c000c0"/>
                </a:solidFill>
                <a:uFillTx/>
                <a:latin typeface="Times New Roman"/>
                <a:hlinkClick r:id="rId3"/>
              </a:rPr>
              <a:t> 1999]</a:t>
            </a:r>
            <a:endParaRPr b="0" lang="en-US" sz="16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Industrial vs. Knowledge Organizations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434340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7000"/>
          </a:bodyPr>
          <a:p>
            <a:pPr marL="2484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Industrial Organization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48400" indent="-248400">
              <a:spcBef>
                <a:spcPts val="601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bottom-heavy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596520" indent="-248400"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asset rich, brain poor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1" marL="596520" indent="-248400"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pyramid shape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248400" indent="-248400">
              <a:spcBef>
                <a:spcPts val="601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rigid structure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596520" indent="-248400"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assignment of workers to departments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1" marL="596520" indent="-248400"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depends critically on middle management levels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1" marL="596520" indent="-248400"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changes through verdict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248400" indent="-248400">
              <a:spcBef>
                <a:spcPts val="601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straightforward valuation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596520" indent="-248400"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three production factors: labor, raw materials, capital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1" marL="596520" indent="-248400"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well-known valuation methods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1088" name="PlaceHolder 3"/>
          <p:cNvSpPr>
            <a:spLocks noGrp="1"/>
          </p:cNvSpPr>
          <p:nvPr>
            <p:ph/>
          </p:nvPr>
        </p:nvSpPr>
        <p:spPr>
          <a:xfrm>
            <a:off x="4495680" y="1447560"/>
            <a:ext cx="457200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2656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Knowledge Organization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65680" indent="-265680">
              <a:spcBef>
                <a:spcPts val="601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top-heavy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37560" indent="-265680"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brain rich, asset poor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1" marL="637560" indent="-265680"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network of projects, workers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265680" indent="-265680">
              <a:spcBef>
                <a:spcPts val="601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flexible structure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37560" indent="-265680"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assignment of workers to projects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1" marL="637560" indent="-265680"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little management overhead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1" marL="637560" indent="-265680"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changes through organizational learning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265680" indent="-265680">
              <a:spcBef>
                <a:spcPts val="601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valuation is difficult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37560" indent="-265680"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measurement of knowledge-based assets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1" marL="637560" indent="-265680"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requires new valuation methods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1089" name=""/>
          <p:cNvSpPr/>
          <p:nvPr/>
        </p:nvSpPr>
        <p:spPr>
          <a:xfrm>
            <a:off x="3662280" y="6524640"/>
            <a:ext cx="2044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000c0"/>
                </a:solidFill>
                <a:uFillTx/>
                <a:latin typeface="Times New Roman"/>
                <a:hlinkClick r:id="rId1"/>
              </a:rPr>
              <a:t>[</a:t>
            </a:r>
            <a:r>
              <a:rPr b="0" lang="en-US" sz="1600" spc="-1" strike="noStrike" u="sng">
                <a:solidFill>
                  <a:srgbClr val="c000c0"/>
                </a:solidFill>
                <a:uFillTx/>
                <a:latin typeface="Times New Roman"/>
                <a:hlinkClick r:id="rId2"/>
              </a:rPr>
              <a:t>Haak</a:t>
            </a:r>
            <a:r>
              <a:rPr b="0" lang="en-US" sz="1600" spc="-1" strike="noStrike" u="sng">
                <a:solidFill>
                  <a:srgbClr val="c000c0"/>
                </a:solidFill>
                <a:uFillTx/>
                <a:latin typeface="Times New Roman"/>
                <a:hlinkClick r:id="rId3"/>
              </a:rPr>
              <a:t> &amp;</a:t>
            </a:r>
            <a:r>
              <a:rPr b="0" lang="en-US" sz="1600" spc="-1" strike="noStrike" u="sng">
                <a:solidFill>
                  <a:srgbClr val="c000c0"/>
                </a:solidFill>
                <a:uFillTx/>
                <a:latin typeface="Times New Roman"/>
                <a:hlinkClick r:id="rId4"/>
              </a:rPr>
              <a:t> Deprez</a:t>
            </a:r>
            <a:r>
              <a:rPr b="0" lang="en-US" sz="1600" spc="-1" strike="noStrike" u="sng">
                <a:solidFill>
                  <a:srgbClr val="c000c0"/>
                </a:solidFill>
                <a:uFillTx/>
                <a:latin typeface="Times New Roman"/>
                <a:hlinkClick r:id="rId5"/>
              </a:rPr>
              <a:t> 1999]</a:t>
            </a:r>
            <a:endParaRPr b="0" lang="en-US" sz="16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Industrial vs. Knowledge Companies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pic>
        <p:nvPicPr>
          <p:cNvPr id="1091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8534160" cy="6400800"/>
          </a:xfrm>
          <a:prstGeom prst="rect">
            <a:avLst/>
          </a:prstGeom>
          <a:ln w="0">
            <a:noFill/>
          </a:ln>
        </p:spPr>
      </p:pic>
      <p:sp>
        <p:nvSpPr>
          <p:cNvPr id="1092" name=""/>
          <p:cNvSpPr/>
          <p:nvPr/>
        </p:nvSpPr>
        <p:spPr>
          <a:xfrm>
            <a:off x="3662280" y="6524640"/>
            <a:ext cx="2044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000c0"/>
                </a:solidFill>
                <a:uFillTx/>
                <a:latin typeface="Times New Roman"/>
                <a:hlinkClick r:id="rId2"/>
              </a:rPr>
              <a:t>[</a:t>
            </a:r>
            <a:r>
              <a:rPr b="0" lang="en-US" sz="1600" spc="-1" strike="noStrike" u="sng">
                <a:solidFill>
                  <a:srgbClr val="c000c0"/>
                </a:solidFill>
                <a:uFillTx/>
                <a:latin typeface="Times New Roman"/>
                <a:hlinkClick r:id="rId3"/>
              </a:rPr>
              <a:t>Haak</a:t>
            </a:r>
            <a:r>
              <a:rPr b="0" lang="en-US" sz="1600" spc="-1" strike="noStrike" u="sng">
                <a:solidFill>
                  <a:srgbClr val="c000c0"/>
                </a:solidFill>
                <a:uFillTx/>
                <a:latin typeface="Times New Roman"/>
                <a:hlinkClick r:id="rId4"/>
              </a:rPr>
              <a:t> &amp;</a:t>
            </a:r>
            <a:r>
              <a:rPr b="0" lang="en-US" sz="1600" spc="-1" strike="noStrike" u="sng">
                <a:solidFill>
                  <a:srgbClr val="c000c0"/>
                </a:solidFill>
                <a:uFillTx/>
                <a:latin typeface="Times New Roman"/>
                <a:hlinkClick r:id="rId5"/>
              </a:rPr>
              <a:t> Deprez</a:t>
            </a:r>
            <a:r>
              <a:rPr b="0" lang="en-US" sz="1600" spc="-1" strike="noStrike" u="sng">
                <a:solidFill>
                  <a:srgbClr val="c000c0"/>
                </a:solidFill>
                <a:uFillTx/>
                <a:latin typeface="Times New Roman"/>
                <a:hlinkClick r:id="rId6"/>
              </a:rPr>
              <a:t> 1999]</a:t>
            </a:r>
            <a:endParaRPr b="0" lang="en-US" sz="16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Knowledge Worker vs. </a:t>
            </a:r>
            <a:br>
              <a:rPr sz="4400"/>
            </a:b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Knowledge Organization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social issues and changes in the work environment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replacement of workers through computers?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adaptation of tasks and responsibilities to the use of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2" marL="1028880" indent="-228600">
              <a:spcBef>
                <a:spcPts val="499"/>
              </a:spcBef>
              <a:buClr>
                <a:srgbClr val="ff3399"/>
              </a:buClr>
              <a:buSzPct val="6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centralized knowledge repositories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2" marL="1028880" indent="-228600">
              <a:spcBef>
                <a:spcPts val="499"/>
              </a:spcBef>
              <a:buClr>
                <a:srgbClr val="ff3399"/>
              </a:buClr>
              <a:buSzPct val="6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automated work flow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2" marL="1028880" indent="-228600">
              <a:spcBef>
                <a:spcPts val="499"/>
              </a:spcBef>
              <a:buClr>
                <a:srgbClr val="ff3399"/>
              </a:buClr>
              <a:buSzPct val="6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demand-driven work scheduling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release from tedious “data processing” task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empowerment” of knowledge worker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2" marL="1028880" indent="-228600">
              <a:spcBef>
                <a:spcPts val="499"/>
              </a:spcBef>
              <a:buClr>
                <a:srgbClr val="ff3399"/>
              </a:buClr>
              <a:buSzPct val="6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assignment of responsibility and authorization to workers instead of managers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2" marL="1028880" indent="-228600">
              <a:spcBef>
                <a:spcPts val="499"/>
              </a:spcBef>
              <a:buClr>
                <a:srgbClr val="ff3399"/>
              </a:buClr>
              <a:buSzPct val="6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availability of critical knowledge to workers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1095" name=""/>
          <p:cNvSpPr/>
          <p:nvPr/>
        </p:nvSpPr>
        <p:spPr>
          <a:xfrm>
            <a:off x="3662280" y="6524640"/>
            <a:ext cx="2044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000c0"/>
                </a:solidFill>
                <a:uFillTx/>
                <a:latin typeface="Times New Roman"/>
                <a:hlinkClick r:id="rId1"/>
              </a:rPr>
              <a:t>[</a:t>
            </a:r>
            <a:r>
              <a:rPr b="0" lang="en-US" sz="1600" spc="-1" strike="noStrike" u="sng">
                <a:solidFill>
                  <a:srgbClr val="c000c0"/>
                </a:solidFill>
                <a:uFillTx/>
                <a:latin typeface="Times New Roman"/>
                <a:hlinkClick r:id="rId2"/>
              </a:rPr>
              <a:t>Haak</a:t>
            </a:r>
            <a:r>
              <a:rPr b="0" lang="en-US" sz="1600" spc="-1" strike="noStrike" u="sng">
                <a:solidFill>
                  <a:srgbClr val="c000c0"/>
                </a:solidFill>
                <a:uFillTx/>
                <a:latin typeface="Times New Roman"/>
                <a:hlinkClick r:id="rId3"/>
              </a:rPr>
              <a:t> &amp;</a:t>
            </a:r>
            <a:r>
              <a:rPr b="0" lang="en-US" sz="1600" spc="-1" strike="noStrike" u="sng">
                <a:solidFill>
                  <a:srgbClr val="c000c0"/>
                </a:solidFill>
                <a:uFillTx/>
                <a:latin typeface="Times New Roman"/>
                <a:hlinkClick r:id="rId4"/>
              </a:rPr>
              <a:t> Deprez</a:t>
            </a:r>
            <a:r>
              <a:rPr b="0" lang="en-US" sz="1600" spc="-1" strike="noStrike" u="sng">
                <a:solidFill>
                  <a:srgbClr val="c000c0"/>
                </a:solidFill>
                <a:uFillTx/>
                <a:latin typeface="Times New Roman"/>
                <a:hlinkClick r:id="rId5"/>
              </a:rPr>
              <a:t> 1999]</a:t>
            </a:r>
            <a:endParaRPr b="0" lang="en-US" sz="16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Work Life in the Industrial Age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jobs “for life”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rigid structures within most organization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slow evolution of skills, technology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little need for individual career planning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employees may possess critical skills and knowledge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1098" name=""/>
          <p:cNvSpPr/>
          <p:nvPr/>
        </p:nvSpPr>
        <p:spPr>
          <a:xfrm>
            <a:off x="3662280" y="6524640"/>
            <a:ext cx="2044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000c0"/>
                </a:solidFill>
                <a:uFillTx/>
                <a:latin typeface="Times New Roman"/>
                <a:hlinkClick r:id="rId1"/>
              </a:rPr>
              <a:t>[</a:t>
            </a:r>
            <a:r>
              <a:rPr b="0" lang="en-US" sz="1600" spc="-1" strike="noStrike" u="sng">
                <a:solidFill>
                  <a:srgbClr val="c000c0"/>
                </a:solidFill>
                <a:uFillTx/>
                <a:latin typeface="Times New Roman"/>
                <a:hlinkClick r:id="rId2"/>
              </a:rPr>
              <a:t>Haak</a:t>
            </a:r>
            <a:r>
              <a:rPr b="0" lang="en-US" sz="1600" spc="-1" strike="noStrike" u="sng">
                <a:solidFill>
                  <a:srgbClr val="c000c0"/>
                </a:solidFill>
                <a:uFillTx/>
                <a:latin typeface="Times New Roman"/>
                <a:hlinkClick r:id="rId3"/>
              </a:rPr>
              <a:t> &amp;</a:t>
            </a:r>
            <a:r>
              <a:rPr b="0" lang="en-US" sz="1600" spc="-1" strike="noStrike" u="sng">
                <a:solidFill>
                  <a:srgbClr val="c000c0"/>
                </a:solidFill>
                <a:uFillTx/>
                <a:latin typeface="Times New Roman"/>
                <a:hlinkClick r:id="rId4"/>
              </a:rPr>
              <a:t> Deprez</a:t>
            </a:r>
            <a:r>
              <a:rPr b="0" lang="en-US" sz="1600" spc="-1" strike="noStrike" u="sng">
                <a:solidFill>
                  <a:srgbClr val="c000c0"/>
                </a:solidFill>
                <a:uFillTx/>
                <a:latin typeface="Times New Roman"/>
                <a:hlinkClick r:id="rId5"/>
              </a:rPr>
              <a:t> 1999]</a:t>
            </a:r>
            <a:endParaRPr b="0" lang="en-US" sz="16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Work Life in the Knowledge Age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multiple jobs or careers over a life span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flexible structures within and across organization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e.g. project teams, virtual organization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more opportunities, but less stability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individual career planning becomes much more important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organizations try to incorporate tacit knowledge into organizational memorie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employees must utilize experience, creativity, problem-solving and inter-personal skill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1101" name=""/>
          <p:cNvSpPr/>
          <p:nvPr/>
        </p:nvSpPr>
        <p:spPr>
          <a:xfrm>
            <a:off x="3662280" y="6524640"/>
            <a:ext cx="2044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000c0"/>
                </a:solidFill>
                <a:uFillTx/>
                <a:latin typeface="Times New Roman"/>
                <a:hlinkClick r:id="rId1"/>
              </a:rPr>
              <a:t>[</a:t>
            </a:r>
            <a:r>
              <a:rPr b="0" lang="en-US" sz="1600" spc="-1" strike="noStrike" u="sng">
                <a:solidFill>
                  <a:srgbClr val="c000c0"/>
                </a:solidFill>
                <a:uFillTx/>
                <a:latin typeface="Times New Roman"/>
                <a:hlinkClick r:id="rId2"/>
              </a:rPr>
              <a:t>Haak</a:t>
            </a:r>
            <a:r>
              <a:rPr b="0" lang="en-US" sz="1600" spc="-1" strike="noStrike" u="sng">
                <a:solidFill>
                  <a:srgbClr val="c000c0"/>
                </a:solidFill>
                <a:uFillTx/>
                <a:latin typeface="Times New Roman"/>
                <a:hlinkClick r:id="rId3"/>
              </a:rPr>
              <a:t> &amp;</a:t>
            </a:r>
            <a:r>
              <a:rPr b="0" lang="en-US" sz="1600" spc="-1" strike="noStrike" u="sng">
                <a:solidFill>
                  <a:srgbClr val="c000c0"/>
                </a:solidFill>
                <a:uFillTx/>
                <a:latin typeface="Times New Roman"/>
                <a:hlinkClick r:id="rId4"/>
              </a:rPr>
              <a:t> Deprez</a:t>
            </a:r>
            <a:r>
              <a:rPr b="0" lang="en-US" sz="1600" spc="-1" strike="noStrike" u="sng">
                <a:solidFill>
                  <a:srgbClr val="c000c0"/>
                </a:solidFill>
                <a:uFillTx/>
                <a:latin typeface="Times New Roman"/>
                <a:hlinkClick r:id="rId5"/>
              </a:rPr>
              <a:t> 1999]</a:t>
            </a:r>
            <a:endParaRPr b="0" lang="en-US" sz="16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Matching Individual and Organizational Needs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434340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28296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Individual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82960" indent="-282960">
              <a:spcBef>
                <a:spcPts val="601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independent person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78600" indent="-282960"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free agent”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1" marL="678600" indent="-282960"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open to pursue other opportunities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282960" indent="-282960">
              <a:spcBef>
                <a:spcPts val="601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ownership of knowledge asset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78600" indent="-282960"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experience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1" marL="678600" indent="-282960"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technical skills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282960" indent="-282960">
              <a:spcBef>
                <a:spcPts val="601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emphasis on individual career goal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78600" indent="-282960"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professional, personal, social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723920" y="1447560"/>
            <a:ext cx="434340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Organization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controllable asset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follows directives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replaceable by other employees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ownership of knowledge asset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proprietary information, knowledge and skills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emphasis on corporate goal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financial, political, social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1105" name=""/>
          <p:cNvSpPr/>
          <p:nvPr/>
        </p:nvSpPr>
        <p:spPr>
          <a:xfrm>
            <a:off x="3662280" y="6524640"/>
            <a:ext cx="2044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000c0"/>
                </a:solidFill>
                <a:uFillTx/>
                <a:latin typeface="Times New Roman"/>
                <a:hlinkClick r:id="rId1"/>
              </a:rPr>
              <a:t>[</a:t>
            </a:r>
            <a:r>
              <a:rPr b="0" lang="en-US" sz="1600" spc="-1" strike="noStrike" u="sng">
                <a:solidFill>
                  <a:srgbClr val="c000c0"/>
                </a:solidFill>
                <a:uFillTx/>
                <a:latin typeface="Times New Roman"/>
                <a:hlinkClick r:id="rId2"/>
              </a:rPr>
              <a:t>Haak</a:t>
            </a:r>
            <a:r>
              <a:rPr b="0" lang="en-US" sz="1600" spc="-1" strike="noStrike" u="sng">
                <a:solidFill>
                  <a:srgbClr val="c000c0"/>
                </a:solidFill>
                <a:uFillTx/>
                <a:latin typeface="Times New Roman"/>
                <a:hlinkClick r:id="rId3"/>
              </a:rPr>
              <a:t> &amp;</a:t>
            </a:r>
            <a:r>
              <a:rPr b="0" lang="en-US" sz="1600" spc="-1" strike="noStrike" u="sng">
                <a:solidFill>
                  <a:srgbClr val="c000c0"/>
                </a:solidFill>
                <a:uFillTx/>
                <a:latin typeface="Times New Roman"/>
                <a:hlinkClick r:id="rId4"/>
              </a:rPr>
              <a:t> Deprez</a:t>
            </a:r>
            <a:r>
              <a:rPr b="0" lang="en-US" sz="1600" spc="-1" strike="noStrike" u="sng">
                <a:solidFill>
                  <a:srgbClr val="c000c0"/>
                </a:solidFill>
                <a:uFillTx/>
                <a:latin typeface="Times New Roman"/>
                <a:hlinkClick r:id="rId5"/>
              </a:rPr>
              <a:t> 1999]</a:t>
            </a:r>
            <a:endParaRPr b="0" lang="en-US" sz="16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Individual Balanced Scorecard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259920" indent="-25992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approach introduced at KPMG in 1995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59920" indent="-25992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the objective is to balance the needs of employees with those of the organization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59920" indent="-25992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explicit process to coordinate business development plans with personal development plans of employee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59920" indent="-25992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relies on specific categories 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23880" indent="-25992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may depend on the context of the organization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59920" indent="-25992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forms the basis for an agreement between employee and organization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23880" indent="-25992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specific goals and targets that are beneficial for the employee and the organization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1108" name=""/>
          <p:cNvSpPr/>
          <p:nvPr/>
        </p:nvSpPr>
        <p:spPr>
          <a:xfrm>
            <a:off x="3662280" y="6524640"/>
            <a:ext cx="2044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000c0"/>
                </a:solidFill>
                <a:uFillTx/>
                <a:latin typeface="Times New Roman"/>
                <a:hlinkClick r:id="rId1"/>
              </a:rPr>
              <a:t>[</a:t>
            </a:r>
            <a:r>
              <a:rPr b="0" lang="en-US" sz="1600" spc="-1" strike="noStrike" u="sng">
                <a:solidFill>
                  <a:srgbClr val="c000c0"/>
                </a:solidFill>
                <a:uFillTx/>
                <a:latin typeface="Times New Roman"/>
                <a:hlinkClick r:id="rId2"/>
              </a:rPr>
              <a:t>Haak</a:t>
            </a:r>
            <a:r>
              <a:rPr b="0" lang="en-US" sz="1600" spc="-1" strike="noStrike" u="sng">
                <a:solidFill>
                  <a:srgbClr val="c000c0"/>
                </a:solidFill>
                <a:uFillTx/>
                <a:latin typeface="Times New Roman"/>
                <a:hlinkClick r:id="rId3"/>
              </a:rPr>
              <a:t> &amp;</a:t>
            </a:r>
            <a:r>
              <a:rPr b="0" lang="en-US" sz="1600" spc="-1" strike="noStrike" u="sng">
                <a:solidFill>
                  <a:srgbClr val="c000c0"/>
                </a:solidFill>
                <a:uFillTx/>
                <a:latin typeface="Times New Roman"/>
                <a:hlinkClick r:id="rId4"/>
              </a:rPr>
              <a:t> Deprez</a:t>
            </a:r>
            <a:r>
              <a:rPr b="0" lang="en-US" sz="1600" spc="-1" strike="noStrike" u="sng">
                <a:solidFill>
                  <a:srgbClr val="c000c0"/>
                </a:solidFill>
                <a:uFillTx/>
                <a:latin typeface="Times New Roman"/>
                <a:hlinkClick r:id="rId5"/>
              </a:rPr>
              <a:t> 1999]</a:t>
            </a:r>
            <a:endParaRPr b="0" lang="en-US" sz="16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228240" y="338040"/>
            <a:ext cx="4419720" cy="21002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KPMG Balanced Individual Scorecard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pic>
        <p:nvPicPr>
          <p:cNvPr id="1110" name="" descr=""/>
          <p:cNvPicPr/>
          <p:nvPr/>
        </p:nvPicPr>
        <p:blipFill>
          <a:blip r:embed="rId1"/>
          <a:stretch/>
        </p:blipFill>
        <p:spPr>
          <a:xfrm>
            <a:off x="4886280" y="0"/>
            <a:ext cx="4257720" cy="6858000"/>
          </a:xfrm>
          <a:prstGeom prst="rect">
            <a:avLst/>
          </a:prstGeom>
          <a:ln w="0">
            <a:noFill/>
          </a:ln>
        </p:spPr>
      </p:pic>
      <p:sp>
        <p:nvSpPr>
          <p:cNvPr id="1111" name=""/>
          <p:cNvSpPr/>
          <p:nvPr/>
        </p:nvSpPr>
        <p:spPr>
          <a:xfrm>
            <a:off x="2519280" y="6521400"/>
            <a:ext cx="2044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000c0"/>
                </a:solidFill>
                <a:uFillTx/>
                <a:latin typeface="Times New Roman"/>
                <a:hlinkClick r:id="rId2"/>
              </a:rPr>
              <a:t>[</a:t>
            </a:r>
            <a:r>
              <a:rPr b="0" lang="en-US" sz="1600" spc="-1" strike="noStrike" u="sng">
                <a:solidFill>
                  <a:srgbClr val="c000c0"/>
                </a:solidFill>
                <a:uFillTx/>
                <a:latin typeface="Times New Roman"/>
                <a:hlinkClick r:id="rId3"/>
              </a:rPr>
              <a:t>Haak</a:t>
            </a:r>
            <a:r>
              <a:rPr b="0" lang="en-US" sz="1600" spc="-1" strike="noStrike" u="sng">
                <a:solidFill>
                  <a:srgbClr val="c000c0"/>
                </a:solidFill>
                <a:uFillTx/>
                <a:latin typeface="Times New Roman"/>
                <a:hlinkClick r:id="rId4"/>
              </a:rPr>
              <a:t> &amp;</a:t>
            </a:r>
            <a:r>
              <a:rPr b="0" lang="en-US" sz="1600" spc="-1" strike="noStrike" u="sng">
                <a:solidFill>
                  <a:srgbClr val="c000c0"/>
                </a:solidFill>
                <a:uFillTx/>
                <a:latin typeface="Times New Roman"/>
                <a:hlinkClick r:id="rId5"/>
              </a:rPr>
              <a:t> Deprez</a:t>
            </a:r>
            <a:r>
              <a:rPr b="0" lang="en-US" sz="1600" spc="-1" strike="noStrike" u="sng">
                <a:solidFill>
                  <a:srgbClr val="c000c0"/>
                </a:solidFill>
                <a:uFillTx/>
                <a:latin typeface="Times New Roman"/>
                <a:hlinkClick r:id="rId6"/>
              </a:rPr>
              <a:t> 1999]</a:t>
            </a:r>
            <a:endParaRPr b="0" lang="en-US" sz="16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Pre-Test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Evaluation perspectives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271440" indent="-271440">
              <a:spcBef>
                <a:spcPts val="601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customer orientation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51240" indent="-271440"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what can I achieve with my existing clients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market orientation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51240" indent="-271440"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how can I find new clients and strengthen my position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people orientation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51240" indent="-271440"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how can I contribute to better team/group performance 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result orientation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51240" indent="-271440"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how can I achieve better results with less effort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personal effectivenes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51240" indent="-271440"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how can I improve weak points and strengthen strong points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professionalism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51240" indent="-271440"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what can I do to keep up with new developments in my area/discipline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1114" name=""/>
          <p:cNvSpPr/>
          <p:nvPr/>
        </p:nvSpPr>
        <p:spPr>
          <a:xfrm>
            <a:off x="3662280" y="6524640"/>
            <a:ext cx="2044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000c0"/>
                </a:solidFill>
                <a:uFillTx/>
                <a:latin typeface="Times New Roman"/>
                <a:hlinkClick r:id="rId1"/>
              </a:rPr>
              <a:t>[</a:t>
            </a:r>
            <a:r>
              <a:rPr b="0" lang="en-US" sz="1600" spc="-1" strike="noStrike" u="sng">
                <a:solidFill>
                  <a:srgbClr val="c000c0"/>
                </a:solidFill>
                <a:uFillTx/>
                <a:latin typeface="Times New Roman"/>
                <a:hlinkClick r:id="rId2"/>
              </a:rPr>
              <a:t>Haak</a:t>
            </a:r>
            <a:r>
              <a:rPr b="0" lang="en-US" sz="1600" spc="-1" strike="noStrike" u="sng">
                <a:solidFill>
                  <a:srgbClr val="c000c0"/>
                </a:solidFill>
                <a:uFillTx/>
                <a:latin typeface="Times New Roman"/>
                <a:hlinkClick r:id="rId3"/>
              </a:rPr>
              <a:t> &amp;</a:t>
            </a:r>
            <a:r>
              <a:rPr b="0" lang="en-US" sz="1600" spc="-1" strike="noStrike" u="sng">
                <a:solidFill>
                  <a:srgbClr val="c000c0"/>
                </a:solidFill>
                <a:uFillTx/>
                <a:latin typeface="Times New Roman"/>
                <a:hlinkClick r:id="rId4"/>
              </a:rPr>
              <a:t> Deprez</a:t>
            </a:r>
            <a:r>
              <a:rPr b="0" lang="en-US" sz="1600" spc="-1" strike="noStrike" u="sng">
                <a:solidFill>
                  <a:srgbClr val="c000c0"/>
                </a:solidFill>
                <a:uFillTx/>
                <a:latin typeface="Times New Roman"/>
                <a:hlinkClick r:id="rId5"/>
              </a:rPr>
              <a:t> 1999]</a:t>
            </a:r>
            <a:endParaRPr b="0" lang="en-US" sz="16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3048120" cy="16002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Competency Scorecard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pic>
        <p:nvPicPr>
          <p:cNvPr id="1116" name="" descr=""/>
          <p:cNvPicPr/>
          <p:nvPr/>
        </p:nvPicPr>
        <p:blipFill>
          <a:blip r:embed="rId1"/>
          <a:stretch/>
        </p:blipFill>
        <p:spPr>
          <a:xfrm>
            <a:off x="3133800" y="0"/>
            <a:ext cx="6010200" cy="6858000"/>
          </a:xfrm>
          <a:prstGeom prst="rect">
            <a:avLst/>
          </a:prstGeom>
          <a:ln w="0">
            <a:noFill/>
          </a:ln>
        </p:spPr>
      </p:pic>
      <p:sp>
        <p:nvSpPr>
          <p:cNvPr id="1117" name=""/>
          <p:cNvSpPr/>
          <p:nvPr/>
        </p:nvSpPr>
        <p:spPr>
          <a:xfrm>
            <a:off x="2138400" y="6521400"/>
            <a:ext cx="204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000c0"/>
                </a:solidFill>
                <a:uFillTx/>
                <a:latin typeface="Times New Roman"/>
                <a:hlinkClick r:id="rId2"/>
              </a:rPr>
              <a:t>[</a:t>
            </a:r>
            <a:r>
              <a:rPr b="0" lang="en-US" sz="1600" spc="-1" strike="noStrike" u="sng">
                <a:solidFill>
                  <a:srgbClr val="fcfeb9"/>
                </a:solidFill>
                <a:uFillTx/>
                <a:latin typeface="Times New Roman"/>
              </a:rPr>
              <a:t>Haak &amp; Deprez 1999]</a:t>
            </a:r>
            <a:endParaRPr b="0" lang="en-US" sz="16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KPMG Competency Framework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pic>
        <p:nvPicPr>
          <p:cNvPr id="1119" name="" descr=""/>
          <p:cNvPicPr/>
          <p:nvPr/>
        </p:nvPicPr>
        <p:blipFill>
          <a:blip r:embed="rId1"/>
          <a:stretch/>
        </p:blipFill>
        <p:spPr>
          <a:xfrm>
            <a:off x="0" y="533520"/>
            <a:ext cx="9144000" cy="5711760"/>
          </a:xfrm>
          <a:prstGeom prst="rect">
            <a:avLst/>
          </a:prstGeom>
          <a:ln w="0">
            <a:noFill/>
          </a:ln>
        </p:spPr>
      </p:pic>
      <p:sp>
        <p:nvSpPr>
          <p:cNvPr id="1120" name=""/>
          <p:cNvSpPr/>
          <p:nvPr/>
        </p:nvSpPr>
        <p:spPr>
          <a:xfrm>
            <a:off x="3662280" y="6524640"/>
            <a:ext cx="204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cfeb9"/>
                </a:solidFill>
                <a:latin typeface="Times New Roman"/>
              </a:rPr>
              <a:t>[Haak &amp; Deprez 1999]</a:t>
            </a:r>
            <a:endParaRPr b="0" lang="en-US" sz="16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KPMG Annual Cycle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pic>
        <p:nvPicPr>
          <p:cNvPr id="1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23" name=""/>
          <p:cNvSpPr/>
          <p:nvPr/>
        </p:nvSpPr>
        <p:spPr>
          <a:xfrm>
            <a:off x="6939000" y="6521400"/>
            <a:ext cx="204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cfeb9"/>
                </a:solidFill>
                <a:latin typeface="Times New Roman"/>
              </a:rPr>
              <a:t>[Haak &amp; Deprez 1999]</a:t>
            </a:r>
            <a:endParaRPr b="0" lang="en-US" sz="16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Critical Issues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9000"/>
          </a:bodyPr>
          <a:p>
            <a:pPr marL="254160" indent="-25416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development of the personal plan should be supported by neutral resources and specialist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10200" indent="-25416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e.g. “development center”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10200" indent="-25416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some aspects of the plan may remain confidential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54160" indent="-25416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mutual trust between employees and management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10200" indent="-25416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no punishment for self-critical assessment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10200" indent="-25416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realistic opportunities for positive result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10200" indent="-25416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adequate support for assigned task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54160" indent="-25416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integration of planning activities into regular business cycle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10200" indent="-25416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scheduled time and resource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10200" indent="-25416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follow-up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1126" name=""/>
          <p:cNvSpPr/>
          <p:nvPr/>
        </p:nvSpPr>
        <p:spPr>
          <a:xfrm>
            <a:off x="3662280" y="6524640"/>
            <a:ext cx="204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cfeb9"/>
                </a:solidFill>
                <a:latin typeface="Times New Roman"/>
              </a:rPr>
              <a:t>[Haak &amp; Deprez 1999]</a:t>
            </a:r>
            <a:endParaRPr b="0" lang="en-US" sz="16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Post-Test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Evaluation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Criteria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References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1132" name="PlaceHolder 2"/>
          <p:cNvSpPr>
            <a:spLocks noGrp="1"/>
          </p:cNvSpPr>
          <p:nvPr>
            <p:ph/>
          </p:nvPr>
        </p:nvSpPr>
        <p:spPr>
          <a:xfrm>
            <a:off x="0" y="1447560"/>
            <a:ext cx="90676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265680" indent="-265680">
              <a:spcBef>
                <a:spcPts val="499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[Black &amp; Brunt 2000] Alistair Black and Rodney Brunt:MI5, 1909-1945: An Information Management Perspective, </a:t>
            </a:r>
            <a:r>
              <a:rPr b="0" i="1" lang="en-US" sz="2000" spc="-1" strike="noStrike">
                <a:solidFill>
                  <a:srgbClr val="fcfeb9"/>
                </a:solidFill>
                <a:latin typeface="Arial"/>
              </a:rPr>
              <a:t>Journal of Information Science</a:t>
            </a: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, 26 (3), pp. 185-197, 2000.</a:t>
            </a:r>
            <a:r>
              <a:rPr b="0" i="1" lang="en-US" sz="2000" spc="-1" strike="noStrike">
                <a:solidFill>
                  <a:srgbClr val="fcfeb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265680" indent="-265680">
              <a:spcBef>
                <a:spcPts val="499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[Brown 1998] John Seely Brown: Research that Reinvents the Corporation. </a:t>
            </a:r>
            <a:r>
              <a:rPr b="0" i="1" lang="en-US" sz="2000" spc="-1" strike="noStrike">
                <a:solidFill>
                  <a:srgbClr val="fcfeb9"/>
                </a:solidFill>
                <a:latin typeface="Arial"/>
              </a:rPr>
              <a:t>Harvard Business Review on Knowledge Management</a:t>
            </a: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, 1998.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265680" indent="-265680">
              <a:spcBef>
                <a:spcPts val="499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[Garvin 1998] David A. Garvin: Building a Learning Organization. </a:t>
            </a:r>
            <a:r>
              <a:rPr b="0" i="1" lang="en-US" sz="2000" spc="-1" strike="noStrike">
                <a:solidFill>
                  <a:srgbClr val="fcfeb9"/>
                </a:solidFill>
                <a:latin typeface="Arial"/>
              </a:rPr>
              <a:t>Harvard Business Review on Knowledge Management</a:t>
            </a: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, 1998.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265680" indent="-265680">
              <a:spcBef>
                <a:spcPts val="499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[Haak &amp; Deprez 1999] Tom Haar and Frank Lekanne Deprez: Individual Balanced Scorecards: Capitalizing on Individual and Organizational Needs for Mutual Benefit. </a:t>
            </a:r>
            <a:r>
              <a:rPr b="0" i="1" lang="en-US" sz="2000" spc="-1" strike="noStrike">
                <a:solidFill>
                  <a:srgbClr val="fcfeb9"/>
                </a:solidFill>
                <a:latin typeface="Arial"/>
              </a:rPr>
              <a:t>7th World Business Dialogue on Rethinking Knowledge</a:t>
            </a: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, March 1999, Cologne, Germany.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265680" indent="-265680">
              <a:spcBef>
                <a:spcPts val="499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[KPMG 1998] KPMG Management Consulting: Knowledge Management Research Report 1998, </a:t>
            </a:r>
            <a:r>
              <a:rPr b="0" lang="en-US" sz="2000" spc="-1" strike="noStrike" u="sng">
                <a:solidFill>
                  <a:srgbClr val="c000c0"/>
                </a:solidFill>
                <a:uFillTx/>
                <a:latin typeface="Arial"/>
                <a:hlinkClick r:id="rId1"/>
              </a:rPr>
              <a:t>www.kpmg.com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265680" indent="-265680">
              <a:spcBef>
                <a:spcPts val="499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[KPMG 1999] Frans van de Veen, KPMG Management Consulting: Knowledge Management Survey 1999, </a:t>
            </a:r>
            <a:r>
              <a:rPr b="0" lang="en-US" sz="2000" spc="-1" strike="noStrike" u="sng">
                <a:solidFill>
                  <a:srgbClr val="c000c0"/>
                </a:solidFill>
                <a:uFillTx/>
                <a:latin typeface="Arial"/>
                <a:hlinkClick r:id="rId2"/>
              </a:rPr>
              <a:t>www.</a:t>
            </a:r>
            <a:r>
              <a:rPr b="0" lang="en-US" sz="2000" spc="-1" strike="noStrike" u="sng">
                <a:solidFill>
                  <a:srgbClr val="c000c0"/>
                </a:solidFill>
                <a:uFillTx/>
                <a:latin typeface="Arial"/>
                <a:hlinkClick r:id="rId3"/>
              </a:rPr>
              <a:t>kpmg</a:t>
            </a:r>
            <a:r>
              <a:rPr b="0" lang="en-US" sz="2000" spc="-1" strike="noStrike" u="sng">
                <a:solidFill>
                  <a:srgbClr val="c000c0"/>
                </a:solidFill>
                <a:uFillTx/>
                <a:latin typeface="Arial"/>
                <a:hlinkClick r:id="rId4"/>
              </a:rPr>
              <a:t>.com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Important Concepts and Terms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228600" y="1066680"/>
            <a:ext cx="434340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4191120" y="1066680"/>
            <a:ext cx="466704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organization</a:t>
            </a:r>
            <a:endParaRPr b="0" lang="en-US" sz="20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0" y="1143000"/>
            <a:ext cx="466740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agent</a:t>
            </a:r>
            <a:endParaRPr b="0" lang="en-US" sz="20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Summary KM in Organizations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1138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Motivation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Objectives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Evaluation Criteria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262800" indent="-26280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coordinated, organized effort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30720" indent="-26280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acquisition, collection, organization, storage, interpretation, evaluation, distribution, maintenance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62800" indent="-26280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persistent storage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30720" indent="-26280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method, format, medium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62800" indent="-26280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technique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30720" indent="-26280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categorization, indexing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62800" indent="-26280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technology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30720" indent="-262800"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manual: </a:t>
            </a: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hand-written, drawings, artifacts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1" marL="630720" indent="-262800"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mechanical: </a:t>
            </a: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typewriter, punch cards, photographs, duplication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1" marL="630720" indent="-262800"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computer: </a:t>
            </a: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storage, retrieval, organization, evaluation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Franz J. Kurfess</cp:lastModifiedBy>
  <cp:lastPrinted>2003-03-21T00:46:55Z</cp:lastPrinted>
  <dcterms:modified xsi:type="dcterms:W3CDTF">2003-03-21T00:47:26Z</dcterms:modified>
  <cp:revision>46</cp:revision>
  <dc:subject/>
  <dc:title>CSC 480: Artificial Intelligence</dc:title>
</cp:coreProperties>
</file>