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642100" cy="9777413"/>
  <p:custShowLst>
    <p:custShow name="Lecture 1" id="0">
      <p:sldLst>
        <p:sld r:id="rId3"/>
        <p:sld r:id="rId4"/>
        <p:sld r:id="rId5"/>
        <p:sld r:id="rId9"/>
        <p:sld r:id="rId10"/>
        <p:sld r:id="rId12"/>
        <p:sld r:id="rId20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</p:sldLst>
    </p:custShow>
    <p:custShow name="Lecture 2" id="1">
      <p:sldLst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</p:sldLst>
    </p:custShow>
    <p:custShow name="Spring 2003" id="2">
      <p:sldLst>
        <p:sld r:id="rId5"/>
        <p:sld r:id="rId9"/>
        <p:sld r:id="rId10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7"/>
        <p:sld r:id="rId5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0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Processing  </a:t>
            </a:r>
            <a:fld id="{82D29AB7-DE54-48AF-A38B-D021E324C505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hapter Introdu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Processing as Core AI Paradig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ationship to K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Processing as Core AI Paradig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lationship to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ormation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ata, Information,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9640" y="6553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kyrme 1998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523880"/>
            <a:ext cx="9279720" cy="4422960"/>
            <a:chOff x="0" y="1523880"/>
            <a:chExt cx="9279720" cy="4422960"/>
          </a:xfrm>
        </p:grpSpPr>
        <p:grpSp>
          <p:nvGrpSpPr>
            <p:cNvPr id="73" name=""/>
            <p:cNvGrpSpPr/>
            <p:nvPr/>
          </p:nvGrpSpPr>
          <p:grpSpPr>
            <a:xfrm>
              <a:off x="146160" y="4649760"/>
              <a:ext cx="5311800" cy="1297080"/>
              <a:chOff x="146160" y="4649760"/>
              <a:chExt cx="5311800" cy="1297080"/>
            </a:xfrm>
          </p:grpSpPr>
          <p:sp>
            <p:nvSpPr>
              <p:cNvPr id="74" name=""/>
              <p:cNvSpPr/>
              <p:nvPr/>
            </p:nvSpPr>
            <p:spPr>
              <a:xfrm>
                <a:off x="4519800" y="4649760"/>
                <a:ext cx="938160" cy="1295280"/>
              </a:xfrm>
              <a:custGeom>
                <a:avLst/>
                <a:gdLst/>
                <a:ahLst/>
                <a:rect l="l" t="t" r="r" b="b"/>
                <a:pathLst>
                  <a:path w="591" h="816">
                    <a:moveTo>
                      <a:pt x="278" y="815"/>
                    </a:moveTo>
                    <a:lnTo>
                      <a:pt x="0" y="347"/>
                    </a:lnTo>
                    <a:lnTo>
                      <a:pt x="261" y="0"/>
                    </a:lnTo>
                    <a:lnTo>
                      <a:pt x="590" y="406"/>
                    </a:lnTo>
                    <a:lnTo>
                      <a:pt x="278" y="815"/>
                    </a:lnTo>
                  </a:path>
                </a:pathLst>
              </a:custGeom>
              <a:solidFill>
                <a:srgbClr val="ff5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71680" y="4649760"/>
                <a:ext cx="4363920" cy="555480"/>
              </a:xfrm>
              <a:custGeom>
                <a:avLst/>
                <a:gdLst/>
                <a:ahLst/>
                <a:rect l="l" t="t" r="r" b="b"/>
                <a:pathLst>
                  <a:path w="2749" h="350">
                    <a:moveTo>
                      <a:pt x="0" y="349"/>
                    </a:moveTo>
                    <a:lnTo>
                      <a:pt x="2487" y="349"/>
                    </a:lnTo>
                    <a:lnTo>
                      <a:pt x="2748" y="0"/>
                    </a:lnTo>
                    <a:lnTo>
                      <a:pt x="351" y="0"/>
                    </a:lnTo>
                    <a:lnTo>
                      <a:pt x="0" y="349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46160" y="5200560"/>
                <a:ext cx="4819680" cy="746280"/>
              </a:xfrm>
              <a:custGeom>
                <a:avLst/>
                <a:gdLst/>
                <a:ahLst/>
                <a:rect l="l" t="t" r="r" b="b"/>
                <a:pathLst>
                  <a:path w="3036" h="470">
                    <a:moveTo>
                      <a:pt x="267" y="0"/>
                    </a:moveTo>
                    <a:lnTo>
                      <a:pt x="2754" y="0"/>
                    </a:lnTo>
                    <a:lnTo>
                      <a:pt x="3035" y="469"/>
                    </a:lnTo>
                    <a:lnTo>
                      <a:pt x="0" y="46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649440" y="3914640"/>
              <a:ext cx="4211640" cy="1173240"/>
              <a:chOff x="649440" y="3914640"/>
              <a:chExt cx="4211640" cy="1173240"/>
            </a:xfrm>
          </p:grpSpPr>
          <p:sp>
            <p:nvSpPr>
              <p:cNvPr id="78" name=""/>
              <p:cNvSpPr/>
              <p:nvPr/>
            </p:nvSpPr>
            <p:spPr>
              <a:xfrm>
                <a:off x="4032360" y="3914640"/>
                <a:ext cx="828720" cy="1173240"/>
              </a:xfrm>
              <a:custGeom>
                <a:avLst/>
                <a:gdLst/>
                <a:ahLst/>
                <a:rect l="l" t="t" r="r" b="b"/>
                <a:pathLst>
                  <a:path w="522" h="739">
                    <a:moveTo>
                      <a:pt x="266" y="738"/>
                    </a:moveTo>
                    <a:lnTo>
                      <a:pt x="0" y="258"/>
                    </a:lnTo>
                    <a:lnTo>
                      <a:pt x="195" y="0"/>
                    </a:lnTo>
                    <a:lnTo>
                      <a:pt x="521" y="407"/>
                    </a:lnTo>
                    <a:lnTo>
                      <a:pt x="266" y="738"/>
                    </a:lnTo>
                  </a:path>
                </a:pathLst>
              </a:custGeom>
              <a:solidFill>
                <a:srgbClr val="f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065240" y="3914640"/>
                <a:ext cx="3279600" cy="412920"/>
              </a:xfrm>
              <a:custGeom>
                <a:avLst/>
                <a:gdLst/>
                <a:ahLst/>
                <a:rect l="l" t="t" r="r" b="b"/>
                <a:pathLst>
                  <a:path w="2066" h="260">
                    <a:moveTo>
                      <a:pt x="0" y="259"/>
                    </a:moveTo>
                    <a:lnTo>
                      <a:pt x="1871" y="259"/>
                    </a:lnTo>
                    <a:lnTo>
                      <a:pt x="2065" y="0"/>
                    </a:lnTo>
                    <a:lnTo>
                      <a:pt x="370" y="1"/>
                    </a:lnTo>
                    <a:lnTo>
                      <a:pt x="0" y="259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49440" y="4324320"/>
                <a:ext cx="3806640" cy="763560"/>
              </a:xfrm>
              <a:custGeom>
                <a:avLst/>
                <a:gdLst/>
                <a:ahLst/>
                <a:rect l="l" t="t" r="r" b="b"/>
                <a:pathLst>
                  <a:path w="2398" h="481">
                    <a:moveTo>
                      <a:pt x="0" y="480"/>
                    </a:moveTo>
                    <a:lnTo>
                      <a:pt x="2397" y="480"/>
                    </a:lnTo>
                    <a:lnTo>
                      <a:pt x="2131" y="0"/>
                    </a:lnTo>
                    <a:lnTo>
                      <a:pt x="263" y="0"/>
                    </a:lnTo>
                    <a:lnTo>
                      <a:pt x="0" y="480"/>
                    </a:lnTo>
                  </a:path>
                </a:pathLst>
              </a:custGeom>
              <a:solidFill>
                <a:srgbClr val="ff00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206360" y="2844720"/>
              <a:ext cx="3130560" cy="1019160"/>
              <a:chOff x="1206360" y="2844720"/>
              <a:chExt cx="3130560" cy="1019160"/>
            </a:xfrm>
          </p:grpSpPr>
          <p:sp>
            <p:nvSpPr>
              <p:cNvPr id="82" name=""/>
              <p:cNvSpPr/>
              <p:nvPr/>
            </p:nvSpPr>
            <p:spPr>
              <a:xfrm>
                <a:off x="3611520" y="2844720"/>
                <a:ext cx="725400" cy="1017720"/>
              </a:xfrm>
              <a:custGeom>
                <a:avLst/>
                <a:gdLst/>
                <a:ahLst/>
                <a:rect l="l" t="t" r="r" b="b"/>
                <a:pathLst>
                  <a:path w="457" h="641">
                    <a:moveTo>
                      <a:pt x="0" y="175"/>
                    </a:moveTo>
                    <a:lnTo>
                      <a:pt x="271" y="640"/>
                    </a:lnTo>
                    <a:lnTo>
                      <a:pt x="456" y="402"/>
                    </a:lnTo>
                    <a:lnTo>
                      <a:pt x="131" y="0"/>
                    </a:lnTo>
                    <a:lnTo>
                      <a:pt x="0" y="175"/>
                    </a:lnTo>
                  </a:path>
                </a:pathLst>
              </a:custGeom>
              <a:solidFill>
                <a:srgbClr val="bf5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28640" y="2844720"/>
                <a:ext cx="2190960" cy="276480"/>
              </a:xfrm>
              <a:custGeom>
                <a:avLst/>
                <a:gdLst/>
                <a:ahLst/>
                <a:rect l="l" t="t" r="r" b="b"/>
                <a:pathLst>
                  <a:path w="1380" h="174">
                    <a:moveTo>
                      <a:pt x="0" y="173"/>
                    </a:moveTo>
                    <a:lnTo>
                      <a:pt x="1248" y="173"/>
                    </a:lnTo>
                    <a:lnTo>
                      <a:pt x="1379" y="0"/>
                    </a:lnTo>
                    <a:lnTo>
                      <a:pt x="349" y="0"/>
                    </a:lnTo>
                    <a:lnTo>
                      <a:pt x="0" y="173"/>
                    </a:lnTo>
                  </a:path>
                </a:pathLst>
              </a:custGeom>
              <a:solidFill>
                <a:srgbClr val="5f00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206360" y="3119400"/>
                <a:ext cx="2835360" cy="744480"/>
              </a:xfrm>
              <a:custGeom>
                <a:avLst/>
                <a:gdLst/>
                <a:ahLst/>
                <a:rect l="l" t="t" r="r" b="b"/>
                <a:pathLst>
                  <a:path w="1786" h="469">
                    <a:moveTo>
                      <a:pt x="0" y="468"/>
                    </a:moveTo>
                    <a:lnTo>
                      <a:pt x="1785" y="468"/>
                    </a:lnTo>
                    <a:lnTo>
                      <a:pt x="1514" y="0"/>
                    </a:lnTo>
                    <a:lnTo>
                      <a:pt x="266" y="0"/>
                    </a:lnTo>
                    <a:lnTo>
                      <a:pt x="0" y="468"/>
                    </a:lnTo>
                  </a:path>
                </a:pathLst>
              </a:custGeom>
              <a:solidFill>
                <a:srgbClr val="9f3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631960" y="1523880"/>
              <a:ext cx="1158840" cy="1530360"/>
            </a:xfrm>
            <a:custGeom>
              <a:avLst/>
              <a:gdLst/>
              <a:ahLst/>
              <a:rect l="l" t="t" r="r" b="b"/>
              <a:pathLst>
                <a:path w="730" h="964">
                  <a:moveTo>
                    <a:pt x="592" y="963"/>
                  </a:moveTo>
                  <a:lnTo>
                    <a:pt x="729" y="814"/>
                  </a:lnTo>
                  <a:lnTo>
                    <a:pt x="0" y="0"/>
                  </a:lnTo>
                  <a:lnTo>
                    <a:pt x="592" y="963"/>
                  </a:lnTo>
                </a:path>
              </a:pathLst>
            </a:custGeom>
            <a:solidFill>
              <a:srgbClr val="ffb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17560" y="1523880"/>
              <a:ext cx="1859040" cy="1530360"/>
            </a:xfrm>
            <a:custGeom>
              <a:avLst/>
              <a:gdLst/>
              <a:ahLst/>
              <a:rect l="l" t="t" r="r" b="b"/>
              <a:pathLst>
                <a:path w="1171" h="964">
                  <a:moveTo>
                    <a:pt x="0" y="963"/>
                  </a:moveTo>
                  <a:lnTo>
                    <a:pt x="1170" y="963"/>
                  </a:lnTo>
                  <a:lnTo>
                    <a:pt x="585" y="0"/>
                  </a:lnTo>
                  <a:lnTo>
                    <a:pt x="0" y="963"/>
                  </a:lnTo>
                </a:path>
              </a:pathLst>
            </a:custGeom>
            <a:solidFill>
              <a:srgbClr val="ff9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15280" y="5272200"/>
              <a:ext cx="106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00"/>
                  </a:solidFill>
                  <a:latin typeface="Arial"/>
                </a:rPr>
                <a:t>Data</a:t>
              </a:r>
              <a:endParaRPr b="0" lang="en-US" sz="3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5880" y="4400640"/>
              <a:ext cx="2417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00"/>
                  </a:solidFill>
                  <a:latin typeface="Arial"/>
                </a:rPr>
                <a:t>Information</a:t>
              </a:r>
              <a:endParaRPr b="0" lang="en-US" sz="3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2400" y="3243240"/>
              <a:ext cx="2350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00"/>
                  </a:solidFill>
                  <a:latin typeface="Arial"/>
                </a:rPr>
                <a:t>Knowledge</a:t>
              </a:r>
              <a:endParaRPr b="0" lang="en-US" sz="3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0" y="3884400"/>
              <a:ext cx="1092240" cy="32220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3000" y="3921120"/>
              <a:ext cx="934920" cy="16344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114640" y="3827160"/>
              <a:ext cx="377640" cy="30780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440" y="3906720"/>
              <a:ext cx="577800" cy="17784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143160" y="3927240"/>
              <a:ext cx="792360" cy="20772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86280" y="3963960"/>
              <a:ext cx="1763640" cy="24912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39640" y="2157480"/>
              <a:ext cx="24156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Arial"/>
                </a:rPr>
                <a:t>Intelligence</a:t>
              </a:r>
              <a:endParaRPr b="0" lang="en-US" sz="3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15000" y="4734000"/>
              <a:ext cx="2892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Arial"/>
                </a:rPr>
                <a:t>Codifiable, explicit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Arial"/>
                </a:rPr>
                <a:t>Easily transferable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43360" y="2162160"/>
              <a:ext cx="36363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Arial"/>
                </a:rPr>
                <a:t>Human, judgemental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Arial"/>
                </a:rPr>
                <a:t>Contextual, tacit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Arial"/>
                </a:rPr>
                <a:t>Transfer needs learning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ata, Information,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7120" y="65530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nowledge Ability 1998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at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formation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characteristic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eaningful only with respect to huma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is context-sensit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may be elaborat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may be explicit or taci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licit knowledge consists of documented fa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frequently objective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cit knowledge is in people’s head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frequently subjective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surfaces through interaction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3600" y="65530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nowledge Ability 1998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Process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52520" y="4686480"/>
            <a:ext cx="5743800" cy="942840"/>
          </a:xfrm>
          <a:prstGeom prst="rect">
            <a:avLst/>
          </a:prstGeom>
          <a:solidFill>
            <a:srgbClr val="fcd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1573200"/>
            <a:ext cx="7340760" cy="1092240"/>
          </a:xfrm>
          <a:custGeom>
            <a:avLst/>
            <a:gdLst>
              <a:gd name="textAreaLeft" fmla="*/ 1675800 w 7340760"/>
              <a:gd name="textAreaRight" fmla="*/ 5664960 w 7340760"/>
              <a:gd name="textAreaTop" fmla="*/ 249120 h 1092240"/>
              <a:gd name="textAreaBottom" fmla="*/ 84312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2c1fe"/>
          </a:solidFill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Chaotic knowledge processe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09320" y="4648320"/>
            <a:ext cx="58676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95480" y="4422240"/>
            <a:ext cx="254160" cy="808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0160" y="5237280"/>
            <a:ext cx="249480" cy="5904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954560" y="5240160"/>
            <a:ext cx="338040" cy="573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950240" y="4436640"/>
            <a:ext cx="355680" cy="808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00480" y="4730760"/>
            <a:ext cx="5283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20"/>
                </a:solidFill>
                <a:latin typeface="Arial"/>
              </a:rPr>
              <a:t>Systematic information and knowledge processes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53360" y="2744640"/>
            <a:ext cx="3957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</a:rPr>
              <a:t>Human knowledge and networking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09480" y="4092480"/>
            <a:ext cx="543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</a:rPr>
              <a:t>Information databases and technical networking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09920" y="3144960"/>
            <a:ext cx="0" cy="977760"/>
          </a:xfrm>
          <a:prstGeom prst="line">
            <a:avLst/>
          </a:prstGeom>
          <a:ln w="12600">
            <a:solidFill>
              <a:srgbClr val="fcfeb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86440" y="3144960"/>
            <a:ext cx="0" cy="901440"/>
          </a:xfrm>
          <a:prstGeom prst="line">
            <a:avLst/>
          </a:prstGeom>
          <a:ln w="12600">
            <a:solidFill>
              <a:srgbClr val="fcfeb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38920" y="3068640"/>
            <a:ext cx="0" cy="1054080"/>
          </a:xfrm>
          <a:prstGeom prst="line">
            <a:avLst/>
          </a:prstGeom>
          <a:ln w="12600">
            <a:solidFill>
              <a:srgbClr val="fcfeb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657440" y="5086440"/>
            <a:ext cx="1000080" cy="200160"/>
          </a:xfrm>
          <a:prstGeom prst="triangle">
            <a:avLst>
              <a:gd name="adj" fmla="val 49995"/>
            </a:avLst>
          </a:prstGeom>
          <a:solidFill>
            <a:srgbClr val="fcd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5400000">
            <a:off x="7605720" y="5052960"/>
            <a:ext cx="1000080" cy="200160"/>
          </a:xfrm>
          <a:prstGeom prst="triangle">
            <a:avLst>
              <a:gd name="adj" fmla="val 49995"/>
            </a:avLst>
          </a:prstGeom>
          <a:solidFill>
            <a:srgbClr val="fcd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126880" y="5672160"/>
            <a:ext cx="599436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9640" y="6553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kyrme 1998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Cycl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-720" y="1371600"/>
            <a:ext cx="9159840" cy="4952880"/>
            <a:chOff x="-720" y="1371600"/>
            <a:chExt cx="9159840" cy="4952880"/>
          </a:xfrm>
        </p:grpSpPr>
        <p:sp>
          <p:nvSpPr>
            <p:cNvPr id="130" name=""/>
            <p:cNvSpPr/>
            <p:nvPr/>
          </p:nvSpPr>
          <p:spPr>
            <a:xfrm>
              <a:off x="6480" y="1371600"/>
              <a:ext cx="9144000" cy="4952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-720" y="1857240"/>
              <a:ext cx="9159840" cy="3980160"/>
              <a:chOff x="-720" y="1857240"/>
              <a:chExt cx="9159840" cy="3980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813560" y="1950840"/>
                <a:ext cx="3221280" cy="3567240"/>
                <a:chOff x="4813560" y="1950840"/>
                <a:chExt cx="3221280" cy="35672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923720" y="1950840"/>
                  <a:ext cx="2025360" cy="2783160"/>
                </a:xfrm>
                <a:custGeom>
                  <a:avLst/>
                  <a:gdLst/>
                  <a:ahLst/>
                  <a:rect l="l" t="t" r="r" b="b"/>
                  <a:pathLst>
                    <a:path w="1319" h="1753">
                      <a:moveTo>
                        <a:pt x="816" y="230"/>
                      </a:moveTo>
                      <a:lnTo>
                        <a:pt x="798" y="233"/>
                      </a:lnTo>
                      <a:lnTo>
                        <a:pt x="774" y="238"/>
                      </a:lnTo>
                      <a:lnTo>
                        <a:pt x="750" y="244"/>
                      </a:lnTo>
                      <a:lnTo>
                        <a:pt x="733" y="248"/>
                      </a:lnTo>
                      <a:lnTo>
                        <a:pt x="713" y="253"/>
                      </a:lnTo>
                      <a:lnTo>
                        <a:pt x="694" y="260"/>
                      </a:lnTo>
                      <a:lnTo>
                        <a:pt x="674" y="266"/>
                      </a:lnTo>
                      <a:lnTo>
                        <a:pt x="656" y="271"/>
                      </a:lnTo>
                      <a:lnTo>
                        <a:pt x="635" y="280"/>
                      </a:lnTo>
                      <a:lnTo>
                        <a:pt x="611" y="291"/>
                      </a:lnTo>
                      <a:lnTo>
                        <a:pt x="590" y="299"/>
                      </a:lnTo>
                      <a:lnTo>
                        <a:pt x="570" y="309"/>
                      </a:lnTo>
                      <a:lnTo>
                        <a:pt x="547" y="319"/>
                      </a:lnTo>
                      <a:lnTo>
                        <a:pt x="525" y="331"/>
                      </a:lnTo>
                      <a:lnTo>
                        <a:pt x="505" y="341"/>
                      </a:lnTo>
                      <a:lnTo>
                        <a:pt x="485" y="354"/>
                      </a:lnTo>
                      <a:lnTo>
                        <a:pt x="468" y="365"/>
                      </a:lnTo>
                      <a:lnTo>
                        <a:pt x="451" y="378"/>
                      </a:lnTo>
                      <a:lnTo>
                        <a:pt x="432" y="389"/>
                      </a:lnTo>
                      <a:lnTo>
                        <a:pt x="411" y="405"/>
                      </a:lnTo>
                      <a:lnTo>
                        <a:pt x="392" y="420"/>
                      </a:lnTo>
                      <a:lnTo>
                        <a:pt x="374" y="435"/>
                      </a:lnTo>
                      <a:lnTo>
                        <a:pt x="357" y="448"/>
                      </a:lnTo>
                      <a:lnTo>
                        <a:pt x="330" y="472"/>
                      </a:lnTo>
                      <a:lnTo>
                        <a:pt x="302" y="500"/>
                      </a:lnTo>
                      <a:lnTo>
                        <a:pt x="280" y="521"/>
                      </a:lnTo>
                      <a:lnTo>
                        <a:pt x="254" y="551"/>
                      </a:lnTo>
                      <a:lnTo>
                        <a:pt x="236" y="574"/>
                      </a:lnTo>
                      <a:lnTo>
                        <a:pt x="216" y="599"/>
                      </a:lnTo>
                      <a:lnTo>
                        <a:pt x="194" y="628"/>
                      </a:lnTo>
                      <a:lnTo>
                        <a:pt x="176" y="655"/>
                      </a:lnTo>
                      <a:lnTo>
                        <a:pt x="157" y="686"/>
                      </a:lnTo>
                      <a:lnTo>
                        <a:pt x="138" y="716"/>
                      </a:lnTo>
                      <a:lnTo>
                        <a:pt x="122" y="748"/>
                      </a:lnTo>
                      <a:lnTo>
                        <a:pt x="106" y="775"/>
                      </a:lnTo>
                      <a:lnTo>
                        <a:pt x="91" y="809"/>
                      </a:lnTo>
                      <a:lnTo>
                        <a:pt x="77" y="842"/>
                      </a:lnTo>
                      <a:lnTo>
                        <a:pt x="65" y="876"/>
                      </a:lnTo>
                      <a:lnTo>
                        <a:pt x="53" y="913"/>
                      </a:lnTo>
                      <a:lnTo>
                        <a:pt x="38" y="959"/>
                      </a:lnTo>
                      <a:lnTo>
                        <a:pt x="28" y="1001"/>
                      </a:lnTo>
                      <a:lnTo>
                        <a:pt x="18" y="1045"/>
                      </a:lnTo>
                      <a:lnTo>
                        <a:pt x="13" y="1087"/>
                      </a:lnTo>
                      <a:lnTo>
                        <a:pt x="6" y="1136"/>
                      </a:lnTo>
                      <a:lnTo>
                        <a:pt x="1" y="1198"/>
                      </a:lnTo>
                      <a:lnTo>
                        <a:pt x="0" y="1246"/>
                      </a:lnTo>
                      <a:lnTo>
                        <a:pt x="1" y="1294"/>
                      </a:lnTo>
                      <a:lnTo>
                        <a:pt x="5" y="1338"/>
                      </a:lnTo>
                      <a:lnTo>
                        <a:pt x="10" y="1381"/>
                      </a:lnTo>
                      <a:lnTo>
                        <a:pt x="15" y="1425"/>
                      </a:lnTo>
                      <a:lnTo>
                        <a:pt x="24" y="1471"/>
                      </a:lnTo>
                      <a:lnTo>
                        <a:pt x="36" y="1520"/>
                      </a:lnTo>
                      <a:lnTo>
                        <a:pt x="51" y="1571"/>
                      </a:lnTo>
                      <a:lnTo>
                        <a:pt x="66" y="1617"/>
                      </a:lnTo>
                      <a:lnTo>
                        <a:pt x="83" y="1663"/>
                      </a:lnTo>
                      <a:lnTo>
                        <a:pt x="108" y="1707"/>
                      </a:lnTo>
                      <a:lnTo>
                        <a:pt x="133" y="1752"/>
                      </a:lnTo>
                      <a:lnTo>
                        <a:pt x="522" y="1514"/>
                      </a:lnTo>
                      <a:lnTo>
                        <a:pt x="501" y="1470"/>
                      </a:lnTo>
                      <a:lnTo>
                        <a:pt x="486" y="1436"/>
                      </a:lnTo>
                      <a:lnTo>
                        <a:pt x="476" y="1399"/>
                      </a:lnTo>
                      <a:lnTo>
                        <a:pt x="467" y="1363"/>
                      </a:lnTo>
                      <a:lnTo>
                        <a:pt x="461" y="1330"/>
                      </a:lnTo>
                      <a:lnTo>
                        <a:pt x="459" y="1297"/>
                      </a:lnTo>
                      <a:lnTo>
                        <a:pt x="456" y="1265"/>
                      </a:lnTo>
                      <a:lnTo>
                        <a:pt x="456" y="1231"/>
                      </a:lnTo>
                      <a:lnTo>
                        <a:pt x="458" y="1192"/>
                      </a:lnTo>
                      <a:lnTo>
                        <a:pt x="463" y="1154"/>
                      </a:lnTo>
                      <a:lnTo>
                        <a:pt x="470" y="1112"/>
                      </a:lnTo>
                      <a:lnTo>
                        <a:pt x="479" y="1079"/>
                      </a:lnTo>
                      <a:lnTo>
                        <a:pt x="493" y="1040"/>
                      </a:lnTo>
                      <a:lnTo>
                        <a:pt x="507" y="1008"/>
                      </a:lnTo>
                      <a:lnTo>
                        <a:pt x="523" y="976"/>
                      </a:lnTo>
                      <a:lnTo>
                        <a:pt x="537" y="951"/>
                      </a:lnTo>
                      <a:lnTo>
                        <a:pt x="551" y="931"/>
                      </a:lnTo>
                      <a:lnTo>
                        <a:pt x="565" y="911"/>
                      </a:lnTo>
                      <a:lnTo>
                        <a:pt x="581" y="891"/>
                      </a:lnTo>
                      <a:lnTo>
                        <a:pt x="599" y="870"/>
                      </a:lnTo>
                      <a:lnTo>
                        <a:pt x="614" y="855"/>
                      </a:lnTo>
                      <a:lnTo>
                        <a:pt x="631" y="837"/>
                      </a:lnTo>
                      <a:lnTo>
                        <a:pt x="648" y="821"/>
                      </a:lnTo>
                      <a:lnTo>
                        <a:pt x="668" y="805"/>
                      </a:lnTo>
                      <a:lnTo>
                        <a:pt x="692" y="789"/>
                      </a:lnTo>
                      <a:lnTo>
                        <a:pt x="712" y="774"/>
                      </a:lnTo>
                      <a:lnTo>
                        <a:pt x="729" y="765"/>
                      </a:lnTo>
                      <a:lnTo>
                        <a:pt x="754" y="749"/>
                      </a:lnTo>
                      <a:lnTo>
                        <a:pt x="776" y="740"/>
                      </a:lnTo>
                      <a:lnTo>
                        <a:pt x="795" y="733"/>
                      </a:lnTo>
                      <a:lnTo>
                        <a:pt x="815" y="725"/>
                      </a:lnTo>
                      <a:lnTo>
                        <a:pt x="846" y="718"/>
                      </a:lnTo>
                      <a:lnTo>
                        <a:pt x="874" y="713"/>
                      </a:lnTo>
                      <a:lnTo>
                        <a:pt x="903" y="709"/>
                      </a:lnTo>
                      <a:lnTo>
                        <a:pt x="932" y="707"/>
                      </a:lnTo>
                      <a:lnTo>
                        <a:pt x="948" y="706"/>
                      </a:lnTo>
                      <a:lnTo>
                        <a:pt x="948" y="962"/>
                      </a:lnTo>
                      <a:lnTo>
                        <a:pt x="1318" y="488"/>
                      </a:lnTo>
                      <a:lnTo>
                        <a:pt x="949" y="0"/>
                      </a:lnTo>
                      <a:lnTo>
                        <a:pt x="949" y="220"/>
                      </a:lnTo>
                      <a:lnTo>
                        <a:pt x="929" y="221"/>
                      </a:lnTo>
                      <a:lnTo>
                        <a:pt x="900" y="222"/>
                      </a:lnTo>
                      <a:lnTo>
                        <a:pt x="870" y="224"/>
                      </a:lnTo>
                      <a:lnTo>
                        <a:pt x="841" y="227"/>
                      </a:lnTo>
                      <a:lnTo>
                        <a:pt x="816" y="23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13560" y="3978360"/>
                  <a:ext cx="2691360" cy="1539720"/>
                </a:xfrm>
                <a:custGeom>
                  <a:avLst/>
                  <a:gdLst/>
                  <a:ahLst/>
                  <a:rect l="l" t="t" r="r" b="b"/>
                  <a:pathLst>
                    <a:path w="1753" h="970">
                      <a:moveTo>
                        <a:pt x="872" y="957"/>
                      </a:moveTo>
                      <a:lnTo>
                        <a:pt x="854" y="954"/>
                      </a:lnTo>
                      <a:lnTo>
                        <a:pt x="830" y="950"/>
                      </a:lnTo>
                      <a:lnTo>
                        <a:pt x="806" y="945"/>
                      </a:lnTo>
                      <a:lnTo>
                        <a:pt x="789" y="941"/>
                      </a:lnTo>
                      <a:lnTo>
                        <a:pt x="769" y="935"/>
                      </a:lnTo>
                      <a:lnTo>
                        <a:pt x="748" y="929"/>
                      </a:lnTo>
                      <a:lnTo>
                        <a:pt x="728" y="924"/>
                      </a:lnTo>
                      <a:lnTo>
                        <a:pt x="710" y="917"/>
                      </a:lnTo>
                      <a:lnTo>
                        <a:pt x="690" y="909"/>
                      </a:lnTo>
                      <a:lnTo>
                        <a:pt x="665" y="899"/>
                      </a:lnTo>
                      <a:lnTo>
                        <a:pt x="644" y="890"/>
                      </a:lnTo>
                      <a:lnTo>
                        <a:pt x="624" y="880"/>
                      </a:lnTo>
                      <a:lnTo>
                        <a:pt x="601" y="870"/>
                      </a:lnTo>
                      <a:lnTo>
                        <a:pt x="579" y="858"/>
                      </a:lnTo>
                      <a:lnTo>
                        <a:pt x="559" y="848"/>
                      </a:lnTo>
                      <a:lnTo>
                        <a:pt x="540" y="835"/>
                      </a:lnTo>
                      <a:lnTo>
                        <a:pt x="523" y="824"/>
                      </a:lnTo>
                      <a:lnTo>
                        <a:pt x="506" y="812"/>
                      </a:lnTo>
                      <a:lnTo>
                        <a:pt x="487" y="800"/>
                      </a:lnTo>
                      <a:lnTo>
                        <a:pt x="466" y="785"/>
                      </a:lnTo>
                      <a:lnTo>
                        <a:pt x="447" y="771"/>
                      </a:lnTo>
                      <a:lnTo>
                        <a:pt x="429" y="756"/>
                      </a:lnTo>
                      <a:lnTo>
                        <a:pt x="413" y="743"/>
                      </a:lnTo>
                      <a:lnTo>
                        <a:pt x="385" y="720"/>
                      </a:lnTo>
                      <a:lnTo>
                        <a:pt x="360" y="697"/>
                      </a:lnTo>
                      <a:lnTo>
                        <a:pt x="335" y="670"/>
                      </a:lnTo>
                      <a:lnTo>
                        <a:pt x="308" y="640"/>
                      </a:lnTo>
                      <a:lnTo>
                        <a:pt x="290" y="618"/>
                      </a:lnTo>
                      <a:lnTo>
                        <a:pt x="270" y="592"/>
                      </a:lnTo>
                      <a:lnTo>
                        <a:pt x="248" y="565"/>
                      </a:lnTo>
                      <a:lnTo>
                        <a:pt x="229" y="537"/>
                      </a:lnTo>
                      <a:lnTo>
                        <a:pt x="211" y="508"/>
                      </a:lnTo>
                      <a:lnTo>
                        <a:pt x="189" y="474"/>
                      </a:lnTo>
                      <a:lnTo>
                        <a:pt x="0" y="590"/>
                      </a:lnTo>
                      <a:lnTo>
                        <a:pt x="185" y="0"/>
                      </a:lnTo>
                      <a:lnTo>
                        <a:pt x="785" y="112"/>
                      </a:lnTo>
                      <a:lnTo>
                        <a:pt x="583" y="232"/>
                      </a:lnTo>
                      <a:lnTo>
                        <a:pt x="600" y="258"/>
                      </a:lnTo>
                      <a:lnTo>
                        <a:pt x="618" y="280"/>
                      </a:lnTo>
                      <a:lnTo>
                        <a:pt x="636" y="302"/>
                      </a:lnTo>
                      <a:lnTo>
                        <a:pt x="654" y="323"/>
                      </a:lnTo>
                      <a:lnTo>
                        <a:pt x="669" y="339"/>
                      </a:lnTo>
                      <a:lnTo>
                        <a:pt x="685" y="357"/>
                      </a:lnTo>
                      <a:lnTo>
                        <a:pt x="703" y="372"/>
                      </a:lnTo>
                      <a:lnTo>
                        <a:pt x="723" y="387"/>
                      </a:lnTo>
                      <a:lnTo>
                        <a:pt x="747" y="404"/>
                      </a:lnTo>
                      <a:lnTo>
                        <a:pt x="768" y="418"/>
                      </a:lnTo>
                      <a:lnTo>
                        <a:pt x="785" y="429"/>
                      </a:lnTo>
                      <a:lnTo>
                        <a:pt x="810" y="443"/>
                      </a:lnTo>
                      <a:lnTo>
                        <a:pt x="832" y="453"/>
                      </a:lnTo>
                      <a:lnTo>
                        <a:pt x="851" y="459"/>
                      </a:lnTo>
                      <a:lnTo>
                        <a:pt x="871" y="467"/>
                      </a:lnTo>
                      <a:lnTo>
                        <a:pt x="900" y="475"/>
                      </a:lnTo>
                      <a:lnTo>
                        <a:pt x="929" y="479"/>
                      </a:lnTo>
                      <a:lnTo>
                        <a:pt x="958" y="482"/>
                      </a:lnTo>
                      <a:lnTo>
                        <a:pt x="1002" y="485"/>
                      </a:lnTo>
                      <a:lnTo>
                        <a:pt x="1057" y="486"/>
                      </a:lnTo>
                      <a:lnTo>
                        <a:pt x="1100" y="479"/>
                      </a:lnTo>
                      <a:lnTo>
                        <a:pt x="1139" y="470"/>
                      </a:lnTo>
                      <a:lnTo>
                        <a:pt x="1184" y="456"/>
                      </a:lnTo>
                      <a:lnTo>
                        <a:pt x="1225" y="438"/>
                      </a:lnTo>
                      <a:lnTo>
                        <a:pt x="1265" y="417"/>
                      </a:lnTo>
                      <a:lnTo>
                        <a:pt x="1301" y="393"/>
                      </a:lnTo>
                      <a:lnTo>
                        <a:pt x="1336" y="360"/>
                      </a:lnTo>
                      <a:lnTo>
                        <a:pt x="1752" y="612"/>
                      </a:lnTo>
                      <a:lnTo>
                        <a:pt x="1735" y="633"/>
                      </a:lnTo>
                      <a:lnTo>
                        <a:pt x="1711" y="658"/>
                      </a:lnTo>
                      <a:lnTo>
                        <a:pt x="1691" y="679"/>
                      </a:lnTo>
                      <a:lnTo>
                        <a:pt x="1671" y="699"/>
                      </a:lnTo>
                      <a:lnTo>
                        <a:pt x="1651" y="719"/>
                      </a:lnTo>
                      <a:lnTo>
                        <a:pt x="1626" y="740"/>
                      </a:lnTo>
                      <a:lnTo>
                        <a:pt x="1604" y="758"/>
                      </a:lnTo>
                      <a:lnTo>
                        <a:pt x="1582" y="775"/>
                      </a:lnTo>
                      <a:lnTo>
                        <a:pt x="1557" y="792"/>
                      </a:lnTo>
                      <a:lnTo>
                        <a:pt x="1533" y="810"/>
                      </a:lnTo>
                      <a:lnTo>
                        <a:pt x="1508" y="827"/>
                      </a:lnTo>
                      <a:lnTo>
                        <a:pt x="1485" y="840"/>
                      </a:lnTo>
                      <a:lnTo>
                        <a:pt x="1462" y="854"/>
                      </a:lnTo>
                      <a:lnTo>
                        <a:pt x="1440" y="866"/>
                      </a:lnTo>
                      <a:lnTo>
                        <a:pt x="1409" y="880"/>
                      </a:lnTo>
                      <a:lnTo>
                        <a:pt x="1381" y="893"/>
                      </a:lnTo>
                      <a:lnTo>
                        <a:pt x="1349" y="906"/>
                      </a:lnTo>
                      <a:lnTo>
                        <a:pt x="1325" y="915"/>
                      </a:lnTo>
                      <a:lnTo>
                        <a:pt x="1302" y="925"/>
                      </a:lnTo>
                      <a:lnTo>
                        <a:pt x="1275" y="933"/>
                      </a:lnTo>
                      <a:lnTo>
                        <a:pt x="1249" y="941"/>
                      </a:lnTo>
                      <a:lnTo>
                        <a:pt x="1223" y="947"/>
                      </a:lnTo>
                      <a:lnTo>
                        <a:pt x="1192" y="953"/>
                      </a:lnTo>
                      <a:lnTo>
                        <a:pt x="1162" y="958"/>
                      </a:lnTo>
                      <a:lnTo>
                        <a:pt x="1131" y="963"/>
                      </a:lnTo>
                      <a:lnTo>
                        <a:pt x="1099" y="966"/>
                      </a:lnTo>
                      <a:lnTo>
                        <a:pt x="1075" y="967"/>
                      </a:lnTo>
                      <a:lnTo>
                        <a:pt x="1042" y="969"/>
                      </a:lnTo>
                      <a:lnTo>
                        <a:pt x="1010" y="969"/>
                      </a:lnTo>
                      <a:lnTo>
                        <a:pt x="983" y="968"/>
                      </a:lnTo>
                      <a:lnTo>
                        <a:pt x="955" y="967"/>
                      </a:lnTo>
                      <a:lnTo>
                        <a:pt x="924" y="965"/>
                      </a:lnTo>
                      <a:lnTo>
                        <a:pt x="896" y="961"/>
                      </a:lnTo>
                      <a:lnTo>
                        <a:pt x="872" y="95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672960" y="2327400"/>
                  <a:ext cx="1361880" cy="2755800"/>
                </a:xfrm>
                <a:custGeom>
                  <a:avLst/>
                  <a:gdLst/>
                  <a:ahLst/>
                  <a:rect l="l" t="t" r="r" b="b"/>
                  <a:pathLst>
                    <a:path w="887" h="1736">
                      <a:moveTo>
                        <a:pt x="0" y="0"/>
                      </a:moveTo>
                      <a:lnTo>
                        <a:pt x="19" y="3"/>
                      </a:lnTo>
                      <a:lnTo>
                        <a:pt x="38" y="6"/>
                      </a:lnTo>
                      <a:lnTo>
                        <a:pt x="64" y="13"/>
                      </a:lnTo>
                      <a:lnTo>
                        <a:pt x="83" y="17"/>
                      </a:lnTo>
                      <a:lnTo>
                        <a:pt x="103" y="23"/>
                      </a:lnTo>
                      <a:lnTo>
                        <a:pt x="122" y="30"/>
                      </a:lnTo>
                      <a:lnTo>
                        <a:pt x="142" y="35"/>
                      </a:lnTo>
                      <a:lnTo>
                        <a:pt x="161" y="41"/>
                      </a:lnTo>
                      <a:lnTo>
                        <a:pt x="181" y="50"/>
                      </a:lnTo>
                      <a:lnTo>
                        <a:pt x="205" y="59"/>
                      </a:lnTo>
                      <a:lnTo>
                        <a:pt x="225" y="69"/>
                      </a:lnTo>
                      <a:lnTo>
                        <a:pt x="246" y="78"/>
                      </a:lnTo>
                      <a:lnTo>
                        <a:pt x="268" y="89"/>
                      </a:lnTo>
                      <a:lnTo>
                        <a:pt x="290" y="101"/>
                      </a:lnTo>
                      <a:lnTo>
                        <a:pt x="310" y="111"/>
                      </a:lnTo>
                      <a:lnTo>
                        <a:pt x="329" y="124"/>
                      </a:lnTo>
                      <a:lnTo>
                        <a:pt x="346" y="135"/>
                      </a:lnTo>
                      <a:lnTo>
                        <a:pt x="363" y="147"/>
                      </a:lnTo>
                      <a:lnTo>
                        <a:pt x="382" y="159"/>
                      </a:lnTo>
                      <a:lnTo>
                        <a:pt x="403" y="174"/>
                      </a:lnTo>
                      <a:lnTo>
                        <a:pt x="422" y="190"/>
                      </a:lnTo>
                      <a:lnTo>
                        <a:pt x="440" y="205"/>
                      </a:lnTo>
                      <a:lnTo>
                        <a:pt x="458" y="217"/>
                      </a:lnTo>
                      <a:lnTo>
                        <a:pt x="486" y="242"/>
                      </a:lnTo>
                      <a:lnTo>
                        <a:pt x="514" y="270"/>
                      </a:lnTo>
                      <a:lnTo>
                        <a:pt x="536" y="292"/>
                      </a:lnTo>
                      <a:lnTo>
                        <a:pt x="562" y="322"/>
                      </a:lnTo>
                      <a:lnTo>
                        <a:pt x="580" y="345"/>
                      </a:lnTo>
                      <a:lnTo>
                        <a:pt x="600" y="370"/>
                      </a:lnTo>
                      <a:lnTo>
                        <a:pt x="622" y="399"/>
                      </a:lnTo>
                      <a:lnTo>
                        <a:pt x="640" y="425"/>
                      </a:lnTo>
                      <a:lnTo>
                        <a:pt x="658" y="456"/>
                      </a:lnTo>
                      <a:lnTo>
                        <a:pt x="676" y="486"/>
                      </a:lnTo>
                      <a:lnTo>
                        <a:pt x="694" y="518"/>
                      </a:lnTo>
                      <a:lnTo>
                        <a:pt x="709" y="545"/>
                      </a:lnTo>
                      <a:lnTo>
                        <a:pt x="723" y="579"/>
                      </a:lnTo>
                      <a:lnTo>
                        <a:pt x="737" y="612"/>
                      </a:lnTo>
                      <a:lnTo>
                        <a:pt x="749" y="646"/>
                      </a:lnTo>
                      <a:lnTo>
                        <a:pt x="761" y="683"/>
                      </a:lnTo>
                      <a:lnTo>
                        <a:pt x="776" y="729"/>
                      </a:lnTo>
                      <a:lnTo>
                        <a:pt x="786" y="771"/>
                      </a:lnTo>
                      <a:lnTo>
                        <a:pt x="796" y="814"/>
                      </a:lnTo>
                      <a:lnTo>
                        <a:pt x="801" y="857"/>
                      </a:lnTo>
                      <a:lnTo>
                        <a:pt x="808" y="906"/>
                      </a:lnTo>
                      <a:lnTo>
                        <a:pt x="813" y="967"/>
                      </a:lnTo>
                      <a:lnTo>
                        <a:pt x="814" y="1016"/>
                      </a:lnTo>
                      <a:lnTo>
                        <a:pt x="813" y="1064"/>
                      </a:lnTo>
                      <a:lnTo>
                        <a:pt x="809" y="1109"/>
                      </a:lnTo>
                      <a:lnTo>
                        <a:pt x="804" y="1152"/>
                      </a:lnTo>
                      <a:lnTo>
                        <a:pt x="799" y="1196"/>
                      </a:lnTo>
                      <a:lnTo>
                        <a:pt x="790" y="1242"/>
                      </a:lnTo>
                      <a:lnTo>
                        <a:pt x="778" y="1291"/>
                      </a:lnTo>
                      <a:lnTo>
                        <a:pt x="763" y="1340"/>
                      </a:lnTo>
                      <a:lnTo>
                        <a:pt x="748" y="1387"/>
                      </a:lnTo>
                      <a:lnTo>
                        <a:pt x="731" y="1433"/>
                      </a:lnTo>
                      <a:lnTo>
                        <a:pt x="711" y="1477"/>
                      </a:lnTo>
                      <a:lnTo>
                        <a:pt x="687" y="1520"/>
                      </a:lnTo>
                      <a:lnTo>
                        <a:pt x="886" y="1640"/>
                      </a:lnTo>
                      <a:lnTo>
                        <a:pt x="278" y="1735"/>
                      </a:lnTo>
                      <a:lnTo>
                        <a:pt x="55" y="1143"/>
                      </a:lnTo>
                      <a:lnTo>
                        <a:pt x="288" y="1276"/>
                      </a:lnTo>
                      <a:lnTo>
                        <a:pt x="311" y="1238"/>
                      </a:lnTo>
                      <a:lnTo>
                        <a:pt x="325" y="1204"/>
                      </a:lnTo>
                      <a:lnTo>
                        <a:pt x="338" y="1169"/>
                      </a:lnTo>
                      <a:lnTo>
                        <a:pt x="347" y="1134"/>
                      </a:lnTo>
                      <a:lnTo>
                        <a:pt x="353" y="1100"/>
                      </a:lnTo>
                      <a:lnTo>
                        <a:pt x="355" y="1067"/>
                      </a:lnTo>
                      <a:lnTo>
                        <a:pt x="358" y="1034"/>
                      </a:lnTo>
                      <a:lnTo>
                        <a:pt x="358" y="1001"/>
                      </a:lnTo>
                      <a:lnTo>
                        <a:pt x="356" y="962"/>
                      </a:lnTo>
                      <a:lnTo>
                        <a:pt x="352" y="924"/>
                      </a:lnTo>
                      <a:lnTo>
                        <a:pt x="344" y="882"/>
                      </a:lnTo>
                      <a:lnTo>
                        <a:pt x="335" y="848"/>
                      </a:lnTo>
                      <a:lnTo>
                        <a:pt x="321" y="810"/>
                      </a:lnTo>
                      <a:lnTo>
                        <a:pt x="309" y="777"/>
                      </a:lnTo>
                      <a:lnTo>
                        <a:pt x="292" y="746"/>
                      </a:lnTo>
                      <a:lnTo>
                        <a:pt x="278" y="721"/>
                      </a:lnTo>
                      <a:lnTo>
                        <a:pt x="264" y="701"/>
                      </a:lnTo>
                      <a:lnTo>
                        <a:pt x="250" y="681"/>
                      </a:lnTo>
                      <a:lnTo>
                        <a:pt x="234" y="661"/>
                      </a:lnTo>
                      <a:lnTo>
                        <a:pt x="217" y="639"/>
                      </a:lnTo>
                      <a:lnTo>
                        <a:pt x="202" y="625"/>
                      </a:lnTo>
                      <a:lnTo>
                        <a:pt x="185" y="606"/>
                      </a:lnTo>
                      <a:lnTo>
                        <a:pt x="168" y="591"/>
                      </a:lnTo>
                      <a:lnTo>
                        <a:pt x="148" y="575"/>
                      </a:lnTo>
                      <a:lnTo>
                        <a:pt x="124" y="558"/>
                      </a:lnTo>
                      <a:lnTo>
                        <a:pt x="104" y="544"/>
                      </a:lnTo>
                      <a:lnTo>
                        <a:pt x="87" y="533"/>
                      </a:lnTo>
                      <a:lnTo>
                        <a:pt x="62" y="519"/>
                      </a:lnTo>
                      <a:lnTo>
                        <a:pt x="38" y="508"/>
                      </a:lnTo>
                      <a:lnTo>
                        <a:pt x="0" y="49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916160" y="1965240"/>
                  <a:ext cx="2025360" cy="2494080"/>
                </a:xfrm>
                <a:custGeom>
                  <a:avLst/>
                  <a:gdLst/>
                  <a:ahLst/>
                  <a:rect l="l" t="t" r="r" b="b"/>
                  <a:pathLst>
                    <a:path w="1319" h="1571">
                      <a:moveTo>
                        <a:pt x="816" y="230"/>
                      </a:moveTo>
                      <a:lnTo>
                        <a:pt x="798" y="233"/>
                      </a:lnTo>
                      <a:lnTo>
                        <a:pt x="774" y="237"/>
                      </a:lnTo>
                      <a:lnTo>
                        <a:pt x="750" y="244"/>
                      </a:lnTo>
                      <a:lnTo>
                        <a:pt x="733" y="248"/>
                      </a:lnTo>
                      <a:lnTo>
                        <a:pt x="713" y="253"/>
                      </a:lnTo>
                      <a:lnTo>
                        <a:pt x="694" y="260"/>
                      </a:lnTo>
                      <a:lnTo>
                        <a:pt x="674" y="266"/>
                      </a:lnTo>
                      <a:lnTo>
                        <a:pt x="656" y="271"/>
                      </a:lnTo>
                      <a:lnTo>
                        <a:pt x="635" y="280"/>
                      </a:lnTo>
                      <a:lnTo>
                        <a:pt x="611" y="290"/>
                      </a:lnTo>
                      <a:lnTo>
                        <a:pt x="590" y="299"/>
                      </a:lnTo>
                      <a:lnTo>
                        <a:pt x="570" y="308"/>
                      </a:lnTo>
                      <a:lnTo>
                        <a:pt x="547" y="319"/>
                      </a:lnTo>
                      <a:lnTo>
                        <a:pt x="525" y="331"/>
                      </a:lnTo>
                      <a:lnTo>
                        <a:pt x="505" y="341"/>
                      </a:lnTo>
                      <a:lnTo>
                        <a:pt x="485" y="354"/>
                      </a:lnTo>
                      <a:lnTo>
                        <a:pt x="468" y="365"/>
                      </a:lnTo>
                      <a:lnTo>
                        <a:pt x="451" y="377"/>
                      </a:lnTo>
                      <a:lnTo>
                        <a:pt x="432" y="389"/>
                      </a:lnTo>
                      <a:lnTo>
                        <a:pt x="411" y="404"/>
                      </a:lnTo>
                      <a:lnTo>
                        <a:pt x="392" y="419"/>
                      </a:lnTo>
                      <a:lnTo>
                        <a:pt x="374" y="434"/>
                      </a:lnTo>
                      <a:lnTo>
                        <a:pt x="357" y="447"/>
                      </a:lnTo>
                      <a:lnTo>
                        <a:pt x="330" y="472"/>
                      </a:lnTo>
                      <a:lnTo>
                        <a:pt x="302" y="499"/>
                      </a:lnTo>
                      <a:lnTo>
                        <a:pt x="280" y="521"/>
                      </a:lnTo>
                      <a:lnTo>
                        <a:pt x="254" y="551"/>
                      </a:lnTo>
                      <a:lnTo>
                        <a:pt x="236" y="574"/>
                      </a:lnTo>
                      <a:lnTo>
                        <a:pt x="216" y="599"/>
                      </a:lnTo>
                      <a:lnTo>
                        <a:pt x="194" y="628"/>
                      </a:lnTo>
                      <a:lnTo>
                        <a:pt x="176" y="655"/>
                      </a:lnTo>
                      <a:lnTo>
                        <a:pt x="157" y="686"/>
                      </a:lnTo>
                      <a:lnTo>
                        <a:pt x="138" y="716"/>
                      </a:lnTo>
                      <a:lnTo>
                        <a:pt x="122" y="747"/>
                      </a:lnTo>
                      <a:lnTo>
                        <a:pt x="106" y="775"/>
                      </a:lnTo>
                      <a:lnTo>
                        <a:pt x="91" y="809"/>
                      </a:lnTo>
                      <a:lnTo>
                        <a:pt x="77" y="842"/>
                      </a:lnTo>
                      <a:lnTo>
                        <a:pt x="65" y="876"/>
                      </a:lnTo>
                      <a:lnTo>
                        <a:pt x="53" y="913"/>
                      </a:lnTo>
                      <a:lnTo>
                        <a:pt x="38" y="958"/>
                      </a:lnTo>
                      <a:lnTo>
                        <a:pt x="28" y="1001"/>
                      </a:lnTo>
                      <a:lnTo>
                        <a:pt x="18" y="1044"/>
                      </a:lnTo>
                      <a:lnTo>
                        <a:pt x="13" y="1087"/>
                      </a:lnTo>
                      <a:lnTo>
                        <a:pt x="6" y="1135"/>
                      </a:lnTo>
                      <a:lnTo>
                        <a:pt x="1" y="1197"/>
                      </a:lnTo>
                      <a:lnTo>
                        <a:pt x="0" y="1245"/>
                      </a:lnTo>
                      <a:lnTo>
                        <a:pt x="1" y="1292"/>
                      </a:lnTo>
                      <a:lnTo>
                        <a:pt x="5" y="1338"/>
                      </a:lnTo>
                      <a:lnTo>
                        <a:pt x="10" y="1380"/>
                      </a:lnTo>
                      <a:lnTo>
                        <a:pt x="15" y="1425"/>
                      </a:lnTo>
                      <a:lnTo>
                        <a:pt x="24" y="1470"/>
                      </a:lnTo>
                      <a:lnTo>
                        <a:pt x="36" y="1519"/>
                      </a:lnTo>
                      <a:lnTo>
                        <a:pt x="51" y="1570"/>
                      </a:lnTo>
                      <a:lnTo>
                        <a:pt x="137" y="1286"/>
                      </a:lnTo>
                      <a:lnTo>
                        <a:pt x="466" y="1345"/>
                      </a:lnTo>
                      <a:lnTo>
                        <a:pt x="459" y="1295"/>
                      </a:lnTo>
                      <a:lnTo>
                        <a:pt x="456" y="1264"/>
                      </a:lnTo>
                      <a:lnTo>
                        <a:pt x="456" y="1230"/>
                      </a:lnTo>
                      <a:lnTo>
                        <a:pt x="458" y="1190"/>
                      </a:lnTo>
                      <a:lnTo>
                        <a:pt x="463" y="1153"/>
                      </a:lnTo>
                      <a:lnTo>
                        <a:pt x="470" y="1112"/>
                      </a:lnTo>
                      <a:lnTo>
                        <a:pt x="479" y="1078"/>
                      </a:lnTo>
                      <a:lnTo>
                        <a:pt x="493" y="1040"/>
                      </a:lnTo>
                      <a:lnTo>
                        <a:pt x="507" y="1007"/>
                      </a:lnTo>
                      <a:lnTo>
                        <a:pt x="523" y="975"/>
                      </a:lnTo>
                      <a:lnTo>
                        <a:pt x="537" y="951"/>
                      </a:lnTo>
                      <a:lnTo>
                        <a:pt x="551" y="931"/>
                      </a:lnTo>
                      <a:lnTo>
                        <a:pt x="565" y="911"/>
                      </a:lnTo>
                      <a:lnTo>
                        <a:pt x="581" y="890"/>
                      </a:lnTo>
                      <a:lnTo>
                        <a:pt x="599" y="869"/>
                      </a:lnTo>
                      <a:lnTo>
                        <a:pt x="614" y="854"/>
                      </a:lnTo>
                      <a:lnTo>
                        <a:pt x="631" y="836"/>
                      </a:lnTo>
                      <a:lnTo>
                        <a:pt x="648" y="821"/>
                      </a:lnTo>
                      <a:lnTo>
                        <a:pt x="668" y="805"/>
                      </a:lnTo>
                      <a:lnTo>
                        <a:pt x="692" y="789"/>
                      </a:lnTo>
                      <a:lnTo>
                        <a:pt x="712" y="774"/>
                      </a:lnTo>
                      <a:lnTo>
                        <a:pt x="729" y="764"/>
                      </a:lnTo>
                      <a:lnTo>
                        <a:pt x="754" y="748"/>
                      </a:lnTo>
                      <a:lnTo>
                        <a:pt x="776" y="740"/>
                      </a:lnTo>
                      <a:lnTo>
                        <a:pt x="795" y="733"/>
                      </a:lnTo>
                      <a:lnTo>
                        <a:pt x="815" y="725"/>
                      </a:lnTo>
                      <a:lnTo>
                        <a:pt x="846" y="718"/>
                      </a:lnTo>
                      <a:lnTo>
                        <a:pt x="874" y="712"/>
                      </a:lnTo>
                      <a:lnTo>
                        <a:pt x="903" y="709"/>
                      </a:lnTo>
                      <a:lnTo>
                        <a:pt x="932" y="707"/>
                      </a:lnTo>
                      <a:lnTo>
                        <a:pt x="948" y="706"/>
                      </a:lnTo>
                      <a:lnTo>
                        <a:pt x="948" y="962"/>
                      </a:lnTo>
                      <a:lnTo>
                        <a:pt x="1318" y="488"/>
                      </a:lnTo>
                      <a:lnTo>
                        <a:pt x="949" y="0"/>
                      </a:lnTo>
                      <a:lnTo>
                        <a:pt x="949" y="219"/>
                      </a:lnTo>
                      <a:lnTo>
                        <a:pt x="929" y="220"/>
                      </a:lnTo>
                      <a:lnTo>
                        <a:pt x="900" y="222"/>
                      </a:lnTo>
                      <a:lnTo>
                        <a:pt x="870" y="224"/>
                      </a:lnTo>
                      <a:lnTo>
                        <a:pt x="841" y="227"/>
                      </a:lnTo>
                      <a:lnTo>
                        <a:pt x="816" y="23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37" name=""/>
              <p:cNvGraphicFramePr/>
              <p:nvPr/>
            </p:nvGraphicFramePr>
            <p:xfrm>
              <a:off x="758160" y="2031840"/>
              <a:ext cx="3128040" cy="3380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8160" y="2031840"/>
                        <a:ext cx="3128040" cy="338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9" name=""/>
              <p:cNvSpPr/>
              <p:nvPr/>
            </p:nvSpPr>
            <p:spPr>
              <a:xfrm>
                <a:off x="3936960" y="3657600"/>
                <a:ext cx="9464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Creat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80920" y="3471840"/>
                <a:ext cx="11293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20"/>
                    </a:solidFill>
                    <a:latin typeface="Arial"/>
                  </a:rPr>
                  <a:t>Product/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20"/>
                    </a:solidFill>
                    <a:latin typeface="Arial"/>
                  </a:rPr>
                  <a:t>Process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97440" y="3538440"/>
                <a:ext cx="14418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20"/>
                    </a:solidFill>
                    <a:latin typeface="Arial"/>
                  </a:rPr>
                  <a:t>Knowledg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20"/>
                    </a:solidFill>
                    <a:latin typeface="Arial"/>
                  </a:rPr>
                  <a:t>Repository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97440" y="2014560"/>
                <a:ext cx="903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Codify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-720" y="3200400"/>
                <a:ext cx="987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Embed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58840" y="5371920"/>
                <a:ext cx="973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Diffus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31320" y="2386080"/>
                <a:ext cx="1001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Identify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96440" y="2557440"/>
                <a:ext cx="1074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Classify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450480" y="5443560"/>
                <a:ext cx="1004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Access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80480" y="5157720"/>
                <a:ext cx="14691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Use/Exploit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07800" y="1857240"/>
                <a:ext cx="960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Collect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72840" y="3457440"/>
                <a:ext cx="12862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Organize/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535520" y="4943520"/>
                <a:ext cx="15836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Share/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Disseminat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3959640" y="6553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kyrme 1998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Represen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ypes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actual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bjective Knowledge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euristic Knowledge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ep and Shallow Knowledge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Representation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ules, Frames, Semantic Networ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lackboard Represen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-based Represen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se-Based Reaso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Representation Too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oles of Knowledge Represen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cal Commit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gmentary Theory of Intelligent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Human Expres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as Surrog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substitute for the thing itself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nables an entity to determine consequences by thinking rather than act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soning about the world through operations on the re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asoning or thinking are inherently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internal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ces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of reasoning are mostly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external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entities (“things”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ome objects of reasoning are internal, e.g. concepts, feelings, ..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rrogate Asp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nt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rrespondence between the surrogate and the intended referent in the real worl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de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ompleten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orrectn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equac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rrogate Consequ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ect representation is impossib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only completely accurate representation of an object is the object itself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correct reasoning is inevitab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f there are some flaws in the world model, even a perfectly sound reasoning mechanism will come to incorrect conclus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ical Commit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s used to represent the worl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y selecting a representation a decision is made about how and what to see in the worl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ke a set of glasses that offer a sharp focus on part of the world, at the expense of blurring other par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ecessary because of the inevitable imperfections of represen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ful to concentrate on relevant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agmatic because of feasibility constrai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ical Commitments Exampl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iews the world in terms of individual entities and relationships between the ent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u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tities and their relationships expressed through ru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m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totypical obj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 n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tities and relationshi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and Reason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knowledge representation indicates an initial conception of intelligent infere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ften reasoning methods are associated with representation techniqu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irst order predicate logic and deduc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les and modus pone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association is often implici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underlying inference theory is fragment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representation covers only parts of the associ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t reasoning is a complex and multi-faceted phenomen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for Reason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representation suggests answers to fundamental questions concerning reasoning: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hat does it mean to reason intelligently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mplied reasoning metho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hat can possibly be inferred from what we know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ossible conclus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hat should be inferred from what we know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commended conclus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Process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Processing as Core AI Paradig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lationship to K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Acquisi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Elicit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l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mantic Network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rames, Scri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ipul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son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QM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and Compu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r our purposes, reasoning is a computational proc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chines are used as reasoning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ithout efficient ways of implementing such computational process, it is practically usel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Turing machin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st representation and reasoning mechanisms are modified for efficient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Prolog vs. predicate logic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mputational Mediu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ational environment for the reasoning proc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asonably effici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 of knowledge so that reasoning is facilitat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for Human Express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language that can be used by humans to make statements about the worl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ress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ressiveness, generality, precisenes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munica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mong huma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tween humans and machines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mong machin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Acquisi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Elici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cquisition of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blished Sources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hysical Media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gital Media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ople as 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rview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Questionnair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rmal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servation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Acquisition Tools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Elici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is already present in humans, but needs to be converted into a form suitable for computer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quires the collaboration of a domain expert with a knowledge engine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main expert has the domain knowledge, but not necessarily the skills to convert it into computer-usable for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ngineer assists with this convers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is can be a very lengthy, cumbersome and error-prone proc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chine Learn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traction of higher-level information from raw dat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ed on statistical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sults are not necessarily in a format that is easy for humans to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organization of the gained knowledge is often far from intuitive for huma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cision tre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ule extraction from neural networ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Fus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 of human-generated and machine-generated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ometimes also used to indicate the integration of knowledge from different sources, or in different forma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n be both conceptually and technically very difficul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fferent “spirit” of the knowledge representation us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fferent terminolog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fferent categoriz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fferent representation and processing mechanis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Representation Mechanis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u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 Network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mes, Scrip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c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ntax: well-formed formul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s: interpretation of the formul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xioms as basic assump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erence rules for deriving new formulae from existing on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Roles and Logic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ery expressive, not very suitable for many types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cal commit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s, relationships, terms, logic operato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gmentary theory of intelligent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duction, other logical calculi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yes, but not very effici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human expres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ly for exper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ul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ntax: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if … then …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s: interpretation of ru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itial rules and fa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eneration of new facts, application to existing ru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Roles and Rul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sonably expressive, suitable for some types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cal commit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s, rules, fa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gmentary theory of intelligent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dus ponens, matching, sometimes augmented by probabilistic mechanis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sonably effici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human expres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inly for exper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emantic Network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ntax: graphs, possibly with some restrictions and enhance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s: interpretation of the graph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itial state of the graph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pagation of activity, inferences based on link typ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Roles and Semantic Ne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mited to reasonably expressiveness, suitable for some types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cal commit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des (objects, concepts), links (relation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gmentary theory of intelligent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clusions based on properties of objects and their relationships with other obj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sonably efficient for some types of reaso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human expres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asy to visualiz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rames, Scrip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ntax: templates with slots and fill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s: interpretation of the slots/filler valu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itial values for slots in fram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lex matching of related fram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Roles and Fram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itable for well-structured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cal commit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mplates, situations, properties, metho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gmentary theory of intelligent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clusions are based on relationships between  fram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k for some problem typ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human expres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k, but sometimes too formulaic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ipul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QM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ason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eneration of new knowledge items from existing on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equently identified with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logical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rong formal found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ery restricted methods for generating conclus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ometimes expanded to capture various ways to draw conclusions based on methods employed by huma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quires a formal specification or implementation to be used with comput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QM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ands for Knowledge Query and Manipulation Langu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nguage and protocol for exchanging information and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ridge-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80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QML Perform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asic query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valuate, ask-if, ask-about, ask-one, ask-all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ulti-response query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ream-about, stream-all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sponse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ply, sorry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ic informational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ll, achieve, deny, untell, unachieve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ator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andby, ready, next, rest, discard, generator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pability-definition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dvertise, subscribe, monitor, import, export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etworking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gister, unregister, forward, broadcast, route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800600" y="2209680"/>
            <a:ext cx="4343400" cy="32767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2209680"/>
            <a:ext cx="4343400" cy="32767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QML Example 1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ask-if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sender A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receiver B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language Prolog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ontology foo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reply-with id1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content ``bar(a,b)'' )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2392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sorry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sender B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receiver A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in-reply-to id1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reply-with id2 )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21600" y="5608800"/>
            <a:ext cx="78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Times New Roman"/>
              </a:rPr>
              <a:t>agent A (:sender) is querying the agent B (:receiver), in Prolog (:language) 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Times New Roman"/>
              </a:rPr>
              <a:t>about the truth status of ``bar(a,b)'' (:content)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800600" y="2209680"/>
            <a:ext cx="4343400" cy="41911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2209680"/>
            <a:ext cx="4343400" cy="228600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QML Example 2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stream-about :language KIF :ontology motors `:reply-with q1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content motor1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2392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tell :language KIF :ontology motors :in-reply-to q1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 content (= (val (torque motor1) (sim-time 5) (scalar 12 kgf))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tell :language KIF :ontology structures :in-reply-to q1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 content (fastens frame12 motor1))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eos :in-repl-to q1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10552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Times New Roman"/>
              </a:rPr>
              <a:t>agent A asks agent B to tell all it knows about motor1.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Times New Roman"/>
              </a:rPr>
              <a:t>B replys with a sequence of tells terminated with a sorry.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cal commitm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ate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babilistic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ositional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sycholog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 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le-based system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mantic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xonom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uring machin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lief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gnitive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duc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uman problem solv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nguistic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nowledge Process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representation and manipulation of knowledge has been essential for the development of humanity as we know i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use of formal methods and support from machines can improve our knowledge representation and reasoning abilit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lligent reasoning is a very complex phenomenon, and may have to be described in a variety of way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basic understanding of knowledge representation and reasoning is important for the organization and management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e familiar with the important aspects of commonly used knowledge representation and reasoning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nderstand different roles and perspectives of knowledge representation and reasoning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ine the suitability of knowledge representations for specific task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valuate the representation methods and reasoning mechanisms employed in computer-based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0T20:29:32Z</cp:lastPrinted>
  <dcterms:modified xsi:type="dcterms:W3CDTF">2003-03-20T20:29:41Z</dcterms:modified>
  <cp:revision>46</cp:revision>
  <dc:subject/>
  <dc:title>CSC 480: Artificial Intelligence</dc:title>
</cp:coreProperties>
</file>