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.png" ContentType="image/png"/>
  <Override PartName="/ppt/media/image14.pct" ContentType="image/x-pict"/>
  <Override PartName="/ppt/media/image2.png" ContentType="image/png"/>
  <Override PartName="/ppt/media/image15.pct" ContentType="image/x-pict"/>
  <Override PartName="/ppt/media/image4.png" ContentType="image/png"/>
  <Override PartName="/ppt/media/image16.pct" ContentType="image/x-pict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642100" cy="9777413"/>
  <p:custShowLst>
    <p:custShow name="Lecture 1" id="0">
      <p:sldLst>
        <p:sld r:id="rId3"/>
        <p:sld r:id="rId4"/>
        <p:sld r:id="rId5"/>
        <p:sld r:id="rId6"/>
        <p:sld r:id="rId7"/>
        <p:sld r:id="rId9"/>
        <p:sld r:id="rId10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6"/>
        <p:sld r:id="rId58"/>
        <p:sld r:id="rId59"/>
        <p:sld r:id="rId60"/>
      </p:sldLst>
    </p:custShow>
    <p:custShow name="Lecture 2: Indices &amp; Ontologies" id="1">
      <p:sldLst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</p:sldLst>
    </p:custShow>
    <p:custShow name="Spring 2003" id="2">
      <p:sldLst>
        <p:sld r:id="rId5"/>
        <p:sld r:id="rId9"/>
        <p:sld r:id="rId10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5"/>
        <p:sld r:id="rId6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0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Organization  </a:t>
            </a:r>
            <a:fld id="{1DAB96D4-1210-4394-8D7A-D123B7EF1E50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6.xml"/><Relationship Id="rId3" Type="http://schemas.openxmlformats.org/officeDocument/2006/relationships/slide" Target="slide6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dentification of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bject Selec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ing and Descrip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 Sele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constitutes a “knowledge object” that is relevant for a particular task or top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hysical object, document, concep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ow can this object be made available in the syste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: libra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s it worth while to add an object to the library’s colle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f so, how can it be integrat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hysical document: book, magazine, report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igital document: file, data base, Web page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aming and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s serve two important ro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c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deally, a unique descriptor that allows the unambiguous selection of the obje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ften an ambiguous descriptor that requires context information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specially in digital systems, names are used as “address” for an obje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s, descriptions and relationships to related objects are specified in listing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ctionary, glossary, thesaurus, ontology, index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aming and Description Devi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ction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loss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sauru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4160" indent="-2541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angement of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15480" indent="-203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lphabetical, hierarchic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15480" indent="-203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lanation, unique identifier, clarification of relationships to other terms, access to further inform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4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ctiona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st of words together with a short explanation of their meanings, or their translations into another langu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elpful for the identification of knowledge objects, and their distinction from related on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ach entry in a dictionary may be considered an atomic knowledge object, with the word as name and “entry point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provide cross-references to related knowledge obj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raightforward implementation in digital systems, and easy to integrate into knowledge management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lossa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st of words, expressions, or technical terms with an explanation of their meaning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ually restricted to a particular book, document, activity, or topic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vides a clarification of the intended meaning for knowledge obj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therwise similar to dictiona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ection of synonyms (word sets with identical or similar meanings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requently includes words that are related in some other way, e.g. antonyms (opposite meanings), homonyms (same pronunciation/spelling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ntifies and clarifies relationships between wor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t so much an explanation of their meaning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y be used to expand search queries in order to find relevant documents that may not contain a particular wor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saurus Typ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-bas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nguist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atistica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-based 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nually constructed for a specific domai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nded for human indexers and search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tain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ynonyms (“use for” UF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ore general (“broader term” BT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ore specific (“narrower” NT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therwise associated words (“related term” RT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ample: “data base management systems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F data ba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T file organization, management information sys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T relational database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T data base theory, decision support sys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inguistic 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tains explicit concept hierarchies of several increasingly specified leve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ords in a group are assumed to be (near-) synonymou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election of the right sense for terms can be difficul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s: Roget’s, WordN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_x0008__x0008_often used for query expan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ynonyms (similar term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yponyms (more specific terms; subclas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ypernyms (more general terms; super-clas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12040" y="1440000"/>
            <a:ext cx="89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Abstract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Relation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53320" y="1438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68640" y="14320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Physic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8720" y="14320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Matter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3560" y="144144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Sensa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73520" y="14382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Intellect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06640" y="144000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Vili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65600" y="14302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Affection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24200" y="209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The World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30720" y="479520"/>
            <a:ext cx="0" cy="95256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15600" y="479520"/>
            <a:ext cx="2714760" cy="95544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723760" y="479520"/>
            <a:ext cx="1506600" cy="96660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30720" y="480960"/>
            <a:ext cx="2679840" cy="95580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230360" y="469800"/>
            <a:ext cx="1552680" cy="96840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644640" y="488880"/>
            <a:ext cx="585720" cy="9511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30720" y="488880"/>
            <a:ext cx="601560" cy="9511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6560" y="488880"/>
            <a:ext cx="3571920" cy="9511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09600" y="1696680"/>
            <a:ext cx="5114160" cy="1488600"/>
            <a:chOff x="3009600" y="1696680"/>
            <a:chExt cx="5114160" cy="1488600"/>
          </a:xfrm>
        </p:grpSpPr>
        <p:sp>
          <p:nvSpPr>
            <p:cNvPr id="102" name=""/>
            <p:cNvSpPr/>
            <p:nvPr/>
          </p:nvSpPr>
          <p:spPr>
            <a:xfrm>
              <a:off x="3009600" y="2665080"/>
              <a:ext cx="99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Sens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in General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66200" y="265896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Touch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81520" y="265896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Tast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25720" y="2668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Smell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5000" y="2665080"/>
              <a:ext cx="57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Sight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16640" y="266688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Hear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65560" y="1706400"/>
              <a:ext cx="0" cy="95220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559320" y="1706400"/>
              <a:ext cx="1506240" cy="96624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65560" y="1707840"/>
              <a:ext cx="2679840" cy="95544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5065200" y="1696680"/>
              <a:ext cx="1552680" cy="96804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479480" y="1715760"/>
              <a:ext cx="585720" cy="95076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65560" y="1715760"/>
              <a:ext cx="601920" cy="95076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874400" y="38829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Odor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040" y="38829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Fragranc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8520" y="38926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Stench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63560" y="38894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Odorl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11920" y="2930400"/>
            <a:ext cx="0" cy="95256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900760" y="2921040"/>
            <a:ext cx="1563840" cy="96840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26200" y="2941560"/>
            <a:ext cx="574560" cy="9493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11920" y="2916360"/>
            <a:ext cx="601560" cy="9745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56120" y="4157640"/>
            <a:ext cx="0" cy="8920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56120" y="4157640"/>
            <a:ext cx="1447920" cy="8920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43520" y="4157640"/>
            <a:ext cx="1046160" cy="8938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43520" y="4168800"/>
            <a:ext cx="647640" cy="87804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4179960"/>
            <a:ext cx="292320" cy="86976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406760" y="4154400"/>
            <a:ext cx="1447920" cy="89244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21120" y="4156200"/>
            <a:ext cx="1046160" cy="8935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230800" y="4167360"/>
            <a:ext cx="636480" cy="8902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62720" y="4178160"/>
            <a:ext cx="280800" cy="8701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4764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1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16120" y="50450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9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16160" y="50529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8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6160" y="50529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2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38200" y="50529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3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832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4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9376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5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12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7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97240" y="50468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6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032080" y="5361120"/>
            <a:ext cx="506520" cy="9046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26000" y="5349960"/>
            <a:ext cx="2833920" cy="8827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26000" y="5361120"/>
            <a:ext cx="1648080" cy="88884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9760" y="5383080"/>
            <a:ext cx="633600" cy="8701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631600" y="5359320"/>
            <a:ext cx="2917800" cy="8668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916080" y="5370480"/>
            <a:ext cx="1609560" cy="8683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33920" y="6194520"/>
            <a:ext cx="68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Incense; joss stick;pastille; frankincense or olibanum; agallock or aloeswood; calambac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16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848000" y="609588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Query Expansion in Search Engin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ook up each word in Word N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f the word is found, the set of synonyms from all Synsets are added to the query re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igh each added word as 0.8 rather than 1.0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sults better than plain SMAR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variable performance over que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jor cause of error: the use of ambiguous words’ Synse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al thesauri such as Roget’s or WordNet have not been shown conclusively to improve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y sacrifice precision to recal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t domain specif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t sense disambiguat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2680" y="658332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, Voorhees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tistical 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utomatic thesaurus constr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es of terms produced are not necessarily synonymous, nor broader, nor narrow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her, words that tend to co-occur with head ter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ffectiveness varies considerably depending on technique us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8400" y="118116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utomatic Thesaurus Construction (Salton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cument collection bas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ased on index term similarit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 vector similarities for each pair of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f sufficiently similar, create a thesaurus entry for each term which includes terms from similar documen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8400" y="119376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ample Automatic Thesaurus Entr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502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408 dislocation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411  coerc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junction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demagnetiz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minority-carrier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flux-leak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point contact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hysteresi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recombine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induc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transition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insensit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409 blast-cooled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magnetoresist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heat-flow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square-loop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heat-transfer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threshol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410 anneal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412  longitudin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strain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transver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ynamic Automatic Thesaurus Constru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saurus short-cu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n at query tim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ke all terms in query into consideration at once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ok at frequent words and phrases in top retrieved documents and add these to the que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=  automatic relevance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xpansion by Association 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238880" cy="32767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20"/>
                </a:solidFill>
                <a:uFillTx/>
                <a:latin typeface="Arial"/>
              </a:rPr>
              <a:t>Query</a:t>
            </a: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:  </a:t>
            </a:r>
            <a:r>
              <a:rPr b="1" i="1" lang="en-US" sz="2400" spc="-1" strike="noStrike">
                <a:solidFill>
                  <a:srgbClr val="000020"/>
                </a:solidFill>
                <a:latin typeface="Arial"/>
              </a:rPr>
              <a:t>Impact of the 1986 Immigration Law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hrases retrieved by association in corpu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c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illegal immigration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statut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amnesty program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applicabilit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immigration reform law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seeking amnest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editorial page article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legal statu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naturalization service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immigration a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civil fines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undocumented work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new immigration law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guest work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legal immigration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sweeping immigration law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employer sanctions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undocumented alie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c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sting of words that appear in a (set of) documents, together with pointers to the locations where they appea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vides a reference to further information concerning a particular word or concep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stitutes the basis for computer-based search engin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ex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process of creating an index from a set of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e of the core issues in Information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nual index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trolled vocabularies, humans go through the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i-automat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umans are in control, machines are used for some tas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utomat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atistical index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atural-language based index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Organ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view of relevant conce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verview new topic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ca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bject Selec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ming and Descrip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tegor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eature-based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ierarchical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 Framewor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ublin Cor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source Description Framewor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se Stud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rthern Ligh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PA T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Getty Vocabula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LP-based Index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computational process of identifying, selecting, and extracting useful information from massive volumes of textual dat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r potential review by index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and-alone representation of cont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ing Natural Langua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atural Language Process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range of computational techniques for analyzing and representing naturally occurring tex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t one or more levels of linguistic analysi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r the purpose of achieving human-like langua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r a range of tasks or applic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960" y="182160"/>
            <a:ext cx="883908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evels of Language Understand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83640" y="1371600"/>
            <a:ext cx="7774560" cy="5105160"/>
            <a:chOff x="683640" y="1371600"/>
            <a:chExt cx="7774560" cy="5105160"/>
          </a:xfrm>
        </p:grpSpPr>
        <p:sp>
          <p:nvSpPr>
            <p:cNvPr id="183" name=""/>
            <p:cNvSpPr/>
            <p:nvPr/>
          </p:nvSpPr>
          <p:spPr>
            <a:xfrm>
              <a:off x="685800" y="1371600"/>
              <a:ext cx="7772400" cy="5105160"/>
            </a:xfrm>
            <a:prstGeom prst="rect">
              <a:avLst/>
            </a:prstGeom>
            <a:solidFill>
              <a:srgbClr val="3333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3640" y="6019560"/>
              <a:ext cx="2249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orphological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1828800"/>
              <a:ext cx="6705360" cy="413388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52480" y="2286000"/>
              <a:ext cx="5639040" cy="3160440"/>
            </a:xfrm>
            <a:prstGeom prst="rect">
              <a:avLst/>
            </a:prstGeom>
            <a:solidFill>
              <a:srgbClr val="66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0" y="2743200"/>
              <a:ext cx="4572000" cy="224316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3200400"/>
              <a:ext cx="3504960" cy="12952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6720" y="3657600"/>
              <a:ext cx="2590560" cy="380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3480" y="548640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xical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31760" y="3657600"/>
              <a:ext cx="1537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agmatic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4760" y="4038480"/>
              <a:ext cx="1452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scourse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7200" y="4495680"/>
              <a:ext cx="1385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mantic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4952880"/>
              <a:ext cx="1523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ntactic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can NLP Indexing do?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hrase recogni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ambigu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cept expan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ines the relationships between words, and the corresponding concepts and obj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practice, it often combines aspects of thesaurus and diction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requently uses a graph-based visual representation to indicated relationships between 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d to identify and specify a vocabulary for a particular subject or tas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Notion of Ontolog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y </a:t>
            </a:r>
            <a:br>
              <a:rPr sz="2800"/>
            </a:b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explicit specification of a shared conceptualization that holds in a particular context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tures a viewpoint on a domain: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axonomies of spec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hysical, functional, &amp; behavioral system descrip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ask perspective: instruction, plan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1295280"/>
            <a:ext cx="8686800" cy="51055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y Should Allow for “Representational Promiscuity”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600200"/>
            <a:ext cx="2369880" cy="1131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4560" y="1679400"/>
            <a:ext cx="965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"/>
              </a:rPr>
              <a:t>ontology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4680" y="2158920"/>
            <a:ext cx="108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parameter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960" y="2371680"/>
            <a:ext cx="226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onstraint -expression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0520" y="3728880"/>
            <a:ext cx="2328840" cy="1836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17560" y="2732040"/>
            <a:ext cx="1800" cy="996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7960" y="3597120"/>
            <a:ext cx="81000" cy="131760"/>
          </a:xfrm>
          <a:custGeom>
            <a:avLst/>
            <a:gdLst/>
            <a:ahLst/>
            <a:rect l="l" t="t" r="r" b="b"/>
            <a:pathLst>
              <a:path w="51" h="83">
                <a:moveTo>
                  <a:pt x="0" y="0"/>
                </a:moveTo>
                <a:lnTo>
                  <a:pt x="25" y="8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10880" y="3916440"/>
            <a:ext cx="1959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"/>
              </a:rPr>
              <a:t>knowledge base A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1160" y="4419720"/>
            <a:ext cx="270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ab.weight + safety.weight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840" y="4648320"/>
            <a:ext cx="153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= car.weight: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8240" y="5105520"/>
            <a:ext cx="183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ab.weight &lt; 500: 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67120" y="3689280"/>
            <a:ext cx="3767400" cy="2276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3400" y="2158920"/>
            <a:ext cx="959040" cy="2489400"/>
          </a:xfrm>
          <a:custGeom>
            <a:avLst/>
            <a:gdLst/>
            <a:ahLst/>
            <a:rect l="l" t="t" r="r" b="b"/>
            <a:pathLst>
              <a:path w="604" h="1568">
                <a:moveTo>
                  <a:pt x="0" y="0"/>
                </a:moveTo>
                <a:lnTo>
                  <a:pt x="604" y="0"/>
                </a:lnTo>
                <a:lnTo>
                  <a:pt x="604" y="15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21040" y="4514760"/>
            <a:ext cx="81000" cy="133560"/>
          </a:xfrm>
          <a:custGeom>
            <a:avLst/>
            <a:gdLst/>
            <a:ahLst/>
            <a:rect l="l" t="t" r="r" b="b"/>
            <a:pathLst>
              <a:path w="51" h="84">
                <a:moveTo>
                  <a:pt x="0" y="0"/>
                </a:moveTo>
                <a:lnTo>
                  <a:pt x="26" y="84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89360" y="4648320"/>
            <a:ext cx="18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33920" y="4608360"/>
            <a:ext cx="133200" cy="79560"/>
          </a:xfrm>
          <a:custGeom>
            <a:avLst/>
            <a:gdLst/>
            <a:ahLst/>
            <a:rect l="l" t="t" r="r" b="b"/>
            <a:pathLst>
              <a:path w="84" h="50">
                <a:moveTo>
                  <a:pt x="0" y="50"/>
                </a:moveTo>
                <a:lnTo>
                  <a:pt x="84" y="25"/>
                </a:lnTo>
                <a:lnTo>
                  <a:pt x="0" y="0"/>
                </a:lnTo>
                <a:lnTo>
                  <a:pt x="0" y="5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33240" y="3795840"/>
            <a:ext cx="1954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"/>
              </a:rPr>
              <a:t>knowledge base B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7200" y="4156200"/>
            <a:ext cx="232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parameter(cab.weight)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0720" y="4368960"/>
            <a:ext cx="2573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parameter(safety.weight)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7920" y="4581360"/>
            <a:ext cx="2279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parameter(car.weight)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80240" y="4794120"/>
            <a:ext cx="2275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onstraint-expression(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25520" y="5006880"/>
            <a:ext cx="3384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           </a:t>
            </a: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ab.weight + safety.weight 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71240" y="5219640"/>
            <a:ext cx="19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           </a:t>
            </a: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= car.weight)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80240" y="5433840"/>
            <a:ext cx="2275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onstraint-expression(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64760" y="5646600"/>
            <a:ext cx="234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          </a:t>
            </a: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ab.weight &lt; 500)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01640" y="4635360"/>
            <a:ext cx="1145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"/>
              </a:rPr>
              <a:t>rewritten as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400" y="3090960"/>
            <a:ext cx="92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"/>
              </a:rPr>
              <a:t>viewpoint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88600" y="2824200"/>
            <a:ext cx="139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"/>
              </a:rPr>
              <a:t>mapping rules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y Typ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main-orient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main-specific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medicine  =&gt; cardiology =&gt; rhythm disorders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Arial"/>
                <a:hlinkClick r:id="rId1" action="ppaction://hlinksldjump"/>
              </a:rPr>
              <a:t>traffic light control system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main generalization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components, organs, 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Arial"/>
                <a:hlinkClick r:id="rId2" action="ppaction://hlinksldjump"/>
              </a:rPr>
              <a:t>documents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ask-orient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sk-specif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configuration design, 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Arial"/>
                <a:hlinkClick r:id="rId3" action="ppaction://hlinksldjump"/>
              </a:rPr>
              <a:t>instruction</a:t>
            </a: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, planning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sk generalization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problems solving, e.g. upml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ic ontologi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Arial"/>
                <a:hlinkClick r:id="rId4" action="ppaction://hlinksldjump"/>
              </a:rPr>
              <a:t>“top-level categories”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units and dimensions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Using Ontolog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es needed for an application are typically a mix of several ontology typ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chnical manua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vice terminology: traffic light syste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cument structure and syntax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structional catego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1" action="ppaction://hlinksldjump"/>
              </a:rPr>
              <a:t>e-commer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aises need f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dular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mport/expor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main Standards and Vocabularies As Ontolog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ample: 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1" action="ppaction://hlinksldjump"/>
              </a:rPr>
              <a:t>Art and Architecture Thesaurus (AAT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tains ontological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AT: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" action="ppaction://hlinksldjump"/>
              </a:rPr>
              <a:t>structure of the hierarch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 needs to be “extracted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t explici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n be made available as an ontolog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ith help of some mapping formalis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sts of domain terms are sometimes also called “ontologies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mplies a weaker notion of ont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cope typically much broader than a specific application domai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ample: domain  glossaries, wordne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ain some meta information: hyponyms, synonyms, tex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1280" indent="-194040">
              <a:spcBef>
                <a:spcPts val="499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ecture not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1280" indent="-194040">
              <a:spcBef>
                <a:spcPts val="499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ding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scription deliverab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-group accou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oles in tea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scription assignment 1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y Specific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ny different languag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IF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tolingu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res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OO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M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mon basi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lass (concept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bclass with inherit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ation (slot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rt &amp; Architecture 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47" name="grasp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6248160" cy="4469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80160" y="2362320"/>
            <a:ext cx="14338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sed for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exing 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olen art 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bjects in 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uropea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olice 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atabase</a:t>
            </a:r>
            <a:r>
              <a:rPr b="0" lang="nl-NL" sz="2000" spc="-1" strike="noStrike">
                <a:solidFill>
                  <a:srgbClr val="fcfeb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cfeb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880" y="1219320"/>
            <a:ext cx="8458200" cy="525780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AT Ontolog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7440" y="1523880"/>
            <a:ext cx="104940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05240" y="1617840"/>
            <a:ext cx="93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description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66080" y="1785960"/>
            <a:ext cx="71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universe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7440" y="2562120"/>
            <a:ext cx="10494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05240" y="2657520"/>
            <a:ext cx="93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description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21800" y="2824200"/>
            <a:ext cx="86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dimension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7440" y="3684600"/>
            <a:ext cx="10494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41240" y="3863880"/>
            <a:ext cx="84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1049400" cy="523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77680" y="3454560"/>
            <a:ext cx="743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value set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7440" y="5614920"/>
            <a:ext cx="1049400" cy="523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579276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value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36840" y="4713120"/>
            <a:ext cx="104940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90640" y="4807080"/>
            <a:ext cx="84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14840" y="49752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value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89840" y="1523880"/>
            <a:ext cx="104904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73960" y="1701720"/>
            <a:ext cx="51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object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40280" y="2992320"/>
            <a:ext cx="10476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6720" y="3170160"/>
            <a:ext cx="91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object type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89840" y="2992320"/>
            <a:ext cx="104904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84240" y="3170160"/>
            <a:ext cx="95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object class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53040" y="5762520"/>
            <a:ext cx="1049400" cy="5241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46880" y="5856120"/>
            <a:ext cx="39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class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02880" y="6024600"/>
            <a:ext cx="854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constraint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3040" y="2048040"/>
            <a:ext cx="1440" cy="51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9680" y="2048040"/>
            <a:ext cx="125280" cy="252360"/>
          </a:xfrm>
          <a:custGeom>
            <a:avLst/>
            <a:gdLst/>
            <a:ahLst/>
            <a:rect l="l" t="t" r="r" b="b"/>
            <a:pathLst>
              <a:path w="79" h="159">
                <a:moveTo>
                  <a:pt x="40" y="0"/>
                </a:moveTo>
                <a:lnTo>
                  <a:pt x="79" y="80"/>
                </a:lnTo>
                <a:lnTo>
                  <a:pt x="40" y="159"/>
                </a:lnTo>
                <a:lnTo>
                  <a:pt x="0" y="80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813040" y="3087720"/>
            <a:ext cx="1440" cy="59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81360" y="3087720"/>
            <a:ext cx="61920" cy="104760"/>
          </a:xfrm>
          <a:custGeom>
            <a:avLst/>
            <a:gdLst/>
            <a:ahLst/>
            <a:rect l="l" t="t" r="r" b="b"/>
            <a:pathLst>
              <a:path w="39" h="66">
                <a:moveTo>
                  <a:pt x="39" y="66"/>
                </a:moveTo>
                <a:lnTo>
                  <a:pt x="20" y="0"/>
                </a:lnTo>
                <a:lnTo>
                  <a:pt x="0" y="66"/>
                </a:lnTo>
                <a:lnTo>
                  <a:pt x="39" y="6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58880" y="3736800"/>
            <a:ext cx="628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3040" y="4210200"/>
            <a:ext cx="1440" cy="140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812680" y="4975200"/>
            <a:ext cx="523800" cy="1440"/>
          </a:xfrm>
          <a:prstGeom prst="line">
            <a:avLst/>
          </a:prstGeom>
          <a:ln w="11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36840" y="3463920"/>
            <a:ext cx="703440" cy="272880"/>
          </a:xfrm>
          <a:custGeom>
            <a:avLst/>
            <a:gdLst/>
            <a:ahLst/>
            <a:rect l="l" t="t" r="r" b="b"/>
            <a:pathLst>
              <a:path w="443" h="172">
                <a:moveTo>
                  <a:pt x="0" y="172"/>
                </a:moveTo>
                <a:lnTo>
                  <a:pt x="218" y="172"/>
                </a:lnTo>
                <a:lnTo>
                  <a:pt x="218" y="0"/>
                </a:lnTo>
                <a:lnTo>
                  <a:pt x="4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36840" y="3705120"/>
            <a:ext cx="104760" cy="63720"/>
          </a:xfrm>
          <a:custGeom>
            <a:avLst/>
            <a:gdLst/>
            <a:ahLst/>
            <a:rect l="l" t="t" r="r" b="b"/>
            <a:pathLst>
              <a:path w="66" h="40">
                <a:moveTo>
                  <a:pt x="66" y="0"/>
                </a:moveTo>
                <a:lnTo>
                  <a:pt x="0" y="20"/>
                </a:lnTo>
                <a:lnTo>
                  <a:pt x="66" y="40"/>
                </a:lnTo>
                <a:lnTo>
                  <a:pt x="6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87880" y="325440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87880" y="3222720"/>
            <a:ext cx="106560" cy="63360"/>
          </a:xfrm>
          <a:custGeom>
            <a:avLst/>
            <a:gdLst/>
            <a:ahLst/>
            <a:rect l="l" t="t" r="r" b="b"/>
            <a:pathLst>
              <a:path w="67" h="40">
                <a:moveTo>
                  <a:pt x="67" y="0"/>
                </a:moveTo>
                <a:lnTo>
                  <a:pt x="0" y="20"/>
                </a:lnTo>
                <a:lnTo>
                  <a:pt x="67" y="40"/>
                </a:lnTo>
                <a:lnTo>
                  <a:pt x="67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64080" y="1785960"/>
            <a:ext cx="1625760" cy="1206360"/>
          </a:xfrm>
          <a:custGeom>
            <a:avLst/>
            <a:gdLst/>
            <a:ahLst/>
            <a:rect l="l" t="t" r="r" b="b"/>
            <a:pathLst>
              <a:path w="1024" h="760">
                <a:moveTo>
                  <a:pt x="0" y="760"/>
                </a:moveTo>
                <a:lnTo>
                  <a:pt x="0" y="0"/>
                </a:lnTo>
                <a:lnTo>
                  <a:pt x="102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32400" y="2887560"/>
            <a:ext cx="63360" cy="104760"/>
          </a:xfrm>
          <a:custGeom>
            <a:avLst/>
            <a:gdLst/>
            <a:ahLst/>
            <a:rect l="l" t="t" r="r" b="b"/>
            <a:pathLst>
              <a:path w="40" h="66">
                <a:moveTo>
                  <a:pt x="0" y="0"/>
                </a:moveTo>
                <a:lnTo>
                  <a:pt x="20" y="66"/>
                </a:lnTo>
                <a:lnTo>
                  <a:pt x="4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10080" y="506880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has feature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78640" y="3517920"/>
            <a:ext cx="1440" cy="155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46960" y="4964040"/>
            <a:ext cx="63360" cy="104760"/>
          </a:xfrm>
          <a:custGeom>
            <a:avLst/>
            <a:gdLst/>
            <a:ahLst/>
            <a:rect l="l" t="t" r="r" b="b"/>
            <a:pathLst>
              <a:path w="40" h="66">
                <a:moveTo>
                  <a:pt x="0" y="0"/>
                </a:moveTo>
                <a:lnTo>
                  <a:pt x="20" y="66"/>
                </a:lnTo>
                <a:lnTo>
                  <a:pt x="4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385880" y="5153040"/>
            <a:ext cx="184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86240" y="5122800"/>
            <a:ext cx="104760" cy="61920"/>
          </a:xfrm>
          <a:custGeom>
            <a:avLst/>
            <a:gdLst/>
            <a:ahLst/>
            <a:rect l="l" t="t" r="r" b="b"/>
            <a:pathLst>
              <a:path w="66" h="39">
                <a:moveTo>
                  <a:pt x="66" y="0"/>
                </a:moveTo>
                <a:lnTo>
                  <a:pt x="0" y="19"/>
                </a:lnTo>
                <a:lnTo>
                  <a:pt x="66" y="39"/>
                </a:lnTo>
                <a:lnTo>
                  <a:pt x="66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578640" y="5236920"/>
            <a:ext cx="1440" cy="525240"/>
          </a:xfrm>
          <a:prstGeom prst="line">
            <a:avLst/>
          </a:prstGeom>
          <a:ln w="11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240" y="3886200"/>
            <a:ext cx="79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4114800"/>
            <a:ext cx="102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value set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99480" y="3276720"/>
            <a:ext cx="100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in dimension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73960" y="1881360"/>
            <a:ext cx="84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instance of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53280" y="2992320"/>
            <a:ext cx="57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class of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080" y="3780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has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22680" y="3946680"/>
            <a:ext cx="79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7040" y="3349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64480" y="18813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5400" y="34750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5400" y="23940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94440" y="3768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7720" y="48816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 Fragment Ontologies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struction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14400" y="1523880"/>
          <a:ext cx="3735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3735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648320" y="1828800"/>
          <a:ext cx="3781440" cy="382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828800"/>
                    <a:ext cx="37814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main Ontology of a Traffic Light Control Syste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2621160" cy="348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3809880" y="1600200"/>
          <a:ext cx="4581720" cy="46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600200"/>
                    <a:ext cx="45817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wo Ontologies of Document Frag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267080" y="2362320"/>
          <a:ext cx="4343400" cy="34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362320"/>
                    <a:ext cx="43434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57200" y="2362320"/>
          <a:ext cx="3581280" cy="19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362320"/>
                    <a:ext cx="3581280" cy="19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15200" cy="48528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y for E-commer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p-level Categories: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ny Different Proposa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30" name="plaatje" descr=""/>
          <p:cNvPicPr/>
          <p:nvPr/>
        </p:nvPicPr>
        <p:blipFill>
          <a:blip r:embed="rId1"/>
          <a:stretch/>
        </p:blipFill>
        <p:spPr>
          <a:xfrm>
            <a:off x="304920" y="1631880"/>
            <a:ext cx="8381880" cy="39308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83280" y="571500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Times New Roman"/>
              </a:rPr>
              <a:t>Chandrasekaran et al. (1999)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A Few Observations about Ontolog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569160" indent="-2372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mple ontologies can be built by non-exper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sider Verity’s Topic Editor, Collaborative Topic Builder, GFP interface, Chimaera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69160" indent="-2372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tologies can be semi-automatically generat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rom crawls of site such as yahoo!, amazon, excite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mi-structured sites can provide starting poi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69160" indent="-2372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tologies are exploding   (business pull instead of technology push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ost e-commerce sites are using them - MySimon, Affinia, Amazon, Yahoo! Shopping,, 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rolled vocabularies (for the web) abound -  SIC codes,  UMLS, UN/SPSC, Open Directory, Rosetta Net, …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usiness ontologies are including rol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TDs are making more ontology information available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usinesses have ontology directo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l” ontologies are becoming more central to applic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8080" y="658332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McGuiness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Seek Example 1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940040" y="1447920"/>
            <a:ext cx="5414760" cy="4647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808080" y="6583320"/>
            <a:ext cx="156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Guarino et al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ridge-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ow do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organize your knowledge?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rai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per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Seek Screen Sho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58880" y="950760"/>
            <a:ext cx="7775640" cy="5642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808080" y="6583320"/>
            <a:ext cx="156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Guarino et al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Seek Disambig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14400" y="907920"/>
            <a:ext cx="7464600" cy="5727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808080" y="6583320"/>
            <a:ext cx="156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Guarino et al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Broker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46" name="fig6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96960" y="990720"/>
            <a:ext cx="6099120" cy="55623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808080" y="658332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tuder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Pa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350" name="fig4" descr=""/>
          <p:cNvPicPr/>
          <p:nvPr/>
        </p:nvPicPr>
        <p:blipFill>
          <a:blip r:embed="rId1"/>
          <a:stretch/>
        </p:blipFill>
        <p:spPr>
          <a:xfrm>
            <a:off x="76320" y="961920"/>
            <a:ext cx="9067680" cy="56707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808080" y="658332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tuder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Query Interf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354" name="Graphic1" descr=""/>
          <p:cNvPicPr/>
          <p:nvPr/>
        </p:nvPicPr>
        <p:blipFill>
          <a:blip r:embed="rId1"/>
          <a:stretch/>
        </p:blipFill>
        <p:spPr>
          <a:xfrm>
            <a:off x="250920" y="1066680"/>
            <a:ext cx="8893080" cy="5394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808080" y="658332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tuder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Hyperbolic View Interf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57" name="fig3" descr=""/>
          <p:cNvPicPr/>
          <p:nvPr/>
        </p:nvPicPr>
        <p:blipFill>
          <a:blip r:embed="rId1"/>
          <a:stretch/>
        </p:blipFill>
        <p:spPr>
          <a:xfrm>
            <a:off x="914400" y="987480"/>
            <a:ext cx="7467480" cy="5568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808080" y="658332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tuder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ategor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-based Categor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ierarchical Categor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Hierarchical Categor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set of objects is divided into smaller and smaller subset, forming a hierarchical structure (tree) with the elementary objects as leaf nod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ypically one feature is used to distinguish one category from anoth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ften constitutes a relatively stable “backbone” of a knowledge organization schem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-organization requires a major effort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eature-based Categor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bjects or documents are assigned to categories according to commonalties in specific 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n be used to dynamically group objects into categories that are of interest for a particular task or 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-organization is easy with computer suppor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Organization Framework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ublin Cor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source Description Framewor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pic Map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ase Stud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orthern Ligh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PA T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etty Vocabula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DF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 Web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process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ural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ate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ositional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 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uring tes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lief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gnitive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idden Markov mode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nguistic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sp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icroworl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nowledge Organ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ffective utilization of knowledge depends critically on its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quick acc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cation of relevant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ssessment of available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87480" indent="-21924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ource, reliability, applicabilit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organization is a difficult task, and requires complementary skil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ertise in the domai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 skil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87480" indent="-21924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braria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e able to identify the main aspects dealing with the organiza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nderstand knowledge organization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y the capabilities of computers to support knowledge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actice knowledge organization on small bodies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valuate frameworks and systems for knowledge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dcterms:modified xsi:type="dcterms:W3CDTF">2003-04-17T21:56:53Z</dcterms:modified>
  <cp:revision>37</cp:revision>
  <dc:subject/>
  <dc:title>CSC 480: Artificial Intelligence</dc:title>
</cp:coreProperties>
</file>