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642100" cy="9777413"/>
  <p:custShowLst>
    <p:custShow name="Lecture 1: Information Retr." id="0">
      <p:sldLst>
        <p:sld r:id="rId6"/>
        <p:sld r:id="rId7"/>
        <p:sld r:id="rId8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</p:sldLst>
    </p:custShow>
    <p:custShow name="Lecture 2: Knowledge Retr." id="1">
      <p:sldLst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</p:sldLst>
    </p:custShow>
    <p:custShow name="Spring 2003" id="2">
      <p:sldLst>
        <p:sld r:id="rId6"/>
        <p:sld r:id="rId10"/>
        <p:sld r:id="rId11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4"/>
        <p:sld r:id="rId6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0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Retrieval  </a:t>
            </a:r>
            <a:fld id="{1FE0DBE4-982C-4F3F-88C0-307629241AD1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citeseer.nj.nec.com/" TargetMode="External"/><Relationship Id="rId2" Type="http://schemas.openxmlformats.org/officeDocument/2006/relationships/hyperlink" Target="http://citeseer.nj.nec.com/" TargetMode="External"/><Relationship Id="rId3" Type="http://schemas.openxmlformats.org/officeDocument/2006/relationships/hyperlink" Target="http://citeseer.nj.nec.com/" TargetMode="External"/><Relationship Id="rId4" Type="http://schemas.openxmlformats.org/officeDocument/2006/relationships/hyperlink" Target="http://citeseer.nj.nec.com/" TargetMode="External"/><Relationship Id="rId5" Type="http://schemas.openxmlformats.org/officeDocument/2006/relationships/hyperlink" Target="http://citeseer.nj.nec.com/" TargetMode="External"/><Relationship Id="rId6" Type="http://schemas.openxmlformats.org/officeDocument/2006/relationships/hyperlink" Target="http://citeseer.nj.nec.com/" TargetMode="External"/><Relationship Id="rId7" Type="http://schemas.openxmlformats.org/officeDocument/2006/relationships/hyperlink" Target="http://citeseer.nj.nec.com/" TargetMode="External"/><Relationship Id="rId8" Type="http://schemas.openxmlformats.org/officeDocument/2006/relationships/hyperlink" Target="http://citeseer.nj.nec.com/" TargetMode="External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inding Out Abou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eyword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Que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dex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eywor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nguistic atoms used to characterize the subject or content of a docu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ieces of words (stem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vide the basis for a match betwee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user’s characterization of information ne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contents of the docu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oice of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mulated in a query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atural langu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action with human information provid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tificial langu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action with comput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especially search engine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limited set of keywords may be used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ncontroll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any keywords may be used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ften Boolean operators (AND, OR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ometimes regular express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neral interpre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ny document that can be represented digital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xt, image, music, video, program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actical interpre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ssage of text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rings of characters in an alphabe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ritten natural langua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ength may va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onger documents may be composed of shorter on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outness of Docu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scribes the suitability of a document as answer to a qu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l documents have equal about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probability of any document in a corpus to be considered relevant is equal for all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implistic; not valid in reali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 paragraph is the smallest unit of text with appreciable about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ructural Aspects of Docu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s may be composed of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ragraphs, subsections, sections, chapters, par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otnotes, referen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s may contain meta-dat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rmation about the docu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t part of the content of the document itsel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be used for organization and retrieval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n be abused by creato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ually to increase the perceived relevanc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 Prox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s for the real docu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ridged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atalog, abstra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oint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ibliographical citation, UR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med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fich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gital represent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ex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vocabulary of keywords is assigned to all documents of a corpu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n index maps each document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doc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to the set of keywords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{kw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j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it is about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Index : doc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 baseline="30000">
                <a:solidFill>
                  <a:srgbClr val="fcfeb9"/>
                </a:solidFill>
                <a:latin typeface="Arial"/>
              </a:rPr>
              <a:t>about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{kw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j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}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Index</a:t>
            </a:r>
            <a:r>
              <a:rPr b="0" i="1" lang="en-US" sz="2800" spc="-1" strike="noStrike" baseline="30000">
                <a:solidFill>
                  <a:srgbClr val="fcfeb9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: {kw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j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} </a:t>
            </a:r>
            <a:r>
              <a:rPr b="0" i="1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 baseline="30000">
                <a:solidFill>
                  <a:srgbClr val="fcfeb9"/>
                </a:solidFill>
                <a:latin typeface="Arial"/>
              </a:rPr>
              <a:t>describes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doc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dexing of a document / corpu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ual: humans select appropriate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utomatic: a computer program selects the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uilding the index relation between documents and sets of keywords is critical for information retrieva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OA Conversation Loop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1317600"/>
            <a:ext cx="7004160" cy="4702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ata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cess to specific data i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cess via address, field, nam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ypically used in data b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asks for items with specific 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sence or presence of featur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stem returns data i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irrelevant i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terministic retrieval metho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formation Retrieval (IR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cess to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so referred to as document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cess via keywor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R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tching against indi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trieval assess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agram Search Engin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638360"/>
            <a:ext cx="8680320" cy="358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traction of lexical features from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ly 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require some manipulation of the extracted 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stemming of 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d as the basis for automatic compilation of indi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tching Against Indi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fication of documents that are relevant for a particular qu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eywords of the query are compared against the keywords that appear in the docu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ither in the data or meta-data of the docu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 addition to queries, other features of documents may be us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scriptive features provided by the author or catalog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87480" indent="-21924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ually meta-data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rived features computed from the contents of the docu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trieved and Relevant Docu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095880" cy="3738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call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|retrieved </a:t>
            </a:r>
            <a:r>
              <a:rPr b="0" i="1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relevant| / |relevant|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ecision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|retrieved </a:t>
            </a:r>
            <a:r>
              <a:rPr b="0" i="1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relevant| / |retrieved|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pecificity vs. Exhaustivit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427040"/>
            <a:ext cx="8528040" cy="400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ector Sp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rpretation of the index matrix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es documents and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grow extremely lar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inary matrix of 100,000 words * 1,000,000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arsely populated: most entries will be 0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be used to determine similarity of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verlap in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ximity in the (virtual) vector sp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ssociative memories can be used as hardware implem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tremely fast, but expensive to buil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ector Space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542960"/>
            <a:ext cx="8528040" cy="3775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28040" cy="350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trieval Assess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bjective assess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ow well do the retrieved documents satisfy the request of the us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bjective assess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alized omniscient expert determines the quality of the respon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inding Out Abou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eywords and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ex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ata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via Address, Field, Nam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ars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tching Against Indic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trieval Assessmen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a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Discov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ata Mi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 Extrac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trieval Assessment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054080"/>
            <a:ext cx="7765920" cy="5423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evance Feedbac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bjective assessment of retrieval resul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ften used to iteratively improve retrieval resul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be collected by the retrieval system for statistical evalu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be viewed as a variant of object recogni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object to be recognized is the prototypical document the user is looking fo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87480" indent="-21924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is document may or may not exis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difference between the retrieved document(s) and the idealized prototype indicates the quality of the retrieval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evance Feedback in Vector Sp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evance feedback is used to move the query towards the cluster of positive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ving away from bad documents does not necessarily improve the resul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can also be used as a filter for a constant stream of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 in news channels or similar situ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257640" cy="4927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y Session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935000"/>
            <a:ext cx="8680320" cy="2990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sensual Relevan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evance feedback from multiple us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es documents that many users found useful or interest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d by some Web sit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ed to collaborative filter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n also be used as an evaluation method for search engin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erformance criteria must be carefully consider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recision and recall, plus many other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7645320" y="558720"/>
            <a:ext cx="1600200" cy="5105160"/>
            <a:chOff x="7645320" y="558720"/>
            <a:chExt cx="1600200" cy="5105160"/>
          </a:xfrm>
        </p:grpSpPr>
        <p:sp>
          <p:nvSpPr>
            <p:cNvPr id="138" name=""/>
            <p:cNvSpPr/>
            <p:nvPr/>
          </p:nvSpPr>
          <p:spPr>
            <a:xfrm>
              <a:off x="764532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9760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024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0252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480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91520" y="723960"/>
            <a:ext cx="1600200" cy="5105160"/>
            <a:chOff x="7391520" y="723960"/>
            <a:chExt cx="1600200" cy="5105160"/>
          </a:xfrm>
        </p:grpSpPr>
        <p:sp>
          <p:nvSpPr>
            <p:cNvPr id="144" name=""/>
            <p:cNvSpPr/>
            <p:nvPr/>
          </p:nvSpPr>
          <p:spPr>
            <a:xfrm>
              <a:off x="739152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9644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72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137360" y="888840"/>
            <a:ext cx="1600200" cy="5105160"/>
            <a:chOff x="7137360" y="888840"/>
            <a:chExt cx="1600200" cy="5105160"/>
          </a:xfrm>
        </p:grpSpPr>
        <p:sp>
          <p:nvSpPr>
            <p:cNvPr id="150" name=""/>
            <p:cNvSpPr/>
            <p:nvPr/>
          </p:nvSpPr>
          <p:spPr>
            <a:xfrm>
              <a:off x="713736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8964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228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9456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4684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83560" y="1054080"/>
            <a:ext cx="1600200" cy="5105160"/>
            <a:chOff x="6883560" y="1054080"/>
            <a:chExt cx="1600200" cy="5105160"/>
          </a:xfrm>
        </p:grpSpPr>
        <p:sp>
          <p:nvSpPr>
            <p:cNvPr id="156" name=""/>
            <p:cNvSpPr/>
            <p:nvPr/>
          </p:nvSpPr>
          <p:spPr>
            <a:xfrm>
              <a:off x="688356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3584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8848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4076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9304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629400" y="1219320"/>
            <a:ext cx="1600200" cy="5105160"/>
            <a:chOff x="6629400" y="1219320"/>
            <a:chExt cx="1600200" cy="5105160"/>
          </a:xfrm>
        </p:grpSpPr>
        <p:sp>
          <p:nvSpPr>
            <p:cNvPr id="167" name=""/>
            <p:cNvSpPr/>
            <p:nvPr/>
          </p:nvSpPr>
          <p:spPr>
            <a:xfrm>
              <a:off x="6629400" y="1219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81680" y="2133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4320" y="30481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39625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8880" y="4876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cxnSp>
        <p:nvCxnSpPr>
          <p:cNvPr id="172" name=""/>
          <p:cNvCxnSpPr>
            <a:stCxn id="162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63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64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65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176" name=""/>
          <p:cNvCxnSpPr>
            <a:endCxn id="169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71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78" name=""/>
          <p:cNvCxnSpPr>
            <a:endCxn id="167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79" name=""/>
          <p:cNvCxnSpPr>
            <a:endCxn id="170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80" name=""/>
          <p:cNvCxnSpPr>
            <a:endCxn id="168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181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187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7543800" y="558720"/>
            <a:ext cx="1600200" cy="5105160"/>
            <a:chOff x="7543800" y="558720"/>
            <a:chExt cx="1600200" cy="5105160"/>
          </a:xfrm>
        </p:grpSpPr>
        <p:sp>
          <p:nvSpPr>
            <p:cNvPr id="285" name=""/>
            <p:cNvSpPr/>
            <p:nvPr/>
          </p:nvSpPr>
          <p:spPr>
            <a:xfrm>
              <a:off x="754380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9608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4872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0100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328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289640" y="723960"/>
            <a:ext cx="1600200" cy="5105160"/>
            <a:chOff x="7289640" y="723960"/>
            <a:chExt cx="1600200" cy="5105160"/>
          </a:xfrm>
        </p:grpSpPr>
        <p:sp>
          <p:nvSpPr>
            <p:cNvPr id="291" name=""/>
            <p:cNvSpPr/>
            <p:nvPr/>
          </p:nvSpPr>
          <p:spPr>
            <a:xfrm>
              <a:off x="728964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4192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9456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4684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9912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035840" y="888840"/>
            <a:ext cx="1600200" cy="5105160"/>
            <a:chOff x="7035840" y="888840"/>
            <a:chExt cx="1600200" cy="5105160"/>
          </a:xfrm>
        </p:grpSpPr>
        <p:sp>
          <p:nvSpPr>
            <p:cNvPr id="297" name=""/>
            <p:cNvSpPr/>
            <p:nvPr/>
          </p:nvSpPr>
          <p:spPr>
            <a:xfrm>
              <a:off x="703584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8812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4076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304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4532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781680" y="1054080"/>
            <a:ext cx="1600200" cy="5105160"/>
            <a:chOff x="6781680" y="1054080"/>
            <a:chExt cx="1600200" cy="5105160"/>
          </a:xfrm>
        </p:grpSpPr>
        <p:sp>
          <p:nvSpPr>
            <p:cNvPr id="303" name=""/>
            <p:cNvSpPr/>
            <p:nvPr/>
          </p:nvSpPr>
          <p:spPr>
            <a:xfrm>
              <a:off x="678168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396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8660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3888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9116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12193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5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81680" y="21337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4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3048120"/>
            <a:ext cx="990360" cy="144756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3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86600" y="3962520"/>
            <a:ext cx="990720" cy="144756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2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48769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1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9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3816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0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320" name=""/>
          <p:cNvCxnSpPr>
            <a:stCxn id="311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321" name=""/>
          <p:cNvCxnSpPr>
            <a:stCxn id="312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322" name=""/>
          <p:cNvCxnSpPr>
            <a:endCxn id="315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323" name=""/>
          <p:cNvCxnSpPr>
            <a:endCxn id="317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endCxn id="313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endCxn id="316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326" name=""/>
          <p:cNvCxnSpPr>
            <a:endCxn id="314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333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362320" y="403848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384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290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434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006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7543800" y="558720"/>
            <a:ext cx="1600200" cy="5105160"/>
            <a:chOff x="7543800" y="558720"/>
            <a:chExt cx="1600200" cy="5105160"/>
          </a:xfrm>
        </p:grpSpPr>
        <p:sp>
          <p:nvSpPr>
            <p:cNvPr id="438" name=""/>
            <p:cNvSpPr/>
            <p:nvPr/>
          </p:nvSpPr>
          <p:spPr>
            <a:xfrm>
              <a:off x="754380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9608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4872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5328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289640" y="723960"/>
            <a:ext cx="1600200" cy="5105160"/>
            <a:chOff x="7289640" y="723960"/>
            <a:chExt cx="1600200" cy="5105160"/>
          </a:xfrm>
        </p:grpSpPr>
        <p:sp>
          <p:nvSpPr>
            <p:cNvPr id="444" name=""/>
            <p:cNvSpPr/>
            <p:nvPr/>
          </p:nvSpPr>
          <p:spPr>
            <a:xfrm>
              <a:off x="728964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4192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9456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4684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9912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035840" y="888840"/>
            <a:ext cx="1600200" cy="5105160"/>
            <a:chOff x="7035840" y="888840"/>
            <a:chExt cx="1600200" cy="5105160"/>
          </a:xfrm>
        </p:grpSpPr>
        <p:sp>
          <p:nvSpPr>
            <p:cNvPr id="450" name=""/>
            <p:cNvSpPr/>
            <p:nvPr/>
          </p:nvSpPr>
          <p:spPr>
            <a:xfrm>
              <a:off x="703584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8812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4076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9304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4532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81680" y="1054080"/>
            <a:ext cx="1600200" cy="5105160"/>
            <a:chOff x="6781680" y="1054080"/>
            <a:chExt cx="1600200" cy="5105160"/>
          </a:xfrm>
        </p:grpSpPr>
        <p:sp>
          <p:nvSpPr>
            <p:cNvPr id="456" name=""/>
            <p:cNvSpPr/>
            <p:nvPr/>
          </p:nvSpPr>
          <p:spPr>
            <a:xfrm>
              <a:off x="678168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3396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8660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888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9116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29400" y="12193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5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1337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4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34320" y="3048120"/>
            <a:ext cx="99036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3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39625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2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48769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1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62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472" name=""/>
          <p:cNvCxnSpPr>
            <a:stCxn id="463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3816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4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474" name=""/>
          <p:cNvCxnSpPr>
            <a:stCxn id="465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475" name=""/>
          <p:cNvCxnSpPr>
            <a:endCxn id="468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endCxn id="470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477" name=""/>
          <p:cNvCxnSpPr>
            <a:endCxn id="466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endCxn id="469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endCxn id="467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480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486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362320" y="403848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62320" y="342900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668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0040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24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0384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90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434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0006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62240" y="339084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43480" y="33908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86480" y="33908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7543800" y="558720"/>
            <a:ext cx="1600200" cy="5105160"/>
            <a:chOff x="7543800" y="558720"/>
            <a:chExt cx="1600200" cy="5105160"/>
          </a:xfrm>
        </p:grpSpPr>
        <p:sp>
          <p:nvSpPr>
            <p:cNvPr id="597" name=""/>
            <p:cNvSpPr/>
            <p:nvPr/>
          </p:nvSpPr>
          <p:spPr>
            <a:xfrm>
              <a:off x="754380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9608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4872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0100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5328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289640" y="723960"/>
            <a:ext cx="1600200" cy="5105160"/>
            <a:chOff x="7289640" y="723960"/>
            <a:chExt cx="1600200" cy="5105160"/>
          </a:xfrm>
        </p:grpSpPr>
        <p:sp>
          <p:nvSpPr>
            <p:cNvPr id="603" name=""/>
            <p:cNvSpPr/>
            <p:nvPr/>
          </p:nvSpPr>
          <p:spPr>
            <a:xfrm>
              <a:off x="728964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4192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9456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4684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9912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7035840" y="888840"/>
            <a:ext cx="1600200" cy="5105160"/>
            <a:chOff x="7035840" y="888840"/>
            <a:chExt cx="1600200" cy="5105160"/>
          </a:xfrm>
        </p:grpSpPr>
        <p:sp>
          <p:nvSpPr>
            <p:cNvPr id="609" name=""/>
            <p:cNvSpPr/>
            <p:nvPr/>
          </p:nvSpPr>
          <p:spPr>
            <a:xfrm>
              <a:off x="703584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8812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4076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9304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4532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781680" y="1054080"/>
            <a:ext cx="1600200" cy="5105160"/>
            <a:chOff x="6781680" y="1054080"/>
            <a:chExt cx="1600200" cy="5105160"/>
          </a:xfrm>
        </p:grpSpPr>
        <p:sp>
          <p:nvSpPr>
            <p:cNvPr id="615" name=""/>
            <p:cNvSpPr/>
            <p:nvPr/>
          </p:nvSpPr>
          <p:spPr>
            <a:xfrm>
              <a:off x="678168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3396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8660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9116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12193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5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81680" y="21337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4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34320" y="3048120"/>
            <a:ext cx="99036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3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86600" y="39625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2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238880" y="48769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1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21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631" name=""/>
          <p:cNvCxnSpPr>
            <a:stCxn id="622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632" name=""/>
          <p:cNvCxnSpPr>
            <a:stCxn id="623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3816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4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634" name=""/>
          <p:cNvCxnSpPr>
            <a:endCxn id="627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635" name=""/>
          <p:cNvCxnSpPr>
            <a:endCxn id="629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endCxn id="625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637" name=""/>
          <p:cNvCxnSpPr>
            <a:endCxn id="628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638" name=""/>
          <p:cNvCxnSpPr>
            <a:endCxn id="626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645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2362320" y="342900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2320" y="251460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62320" y="403848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668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24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384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629080" y="24764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00680" y="24764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6290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434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006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62240" y="339084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43480" y="33908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86480" y="33908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7543800" y="558720"/>
            <a:ext cx="1600200" cy="5105160"/>
            <a:chOff x="7543800" y="558720"/>
            <a:chExt cx="1600200" cy="5105160"/>
          </a:xfrm>
        </p:grpSpPr>
        <p:sp>
          <p:nvSpPr>
            <p:cNvPr id="759" name=""/>
            <p:cNvSpPr/>
            <p:nvPr/>
          </p:nvSpPr>
          <p:spPr>
            <a:xfrm>
              <a:off x="754380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9608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4872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0100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15328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7289640" y="723960"/>
            <a:ext cx="1600200" cy="5105160"/>
            <a:chOff x="7289640" y="723960"/>
            <a:chExt cx="1600200" cy="5105160"/>
          </a:xfrm>
        </p:grpSpPr>
        <p:sp>
          <p:nvSpPr>
            <p:cNvPr id="765" name=""/>
            <p:cNvSpPr/>
            <p:nvPr/>
          </p:nvSpPr>
          <p:spPr>
            <a:xfrm>
              <a:off x="728964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44192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9456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4684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89912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035840" y="888840"/>
            <a:ext cx="1600200" cy="5105160"/>
            <a:chOff x="7035840" y="888840"/>
            <a:chExt cx="1600200" cy="5105160"/>
          </a:xfrm>
        </p:grpSpPr>
        <p:sp>
          <p:nvSpPr>
            <p:cNvPr id="771" name=""/>
            <p:cNvSpPr/>
            <p:nvPr/>
          </p:nvSpPr>
          <p:spPr>
            <a:xfrm>
              <a:off x="703584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8812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4076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9304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4532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781680" y="1054080"/>
            <a:ext cx="1600200" cy="5105160"/>
            <a:chOff x="6781680" y="1054080"/>
            <a:chExt cx="1600200" cy="5105160"/>
          </a:xfrm>
        </p:grpSpPr>
        <p:sp>
          <p:nvSpPr>
            <p:cNvPr id="777" name=""/>
            <p:cNvSpPr/>
            <p:nvPr/>
          </p:nvSpPr>
          <p:spPr>
            <a:xfrm>
              <a:off x="678168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3396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8660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3888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9116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629400" y="12193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5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81680" y="21337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4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934320" y="3048120"/>
            <a:ext cx="99036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3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086600" y="39625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2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38880" y="48769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1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792" name=""/>
          <p:cNvCxnSpPr>
            <a:stCxn id="783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793" name=""/>
          <p:cNvCxnSpPr>
            <a:stCxn id="784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794" name=""/>
          <p:cNvCxnSpPr>
            <a:stCxn id="785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795" name=""/>
          <p:cNvCxnSpPr>
            <a:stCxn id="786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3816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endCxn id="789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endCxn id="791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8" name=""/>
          <p:cNvCxnSpPr>
            <a:endCxn id="787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799" name=""/>
          <p:cNvCxnSpPr>
            <a:endCxn id="790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00" name=""/>
          <p:cNvCxnSpPr>
            <a:endCxn id="788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801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807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905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2362320" y="1905120"/>
              <a:ext cx="3124080" cy="3276360"/>
              <a:chOff x="2362320" y="1905120"/>
              <a:chExt cx="3124080" cy="3276360"/>
            </a:xfrm>
          </p:grpSpPr>
          <p:sp>
            <p:nvSpPr>
              <p:cNvPr id="907" name=""/>
              <p:cNvSpPr/>
              <p:nvPr/>
            </p:nvSpPr>
            <p:spPr>
              <a:xfrm>
                <a:off x="2362320" y="2514600"/>
                <a:ext cx="31240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362320" y="4038480"/>
                <a:ext cx="31240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362320" y="4419720"/>
                <a:ext cx="31240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66688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8128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0040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72428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3848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629080" y="247644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000680" y="247644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629080" y="399420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43480" y="399420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00680" y="399420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162240" y="4375080"/>
                <a:ext cx="7632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000680" y="437508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86480" y="437508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162240" y="3390840"/>
                <a:ext cx="7632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543480" y="339084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686480" y="339084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PI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adline HW 1: May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idterm: Thursday, May 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"/>
          <p:cNvGrpSpPr/>
          <p:nvPr/>
        </p:nvGrpSpPr>
        <p:grpSpPr>
          <a:xfrm>
            <a:off x="7543800" y="-12600"/>
            <a:ext cx="1600200" cy="5105160"/>
            <a:chOff x="7543800" y="-12600"/>
            <a:chExt cx="1600200" cy="5105160"/>
          </a:xfrm>
        </p:grpSpPr>
        <p:sp>
          <p:nvSpPr>
            <p:cNvPr id="927" name=""/>
            <p:cNvSpPr/>
            <p:nvPr/>
          </p:nvSpPr>
          <p:spPr>
            <a:xfrm>
              <a:off x="7543800" y="-1260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96080" y="90180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48720" y="181620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01000" y="273060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53280" y="364500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7289640" y="152280"/>
            <a:ext cx="1600200" cy="5105160"/>
            <a:chOff x="7289640" y="152280"/>
            <a:chExt cx="1600200" cy="5105160"/>
          </a:xfrm>
        </p:grpSpPr>
        <p:sp>
          <p:nvSpPr>
            <p:cNvPr id="933" name=""/>
            <p:cNvSpPr/>
            <p:nvPr/>
          </p:nvSpPr>
          <p:spPr>
            <a:xfrm>
              <a:off x="7289640" y="152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41920" y="1066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94560" y="19810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746840" y="2895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99120" y="38098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7035840" y="317520"/>
            <a:ext cx="1600200" cy="5105160"/>
            <a:chOff x="7035840" y="317520"/>
            <a:chExt cx="1600200" cy="5105160"/>
          </a:xfrm>
        </p:grpSpPr>
        <p:sp>
          <p:nvSpPr>
            <p:cNvPr id="939" name=""/>
            <p:cNvSpPr/>
            <p:nvPr/>
          </p:nvSpPr>
          <p:spPr>
            <a:xfrm>
              <a:off x="7035840" y="3175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88120" y="123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40760" y="21463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93040" y="3060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45320" y="3975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6781680" y="482760"/>
            <a:ext cx="1600200" cy="5105160"/>
            <a:chOff x="6781680" y="482760"/>
            <a:chExt cx="1600200" cy="5105160"/>
          </a:xfrm>
        </p:grpSpPr>
        <p:sp>
          <p:nvSpPr>
            <p:cNvPr id="945" name=""/>
            <p:cNvSpPr/>
            <p:nvPr/>
          </p:nvSpPr>
          <p:spPr>
            <a:xfrm>
              <a:off x="6781680" y="4827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33960" y="139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086600" y="23115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38880" y="3225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91160" y="4140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02680" y="0"/>
            <a:ext cx="480060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015920" y="36068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15920" y="2870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2870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36068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51" idx="3"/>
            <a:endCxn id="956" idx="0"/>
          </p:cNvCxnSpPr>
          <p:nvPr/>
        </p:nvCxnSpPr>
        <p:spPr>
          <a:xfrm flipV="1">
            <a:off x="1701360" y="2914200"/>
            <a:ext cx="1143720" cy="807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957" name=""/>
          <p:cNvCxnSpPr>
            <a:stCxn id="952" idx="3"/>
            <a:endCxn id="958" idx="0"/>
          </p:cNvCxnSpPr>
          <p:nvPr/>
        </p:nvCxnSpPr>
        <p:spPr>
          <a:xfrm flipV="1">
            <a:off x="1701360" y="2304360"/>
            <a:ext cx="1143720" cy="68004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959" name=""/>
          <p:cNvCxnSpPr>
            <a:stCxn id="953" idx="3"/>
            <a:endCxn id="960" idx="0"/>
          </p:cNvCxnSpPr>
          <p:nvPr/>
        </p:nvCxnSpPr>
        <p:spPr>
          <a:xfrm flipV="1">
            <a:off x="685440" y="1389960"/>
            <a:ext cx="2159640" cy="159444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961" name=""/>
          <p:cNvCxnSpPr>
            <a:stCxn id="954" idx="3"/>
            <a:endCxn id="962" idx="0"/>
          </p:cNvCxnSpPr>
          <p:nvPr/>
        </p:nvCxnSpPr>
        <p:spPr>
          <a:xfrm flipV="1">
            <a:off x="685440" y="3295080"/>
            <a:ext cx="2159640" cy="4258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963" name=""/>
          <p:cNvCxnSpPr>
            <a:stCxn id="964" idx="0"/>
            <a:endCxn id="965" idx="1"/>
          </p:cNvCxnSpPr>
          <p:nvPr/>
        </p:nvCxnSpPr>
        <p:spPr>
          <a:xfrm flipH="1" flipV="1" rot="5400000">
            <a:off x="6037200" y="2302920"/>
            <a:ext cx="981720" cy="2642400"/>
          </a:xfrm>
          <a:prstGeom prst="curvedConnector5">
            <a:avLst>
              <a:gd name="adj1" fmla="val -20359"/>
              <a:gd name="adj2" fmla="val 24989"/>
              <a:gd name="adj3" fmla="val -20359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966" name=""/>
          <p:cNvCxnSpPr>
            <a:stCxn id="967" idx="0"/>
            <a:endCxn id="968" idx="1"/>
          </p:cNvCxnSpPr>
          <p:nvPr/>
        </p:nvCxnSpPr>
        <p:spPr>
          <a:xfrm flipH="1" rot="16200000">
            <a:off x="5912280" y="2722320"/>
            <a:ext cx="848520" cy="3632760"/>
          </a:xfrm>
          <a:prstGeom prst="curvedConnector2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969" name=""/>
          <p:cNvCxnSpPr>
            <a:stCxn id="970" idx="0"/>
            <a:endCxn id="971" idx="1"/>
          </p:cNvCxnSpPr>
          <p:nvPr/>
        </p:nvCxnSpPr>
        <p:spPr>
          <a:xfrm flipH="1" flipV="1" rot="5400000">
            <a:off x="4398840" y="969480"/>
            <a:ext cx="2810520" cy="3480480"/>
          </a:xfrm>
          <a:prstGeom prst="curvedConnector5">
            <a:avLst>
              <a:gd name="adj1" fmla="val -7109"/>
              <a:gd name="adj2" fmla="val 24992"/>
              <a:gd name="adj3" fmla="val -7109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972" name=""/>
          <p:cNvCxnSpPr>
            <a:stCxn id="973" idx="0"/>
            <a:endCxn id="974" idx="1"/>
          </p:cNvCxnSpPr>
          <p:nvPr/>
        </p:nvCxnSpPr>
        <p:spPr>
          <a:xfrm flipH="1" flipV="1" rot="5400000">
            <a:off x="5808600" y="1922040"/>
            <a:ext cx="67320" cy="4318200"/>
          </a:xfrm>
          <a:prstGeom prst="curvedConnector5">
            <a:avLst>
              <a:gd name="adj1" fmla="val -300000"/>
              <a:gd name="adj2" fmla="val 24995"/>
              <a:gd name="adj3" fmla="val -300000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975" name=""/>
          <p:cNvCxnSpPr>
            <a:stCxn id="976" idx="0"/>
            <a:endCxn id="977" idx="1"/>
          </p:cNvCxnSpPr>
          <p:nvPr/>
        </p:nvCxnSpPr>
        <p:spPr>
          <a:xfrm flipH="1" flipV="1" rot="5400000">
            <a:off x="4474080" y="893160"/>
            <a:ext cx="1896120" cy="4547160"/>
          </a:xfrm>
          <a:prstGeom prst="curvedConnector5">
            <a:avLst>
              <a:gd name="adj1" fmla="val -10539"/>
              <a:gd name="adj2" fmla="val 24996"/>
              <a:gd name="adj3" fmla="val -10539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978" name=""/>
          <p:cNvSpPr/>
          <p:nvPr/>
        </p:nvSpPr>
        <p:spPr>
          <a:xfrm>
            <a:off x="2844720" y="14191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44720" y="180036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844720" y="23335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844720" y="29433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844720" y="809640"/>
            <a:ext cx="3124440" cy="3276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6200000">
            <a:off x="1903320" y="238572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691800" y="39852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844720" y="8859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44720" y="9619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844720" y="10382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44720" y="11145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844720" y="11905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844720" y="12668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44720" y="13431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844720" y="14954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844720" y="15717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44720" y="16477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844720" y="17240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44720" y="18003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44720" y="18763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44720" y="19526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844720" y="20289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844720" y="21049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44720" y="21812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44720" y="22575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44720" y="24098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44720" y="24861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844720" y="25621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44720" y="26384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844720" y="27147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44720" y="27907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44720" y="28670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44720" y="30193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844720" y="30956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44720" y="31719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44720" y="32479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44720" y="33242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844720" y="34005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844720" y="34765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844720" y="35528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44720" y="36291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844720" y="37051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44720" y="37814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44720" y="38577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844720" y="39337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844720" y="40100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4964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68316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6404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52124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20704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40120" y="2060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73680" y="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7478640" y="0"/>
            <a:ext cx="1665360" cy="5686200"/>
            <a:chOff x="7478640" y="0"/>
            <a:chExt cx="1665360" cy="5686200"/>
          </a:xfrm>
        </p:grpSpPr>
        <p:sp>
          <p:nvSpPr>
            <p:cNvPr id="971" name=""/>
            <p:cNvSpPr/>
            <p:nvPr/>
          </p:nvSpPr>
          <p:spPr>
            <a:xfrm>
              <a:off x="7543800" y="581040"/>
              <a:ext cx="99072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96080" y="1495440"/>
              <a:ext cx="99072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848720" y="2409840"/>
              <a:ext cx="99036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001000" y="3324240"/>
              <a:ext cx="99072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153280" y="4238640"/>
              <a:ext cx="99072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478640" y="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feb9"/>
                  </a:solidFill>
                  <a:latin typeface="Times New Roman"/>
                </a:rPr>
                <a:t>Corpus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3187800" y="471168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A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60640" y="520704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B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876920" y="567684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21440" y="650232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M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048120" y="574056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D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98800" y="647712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J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79840" y="647712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I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65440" y="626112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H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013280" y="600696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F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057400" y="549900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C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197760" y="609588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G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33" idx="2"/>
            <a:endCxn id="1034" idx="0"/>
          </p:cNvCxnSpPr>
          <p:nvPr/>
        </p:nvCxnSpPr>
        <p:spPr>
          <a:xfrm>
            <a:off x="3530520" y="4939920"/>
            <a:ext cx="673920" cy="26712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5" name=""/>
          <p:cNvCxnSpPr>
            <a:stCxn id="1033" idx="2"/>
            <a:endCxn id="1042" idx="0"/>
          </p:cNvCxnSpPr>
          <p:nvPr/>
        </p:nvCxnSpPr>
        <p:spPr>
          <a:xfrm flipH="1">
            <a:off x="2399760" y="4940280"/>
            <a:ext cx="1130760" cy="55908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6" name=""/>
          <p:cNvCxnSpPr>
            <a:stCxn id="1034" idx="2"/>
            <a:endCxn id="1037" idx="0"/>
          </p:cNvCxnSpPr>
          <p:nvPr/>
        </p:nvCxnSpPr>
        <p:spPr>
          <a:xfrm flipH="1">
            <a:off x="3390480" y="5435280"/>
            <a:ext cx="813600" cy="30564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7" name=""/>
          <p:cNvCxnSpPr>
            <a:stCxn id="1034" idx="2"/>
            <a:endCxn id="1035" idx="0"/>
          </p:cNvCxnSpPr>
          <p:nvPr/>
        </p:nvCxnSpPr>
        <p:spPr>
          <a:xfrm>
            <a:off x="4203720" y="5435640"/>
            <a:ext cx="1016640" cy="24192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8" name=""/>
          <p:cNvCxnSpPr>
            <a:stCxn id="1035" idx="2"/>
            <a:endCxn id="1043" idx="0"/>
          </p:cNvCxnSpPr>
          <p:nvPr/>
        </p:nvCxnSpPr>
        <p:spPr>
          <a:xfrm>
            <a:off x="5219280" y="5905080"/>
            <a:ext cx="1321200" cy="19116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9" name=""/>
          <p:cNvCxnSpPr>
            <a:stCxn id="1035" idx="2"/>
            <a:endCxn id="1041" idx="0"/>
          </p:cNvCxnSpPr>
          <p:nvPr/>
        </p:nvCxnSpPr>
        <p:spPr>
          <a:xfrm flipH="1">
            <a:off x="4355280" y="5905440"/>
            <a:ext cx="864360" cy="10224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0" name=""/>
          <p:cNvCxnSpPr>
            <a:stCxn id="1040" idx="0"/>
            <a:endCxn id="1037" idx="2"/>
          </p:cNvCxnSpPr>
          <p:nvPr/>
        </p:nvCxnSpPr>
        <p:spPr>
          <a:xfrm flipV="1">
            <a:off x="2107800" y="5968440"/>
            <a:ext cx="1283400" cy="29268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1" name=""/>
          <p:cNvCxnSpPr>
            <a:stCxn id="1039" idx="0"/>
            <a:endCxn id="1037" idx="2"/>
          </p:cNvCxnSpPr>
          <p:nvPr/>
        </p:nvCxnSpPr>
        <p:spPr>
          <a:xfrm flipV="1">
            <a:off x="3022200" y="5968440"/>
            <a:ext cx="369000" cy="50868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2" name=""/>
          <p:cNvCxnSpPr>
            <a:stCxn id="1038" idx="0"/>
            <a:endCxn id="1041" idx="2"/>
          </p:cNvCxnSpPr>
          <p:nvPr/>
        </p:nvCxnSpPr>
        <p:spPr>
          <a:xfrm flipV="1">
            <a:off x="4241520" y="6234840"/>
            <a:ext cx="114840" cy="24228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3" name=""/>
          <p:cNvCxnSpPr>
            <a:stCxn id="1036" idx="0"/>
            <a:endCxn id="1043" idx="2"/>
          </p:cNvCxnSpPr>
          <p:nvPr/>
        </p:nvCxnSpPr>
        <p:spPr>
          <a:xfrm flipV="1">
            <a:off x="6464160" y="6324480"/>
            <a:ext cx="76680" cy="17820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sp>
        <p:nvSpPr>
          <p:cNvPr id="1054" name=""/>
          <p:cNvSpPr/>
          <p:nvPr/>
        </p:nvSpPr>
        <p:spPr>
          <a:xfrm>
            <a:off x="5003640" y="608328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K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876920" y="646416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L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1056" name=""/>
          <p:cNvCxnSpPr>
            <a:stCxn id="1055" idx="0"/>
            <a:endCxn id="1054" idx="2"/>
          </p:cNvCxnSpPr>
          <p:nvPr/>
        </p:nvCxnSpPr>
        <p:spPr>
          <a:xfrm flipV="1">
            <a:off x="5219280" y="6311160"/>
            <a:ext cx="127800" cy="15300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7" name=""/>
          <p:cNvCxnSpPr>
            <a:stCxn id="1054" idx="0"/>
            <a:endCxn id="1035" idx="2"/>
          </p:cNvCxnSpPr>
          <p:nvPr/>
        </p:nvCxnSpPr>
        <p:spPr>
          <a:xfrm flipH="1" flipV="1">
            <a:off x="5218920" y="5905440"/>
            <a:ext cx="127800" cy="17820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8" name=""/>
          <p:cNvCxnSpPr>
            <a:stCxn id="1033" idx="3"/>
            <a:endCxn id="1035" idx="3"/>
          </p:cNvCxnSpPr>
          <p:nvPr/>
        </p:nvCxnSpPr>
        <p:spPr>
          <a:xfrm>
            <a:off x="3873600" y="4825800"/>
            <a:ext cx="1689840" cy="965880"/>
          </a:xfrm>
          <a:prstGeom prst="curvedConnector5">
            <a:avLst>
              <a:gd name="adj1" fmla="val 113530"/>
              <a:gd name="adj2" fmla="val 50000"/>
              <a:gd name="adj3" fmla="val 113530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59" name=""/>
          <p:cNvCxnSpPr>
            <a:stCxn id="1034" idx="1"/>
            <a:endCxn id="1041" idx="1"/>
          </p:cNvCxnSpPr>
          <p:nvPr/>
        </p:nvCxnSpPr>
        <p:spPr>
          <a:xfrm flipH="1" flipV="1" rot="10800000">
            <a:off x="3860280" y="5320080"/>
            <a:ext cx="153360" cy="801000"/>
          </a:xfrm>
          <a:prstGeom prst="curvedConnector5">
            <a:avLst>
              <a:gd name="adj1" fmla="val -24941"/>
              <a:gd name="adj2" fmla="val 50000"/>
              <a:gd name="adj3" fmla="val -24941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0" name=""/>
          <p:cNvCxnSpPr>
            <a:stCxn id="1040" idx="3"/>
            <a:endCxn id="1038" idx="1"/>
          </p:cNvCxnSpPr>
          <p:nvPr/>
        </p:nvCxnSpPr>
        <p:spPr>
          <a:xfrm>
            <a:off x="2450880" y="6375240"/>
            <a:ext cx="1448280" cy="216720"/>
          </a:xfrm>
          <a:prstGeom prst="curvedConnector5">
            <a:avLst>
              <a:gd name="adj1" fmla="val 71034"/>
              <a:gd name="adj2" fmla="val 49916"/>
              <a:gd name="adj3" fmla="val 71034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1" name=""/>
          <p:cNvCxnSpPr>
            <a:stCxn id="1037" idx="3"/>
            <a:endCxn id="1054" idx="1"/>
          </p:cNvCxnSpPr>
          <p:nvPr/>
        </p:nvCxnSpPr>
        <p:spPr>
          <a:xfrm>
            <a:off x="3733560" y="5854320"/>
            <a:ext cx="1270440" cy="343800"/>
          </a:xfrm>
          <a:prstGeom prst="curvedConnector5">
            <a:avLst>
              <a:gd name="adj1" fmla="val 84977"/>
              <a:gd name="adj2" fmla="val 50000"/>
              <a:gd name="adj3" fmla="val 84977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2" name=""/>
          <p:cNvCxnSpPr>
            <a:stCxn id="1043" idx="1"/>
            <a:endCxn id="1036" idx="1"/>
          </p:cNvCxnSpPr>
          <p:nvPr/>
        </p:nvCxnSpPr>
        <p:spPr>
          <a:xfrm flipV="1" rot="10800000">
            <a:off x="6121440" y="6209280"/>
            <a:ext cx="76680" cy="407160"/>
          </a:xfrm>
          <a:prstGeom prst="curvedConnector5">
            <a:avLst>
              <a:gd name="adj1" fmla="val 401415"/>
              <a:gd name="adj2" fmla="val 50000"/>
              <a:gd name="adj3" fmla="val 401415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3" name=""/>
          <p:cNvCxnSpPr>
            <a:stCxn id="1043" idx="3"/>
            <a:endCxn id="1054" idx="3"/>
          </p:cNvCxnSpPr>
          <p:nvPr/>
        </p:nvCxnSpPr>
        <p:spPr>
          <a:xfrm flipH="1" flipV="1">
            <a:off x="5688720" y="6197040"/>
            <a:ext cx="1194840" cy="13320"/>
          </a:xfrm>
          <a:prstGeom prst="curvedConnector5">
            <a:avLst>
              <a:gd name="adj1" fmla="val -19138"/>
              <a:gd name="adj2" fmla="val 1155555"/>
              <a:gd name="adj3" fmla="val -19138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4" name=""/>
          <p:cNvCxnSpPr>
            <a:stCxn id="951" idx="2"/>
            <a:endCxn id="1037" idx="1"/>
          </p:cNvCxnSpPr>
          <p:nvPr/>
        </p:nvCxnSpPr>
        <p:spPr>
          <a:xfrm>
            <a:off x="1359000" y="3835080"/>
            <a:ext cx="1689840" cy="2019960"/>
          </a:xfrm>
          <a:prstGeom prst="straightConnector1">
            <a:avLst/>
          </a:prstGeom>
          <a:ln w="19080">
            <a:solidFill>
              <a:srgbClr val="fcfeb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5" name=""/>
          <p:cNvCxnSpPr>
            <a:stCxn id="954" idx="2"/>
            <a:endCxn id="1040" idx="1"/>
          </p:cNvCxnSpPr>
          <p:nvPr/>
        </p:nvCxnSpPr>
        <p:spPr>
          <a:xfrm>
            <a:off x="342720" y="3835080"/>
            <a:ext cx="1423080" cy="2540520"/>
          </a:xfrm>
          <a:prstGeom prst="straightConnector1">
            <a:avLst/>
          </a:prstGeom>
          <a:ln w="19080">
            <a:solidFill>
              <a:srgbClr val="fcfeb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6" name=""/>
          <p:cNvCxnSpPr>
            <a:stCxn id="953" idx="2"/>
            <a:endCxn id="1042" idx="1"/>
          </p:cNvCxnSpPr>
          <p:nvPr/>
        </p:nvCxnSpPr>
        <p:spPr>
          <a:xfrm>
            <a:off x="343080" y="3098520"/>
            <a:ext cx="1715040" cy="2515320"/>
          </a:xfrm>
          <a:prstGeom prst="straightConnector1">
            <a:avLst/>
          </a:prstGeom>
          <a:ln w="19080">
            <a:solidFill>
              <a:srgbClr val="fcfeb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7" name=""/>
          <p:cNvSpPr/>
          <p:nvPr/>
        </p:nvSpPr>
        <p:spPr>
          <a:xfrm>
            <a:off x="1080" y="60991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1068" name=""/>
          <p:cNvCxnSpPr>
            <a:stCxn id="952" idx="2"/>
            <a:endCxn id="1033" idx="1"/>
          </p:cNvCxnSpPr>
          <p:nvPr/>
        </p:nvCxnSpPr>
        <p:spPr>
          <a:xfrm>
            <a:off x="1359000" y="3098880"/>
            <a:ext cx="1829520" cy="1728000"/>
          </a:xfrm>
          <a:prstGeom prst="straightConnector1">
            <a:avLst/>
          </a:prstGeom>
          <a:ln w="19080">
            <a:solidFill>
              <a:srgbClr val="fcfeb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9" name=""/>
          <p:cNvCxnSpPr>
            <a:stCxn id="1033" idx="3"/>
            <a:endCxn id="1070" idx="0"/>
          </p:cNvCxnSpPr>
          <p:nvPr/>
        </p:nvCxnSpPr>
        <p:spPr>
          <a:xfrm flipV="1">
            <a:off x="3873240" y="3733560"/>
            <a:ext cx="2096280" cy="1092960"/>
          </a:xfrm>
          <a:prstGeom prst="curvedConnector2">
            <a:avLst/>
          </a:prstGeom>
          <a:ln w="1260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1071" name=""/>
          <p:cNvCxnSpPr>
            <a:stCxn id="1042" idx="3"/>
            <a:endCxn id="996" idx="0"/>
          </p:cNvCxnSpPr>
          <p:nvPr/>
        </p:nvCxnSpPr>
        <p:spPr>
          <a:xfrm flipV="1">
            <a:off x="2742840" y="1800000"/>
            <a:ext cx="3226680" cy="3813840"/>
          </a:xfrm>
          <a:prstGeom prst="curvedConnector2">
            <a:avLst/>
          </a:prstGeom>
          <a:ln w="1260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1072" name=""/>
          <p:cNvCxnSpPr>
            <a:stCxn id="1037" idx="3"/>
            <a:endCxn id="982" idx="3"/>
          </p:cNvCxnSpPr>
          <p:nvPr/>
        </p:nvCxnSpPr>
        <p:spPr>
          <a:xfrm flipV="1">
            <a:off x="3733560" y="2447280"/>
            <a:ext cx="2235600" cy="3407400"/>
          </a:xfrm>
          <a:prstGeom prst="curvedConnector5">
            <a:avLst>
              <a:gd name="adj1" fmla="val 110243"/>
              <a:gd name="adj2" fmla="val 50000"/>
              <a:gd name="adj3" fmla="val 110243"/>
            </a:avLst>
          </a:prstGeom>
          <a:ln w="1260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1073" name=""/>
          <p:cNvCxnSpPr>
            <a:stCxn id="1040" idx="3"/>
            <a:endCxn id="1074" idx="0"/>
          </p:cNvCxnSpPr>
          <p:nvPr/>
        </p:nvCxnSpPr>
        <p:spPr>
          <a:xfrm flipV="1">
            <a:off x="2451240" y="2009520"/>
            <a:ext cx="3518640" cy="4366080"/>
          </a:xfrm>
          <a:prstGeom prst="curvedConnector2">
            <a:avLst/>
          </a:prstGeom>
          <a:ln w="1260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1038" idx="3"/>
            <a:endCxn id="1022" idx="0"/>
          </p:cNvCxnSpPr>
          <p:nvPr/>
        </p:nvCxnSpPr>
        <p:spPr>
          <a:xfrm flipV="1">
            <a:off x="4584600" y="3933720"/>
            <a:ext cx="1385280" cy="265788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54" idx="3"/>
            <a:endCxn id="1077" idx="0"/>
          </p:cNvCxnSpPr>
          <p:nvPr/>
        </p:nvCxnSpPr>
        <p:spPr>
          <a:xfrm flipV="1">
            <a:off x="5689080" y="3152520"/>
            <a:ext cx="280440" cy="30456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1035" idx="3"/>
            <a:endCxn id="1079" idx="0"/>
          </p:cNvCxnSpPr>
          <p:nvPr/>
        </p:nvCxnSpPr>
        <p:spPr>
          <a:xfrm flipV="1">
            <a:off x="5562360" y="1069200"/>
            <a:ext cx="407160" cy="472212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080" name=""/>
          <p:cNvCxnSpPr>
            <a:stCxn id="1034" idx="3"/>
            <a:endCxn id="1070" idx="1"/>
          </p:cNvCxnSpPr>
          <p:nvPr/>
        </p:nvCxnSpPr>
        <p:spPr>
          <a:xfrm flipV="1">
            <a:off x="4546440" y="3733200"/>
            <a:ext cx="1423440" cy="1587960"/>
          </a:xfrm>
          <a:prstGeom prst="curvedConnector2">
            <a:avLst/>
          </a:prstGeom>
          <a:ln w="12600">
            <a:solidFill>
              <a:srgbClr val="00cece"/>
            </a:solidFill>
            <a:miter/>
            <a:tailEnd len="med" type="triangle" w="med"/>
          </a:ln>
        </p:spPr>
      </p:cxnSp>
      <p:cxnSp>
        <p:nvCxnSpPr>
          <p:cNvPr id="1081" name=""/>
          <p:cNvCxnSpPr>
            <a:stCxn id="1039" idx="3"/>
            <a:endCxn id="1074" idx="1"/>
          </p:cNvCxnSpPr>
          <p:nvPr/>
        </p:nvCxnSpPr>
        <p:spPr>
          <a:xfrm flipV="1">
            <a:off x="3365640" y="2009520"/>
            <a:ext cx="2604240" cy="4582080"/>
          </a:xfrm>
          <a:prstGeom prst="curvedConnector2">
            <a:avLst/>
          </a:prstGeom>
          <a:ln w="12600">
            <a:solidFill>
              <a:srgbClr val="00cece"/>
            </a:solidFill>
            <a:miter/>
            <a:tailEnd len="med" type="triangle" w="med"/>
          </a:ln>
        </p:spPr>
      </p:cxnSp>
      <p:grpSp>
        <p:nvGrpSpPr>
          <p:cNvPr id="1082" name=""/>
          <p:cNvGrpSpPr/>
          <p:nvPr/>
        </p:nvGrpSpPr>
        <p:grpSpPr>
          <a:xfrm>
            <a:off x="2921040" y="825480"/>
            <a:ext cx="2984400" cy="3263760"/>
            <a:chOff x="2921040" y="825480"/>
            <a:chExt cx="2984400" cy="3263760"/>
          </a:xfrm>
        </p:grpSpPr>
        <p:sp>
          <p:nvSpPr>
            <p:cNvPr id="1083" name=""/>
            <p:cNvSpPr/>
            <p:nvPr/>
          </p:nvSpPr>
          <p:spPr>
            <a:xfrm>
              <a:off x="29210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9844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477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114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1748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382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019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652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286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923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557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194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6828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461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8098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8732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9369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003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636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74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907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544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3178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3812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4449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082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716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353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987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7624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258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8891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528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0162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0799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433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066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2704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337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974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4608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242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5879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512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146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783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417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054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2844720" y="141912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44720" y="1041480"/>
            <a:ext cx="31244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44720" y="233352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844720" y="294336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844720" y="332424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844720" y="2486160"/>
            <a:ext cx="3124440" cy="0"/>
          </a:xfrm>
          <a:prstGeom prst="line">
            <a:avLst/>
          </a:prstGeom>
          <a:ln w="5724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844720" y="2638440"/>
            <a:ext cx="31244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844720" y="1828800"/>
            <a:ext cx="3124440" cy="0"/>
          </a:xfrm>
          <a:prstGeom prst="line">
            <a:avLst/>
          </a:prstGeom>
          <a:ln w="5724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844720" y="3705120"/>
            <a:ext cx="3124440" cy="0"/>
          </a:xfrm>
          <a:prstGeom prst="line">
            <a:avLst/>
          </a:prstGeom>
          <a:ln w="5724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844720" y="1981080"/>
            <a:ext cx="3124440" cy="0"/>
          </a:xfrm>
          <a:prstGeom prst="line">
            <a:avLst/>
          </a:prstGeom>
          <a:ln w="5724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844720" y="3124080"/>
            <a:ext cx="31244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844720" y="3962520"/>
            <a:ext cx="31244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11480" y="138096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483080" y="138096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11480" y="289872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025880" y="289872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83080" y="289872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645000" y="32796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483080" y="327960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68880" y="327960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645000" y="229536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25880" y="229536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168880" y="229536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text in 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 addition to keywords, relationships between keywords and documents are exploit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licit link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ypertex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ed concep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saurus, ont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xim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patial: place, directo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mporal: creation date/tim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mediate rel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hor/creato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ference beyond the Index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termines relationships between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itations are explicit references to relevant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ibliographic referen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egal ci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ypertex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</a:t>
            </a:r>
            <a:br>
              <a:rPr sz="2800"/>
            </a:b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EC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CiteSeer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&lt;http:/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citeseer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nj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nec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.com&gt;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dditional Information Sour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2071800" y="914400"/>
            <a:ext cx="5149800" cy="571500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3804840" y="6583320"/>
            <a:ext cx="24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, after Kochen 1975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Hyper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r-document links provide explicit relationships between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n be used to determine the relevance of a document for a 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ample: </a:t>
            </a:r>
            <a:br>
              <a:rPr sz="2400"/>
            </a:b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Google &lt;http://www.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google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com&gt;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a-document links may offer additional context information for some ter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otnotes, glossaries, relate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daptive Retrieval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ne-tuning the matching between queries and retrieved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earning of relationships between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raining with term pairs (thesaurus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attern detection in past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ic grouping of documents according to common featur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lustering of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 Classific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838080" y="1117440"/>
            <a:ext cx="74613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y Mode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query types (templates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requently used types of que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97920" indent="-221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.g. problem/solution, symptoms/diagnosis, problem/further checks, ..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tegory typ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stractions of query typ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d to determine categories or topics for the grouping of search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ext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urrent working document/directo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evious que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807360" y="658332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Pratt, Hearst, Fagan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erminology Mode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dividual terms are connected to related ter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saurus/ont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ynonyms, super-/sub-classes, related ter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fies labels for the category typ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807360" y="658332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Pratt, Hearst, Fagan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inding Out Abou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9400" y="1447920"/>
            <a:ext cx="5935680" cy="464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tch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tegoriz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termines the categories to be selected for the grouping of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signs retrieved documents to the catego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anges categories into a hierarch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hould be balanced and easy to browse by the us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pends on the distribution of the search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807360" y="658332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Pratt, Hearst, Fagan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trieved documents are grouped into hierarchically arranged categories meaningful for the us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categories are related to the 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categories are related to each oth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l categories have similar siz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t always achievable due to the distribution of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duced search time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igher user satisfaction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807360" y="658332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Pratt, Hearst, Fagan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naCat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-based approach to the organization of search resul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tegorizes results into meaningful groups that correspond to the user’s qu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s knowledge of query types and of the domain terminology to generate hierarchical catego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ed to the domain of medicin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EDLINE is an on-line repository of medical abstra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56520" indent="-212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9.2 million bibliographic entries from 3800 journa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56520" indent="-212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ubMed is a web-based search too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275480" indent="-2124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returns titles as an relevance-ranked list 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275480" indent="-2124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links to “related articles”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810240" y="658332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ynaCat,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anCat Resul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228600" y="2052720"/>
            <a:ext cx="8839080" cy="343836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3810240" y="658332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ynaCat,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naCat Query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2560680" y="1447920"/>
            <a:ext cx="4174920" cy="464796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3810240" y="658332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ynaCat,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naCat Search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248520" cy="548352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3810240" y="658332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ynaCat,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formation vs. 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eywords as main components of the que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ex as match-making facili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atistical basis for selection of relevant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(ordered) list of resul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72392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eywords plus context information for the que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ex plus ontology for matching query and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lationships between keywords and documents influence the selection of relevant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sults are grouped into meaningful catego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Discove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ata Mi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ule Extrac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trieva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0T20:50:23Z</cp:lastPrinted>
  <dcterms:modified xsi:type="dcterms:W3CDTF">2003-05-01T23:57:33Z</dcterms:modified>
  <cp:revision>78</cp:revision>
  <dc:subject/>
  <dc:title>CSC 480: Artificial Intelligence</dc:title>
</cp:coreProperties>
</file>