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6.xml.rels" ContentType="application/vnd.openxmlformats-package.relationships+xml"/>
  <Override PartName="/ppt/notesSlides/notesSlide6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</p:sldIdLst>
  <p:sldSz cx="9144000" cy="6858000"/>
  <p:notesSz cx="6642100" cy="9777413"/>
  <p:custShowLst>
    <p:custShow name="Lecture 1" id="0">
      <p:sldLst>
        <p:sld r:id="rId15"/>
        <p:sld r:id="rId16"/>
        <p:sld r:id="rId17"/>
        <p:sld r:id="rId18"/>
        <p:sld r:id="rId19"/>
        <p:sld r:id="rId20"/>
        <p:sld r:id="rId21"/>
        <p:sld r:id="rId22"/>
        <p:sld r:id="rId23"/>
        <p:sld r:id="rId24"/>
        <p:sld r:id="rId25"/>
        <p:sld r:id="rId26"/>
        <p:sld r:id="rId27"/>
        <p:sld r:id="rId28"/>
        <p:sld r:id="rId29"/>
        <p:sld r:id="rId30"/>
        <p:sld r:id="rId31"/>
        <p:sld r:id="rId32"/>
        <p:sld r:id="rId33"/>
        <p:sld r:id="rId34"/>
        <p:sld r:id="rId35"/>
        <p:sld r:id="rId36"/>
        <p:sld r:id="rId37"/>
        <p:sld r:id="rId38"/>
        <p:sld r:id="rId39"/>
        <p:sld r:id="rId40"/>
        <p:sld r:id="rId41"/>
        <p:sld r:id="rId42"/>
        <p:sld r:id="rId43"/>
        <p:sld r:id="rId44"/>
        <p:sld r:id="rId45"/>
        <p:sld r:id="rId46"/>
        <p:sld r:id="rId47"/>
        <p:sld r:id="rId48"/>
        <p:sld r:id="rId84"/>
      </p:sldLst>
    </p:custShow>
    <p:custShow name="Lecture 2" id="1">
      <p:sldLst>
        <p:sld r:id="rId49"/>
        <p:sld r:id="rId50"/>
        <p:sld r:id="rId51"/>
        <p:sld r:id="rId52"/>
        <p:sld r:id="rId53"/>
        <p:sld r:id="rId54"/>
        <p:sld r:id="rId55"/>
        <p:sld r:id="rId56"/>
        <p:sld r:id="rId57"/>
        <p:sld r:id="rId58"/>
        <p:sld r:id="rId59"/>
        <p:sld r:id="rId60"/>
        <p:sld r:id="rId61"/>
        <p:sld r:id="rId62"/>
        <p:sld r:id="rId63"/>
        <p:sld r:id="rId64"/>
        <p:sld r:id="rId65"/>
        <p:sld r:id="rId72"/>
        <p:sld r:id="rId75"/>
      </p:sldLst>
    </p:custShow>
    <p:custShow name="Spring 2003" id="2">
      <p:sldLst>
        <p:sld r:id="rId8"/>
        <p:sld r:id="rId9"/>
        <p:sld r:id="rId10"/>
        <p:sld r:id="rId15"/>
        <p:sld r:id="rId16"/>
        <p:sld r:id="rId17"/>
        <p:sld r:id="rId18"/>
        <p:sld r:id="rId19"/>
        <p:sld r:id="rId20"/>
        <p:sld r:id="rId21"/>
        <p:sld r:id="rId22"/>
        <p:sld r:id="rId23"/>
        <p:sld r:id="rId24"/>
        <p:sld r:id="rId25"/>
        <p:sld r:id="rId26"/>
        <p:sld r:id="rId27"/>
        <p:sld r:id="rId28"/>
        <p:sld r:id="rId29"/>
        <p:sld r:id="rId30"/>
        <p:sld r:id="rId31"/>
        <p:sld r:id="rId32"/>
        <p:sld r:id="rId33"/>
        <p:sld r:id="rId34"/>
        <p:sld r:id="rId35"/>
        <p:sld r:id="rId36"/>
        <p:sld r:id="rId37"/>
        <p:sld r:id="rId38"/>
        <p:sld r:id="rId39"/>
        <p:sld r:id="rId40"/>
        <p:sld r:id="rId41"/>
        <p:sld r:id="rId42"/>
        <p:sld r:id="rId43"/>
        <p:sld r:id="rId44"/>
        <p:sld r:id="rId45"/>
        <p:sld r:id="rId46"/>
        <p:sld r:id="rId47"/>
        <p:sld r:id="rId48"/>
        <p:sld r:id="rId49"/>
        <p:sld r:id="rId50"/>
        <p:sld r:id="rId51"/>
        <p:sld r:id="rId52"/>
        <p:sld r:id="rId53"/>
        <p:sld r:id="rId54"/>
        <p:sld r:id="rId55"/>
        <p:sld r:id="rId56"/>
        <p:sld r:id="rId57"/>
        <p:sld r:id="rId58"/>
        <p:sld r:id="rId59"/>
        <p:sld r:id="rId60"/>
        <p:sld r:id="rId61"/>
        <p:sld r:id="rId62"/>
        <p:sld r:id="rId63"/>
        <p:sld r:id="rId64"/>
        <p:sld r:id="rId65"/>
        <p:sld r:id="rId66"/>
        <p:sld r:id="rId67"/>
        <p:sld r:id="rId68"/>
        <p:sld r:id="rId69"/>
        <p:sld r:id="rId70"/>
        <p:sld r:id="rId71"/>
        <p:sld r:id="rId72"/>
        <p:sld r:id="rId73"/>
        <p:sld r:id="rId74"/>
        <p:sld r:id="rId75"/>
        <p:sld r:id="rId76"/>
        <p:sld r:id="rId77"/>
        <p:sld r:id="rId78"/>
        <p:sld r:id="rId79"/>
        <p:sld r:id="rId80"/>
        <p:sld r:id="rId8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20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041120" y="858600"/>
            <a:ext cx="455940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044720" y="85896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multiple forma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er, mind, coll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-223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-223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-223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-223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-223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multiple vie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, process, client, strategic, financial, planning, department, personal, organiz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3875400"/>
            <a:ext cx="883908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740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6600" y="144756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5320" y="144756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387540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6600" y="387540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5320" y="387540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338040"/>
            <a:ext cx="8610480" cy="37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740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3875400"/>
            <a:ext cx="883908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700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cece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cfeb9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cfeb9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989680" y="6566040"/>
            <a:ext cx="3035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3840" y="6541920"/>
            <a:ext cx="2618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© 2001-2003 Franz J. Kurfess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334120" y="6553080"/>
            <a:ext cx="3659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Arial"/>
              </a:rPr>
              <a:t>Knowledge Management Techniques  </a:t>
            </a:r>
            <a:fld id="{F0FA0EAB-A630-4236-83A4-9B0C10B2596A}" type="slidenum">
              <a:rPr b="1" lang="en-US" sz="1400" spc="-1" strike="noStrike">
                <a:solidFill>
                  <a:srgbClr val="fcfeb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hyperlink" Target="file:///Knowledge-Exchange.ppt#Determination of CM Needs" TargetMode="External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hyperlink" Target="file:///Knowledge-Exchange.ppt#Determination of CM Needs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hyperlink" Target="file:///Knowledge-Exchange.ppt#Determination of CM Needs" TargetMode="External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hyperlink" Target="file:///Knowledge-Exchange.ppt#Determination of CM Needs" TargetMode="External"/><Relationship Id="rId5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hyperlink" Target="file:///Knowledge-Exchange.ppt#Determination of CM Needs" TargetMode="External"/><Relationship Id="rId5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hyperlink" Target="file:///Knowledge-Exchange.ppt#Determination of CM Needs" TargetMode="External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hyperlink" Target="file:///Knowledge-Exchange.ppt#Determination of CM Needs" TargetMode="External"/><Relationship Id="rId5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hyperlink" Target="file:///Knowledge-Exchange.ppt#Determination of CM Needs" TargetMode="External"/><Relationship Id="rId5" Type="http://schemas.openxmlformats.org/officeDocument/2006/relationships/hyperlink" Target="file:///Knowledge-Exchange.ppt#Determination of CM Needs" TargetMode="External"/><Relationship Id="rId6" Type="http://schemas.openxmlformats.org/officeDocument/2006/relationships/hyperlink" Target="file:///Knowledge-Exchange.ppt#Determination of CM Needs" TargetMode="External"/><Relationship Id="rId7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hyperlink" Target="file:///Knowledge-Exchange.ppt#Determination of CM Needs" TargetMode="External"/><Relationship Id="rId5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hyperlink" Target="file:///Knowledge-Exchange.ppt#Determination of CM Needs" TargetMode="External"/><Relationship Id="rId5" Type="http://schemas.openxmlformats.org/officeDocument/2006/relationships/hyperlink" Target="file:///Knowledge-Exchange.ppt#Determination of CM Needs" TargetMode="External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hyperlink" Target="file:///Knowledge-Exchange.ppt#Determination of CM Needs" TargetMode="External"/><Relationship Id="rId5" Type="http://schemas.openxmlformats.org/officeDocument/2006/relationships/hyperlink" Target="file:///Knowledge-Exchange.ppt#Determination of CM Needs" TargetMode="External"/><Relationship Id="rId6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hyperlink" Target="file:///Knowledge-Exchange.ppt#Determination of CM Needs" TargetMode="External"/><Relationship Id="rId5" Type="http://schemas.openxmlformats.org/officeDocument/2006/relationships/hyperlink" Target="file:///Knowledge-Exchange.ppt#Determination of CM Needs" TargetMode="External"/><Relationship Id="rId6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hyperlink" Target="file:///Knowledge-Exchange.ppt#Determination of CM Needs" TargetMode="External"/><Relationship Id="rId5" Type="http://schemas.openxmlformats.org/officeDocument/2006/relationships/hyperlink" Target="file:///Knowledge-Exchange.ppt#Determination of CM Needs" TargetMode="External"/><Relationship Id="rId6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hyperlink" Target="file:///Knowledge-Exchange.ppt#Determination of CM Needs" TargetMode="External"/><Relationship Id="rId5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hyperlink" Target="file:///Knowledge-Exchange.ppt#Determination of CM Needs" TargetMode="External"/><Relationship Id="rId5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hyperlink" Target="file:///Knowledge-Exchange.ppt#Determination of CM Needs" TargetMode="External"/><Relationship Id="rId5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hyperlink" Target="file:///Knowledge-Exchange.ppt#Determination of CM Needs" TargetMode="Externa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hyperlink" Target="file:///Knowledge-Exchange.ppt#Determination of CM Needs" TargetMode="External"/><Relationship Id="rId5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hyperlink" Target="file:///Knowledge-Exchange.ppt#Determination of CM Needs" TargetMode="External"/><Relationship Id="rId5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hyperlink" Target="file:///Knowledge-Exchange.ppt#Determination of CM Needs" TargetMode="External"/><Relationship Id="rId5" Type="http://schemas.openxmlformats.org/officeDocument/2006/relationships/hyperlink" Target="file:///Knowledge-Exchange.ppt#Determination of CM Needs" TargetMode="External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hyperlink" Target="file:///Knowledge-Exchange.ppt#Determination of CM Needs" TargetMode="External"/><Relationship Id="rId5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hyperlink" Target="file:///Knowledge-Exchange.ppt#Determination of CM Needs" TargetMode="External"/><Relationship Id="rId5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hyperlink" Target="file:///Knowledge-Exchange.ppt#Determination of CM Needs" TargetMode="External"/><Relationship Id="rId5" Type="http://schemas.openxmlformats.org/officeDocument/2006/relationships/hyperlink" Target="file:///Knowledge-Exchange.ppt#Determination of CM Needs" TargetMode="External"/><Relationship Id="rId6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hyperlink" Target="file:///Knowledge-Exchange.ppt#Determination of CM Needs" TargetMode="External"/><Relationship Id="rId5" Type="http://schemas.openxmlformats.org/officeDocument/2006/relationships/hyperlink" Target="file:///Knowledge-Exchange.ppt#Determination of CM Needs" TargetMode="External"/><Relationship Id="rId6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hyperlink" Target="file:///Knowledge-Exchange.ppt#Determination of CM Needs" TargetMode="External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hyperlink" Target="file:///Knowledge-Exchange.ppt#Determination of CM Needs" TargetMode="External"/><Relationship Id="rId5" Type="http://schemas.openxmlformats.org/officeDocument/2006/relationships/hyperlink" Target="file:///Knowledge-Exchange.ppt#Determination of CM Needs" TargetMode="External"/><Relationship Id="rId6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hyperlink" Target="file:///Knowledge-Exchange.ppt#Determination of CM Needs" TargetMode="External"/><Relationship Id="rId5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hyperlink" Target="file:///Knowledge-Exchange.ppt#Determination of CM Needs" TargetMode="External"/><Relationship Id="rId5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hyperlink" Target="file:///Knowledge-Exchange.ppt#Determination of CM Needs" TargetMode="External"/><Relationship Id="rId5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PE/CSC 580: </a:t>
            </a:r>
            <a:br>
              <a:rPr sz="4400"/>
            </a:b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Managemen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r. Franz J. Kurfes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mputer Science Departmen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al Pol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Evaluation Criteria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rporate Memory (CM)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efinition attemp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ncep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mplement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Definition Attempts Corporate Memory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xplicit, disembodied, persistent representation of knowledge and information in an organization [Van Heijst, van der Spek and Kruizinga 1996]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ay include knowledge on products, production processes, clients, marketing strategies, plans, strategic goals, etc.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he collective data and knowledge resources of a company [Nagendra Prasad and Plaza 1996]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ay include project experiences, problem-solving expertise, design rationale, etc.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02800" y="655308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Dieng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Purpose Corporate Memory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apitalization of knowled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tegration of resources and know-how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operation through effective communication and active document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the right knowledge to the right person at the right time and at the right level”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02800" y="655308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Dieng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Links in the Knowledge Chai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list existing knowled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etermine required knowled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evelop new knowled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llocate new and existing knowled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pply knowled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aintain knowled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ispose of knowled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02800" y="655308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Dieng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rporate Memory Managemen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etection of need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nstruction of the corporate memor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iffusion of the corporate memor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use of the corporate memor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aintenance and evolu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02800" y="655308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Dieng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rporate Memory Management Overview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33360" y="725400"/>
            <a:ext cx="8470800" cy="5410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502800" y="655308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Dieng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Multidisciplinary Perspective on C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echnological (computer science, information technology)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ncentrate on technical and implementation aspec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ay neglect requirements and constraints of systems in practical us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rganizational (CKO)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mphasize the role of CM in an organiz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ay overlook technological problems, or underestimate efforts needed for implement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02800" y="655308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Dieng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rporate Memory Techniqu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601200" cy="4838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502800" y="655308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Dieng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urse Overview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Process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Acquisition, Representation and Manipul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Organiz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lassification, Categoriz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Ontologies, Taxonomies, Thesauri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Retrieval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formation Retrieval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Navig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Present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Visualiz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23920" y="12189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Exchan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Capture, Transfer, and Distribu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Usage of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ccess Patterns, User Feedback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Management Techniqu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opic Maps, Agen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Management Tool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Management in Organiza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rporate Memory Exampl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76320" y="426960"/>
            <a:ext cx="9283680" cy="6007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502800" y="655308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Dieng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Motivations for Establishing a C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251280" indent="-25128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void knowledge los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03360" indent="-25128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departure, retirement, change of roles of employe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1280" indent="-25128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xploit past experienc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03360" indent="-25128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umulative technical know-how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03360" indent="-25128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uccessful and failed projec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1280" indent="-25128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utilize collective knowledge for strategic purpos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03360" indent="-25128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detection of new opportuniti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03360" indent="-25128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eaction to chang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1280" indent="-25128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mprove knowledge exchange and communic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03360" indent="-25128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establish venues for sharing inform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1280" indent="-25128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mprove learn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1280" indent="-25128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tegrate knowledge from different area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03360" indent="-25128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ross-disciplinary knowledge exchange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02800" y="655308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Dieng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in Organization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48400" indent="-2484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xplicit knowled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596520" indent="-2484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pecific know-how to design, build, sell and support products and servic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48400" indent="-2484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acit knowled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596520" indent="-2484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dividual and collective skills enabling the organization to act, adapt, and evolv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48400" indent="-2484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angible knowledge compon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596520" indent="-2484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ata, procedures, plans, models, algorithms, documents of analysis and synthesi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48400" indent="-2484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tangible knowledge compon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596520" indent="-2484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bilities, professional skills, private knowledge, organizational culture, history of the organization, contexts of decisions, etc.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02800" y="655308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Dieng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ypes of Corporate Memori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-2599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echnical memor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-how of the employees about technical aspec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9920" indent="-2599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rganizational memor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about the internal structure of an organiz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9920" indent="-2599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roject memori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lessons and experiences from past projec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9920" indent="-2599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dividual memori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tatus, know-how, activities, relationships of individual employe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9920" indent="-2599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ternal vs. external memor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dicates the source of relevant knowledge and inform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02800" y="655308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Dieng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M Need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rganization is also a knowledge production uni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not necessarily as primary purpos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epends on size, type, and organizational scheme of the organiz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.g. distributed network of consultan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needs of individual users vs. organizational need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etecting the “right” needs can be difficul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arget users, domains, tasks, situations,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02800" y="655308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Dieng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Determination of CM Need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takeholder-centered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fluenced by the members of the community of people affected by or invested in the system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requirements analysi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arly involvement of stakeholders is critical and feasibl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most stakeholders are internal to the organization, and many are motivated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ost solutions are adaptations or evolutions of previous syste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SCW, KBMS, MIS, ...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2800" y="655308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Dieng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M Construc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non-computational CM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ocument-based CM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knowledge-based CM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ase-based CM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istributed CM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roject-centered CM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mbinations of several techniqu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02800" y="655308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Dieng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Sourc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human sourc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omain experts, experienced specialists, people with organizational memori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hysical docum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rinted documents, notes, design artifacts, products, tools, etc.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igital docum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ports, technical documentation, design artifacts, email, case libraries, dictionaries, sketches, etc.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02800" y="655308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Dieng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Non-computational C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stablishment of paper-based knowledge repositor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xisting documents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generation of new documen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ynthesis of knowledge not explicit in reports, technical documentation, etc.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mprove strategies and structural aspects of the organiz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ystematic generation of knowledge in an organiz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ay be the predecessor to a digital CM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02800" y="655308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Dieng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Document-based C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mprises all existing documents in an organiz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ay be in paper-based or digital form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rganizes the collection in a systematic wa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dex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terface to manage documen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reparation, storage, retrieval, processing, evaluation, distribu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2800" y="655308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Dieng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verview Knowledge Management Techniqu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valuation Criteria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hapter Introduc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eview of relevant concep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Overview new topic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erminology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opic 1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ubtopic 1.1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ubtopic 1.2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960" y="16761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opic 2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ubtopic 2.1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ubtopic 2.2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opic 3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ubtopic 3.1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ubtopic 3.2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mportant Concepts and Ter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hapter Summar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-based C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based on the elicitation and explicit modeling of knowledge from exper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ay use a formal knowledge representation framework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his is often quite expensiv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erves as an assistant to human “knowledge workers”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ifferent from traditional expert syste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heir goal is the automation of a particular task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02800" y="655308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Dieng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ase-based C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utilizes case-based reasoning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ast experiences are collected in a (semi-)formal representation mechanism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llows the comparison of “cases”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he assumption is that new problems can often be solved by looking up solutions to previous proble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helps with the concentration of expertise around specific cas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ntinuous evolution of the CM through the continuous addition of new cas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02800" y="655308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Dieng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Distributed C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mphasis on collaboration and knowledge-sharing across traditional boundari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geographically distributed persons/group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tructurally separated entities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ommon tasks, domain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ssential for virtual organizatio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eams or people collaborate on-lin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02800" y="655308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Dieng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Project-centered C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aptures the relevant knowledge accumulated while working on a projec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iscussions, arguments, decisions, compromises, etc.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mportant aspec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present and reconcile perspectives of different stakeholder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hanges of priorities in the projec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mmunication of decision rational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covery of insights and solutions from past scenario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956520" indent="-2124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e-inventing the wheel”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ssue-based information system (IBIS) [Rittel 1972]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02800" y="655308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Dieng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mbinations of Several Techniqu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formal and formal knowledge representation method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mbination of paper-based and digital docum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emi-automatic extraction of knowled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llaborative construction of “community knowledge”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tegration of existing compon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libraries, data bases, case bases, document collections, multi-media collections, etc.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02800" y="655308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Dieng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Diffusion and Use of C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-2714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iffusion mod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51240" indent="-2714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attic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977400" indent="-21708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rchive that can be consulted when needed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977400" indent="-21708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ollection and diffusion are passive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51240" indent="-2714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spon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977400" indent="-21708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ctive collection, passive diffus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51240" indent="-2714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publisher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977400" indent="-21708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elevant elements are distributed to user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977400" indent="-21708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assive collection, active distribu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51240" indent="-2714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pump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977400" indent="-21708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pecific roles or methods for collection of relevant knowledge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977400" indent="-21708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ctive collection and active diffus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02800" y="655308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Dieng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Diffusion via Intranet/Interne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requently centered around Web server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has some conceptual and technical limitations, but substantial benefi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nfidentiality, security, reliability, distraction, etc.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02800" y="655308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Dieng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and Information Retrieval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raditional index-based techniques are integrated in most approaches to CM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nhancements through advanced techniqu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ntologi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llaborative filter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telligent agen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Evalu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inancial perspectiv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78600" indent="-2829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mprove the bottom-line of the organiz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78600" indent="-2829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ay be difficult to measur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2960" indent="-2829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rganizational perspectiv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78600" indent="-2829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ork environmen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78600" indent="-2829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mployee satisfac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2960" indent="-2829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echnical perspectiv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78600" indent="-2829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ransfer of know-how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2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some effects may not be direct consequences of the CM, but side-effects of its introduction or us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02800" y="655308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Dieng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Maintenance and Evolu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hould be based on the evaluation of the current situ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ddition of new knowled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removal or modification of obsolete knowled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herence proble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calabilit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user acceptanc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should become a continuous activit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502800" y="655308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Dieng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Logistic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troductio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urse Material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extbook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handou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eb pa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urseInfo/Blackboard System and Alternativ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erm Projec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Lab and Homework Assignm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xa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Grading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Examples of CM Method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YGMA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REX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KSM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KAMM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02800" y="655308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Dieng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YGMA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Cycle de Vie et Gestion des Métiers et des Applications, KADE-TEX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71440" indent="-2714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nstruction of a professional memory in manufacturing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71440" indent="-2714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relies on six categories of industrial knowled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51240" indent="-2714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ingular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51240" indent="-2714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erminological knowledge (dictionary)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51240" indent="-2714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tructural knowledge (ontology, factual knowledge base)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51240" indent="-2714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behavioral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51240" indent="-2714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trategic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51240" indent="-2714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perational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02800" y="655308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Dieng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REX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needs analysis and identific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nstruction of elementary pieces of experienc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nstruction of a computer-based represent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mplementation through a software system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02800" y="655308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Dieng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MKS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Method for Knowledge System Managemen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77200" indent="-2772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ystemic-based decision support method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77200" indent="-2772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views knowledge assets as a complex system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77200" indent="-2772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odels this complex system through different perspectiv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64920" indent="-2772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yntactical, semantic, pragmatic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77200" indent="-2772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ifferent compon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64920" indent="-2772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formation (data processing)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64920" indent="-2772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ignification (task modelling)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64920" indent="-2772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ntext (activity modelling)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2800" y="655308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Dieng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AM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28600" y="1133640"/>
            <a:ext cx="8686800" cy="50385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891520" y="6553080"/>
            <a:ext cx="233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Knowledge Associates 2000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AMM Architectur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80880" y="1025640"/>
            <a:ext cx="8382240" cy="56800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891520" y="6553080"/>
            <a:ext cx="233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Knowledge Associates 2000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Technology Framework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dentifies key KM activities and related knowledge[oriented techniques and tool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ersonaliz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dific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iscover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reation/innov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apture/monitor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91520" y="655308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eb9"/>
                </a:solidFill>
                <a:latin typeface="Times New Roman"/>
              </a:rPr>
              <a:t>[Milton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Technology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84080" y="960480"/>
            <a:ext cx="7569360" cy="49402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225440" y="5943600"/>
            <a:ext cx="6200640" cy="33732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Times New Roman"/>
              </a:rPr>
              <a:t>(Key: P"Person, K1"Knowledge 1echnology, I1"Information 1echnology)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Personaliz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haring knowledge through person-to-person contac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ools for more effective communic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mail, message boards, chatrooms, personal ontologi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91520" y="655308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eb9"/>
                </a:solidFill>
                <a:latin typeface="Times New Roman"/>
              </a:rPr>
              <a:t>[Milton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dific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apturing existing knowledge and placing it in repositori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ools and techniques for knowledge represent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generic model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ules, frames, case-based reasoning, ...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pecialized techniqu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ask- or domain-specific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91520" y="655308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eb9"/>
                </a:solidFill>
                <a:latin typeface="Times New Roman"/>
              </a:rPr>
              <a:t>[Milton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Repositori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80" y="1143000"/>
            <a:ext cx="9137520" cy="5035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504960" y="6553080"/>
            <a:ext cx="121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KPMG 1998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Discovery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earching and retrieving knowledge from repositories and data bas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ools and techniques from information retrieval, knowledge-based systems, natural language processing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earch engines, ontologi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891520" y="655308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eb9"/>
                </a:solidFill>
                <a:latin typeface="Times New Roman"/>
              </a:rPr>
              <a:t>[Milton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reation/innov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generation of new knowled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ools and techniques from cognitive science, psycholog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brainstorming support, creativity assistanc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ainly a human endeavor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91520" y="655308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eb9"/>
                </a:solidFill>
                <a:latin typeface="Times New Roman"/>
              </a:rPr>
              <a:t>[Milton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apture/Monitor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apturing knowledge as people work on their normal task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ools and techniques from Human-Computer Interaction, AI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udit trails, case collec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91520" y="655308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eb9"/>
                </a:solidFill>
                <a:latin typeface="Times New Roman"/>
              </a:rPr>
              <a:t>[Milton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M Framework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351000"/>
            <a:ext cx="9144000" cy="63547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891520" y="6553080"/>
            <a:ext cx="185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Macintosh et al. 1999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M Process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91520" y="6553080"/>
            <a:ext cx="185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Macintosh et al. 1999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0" y="990720"/>
            <a:ext cx="914400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PROMOTE Architectur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62120" y="204840"/>
            <a:ext cx="7613640" cy="64515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890440" y="6553080"/>
            <a:ext cx="24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Karagiannis 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&amp; 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5"/>
              </a:rPr>
              <a:t>Telesko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6"/>
              </a:rPr>
              <a:t>, 2000</a:t>
            </a:r>
            <a:r>
              <a:rPr b="0" lang="en-US" sz="1400" spc="-1" strike="noStrike">
                <a:solidFill>
                  <a:srgbClr val="fcfeb9"/>
                </a:solidFill>
                <a:latin typeface="Times New Roman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240" y="337680"/>
            <a:ext cx="2438280" cy="1490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PROMOTE Framework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717640" y="3240"/>
            <a:ext cx="6426360" cy="68547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890440" y="6553080"/>
            <a:ext cx="24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eb9"/>
                </a:solidFill>
                <a:latin typeface="Times New Roman"/>
              </a:rPr>
              <a:t>[Karagiannis &amp; Telesko, 2000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rganizational Memory Contex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1292400"/>
            <a:ext cx="9137520" cy="4276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892960" y="6553080"/>
            <a:ext cx="178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Abecker et al. 1998b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337680"/>
            <a:ext cx="3124080" cy="2938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ntext-Sensitive Knowledge Supply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162240" y="228600"/>
            <a:ext cx="5981760" cy="62611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892600" y="6553080"/>
            <a:ext cx="179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Abecker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 et al. 1998b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5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M Infrastructur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375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ntegration of Ontologi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1368360"/>
            <a:ext cx="9118440" cy="47944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892600" y="6553080"/>
            <a:ext cx="179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Abecker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 et al. 1998b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5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Task Suppor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143000" y="896760"/>
            <a:ext cx="6883560" cy="59914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892600" y="6553080"/>
            <a:ext cx="179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Abecker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 et al. 1998b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5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Related Research Area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990720" y="863640"/>
            <a:ext cx="7200720" cy="59943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892600" y="6553080"/>
            <a:ext cx="179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Abecker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 et al. 1998b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5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66440"/>
            <a:ext cx="7772400" cy="1762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ece"/>
                </a:solidFill>
                <a:latin typeface="Times New Roman"/>
              </a:rPr>
              <a:t>Developing a Knowledge</a:t>
            </a:r>
            <a:br>
              <a:rPr sz="5400"/>
            </a:br>
            <a:r>
              <a:rPr b="0" lang="en-US" sz="5400" spc="-1" strike="noStrike">
                <a:solidFill>
                  <a:srgbClr val="00cece"/>
                </a:solidFill>
                <a:latin typeface="Times New Roman"/>
              </a:rPr>
              <a:t>Management Technology</a:t>
            </a:r>
            <a:br>
              <a:rPr sz="5400"/>
            </a:br>
            <a:br>
              <a:rPr sz="3200"/>
            </a:br>
            <a:r>
              <a:rPr b="1" lang="en-US" sz="3200" spc="-1" strike="noStrike">
                <a:solidFill>
                  <a:srgbClr val="00cece"/>
                </a:solidFill>
                <a:latin typeface="Times New Roman"/>
              </a:rPr>
              <a:t>An Encompassing View on the Projects of the</a:t>
            </a:r>
            <a:br>
              <a:rPr sz="3200"/>
            </a:br>
            <a:r>
              <a:rPr b="1" lang="en-US" sz="3200" spc="-1" strike="noStrike">
                <a:solidFill>
                  <a:srgbClr val="00cece"/>
                </a:solidFill>
                <a:latin typeface="Times New Roman"/>
              </a:rPr>
              <a:t>Knowledge Management Group at DFKI Kaiserslautern</a:t>
            </a:r>
            <a:endParaRPr b="0" lang="en-US" sz="32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82760" y="4181400"/>
            <a:ext cx="6400800" cy="11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Michael Sintek, Andreas Abecker, Ansgar Bernardi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German Research Center for Artificial Intelligenc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Kaiserslautern, German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99240" y="426960"/>
            <a:ext cx="874800" cy="944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92600" y="6553080"/>
            <a:ext cx="179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Abecker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8b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4120" y="1862640"/>
            <a:ext cx="6894360" cy="7038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equirements and approaches to support KM infrastructures for organizations; related research fields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58680" y="2767680"/>
            <a:ext cx="6589800" cy="3988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eb9"/>
                </a:solidFill>
                <a:latin typeface="Arial"/>
              </a:rPr>
              <a:t>KnowMore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ctive knowledge supply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cfeb9"/>
                </a:solidFill>
                <a:latin typeface="Arial"/>
              </a:rPr>
              <a:t>finished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58680" y="3377160"/>
            <a:ext cx="6589800" cy="3988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eb9"/>
                </a:solidFill>
                <a:latin typeface="Arial"/>
              </a:rPr>
              <a:t>Know-Net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ollaboration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cfeb9"/>
                </a:solidFill>
                <a:latin typeface="Arial"/>
              </a:rPr>
              <a:t>ongoing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9320" y="4004280"/>
            <a:ext cx="6589800" cy="3988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eb9"/>
                </a:solidFill>
                <a:latin typeface="Arial"/>
              </a:rPr>
              <a:t>FRODO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distribution, framework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cfeb9"/>
                </a:solidFill>
                <a:latin typeface="Arial"/>
              </a:rPr>
              <a:t>current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58680" y="4577400"/>
            <a:ext cx="6589800" cy="3988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eb9"/>
                </a:solidFill>
                <a:latin typeface="Arial"/>
              </a:rPr>
              <a:t>MOTIVE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3D access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cfeb9"/>
                </a:solidFill>
                <a:latin typeface="Arial"/>
              </a:rPr>
              <a:t>planned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54120" y="5182560"/>
            <a:ext cx="6894360" cy="642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ummary: we propose a rich, modular KM middleware as a solid basis for engineering intranet-based KM solutions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8480" y="2581200"/>
            <a:ext cx="0" cy="2590920"/>
          </a:xfrm>
          <a:prstGeom prst="line">
            <a:avLst/>
          </a:prstGeom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98480" y="2967120"/>
            <a:ext cx="160200" cy="0"/>
          </a:xfrm>
          <a:prstGeom prst="line">
            <a:avLst/>
          </a:prstGeom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16120" y="3576600"/>
            <a:ext cx="160200" cy="0"/>
          </a:xfrm>
          <a:prstGeom prst="line">
            <a:avLst/>
          </a:prstGeom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06400" y="4194000"/>
            <a:ext cx="160560" cy="0"/>
          </a:xfrm>
          <a:prstGeom prst="line">
            <a:avLst/>
          </a:prstGeom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98480" y="4768920"/>
            <a:ext cx="160200" cy="0"/>
          </a:xfrm>
          <a:prstGeom prst="line">
            <a:avLst/>
          </a:prstGeom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6200" y="1084320"/>
            <a:ext cx="692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1560" y="1031760"/>
            <a:ext cx="68500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6000"/>
          </a:bodyPr>
          <a:p>
            <a:pPr marL="188640" indent="-188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Development of Knowledge Management technology of the</a:t>
            </a:r>
            <a:endParaRPr b="0" lang="en-US" sz="2800" spc="-1" strike="noStrike">
              <a:solidFill>
                <a:srgbClr val="fcfeb9"/>
              </a:solidFill>
              <a:latin typeface="Times New Roman"/>
            </a:endParaRPr>
          </a:p>
          <a:p>
            <a:pPr marL="188640" indent="-188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Knowledge Management Group at DFKI Kaiserslautern</a:t>
            </a:r>
            <a:endParaRPr b="0" lang="en-US" sz="2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2600" y="6553080"/>
            <a:ext cx="179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Abecker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8b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is an Important Productivity Factor for Organization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355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37240" indent="-237240">
              <a:lnSpc>
                <a:spcPct val="1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besides labor, capital, and land, </a:t>
            </a: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knowledge</a:t>
            </a: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 has been recognized as an important productivity factor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37240" indent="-237240">
              <a:lnSpc>
                <a:spcPct val="1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knowledge is stored in individual brains or implicitly encoded and hidden in organizational processes, documents, services, and syste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3724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5181480"/>
            <a:ext cx="777240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M is concerned with discovery, acquisition, creation, dissemination, and utilization of knowledge.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69080" y="460440"/>
            <a:ext cx="704880" cy="137880"/>
          </a:xfrm>
          <a:prstGeom prst="rect">
            <a:avLst/>
          </a:prstGeom>
          <a:solidFill>
            <a:srgbClr val="fcfeb9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92600" y="6553080"/>
            <a:ext cx="179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Abecker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8b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 flipV="1">
            <a:off x="4600440" y="3108240"/>
            <a:ext cx="1536840" cy="417600"/>
          </a:xfrm>
          <a:prstGeom prst="line">
            <a:avLst/>
          </a:prstGeom>
          <a:ln w="1908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4438800" y="2428920"/>
            <a:ext cx="1465200" cy="914400"/>
          </a:xfrm>
          <a:prstGeom prst="line">
            <a:avLst/>
          </a:prstGeom>
          <a:ln w="1908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2905200" y="2570040"/>
            <a:ext cx="1218960" cy="976320"/>
          </a:xfrm>
          <a:prstGeom prst="line">
            <a:avLst/>
          </a:prstGeom>
          <a:ln w="1908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124160" y="2285640"/>
            <a:ext cx="549360" cy="1260360"/>
          </a:xfrm>
          <a:prstGeom prst="line">
            <a:avLst/>
          </a:prstGeom>
          <a:ln w="1908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124160" y="3546360"/>
            <a:ext cx="1922760" cy="212760"/>
          </a:xfrm>
          <a:prstGeom prst="line">
            <a:avLst/>
          </a:prstGeom>
          <a:ln w="1908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24160" y="3546360"/>
            <a:ext cx="2306880" cy="965160"/>
          </a:xfrm>
          <a:prstGeom prst="line">
            <a:avLst/>
          </a:prstGeom>
          <a:ln w="1908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24160" y="3546360"/>
            <a:ext cx="336600" cy="1279800"/>
          </a:xfrm>
          <a:prstGeom prst="line">
            <a:avLst/>
          </a:prstGeom>
          <a:ln w="1908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854080" y="3546360"/>
            <a:ext cx="1269720" cy="1136880"/>
          </a:xfrm>
          <a:prstGeom prst="line">
            <a:avLst/>
          </a:prstGeom>
          <a:ln w="1908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828440" y="3546360"/>
            <a:ext cx="2306520" cy="365400"/>
          </a:xfrm>
          <a:prstGeom prst="line">
            <a:avLst/>
          </a:prstGeom>
          <a:ln w="1908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1900080" y="3200040"/>
            <a:ext cx="2244960" cy="345960"/>
          </a:xfrm>
          <a:prstGeom prst="line">
            <a:avLst/>
          </a:prstGeom>
          <a:ln w="1908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rganizations Have Serious Problems in Managing Their Corporate Knowledg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5181480"/>
            <a:ext cx="777240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Various fields of computer science tackle </a:t>
            </a:r>
            <a:r>
              <a:rPr b="0" i="1" lang="en-US" sz="2400" spc="-1" strike="noStrike">
                <a:solidFill>
                  <a:srgbClr val="fcfeb9"/>
                </a:solidFill>
                <a:latin typeface="Arial"/>
              </a:rPr>
              <a:t>some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 of these knowledge problems.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39640" y="3152880"/>
            <a:ext cx="1805400" cy="825480"/>
          </a:xfrm>
          <a:prstGeom prst="rect">
            <a:avLst/>
          </a:prstGeom>
          <a:solidFill>
            <a:srgbClr val="fc7c7c"/>
          </a:solidFill>
          <a:ln w="1908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Knowledge</a:t>
            </a:r>
            <a:br>
              <a:rPr sz="2400"/>
            </a:b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Problems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08360" y="3716280"/>
            <a:ext cx="1713960" cy="368280"/>
          </a:xfrm>
          <a:prstGeom prst="rect">
            <a:avLst/>
          </a:prstGeom>
          <a:solidFill>
            <a:srgbClr val="eaeaea"/>
          </a:solidFill>
          <a:ln w="1908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Documentation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76840" y="4627440"/>
            <a:ext cx="1256760" cy="368280"/>
          </a:xfrm>
          <a:prstGeom prst="rect">
            <a:avLst/>
          </a:prstGeom>
          <a:solidFill>
            <a:srgbClr val="eaeaea"/>
          </a:solidFill>
          <a:ln w="1908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Availability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26960" y="4489560"/>
            <a:ext cx="1308600" cy="368280"/>
          </a:xfrm>
          <a:prstGeom prst="rect">
            <a:avLst/>
          </a:prstGeom>
          <a:solidFill>
            <a:srgbClr val="eaeaea"/>
          </a:solidFill>
          <a:ln w="1908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Awareness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056120" y="2090880"/>
            <a:ext cx="1320840" cy="368280"/>
          </a:xfrm>
          <a:prstGeom prst="rect">
            <a:avLst/>
          </a:prstGeom>
          <a:solidFill>
            <a:srgbClr val="eaeaea"/>
          </a:solidFill>
          <a:ln w="1908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Distribution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292040" y="3016080"/>
            <a:ext cx="1270440" cy="368280"/>
          </a:xfrm>
          <a:prstGeom prst="rect">
            <a:avLst/>
          </a:prstGeom>
          <a:solidFill>
            <a:srgbClr val="eaeaea"/>
          </a:solidFill>
          <a:ln w="1908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Resources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39760" y="4356000"/>
            <a:ext cx="1867680" cy="368280"/>
          </a:xfrm>
          <a:prstGeom prst="rect">
            <a:avLst/>
          </a:prstGeom>
          <a:solidFill>
            <a:srgbClr val="eaeaea"/>
          </a:solidFill>
          <a:ln w="1908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Multiple Formats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59720" y="3614760"/>
            <a:ext cx="1637640" cy="368280"/>
          </a:xfrm>
          <a:prstGeom prst="rect">
            <a:avLst/>
          </a:prstGeom>
          <a:solidFill>
            <a:srgbClr val="eaeaea"/>
          </a:solidFill>
          <a:ln w="1908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Multiple Views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11120" y="2343240"/>
            <a:ext cx="1422720" cy="368280"/>
          </a:xfrm>
          <a:prstGeom prst="rect">
            <a:avLst/>
          </a:prstGeom>
          <a:solidFill>
            <a:srgbClr val="eaeaea"/>
          </a:solidFill>
          <a:ln w="1908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Accessibility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43080" y="2271600"/>
            <a:ext cx="1181880" cy="368280"/>
          </a:xfrm>
          <a:prstGeom prst="rect">
            <a:avLst/>
          </a:prstGeom>
          <a:solidFill>
            <a:srgbClr val="eaeaea"/>
          </a:solidFill>
          <a:ln w="1908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Discovery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976720" y="2962440"/>
            <a:ext cx="1282680" cy="368280"/>
          </a:xfrm>
          <a:prstGeom prst="rect">
            <a:avLst/>
          </a:prstGeom>
          <a:solidFill>
            <a:srgbClr val="eaeaea"/>
          </a:solidFill>
          <a:ln w="1908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Acquisition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69080" y="460440"/>
            <a:ext cx="704880" cy="137880"/>
          </a:xfrm>
          <a:prstGeom prst="rect">
            <a:avLst/>
          </a:prstGeom>
          <a:solidFill>
            <a:srgbClr val="fcfeb9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92600" y="6553080"/>
            <a:ext cx="179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Abecker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8b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Resarch Fields Related to K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81040" y="1414080"/>
            <a:ext cx="7640640" cy="361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202680" indent="-2026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Groupware, Workflow, CSCW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486720" indent="-2026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llaboration of individuals and departmen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02680" indent="-2026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Document management, retrieval, and filtering syste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486720" indent="-2026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ost of the available abstract, strategic knowledge written down in text-based documen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486720" indent="-2026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ften advertised as KM solu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02680" indent="-2026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Artificial Intelligenc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486720" indent="-2026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formal ontologi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486720" indent="-2026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ata min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486720" indent="-2026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ase bas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486720" indent="-2026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xpert syste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486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9480" y="5181480"/>
            <a:ext cx="777240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e strive for a new quality of knowledge systems by </a:t>
            </a:r>
            <a:r>
              <a:rPr b="0" i="1" lang="en-US" sz="2400" spc="-1" strike="noStrike">
                <a:solidFill>
                  <a:srgbClr val="fcfeb9"/>
                </a:solidFill>
                <a:latin typeface="Arial"/>
              </a:rPr>
              <a:t>integrating all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 these areas.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69080" y="460440"/>
            <a:ext cx="704880" cy="137880"/>
          </a:xfrm>
          <a:prstGeom prst="rect">
            <a:avLst/>
          </a:prstGeom>
          <a:solidFill>
            <a:srgbClr val="fcfeb9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892600" y="6553080"/>
            <a:ext cx="179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Abecker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8b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More—Knowledge Management for Learning Organization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77800" y="1738080"/>
            <a:ext cx="7772400" cy="305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196920" indent="-196920">
              <a:lnSpc>
                <a:spcPct val="15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basic research project funded by German governmen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196920" indent="-196920">
              <a:lnSpc>
                <a:spcPct val="15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entral idea: access to multiple heterogeneous knowledge sourc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196920" indent="-196920">
              <a:lnSpc>
                <a:spcPct val="15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nabled through comprehensive knowledge description using several formal ontologies (information, domain, enterprise ontology)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196920" indent="-196920">
              <a:lnSpc>
                <a:spcPct val="15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ctive information delivery integrated into business process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196920" indent="-196920">
              <a:lnSpc>
                <a:spcPct val="15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xplicit representation of contex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09480" y="5181480"/>
            <a:ext cx="777240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 KnowMore, knowledge can be viewed as information linked into the application context.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764480" y="628560"/>
            <a:ext cx="601560" cy="98640"/>
          </a:xfrm>
          <a:prstGeom prst="rect">
            <a:avLst/>
          </a:prstGeom>
          <a:solidFill>
            <a:srgbClr val="fcfeb9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92600" y="6553080"/>
            <a:ext cx="179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Abecker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8b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he KnowMore System Architectur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278" name="map-smaller" descr=""/>
          <p:cNvPicPr/>
          <p:nvPr/>
        </p:nvPicPr>
        <p:blipFill>
          <a:blip r:embed="rId1"/>
          <a:stretch/>
        </p:blipFill>
        <p:spPr>
          <a:xfrm>
            <a:off x="1623960" y="1019160"/>
            <a:ext cx="5958000" cy="50846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7764480" y="628560"/>
            <a:ext cx="601560" cy="98640"/>
          </a:xfrm>
          <a:prstGeom prst="rect">
            <a:avLst/>
          </a:prstGeom>
          <a:solidFill>
            <a:srgbClr val="fcfeb9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92600" y="6553080"/>
            <a:ext cx="179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Abecker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 et al. 1998b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5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M Initiativ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133640"/>
            <a:ext cx="913752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-Net—Knowledge Management with Intranet Technologi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0640" y="1384200"/>
            <a:ext cx="7772400" cy="398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214200" indent="-21420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unded by the European Commission within the “IT for learning and training industry” program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14200" indent="-214200">
              <a:lnSpc>
                <a:spcPct val="11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tegrate groupware functionalities with AI methods enabling the handling of knowledge objec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14200" indent="-2142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based on Knowledger™ suite (Lotus Notes™ application from Knowledge Associates) and intelligent agents (DFKI)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14200" indent="-2142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tranet- and agent-based knowledge platform: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514080" indent="-21420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dification, mapping, sharing, and reuse of explicit knowledge in multimedia conten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514080" indent="-2142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rporate knowledge ontologi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514080" indent="-2142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telligent navigation, searching, filter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14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14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14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5181480"/>
            <a:ext cx="777240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 addition to a KnowMore-like knowledge platform, </a:t>
            </a:r>
            <a:r>
              <a:rPr b="0" i="1" lang="en-US" sz="2400" spc="-1" strike="noStrike">
                <a:solidFill>
                  <a:srgbClr val="fcfeb9"/>
                </a:solidFill>
                <a:latin typeface="Arial"/>
              </a:rPr>
              <a:t>collaborative aspects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 play an important role.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761240" y="747720"/>
            <a:ext cx="601560" cy="98280"/>
          </a:xfrm>
          <a:prstGeom prst="rect">
            <a:avLst/>
          </a:prstGeom>
          <a:solidFill>
            <a:srgbClr val="fcfeb9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92600" y="6553080"/>
            <a:ext cx="179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Abecker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8b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-Net: Collaborative Aspect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28560" y="1779480"/>
            <a:ext cx="7772400" cy="392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188640" indent="-188640">
              <a:lnSpc>
                <a:spcPct val="14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llaborative tools supporting communities of practice at the team level to facilitate the creation of shared memories and interpretative contex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452520" indent="-18864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al-time group discussions/meeting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452520" indent="-18864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roject-based bulletin boards and foru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452520" indent="-18864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n-line topical conferences with threading features and interactive expertise databas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188640" indent="-188640">
              <a:lnSpc>
                <a:spcPct val="14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Know-Net mainly exploits the collaboration and coordination technology provided by Lotus Notes and add-on products like Sametim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761240" y="747720"/>
            <a:ext cx="601560" cy="98280"/>
          </a:xfrm>
          <a:prstGeom prst="rect">
            <a:avLst/>
          </a:prstGeom>
          <a:solidFill>
            <a:srgbClr val="fcfeb9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892600" y="6553080"/>
            <a:ext cx="179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Abecker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8b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he Know-Net Intranet- and Agent-Based System Architectur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503280" y="1349280"/>
            <a:ext cx="8104320" cy="47088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7761240" y="747720"/>
            <a:ext cx="601560" cy="98280"/>
          </a:xfrm>
          <a:prstGeom prst="rect">
            <a:avLst/>
          </a:prstGeom>
          <a:solidFill>
            <a:srgbClr val="fcfeb9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92600" y="6553080"/>
            <a:ext cx="179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Abecker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 et al. 1998b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5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FRODO—A Scalable OM Framework for Evolutionary Growth </a:t>
            </a:r>
            <a:r>
              <a:rPr b="0" i="1" lang="en-US" sz="4400" spc="-1" strike="noStrike">
                <a:solidFill>
                  <a:srgbClr val="00cece"/>
                </a:solidFill>
                <a:latin typeface="Times New Roman"/>
              </a:rPr>
              <a:t>(future work)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9200" y="1342800"/>
            <a:ext cx="7772400" cy="257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marL="194040" indent="-1940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basic research project funded by German government, successor project of KnowMor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194040" indent="-1940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KnowMore: global set of ontologies, centralized inferenc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194040" indent="-1940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RODO: conjointly use knowledge from several independent knowledge sources 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466200" indent="-1940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legacy databas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466200" indent="-1940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dependently introduced partial OMs based on specific ontologi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466200" indent="-1940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xternal knowledge sources (with own ontologies)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194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194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46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194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81120" y="4319640"/>
            <a:ext cx="50194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2000"/>
          </a:bodyPr>
          <a:p>
            <a:pPr marL="205560" indent="-20556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ntology mapping problem</a:t>
            </a:r>
            <a:endParaRPr b="0" lang="en-US" sz="2800" spc="-1" strike="noStrike">
              <a:solidFill>
                <a:srgbClr val="fcfeb9"/>
              </a:solidFill>
              <a:latin typeface="Times New Roman"/>
            </a:endParaRPr>
          </a:p>
          <a:p>
            <a:pPr marL="205560" indent="-20556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mmunicating and cooperating services</a:t>
            </a:r>
            <a:endParaRPr b="0" lang="en-US" sz="2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178160" y="3965400"/>
            <a:ext cx="344520" cy="365400"/>
          </a:xfrm>
          <a:prstGeom prst="downArrow">
            <a:avLst>
              <a:gd name="adj1" fmla="val 50000"/>
              <a:gd name="adj2" fmla="val 26515"/>
            </a:avLst>
          </a:prstGeom>
          <a:solidFill>
            <a:srgbClr val="c000c0"/>
          </a:solidFill>
          <a:ln w="0">
            <a:solidFill>
              <a:srgbClr val="fcfeb9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5181480"/>
            <a:ext cx="777240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e propose a rich, modular KM middleware as a solid basis for engineering intranet-based KM solutions.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6757920" y="423720"/>
            <a:ext cx="533520" cy="9036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7764480" y="873000"/>
            <a:ext cx="601560" cy="98640"/>
          </a:xfrm>
          <a:prstGeom prst="rect">
            <a:avLst/>
          </a:prstGeom>
          <a:solidFill>
            <a:srgbClr val="fcfeb9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92600" y="6553080"/>
            <a:ext cx="179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Abecker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 et al. 1998b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5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he FRODO KM Middleware Will Exploit Various Notions of Agent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30360" y="1809720"/>
            <a:ext cx="7772400" cy="372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199800" indent="-1998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igital reference and acquisition libraria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479880" indent="-1998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 their respective knowledge source and organization principl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479880" indent="-1998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 how to effectively access, search, maintain the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199800" indent="-1998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wrappers, mediators, ontologists, knowledge broker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479880" indent="-1998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dd intelligent interfaces to legacy syste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479880" indent="-1998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ake sources accessible to higher-level inferenc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199800" indent="-1998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ocument analysis and information extraction specialis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479880" indent="-1998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llow transition between informal and formal representa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199800" indent="-1998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ask/process agents, knowledge push/pull mechanis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479880" indent="-1998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anage workflow enactmen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479880" indent="-1998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alize context-sensitive information suppl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764480" y="873000"/>
            <a:ext cx="601560" cy="98640"/>
          </a:xfrm>
          <a:prstGeom prst="rect">
            <a:avLst/>
          </a:prstGeom>
          <a:solidFill>
            <a:srgbClr val="fcfeb9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92600" y="6553080"/>
            <a:ext cx="179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Abecker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8b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hai" descr=""/>
          <p:cNvPicPr/>
          <p:nvPr/>
        </p:nvPicPr>
        <p:blipFill>
          <a:blip r:embed="rId1"/>
          <a:stretch/>
        </p:blipFill>
        <p:spPr>
          <a:xfrm>
            <a:off x="1938240" y="1028880"/>
            <a:ext cx="5052960" cy="505296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A Sample Instantiation of the FRODO OM Framework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764480" y="873000"/>
            <a:ext cx="601560" cy="98640"/>
          </a:xfrm>
          <a:prstGeom prst="rect">
            <a:avLst/>
          </a:prstGeom>
          <a:solidFill>
            <a:srgbClr val="fcfeb9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892600" y="6553080"/>
            <a:ext cx="179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Abecker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 et al. 1998b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5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MOTIVE—Fostering Individual Users’ Motivation for Accessing Online Learning &amp; Training Resources </a:t>
            </a:r>
            <a:r>
              <a:rPr b="0" i="1" lang="en-US" sz="4400" spc="-1" strike="noStrike">
                <a:solidFill>
                  <a:srgbClr val="00cece"/>
                </a:solidFill>
                <a:latin typeface="Times New Roman"/>
              </a:rPr>
              <a:t>(planned)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0120" y="1668240"/>
            <a:ext cx="7772400" cy="306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8000"/>
          </a:bodyPr>
          <a:p>
            <a:pPr marL="165600" indent="-1656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will be submitted to the EU 5th framework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165600" indent="-1656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nline front-end to electronic learning and training (L&amp;T) syste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165600" indent="-1656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ddresses users’ motivation; important driving factor is </a:t>
            </a: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social interac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16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165600" indent="-16560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OTIVE proposes an environment that wraps L&amp;T tools and content </a:t>
            </a: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together with people’s interactio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165600" indent="-1656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virtual representation of the L&amp;T environment: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397440" indent="-1656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orkspace with 3D representation of the organization and of knowledge asse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397440" indent="-1656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vatars associated to user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397440" indent="-1656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izard agents with specific roles for promoting available material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397440" indent="-1656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upport for social processes: events organization, social places (café) etc.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860640" y="2682720"/>
            <a:ext cx="325440" cy="293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000c0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759800" y="998640"/>
            <a:ext cx="601560" cy="98280"/>
          </a:xfrm>
          <a:prstGeom prst="rect">
            <a:avLst/>
          </a:prstGeom>
          <a:solidFill>
            <a:srgbClr val="fcfeb9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92600" y="6553080"/>
            <a:ext cx="179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Abecker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8b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MOTIVE Adds Access to L&amp;T OMs Through 3D Knowledge Portal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1120" y="1525680"/>
            <a:ext cx="7772400" cy="40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25720" indent="-22572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he L&amp;T contents is accompanied by a KnowMore/FRODO-like knowledge meta-level based upon various ontologi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25720" indent="-22572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XML as upcoming standard will be used for this knowledge representation task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25720" indent="-22572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 3D knowledge portal wraps these ontologies to provide a highly motivating access to the L&amp;T resourc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25720" indent="-22572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hus, the MOTIVE 3D knowledge access can be viewed as an additional, but highly user-friendly information retrieval aspect of the general KM scenario 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257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00120" y="4724280"/>
            <a:ext cx="777240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 general, 3D spaces can be used to replace legacy information retrieval, knowledge acquisition, and workflow frontends of OM systems.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759800" y="998640"/>
            <a:ext cx="601560" cy="98280"/>
          </a:xfrm>
          <a:prstGeom prst="rect">
            <a:avLst/>
          </a:prstGeom>
          <a:solidFill>
            <a:srgbClr val="fcfeb9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2600" y="6553080"/>
            <a:ext cx="179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Abecker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8b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60240" y="140148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1969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Arial"/>
              </a:rPr>
              <a:t>In our view, KM technology is a combination of:</a:t>
            </a:r>
            <a:endParaRPr b="0" lang="en-US" sz="3200" spc="-1" strike="noStrike">
              <a:solidFill>
                <a:srgbClr val="fcfeb9"/>
              </a:solidFill>
              <a:latin typeface="Arial"/>
            </a:endParaRPr>
          </a:p>
          <a:p>
            <a:pPr marL="196920" indent="-196920">
              <a:lnSpc>
                <a:spcPct val="14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istributed, heterogeneous knowledge sourc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196920" indent="-196920">
              <a:lnSpc>
                <a:spcPct val="14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various formal ontologies (information, domain, enterprise)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196920" indent="-196920">
              <a:lnSpc>
                <a:spcPct val="14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knowledge meta-descriptio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196920" indent="-196920">
              <a:lnSpc>
                <a:spcPct val="14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formal-formal transitio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196920" indent="-196920">
              <a:lnSpc>
                <a:spcPct val="14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workflow, active support, contex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196920" indent="-196920">
              <a:lnSpc>
                <a:spcPct val="14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llabor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196920" indent="-196920">
              <a:lnSpc>
                <a:spcPct val="14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ramework, middleware, ag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196920" indent="-196920">
              <a:lnSpc>
                <a:spcPct val="14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user-friendly access through 3D spac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670880" y="1122480"/>
            <a:ext cx="695160" cy="142920"/>
          </a:xfrm>
          <a:prstGeom prst="rect">
            <a:avLst/>
          </a:prstGeom>
          <a:solidFill>
            <a:srgbClr val="fcfeb9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92600" y="6553080"/>
            <a:ext cx="179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Abecker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8b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Post-Tes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Pre-Tes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Evalu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riteria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mportant Concepts and Term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" y="1066680"/>
            <a:ext cx="4343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91120" y="1066680"/>
            <a:ext cx="46670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natural language processing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neural network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redicate logic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ropositional logic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ational agent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ationality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uring test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1143000"/>
            <a:ext cx="4667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utomated reasoning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belief network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ognitive science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omputer science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hidden Markov model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telligence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representation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linguistics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Lisp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logic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machine learning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microworlds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Summary KM Techniqu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Motiv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nz J. Kurfess</cp:lastModifiedBy>
  <cp:lastPrinted>2003-03-20T21:39:45Z</cp:lastPrinted>
  <dcterms:modified xsi:type="dcterms:W3CDTF">2003-03-21T00:12:07Z</dcterms:modified>
  <cp:revision>47</cp:revision>
  <dc:subject/>
  <dc:title>CSC 480: Artificial Intelligence</dc:title>
</cp:coreProperties>
</file>