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pct" ContentType="image/x-pict"/>
  <Override PartName="/ppt/media/image8.pct" ContentType="image/x-pict"/>
  <Override PartName="/ppt/media/image27.jpeg" ContentType="image/jpeg"/>
  <Override PartName="/ppt/media/image9.png" ContentType="image/png"/>
  <Override PartName="/ppt/media/image34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33.png" ContentType="image/png"/>
  <Override PartName="/ppt/media/image40.png" ContentType="image/png"/>
  <Override PartName="/ppt/media/image39.pct" ContentType="image/x-pict"/>
  <Override PartName="/ppt/media/image41.png" ContentType="image/png"/>
  <Override PartName="/ppt/media/image4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12.png" ContentType="image/png"/>
  <Override PartName="/ppt/media/image3.pct" ContentType="image/x-pict"/>
  <Override PartName="/ppt/media/image6.png" ContentType="image/png"/>
  <Override PartName="/ppt/media/image29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42100" cy="9777413"/>
  <p:custShowLst>
    <p:custShow name="Lecture 1" id="0">
      <p:sldLst>
        <p:sld r:id="rId13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</p:sldLst>
    </p:custShow>
    <p:custShow name="Lecture 2" id="1">
      <p:sldLst>
        <p:sld r:id="rId14"/>
        <p:sld r:id="rId15"/>
        <p:sld r:id="rId16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Spring 2003" id="2">
      <p:sldLst>
        <p:sld r:id="rId6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8"/>
        <p:sld r:id="rId71"/>
        <p:sld r:id="rId74"/>
        <p:sld r:id="rId77"/>
        <p:sld r:id="rId80"/>
        <p:sld r:id="rId86"/>
        <p:sld r:id="rId8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0000" y="1393920"/>
            <a:ext cx="4325760" cy="3244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35040" y="5171760"/>
            <a:ext cx="53467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slogo" descr=""/>
          <p:cNvPicPr/>
          <p:nvPr/>
        </p:nvPicPr>
        <p:blipFill>
          <a:blip r:embed="rId1"/>
          <a:stretch/>
        </p:blipFill>
        <p:spPr>
          <a:xfrm>
            <a:off x="4059360" y="6111720"/>
            <a:ext cx="949320" cy="55260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553080"/>
            <a:ext cx="3125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Management Tools  </a:t>
            </a:r>
            <a:fld id="{858F484D-07A2-4887-B965-DDCD9871012D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2.xml"/><Relationship Id="rId3" Type="http://schemas.openxmlformats.org/officeDocument/2006/relationships/slide" Target="slide38.xml"/><Relationship Id="rId4" Type="http://schemas.openxmlformats.org/officeDocument/2006/relationships/slide" Target="slide42.xml"/><Relationship Id="rId5" Type="http://schemas.openxmlformats.org/officeDocument/2006/relationships/slide" Target="slide47.xml"/><Relationship Id="rId6" Type="http://schemas.openxmlformats.org/officeDocument/2006/relationships/slide" Target="slide54.xml"/><Relationship Id="rId7" Type="http://schemas.openxmlformats.org/officeDocument/2006/relationships/slide" Target="slide58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t-research.ne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Other-Material/Wissensmanagement%202001/maybury.ppt#Slide 45" TargetMode="External"/><Relationship Id="rId2" Type="http://schemas.openxmlformats.org/officeDocument/2006/relationships/hyperlink" Target="file:///../Other-Material/Wissensmanagement%202001/maybury.ppt#Slide 45" TargetMode="External"/><Relationship Id="rId3" Type="http://schemas.openxmlformats.org/officeDocument/2006/relationships/hyperlink" Target="file:///../Other-Material/Wissensmanagement%202001/maybury.ppt#Slide 45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ng"/><Relationship Id="rId6" Type="http://schemas.openxmlformats.org/officeDocument/2006/relationships/image" Target="../media/image7.pct"/><Relationship Id="rId7" Type="http://schemas.openxmlformats.org/officeDocument/2006/relationships/image" Target="../media/image8.pct"/><Relationship Id="rId8" Type="http://schemas.openxmlformats.org/officeDocument/2006/relationships/image" Target="../media/image9.png"/><Relationship Id="rId9" Type="http://schemas.openxmlformats.org/officeDocument/2006/relationships/image" Target="../media/image10.pct"/><Relationship Id="rId10" Type="http://schemas.openxmlformats.org/officeDocument/2006/relationships/image" Target="../media/image11.jpeg"/><Relationship Id="rId11" Type="http://schemas.openxmlformats.org/officeDocument/2006/relationships/package" Target="../embeddings/oleObject1.xlsx"/><Relationship Id="rId12" Type="http://schemas.openxmlformats.org/officeDocument/2006/relationships/image" Target="../media/image2.pct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" Target="slide82.xml"/><Relationship Id="rId16" Type="http://schemas.openxmlformats.org/officeDocument/2006/relationships/slide" Target="slide82.xml"/><Relationship Id="rId17" Type="http://schemas.openxmlformats.org/officeDocument/2006/relationships/slide" Target="slide82.xml"/><Relationship Id="rId18" Type="http://schemas.openxmlformats.org/officeDocument/2006/relationships/slide" Target="slide82.xm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map.coginst.uwf.edu/" TargetMode="External"/><Relationship Id="rId2" Type="http://schemas.openxmlformats.org/officeDocument/2006/relationships/hyperlink" Target="http://cmap.coginst.uwf.edu/" TargetMode="Externa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slide" Target="slide82.xml"/><Relationship Id="rId9" Type="http://schemas.openxmlformats.org/officeDocument/2006/relationships/slide" Target="slide82.xml"/><Relationship Id="rId10" Type="http://schemas.openxmlformats.org/officeDocument/2006/relationships/slide" Target="slide82.xml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cmap.coginst.uwf.edu/samples" TargetMode="External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cmap.coginst.uwf.edu/" TargetMode="Externa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80-20.com/products/discovery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index-eng.html" TargetMode="External"/><Relationship Id="rId2" Type="http://schemas.openxmlformats.org/officeDocument/2006/relationships/hyperlink" Target="http://www-sop.inria.fr/acacia/Cokace/index-eng.html" TargetMode="External"/><Relationship Id="rId3" Type="http://schemas.openxmlformats.org/officeDocument/2006/relationships/hyperlink" Target="http://www-sop.inria.fr/acacia/Cokace/index-eng.html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ssistum.com/" TargetMode="External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hyperlink" Target="http://www.assistum.com/" TargetMode="External"/><Relationship Id="rId6" Type="http://schemas.openxmlformats.org/officeDocument/2006/relationships/hyperlink" Target="http://www.assistum.com/" TargetMode="External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assistum.com/2000/demonstrations/javademo.html" TargetMode="External"/><Relationship Id="rId2" Type="http://schemas.openxmlformats.org/officeDocument/2006/relationships/hyperlink" Target="http://www.assistum.com/2000/demonstrations/javademo.html" TargetMode="External"/><Relationship Id="rId3" Type="http://schemas.openxmlformats.org/officeDocument/2006/relationships/hyperlink" Target="http://www.assistum.com/2000/demonstrations/javademo.html" TargetMode="External"/><Relationship Id="rId4" Type="http://schemas.openxmlformats.org/officeDocument/2006/relationships/hyperlink" Target="http://www.assistum.com/2000/demonstrations/javademo.html" TargetMode="External"/><Relationship Id="rId5" Type="http://schemas.openxmlformats.org/officeDocument/2006/relationships/hyperlink" Target="http://www.assistum.com/2000/demonstrations/javademo.html" TargetMode="External"/><Relationship Id="rId6" Type="http://schemas.openxmlformats.org/officeDocument/2006/relationships/hyperlink" Target="http://www.assistum.com/" TargetMode="External"/><Relationship Id="rId7" Type="http://schemas.openxmlformats.org/officeDocument/2006/relationships/hyperlink" Target="http://www.assistum.com/" TargetMode="External"/><Relationship Id="rId8" Type="http://schemas.openxmlformats.org/officeDocument/2006/relationships/hyperlink" Target="http://www.assistum.com/" TargetMode="External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assistum.com/" TargetMode="External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isys.dia.fi.upm.es/ksm/home.html" TargetMode="External"/><Relationship Id="rId2" Type="http://schemas.openxmlformats.org/officeDocument/2006/relationships/hyperlink" Target="http://www.isys.dia.fi.upm.es/ksm/home.html" TargetMode="External"/><Relationship Id="rId3" Type="http://schemas.openxmlformats.org/officeDocument/2006/relationships/hyperlink" Target="http://www.isys.dia.fi.upm.es/ksm/home.html" TargetMode="External"/><Relationship Id="rId4" Type="http://schemas.openxmlformats.org/officeDocument/2006/relationships/hyperlink" Target="http://www.isys.dia.fi.upm.es/ksm/home.html" TargetMode="External"/><Relationship Id="rId5" Type="http://schemas.openxmlformats.org/officeDocument/2006/relationships/hyperlink" Target="http://www.isys.dia.fi.upm.es/ksm/home.html" TargetMode="External"/><Relationship Id="rId6" Type="http://schemas.openxmlformats.org/officeDocument/2006/relationships/hyperlink" Target="http://www.isys.dia.fi.upm.es/ksm/home.html" TargetMode="External"/><Relationship Id="rId7" Type="http://schemas.openxmlformats.org/officeDocument/2006/relationships/hyperlink" Target="http://www.isys.dia.fi.upm.es/ksm/home.html" TargetMode="External"/><Relationship Id="rId8" Type="http://schemas.openxmlformats.org/officeDocument/2006/relationships/hyperlink" Target="http://www.isys.dia.fi.upm.es/ksm/home.html" TargetMode="External"/><Relationship Id="rId9" Type="http://schemas.openxmlformats.org/officeDocument/2006/relationships/hyperlink" Target="http://www.isys.dia.fi.upm.es/ksm/home.html" TargetMode="External"/><Relationship Id="rId10" Type="http://schemas.openxmlformats.org/officeDocument/2006/relationships/hyperlink" Target="http://www.isys.dia.fi.upm.es/ksm/home.html" TargetMode="External"/><Relationship Id="rId11" Type="http://schemas.openxmlformats.org/officeDocument/2006/relationships/hyperlink" Target="http://www.isys.dia.fi.upm.es/ksm/home.html" TargetMode="External"/><Relationship Id="rId1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cokace.html" TargetMode="External"/><Relationship Id="rId2" Type="http://schemas.openxmlformats.org/officeDocument/2006/relationships/hyperlink" Target="http://www-sop.inria.fr/acacia/Cokace/cokace.html" TargetMode="External"/><Relationship Id="rId3" Type="http://schemas.openxmlformats.org/officeDocument/2006/relationships/hyperlink" Target="http://www-sop.inria.fr/acacia/Cokace/cokace.html" TargetMode="External"/><Relationship Id="rId4" Type="http://schemas.openxmlformats.org/officeDocument/2006/relationships/hyperlink" Target="http://www-sop.inria.fr/acacia/Cokace/cokace.html" TargetMode="External"/><Relationship Id="rId5" Type="http://schemas.openxmlformats.org/officeDocument/2006/relationships/hyperlink" Target="http://www-sop.inria.fr/acacia/Cokace/cokace.html" TargetMode="External"/><Relationship Id="rId6" Type="http://schemas.openxmlformats.org/officeDocument/2006/relationships/hyperlink" Target="http://www-sop.inria.fr/acacia/Cokace/cokace.html" TargetMode="External"/><Relationship Id="rId7" Type="http://schemas.openxmlformats.org/officeDocument/2006/relationships/hyperlink" Target="http://www-sop.inria.fr/acacia/Cokace/cokace.html" TargetMode="External"/><Relationship Id="rId8" Type="http://schemas.openxmlformats.org/officeDocument/2006/relationships/hyperlink" Target="http://www-sop.inria.fr/acacia/Cokace/cokace.html" TargetMode="External"/><Relationship Id="rId9" Type="http://schemas.openxmlformats.org/officeDocument/2006/relationships/hyperlink" Target="http://www-sop.inria.fr/acacia/Cokace/cokace.html" TargetMode="External"/><Relationship Id="rId10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index-eng.html" TargetMode="External"/><Relationship Id="rId2" Type="http://schemas.openxmlformats.org/officeDocument/2006/relationships/image" Target="../media/image39.pct"/><Relationship Id="rId3" Type="http://schemas.openxmlformats.org/officeDocument/2006/relationships/hyperlink" Target="http://www-sop.inria.fr/acacia/Cokace/index-eng.html" TargetMode="External"/><Relationship Id="rId4" Type="http://schemas.openxmlformats.org/officeDocument/2006/relationships/hyperlink" Target="http://www-sop.inria.fr/acacia/Cokace/index-eng.html" TargetMode="External"/><Relationship Id="rId5" Type="http://schemas.openxmlformats.org/officeDocument/2006/relationships/hyperlink" Target="http://www-sop.inria.fr/acacia/Cokace/index-eng.html" TargetMode="External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a-i-a.com/englishHomePage/technologies.html" TargetMode="External"/><Relationship Id="rId2" Type="http://schemas.openxmlformats.org/officeDocument/2006/relationships/hyperlink" Target="http://www.a-i-a.com/englishHomePage/technologies.html" TargetMode="External"/><Relationship Id="rId3" Type="http://schemas.openxmlformats.org/officeDocument/2006/relationships/hyperlink" Target="http://www.a-i-a.com/englishHomePage/technologies.html" TargetMode="External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a-i-a.com/englishHomePage/technologie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a-i-a.com/englishHomePage/siteMap.html" TargetMode="Externa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cmap.coginst.uwf.edu/info/" TargetMode="External"/><Relationship Id="rId2" Type="http://schemas.openxmlformats.org/officeDocument/2006/relationships/hyperlink" Target="http://cmap.coginst.uwf.edu/info/" TargetMode="External"/><Relationship Id="rId3" Type="http://schemas.openxmlformats.org/officeDocument/2006/relationships/hyperlink" Target="http://cmap.coginst.uwf.edu/info/" TargetMode="External"/><Relationship Id="rId4" Type="http://schemas.openxmlformats.org/officeDocument/2006/relationships/hyperlink" Target="http://cmap.coginst.uwf.edu/info/" TargetMode="External"/><Relationship Id="rId5" Type="http://schemas.openxmlformats.org/officeDocument/2006/relationships/hyperlink" Target="http://cmap.coginst.uwf.edu/info/" TargetMode="External"/><Relationship Id="rId6" Type="http://schemas.openxmlformats.org/officeDocument/2006/relationships/hyperlink" Target="http://cmap.coginst.uwf.edu/info/" TargetMode="External"/><Relationship Id="rId7" Type="http://schemas.openxmlformats.org/officeDocument/2006/relationships/hyperlink" Target="http://cmap.coginst.uwf.edu/info/" TargetMode="External"/><Relationship Id="rId8" Type="http://schemas.openxmlformats.org/officeDocument/2006/relationships/hyperlink" Target="http://www.sap-ag.de/solutions/bi/km" TargetMode="External"/><Relationship Id="rId9" Type="http://schemas.openxmlformats.org/officeDocument/2006/relationships/hyperlink" Target="http://www.sap-ag.de/solutions/bi/km" TargetMode="External"/><Relationship Id="rId10" Type="http://schemas.openxmlformats.org/officeDocument/2006/relationships/hyperlink" Target="http://www.sap-ag.de/solutions/bi/km" TargetMode="External"/><Relationship Id="rId11" Type="http://schemas.openxmlformats.org/officeDocument/2006/relationships/hyperlink" Target="http://www.sap-ag.de/solutions/bi/km" TargetMode="External"/><Relationship Id="rId12" Type="http://schemas.openxmlformats.org/officeDocument/2006/relationships/hyperlink" Target="http://www.sap-ag.de/solutions/bi/km" TargetMode="External"/><Relationship Id="rId13" Type="http://schemas.openxmlformats.org/officeDocument/2006/relationships/hyperlink" Target="http://cmap.coginst.uwf.edu/info/" TargetMode="External"/><Relationship Id="rId14" Type="http://schemas.openxmlformats.org/officeDocument/2006/relationships/hyperlink" Target="http://www.opentext.com/livelink" TargetMode="External"/><Relationship Id="rId15" Type="http://schemas.openxmlformats.org/officeDocument/2006/relationships/hyperlink" Target="http://www.opentext.com/livelink" TargetMode="External"/><Relationship Id="rId16" Type="http://schemas.openxmlformats.org/officeDocument/2006/relationships/hyperlink" Target="http://www.opentext.com/livelink" TargetMode="External"/><Relationship Id="rId17" Type="http://schemas.openxmlformats.org/officeDocument/2006/relationships/hyperlink" Target="http://www.opentext.com/livelink" TargetMode="External"/><Relationship Id="rId18" Type="http://schemas.openxmlformats.org/officeDocument/2006/relationships/hyperlink" Target="http://www.opentext.com/livelink" TargetMode="External"/><Relationship Id="rId19" Type="http://schemas.openxmlformats.org/officeDocument/2006/relationships/hyperlink" Target="http://www.aisb.uni-karlsruhe.de/~sst" TargetMode="External"/><Relationship Id="rId20" Type="http://schemas.openxmlformats.org/officeDocument/2006/relationships/hyperlink" Target="http://www.aisb.uni-karlsruhe.de/~sst" TargetMode="External"/><Relationship Id="rId21" Type="http://schemas.openxmlformats.org/officeDocument/2006/relationships/hyperlink" Target="http://www.aisb.uni-karlsruhe.de/~sst" TargetMode="External"/><Relationship Id="rId22" Type="http://schemas.openxmlformats.org/officeDocument/2006/relationships/hyperlink" Target="http://www.aisb.uni-karlsruhe.de/~sst" TargetMode="External"/><Relationship Id="rId23" Type="http://schemas.openxmlformats.org/officeDocument/2006/relationships/hyperlink" Target="http://www.aisb.uni-karlsruhe.de/~sst" TargetMode="External"/><Relationship Id="rId24" Type="http://schemas.openxmlformats.org/officeDocument/2006/relationships/hyperlink" Target="http://www.aisb.uni-karlsruhe.de/~sst" TargetMode="External"/><Relationship Id="rId25" Type="http://schemas.openxmlformats.org/officeDocument/2006/relationships/hyperlink" Target="http://www.aisb.uni-karlsruhe.de/~sst" TargetMode="External"/><Relationship Id="rId26" Type="http://schemas.openxmlformats.org/officeDocument/2006/relationships/hyperlink" Target="http://www.aisb.uni-karlsruhe.de/~sst" TargetMode="External"/><Relationship Id="rId27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SAP Knowledge Wareho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IHMC Concept Ma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 action="ppaction://hlinksldjump"/>
              </a:rPr>
              <a:t>80-20 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 action="ppaction://hlinksldjump"/>
              </a:rPr>
              <a:t>Assistu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 action="ppaction://hlinksldjump"/>
              </a:rPr>
              <a:t>Knowledge Structure Manager (KSM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 action="ppaction://hlinksldjump"/>
              </a:rPr>
              <a:t>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 action="ppaction://hlinksldjump"/>
              </a:rPr>
              <a:t>Idea Process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udy IT-Research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it-research.n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49120"/>
            <a:ext cx="94996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s by Categ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: Verity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™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Connex™, Excalibur™, Eurospider™, Google™, Fulcrum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aborative Filtering: Grapevin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ranet Portal: Intraspect™ , Open Text™ , Autonomy™, Ontopris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roupware: Lotus Notes™, MS Exchang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 Management: PCDOCS™, InQuery™, Filenet™, Documentum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xt Summarization: Prosu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base solutions: Wincite™, Dataware™, Agentwar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erience Factories: at A.D.Little™, at Xerox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kill Management: Loga HRMS (P&amp;I)™, proprietary solu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s-based: USU™, Knowledge Park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isualization: Inxight™, AIdministrator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Discovery: Clementine™, IBM™, SAS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4160" y="6583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Staab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20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 in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Knowledge Discovery Tools (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Maybury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, WM 2001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covery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80" y="1130400"/>
            <a:ext cx="9115560" cy="5408640"/>
            <a:chOff x="19080" y="1130400"/>
            <a:chExt cx="9115560" cy="5408640"/>
          </a:xfrm>
        </p:grpSpPr>
        <p:sp>
          <p:nvSpPr>
            <p:cNvPr id="76" name=""/>
            <p:cNvSpPr/>
            <p:nvPr/>
          </p:nvSpPr>
          <p:spPr>
            <a:xfrm>
              <a:off x="19080" y="3715920"/>
              <a:ext cx="103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feb9"/>
                  </a:solidFill>
                  <a:latin typeface="Arial"/>
                </a:rPr>
                <a:t>Collect</a:t>
              </a:r>
              <a:endParaRPr b="0" lang="en-US" sz="2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125960" y="2495880"/>
              <a:ext cx="1436760" cy="1202040"/>
              <a:chOff x="4125960" y="2495880"/>
              <a:chExt cx="1436760" cy="1202040"/>
            </a:xfrm>
          </p:grpSpPr>
          <p:sp>
            <p:nvSpPr>
              <p:cNvPr id="78" name=""/>
              <p:cNvSpPr/>
              <p:nvPr/>
            </p:nvSpPr>
            <p:spPr>
              <a:xfrm>
                <a:off x="4134240" y="3056760"/>
                <a:ext cx="1344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Extrac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Alembic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5960" y="2495880"/>
                <a:ext cx="1436760" cy="53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226800" y="1563480"/>
              <a:ext cx="1597680" cy="1713600"/>
              <a:chOff x="226800" y="1563480"/>
              <a:chExt cx="1597680" cy="1713600"/>
            </a:xfrm>
          </p:grpSpPr>
          <p:sp>
            <p:nvSpPr>
              <p:cNvPr id="81" name=""/>
              <p:cNvSpPr/>
              <p:nvPr/>
            </p:nvSpPr>
            <p:spPr>
              <a:xfrm>
                <a:off x="264240" y="1753200"/>
                <a:ext cx="1532520" cy="123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226800" y="1563480"/>
                <a:ext cx="1597680" cy="1713600"/>
                <a:chOff x="226800" y="1563480"/>
                <a:chExt cx="1597680" cy="17136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54160" y="1563480"/>
                  <a:ext cx="1526040" cy="39672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4160" y="1750320"/>
                  <a:ext cx="0" cy="1203840"/>
                </a:xfrm>
                <a:prstGeom prst="line">
                  <a:avLst/>
                </a:prstGeom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793160" y="1773720"/>
                  <a:ext cx="0" cy="1180440"/>
                </a:xfrm>
                <a:prstGeom prst="line">
                  <a:avLst/>
                </a:prstGeom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26800" y="2656080"/>
                  <a:ext cx="1567800" cy="62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7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7245"/>
                    </a:path>
                  </a:pathLst>
                </a:custGeom>
                <a:solidFill>
                  <a:srgbClr val="0000ff"/>
                </a:solidFill>
                <a:ln cap="rnd"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43000" y="2656080"/>
                  <a:ext cx="1581480" cy="62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7" y="21600"/>
                      </a:moveTo>
                      <a:arcTo wR="10800" hR="10800" stAng="5407184" swAng="53928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7" y="21600"/>
                      </a:moveTo>
                      <a:arcTo wR="10800" hR="10800" stAng="5407184" swAng="5392816"/>
                    </a:path>
                  </a:pathLst>
                </a:custGeom>
                <a:solidFill>
                  <a:srgbClr val="0000ff"/>
                </a:solidFill>
                <a:ln cap="rnd"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605160" y="1591560"/>
                <a:ext cx="7808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feb9"/>
                    </a:solidFill>
                    <a:latin typeface="Times New Roman"/>
                  </a:rPr>
                  <a:t>Sourc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2451960"/>
                <a:ext cx="911520" cy="6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880" y="2007720"/>
                <a:ext cx="448920" cy="35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0800" y="2511360"/>
                <a:ext cx="515160" cy="56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83240" y="2053080"/>
                <a:ext cx="394560" cy="34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3985920" y="1130400"/>
              <a:ext cx="3837600" cy="2206440"/>
              <a:chOff x="3985920" y="1130400"/>
              <a:chExt cx="3837600" cy="2206440"/>
            </a:xfrm>
          </p:grpSpPr>
          <p:sp>
            <p:nvSpPr>
              <p:cNvPr id="94" name=""/>
              <p:cNvSpPr/>
              <p:nvPr/>
            </p:nvSpPr>
            <p:spPr>
              <a:xfrm>
                <a:off x="5865480" y="2189520"/>
                <a:ext cx="1669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Summariz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WebSumm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985920" y="1828800"/>
                <a:ext cx="1127880" cy="4320"/>
              </a:xfrm>
              <a:prstGeom prst="line">
                <a:avLst/>
              </a:prstGeom>
              <a:ln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73360" y="1130400"/>
                <a:ext cx="1012680" cy="116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4573800" y="1880640"/>
                <a:ext cx="3249720" cy="145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50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501240" y="3360960"/>
              <a:ext cx="2009880" cy="2926080"/>
              <a:chOff x="6501240" y="3360960"/>
              <a:chExt cx="2009880" cy="2926080"/>
            </a:xfrm>
          </p:grpSpPr>
          <p:sp>
            <p:nvSpPr>
              <p:cNvPr id="99" name=""/>
              <p:cNvSpPr/>
              <p:nvPr/>
            </p:nvSpPr>
            <p:spPr>
              <a:xfrm>
                <a:off x="7638840" y="3360960"/>
                <a:ext cx="872280" cy="17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00920" y="4940640"/>
                <a:ext cx="95544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01240" y="5645880"/>
                <a:ext cx="1897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Cluster/Min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QueryFlocks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3200" y="2170080"/>
              <a:ext cx="4749480" cy="4368960"/>
              <a:chOff x="223200" y="2170080"/>
              <a:chExt cx="4749480" cy="4368960"/>
            </a:xfrm>
          </p:grpSpPr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78480" y="4004280"/>
                <a:ext cx="1860480" cy="160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289160" y="2170080"/>
                <a:ext cx="751320" cy="208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3200" y="5623560"/>
                <a:ext cx="333036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Collabor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KEAN, Scout, ExpertFinder, XperNET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22400" y="4818600"/>
                <a:ext cx="2150280" cy="56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14320" y="1869480"/>
              <a:ext cx="2920320" cy="2295360"/>
              <a:chOff x="6214320" y="1869480"/>
              <a:chExt cx="2920320" cy="2295360"/>
            </a:xfrm>
          </p:grpSpPr>
          <p:sp>
            <p:nvSpPr>
              <p:cNvPr id="108" name=""/>
              <p:cNvSpPr/>
              <p:nvPr/>
            </p:nvSpPr>
            <p:spPr>
              <a:xfrm>
                <a:off x="7363080" y="3523680"/>
                <a:ext cx="1771560" cy="641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Transl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CyberTrans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589880" y="2892600"/>
                <a:ext cx="1407240" cy="62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6214320" y="1869480"/>
                <a:ext cx="2216520" cy="195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710880" y="3825720"/>
              <a:ext cx="3587400" cy="2385000"/>
              <a:chOff x="3710880" y="3825720"/>
              <a:chExt cx="3587400" cy="2385000"/>
            </a:xfrm>
          </p:grpSpPr>
          <p:sp>
            <p:nvSpPr>
              <p:cNvPr id="112" name=""/>
              <p:cNvSpPr/>
              <p:nvPr/>
            </p:nvSpPr>
            <p:spPr>
              <a:xfrm>
                <a:off x="3710880" y="5569560"/>
                <a:ext cx="2263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Browse/Visualiz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GeoNODE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30400" y="4566600"/>
                <a:ext cx="1667880" cy="9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21600"/>
                    </a:moveTo>
                    <a:arcTo wR="10800" hR="10800" stAng="5406814" swAng="53931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21600"/>
                    </a:moveTo>
                    <a:arcTo wR="10800" hR="10800" stAng="5406814" swAng="539318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70000" y="3825720"/>
                <a:ext cx="0" cy="627840"/>
              </a:xfrm>
              <a:prstGeom prst="line">
                <a:avLst/>
              </a:prstGeom>
              <a:ln w="101520">
                <a:solidFill>
                  <a:srgbClr val="fcfeb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15" name="new_before_.zoomView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87000" y="4518000"/>
                <a:ext cx="1539360" cy="104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5561640" y="2984400"/>
              <a:ext cx="1877760" cy="1787040"/>
              <a:chOff x="5561640" y="2984400"/>
              <a:chExt cx="1877760" cy="1787040"/>
            </a:xfrm>
          </p:grpSpPr>
          <p:sp>
            <p:nvSpPr>
              <p:cNvPr id="117" name=""/>
              <p:cNvSpPr/>
              <p:nvPr/>
            </p:nvSpPr>
            <p:spPr>
              <a:xfrm>
                <a:off x="5995080" y="4130280"/>
                <a:ext cx="1117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Monit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SIAM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aphicFrame>
            <p:nvGraphicFramePr>
              <p:cNvPr id="118" name=""/>
              <p:cNvGraphicFramePr/>
              <p:nvPr/>
            </p:nvGraphicFramePr>
            <p:xfrm>
              <a:off x="5561640" y="2984400"/>
              <a:ext cx="1877760" cy="1174320"/>
            </p:xfrm>
            <a:graphic>
              <a:graphicData uri="http://schemas.openxmlformats.org/presentationml/2006/ole">
                <p:oleObj progId="Excel.Sheet.12" r:id="rId1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561640" y="2984400"/>
                        <a:ext cx="1877760" cy="117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0" name=""/>
            <p:cNvGrpSpPr/>
            <p:nvPr/>
          </p:nvGrpSpPr>
          <p:grpSpPr>
            <a:xfrm>
              <a:off x="1633680" y="1155600"/>
              <a:ext cx="2490840" cy="2393280"/>
              <a:chOff x="1633680" y="1155600"/>
              <a:chExt cx="2490840" cy="2393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633680" y="1307520"/>
                <a:ext cx="2490840" cy="2241360"/>
                <a:chOff x="1633680" y="1307520"/>
                <a:chExt cx="2490840" cy="224136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1633680" y="1905120"/>
                  <a:ext cx="930240" cy="155160"/>
                </a:xfrm>
                <a:prstGeom prst="line">
                  <a:avLst/>
                </a:prstGeom>
                <a:ln w="101520">
                  <a:solidFill>
                    <a:srgbClr val="fcfeb9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69880" y="2359080"/>
                  <a:ext cx="175464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Disseminate/</a:t>
                  </a:r>
                  <a:endParaRPr b="0" lang="en-US" sz="2000" spc="-1" strike="noStrike">
                    <a:solidFill>
                      <a:srgbClr val="fcfeb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Retrieve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(</a:t>
                  </a:r>
                  <a:r>
                    <a:rPr b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TIDES, 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QANDA</a:t>
                  </a: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584440" y="1307520"/>
                  <a:ext cx="1371600" cy="102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08120" y="1155600"/>
                <a:ext cx="990720" cy="76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3584160" y="658332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5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6" action="ppaction://hlinksldjump"/>
              </a:rPr>
              <a:t>Maybury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8" action="ppaction://hlinksldjump"/>
              </a:rPr>
              <a:t>20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Wareho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anagement solution integrated with other SAP produ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particular R/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 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check-in, authoring, edit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modeling workben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 assessment workben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with document management syste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nection with business workflow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2000" y="65833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Port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79320"/>
            <a:ext cx="9137520" cy="6185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ortal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37520" cy="559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957240"/>
            <a:ext cx="7035840" cy="581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279360"/>
            <a:ext cx="7156440" cy="630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4080"/>
            <a:ext cx="9137520" cy="549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Configu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790560"/>
            <a:ext cx="9156600" cy="604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W Information Ob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37520" cy="572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cal vs. Physical Objec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9118440" cy="4794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rsioning for Info Ob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37520" cy="5752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625320"/>
            <a:ext cx="9137520" cy="630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11916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37520" cy="609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ion with Human Re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895320"/>
            <a:ext cx="8375760" cy="5657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fcfeb9"/>
                </a:solidFill>
                <a:uFillTx/>
                <a:latin typeface="Times New Roman"/>
              </a:rPr>
              <a:t>SAP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Mind Ma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322280"/>
            <a:ext cx="9137520" cy="421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SAP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penText LiveLin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environment for the development of Web-based knowledge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 and serv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and content manag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rtual team 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erprise group schedul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usiness process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Management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Require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pture, Indexing, Search, Link Association, Graphs/Networks, Hierarchies, Collaboration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M Tool 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for Specific KM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utlook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veLink User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84280" y="17640"/>
            <a:ext cx="7974000" cy="682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12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veLink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3840" y="762120"/>
            <a:ext cx="8889840" cy="6019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HMC Concept Maps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HMC Concept Map Softwa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stitute for Human and Machine Cognition, University of West Florid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for the organization and represent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t of Java-based tools for the display and navigation of existing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ttp-based server to host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3800" y="658332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 action="ppaction://hlinksldjump"/>
              </a:rPr>
              <a:t>Novak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0" action="ppaction://hlinksldjump"/>
              </a:rPr>
              <a:t>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on of  concept map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owsing of existing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enhanced with Java as 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enter for Mars Exploration, NAS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ather forecasting in the Gulf Coast reg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ance learning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8080" y="662940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Concept Ma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60" y="304920"/>
            <a:ext cx="9093240" cy="631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0088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4720" y="3826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5316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 Example 2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4720" y="3826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0088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presentation and organization of knowledg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owsing and construction of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with Jav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ice visualization, easy to brow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 is very labor-intens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80-20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www.80-20.com/products/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hanced search engine for internal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 language query par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as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284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scovery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84400" y="1287360"/>
            <a:ext cx="6895800" cy="5038920"/>
            <a:chOff x="1184400" y="1287360"/>
            <a:chExt cx="6895800" cy="50389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184400" y="1287360"/>
              <a:ext cx="6895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954680" y="6049800"/>
              <a:ext cx="312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cfeb9"/>
                  </a:solidFill>
                  <a:latin typeface="Times New Roman"/>
                </a:rPr>
                <a:t>[Screenshot and annotations by Chris Newman]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emphasis on retrieval of existing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inly from already existing data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reates an index of documents in specified storage area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vides access through natural language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64000" indent="-1918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ightly integrated with Microsoft product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ems to be rather sluggish, probably due to the NL inpu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ducts: Assistum Knowledge Too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: Assistum.co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assistu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ables the user to create or modify knowledge bases to assist their decision-ma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stum View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stum Knowledge Edit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29880" y="655308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istum provides easy-to-use tools to create powerful fuzzy rule-based decision support system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t uses fuzzy logic to store and transform degree of truth variables and relationshi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mos are available on the Web at 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assistum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/2000/demonstrations/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javademo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ht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quires Java-capable brows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network about price increa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38040"/>
            <a:ext cx="2590920" cy="1338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 for price increa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64040" y="533520"/>
            <a:ext cx="5079960" cy="6057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mphasis on knowledge represen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uzzy logic as inference metho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ditor for the creation and modification of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iewer for the display of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in the set, 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UI, Web browser with Jav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pport for knowledge engineering tas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inly a tool for knowledge engineer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Structure Manager (KSM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se Cuena, Martin Molina, ISYS Intelligent Systems Research Group, Department of Artificial Intelligence, Polytechnic University, Madrid, Spai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isys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dia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fi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p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es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ks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/home.ht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software environment that helps developers and end-users in the development and maintenance of large and complex knowledge-based applic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alysis, design and implementation, mainten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duce the gap between the human understanding and the implementation of applications using knowledge model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uitive modular approach with different levels of abstraction to cope with large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luenced by the idea of generic tasks of Chandrasekaran and the knowledge level concept of Newell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cludes also some ideas from other parallel approaches of knowledge engineering methodologies and tools such as KADS, PROTEGE-II and KRES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Knowledge Area 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Hyperbolic 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93480" y="65214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Task Perspectiv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blem Formul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ems to be most appropriate for AI knowledge engineering tasks, not so much for knowledge manage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kace, Web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livier.Corby, INRIA, Sophia Antipolis, Fr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-sop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inria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fr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/acacia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Cokace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cokace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.ht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vironment for   the  conceptual modelling language CML of  the CommonKADS method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 provide the knowledge engineer with structured edition, static validation and dynamic interpretation of CML expertise model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lows the knowledge engineer to simulate a reasoning on CML expertise mode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nables  verification   and evaluation of  such  expertise models before implementation of the final knowledge-based syste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produced on-line by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eb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abels are los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23440" cy="2701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33920" y="655308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WebCokace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ment tool for CommonKADS method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-based (WebCokace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ngineering supp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ly for knowledge engineering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a Process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-I-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a-I-a.com/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englishHomePage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/technologies.ht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generation Computer Supported Cooperative Work technology composed of a user driven software system and a methodology, IdeaProcessing(™)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 facilitate idea and knowledge management and communication with a graphical and intuitive approa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mits simultaneous access by various individuals within a work group to diagram building which leads to concept 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joint effort promotes shared understanding and consensu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cilitates the visualization of problems and their solution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is an 'ideator' (an idea and strategies editor), a group ware, and a meta-CASE too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2480" y="655308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A-I-A 2001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te map generated with Idea Processor 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733200" y="6553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A-I-A Site Map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sualiz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a and strategies edit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oup 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sual display of knowledge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 seems tedio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utonom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indMap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rit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acticit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eb-based knowledge sharing enviro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ity web server, web browser as cli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tures interactions between users participating in a “community of practice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nts and contexts of interac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res interactions in a cet\ntral knowledge bas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 emphasis on capturing of knowledge through intera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capture, ac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tSearch for text-based sear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roove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o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ove Networks, Ray Ozzie (Lotus Notes developer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2P groupware for direct interaction among us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, communication, sharing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hared spaces are used for storing and accessing knowledge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share spaces through accou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emphasis on sharing of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tting, messages, discussion foru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t meetings, outlines, drawing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lend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Cuena &amp; Molina 1996] Cuena J., Molina M.: "Building Knowledge Models Using KSM". Proc. of Knowledge Acquisition of Knowledge Based Systems Workshop, KAW96. Banff, Canada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Maybury 2001] Joseph T. Maybury: “Knowledge On Demand: Knowledge and Expert Discovery”, Wissensmanagement 2001 Conference, Baden-Baden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ovak 2000] Joseph D. Novak: “The Theory Underlying Concept Maps and How To Construct Them”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info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AP 2000] SAP AG “Introducing Knowledge Management with mySAP.com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http://www.sap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ag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.de/solutions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bi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2"/>
              </a:rPr>
              <a:t>/km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OpenText 2001] OpenText “LiveLink Product Overview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4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5"/>
              </a:rPr>
              <a:t>opentex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6"/>
              </a:rPr>
              <a:t>.com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7"/>
              </a:rPr>
              <a:t>livelink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8"/>
              </a:rPr>
              <a:t>/.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taab 2000] Steffen Staab: “Intelligente Techniken für das Wissensmanagement” Knowledge Management Tutorial, Wissensmanagement 2001 Conference, Baden-Baden, Germany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0"/>
              </a:rPr>
              <a:t>aisb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2"/>
              </a:rPr>
              <a:t>uni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3"/>
              </a:rPr>
              <a:t>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4"/>
              </a:rPr>
              <a:t>karlsruhe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5"/>
              </a:rPr>
              <a:t>.de/~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6"/>
              </a:rPr>
              <a:t>ss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1-05-31T23:45:54Z</cp:lastPrinted>
  <dcterms:modified xsi:type="dcterms:W3CDTF">2003-03-21T00:31:15Z</dcterms:modified>
  <cp:revision>71</cp:revision>
  <dc:subject/>
  <dc:title>CSC 480: Artificial Intelligence</dc:title>
</cp:coreProperties>
</file>