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ntroduction  </a:t>
            </a:r>
            <a:fld id="{E23BD053-F68A-478E-8A57-12F5D465AE62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References" TargetMode="External"/><Relationship Id="rId2" Type="http://schemas.openxmlformats.org/officeDocument/2006/relationships/hyperlink" Target="file:///Knowledge-Exchange.ppt#References" TargetMode="External"/><Relationship Id="rId3" Type="http://schemas.openxmlformats.org/officeDocument/2006/relationships/hyperlink" Target="file:///Knowledge-Exchange.ppt#References" TargetMode="External"/><Relationship Id="rId4" Type="http://schemas.openxmlformats.org/officeDocument/2006/relationships/hyperlink" Target="file:///Knowledge-Exchange.ppt#References" TargetMode="External"/><Relationship Id="rId5" Type="http://schemas.openxmlformats.org/officeDocument/2006/relationships/hyperlink" Target="file:///Knowledge-Exchange.ppt#References" TargetMode="External"/><Relationship Id="rId6" Type="http://schemas.openxmlformats.org/officeDocument/2006/relationships/hyperlink" Target="file:///Knowledge-Exchange.ppt#References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eeds.org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map.coginst.uwf.edu/info/" TargetMode="External"/><Relationship Id="rId2" Type="http://schemas.openxmlformats.org/officeDocument/2006/relationships/hyperlink" Target="http://cmap.coginst.uwf.edu/info/" TargetMode="External"/><Relationship Id="rId3" Type="http://schemas.openxmlformats.org/officeDocument/2006/relationships/hyperlink" Target="http://cmap.coginst.uwf.edu/info/" TargetMode="External"/><Relationship Id="rId4" Type="http://schemas.openxmlformats.org/officeDocument/2006/relationships/hyperlink" Target="http://cmap.coginst.uwf.edu/info/" TargetMode="External"/><Relationship Id="rId5" Type="http://schemas.openxmlformats.org/officeDocument/2006/relationships/hyperlink" Target="http://cmap.coginst.uwf.edu/info/" TargetMode="External"/><Relationship Id="rId6" Type="http://schemas.openxmlformats.org/officeDocument/2006/relationships/hyperlink" Target="http://cmap.coginst.uwf.edu/info/" TargetMode="External"/><Relationship Id="rId7" Type="http://schemas.openxmlformats.org/officeDocument/2006/relationships/hyperlink" Target="http://cmap.coginst.uwf.edu/info/" TargetMode="External"/><Relationship Id="rId8" Type="http://schemas.openxmlformats.org/officeDocument/2006/relationships/hyperlink" Target="http://www.opentext.com/livelink" TargetMode="External"/><Relationship Id="rId9" Type="http://schemas.openxmlformats.org/officeDocument/2006/relationships/hyperlink" Target="http://www.opentext.com/livelink" TargetMode="External"/><Relationship Id="rId10" Type="http://schemas.openxmlformats.org/officeDocument/2006/relationships/hyperlink" Target="http://www.opentext.com/livelink" TargetMode="External"/><Relationship Id="rId11" Type="http://schemas.openxmlformats.org/officeDocument/2006/relationships/hyperlink" Target="http://www.opentext.com/livelink" TargetMode="External"/><Relationship Id="rId12" Type="http://schemas.openxmlformats.org/officeDocument/2006/relationships/hyperlink" Target="http://www.opentext.com/livelink" TargetMode="External"/><Relationship Id="rId13" Type="http://schemas.openxmlformats.org/officeDocument/2006/relationships/hyperlink" Target="http://www.sap-ag.de/solutions/bi/km" TargetMode="External"/><Relationship Id="rId14" Type="http://schemas.openxmlformats.org/officeDocument/2006/relationships/hyperlink" Target="http://www.sap-ag.de/solutions/bi/km" TargetMode="External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42800" y="6597720"/>
            <a:ext cx="17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 [Dieng et al. 1999]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[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Dieng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 et al. 1999]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 [Sommerville 01]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160" y="658332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ommerville 01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Arial"/>
              </a:rPr>
              <a:t>[Sommerville 01]</a:t>
            </a:r>
            <a:endParaRPr b="0" lang="en-US" sz="1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Abecker et al. 1998] Andreas Abecker, Ansgar Bernardi, Knut Hinkelmann, Otto Kühn, Michael Sintek. Techniques for Organizational Memory Systems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Technical Report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-98-02, Deutsches Forschungszentrum für Künstliche Intelligenz (DFKI),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Abecker et al. 1998b] Andreas Abecker, Ansgar Bernardi, Knut Hinkelmann, Otto Kühn, Michael Sintek. Toward a Technology for Organizational Memories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IEEE Intelligent Systems, vol. 13, no.3, pp. 40-48,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lack &amp; Brunt 2000] Alistair Black and Rodney Brunt:MI5, 1909-1945: An Information Management Perspective,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Journal of Information Scienc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26 (3), pp. 185-197, 2000.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rown 1998] John Seely Brown: Research that Reinvents the Corpor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Cook 1999] Diane Cook: Data Visualization, Course at UT Arlington, 1999. http://ranger.uta.edu/~cook/dm/lectures/l18/index.htm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Cuena &amp; Molina 1996] Cuena J., Molina M.: "Building Knowledge Models Using KSM". Proc. of Knowledge Acquisition of Knowledge Based Systems Workshop, KAW96. Banff, Canada. 1996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Dieng et al. 1999] Rose Dieng, Olivier Corby, Alain Giboin and Myriam Ribiere, Methods and Tools for Corporate Memory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Int. J. Human-Computer Studies,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no. 51, pp. 567-598, 1999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arvin 1998] David A. Garvin: Building a Learning Organiz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Gil 2000] Yolanda Gil,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Knowledge Mobility.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agstuhl Workshop “Semantics for the Web”, March 2000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riffin 2000] Stephen M. Griffin, Digital Libraries Initiative, National Science Foundation, www.dli2.nsf.gov, 2000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Haak &amp; Deprez 1999] Tom Haar and Frank Lekanne Deprez: Individual Balanced Scorecards: Capitalizing on Individual and Organizational Needs for Mutual Benefit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7th World Business Dialogue on Rethinking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March 1999, Cologne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References (cont.)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aplan 1997] R.M. Kaplan, Knowledge Management - Access to an Untapped Resource, October 1997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Karagiannis &amp; Telesko, 2000] Dimitris Karagiannis and Rüdiger Telesko.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The EU-Project PROMOTE: A Process-oriented Approach forKnowledge Management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. Proc. of the Third Int. Conf. on Practical Aspects of Knowledge Management (PAKM2000) Basel, Switzerland, 30-31 Oct. 2000, (U. Reimer, ed.)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onno 2000] Noburu Konno, Knowledge Strategy and “Ba” - The Practice of Knowledge-Based Management. Column, Inc., 2000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Kowalski 1997] Gerald Kowalski: Information Retrieval Systems - Theory and Implementation. Kluwer Academic Publishers, Boston, 1997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KPMG 1998] KPMG Management Consulting Knowledge Management Research Report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PMG 1999] Frans van de Veen, KPMG Management Consulting: Knowledge Management Survey 1999, www.kpmg.co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Macintosh et al 1999] Ann Macintosh, Ian Filby, and John Kingston. Knowledge Management Techniques - Teaching and Dissemination Concepts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Int. J. Human-Computer Studies,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no. 51, pp. 549-566, 1999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Maybury 2001] Joseph T. Maybury: “Knowledge On Demand: Knowledge and Expert Discovery”, Wissensmanagement 2001 Conference, Baden-Baden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Milton et al. 1999] Nick Milton, Nigel Shadbolt, Hugh Cottam, and Mark Hammersly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Towards a Knowledge Technology for Knowledge Management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Int. J. Human-Computer Studies,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no. 51, pp. 615-641, 1999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CDDR 1996] A Review of the Literature on Dissemination and Knowledge Utilization. National Center for the Dissemination of Disability Research (NCDDR), www.ncddr.org, 1996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NEEDS] National Engineering Digital Library, </a:t>
            </a:r>
            <a:r>
              <a:rPr b="0" lang="en-US" sz="1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www.needs.org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References (cont.)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ovak 2000] Joseph D. Novak: “The Theory Underlying Concept Maps and How To Construct Them”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cmap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cogins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wf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edu/info/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 1996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OpenText 2001] OpenText “LiveLink Product Overview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opentex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0"/>
              </a:rPr>
              <a:t>.com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1"/>
              </a:rPr>
              <a:t>livelink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2"/>
              </a:rPr>
              <a:t>/.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Russell &amp; Norvig 1995] Stuart Russell and Peter Norvig,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Artificial Intelligence - A Modern Approach.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Prentice Hall, 1995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AP 2000] SAP AG “Introducing Knowledge Management with mySAP.com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3"/>
              </a:rPr>
              <a:t>http://www.sap-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4"/>
              </a:rPr>
              <a:t>ag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de/solutions/bi/km/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Sintek et al. 1998] Michael Sintek, Andreas Abecker, Ansgar Bernardi. Developong a Knowledge Management Technology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Presentation at WET ICE KMN ‘99, Deutsches Forschungszentrum für Künstliche Intelligenz (DFKI), 1999; www.dfki.uni-kl.de/~simtek/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kyrme 1999].David Skyrme. Knowledge Usage Template. David Skyrme Associates, www.skyrme.com, 1999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taab 2000] Steffen Staab: “Intelligente Techniken für das Wissensmanagement” Knowledge Management Tutorial, Wissensmanagement 2001 Conference, Baden-Baden, Germany, http://www.aisb.uni-karlsruhe.de/~sst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Woodruff 1998] Allison Woodruff: CS260 Discussion of Information Visualization. UC Berkeley,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References (cont.)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Chapter-Top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Chapter-Top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dcterms:modified xsi:type="dcterms:W3CDTF">2003-03-21T00:52:12Z</dcterms:modified>
  <cp:revision>23</cp:revision>
  <dc:subject/>
  <dc:title>CSC 480: Artificial Intelligence</dc:title>
</cp:coreProperties>
</file>