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4980-F56F-463C-BE12-C4A47A974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F518-214D-4621-B334-96F1E7D69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058760" y="86508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898200" y="4709880"/>
            <a:ext cx="494964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ntologo" descr=""/>
          <p:cNvPicPr/>
          <p:nvPr/>
        </p:nvPicPr>
        <p:blipFill>
          <a:blip r:embed="rId2"/>
          <a:stretch/>
        </p:blipFill>
        <p:spPr>
          <a:xfrm>
            <a:off x="7267680" y="19080"/>
            <a:ext cx="372960" cy="38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466560"/>
            <a:ext cx="8094600" cy="204840"/>
          </a:xfrm>
          <a:prstGeom prst="rect">
            <a:avLst/>
          </a:prstGeom>
          <a:gradFill rotWithShape="0">
            <a:gsLst>
              <a:gs pos="0">
                <a:srgbClr val="e9fff0"/>
              </a:gs>
              <a:gs pos="100000">
                <a:srgbClr val="33c9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440120" y="216000"/>
            <a:ext cx="99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Arial"/>
              </a:rPr>
              <a:t>© S.  Staab,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aifb_logo1" descr=""/>
          <p:cNvPicPr/>
          <p:nvPr/>
        </p:nvPicPr>
        <p:blipFill>
          <a:blip r:embed="rId3"/>
          <a:stretch/>
        </p:blipFill>
        <p:spPr>
          <a:xfrm>
            <a:off x="8610480" y="380880"/>
            <a:ext cx="297000" cy="990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87280" y="6477120"/>
            <a:ext cx="8094600" cy="380880"/>
          </a:xfrm>
          <a:prstGeom prst="rect">
            <a:avLst/>
          </a:prstGeom>
          <a:gradFill rotWithShape="0">
            <a:gsLst>
              <a:gs pos="0">
                <a:srgbClr val="e9fff0"/>
              </a:gs>
              <a:gs pos="100000">
                <a:srgbClr val="33c9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8229240" y="655272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DCACCF-025B-47B5-BD86-BB5B9FDF0D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telligent Systems                               on the World Wide Web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-Depth XML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ffen Staab &amp; Raphael Vol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for Applied Computer Science and Formal Description Methods (AIF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lsruh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Structuring 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 rot="4200">
            <a:off x="2487600" y="3230280"/>
            <a:ext cx="4124160" cy="176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tructur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emata in XML (Optional !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DTD – Document Type Definitions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ache Grammatik für ein XML-Dok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klaration von Elementen, Attributen, u.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chränkt die beliebige Verschachtelung von Elementen und Attribu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Teil des XML-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be von SG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XML-Schema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ere Datendefinitionssprac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iele standardisierte Basistypen, z.B. float, double, decimal, boole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n und typisierte Objektreferenz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lassenhierarchien / Vererb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sistenzbeding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ndard in Ergänzung zu XML (noch nicht verabschiede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wärtskompatibel zu D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ta I: DT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DTD definiert eine kontextfreie Grammatik für ein XML-Dok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vor beliebige Elemente und Attribute werden auf eine definierte Auswahl und Struktur eingeschrän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8200" y="3352680"/>
            <a:ext cx="4026960" cy="3397680"/>
            <a:chOff x="88200" y="3352680"/>
            <a:chExt cx="4026960" cy="3397680"/>
          </a:xfrm>
        </p:grpSpPr>
        <p:sp>
          <p:nvSpPr>
            <p:cNvPr id="204" name=""/>
            <p:cNvSpPr/>
            <p:nvPr/>
          </p:nvSpPr>
          <p:spPr>
            <a:xfrm>
              <a:off x="88200" y="3352680"/>
              <a:ext cx="4012920" cy="338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=“o12”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titl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Foundations of Databases 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title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Serge 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Abiteboul 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1997 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Addison Wesley 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90760" y="6295680"/>
              <a:ext cx="82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739760" y="3354480"/>
            <a:ext cx="4319280" cy="3397680"/>
            <a:chOff x="4739760" y="3354480"/>
            <a:chExt cx="4319280" cy="3397680"/>
          </a:xfrm>
        </p:grpSpPr>
        <p:sp>
          <p:nvSpPr>
            <p:cNvPr id="207" name=""/>
            <p:cNvSpPr/>
            <p:nvPr/>
          </p:nvSpPr>
          <p:spPr>
            <a:xfrm>
              <a:off x="4739760" y="3354480"/>
              <a:ext cx="4304160" cy="338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DOCTYPE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[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*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+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?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ID #REQUIR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*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ag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CDATA #IMPLI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]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52640" y="629748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Element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014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reibt die Einschränkungen des Inhalts eines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ziger atomarer Typ: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#PCDAT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sed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act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,b,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ste von Unter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|b|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Alternat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dinalitä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- oder einmal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(ohne Angab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genau ein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MP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 Erzwingen von leer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24000" y="2895480"/>
            <a:ext cx="4319280" cy="3397680"/>
            <a:chOff x="4824000" y="2895480"/>
            <a:chExt cx="4319280" cy="3397680"/>
          </a:xfrm>
        </p:grpSpPr>
        <p:sp>
          <p:nvSpPr>
            <p:cNvPr id="212" name=""/>
            <p:cNvSpPr/>
            <p:nvPr/>
          </p:nvSpPr>
          <p:spPr>
            <a:xfrm>
              <a:off x="4824000" y="2895480"/>
              <a:ext cx="4304160" cy="338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DOCTYPE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[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*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+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?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ID #REQUIR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*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ag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CDATA #IMPLI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]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36880" y="583848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Elementen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reibt die Einschränkungen des Inhalts eines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ziger atomarer Typ: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#PCDAT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sed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act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,b,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ste von Unter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|b|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Alternat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dinalitä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- oder einmal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(ohne Angab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genau ein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MP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 Erzwingen von leer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352680"/>
            <a:ext cx="4335480" cy="339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2743200"/>
            <a:ext cx="1828800" cy="30492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1219320"/>
            <a:ext cx="152280" cy="182880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19600" y="1219320"/>
            <a:ext cx="4230720" cy="6987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 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stlegung des Wurzelelements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24000" y="2743200"/>
            <a:ext cx="430416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DOCTYPE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[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?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 #REQUIR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DATA #IMPLI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52640" y="62960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Elementen (3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reibt die Einschränkungen des Inhalts eines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ziger atomarer Typ: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#PCDAT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sed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act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,b,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ste von Unter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|b|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Alternat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dinalitä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- oder einmal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(ohne Angab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genau ein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MP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 Erzwingen von leer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3352680"/>
            <a:ext cx="4335480" cy="339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657600"/>
            <a:ext cx="2666880" cy="30492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1219320"/>
            <a:ext cx="152280" cy="243828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2120" y="1219320"/>
            <a:ext cx="4383000" cy="6987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bi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ann beliebig viele Elemente vo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nt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39760" y="3352680"/>
            <a:ext cx="430416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DOCTYPE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[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?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 #REQUIR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DATA #IMPLI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52640" y="62960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Elementen (4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reibt die Einschränkungen des Inhalts eines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ziger atomarer Typ: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#PCDAT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sed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act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,b,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ste von Unter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|b|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Alternat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dinalitä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- oder einmal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(ohne Angab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genau ein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MP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 Erzwingen von leer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3352680"/>
            <a:ext cx="4335480" cy="339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3962520"/>
            <a:ext cx="4487760" cy="3045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1219320"/>
            <a:ext cx="152280" cy="274320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26080" y="1218960"/>
            <a:ext cx="3525840" cy="161352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teht au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ndestens einem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uthor</a:t>
            </a:r>
            <a:br>
              <a:rPr sz="2000"/>
            </a:b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au einem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m optionalen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ublish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genau dieser Reihenfolg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39760" y="3352680"/>
            <a:ext cx="430416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DOCTYPE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[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?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 #REQUIR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DATA #IMPLI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52640" y="62960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Elementen (5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reibt die Einschränkungen des Inhalts eines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ziger atomarer Typ: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#PCDAT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sed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act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,b,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ste von Unter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|b|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Alternat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dinalitä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- oder einmal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(ohne Angab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genau ein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MP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 Erzwingen von leer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3352680"/>
            <a:ext cx="4335480" cy="339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5029200"/>
            <a:ext cx="3505320" cy="30492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1219320"/>
            <a:ext cx="152280" cy="380988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19240" y="1219320"/>
            <a:ext cx="4128480" cy="39384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vom Typ Zeichenk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39760" y="3352680"/>
            <a:ext cx="430416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DOCTYPE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[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?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 #REQUIR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DATA #IMPLI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52640" y="62960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Attribut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-Zeichenkettenwert-P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ziiert mit ein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ttributnam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1 Zusatz1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ttributname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chen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RE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RE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e von 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sa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QU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in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L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Initialw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724280" y="3352680"/>
            <a:ext cx="4335480" cy="3398040"/>
            <a:chOff x="4724280" y="3352680"/>
            <a:chExt cx="4335480" cy="3398040"/>
          </a:xfrm>
        </p:grpSpPr>
        <p:sp>
          <p:nvSpPr>
            <p:cNvPr id="249" name=""/>
            <p:cNvSpPr/>
            <p:nvPr/>
          </p:nvSpPr>
          <p:spPr>
            <a:xfrm>
              <a:off x="4724280" y="3352680"/>
              <a:ext cx="4335480" cy="339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39760" y="3352680"/>
              <a:ext cx="4304160" cy="338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DOCTYPE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[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*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+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?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ID #REQUIR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*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ag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CDATA #IMPLI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]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52640" y="629604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Attributen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-Zeichenkettenwert-P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ziiert mit ein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ttributnam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1 Zusatz1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ttributname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chen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RE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RE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e von 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sa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QU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in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L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Initialw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3352680"/>
            <a:ext cx="4335480" cy="339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4191120"/>
            <a:ext cx="3679920" cy="3045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39760" y="3352680"/>
            <a:ext cx="430416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DOCTYPE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[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?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 #REQUIR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DATA #IMPLI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52640" y="62960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21400" y="1218960"/>
            <a:ext cx="3814560" cy="130860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itzt ein Attribut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i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in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ID, die zwingend mit eine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deutigen Wert belegt werd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1219320"/>
            <a:ext cx="152280" cy="297180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4200">
            <a:off x="2822400" y="3070080"/>
            <a:ext cx="3733920" cy="157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4648320"/>
            <a:ext cx="655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Purpose here: storing and exchanging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Non-purpose here: structuring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Attributen (3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-Zeichenkettenwert-P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ziiert mit ein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ttributnam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1 Zusatz1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ttributname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chen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RE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RE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e von 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sa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QU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in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L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Initialw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24280" y="3352680"/>
            <a:ext cx="4335480" cy="339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4800600"/>
            <a:ext cx="4114800" cy="30492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39760" y="3352680"/>
            <a:ext cx="430416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DOCTYPE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[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?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 #REQUIR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DATA #IMPLI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52640" y="62960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1040" y="1218960"/>
            <a:ext cx="4210920" cy="130860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 auth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at ein Attribut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a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mi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m ihm eine Zeichenkette mit de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t für sein Alter zugewies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kann (aber nicht muss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1219320"/>
            <a:ext cx="152280" cy="358128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DTD – OIDs und Referenzen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TDs erlauben die Deklaration von OIDs, Referenzen und Referenzmengen als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9200" y="2438280"/>
            <a:ext cx="4812120" cy="4369320"/>
            <a:chOff x="79200" y="2438280"/>
            <a:chExt cx="4812120" cy="4369320"/>
          </a:xfrm>
        </p:grpSpPr>
        <p:sp>
          <p:nvSpPr>
            <p:cNvPr id="271" name=""/>
            <p:cNvSpPr/>
            <p:nvPr/>
          </p:nvSpPr>
          <p:spPr>
            <a:xfrm>
              <a:off x="79200" y="2438280"/>
              <a:ext cx="4806720" cy="435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famil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ane”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mot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mary”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fat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ohn”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Jane Doe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ohn”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childre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ane jack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John Doe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mary”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childre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ane jack”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Mary Smith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ack”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mot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mary”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fat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ohn”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Jack Smith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famil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66920" y="6352920"/>
              <a:ext cx="82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500800" y="2438280"/>
            <a:ext cx="3566880" cy="3492360"/>
            <a:chOff x="5500800" y="2438280"/>
            <a:chExt cx="3566880" cy="3492360"/>
          </a:xfrm>
        </p:grpSpPr>
        <p:sp>
          <p:nvSpPr>
            <p:cNvPr id="274" name=""/>
            <p:cNvSpPr/>
            <p:nvPr/>
          </p:nvSpPr>
          <p:spPr>
            <a:xfrm>
              <a:off x="5500800" y="2438280"/>
              <a:ext cx="3566880" cy="34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DOCTYPE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famil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[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famil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*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#REQUIRED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mot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DREF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#IMPLIED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fat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DREF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#IMPLIED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childre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DREF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#IMPLIED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]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60200" y="544680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447920" y="2797200"/>
            <a:ext cx="2003400" cy="2155680"/>
            <a:chOff x="1447920" y="2797200"/>
            <a:chExt cx="2003400" cy="2155680"/>
          </a:xfrm>
        </p:grpSpPr>
        <p:sp>
          <p:nvSpPr>
            <p:cNvPr id="277" name=""/>
            <p:cNvSpPr/>
            <p:nvPr/>
          </p:nvSpPr>
          <p:spPr>
            <a:xfrm>
              <a:off x="2819520" y="2797200"/>
              <a:ext cx="63180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47920" y="4626000"/>
              <a:ext cx="63180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752480" y="3124080"/>
              <a:ext cx="1371600" cy="1501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425600" y="2797200"/>
            <a:ext cx="3273480" cy="1241280"/>
            <a:chOff x="1425600" y="2797200"/>
            <a:chExt cx="3273480" cy="1241280"/>
          </a:xfrm>
        </p:grpSpPr>
        <p:sp>
          <p:nvSpPr>
            <p:cNvPr id="281" name=""/>
            <p:cNvSpPr/>
            <p:nvPr/>
          </p:nvSpPr>
          <p:spPr>
            <a:xfrm>
              <a:off x="4067280" y="2797200"/>
              <a:ext cx="63180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25600" y="3711600"/>
              <a:ext cx="63180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057400" y="3124080"/>
              <a:ext cx="236232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425600" y="2797200"/>
            <a:ext cx="2460600" cy="3070080"/>
            <a:chOff x="1425600" y="2797200"/>
            <a:chExt cx="2460600" cy="3070080"/>
          </a:xfrm>
        </p:grpSpPr>
        <p:sp>
          <p:nvSpPr>
            <p:cNvPr id="285" name=""/>
            <p:cNvSpPr/>
            <p:nvPr/>
          </p:nvSpPr>
          <p:spPr>
            <a:xfrm>
              <a:off x="2895480" y="3711600"/>
              <a:ext cx="99072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25600" y="2797200"/>
              <a:ext cx="63180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057400" y="3047760"/>
              <a:ext cx="1295280" cy="663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25600" y="5540400"/>
              <a:ext cx="63180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752120" y="4038480"/>
              <a:ext cx="1600200" cy="1501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Bewertung von DT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46680" cy="15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r Erinnerung: DTDs definieren kontextfreie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Grammat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kursive Definitionen sind mögl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724280" y="1219320"/>
            <a:ext cx="4343400" cy="1981440"/>
            <a:chOff x="4724280" y="1219320"/>
            <a:chExt cx="4343400" cy="1981440"/>
          </a:xfrm>
        </p:grpSpPr>
        <p:sp>
          <p:nvSpPr>
            <p:cNvPr id="293" name=""/>
            <p:cNvSpPr/>
            <p:nvPr/>
          </p:nvSpPr>
          <p:spPr>
            <a:xfrm>
              <a:off x="4724280" y="1219320"/>
              <a:ext cx="434340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DOCTYPE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[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s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*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s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(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,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s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*)|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ex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ex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]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60200" y="274608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8600" y="3352680"/>
            <a:ext cx="8702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TDs weisen bei der Definition eines Schemas jedoch einige Schwächen au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wollte Festlegung der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Reihenfol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rkaround: &lt;!ELEMENT </a:t>
            </a: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( (</a:t>
            </a: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 | ( </a:t>
            </a: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nam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 ) 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n teilweise zu vage wer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lt;!ELEMENT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 (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nam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mai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* )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erenzen können nicht eingeschränkt (typisiert)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Elementnamen sind global in einem Namens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ta II: XML-Schem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chter Schemamechanismus mit vielen Erweiterungen über DTDs hin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nutzt selbst wieder XML-Syntax zur Schema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0200" y="2523960"/>
            <a:ext cx="5417640" cy="4257720"/>
            <a:chOff x="70200" y="2523960"/>
            <a:chExt cx="5417640" cy="4257720"/>
          </a:xfrm>
        </p:grpSpPr>
        <p:sp>
          <p:nvSpPr>
            <p:cNvPr id="299" name=""/>
            <p:cNvSpPr/>
            <p:nvPr/>
          </p:nvSpPr>
          <p:spPr>
            <a:xfrm>
              <a:off x="70200" y="2523960"/>
              <a:ext cx="5417640" cy="422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schem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bi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”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complex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pap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minOccur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0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maxOccur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unbounded”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complex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attribu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i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ID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us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required”/&gt;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autho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authorType”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   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maxOccur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unbounded”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yea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string”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publish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string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minOccur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0”/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&lt;/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&lt;/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complex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&lt;/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&lt;/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complex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&lt;/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schem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70360" y="6418440"/>
              <a:ext cx="1615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XML-Sch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 rot="16200000">
            <a:off x="5501520" y="2423160"/>
            <a:ext cx="1689120" cy="1719360"/>
          </a:xfrm>
          <a:custGeom>
            <a:avLst/>
            <a:gdLst>
              <a:gd name="textAreaLeft" fmla="*/ 484920 w 1689120"/>
              <a:gd name="textAreaRight" fmla="*/ 1446840 w 1689120"/>
              <a:gd name="textAreaTop" fmla="*/ 990360 h 1719360"/>
              <a:gd name="textAreaBottom" fmla="*/ 1472760 h 1719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612040" y="4127400"/>
            <a:ext cx="3450600" cy="2653920"/>
            <a:chOff x="5612040" y="4127400"/>
            <a:chExt cx="3450600" cy="2653920"/>
          </a:xfrm>
        </p:grpSpPr>
        <p:sp>
          <p:nvSpPr>
            <p:cNvPr id="303" name=""/>
            <p:cNvSpPr/>
            <p:nvPr/>
          </p:nvSpPr>
          <p:spPr>
            <a:xfrm>
              <a:off x="5612040" y="4127400"/>
              <a:ext cx="3447360" cy="264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DOCTYPE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[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*)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+,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,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?)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4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ID #REQUIRED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*,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)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400" spc="-1" strike="noStrike">
                  <a:solidFill>
                    <a:srgbClr val="b2b2b2"/>
                  </a:solidFill>
                  <a:latin typeface="Arial Narrow"/>
                </a:rPr>
                <a:t>ag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CDATA #IMPLIED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]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11760" y="6418080"/>
              <a:ext cx="65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T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949080" y="2666880"/>
            <a:ext cx="1894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:1-Abbild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is auf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Elemen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168200"/>
            <a:ext cx="777240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ale Zusatzattrib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Typ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tomarer, einfacher oder komplexer Typ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rdinalitäten (Vorgabe [1,1]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{ 0, 1, n }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{ 1, n, unbounded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tvorgaben (schließen sich gegenseitig aus!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defaul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änderliche Vor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fixe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veränderliche Vor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nboun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Attribu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ale Zusatzattrib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Typ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isten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optional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rdinalität [0,1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require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rdinalität [1,1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bewer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defaul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   </a:t>
            </a: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valu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änderliche Vor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fixe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   </a:t>
            </a: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valu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veränderliche Vor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qui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ngu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Ty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XML-Schema wird zwischen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atoma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einfa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komplexen Ty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sch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omare Typ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baute Elementartypen wie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ache Typ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ben weder eingebettete Elemente noch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r Regel von atomaren Typen abgele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e Typ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ürfen Elemente und Attribute besi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ätzlich kann man noch folgende Unterscheidung treff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e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defini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chreiben (wiederverwendbare) Typstruk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Dokumentdefini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chreiben welche Elemente wie im Dokument auftauchen dür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Atomare Ty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-Schema unterstützt eine große Menge eingebauter Basistypen (&gt;4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erisch: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ho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i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o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floa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doub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decim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binary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itangaben: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tim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da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mon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ye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timeDu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timePerio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nstige: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t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boolea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riReferen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I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ye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de-DE" sz="24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ye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ag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de-DE" sz="24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ositiveInteg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de-DE" sz="24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unsignedSho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Einfache Ty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ätzlich können von bestehenden Typen noch weitere, sog.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einfache Ty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bgeleitet 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definitio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humanA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unsignedShor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maxInclusi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valu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20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/&gt; 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kumentdefinitio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humanA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lche einfachen Typen dürfen jedoch keine verschachtelten Elemente enthal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ähnlicher Weise können Listen definiert 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definitio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tr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derivedB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li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Name eines Autors als mit Leerzeichen getrennte Liste von Zeichenket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kumentdefinito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th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Komplexe Ty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206360"/>
            <a:ext cx="77724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Arial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Komplexe Ty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ürfen im Gegensatz zu einfachen Typen eingebettete Elemente und Attribute besi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definitio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irst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unbounded“/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last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string“/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optional”/&gt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ppierungs-Bezeich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ste Reihenfolge 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l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 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l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liebige Reihenfolge (a,b oder b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hoi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hoi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(entweder a oder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ended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sprung: strukturierter Text (HTML4.0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G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-Standard (W3C) zum Datenaustaus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- und Ausgabedaten von Anwendungen können mittels XML beschrieben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strie muß sich nur noch auf standardisierte Beschreibung ein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mentärsprache zu HTM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ML beschreibt die Prä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 beschreibt den Inh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ank-Sichtweise: XML als Datenmodell für semistrukturierte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Komplexe Ty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61326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first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unbounded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last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string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optional”/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hierarchi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734840"/>
            <a:ext cx="77724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etzmäßigkeit zwischen zwei 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definitio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Erweiter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engl. extension) 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Restrik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engl. restriction) einer bestehenden Typ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Typen in XML-Schema sind entw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omare Typen (z.B. string) 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weiterung bzw. Restriktion bestehender 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Typen bilden eine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hierarc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um mit Wurzel: Typ Zeichenk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Mehrfachverer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en sind entlang der Typhierarchie abwärtskompatib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Typinstanzen gilt das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Substituierbarkei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mente eines bestimmten Typs akzeptieren auch Daten einer Erweiterung oder Restriktion des geforderten Ty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en können konstruktiv um weitere Elemente oder Attribute zu neuen Typen erweit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xtended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xtens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mai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1“/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e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optional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xtens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 den zuvor definierten Typ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optionales Element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optionales Attribut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home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hierarchien: Erweiterung von Ty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2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Erweiterungen werden an die bestehenden Definitionen angehäng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extendedAuthor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first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unbounded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last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string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emai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1“/&gt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optional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ome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optional”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hierarchien: Erweiterung von Typen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648320"/>
            <a:ext cx="58672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5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5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5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5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500" spc="-1" strike="noStrike">
                <a:solidFill>
                  <a:srgbClr val="3333cc"/>
                </a:solidFill>
                <a:latin typeface="Arial"/>
              </a:rPr>
              <a:t>firstnam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unbounded“/&gt;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5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500" spc="-1" strike="noStrike">
                <a:solidFill>
                  <a:srgbClr val="3333cc"/>
                </a:solidFill>
                <a:latin typeface="Arial"/>
              </a:rPr>
              <a:t>lastnam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string“/&gt;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5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5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5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“optional”/&gt;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5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Typhierarchien: Restriktion von Typen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en werden durch Verschärfung von Zusatzangaben bei Typdefinitionen in ihrer Wertemenge eingeschrän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 für Restriktio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her nicht angebene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,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defaul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oder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fixe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ärfung der Kardinalitäten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ax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Substituierbar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nge der Instanzen des eingeschränkten Untertyps muß immer eine Teilmenge des Obertyps sein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riktion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komplexer 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uktur bleibt gleich: es dürfen keine Elemente oder Attribute weggelassen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riktion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einfacher 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riktion ist (im Gegensatz zur Erweiterung) auch bei einfachen Typen erlau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676520" y="2714760"/>
            <a:ext cx="1828800" cy="3045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97320" y="3629160"/>
            <a:ext cx="1731960" cy="3045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2714760"/>
            <a:ext cx="1828800" cy="304560"/>
          </a:xfrm>
          <a:prstGeom prst="rect">
            <a:avLst/>
          </a:prstGeom>
          <a:solidFill>
            <a:srgbClr val="ff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97320" y="3629160"/>
            <a:ext cx="1731960" cy="304560"/>
          </a:xfrm>
          <a:prstGeom prst="rect">
            <a:avLst/>
          </a:prstGeom>
          <a:solidFill>
            <a:srgbClr val="ff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1828800"/>
            <a:ext cx="3810240" cy="30492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3962520"/>
            <a:ext cx="1676520" cy="3045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1828800"/>
            <a:ext cx="3810240" cy="304920"/>
          </a:xfrm>
          <a:prstGeom prst="rect">
            <a:avLst/>
          </a:prstGeom>
          <a:solidFill>
            <a:srgbClr val="ff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3962520"/>
            <a:ext cx="1676520" cy="304560"/>
          </a:xfrm>
          <a:prstGeom prst="rect">
            <a:avLst/>
          </a:prstGeom>
          <a:solidFill>
            <a:srgbClr val="ff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hierarchien: Restriktion von Typen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(Komplexer Typ)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restricted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restric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irst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2“/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last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string“/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required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restric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nüber dem ursprünglichen Typ wurde die Anzahl der Vornamen (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irst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f 2 begrenzt und das Altersattribut (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a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erzw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29240" y="2640240"/>
            <a:ext cx="4290480" cy="424800"/>
          </a:xfrm>
          <a:prstGeom prst="wedgeRoundRectCallout">
            <a:avLst>
              <a:gd name="adj1" fmla="val -77189"/>
              <a:gd name="adj2" fmla="val 7407"/>
              <a:gd name="adj3" fmla="val 16667"/>
            </a:avLst>
          </a:prstGeom>
          <a:solidFill>
            <a:srgbClr val="fff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orh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unbounded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89960" y="4102560"/>
            <a:ext cx="2926440" cy="424800"/>
          </a:xfrm>
          <a:prstGeom prst="wedgeRoundRectCallout">
            <a:avLst>
              <a:gd name="adj1" fmla="val -16657"/>
              <a:gd name="adj2" fmla="val -95212"/>
              <a:gd name="adj3" fmla="val 16667"/>
            </a:avLst>
          </a:prstGeom>
          <a:solidFill>
            <a:srgbClr val="fff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orh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optional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morphe Konsistenzbedingung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mente und Attribute können zusätzlich mit Konsistenzbedingungen beleg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deutigkeit (Schlüsselkandidat):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uniqu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eindeutigerAutoren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bib/paper/author/@first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bib/paper/author/@last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uniqu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Kombinationen von Vor- und Nachnamen bei den Autoren sind immer eindeu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els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rden die entsprechenden Elemente oder Attribute identifiz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els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der genaue Pfadausdruck angegeben, unter dem das entsprechende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nerhalb der Dokumenthierarchie gefunden werden k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Path (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: XML-Standard für Pfadausdrüc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chlüsselbedingung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ke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pierSchlüss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bib/paper/@i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ke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ttribut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i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ient als Schlüs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üssel sind eindeutig und können referenzier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Fremdschlüsselbedingung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keyre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pierFremdschlüss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ref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pierSchlüss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bib/paper/@referen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keyre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gänzend zum bisherigen Schema: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referen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eine Liste von Papieren, die vom Papier aus referenziert werden, d.h. in dessen Literaturverzeichnis auftau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st jetzt macht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 Sinn: mit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ref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ezieht man sich auf das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Attribut einer Schlüsselbedingung, nicht auf das Schlüsselfel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Werte in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referen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üssen also immer unter den Schlüsseln zu den Papieren zu finden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3390840"/>
            <a:ext cx="1987560" cy="32724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68480" y="1523880"/>
            <a:ext cx="1987560" cy="2509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1600200"/>
            <a:ext cx="3886200" cy="1752480"/>
          </a:xfrm>
          <a:custGeom>
            <a:avLst/>
            <a:gdLst/>
            <a:ahLst/>
            <a:rect l="l" t="t" r="r" b="b"/>
            <a:pathLst>
              <a:path w="3010" h="1157">
                <a:moveTo>
                  <a:pt x="1706" y="1157"/>
                </a:moveTo>
                <a:cubicBezTo>
                  <a:pt x="2358" y="1035"/>
                  <a:pt x="3010" y="913"/>
                  <a:pt x="2726" y="720"/>
                </a:cubicBezTo>
                <a:cubicBezTo>
                  <a:pt x="2442" y="527"/>
                  <a:pt x="1221" y="263"/>
                  <a:pt x="0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morphe Konsistenzbedingungen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ispiel-Schem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066680"/>
            <a:ext cx="8305920" cy="571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&lt;!-- XMLSchema für eine Literaturdatenbank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chem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&lt;!-- Globales Wurzelelement bib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bib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paper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0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unbounded"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id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ID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required"/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author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authorTyp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unbounded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year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tring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publisher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tring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0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references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listOfPapers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0"/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&lt;!-- Liste von Verweisen auf Papiere (siehe bib/paper/@references)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listOfPapers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ID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derivedB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list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ispiel-Schema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966960"/>
            <a:ext cx="8686800" cy="581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&lt;!-- Reine Typdefinitionen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authorTyp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firstnam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tring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0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unbounded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lastnam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tring"/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ag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humanAg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optional"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humanAg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unsignedShor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maxInclusiv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val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200"/&gt; 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extendedAuthorTyp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xten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authorTyp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email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tring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0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homepag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impleURLTyp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optional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xten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impleURLTyp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tring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patter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val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http://([^/?#]*)?([^?#]*)(\?([^#]*))?(#(.*))?"/&gt; 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86240" y="23637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62440" y="3352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86240" y="3352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3352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95560" y="4389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95600" y="55245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55245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tebo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21480" y="4497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564192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26360" y="5665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a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276360" y="266868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66868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27446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61960" y="3733920"/>
            <a:ext cx="685800" cy="68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373536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343040" y="373536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73536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65904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358308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562720" y="373536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79960" y="3735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562360" y="4897440"/>
            <a:ext cx="22860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79960" y="4897440"/>
            <a:ext cx="6494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21440" y="3659040"/>
            <a:ext cx="507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91280" y="3659040"/>
            <a:ext cx="1200240" cy="7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4389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564192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564192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478944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726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905120" y="48020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472608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114440" y="3583080"/>
            <a:ext cx="304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1480" y="449568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604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1680" y="341316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364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1280" y="44798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0600" y="44956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89040" y="45720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4880" y="44197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2880" y="562284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43680" y="562284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0480" y="571500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3480" y="57150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9800" y="571500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31400" y="571500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40640" y="24382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4211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3840" y="1295280"/>
            <a:ext cx="81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63c6"/>
                </a:solidFill>
                <a:latin typeface="Arial"/>
              </a:rPr>
              <a:t>Veranschaulichu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Objekten als gerichtete Grap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Model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8000" y="1829880"/>
            <a:ext cx="3649680" cy="759960"/>
          </a:xfrm>
          <a:prstGeom prst="wedgeRoundRectCallout">
            <a:avLst>
              <a:gd name="adj1" fmla="val -69129"/>
              <a:gd name="adj2" fmla="val 51180"/>
              <a:gd name="adj3" fmla="val 16667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ktidentifikator als Attribut im Knoten vermer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4080" y="2134080"/>
            <a:ext cx="2716200" cy="430560"/>
          </a:xfrm>
          <a:prstGeom prst="wedgeRoundRectCallout">
            <a:avLst>
              <a:gd name="adj1" fmla="val 78847"/>
              <a:gd name="adj2" fmla="val 45986"/>
              <a:gd name="adj3" fmla="val 16667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ten sind mark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6350400"/>
            <a:ext cx="3208320" cy="430560"/>
          </a:xfrm>
          <a:prstGeom prst="wedgeRoundRectCallout">
            <a:avLst>
              <a:gd name="adj1" fmla="val -75027"/>
              <a:gd name="adj2" fmla="val -172472"/>
              <a:gd name="adj3" fmla="val 16667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im Knoten vermer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520" y="37353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85640" y="36576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ispiel-Schema (3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1066680"/>
            <a:ext cx="8305920" cy="571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&lt;!-- Konsistenzbedingungen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uniq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eindeutigerAutorenName"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bib/paper/author/@firstname"/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bib/paper/author/@lastname"/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uniq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ke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papierSchlüssel"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bib/paper/@id"/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ke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keyre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papierFremdschlüssel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ref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papierSchlüssel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bib/paper/@references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keyre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chem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wertung von XML-Schem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XML-Schema können Datenbasis-Schemata viel einfacher als mit DTDs spezifiz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kann viel mehr Semantik in einem Schema eingefangen werden als mit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-Schema wird jedoch noch nicht weitläufig unterstützt, während DTDs bereits zum Kernstandard von XML gehö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 und Ausdruckskraft von XML-Schema sind sehr umfangre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zige Schwäche: geringe Vielfalt bei Konsistenzbeding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 zu XML-Schema im We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://www.w3.org/TR/xmlschema-0/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://www.w3.org/TR/xmlschema-1/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il I: Struk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://www.w3.org/TR/xmlschema-2/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il II: Daten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 Namespa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 rot="4200">
            <a:off x="2436840" y="3200040"/>
            <a:ext cx="3962520" cy="157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343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ame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 Namespaces and       Programming-Language Modu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65852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namespaces are akin to namespaces, packages, and modules in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mbiguation of tag names from different XML applications (“spaces”) through different pre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eparated from the loc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 “:”, obtain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paces constitute a layer on top of XML 1.0, si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gain a valid tag name and namespace bindings are ignored by som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 rot="5400000">
            <a:off x="-1295280" y="373356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'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mespace Binding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64916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es are bound to namespace URIs by attaching an xmlns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ribute to the prefixed element or one of its ancestor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the xmlns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ribute is a URI, which may or (unlike for DTDs!) may not point to a description of the namespace’s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ment can use bindings for multiple name-spaces via attributes xmlns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ns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 rot="5400000">
            <a:off x="-1295280" y="373356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'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mespaceless Example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Variant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4120" y="2114640"/>
            <a:ext cx="3754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bill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5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bil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30/123456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ph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30/1234568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ph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fax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30/1234569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fax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bill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6.2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bil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 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59400" y="16095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spaceless XML Mark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96040" y="3284640"/>
            <a:ext cx="2612880" cy="1557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bi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mbiguous tag (name clash from two XML appl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3555720" y="3544560"/>
            <a:ext cx="273204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586320" y="4376880"/>
            <a:ext cx="272232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 rot="5400000">
            <a:off x="-1295280" y="373356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'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wo-Namespace Example:                Snail-Mail and Telecoms Address Par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06440" y="1860480"/>
            <a:ext cx="608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http://www.deutschepost.de/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http://www.telekom.de/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5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30/123456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30/1234568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30/1234569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6.2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60120" y="14968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space XML Mark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03320" y="5300640"/>
            <a:ext cx="81406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ot element,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s well as the children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use the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fix, bound to a deutschepost 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use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fix, bound to a telekom 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96040" y="3498840"/>
            <a:ext cx="261288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bi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ambiguation through 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mai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fix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4583160" y="3595680"/>
            <a:ext cx="170496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378320" y="4376880"/>
            <a:ext cx="1930320" cy="44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 rot="5400000">
            <a:off x="-1295280" y="373356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'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rocessing 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 rot="4200">
            <a:off x="2487600" y="3230280"/>
            <a:ext cx="4124160" cy="176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cess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5456160" y="2631960"/>
            <a:ext cx="1763640" cy="2955960"/>
          </a:xfrm>
          <a:custGeom>
            <a:avLst/>
            <a:gdLst/>
            <a:ahLst/>
            <a:rect l="l" t="t" r="r" b="b"/>
            <a:pathLst>
              <a:path w="1111" h="1862">
                <a:moveTo>
                  <a:pt x="678" y="256"/>
                </a:moveTo>
                <a:cubicBezTo>
                  <a:pt x="894" y="128"/>
                  <a:pt x="1111" y="0"/>
                  <a:pt x="998" y="268"/>
                </a:cubicBezTo>
                <a:cubicBezTo>
                  <a:pt x="885" y="536"/>
                  <a:pt x="167" y="1596"/>
                  <a:pt x="0" y="1862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Example: XML to External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89400" y="2449440"/>
            <a:ext cx="446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13920" y="19922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ML Mark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62120" y="524664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77640" y="478944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ternal Presen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646080" y="5283360"/>
            <a:ext cx="20178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35480" y="4051440"/>
            <a:ext cx="30290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stylesheets a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, usable to 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ffer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48760" y="5226120"/>
            <a:ext cx="21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555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35520" y="58658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59560" y="5283360"/>
            <a:ext cx="893520" cy="752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145120" y="5573880"/>
            <a:ext cx="318960" cy="51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975280" y="3038400"/>
            <a:ext cx="55872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68800" y="4162320"/>
            <a:ext cx="3939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pla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pla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89480" y="2732040"/>
            <a:ext cx="2922480" cy="2143080"/>
          </a:xfrm>
          <a:custGeom>
            <a:avLst/>
            <a:gdLst/>
            <a:ahLst/>
            <a:rect l="l" t="t" r="r" b="b"/>
            <a:pathLst>
              <a:path w="1841" h="1350">
                <a:moveTo>
                  <a:pt x="0" y="0"/>
                </a:moveTo>
                <a:cubicBezTo>
                  <a:pt x="846" y="22"/>
                  <a:pt x="1693" y="44"/>
                  <a:pt x="1767" y="269"/>
                </a:cubicBezTo>
                <a:cubicBezTo>
                  <a:pt x="1841" y="494"/>
                  <a:pt x="1141" y="922"/>
                  <a:pt x="442" y="135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Example: XML to 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94800" y="2101680"/>
            <a:ext cx="375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20400" y="167652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ML Marku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58560" y="374796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ML Marku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457960" y="4873680"/>
            <a:ext cx="534960" cy="32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44440" y="3328920"/>
            <a:ext cx="31568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stylesheet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so usabl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yntax (1) – XML-Ele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-Element (engl. elem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chreibung eines Objekts, die durch passende Markierungen (tags) wie &lt;author&gt; und &lt;/author&gt; geklammert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halt eines Elements: Text und/oder weitere Elemente (Unterelem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mente können beliebig geschachtelt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ere Elemente: 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kurz: 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70040" y="3962520"/>
            <a:ext cx="4303440" cy="228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Serge 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emai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sab@abc.com 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emai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ail address may be wrong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3640" y="4863960"/>
            <a:ext cx="1906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984480"/>
            <a:ext cx="228600" cy="2187720"/>
          </a:xfrm>
          <a:custGeom>
            <a:avLst/>
            <a:gdLst>
              <a:gd name="textAreaLeft" fmla="*/ 0 w 228600"/>
              <a:gd name="textAreaRight" fmla="*/ 82440 w 228600"/>
              <a:gd name="textAreaTop" fmla="*/ 56880 h 2187720"/>
              <a:gd name="textAreaBottom" fmla="*/ 2130840 h 21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8680" y="3962520"/>
            <a:ext cx="199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mark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7160" y="5791320"/>
            <a:ext cx="190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mark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4191120"/>
            <a:ext cx="457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6019920"/>
            <a:ext cx="457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2960" y="4734000"/>
            <a:ext cx="1851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e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4441680"/>
            <a:ext cx="380880" cy="968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2560 h 968400"/>
              <a:gd name="textAreaBottom" fmla="*/ 915840 h 96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77"/>
                  <a:pt x="10800" y="3753"/>
                </a:cubicBezTo>
                <a:lnTo>
                  <a:pt x="10800" y="7614"/>
                </a:lnTo>
                <a:cubicBezTo>
                  <a:pt x="10800" y="9491"/>
                  <a:pt x="5400" y="11367"/>
                  <a:pt x="0" y="11367"/>
                </a:cubicBezTo>
                <a:cubicBezTo>
                  <a:pt x="5400" y="11367"/>
                  <a:pt x="10800" y="13244"/>
                  <a:pt x="10800" y="15120"/>
                </a:cubicBezTo>
                <a:lnTo>
                  <a:pt x="10800" y="17847"/>
                </a:lnTo>
                <a:cubicBezTo>
                  <a:pt x="10800" y="1972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473800"/>
            <a:ext cx="190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i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5960" y="5715000"/>
            <a:ext cx="458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Example: Some Stylesheets Will Contain Term-(Tree-)Rewriting Ru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84120" y="17794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207880" y="2171880"/>
            <a:ext cx="2133720" cy="477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83080" y="2171880"/>
            <a:ext cx="0" cy="5270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65600" y="2151000"/>
            <a:ext cx="2113200" cy="487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65320" y="3271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23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53240" y="32209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21320" y="2603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26320" y="26035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36160" y="26035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05400" y="293364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19400" y="295416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92920" y="293220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06440" y="41259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220480" y="4467240"/>
            <a:ext cx="2133720" cy="477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501880" y="5229360"/>
            <a:ext cx="406440" cy="3445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27920" y="5240160"/>
            <a:ext cx="690480" cy="325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33920" y="48988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53400" y="546876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83680" y="54687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524560" y="580860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32000" y="524988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959520" y="5813280"/>
            <a:ext cx="180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663520" y="48988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6920" y="4456080"/>
            <a:ext cx="1300320" cy="468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086280" y="3974760"/>
            <a:ext cx="273024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85840" y="558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76600" y="6084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04000" y="6066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Example: The Tre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16120" y="38322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de-Labeled, (Left-to-Right-)Ordered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377680" y="1755720"/>
            <a:ext cx="3377880" cy="2044080"/>
            <a:chOff x="5377680" y="1755720"/>
            <a:chExt cx="3377880" cy="2044080"/>
          </a:xfrm>
        </p:grpSpPr>
        <p:sp>
          <p:nvSpPr>
            <p:cNvPr id="438" name=""/>
            <p:cNvSpPr/>
            <p:nvPr/>
          </p:nvSpPr>
          <p:spPr>
            <a:xfrm>
              <a:off x="5753880" y="2181240"/>
              <a:ext cx="30016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address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name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"Xaver M. Linde"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street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"Wikingerufer 7"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town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"10555 Berlin"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77680" y="1755720"/>
              <a:ext cx="181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log Ter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70360" y="2313000"/>
              <a:ext cx="74160" cy="1413000"/>
            </a:xfrm>
            <a:custGeom>
              <a:avLst/>
              <a:gdLst>
                <a:gd name="textAreaLeft" fmla="*/ 47520 w 74160"/>
                <a:gd name="textAreaRight" fmla="*/ 74160 w 74160"/>
                <a:gd name="textAreaTop" fmla="*/ 36720 h 1413000"/>
                <a:gd name="textAreaBottom" fmla="*/ 1376280 h 14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24120" y="2320920"/>
              <a:ext cx="26496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 rot="5353800">
              <a:off x="7245720" y="1252080"/>
              <a:ext cx="129960" cy="2563560"/>
            </a:xfrm>
            <a:custGeom>
              <a:avLst/>
              <a:gdLst>
                <a:gd name="textAreaLeft" fmla="*/ 83160 w 129960"/>
                <a:gd name="textAreaRight" fmla="*/ 130320 w 129960"/>
                <a:gd name="textAreaTop" fmla="*/ 66600 h 2563560"/>
                <a:gd name="textAreaBottom" fmla="*/ 2496960 h 25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5400" y="10883"/>
                    <a:pt x="0" y="10883"/>
                  </a:cubicBezTo>
                  <a:cubicBezTo>
                    <a:pt x="54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37000" y="2259000"/>
              <a:ext cx="225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30640" y="216864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ubstruc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914400" y="1752480"/>
            <a:ext cx="4143960" cy="2049480"/>
            <a:chOff x="914400" y="1752480"/>
            <a:chExt cx="4143960" cy="2049480"/>
          </a:xfrm>
        </p:grpSpPr>
        <p:sp>
          <p:nvSpPr>
            <p:cNvPr id="446" name=""/>
            <p:cNvSpPr/>
            <p:nvPr/>
          </p:nvSpPr>
          <p:spPr>
            <a:xfrm>
              <a:off x="1304280" y="2178000"/>
              <a:ext cx="3754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addres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name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aver M. Linde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nam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street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kingerufer 7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street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town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555 Berlin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tow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addres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29520" y="175248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ML Markup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20760" y="2309760"/>
              <a:ext cx="74520" cy="14126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36720 h 1412640"/>
                <a:gd name="textAreaBottom" fmla="*/ 1375920 h 14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14400" y="2216160"/>
              <a:ext cx="26496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5353800">
              <a:off x="3205440" y="858240"/>
              <a:ext cx="120960" cy="3326040"/>
            </a:xfrm>
            <a:custGeom>
              <a:avLst/>
              <a:gdLst>
                <a:gd name="textAreaLeft" fmla="*/ 77400 w 120960"/>
                <a:gd name="textAreaRight" fmla="*/ 121320 w 120960"/>
                <a:gd name="textAreaTop" fmla="*/ 86400 h 3326040"/>
                <a:gd name="textAreaBottom" fmla="*/ 3239640 h 332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5400" y="10883"/>
                    <a:pt x="0" y="10883"/>
                  </a:cubicBezTo>
                  <a:cubicBezTo>
                    <a:pt x="54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87760" y="2255760"/>
              <a:ext cx="225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44280" y="215568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ub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479600" y="4498920"/>
            <a:ext cx="6288480" cy="1829160"/>
            <a:chOff x="1479600" y="4498920"/>
            <a:chExt cx="6288480" cy="1829160"/>
          </a:xfrm>
        </p:grpSpPr>
        <p:sp>
          <p:nvSpPr>
            <p:cNvPr id="454" name=""/>
            <p:cNvSpPr/>
            <p:nvPr/>
          </p:nvSpPr>
          <p:spPr>
            <a:xfrm>
              <a:off x="4082760" y="449892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306160" y="4890960"/>
              <a:ext cx="2133720" cy="477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81360" y="4890960"/>
              <a:ext cx="0" cy="5270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64240" y="4870440"/>
              <a:ext cx="2112840" cy="487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79600" y="5929200"/>
              <a:ext cx="18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aver M. Li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26880" y="5929200"/>
              <a:ext cx="174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kingerufer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47800" y="592920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555 Berl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19600" y="532296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24600" y="5322960"/>
              <a:ext cx="73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str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34440" y="532296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tow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03680" y="565308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17680" y="567360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91200" y="565128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300320" y="5276880"/>
            <a:ext cx="74520" cy="995400"/>
          </a:xfrm>
          <a:custGeom>
            <a:avLst/>
            <a:gdLst>
              <a:gd name="textAreaLeft" fmla="*/ 47520 w 74520"/>
              <a:gd name="textAreaRight" fmla="*/ 74880 w 74520"/>
              <a:gd name="textAreaTop" fmla="*/ 25920 h 995400"/>
              <a:gd name="textAreaBottom" fmla="*/ 969480 h 9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28880" y="5214960"/>
            <a:ext cx="2649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5353800">
            <a:off x="4347360" y="1668240"/>
            <a:ext cx="330120" cy="5854680"/>
          </a:xfrm>
          <a:custGeom>
            <a:avLst/>
            <a:gdLst>
              <a:gd name="textAreaLeft" fmla="*/ 210960 w 330120"/>
              <a:gd name="textAreaRight" fmla="*/ 330480 w 330120"/>
              <a:gd name="textAreaTop" fmla="*/ 152640 h 5854680"/>
              <a:gd name="textAreaBottom" fmla="*/ 5702040 h 585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3"/>
                </a:lnTo>
                <a:cubicBezTo>
                  <a:pt x="10800" y="9983"/>
                  <a:pt x="5400" y="10883"/>
                  <a:pt x="0" y="10883"/>
                </a:cubicBezTo>
                <a:cubicBezTo>
                  <a:pt x="5400" y="10883"/>
                  <a:pt x="10800" y="11783"/>
                  <a:pt x="10800" y="1268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69960" y="41860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Example: The Tre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16120" y="38322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de-Labeled, (Left-to-Right-)Ordered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914400" y="1752480"/>
            <a:ext cx="4143960" cy="2049480"/>
            <a:chOff x="914400" y="1752480"/>
            <a:chExt cx="4143960" cy="2049480"/>
          </a:xfrm>
        </p:grpSpPr>
        <p:sp>
          <p:nvSpPr>
            <p:cNvPr id="475" name=""/>
            <p:cNvSpPr/>
            <p:nvPr/>
          </p:nvSpPr>
          <p:spPr>
            <a:xfrm>
              <a:off x="1304280" y="2178000"/>
              <a:ext cx="3754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addres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name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aver M. Linde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nam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street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kingerufer 7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street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town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555 Berlin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tow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addres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29520" y="175248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ML Markup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20760" y="2309760"/>
              <a:ext cx="74520" cy="14126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36720 h 1412640"/>
                <a:gd name="textAreaBottom" fmla="*/ 1375920 h 14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14400" y="2216160"/>
              <a:ext cx="26496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5353800">
              <a:off x="3205440" y="858240"/>
              <a:ext cx="120960" cy="3326040"/>
            </a:xfrm>
            <a:custGeom>
              <a:avLst/>
              <a:gdLst>
                <a:gd name="textAreaLeft" fmla="*/ 77400 w 120960"/>
                <a:gd name="textAreaRight" fmla="*/ 121320 w 120960"/>
                <a:gd name="textAreaTop" fmla="*/ 86400 h 3326040"/>
                <a:gd name="textAreaBottom" fmla="*/ 3239640 h 332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5400" y="10883"/>
                    <a:pt x="0" y="10883"/>
                  </a:cubicBezTo>
                  <a:cubicBezTo>
                    <a:pt x="54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87760" y="2255760"/>
              <a:ext cx="225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44280" y="215568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ub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479600" y="4498920"/>
            <a:ext cx="6288480" cy="1829160"/>
            <a:chOff x="1479600" y="4498920"/>
            <a:chExt cx="6288480" cy="1829160"/>
          </a:xfrm>
        </p:grpSpPr>
        <p:sp>
          <p:nvSpPr>
            <p:cNvPr id="483" name=""/>
            <p:cNvSpPr/>
            <p:nvPr/>
          </p:nvSpPr>
          <p:spPr>
            <a:xfrm>
              <a:off x="4082760" y="449892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306160" y="4890960"/>
              <a:ext cx="2133720" cy="477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81360" y="4890960"/>
              <a:ext cx="0" cy="5270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64240" y="4870440"/>
              <a:ext cx="2112840" cy="487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79600" y="5929200"/>
              <a:ext cx="18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aver M. Li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26880" y="5929200"/>
              <a:ext cx="174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kingerufer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47800" y="592920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555 Berl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19600" y="532296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24600" y="5322960"/>
              <a:ext cx="73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str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34440" y="532296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tow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03680" y="565308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17680" y="567360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1200" y="565128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1300320" y="5276880"/>
            <a:ext cx="74520" cy="995400"/>
          </a:xfrm>
          <a:custGeom>
            <a:avLst/>
            <a:gdLst>
              <a:gd name="textAreaLeft" fmla="*/ 47520 w 74520"/>
              <a:gd name="textAreaRight" fmla="*/ 74880 w 74520"/>
              <a:gd name="textAreaTop" fmla="*/ 25920 h 995400"/>
              <a:gd name="textAreaBottom" fmla="*/ 969480 h 9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28880" y="5214960"/>
            <a:ext cx="2649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5353800">
            <a:off x="4347360" y="1668240"/>
            <a:ext cx="330120" cy="5854680"/>
          </a:xfrm>
          <a:custGeom>
            <a:avLst/>
            <a:gdLst>
              <a:gd name="textAreaLeft" fmla="*/ 210960 w 330120"/>
              <a:gd name="textAreaRight" fmla="*/ 330480 w 330120"/>
              <a:gd name="textAreaTop" fmla="*/ 152640 h 5854680"/>
              <a:gd name="textAreaBottom" fmla="*/ 5702040 h 585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3"/>
                </a:lnTo>
                <a:cubicBezTo>
                  <a:pt x="10800" y="9983"/>
                  <a:pt x="5400" y="10883"/>
                  <a:pt x="0" y="10883"/>
                </a:cubicBezTo>
                <a:cubicBezTo>
                  <a:pt x="5400" y="10883"/>
                  <a:pt x="10800" y="11783"/>
                  <a:pt x="10800" y="1268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69960" y="41860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Displaying 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xml-displaying" descr=""/>
          <p:cNvPicPr/>
          <p:nvPr/>
        </p:nvPicPr>
        <p:blipFill>
          <a:blip r:embed="rId1"/>
          <a:stretch/>
        </p:blipFill>
        <p:spPr>
          <a:xfrm>
            <a:off x="1050840" y="1371600"/>
            <a:ext cx="6797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scading Style She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90320" indent="-490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S is a language for applying styles such a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ol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XML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320" indent="-490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works with HTM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(supported in most modern brows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320" indent="-490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(style sheet for poem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isplay: block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isplay: block; font-size: 16pt; font-weight: bold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isplay: block; margin-bottom: 10px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isplay: block; margin-bottom: 10px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: block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0320" indent="-490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ached to XML document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processing instruct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?xml-stylesheet type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/c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ref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em.c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?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 rot="5400000">
            <a:off x="-1024200" y="3605040"/>
            <a:ext cx="28954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S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SLT (XSL Transformation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SL (Extensible Stylesheet Language)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S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cluding Xpath) +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matt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Path Language - XPath: a language for referencing parts of an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SLT is a rule-based transformation language for XM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a transformation usually is again an XML document, bu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be HTML or plain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 take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erver (e.g., with Apache´s Coco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ient (browser, e.g. Netscape 6 or IE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line (useful for XM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trans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 rot="5400000">
            <a:off x="-1138320" y="3681360"/>
            <a:ext cx="3114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SL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XSL capabil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xml-capabilities" descr=""/>
          <p:cNvPicPr/>
          <p:nvPr/>
        </p:nvPicPr>
        <p:blipFill>
          <a:blip r:embed="rId1"/>
          <a:stretch/>
        </p:blipFill>
        <p:spPr>
          <a:xfrm>
            <a:off x="1058760" y="1473120"/>
            <a:ext cx="70264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XPa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1752480"/>
            <a:ext cx="77724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00"/>
                </a:solidFill>
                <a:latin typeface="Tahoma"/>
              </a:rPr>
              <a:t>•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XPath is a language for addressing parts of an XML document. It also has basic facilities for manipulation of strings, numbers and boole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00"/>
                </a:solidFill>
                <a:latin typeface="Tahoma"/>
              </a:rPr>
              <a:t>•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It has a compact non-XML synt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00"/>
                </a:solidFill>
                <a:latin typeface="Tahoma"/>
              </a:rPr>
              <a:t>•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It operates on the logical (tree-like) structure of an XML document and uses a path notation for navigating through the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00"/>
                </a:solidFill>
                <a:latin typeface="Tahoma"/>
              </a:rPr>
              <a:t>•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It models an XML document as a tree of nodes: element nodes, attribute nodes, text node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Xpath - </a:t>
            </a: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Location Path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ahoma"/>
              </a:rPr>
              <a:t>•   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all &lt;para&gt; children in the current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para/emph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all &lt;emphasis&gt; elements that have a parent of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&lt;par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the root of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para//emph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all &lt;emphasis&gt; elements that have an ancestor of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&lt;par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section/para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the first &lt;para&gt; child of all the &lt;section&gt; children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 the current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More location path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//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all &lt;title&gt; elements anywhere in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ction/*/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&lt;note&gt; elements that have &lt;section&gt;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rand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ockquote[@symbo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&lt;stockquote&gt; elements that have a "symbol"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ockquote[@symbol="XXXX"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&lt;stockquote&gt; elements that have a "symbol"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ttribute with the value "XXXX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mphasis|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&lt;emphasis&gt; or &lt;strong&gt;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yntax (2) – XML-Attrib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-Attribut (engl. attribut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me-Zeichenkettenwert-P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soziiert mit einem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rnative Möglichkeit, Daten zu beschrei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934240"/>
            <a:ext cx="845820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author 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firstname=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rge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”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lastname=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biteboul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”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email=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b@abc.com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529160" y="2476080"/>
            <a:ext cx="380880" cy="2362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8600 h 2362320"/>
              <a:gd name="textAreaBottom" fmla="*/ 222372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25"/>
                  <a:pt x="10800" y="4050"/>
                </a:cubicBezTo>
                <a:lnTo>
                  <a:pt x="10800" y="6750"/>
                </a:lnTo>
                <a:cubicBezTo>
                  <a:pt x="10800" y="8775"/>
                  <a:pt x="5400" y="10800"/>
                  <a:pt x="0" y="10800"/>
                </a:cubicBezTo>
                <a:cubicBezTo>
                  <a:pt x="5400" y="10800"/>
                  <a:pt x="10800" y="12825"/>
                  <a:pt x="10800" y="14850"/>
                </a:cubicBezTo>
                <a:lnTo>
                  <a:pt x="10800" y="17550"/>
                </a:lnTo>
                <a:cubicBezTo>
                  <a:pt x="10800" y="1957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08960" y="3086280"/>
            <a:ext cx="166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tribut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c63c6"/>
                </a:solidFill>
                <a:latin typeface="Arial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90120" y="5486400"/>
            <a:ext cx="5832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e denkbare Beschreibung derselben Da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74920" y="3886200"/>
            <a:ext cx="4303440" cy="155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author 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email=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b@abc.com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Serge 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Xpath Patter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 XPath pattern is a 'location path’. A location path is absolute if it begins with a slash ("/") and relative other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relative location path consists of a series of steps, separated by slas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step has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 axis specifier, which specifies the tree relationship between the nodes to be selected and the context no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node test, which specifies the node type of the nodes to be selected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predicate, to further refine the set of nodes to be se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xis – Node Te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e axis of a node test determines what general category of nodes may be considered for the following node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ere are thirteen ax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parent, ancestor, ancestor-or-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cestors of the curren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attribute 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ttributes of the current node (abbreviated "@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child, descendant, descendant-or-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hildren of the current node (the default ax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following / following-sibling, preceding / preceding-sib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iblings of the curren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namespace 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amespace nodes of the curren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self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The current node (abbreviated ".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xpath-tree" descr=""/>
          <p:cNvPicPr/>
          <p:nvPr/>
        </p:nvPicPr>
        <p:blipFill>
          <a:blip r:embed="rId1"/>
          <a:stretch/>
        </p:blipFill>
        <p:spPr>
          <a:xfrm>
            <a:off x="1143000" y="1098720"/>
            <a:ext cx="601992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Node tes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de tests are most frequently element names, but other node tests are possi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name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Matches &lt;name&gt; element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*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Matches any elemen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namespace: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ches &lt;name&gt; element nodes in the specified name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namespace: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ches any element node in the specified name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comment(), text(), processing-instruction(), n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ch comment nodes, text nodes, processing instructions, any node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redicat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redicates occur after the node test in square brac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wide range of expression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detes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t[1]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Matches the first node satisfying the node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detes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t[position()=last()]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Matches the las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detes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t[position() mod 2 =0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]: Matches eve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en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t[@id='foo'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ches the element(s) with id attributes whose value is "foo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en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t[not(@id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ches elements that don't have an id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tho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r[firstname="Norman"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ches &lt;author&gt; elements that have &lt;firstname&gt; children with the content "Norman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SLT Examp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 Inp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31920" y="1612800"/>
            <a:ext cx="5770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&lt;addresses&gt;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street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street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town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tow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address&gt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address&gt;    </a:t>
            </a:r>
            <a:br>
              <a:rPr sz="2000"/>
            </a:b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Doe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name&gt;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&lt;street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Gary Cooper Stree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street&gt;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&lt;town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wyck City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town&gt;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&lt;/address&gt;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&lt;/address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 rot="5400000">
            <a:off x="-1138320" y="3681360"/>
            <a:ext cx="3114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SL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162080" y="1590840"/>
            <a:ext cx="6315120" cy="493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85920" y="4200480"/>
            <a:ext cx="4238640" cy="1886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76200" y="2066760"/>
            <a:ext cx="4248360" cy="2019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SLT Examp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 Styleshe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52360" y="1552680"/>
            <a:ext cx="7991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styleshe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ns:xsl="http://www.w3.org/1999/XSL/Transform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/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&lt;html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head&gt;&lt;title&gt;Addresses&lt;/title&gt;&lt;/hea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body bgcolor="white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&lt;xsl:apply-templates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/body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&lt;/html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lt;/xsl:template&gt;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addres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&lt;p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&lt;i&gt;&lt;xsl:value-of select="name"/&gt;&lt;/i&gt;&lt;br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&lt;xsl:value-of select="street"/&gt;&lt;br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&lt;b&gt;&lt;xsl:value-of select="town"/&gt;&lt;/b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lt;/xsl:template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896080" y="2676600"/>
            <a:ext cx="2514600" cy="923760"/>
          </a:xfrm>
          <a:prstGeom prst="wedgeRoundRectCallout">
            <a:avLst>
              <a:gd name="adj1" fmla="val -85606"/>
              <a:gd name="adj2" fmla="val -9862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mplate for document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10200" y="4572000"/>
            <a:ext cx="2133720" cy="1285920"/>
          </a:xfrm>
          <a:prstGeom prst="wedgeRoundRectCallout">
            <a:avLst>
              <a:gd name="adj1" fmla="val -80356"/>
              <a:gd name="adj2" fmla="val -53828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mplate for address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 rot="5400000">
            <a:off x="-1138320" y="3681360"/>
            <a:ext cx="3114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SL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SLT Examp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 Outp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152360" y="1552680"/>
            <a:ext cx="7991640" cy="46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HTML PUBLIC "-//W3C//DTD HTML 4.0//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http://www.w3.org/TR/REC-html40/strict.dtd"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ead&gt;&lt;title&gt;Addresses&lt;/title&gt;&lt;/head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 bgcolor="white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i&gt;Xaver M. Linde&lt;/i&gt;&lt;br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kingerufer 7&lt;br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&gt;10555 Berlin&lt;/b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i&gt;John Doe&lt;/i&gt;&lt;br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2 Gary Cooper Street&lt;br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&gt;Stanwyck City&lt;/b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The HTML code was produced with 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Apache´s Cocoon in HTML mode, hence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&lt;br/&gt; became &lt;br&gt;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addresses" descr=""/>
          <p:cNvPicPr/>
          <p:nvPr/>
        </p:nvPicPr>
        <p:blipFill>
          <a:blip r:embed="rId1"/>
          <a:srcRect l="0" t="-729" r="0" b="0"/>
          <a:stretch/>
        </p:blipFill>
        <p:spPr>
          <a:xfrm>
            <a:off x="5734080" y="2322360"/>
            <a:ext cx="2228760" cy="3880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 rot="5400000">
            <a:off x="-1138320" y="3681360"/>
            <a:ext cx="3114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SL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HTML Outp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xhtml-output" descr=""/>
          <p:cNvPicPr/>
          <p:nvPr/>
        </p:nvPicPr>
        <p:blipFill>
          <a:blip r:embed="rId1"/>
          <a:stretch/>
        </p:blipFill>
        <p:spPr>
          <a:xfrm>
            <a:off x="457200" y="1289160"/>
            <a:ext cx="7391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rocessing 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 rot="4200">
            <a:off x="2487600" y="3230280"/>
            <a:ext cx="4124160" cy="176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Query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Model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86240" y="23637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62440" y="3352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6240" y="3352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352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95560" y="4389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95600" y="55245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55245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tebo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1480" y="4497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64192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26360" y="5665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a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76360" y="266868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66868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7446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361960" y="3733920"/>
            <a:ext cx="685800" cy="68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373536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343040" y="373536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73536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65904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58308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62720" y="373536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79960" y="3735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62360" y="4897440"/>
            <a:ext cx="22860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79960" y="4897440"/>
            <a:ext cx="6494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21440" y="3659040"/>
            <a:ext cx="507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91280" y="3659040"/>
            <a:ext cx="1200240" cy="7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4389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64192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564192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478944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4726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905120" y="48020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72608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114440" y="3583080"/>
            <a:ext cx="304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1480" y="449568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604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1680" y="341316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364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1280" y="44798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20600" y="44956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89040" y="45720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4880" y="44197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2880" y="562284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43680" y="562284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50480" y="571500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3480" y="57150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9800" y="571500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31400" y="571500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40640" y="24382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4211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819520" y="37353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285640" y="36576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0"/>
            <a:ext cx="3733920" cy="300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id=“o1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paper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d=“o12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title&gt;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Serge 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Abiteboul 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1997 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Addison Wesley 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fragesprache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n für 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9582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XML: XML-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chlag an W3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Datenbankfachleuten für den Umgang mit großen Datenbestä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ert auf OEM (Object Exchange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et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äre Pfadausdrüc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XML: X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er aus Dokumentverarbeitungss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andere vorgeschlage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QL and XPa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5400000">
            <a:off x="-1038240" y="3600360"/>
            <a:ext cx="29145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SLT uses XPath to select parts of the input XML document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cument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xsl:value-of select="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/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 „na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is not XML-based, but intended to be used in URLs (XPointer) and XSLT a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QL is a variant of XPath especially designed for querying XM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Path/XQL expressio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ect pa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XML docu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no transformation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QL Expressions 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QL expressions (relative to a context nod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lement nodes with tag name „addres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/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„name“ element nod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„address“ element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/name=´John Doe´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before, plus t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name element must be ´John Doe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ok//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„name“ element nod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„book“ element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 rot="5400000">
            <a:off x="-1038240" y="3600360"/>
            <a:ext cx="29145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QL Expressions 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158868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XQL expres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root (the node that contains the document e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addresses/address/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/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name“ element nodes anywhere in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s with attributes (prefixed with @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ress/@ty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 nodes with name „type“ below „address“ element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ress/@type=´email´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bove, plus t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„type“ attribute is ´email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 rot="5400000">
            <a:off x="-1038240" y="3600360"/>
            <a:ext cx="29145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QL Expressions 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86804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 expr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[name]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„address“ element nodes with a direct „name“ sub-elemen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[name=´John Doe´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bove, plus the content of the „name“ element is ´John Doe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[@type=´email´]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„address“ element nodes that have a „type“ attribute whos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´email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 rot="5400000">
            <a:off x="-1038240" y="3600360"/>
            <a:ext cx="29145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598400" y="1841400"/>
            <a:ext cx="340128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02120" y="3651120"/>
            <a:ext cx="39463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s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bind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s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bind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Example: XML-QL Que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23280" y="13716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ML Mark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42000" y="32004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ML Query (XML-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00520" y="5894280"/>
            <a:ext cx="3735360" cy="12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84680" y="4597560"/>
            <a:ext cx="261936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querie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 sub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 XM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73120" y="1940040"/>
            <a:ext cx="115920" cy="1158840"/>
          </a:xfrm>
          <a:custGeom>
            <a:avLst/>
            <a:gdLst>
              <a:gd name="textAreaLeft" fmla="*/ 74160 w 115920"/>
              <a:gd name="textAreaRight" fmla="*/ 116280 w 115920"/>
              <a:gd name="textAreaTop" fmla="*/ 29880 h 1158840"/>
              <a:gd name="textAreaBottom" fmla="*/ 1128960 h 115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08160" y="1824120"/>
            <a:ext cx="26496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 rot="5353800">
            <a:off x="3332880" y="621000"/>
            <a:ext cx="146160" cy="3008520"/>
          </a:xfrm>
          <a:custGeom>
            <a:avLst/>
            <a:gdLst>
              <a:gd name="textAreaLeft" fmla="*/ 93600 w 146160"/>
              <a:gd name="textAreaRight" fmla="*/ 146520 w 146160"/>
              <a:gd name="textAreaTop" fmla="*/ 78120 h 3008520"/>
              <a:gd name="textAreaBottom" fmla="*/ 2930400 h 300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3"/>
                </a:lnTo>
                <a:cubicBezTo>
                  <a:pt x="10800" y="9983"/>
                  <a:pt x="5400" y="10883"/>
                  <a:pt x="0" y="10883"/>
                </a:cubicBezTo>
                <a:cubicBezTo>
                  <a:pt x="5400" y="10883"/>
                  <a:pt x="10800" y="11783"/>
                  <a:pt x="10800" y="1268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1520" y="187488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12400" y="1752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ub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77960" y="5356080"/>
            <a:ext cx="297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bind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bind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 rot="5400000">
            <a:off x="-1324080" y="3676680"/>
            <a:ext cx="34862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-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s features of query languages developed by the database research community for semistructu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mplified) base construc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patterns are XML fragments with variables (prefixed with 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-QL introduces an abbreviated XML syntax for simplicity: &lt;tag&gt;...&lt;/&gt; instead of &lt;tag&gt;...&lt;/ta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 (1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2b2b2"/>
                </a:solidFill>
                <a:latin typeface="Arial"/>
              </a:rPr>
              <a:t>Grundmu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lle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57600" y="846000"/>
            <a:ext cx="5334120" cy="2071080"/>
          </a:xfrm>
          <a:prstGeom prst="wedgeRoundRectCallout">
            <a:avLst>
              <a:gd name="adj1" fmla="val -59370"/>
              <a:gd name="adj2" fmla="val 16976"/>
              <a:gd name="adj3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umstruktur von Pfadausdrücken mit Tags, die mit dem Graphen des Dokument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ll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erglichen wird. Die freien Variablen werden aus dem Dokument instanti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62520" y="3576960"/>
            <a:ext cx="4952880" cy="1675800"/>
          </a:xfrm>
          <a:prstGeom prst="wedgeRoundRectCallout">
            <a:avLst>
              <a:gd name="adj1" fmla="val -60731"/>
              <a:gd name="adj2" fmla="val -100236"/>
              <a:gd name="adj3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des zu analysierenden Quelldokuments. Es können Bedingungen an die Variablen im Muster folgen (Selek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5428800"/>
            <a:ext cx="6324480" cy="1280520"/>
          </a:xfrm>
          <a:prstGeom prst="wedgeRoundRectCallout">
            <a:avLst>
              <a:gd name="adj1" fmla="val -31407"/>
              <a:gd name="adj2" fmla="val -228129"/>
              <a:gd name="adj3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 des Ergebnisdokuments mit Angabe, in welcher Form die an die Variablen gebundenen Werte ausgegeben werden soll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7200" y="2319480"/>
            <a:ext cx="839196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“french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Morgan Kaufmann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$a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www.a.b.c/bib.xm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386240" y="12970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6244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8624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9132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95560" y="33228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95600" y="44578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44578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21480" y="343044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41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26360" y="4599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276360" y="1601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24280" y="1601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1677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361960" y="259236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2819520" y="26686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76720" y="26686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2680" y="259236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343040" y="266868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0" y="266868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24280" y="259236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00600" y="251604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562720" y="266868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979960" y="26686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562360" y="3830760"/>
            <a:ext cx="22860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79960" y="3830760"/>
            <a:ext cx="6494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21440" y="2592360"/>
            <a:ext cx="507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91280" y="2592360"/>
            <a:ext cx="1200240" cy="7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62920" y="33228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1629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8487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391520" y="37227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3800" y="3659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1905120" y="37353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38280" y="365904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114440" y="251604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52680" y="2046240"/>
            <a:ext cx="2438640" cy="469800"/>
          </a:xfrm>
          <a:custGeom>
            <a:avLst/>
            <a:gdLst/>
            <a:ahLst/>
            <a:rect l="l" t="t" r="r" b="b"/>
            <a:pathLst>
              <a:path w="1536" h="296">
                <a:moveTo>
                  <a:pt x="1536" y="296"/>
                </a:moveTo>
                <a:cubicBezTo>
                  <a:pt x="1304" y="156"/>
                  <a:pt x="1072" y="16"/>
                  <a:pt x="816" y="8"/>
                </a:cubicBezTo>
                <a:cubicBezTo>
                  <a:pt x="560" y="0"/>
                  <a:pt x="280" y="124"/>
                  <a:pt x="0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52680" y="2325600"/>
            <a:ext cx="1067040" cy="368280"/>
          </a:xfrm>
          <a:custGeom>
            <a:avLst/>
            <a:gdLst/>
            <a:ahLst/>
            <a:rect l="l" t="t" r="r" b="b"/>
            <a:pathLst>
              <a:path w="672" h="232">
                <a:moveTo>
                  <a:pt x="0" y="120"/>
                </a:moveTo>
                <a:cubicBezTo>
                  <a:pt x="124" y="176"/>
                  <a:pt x="248" y="232"/>
                  <a:pt x="336" y="216"/>
                </a:cubicBezTo>
                <a:cubicBezTo>
                  <a:pt x="424" y="200"/>
                  <a:pt x="472" y="48"/>
                  <a:pt x="528" y="24"/>
                </a:cubicBezTo>
                <a:cubicBezTo>
                  <a:pt x="584" y="0"/>
                  <a:pt x="628" y="36"/>
                  <a:pt x="67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2440080"/>
            <a:ext cx="1066680" cy="253800"/>
          </a:xfrm>
          <a:custGeom>
            <a:avLst/>
            <a:gdLst/>
            <a:ahLst/>
            <a:rect l="l" t="t" r="r" b="b"/>
            <a:pathLst>
              <a:path w="672" h="160">
                <a:moveTo>
                  <a:pt x="672" y="96"/>
                </a:moveTo>
                <a:cubicBezTo>
                  <a:pt x="536" y="128"/>
                  <a:pt x="400" y="160"/>
                  <a:pt x="288" y="144"/>
                </a:cubicBezTo>
                <a:cubicBezTo>
                  <a:pt x="176" y="128"/>
                  <a:pt x="88" y="6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02000" y="48769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g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69400" y="4952880"/>
            <a:ext cx="7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teboul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01480" y="3733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259960" y="50292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tor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02960" y="5105520"/>
            <a:ext cx="5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anu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64000" y="5029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926120" y="5029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54120" y="175248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68160" y="182880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066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77280" y="213372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82000" y="251460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05880" y="259092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7080" y="281952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6940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9200" y="28195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30440" y="2895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7280" y="27432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15880" y="29718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20800" y="31240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5084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891680" y="295272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ubl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41320" y="28256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41640" y="303516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840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06800" y="27432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02360" y="396252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16760" y="41148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83640" y="403848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174360" y="403848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088400" y="403848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774200" y="388620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106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16960" y="10666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666880" y="3354480"/>
            <a:ext cx="40032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00400" y="3354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57600" y="3354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 (3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3720" y="4114800"/>
            <a:ext cx="603972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langu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french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Morgan Kaufman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$a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www.a.b.c/bib.xm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1676520"/>
            <a:ext cx="0" cy="60948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23880" y="4114800"/>
            <a:ext cx="838440" cy="38088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00600" y="2514600"/>
            <a:ext cx="533520" cy="83808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8800" y="4419720"/>
            <a:ext cx="1295280" cy="38088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52480" y="5334120"/>
            <a:ext cx="1143000" cy="38088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343040" y="2666880"/>
            <a:ext cx="152280" cy="7621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0" y="2666880"/>
            <a:ext cx="76320" cy="7621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114440" y="2514600"/>
            <a:ext cx="304920" cy="9907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XML vs HT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HTM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feste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Bezeichn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tag)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und Semanti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die Darstellung von Tex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XM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freie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Bezeichn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ur Beschreibung von anwendungsspezifischer Syntax (Meta-Gramma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G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86640" y="3276720"/>
            <a:ext cx="3764880" cy="2588400"/>
            <a:chOff x="386640" y="3276720"/>
            <a:chExt cx="3764880" cy="2588400"/>
          </a:xfrm>
        </p:grpSpPr>
        <p:sp>
          <p:nvSpPr>
            <p:cNvPr id="190" name=""/>
            <p:cNvSpPr/>
            <p:nvPr/>
          </p:nvSpPr>
          <p:spPr>
            <a:xfrm>
              <a:off x="386640" y="3276720"/>
              <a:ext cx="3746160" cy="252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h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Bib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h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Foundations of Databases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Serge Abiteboul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b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&gt; Addison Wesley, 19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4080" y="541044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HT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353120" y="2590920"/>
            <a:ext cx="4402800" cy="3807000"/>
            <a:chOff x="4353120" y="2590920"/>
            <a:chExt cx="4402800" cy="3807000"/>
          </a:xfrm>
        </p:grpSpPr>
        <p:sp>
          <p:nvSpPr>
            <p:cNvPr id="193" name=""/>
            <p:cNvSpPr/>
            <p:nvPr/>
          </p:nvSpPr>
          <p:spPr>
            <a:xfrm>
              <a:off x="4353120" y="2590920"/>
              <a:ext cx="4402800" cy="374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id=“o1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aper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d=“o12”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Foundations of Databases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itle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Serge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Abiteboul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1997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Addison Wesley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24680" y="5943240"/>
              <a:ext cx="82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754200" y="3687840"/>
            <a:ext cx="510696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&lt;/&gt; abbreviates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or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o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2280" y="1371600"/>
            <a:ext cx="87966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$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$a &lt;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www.a.b.c/bib.xm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$a &lt;/&gt; 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$l &lt;/&gt; &lt;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3840" y="4900320"/>
            <a:ext cx="907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Smith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English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Smith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Mandarin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Doe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English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 (4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4386240" y="12970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6244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8624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9132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95560" y="33228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695600" y="44578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819520" y="44578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721480" y="343044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341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26360" y="4599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276360" y="1601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24280" y="1601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0" y="1677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361960" y="259236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819520" y="26686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76720" y="26686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352680" y="259236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343040" y="266868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572000" y="266868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724280" y="259236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00600" y="251604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562720" y="266868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979960" y="26686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562360" y="3830760"/>
            <a:ext cx="22860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979960" y="3830760"/>
            <a:ext cx="6494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21440" y="2592360"/>
            <a:ext cx="507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191280" y="2592360"/>
            <a:ext cx="1200240" cy="7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162920" y="33228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1629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487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391520" y="37227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543800" y="3659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905120" y="37353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38280" y="365904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114440" y="251604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352680" y="2046240"/>
            <a:ext cx="2438640" cy="469800"/>
          </a:xfrm>
          <a:custGeom>
            <a:avLst/>
            <a:gdLst/>
            <a:ahLst/>
            <a:rect l="l" t="t" r="r" b="b"/>
            <a:pathLst>
              <a:path w="1536" h="296">
                <a:moveTo>
                  <a:pt x="1536" y="296"/>
                </a:moveTo>
                <a:cubicBezTo>
                  <a:pt x="1304" y="156"/>
                  <a:pt x="1072" y="16"/>
                  <a:pt x="816" y="8"/>
                </a:cubicBezTo>
                <a:cubicBezTo>
                  <a:pt x="560" y="0"/>
                  <a:pt x="280" y="124"/>
                  <a:pt x="0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352680" y="2325600"/>
            <a:ext cx="1067040" cy="368280"/>
          </a:xfrm>
          <a:custGeom>
            <a:avLst/>
            <a:gdLst/>
            <a:ahLst/>
            <a:rect l="l" t="t" r="r" b="b"/>
            <a:pathLst>
              <a:path w="672" h="232">
                <a:moveTo>
                  <a:pt x="0" y="120"/>
                </a:moveTo>
                <a:cubicBezTo>
                  <a:pt x="124" y="176"/>
                  <a:pt x="248" y="232"/>
                  <a:pt x="336" y="216"/>
                </a:cubicBezTo>
                <a:cubicBezTo>
                  <a:pt x="424" y="200"/>
                  <a:pt x="472" y="48"/>
                  <a:pt x="528" y="24"/>
                </a:cubicBezTo>
                <a:cubicBezTo>
                  <a:pt x="584" y="0"/>
                  <a:pt x="628" y="36"/>
                  <a:pt x="67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00600" y="2440080"/>
            <a:ext cx="1066680" cy="253800"/>
          </a:xfrm>
          <a:custGeom>
            <a:avLst/>
            <a:gdLst/>
            <a:ahLst/>
            <a:rect l="l" t="t" r="r" b="b"/>
            <a:pathLst>
              <a:path w="672" h="160">
                <a:moveTo>
                  <a:pt x="672" y="96"/>
                </a:moveTo>
                <a:cubicBezTo>
                  <a:pt x="536" y="128"/>
                  <a:pt x="400" y="160"/>
                  <a:pt x="288" y="144"/>
                </a:cubicBezTo>
                <a:cubicBezTo>
                  <a:pt x="176" y="128"/>
                  <a:pt x="88" y="6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02000" y="48769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g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69400" y="4952880"/>
            <a:ext cx="7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teboul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01480" y="3733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59960" y="50292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tor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02960" y="5105520"/>
            <a:ext cx="5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anu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164000" y="5029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926120" y="5029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54120" y="175248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68160" y="182880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1066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877280" y="213372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82000" y="251460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105880" y="259092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7080" y="281952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66940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0" y="28195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30440" y="2895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7280" y="27432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15880" y="29718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20800" y="31240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5084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91680" y="295272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ubl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41320" y="28256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41640" y="303516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9840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6800" y="27432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02360" y="396252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6760" y="41148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183640" y="403848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174360" y="403848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8400" y="403848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774200" y="388620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0" y="106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16960" y="10666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66880" y="3354480"/>
            <a:ext cx="40032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3354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57600" y="3354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 (5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06960" y="4114800"/>
            <a:ext cx="557568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langu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french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$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$a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www.a.b.c/bib.xml”, $n = Morgan Kaufman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4386240" y="12970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6244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8624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132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95560" y="33228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695600" y="44578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819520" y="44578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21480" y="343044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341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426360" y="4599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276360" y="1601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1601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572000" y="1677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361960" y="259236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2819520" y="26686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76720" y="26686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52680" y="259236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4343040" y="266868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0" y="266868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24280" y="259236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00600" y="251604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5562720" y="266868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979960" y="26686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5562360" y="3830760"/>
            <a:ext cx="22860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79960" y="3830760"/>
            <a:ext cx="6494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121440" y="2592360"/>
            <a:ext cx="507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191280" y="2592360"/>
            <a:ext cx="1200240" cy="7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62920" y="33228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1629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8487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91520" y="37227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659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1905120" y="37353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438280" y="365904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440" y="251604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352680" y="2046240"/>
            <a:ext cx="2438640" cy="469800"/>
          </a:xfrm>
          <a:custGeom>
            <a:avLst/>
            <a:gdLst/>
            <a:ahLst/>
            <a:rect l="l" t="t" r="r" b="b"/>
            <a:pathLst>
              <a:path w="1536" h="296">
                <a:moveTo>
                  <a:pt x="1536" y="296"/>
                </a:moveTo>
                <a:cubicBezTo>
                  <a:pt x="1304" y="156"/>
                  <a:pt x="1072" y="16"/>
                  <a:pt x="816" y="8"/>
                </a:cubicBezTo>
                <a:cubicBezTo>
                  <a:pt x="560" y="0"/>
                  <a:pt x="280" y="124"/>
                  <a:pt x="0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52680" y="2325600"/>
            <a:ext cx="1067040" cy="368280"/>
          </a:xfrm>
          <a:custGeom>
            <a:avLst/>
            <a:gdLst/>
            <a:ahLst/>
            <a:rect l="l" t="t" r="r" b="b"/>
            <a:pathLst>
              <a:path w="672" h="232">
                <a:moveTo>
                  <a:pt x="0" y="120"/>
                </a:moveTo>
                <a:cubicBezTo>
                  <a:pt x="124" y="176"/>
                  <a:pt x="248" y="232"/>
                  <a:pt x="336" y="216"/>
                </a:cubicBezTo>
                <a:cubicBezTo>
                  <a:pt x="424" y="200"/>
                  <a:pt x="472" y="48"/>
                  <a:pt x="528" y="24"/>
                </a:cubicBezTo>
                <a:cubicBezTo>
                  <a:pt x="584" y="0"/>
                  <a:pt x="628" y="36"/>
                  <a:pt x="67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800600" y="2440080"/>
            <a:ext cx="1066680" cy="253800"/>
          </a:xfrm>
          <a:custGeom>
            <a:avLst/>
            <a:gdLst/>
            <a:ahLst/>
            <a:rect l="l" t="t" r="r" b="b"/>
            <a:pathLst>
              <a:path w="672" h="160">
                <a:moveTo>
                  <a:pt x="672" y="96"/>
                </a:moveTo>
                <a:cubicBezTo>
                  <a:pt x="536" y="128"/>
                  <a:pt x="400" y="160"/>
                  <a:pt x="288" y="144"/>
                </a:cubicBezTo>
                <a:cubicBezTo>
                  <a:pt x="176" y="128"/>
                  <a:pt x="88" y="6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2000" y="48769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g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669400" y="4952880"/>
            <a:ext cx="7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teboul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201480" y="3733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259960" y="50292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tor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402960" y="5105520"/>
            <a:ext cx="5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anu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64000" y="5029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926120" y="5029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54120" y="175248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68160" y="182880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1066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877280" y="213372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582000" y="251460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105880" y="259092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87080" y="281952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6940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049200" y="28195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430440" y="2895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7280" y="27432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115880" y="29718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20800" y="31240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65084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891680" y="295272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ubl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41320" y="28256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41640" y="303516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840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706800" y="27432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02360" y="396252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516760" y="41148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183640" y="403848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174360" y="403848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088400" y="403848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74200" y="388620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0" y="106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6960" y="10666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666880" y="3354480"/>
            <a:ext cx="40032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200400" y="3354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657600" y="3354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 (6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05520" y="5308560"/>
            <a:ext cx="37231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$a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www.a.b.c/bib.xm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Example 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short addresses (without street)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lt;address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&lt;name&gt;$n&lt;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&lt;town&gt;$t&lt;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lt;/&gt;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test.org/addresses.x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lt;shortaddress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&lt;name&gt;$n&lt;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&lt;town&gt;$t&lt;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lt;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114800" y="2514600"/>
            <a:ext cx="2476440" cy="781200"/>
          </a:xfrm>
          <a:prstGeom prst="wedgeRoundRectCallout">
            <a:avLst>
              <a:gd name="adj1" fmla="val -68462"/>
              <a:gd name="adj2" fmla="val 831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treet&gt;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also ma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 rot="5400000">
            <a:off x="-1324080" y="3676680"/>
            <a:ext cx="34862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-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295280" y="2590920"/>
            <a:ext cx="5743800" cy="860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95280" y="3429000"/>
            <a:ext cx="5743800" cy="106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95280" y="4800600"/>
            <a:ext cx="57438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Example 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4114800"/>
            <a:ext cx="569880" cy="1173240"/>
          </a:xfrm>
          <a:custGeom>
            <a:avLst/>
            <a:gdLst/>
            <a:ahLst/>
            <a:rect l="l" t="t" r="r" b="b"/>
            <a:pathLst>
              <a:path w="359" h="696">
                <a:moveTo>
                  <a:pt x="355" y="0"/>
                </a:moveTo>
                <a:cubicBezTo>
                  <a:pt x="296" y="58"/>
                  <a:pt x="0" y="232"/>
                  <a:pt x="1" y="348"/>
                </a:cubicBezTo>
                <a:cubicBezTo>
                  <a:pt x="2" y="464"/>
                  <a:pt x="285" y="624"/>
                  <a:pt x="359" y="696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52480" y="3276720"/>
            <a:ext cx="1812960" cy="2214360"/>
          </a:xfrm>
          <a:custGeom>
            <a:avLst/>
            <a:gdLst/>
            <a:ahLst/>
            <a:rect l="l" t="t" r="r" b="b"/>
            <a:pathLst>
              <a:path w="1142" h="1314">
                <a:moveTo>
                  <a:pt x="1014" y="0"/>
                </a:moveTo>
                <a:cubicBezTo>
                  <a:pt x="1035" y="152"/>
                  <a:pt x="1138" y="710"/>
                  <a:pt x="1140" y="906"/>
                </a:cubicBezTo>
                <a:cubicBezTo>
                  <a:pt x="1142" y="1102"/>
                  <a:pt x="1089" y="1112"/>
                  <a:pt x="1026" y="1176"/>
                </a:cubicBezTo>
                <a:cubicBezTo>
                  <a:pt x="963" y="1240"/>
                  <a:pt x="933" y="1267"/>
                  <a:pt x="762" y="1290"/>
                </a:cubicBezTo>
                <a:cubicBezTo>
                  <a:pt x="591" y="1313"/>
                  <a:pt x="159" y="1309"/>
                  <a:pt x="0" y="1314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 rot="5400000">
            <a:off x="-1324080" y="3676680"/>
            <a:ext cx="34862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-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-QL allows joining by value:</a:t>
            </a:r>
            <a:br>
              <a:rPr sz="2200"/>
            </a:br>
            <a:br>
              <a:rPr sz="17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lt;addres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&lt;name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MENT_AS $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test.org/addresses.x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&lt;book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 &lt;author&gt;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$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&lt;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 &lt;title&gt;$t&lt;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&lt;/&gt;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test.org/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o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x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l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&lt;title&gt;$t&lt;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$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Doku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XML-Dokument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Text-Dokument, das XML-Beschreibungen enthä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ank-Sichtweise: sozusagen die Daten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Wohlgeformtes XML-Dokument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Elemente sind korrekt mit Start- und End-Tags geklamm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kument enthält genau ein Wurzel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hlgeformte Dokumente dürfen aber immer noch unstrukturierten Freitext enth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Gültiges (engl. valid) XML-Dokument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hlgeformtes XML-Dokument, das zu einem assoziierten </a:t>
            </a:r>
            <a:r>
              <a:rPr b="0" lang="de-DE" sz="2000" spc="-1" strike="noStrike">
                <a:solidFill>
                  <a:srgbClr val="3c63c6"/>
                </a:solidFill>
                <a:latin typeface="Arial"/>
              </a:rPr>
              <a:t>Schem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eingeschränkt konform 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els eines Schemas kann man also die Gültigkeit eines XML-Dokumentes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nvoll beim Datenaustausch (standardisierte Beschreib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8T15:30:24Z</dcterms:created>
  <dc:creator>hps</dc:creator>
  <dc:description/>
  <dc:language>en-US</dc:language>
  <cp:lastModifiedBy>rvo</cp:lastModifiedBy>
  <cp:lastPrinted>2000-04-19T15:37:00Z</cp:lastPrinted>
  <dcterms:modified xsi:type="dcterms:W3CDTF">2001-04-27T13:18:21Z</dcterms:modified>
  <cp:revision>166</cp:revision>
  <dc:subject/>
  <dc:title>Kein Folientitel</dc:title>
</cp:coreProperties>
</file>