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3B1-397E-4E0A-BBC6-8F673E7D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Email, conference calls, video conferencing, periodic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The group primarily used email to communicate, assigning one person as spokes person for the group, so as not to overwhelm AFRL and to present one voice for CENDI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Video and conference calling working wel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Decisions were discussed and consensus was reach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Periodic meetings 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ssue here is how to merge multiple web site/system designs into a coherent whole that represents the consortium not the individual ag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echnical Issues fall into 4 categori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issues around merging multiple agenc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prototypical BS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expanded BS issues (i.e. CENDI’s role in the larger development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ffort of BS within the A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generic desig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To begin, we needed to know how each agencies data looked - data element mapping.  Is a title, a title , a title.  Luckily this was already done by the Cataloging Working 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Incompatibility of technologie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SL - BS emul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okies - DO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ewall - NA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ug-in dependency on web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Connecting directly to the source indexes requires modification of the plug-ins, but is a faster, more robust solution.   More robust in the sense that the plug-in is no longer tied to the HTML tags.  Now if web page changes, need to modify the plug-in parsing 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Oracle will be used for the security auditing fun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AFRL currently testing Oracle for auditing (date formatting is different than Sy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raining CDROM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AFRL offered to send out a DBA, Sys Admin , and Trainer for one week to assist in the insta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AFRL would retain development site and CENDI would support production 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Perhaps after testing, evaluate list of recommended refinements and at that time make GO/NO GO decision to invest $$ in B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520" y="8686080"/>
            <a:ext cx="22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:\cendi\conference\fcw\cendi_tb_broadsword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 managers have responsibility for STI at agencies representing more than 90 percent of the multi- billion Federal R&amp;D Budget. STI is an integral part of the R&amp;D process and a necessary raw material for all science and technology pr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R&amp;D budget is 78B for FY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aas.org/ American Association for the Advancement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e in the  national STI policy arena - brief key decision makers, provide comments, briefing books and  testimony. Some of the policies of importance to CENDI members include implementation of the Paperwork Reduction Act, OMB Circular A-130, Government Information Locators (GILS) and National Performance Review guide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also active internationally in efforts to strengthen the U.S. position in STI negotiations and to maximize the use of international information received through exchange pro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hey support improvements in information technology and its application.  Areas of interest include the development of the National Information Infrastructure; education of information science and technology professionals and training for changing job requirements; developments in the National/Global Information Infrastructure; directions for Internet and WWW development ; and national digital library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hey provide a continuing education forum to keep their members aware of a variety of policies, standards, and technology developments that might impact STI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sponsor workshops for members; topics include Systems Architecture and Modernization, SGML Workshop ,Helpdesk ,Indexing, Gateway Developers,Bibliographic Standards, Customer Servi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y this we mean - looking at our similarities and differences and capitalizing on them as an Enterpri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ENDI agencies have been exchanging information all along- from hardcopy or micro fiche;bibliographic records; now bibliographic records and tiff images. Distributed access to these sources is the next step in this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y its nature, STI  is interdisciplinary, cutting across many fields and agencies.  The IDLSE promotes a non-agency centric approach to research by including all CENDI sour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ary login - trusted user and brokered 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Brokered login is for source which requires separate login/passwords for each user.  Sys admin configs source to deny all and then adds usernames that can have access.  User then puts in password on preference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Trusted user is for source that only requires one login/password for all users.  Sys admin puts in the login/passwd during config of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has security accreditation from the Ai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user can specify not only which sources (like EF) but also config search form and hitlist, type of search (simultaneous or sequential), and order of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has help screens and demo video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diting of login/logout, query, query response, product request, product transfer, admin/ISSO accesses an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is GOTS and a lot of work has went into making it portable - installable and configu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IC - participating as tester - large researcher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IC-Education Resources Inform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upgrade CENDI Dev GK to Ultra 60 (4 x faster) - 2 360 Mhz processors, 1 Gig RAM, 9 Gig storage, (add 4, 9, 18 as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PMO not designed to be production environ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482-58BF-4378-9107-0766925F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77C-B14B-4B31-995F-7707277A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8E9-6D09-47F8-B8D8-E375735C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78F-B9A8-4BCB-9D94-A482F82F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8F3-FA52-4AE9-9FB1-6C644E1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00A-E856-4CA8-9719-4D6E615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119-553B-4D20-BEE8-22A391F9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DAF-A462-43E1-A219-710EF4A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76E-7928-4B99-8B86-65202EF9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F14-0C29-4677-9D55-3C91797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9A5-3C0C-442B-9936-17FA2F6A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5CE-AFD1-4832-864B-3897319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F91A-58AE-4C1C-8A17-578035A0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itle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5639040" cy="12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agency Digital Library for Science &amp; Engineering (IDLS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of of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648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mmy Borkow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ense Technical Information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borkows@dtic.m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s Lear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/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gency Difference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Iss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cation/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agency buy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ive communication/collaboration within diverse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cessfully interpret broad 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are the us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relevant sourc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voice to represent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agency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must represent consortium, not individual agencies (e.g. DoD system w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interface stop and agency system begin?  (e.g. common shopping cart or individual agency shopping c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stency of interface for agency sources that present data differently (e.g. Text Box button on hit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ing on Text B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IC - goes to the shopping cart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 InfoBridge - goes to the full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- goes to the abstract which has link to ord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 R&amp;D - goes to PDF summary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hnical Iss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mapping across agencies/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for individual agency tes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 curv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working versus what is not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ompatibility of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 CENDI requirements into User’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Help is enough?  (e.g.  date searching is different among agen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e Sear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range format as specified on search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plug-in interprets format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IC - exact dat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/DOE R&amp;D - start dat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 InfoBridge -  start and end date years are used as wild card years and OR’ed toge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working for al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ng directly to source index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IC/DOE  investigate running GateKee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-depth agency testing/prototype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ion of additional requir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vance ranking norm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DI Planning Meeting in Au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end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al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243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DI Consort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agency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composed of senior Scientific and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(STI) managers from ten major program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U.S. Federal Agencie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ww.dtic.mil/ce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905120"/>
            <a:ext cx="4038840" cy="4201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666880"/>
            <a:ext cx="289584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DI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rdination and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0240" y="3809880"/>
            <a:ext cx="233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8560" y="30510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81480"/>
            <a:ext cx="27432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5211360"/>
            <a:ext cx="3276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Technical Informati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666880"/>
            <a:ext cx="3276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28600" y="263592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e of Scientific and Techn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on Agenc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28600"/>
            <a:ext cx="3352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78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Librar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e,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358128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1360" y="1218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280960"/>
            <a:ext cx="3375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ense Technical Information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Air Intelligen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13600" y="495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876920"/>
            <a:ext cx="2895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3000" y="5105520"/>
            <a:ext cx="266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.S Geological Surve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Resour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itle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1244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cooperation as an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imination of duplicate da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 support for government research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eting Cap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ders/canned indexes - Not real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plicating content - Not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IS searching - Application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39.50 searching - Protocol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 APIs - No password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lue-Added of Broadsw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word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 defined architecture - fully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 auditing - Air Force certif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customization/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ed admin and security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v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tch Queri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Participants/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 Technical Information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 Reports Database (www.dtic.mil/stinet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e of Scientific &amp; Technical Information, Department of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&amp;D Summaries (www.doe.gov/rnd/dbhome.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Bridge (www.doe.gov/bridge/home.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ucational Resources Information Center (ERIC) (www.ed.gov/databases/ERIC_Digests/index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ir Intelligenc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dated to version 2.0 of Broadswor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 screens for CEN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arate CENDI GateKeeper  - SPARC 20/Solaris 2.5.1/Apache 12.6 we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agency test account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plug-ins are working (DOE Info Bridge, DOE R&amp;D Summaries, Education’s ERIC, and DTIC’s Tech Repo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5:30:14Z</dcterms:created>
  <dc:creator>DTIC</dc:creator>
  <dc:description/>
  <dc:language>en-US</dc:language>
  <cp:lastModifiedBy>Jim Dee</cp:lastModifiedBy>
  <cp:lastPrinted>1999-06-14T17:55:11Z</cp:lastPrinted>
  <dcterms:modified xsi:type="dcterms:W3CDTF">1999-06-15T12:13:59Z</dcterms:modified>
  <cp:revision>27</cp:revision>
  <dc:subject/>
  <dc:title>Interagency Digital Library for Science &amp; Engineering  Proof of Concept</dc:title>
</cp:coreProperties>
</file>