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hdr"/>
          </p:nvPr>
        </p:nvSpPr>
        <p:spPr>
          <a:xfrm>
            <a:off x="-32040" y="1260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2"/>
          </p:nvPr>
        </p:nvSpPr>
        <p:spPr>
          <a:xfrm>
            <a:off x="3838320" y="1260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-32040" y="9437400"/>
            <a:ext cx="294012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3838320" y="9437400"/>
            <a:ext cx="294012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fld id="{F40FCC71-B93B-4FF8-A2BA-8B0675B431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Img"/>
          </p:nvPr>
        </p:nvSpPr>
        <p:spPr>
          <a:xfrm>
            <a:off x="1065240" y="870120"/>
            <a:ext cx="46180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65240" y="87012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multiple forma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, mind, coll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 indent="-22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C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M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Per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 indent="-22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 indent="-22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 indent="-22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 indent="-22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multiple vie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, process, client, strategic, financial, planning, department, personal, organiz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962000"/>
            <a:ext cx="77724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9480" y="3564360"/>
            <a:ext cx="77724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962000"/>
            <a:ext cx="37926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92160" y="1962000"/>
            <a:ext cx="37926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480" y="3564360"/>
            <a:ext cx="37926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92160" y="3564360"/>
            <a:ext cx="37926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962000"/>
            <a:ext cx="250236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7480" y="1962000"/>
            <a:ext cx="250236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65120" y="1962000"/>
            <a:ext cx="250236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09480" y="3564360"/>
            <a:ext cx="250236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7480" y="3564360"/>
            <a:ext cx="250236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865120" y="3564360"/>
            <a:ext cx="250236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09480" y="1962000"/>
            <a:ext cx="777240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962000"/>
            <a:ext cx="7772400" cy="30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962000"/>
            <a:ext cx="3792600" cy="30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962000"/>
            <a:ext cx="3792600" cy="30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09480" y="53352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62000"/>
            <a:ext cx="37926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1962000"/>
            <a:ext cx="3792600" cy="30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564360"/>
            <a:ext cx="37926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962000"/>
            <a:ext cx="3792600" cy="30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962000"/>
            <a:ext cx="37926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92160" y="3564360"/>
            <a:ext cx="37926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62000"/>
            <a:ext cx="37926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92160" y="1962000"/>
            <a:ext cx="37926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480" y="3564360"/>
            <a:ext cx="77724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3680" y="387360"/>
            <a:ext cx="8292960" cy="6159600"/>
            <a:chOff x="463680" y="387360"/>
            <a:chExt cx="8292960" cy="6159600"/>
          </a:xfrm>
        </p:grpSpPr>
        <p:sp>
          <p:nvSpPr>
            <p:cNvPr id="1" name=""/>
            <p:cNvSpPr/>
            <p:nvPr/>
          </p:nvSpPr>
          <p:spPr>
            <a:xfrm>
              <a:off x="539640" y="463680"/>
              <a:ext cx="8217000" cy="60832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63680" y="387360"/>
              <a:ext cx="8216640" cy="6083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T ICE KMN, Stanford, June 16-18 19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609480" y="1962000"/>
            <a:ext cx="7772400" cy="30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62840" y="6134040"/>
            <a:ext cx="635040" cy="241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69800" y="6253200"/>
            <a:ext cx="4762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B82B-9ADB-4022-ADF9-57EF6FF917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662960" y="452520"/>
            <a:ext cx="709200" cy="817560"/>
            <a:chOff x="7662960" y="452520"/>
            <a:chExt cx="709200" cy="817560"/>
          </a:xfrm>
        </p:grpSpPr>
        <p:sp>
          <p:nvSpPr>
            <p:cNvPr id="9" name=""/>
            <p:cNvSpPr/>
            <p:nvPr/>
          </p:nvSpPr>
          <p:spPr>
            <a:xfrm>
              <a:off x="7664400" y="452520"/>
              <a:ext cx="707760" cy="15264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6560" y="625680"/>
              <a:ext cx="612360" cy="10620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758000" y="746280"/>
              <a:ext cx="607680" cy="10620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759440" y="870120"/>
              <a:ext cx="607680" cy="10620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56560" y="995400"/>
              <a:ext cx="613800" cy="1065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662960" y="1117800"/>
              <a:ext cx="707760" cy="15228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705440" y="605160"/>
              <a:ext cx="0" cy="51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705440" y="685800"/>
              <a:ext cx="52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710480" y="798840"/>
              <a:ext cx="51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13360" y="922320"/>
              <a:ext cx="52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705440" y="1047960"/>
              <a:ext cx="52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66440"/>
            <a:ext cx="7772400" cy="17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ing a Knowledg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Technology</a:t>
            </a:r>
            <a:br>
              <a:rPr sz="32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ncompassing View on the Projects of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Management Group at DFKI Kaiserslauter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82760" y="4181400"/>
            <a:ext cx="640080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chael Sintek, Andreas Abecker, Ansgar Bernar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rman Research Center for Artificial Intelli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aiserslautern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99240" y="426960"/>
            <a:ext cx="874800" cy="9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Know-Net Intranet- and Agent-Based System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03280" y="1349280"/>
            <a:ext cx="8104320" cy="47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761240" y="747720"/>
            <a:ext cx="601560" cy="9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DO—A Scalable OM Framework for Evolutionary Grow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future wor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9200" y="1342800"/>
            <a:ext cx="7772400" cy="25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research project funded by German government, successor project of Know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More: global set of ontologies, centralized 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DO: conjointly use knowledge from several independent knowledge 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cy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ly introduced partial OMs based on specific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knowledge sources (with own ontolog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1120" y="4319640"/>
            <a:ext cx="50194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ology mapping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ng and cooperating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78160" y="3965400"/>
            <a:ext cx="344520" cy="365400"/>
          </a:xfrm>
          <a:prstGeom prst="downArrow">
            <a:avLst>
              <a:gd name="adj1" fmla="val 50000"/>
              <a:gd name="adj2" fmla="val 26515"/>
            </a:avLst>
          </a:pr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 a rich, modular KM middleware as a solid basis for engineering intranet-based KM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757920" y="423720"/>
            <a:ext cx="533520" cy="903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764480" y="873000"/>
            <a:ext cx="601560" cy="98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RODO KM Middleware Will Exploit Various Notions of Ag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0360" y="1809720"/>
            <a:ext cx="7772400" cy="372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reference and acquisition librar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ir respective knowledge source and organization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o effectively access, search, maintain the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s, mediators, ontologists, knowledge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intelligent interfaces to legacy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ources accessible to higher-level in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analysis and information extraction 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transition between informal and formal repres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/process agents, knowledge push/pull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 workflow enac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ze context-sensitive information 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64480" y="873000"/>
            <a:ext cx="601560" cy="98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hai" descr=""/>
          <p:cNvPicPr/>
          <p:nvPr/>
        </p:nvPicPr>
        <p:blipFill>
          <a:blip r:embed="rId1"/>
          <a:stretch/>
        </p:blipFill>
        <p:spPr>
          <a:xfrm>
            <a:off x="1938240" y="1028880"/>
            <a:ext cx="5052960" cy="50529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ample Instantiation of the FRODO OM Frame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64480" y="873000"/>
            <a:ext cx="601560" cy="98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E—Fostering Individual Users’ Motivation for Accessing Online Learning &amp; Training Resourc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plann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0120" y="166824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163440" indent="-163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submitted to the EU 5th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front-end to electronic learning and training (L&amp;T)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es users’ motivation; important driving factor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VE proposes an environment that wraps L&amp;T tools and cont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gether with people’s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representation of the L&amp;T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1400" indent="-163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pace with 3D representation of the organization and of knowledge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1400" indent="-163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tars associated to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1400" indent="-163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zard agents with specific roles for promoting availabl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1400" indent="-163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social processes: events organization, social places (café)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60640" y="2682720"/>
            <a:ext cx="325440" cy="293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59800" y="998640"/>
            <a:ext cx="601560" cy="9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E Adds Access to L&amp;T OMs Through 3D Knowledge Por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1120" y="1525680"/>
            <a:ext cx="7772400" cy="40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&amp;T contents is accompanied by a KnowMore/FRODO-like knowledge meta-level based upon various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s upcoming standard will be used for this knowledge representation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3D knowledge portal wraps these ontologies to provide a highly motivating access to the L&amp;T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MOTIVE 3D knowledge access can be viewed as an additional, but highly user-friendly information retrieval aspect of the general KM scen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0120" y="47242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3D spaces can be used to replace legacy information retrieval, knowledge acquisition, and workflow frontends of OM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59800" y="998640"/>
            <a:ext cx="601560" cy="9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60240" y="140148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ur view, KM technology is a combination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, heterogeneous knowledge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formal ontologies (information, domain, enterpri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 meta-de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-formal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, active support,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work, middleware,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-friendly access through 3D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70880" y="1122480"/>
            <a:ext cx="695160" cy="142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4120" y="1862640"/>
            <a:ext cx="6894360" cy="703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and approaches to support KM infrastructures for organizations; related research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58680" y="2767680"/>
            <a:ext cx="6589800" cy="398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wM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knowledge supp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58680" y="3377160"/>
            <a:ext cx="6589800" cy="398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w-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49320" y="4004280"/>
            <a:ext cx="6589800" cy="398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, frame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58680" y="4577400"/>
            <a:ext cx="6589800" cy="398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 ac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4120" y="5182560"/>
            <a:ext cx="6894360" cy="642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: we propose a rich, modular KM middleware as a solid basis for engineering intranet-based KM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8480" y="25812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8480" y="2967120"/>
            <a:ext cx="16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6120" y="3576600"/>
            <a:ext cx="16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6400" y="419400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8480" y="4768920"/>
            <a:ext cx="16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6200" y="1084320"/>
            <a:ext cx="692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560" y="1031760"/>
            <a:ext cx="685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 of Knowledge Management technology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 Management Group at DFKI Kaiserslau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 is an Important Productivity Factor for Organ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962000"/>
            <a:ext cx="7772400" cy="234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1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ides labor, capital, and land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been recognized as an important productivity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 is stored in individual brains or implicitly encoded and hidden in organizational processes, documents, services, an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 is concerned with discovery, acquisition, creation, dissemination, and utilization of knowl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69080" y="460440"/>
            <a:ext cx="704880" cy="137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flipV="1">
            <a:off x="4600440" y="3108240"/>
            <a:ext cx="1536840" cy="41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438800" y="2428920"/>
            <a:ext cx="146520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905200" y="2570040"/>
            <a:ext cx="1218960" cy="9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124160" y="2285640"/>
            <a:ext cx="549360" cy="12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24160" y="3546360"/>
            <a:ext cx="1922760" cy="21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4160" y="3546360"/>
            <a:ext cx="2306880" cy="9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24160" y="3546360"/>
            <a:ext cx="336600" cy="1279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854080" y="3546360"/>
            <a:ext cx="1269720" cy="113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828440" y="3546360"/>
            <a:ext cx="2306520" cy="36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1900080" y="3200040"/>
            <a:ext cx="2244960" cy="34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s Have Serious Problems in Managing Their Corporate Knowled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fields of computer science tack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se knowledge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39640" y="3152880"/>
            <a:ext cx="1805400" cy="825480"/>
          </a:xfrm>
          <a:prstGeom prst="rect">
            <a:avLst/>
          </a:prstGeom>
          <a:solidFill>
            <a:srgbClr val="fc7c7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08360" y="3716280"/>
            <a:ext cx="171396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76840" y="4627440"/>
            <a:ext cx="125676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26960" y="4489560"/>
            <a:ext cx="130860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56120" y="2090880"/>
            <a:ext cx="132084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2040" y="3016080"/>
            <a:ext cx="127044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9760" y="4356000"/>
            <a:ext cx="186768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Form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9720" y="3614760"/>
            <a:ext cx="163764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Vi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11120" y="2343240"/>
            <a:ext cx="142272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43080" y="2271600"/>
            <a:ext cx="118188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76720" y="2962440"/>
            <a:ext cx="128268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69080" y="460440"/>
            <a:ext cx="704880" cy="137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arch Fields Related to K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81040" y="1414080"/>
            <a:ext cx="7640640" cy="361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-1882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oupware, Workflow, CSC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on of individuals and depar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 management, retrieval, and filter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available abstract, strategic knowledge written down in text-base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advertised as KM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tificial Intelli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rive for a new quality of knowledge systems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grating 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se 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69080" y="460440"/>
            <a:ext cx="704880" cy="137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More—Knowledge Management for Learning Organ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7800" y="1738080"/>
            <a:ext cx="7772400" cy="305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research project funded by German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idea: access to multiple heterogeneous knowledge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d through comprehensive knowledge description using several formal ontologies (information, domain, enterprise ontolo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information delivery integrated into business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icit representation of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KnowMore, knowledge can be viewed as information linked into the application con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64480" y="628560"/>
            <a:ext cx="601560" cy="98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KnowMore System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map-smaller" descr=""/>
          <p:cNvPicPr/>
          <p:nvPr/>
        </p:nvPicPr>
        <p:blipFill>
          <a:blip r:embed="rId1"/>
          <a:stretch/>
        </p:blipFill>
        <p:spPr>
          <a:xfrm>
            <a:off x="1623960" y="1019160"/>
            <a:ext cx="5958000" cy="5084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764480" y="628560"/>
            <a:ext cx="601560" cy="98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-Net—Knowledge Management with Intranet Technolo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0640" y="13842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the European Commission within the “IT for learning and training industry”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groupware functionalities with AI methods enabling the handling of knowledg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Knowledger™ suite (Lotus Notes™ application from Knowledge Associates) and intelligent agents (DF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net- and agent-based knowledge plat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ification, mapping, sharing, and reuse of explicit knowledge in multimedia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orate knowledge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navigation, searching,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a KnowMore-like knowledge platform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laborative asp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y an important r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61240" y="747720"/>
            <a:ext cx="601560" cy="9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-Net: Collaborative Asp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77948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ve tools supporting communities of practice at the team level to facilitate the creation of shared memories and interpretative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group discussions/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-based bulletin boards and fo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line topical conferences with threading features and interactive expertise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-Net mainly exploits the collaboration and coordination technology provided by Lotus Notes and add-on products like Sam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61240" y="747720"/>
            <a:ext cx="601560" cy="9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6T21:02:18Z</dcterms:created>
  <dc:creator>test</dc:creator>
  <dc:description/>
  <dc:language>en-US</dc:language>
  <cp:lastModifiedBy>Michael Sintek</cp:lastModifiedBy>
  <cp:lastPrinted>1999-06-11T09:35:29Z</cp:lastPrinted>
  <dcterms:modified xsi:type="dcterms:W3CDTF">1999-06-11T09:45:17Z</dcterms:modified>
  <cp:revision>69</cp:revision>
  <dc:subject/>
  <dc:title>Kein Folientitel</dc:title>
</cp:coreProperties>
</file>