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E55A988-6CAC-4677-A773-AA47F2C95D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 presentation looking at knowledge management in practice. Knowledge Management is a term that is gaining increasing exposure. This presentation attempts to sort out the business reality from the consultants’ hype. It is based on the analysis of this topic over 10 years (before the term was widely used) and recent assignments, by David Skyrme and his colleague Debra Rogers of ENTOVATION International (for contact details see last slid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768240"/>
            <a:ext cx="5029200" cy="3767400"/>
          </a:xfrm>
          <a:prstGeom prst="rect">
            <a:avLst/>
          </a:prstGeom>
          <a:ln w="0">
            <a:noFill/>
          </a:ln>
        </p:spPr>
      </p:sp>
      <p:sp>
        <p:nvSpPr>
          <p:cNvPr id="3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xtensive = externally (in product or service); internally is in processe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nowledge (in) products (the ‘knowledgeburger’) - consumer information, applications, internal awareness e.g. cars about to break-down. Some fastest growing sectors - education, health, software etc. are knowledge business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processes - that which is NOT in the procedure manual! (e.g. emergency procedures in practice). What procedures fall down when a someone crucial is away? Microsoft is a good example of a company worth much more than its physical assets. It has knowledge capital, encapsulated in its softwa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768240"/>
            <a:ext cx="5029200" cy="3767400"/>
          </a:xfrm>
          <a:prstGeom prst="rect">
            <a:avLst/>
          </a:prstGeom>
          <a:ln w="0">
            <a:noFill/>
          </a:ln>
        </p:spPr>
      </p:sp>
      <p:sp>
        <p:nvSpPr>
          <p:cNvPr id="3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xamples ar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st practices database - E&amp;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Yellow Pages at Standard Life - Info Ba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P - Virtual Team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echNet - Expert Networ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TD - Own Exampl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rice Waterhouse - KnowledgeView AND Knowledge Centr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71600" y="768240"/>
            <a:ext cx="5029200" cy="3767400"/>
          </a:xfrm>
          <a:prstGeom prst="rect">
            <a:avLst/>
          </a:prstGeom>
          <a:ln w="0">
            <a:noFill/>
          </a:ln>
        </p:spPr>
      </p:sp>
      <p:sp>
        <p:nvSpPr>
          <p:cNvPr id="3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se are a selection from over 30 cases known to me. They illustrate particularly good practice at some aspect of knowledge management. However, most of them cover several aspects of knowledge management, while a few, such as Dow and Monsanto claim to have in place a comprehensive Knowledge Management Architecture. However, like the early days of BPR, at the moment Knowledge Management is usually deployed in pilots or pockets of organisations and is not widespread.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71600" y="768240"/>
            <a:ext cx="5029200" cy="3767400"/>
          </a:xfrm>
          <a:prstGeom prst="rect">
            <a:avLst/>
          </a:prstGeom>
          <a:ln w="0">
            <a:noFill/>
          </a:ln>
        </p:spPr>
      </p:sp>
      <p:sp>
        <p:nvSpPr>
          <p:cNvPr id="3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ot a lot new to those familiar with innovative change. Some of the highest benefits from knowledge managemetn have been in organisations where the chief executive has just believed in it and got on with it, worrying about return on investment later (e.g. Analog, Buckma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71600" y="768240"/>
            <a:ext cx="5029200" cy="3767400"/>
          </a:xfrm>
          <a:prstGeom prst="rect">
            <a:avLst/>
          </a:prstGeom>
          <a:ln w="0">
            <a:noFill/>
          </a:ln>
        </p:spPr>
      </p:sp>
      <p:sp>
        <p:nvSpPr>
          <p:cNvPr id="3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You know what they say - if you can’t beat ‘em join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awley KPMG/IMPACT work can hel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768240"/>
            <a:ext cx="5029200" cy="3767400"/>
          </a:xfrm>
          <a:prstGeom prst="rect">
            <a:avLst/>
          </a:prstGeom>
          <a:ln w="0">
            <a:noFill/>
          </a:ln>
        </p:spPr>
      </p:sp>
      <p:sp>
        <p:nvSpPr>
          <p:cNvPr id="3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avid Skyrme Associates publishes a free monthly email briefing </a:t>
            </a:r>
            <a:endParaRPr b="0" lang="en-US" sz="1200" spc="-1" strike="noStrike">
              <a:solidFill>
                <a:srgbClr val="000000"/>
              </a:solidFill>
              <a:latin typeface="Arial"/>
            </a:endParaRPr>
          </a:p>
          <a:p>
            <a:pPr indent="0">
              <a:lnSpc>
                <a:spcPct val="100000"/>
              </a:lnSpc>
              <a:spcBef>
                <a:spcPts val="720"/>
              </a:spcBef>
              <a:buNone/>
            </a:pPr>
            <a:r>
              <a:rPr b="1" i="1" lang="en-US" sz="1200" spc="-1" strike="noStrike">
                <a:solidFill>
                  <a:srgbClr val="000000"/>
                </a:solidFill>
                <a:latin typeface="Times New Roman"/>
                <a:ea typeface="Times New Roman"/>
              </a:rPr>
              <a:t>I3 UPDATE</a:t>
            </a:r>
            <a:r>
              <a:rPr b="0" lang="en-US" sz="1200" spc="-1" strike="noStrike">
                <a:solidFill>
                  <a:srgbClr val="000000"/>
                </a:solidFill>
                <a:latin typeface="Times New Roman"/>
                <a:ea typeface="Times New Roman"/>
              </a:rPr>
              <a:t> on developments and implications of Knowledg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anagement. For details on how to subscribe, visit the Web page o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end an emai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e now accept BPR and TQM as ‘fundamental’, but at one time they were fads. As products and services carry more information and knowledge content e.g. ICI says it sells ‘effects’ not chemicals, this core resource needs to be systematically managed.  Also standard products and services lend themselves to a high degree of automation in their production. Knowledge based services are less pre-programmable, requiring intellect to respond to different customer situ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ultimate knowledge based business is the consultancy whose only assets are their people, their process and intellectual capital. Not surprisingly many of them are focusing a lot of attention on managing their crucial asset - knowled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71600" y="768240"/>
            <a:ext cx="5029200" cy="3767400"/>
          </a:xfrm>
          <a:prstGeom prst="rect">
            <a:avLst/>
          </a:prstGeom>
          <a:ln w="0">
            <a:noFill/>
          </a:ln>
        </p:spPr>
      </p:sp>
      <p:sp>
        <p:nvSpPr>
          <p:cNvPr id="3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efinitions are many and varied. Four main elem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explicit: knowledge is explicitly recognised (language, document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systematic: it is too important to be left to chan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selective: there’s lots of knowledge; focus on that which is importa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content and process perspective (nouns and verb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y adopting a systematic vs. an ad-hoc approach, management consultancies believe they can offer better global solutions, and reduced competitive price pressures (e.g. see Booz Hamilton All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image" Target="../media/image9.wmf"/><Relationship Id="rId11" Type="http://schemas.openxmlformats.org/officeDocument/2006/relationships/image" Target="../media/image10.wmf"/><Relationship Id="rId12" Type="http://schemas.openxmlformats.org/officeDocument/2006/relationships/image" Target="../media/image11.wmf"/><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flipH="1">
            <a:off x="243000" y="1143000"/>
            <a:ext cx="940752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 name=""/>
          <p:cNvSpPr/>
          <p:nvPr/>
        </p:nvSpPr>
        <p:spPr>
          <a:xfrm>
            <a:off x="98280" y="6485040"/>
            <a:ext cx="2376360" cy="304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 name=""/>
          <p:cNvSpPr txBox="1"/>
          <p:nvPr/>
        </p:nvSpPr>
        <p:spPr>
          <a:xfrm>
            <a:off x="9439200" y="6486480"/>
            <a:ext cx="358920" cy="301680"/>
          </a:xfrm>
          <a:prstGeom prst="rect">
            <a:avLst/>
          </a:prstGeom>
          <a:noFill/>
          <a:ln w="0">
            <a:noFill/>
          </a:ln>
        </p:spPr>
        <p:txBody>
          <a:bodyPr lIns="0" rIns="0" tIns="0" bIns="0" anchor="t">
            <a:noAutofit/>
          </a:bodyPr>
          <a:p>
            <a:pPr algn="r">
              <a:lnSpc>
                <a:spcPct val="100000"/>
              </a:lnSpc>
            </a:pPr>
            <a:fld id="{051FA10F-66EE-4CDE-8B35-1CBAB100067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3" name=""/>
          <p:cNvSpPr txBox="1"/>
          <p:nvPr/>
        </p:nvSpPr>
        <p:spPr>
          <a:xfrm>
            <a:off x="146160" y="6467400"/>
            <a:ext cx="2333520" cy="27144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0" lang="en-US" sz="1200" spc="-1" strike="noStrike">
                <a:solidFill>
                  <a:srgbClr val="000000"/>
                </a:solidFill>
                <a:latin typeface="Arial"/>
                <a:ea typeface="Arial"/>
              </a:rPr>
              <a:t>Copyright, September 1998</a:t>
            </a:r>
            <a:endParaRPr b="0" lang="en-US" sz="1200" spc="-1" strike="noStrike">
              <a:solidFill>
                <a:srgbClr val="000000"/>
              </a:solidFill>
              <a:latin typeface="Arial"/>
            </a:endParaRPr>
          </a:p>
        </p:txBody>
      </p:sp>
      <p:sp>
        <p:nvSpPr>
          <p:cNvPr id="4" name=""/>
          <p:cNvSpPr txBox="1"/>
          <p:nvPr/>
        </p:nvSpPr>
        <p:spPr>
          <a:xfrm>
            <a:off x="177840" y="244440"/>
            <a:ext cx="3247920" cy="301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Knowledge Management</a:t>
            </a:r>
            <a:endParaRPr b="0" lang="en-US" sz="1400" spc="-1" strike="noStrike">
              <a:solidFill>
                <a:srgbClr val="000000"/>
              </a:solidFill>
              <a:latin typeface="Arial"/>
            </a:endParaRPr>
          </a:p>
        </p:txBody>
      </p:sp>
      <p:pic>
        <p:nvPicPr>
          <p:cNvPr id="5" name="" descr=""/>
          <p:cNvPicPr/>
          <p:nvPr/>
        </p:nvPicPr>
        <p:blipFill>
          <a:blip r:embed="rId2"/>
          <a:stretch/>
        </p:blipFill>
        <p:spPr>
          <a:xfrm>
            <a:off x="2076480" y="-1371600"/>
            <a:ext cx="5762520" cy="9264600"/>
          </a:xfrm>
          <a:prstGeom prst="rect">
            <a:avLst/>
          </a:prstGeom>
          <a:ln w="0">
            <a:noFill/>
          </a:ln>
        </p:spPr>
      </p:pic>
      <p:pic>
        <p:nvPicPr>
          <p:cNvPr id="6" name="" descr=""/>
          <p:cNvPicPr/>
          <p:nvPr/>
        </p:nvPicPr>
        <p:blipFill>
          <a:blip r:embed="rId3"/>
          <a:stretch/>
        </p:blipFill>
        <p:spPr>
          <a:xfrm>
            <a:off x="2076480" y="-1380960"/>
            <a:ext cx="5762520" cy="9283680"/>
          </a:xfrm>
          <a:prstGeom prst="rect">
            <a:avLst/>
          </a:prstGeom>
          <a:ln w="0">
            <a:noFill/>
          </a:ln>
        </p:spPr>
      </p:pic>
      <p:pic>
        <p:nvPicPr>
          <p:cNvPr id="7" name="" descr=""/>
          <p:cNvPicPr/>
          <p:nvPr/>
        </p:nvPicPr>
        <p:blipFill>
          <a:blip r:embed="rId4"/>
          <a:stretch/>
        </p:blipFill>
        <p:spPr>
          <a:xfrm>
            <a:off x="2076480" y="-1371600"/>
            <a:ext cx="5762520" cy="9258480"/>
          </a:xfrm>
          <a:prstGeom prst="rect">
            <a:avLst/>
          </a:prstGeom>
          <a:ln w="0">
            <a:noFill/>
          </a:ln>
        </p:spPr>
      </p:pic>
      <p:pic>
        <p:nvPicPr>
          <p:cNvPr id="8" name="" descr=""/>
          <p:cNvPicPr/>
          <p:nvPr/>
        </p:nvPicPr>
        <p:blipFill>
          <a:blip r:embed="rId5"/>
          <a:stretch/>
        </p:blipFill>
        <p:spPr>
          <a:xfrm>
            <a:off x="2076480" y="-1447920"/>
            <a:ext cx="5762520" cy="9406080"/>
          </a:xfrm>
          <a:prstGeom prst="rect">
            <a:avLst/>
          </a:prstGeom>
          <a:ln w="0">
            <a:noFill/>
          </a:ln>
        </p:spPr>
      </p:pic>
      <p:pic>
        <p:nvPicPr>
          <p:cNvPr id="9" name="" descr=""/>
          <p:cNvPicPr/>
          <p:nvPr/>
        </p:nvPicPr>
        <p:blipFill>
          <a:blip r:embed="rId6"/>
          <a:stretch/>
        </p:blipFill>
        <p:spPr>
          <a:xfrm>
            <a:off x="2076480" y="-1438200"/>
            <a:ext cx="5762520" cy="9396360"/>
          </a:xfrm>
          <a:prstGeom prst="rect">
            <a:avLst/>
          </a:prstGeom>
          <a:ln w="0">
            <a:noFill/>
          </a:ln>
        </p:spPr>
      </p:pic>
      <p:pic>
        <p:nvPicPr>
          <p:cNvPr id="10" name="" descr=""/>
          <p:cNvPicPr/>
          <p:nvPr/>
        </p:nvPicPr>
        <p:blipFill>
          <a:blip r:embed="rId7"/>
          <a:stretch/>
        </p:blipFill>
        <p:spPr>
          <a:xfrm>
            <a:off x="1876320" y="-1438200"/>
            <a:ext cx="5762520" cy="9387000"/>
          </a:xfrm>
          <a:prstGeom prst="rect">
            <a:avLst/>
          </a:prstGeom>
          <a:ln w="0">
            <a:noFill/>
          </a:ln>
        </p:spPr>
      </p:pic>
      <p:pic>
        <p:nvPicPr>
          <p:cNvPr id="11" name="" descr=""/>
          <p:cNvPicPr/>
          <p:nvPr/>
        </p:nvPicPr>
        <p:blipFill>
          <a:blip r:embed="rId8"/>
          <a:stretch/>
        </p:blipFill>
        <p:spPr>
          <a:xfrm>
            <a:off x="228600" y="6145200"/>
            <a:ext cx="9613800" cy="227160"/>
          </a:xfrm>
          <a:prstGeom prst="rect">
            <a:avLst/>
          </a:prstGeom>
          <a:ln w="0">
            <a:noFill/>
          </a:ln>
        </p:spPr>
      </p:pic>
      <p:pic>
        <p:nvPicPr>
          <p:cNvPr id="12" name="" descr=""/>
          <p:cNvPicPr/>
          <p:nvPr/>
        </p:nvPicPr>
        <p:blipFill>
          <a:blip r:embed="rId9"/>
          <a:stretch/>
        </p:blipFill>
        <p:spPr>
          <a:xfrm>
            <a:off x="228600" y="6351480"/>
            <a:ext cx="9385200" cy="47520"/>
          </a:xfrm>
          <a:prstGeom prst="rect">
            <a:avLst/>
          </a:prstGeom>
          <a:ln w="0">
            <a:noFill/>
          </a:ln>
        </p:spPr>
      </p:pic>
      <p:pic>
        <p:nvPicPr>
          <p:cNvPr id="13" name="" descr=""/>
          <p:cNvPicPr/>
          <p:nvPr/>
        </p:nvPicPr>
        <p:blipFill>
          <a:blip r:embed="rId10"/>
          <a:stretch/>
        </p:blipFill>
        <p:spPr>
          <a:xfrm>
            <a:off x="3762360" y="6162840"/>
            <a:ext cx="136440" cy="136440"/>
          </a:xfrm>
          <a:prstGeom prst="rect">
            <a:avLst/>
          </a:prstGeom>
          <a:ln w="0">
            <a:noFill/>
          </a:ln>
        </p:spPr>
      </p:pic>
      <p:pic>
        <p:nvPicPr>
          <p:cNvPr id="14" name="" descr=""/>
          <p:cNvPicPr/>
          <p:nvPr/>
        </p:nvPicPr>
        <p:blipFill>
          <a:blip r:embed="rId11"/>
          <a:stretch/>
        </p:blipFill>
        <p:spPr>
          <a:xfrm>
            <a:off x="6581880" y="6162840"/>
            <a:ext cx="136440" cy="136440"/>
          </a:xfrm>
          <a:prstGeom prst="rect">
            <a:avLst/>
          </a:prstGeom>
          <a:ln w="0">
            <a:noFill/>
          </a:ln>
        </p:spPr>
      </p:pic>
      <p:pic>
        <p:nvPicPr>
          <p:cNvPr id="15" name="" descr=""/>
          <p:cNvPicPr/>
          <p:nvPr/>
        </p:nvPicPr>
        <p:blipFill>
          <a:blip r:embed="rId12"/>
          <a:stretch/>
        </p:blipFill>
        <p:spPr>
          <a:xfrm>
            <a:off x="8001000" y="276120"/>
            <a:ext cx="1822320" cy="431640"/>
          </a:xfrm>
          <a:prstGeom prst="rect">
            <a:avLst/>
          </a:prstGeom>
          <a:ln w="0">
            <a:noFill/>
          </a:ln>
        </p:spPr>
      </p:pic>
      <p:sp>
        <p:nvSpPr>
          <p:cNvPr id="1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60" name=""/>
          <p:cNvSpPr txBox="1"/>
          <p:nvPr/>
        </p:nvSpPr>
        <p:spPr>
          <a:xfrm>
            <a:off x="819000" y="2628720"/>
            <a:ext cx="8381880" cy="2303640"/>
          </a:xfrm>
          <a:prstGeom prst="rect">
            <a:avLst/>
          </a:prstGeom>
          <a:noFill/>
          <a:ln w="0">
            <a:noFill/>
          </a:ln>
        </p:spPr>
        <p:txBody>
          <a:bodyPr lIns="0" rIns="0" tIns="0" bIns="0" anchor="t">
            <a:noAutofit/>
          </a:bodyPr>
          <a:p>
            <a:pPr algn="ctr">
              <a:lnSpc>
                <a:spcPct val="175000"/>
              </a:lnSpc>
            </a:pPr>
            <a:r>
              <a:rPr b="1" lang="en-US" sz="3600" spc="-1" strike="noStrike">
                <a:solidFill>
                  <a:srgbClr val="000000"/>
                </a:solidFill>
                <a:latin typeface="Arial"/>
                <a:ea typeface="Arial"/>
              </a:rPr>
              <a:t>Fad or Fundamental?</a:t>
            </a:r>
            <a:br>
              <a:rPr sz="3600"/>
            </a:br>
            <a:r>
              <a:rPr b="1" lang="en-US" sz="3600" spc="-1" strike="noStrike">
                <a:solidFill>
                  <a:srgbClr val="000000"/>
                </a:solidFill>
                <a:latin typeface="Arial"/>
                <a:ea typeface="Arial"/>
              </a:rPr>
              <a:t>Making Knowledge Work for You.</a:t>
            </a:r>
            <a:br>
              <a:rPr sz="3600"/>
            </a:br>
            <a:endParaRPr b="0" lang="en-US" sz="3600" spc="-1" strike="noStrike">
              <a:solidFill>
                <a:srgbClr val="000000"/>
              </a:solidFill>
              <a:latin typeface="Arial"/>
            </a:endParaRPr>
          </a:p>
        </p:txBody>
      </p:sp>
      <p:sp>
        <p:nvSpPr>
          <p:cNvPr id="61" name=""/>
          <p:cNvSpPr txBox="1"/>
          <p:nvPr/>
        </p:nvSpPr>
        <p:spPr>
          <a:xfrm>
            <a:off x="1390680" y="4329000"/>
            <a:ext cx="701028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000000"/>
                </a:solidFill>
                <a:latin typeface="Arial"/>
                <a:ea typeface="Arial"/>
              </a:rPr>
              <a:t>Dr David J. Skyr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89"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even Levers</a:t>
            </a:r>
            <a:endParaRPr b="0" lang="en-US" sz="3600" spc="-1" strike="noStrike">
              <a:solidFill>
                <a:srgbClr val="000000"/>
              </a:solidFill>
              <a:latin typeface="Arial"/>
            </a:endParaRPr>
          </a:p>
        </p:txBody>
      </p:sp>
      <p:sp>
        <p:nvSpPr>
          <p:cNvPr id="190" name=""/>
          <p:cNvSpPr txBox="1"/>
          <p:nvPr/>
        </p:nvSpPr>
        <p:spPr>
          <a:xfrm>
            <a:off x="263520" y="1504800"/>
            <a:ext cx="962964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ustomer Knowledge </a:t>
            </a:r>
            <a:r>
              <a:rPr b="0" i="1" lang="en-US" sz="2400" spc="-1" strike="noStrike">
                <a:solidFill>
                  <a:srgbClr val="063de8"/>
                </a:solidFill>
                <a:latin typeface="Arial"/>
                <a:ea typeface="Arial"/>
              </a:rPr>
              <a:t>- the most vital knowledge</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in Products </a:t>
            </a:r>
            <a:r>
              <a:rPr b="0" i="1" lang="en-US" sz="2400" spc="-1" strike="noStrike">
                <a:solidFill>
                  <a:srgbClr val="063de8"/>
                </a:solidFill>
                <a:latin typeface="Arial"/>
                <a:ea typeface="Arial"/>
              </a:rPr>
              <a:t>- ‘smarts’ add value </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in People </a:t>
            </a:r>
            <a:r>
              <a:rPr b="0" i="1" lang="en-US" sz="2400" spc="-1" strike="noStrike">
                <a:solidFill>
                  <a:srgbClr val="063de8"/>
                </a:solidFill>
                <a:latin typeface="Arial"/>
                <a:ea typeface="Arial"/>
              </a:rPr>
              <a:t>- but people ‘walk’</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in Processes </a:t>
            </a:r>
            <a:r>
              <a:rPr b="0" i="1" lang="en-US" sz="2400" spc="-1" strike="noStrike">
                <a:solidFill>
                  <a:srgbClr val="063de8"/>
                </a:solidFill>
                <a:latin typeface="Arial"/>
                <a:ea typeface="Arial"/>
              </a:rPr>
              <a:t>- know-how when needed</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Organizational Memory </a:t>
            </a:r>
            <a:r>
              <a:rPr b="0" i="1" lang="en-US" sz="2400" spc="-1" strike="noStrike">
                <a:solidFill>
                  <a:srgbClr val="063de8"/>
                </a:solidFill>
                <a:latin typeface="Arial"/>
                <a:ea typeface="Arial"/>
              </a:rPr>
              <a:t>- do we know what we know?</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in Relationships </a:t>
            </a:r>
            <a:r>
              <a:rPr b="0" i="1" lang="en-US" sz="2400" spc="-1" strike="noStrike">
                <a:solidFill>
                  <a:srgbClr val="063de8"/>
                </a:solidFill>
                <a:latin typeface="Arial"/>
                <a:ea typeface="Arial"/>
              </a:rPr>
              <a:t>- richness and depth </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Assets </a:t>
            </a:r>
            <a:r>
              <a:rPr b="0" i="1" lang="en-US" sz="2400" spc="-1" strike="noStrike">
                <a:solidFill>
                  <a:srgbClr val="063de8"/>
                </a:solidFill>
                <a:latin typeface="Arial"/>
                <a:ea typeface="Arial"/>
              </a:rPr>
              <a:t>- intellectual capi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91"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nowledge is Different (1)</a:t>
            </a:r>
            <a:endParaRPr b="0" lang="en-US" sz="3600" spc="-1" strike="noStrike">
              <a:solidFill>
                <a:srgbClr val="000000"/>
              </a:solidFill>
              <a:latin typeface="Arial"/>
            </a:endParaRPr>
          </a:p>
        </p:txBody>
      </p:sp>
      <p:grpSp>
        <p:nvGrpSpPr>
          <p:cNvPr id="192" name=""/>
          <p:cNvGrpSpPr/>
          <p:nvPr/>
        </p:nvGrpSpPr>
        <p:grpSpPr>
          <a:xfrm>
            <a:off x="804960" y="4649760"/>
            <a:ext cx="5310720" cy="1295640"/>
            <a:chOff x="804960" y="4649760"/>
            <a:chExt cx="5310720" cy="1295640"/>
          </a:xfrm>
        </p:grpSpPr>
        <p:sp>
          <p:nvSpPr>
            <p:cNvPr id="193" name=""/>
            <p:cNvSpPr/>
            <p:nvPr/>
          </p:nvSpPr>
          <p:spPr>
            <a:xfrm>
              <a:off x="5178600" y="4649760"/>
              <a:ext cx="937080" cy="1294200"/>
            </a:xfrm>
            <a:custGeom>
              <a:avLst/>
              <a:gdLst/>
              <a:ahLst/>
              <a:rect l="0" t="0" r="r" b="b"/>
              <a:pathLst>
                <a:path w="2603" h="3595">
                  <a:moveTo>
                    <a:pt x="1226" y="3595"/>
                  </a:moveTo>
                  <a:lnTo>
                    <a:pt x="0" y="1531"/>
                  </a:lnTo>
                  <a:lnTo>
                    <a:pt x="1151" y="0"/>
                  </a:lnTo>
                  <a:lnTo>
                    <a:pt x="2603" y="1791"/>
                  </a:lnTo>
                  <a:lnTo>
                    <a:pt x="1226" y="3595"/>
                  </a:lnTo>
                  <a:close/>
                </a:path>
              </a:pathLst>
            </a:custGeom>
            <a:solidFill>
              <a:srgbClr val="ff5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1230480" y="4649760"/>
              <a:ext cx="4362840" cy="554400"/>
            </a:xfrm>
            <a:custGeom>
              <a:avLst/>
              <a:gdLst/>
              <a:ahLst/>
              <a:rect l="0" t="0" r="r" b="b"/>
              <a:pathLst>
                <a:path w="12119" h="1540">
                  <a:moveTo>
                    <a:pt x="0" y="1540"/>
                  </a:moveTo>
                  <a:lnTo>
                    <a:pt x="10968" y="1540"/>
                  </a:lnTo>
                  <a:lnTo>
                    <a:pt x="12119" y="0"/>
                  </a:lnTo>
                  <a:lnTo>
                    <a:pt x="1547" y="0"/>
                  </a:lnTo>
                  <a:lnTo>
                    <a:pt x="0" y="1540"/>
                  </a:lnTo>
                  <a:close/>
                </a:path>
              </a:pathLst>
            </a:custGeom>
            <a:solidFill>
              <a:srgbClr val="80008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804960" y="5200560"/>
              <a:ext cx="4818600" cy="744840"/>
            </a:xfrm>
            <a:custGeom>
              <a:avLst/>
              <a:gdLst/>
              <a:ahLst/>
              <a:rect l="0" t="0" r="r" b="b"/>
              <a:pathLst>
                <a:path w="13385" h="2069">
                  <a:moveTo>
                    <a:pt x="1177" y="0"/>
                  </a:moveTo>
                  <a:lnTo>
                    <a:pt x="12146" y="0"/>
                  </a:lnTo>
                  <a:lnTo>
                    <a:pt x="13385" y="2069"/>
                  </a:lnTo>
                  <a:lnTo>
                    <a:pt x="0" y="2069"/>
                  </a:lnTo>
                  <a:lnTo>
                    <a:pt x="1177" y="0"/>
                  </a:lnTo>
                  <a:close/>
                </a:path>
              </a:pathLst>
            </a:custGeom>
            <a:solidFill>
              <a:srgbClr val="ff0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6" name=""/>
          <p:cNvGrpSpPr/>
          <p:nvPr/>
        </p:nvGrpSpPr>
        <p:grpSpPr>
          <a:xfrm>
            <a:off x="1308240" y="3914640"/>
            <a:ext cx="4210200" cy="1172160"/>
            <a:chOff x="1308240" y="3914640"/>
            <a:chExt cx="4210200" cy="1172160"/>
          </a:xfrm>
        </p:grpSpPr>
        <p:sp>
          <p:nvSpPr>
            <p:cNvPr id="197" name=""/>
            <p:cNvSpPr/>
            <p:nvPr/>
          </p:nvSpPr>
          <p:spPr>
            <a:xfrm>
              <a:off x="4691160" y="3914640"/>
              <a:ext cx="827280" cy="1171800"/>
            </a:xfrm>
            <a:custGeom>
              <a:avLst/>
              <a:gdLst/>
              <a:ahLst/>
              <a:rect l="0" t="0" r="r" b="b"/>
              <a:pathLst>
                <a:path w="2298" h="3255">
                  <a:moveTo>
                    <a:pt x="1173" y="3255"/>
                  </a:moveTo>
                  <a:lnTo>
                    <a:pt x="0" y="1137"/>
                  </a:lnTo>
                  <a:lnTo>
                    <a:pt x="859" y="0"/>
                  </a:lnTo>
                  <a:lnTo>
                    <a:pt x="2298" y="1795"/>
                  </a:lnTo>
                  <a:lnTo>
                    <a:pt x="1173" y="3255"/>
                  </a:lnTo>
                  <a:close/>
                </a:path>
              </a:pathLst>
            </a:custGeom>
            <a:solidFill>
              <a:srgbClr val="f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1724040" y="3914640"/>
              <a:ext cx="3278520" cy="411480"/>
            </a:xfrm>
            <a:custGeom>
              <a:avLst/>
              <a:gdLst/>
              <a:ahLst/>
              <a:rect l="0" t="0" r="r" b="b"/>
              <a:pathLst>
                <a:path w="9107" h="1143">
                  <a:moveTo>
                    <a:pt x="0" y="1143"/>
                  </a:moveTo>
                  <a:lnTo>
                    <a:pt x="8251" y="1143"/>
                  </a:lnTo>
                  <a:lnTo>
                    <a:pt x="9107" y="0"/>
                  </a:lnTo>
                  <a:lnTo>
                    <a:pt x="1631" y="4"/>
                  </a:lnTo>
                  <a:lnTo>
                    <a:pt x="0" y="1143"/>
                  </a:lnTo>
                  <a:close/>
                </a:path>
              </a:pathLst>
            </a:custGeom>
            <a:solidFill>
              <a:srgbClr val="8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1308240" y="4324320"/>
              <a:ext cx="3805560" cy="762480"/>
            </a:xfrm>
            <a:custGeom>
              <a:avLst/>
              <a:gdLst/>
              <a:ahLst/>
              <a:rect l="0" t="0" r="r" b="b"/>
              <a:pathLst>
                <a:path w="10571" h="2118">
                  <a:moveTo>
                    <a:pt x="0" y="2118"/>
                  </a:moveTo>
                  <a:lnTo>
                    <a:pt x="10571" y="2118"/>
                  </a:lnTo>
                  <a:lnTo>
                    <a:pt x="9398" y="0"/>
                  </a:lnTo>
                  <a:lnTo>
                    <a:pt x="1159" y="0"/>
                  </a:lnTo>
                  <a:lnTo>
                    <a:pt x="0" y="2118"/>
                  </a:lnTo>
                  <a:close/>
                </a:path>
              </a:pathLst>
            </a:custGeom>
            <a:solidFill>
              <a:srgbClr val="ff001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00" name=""/>
          <p:cNvGrpSpPr/>
          <p:nvPr/>
        </p:nvGrpSpPr>
        <p:grpSpPr>
          <a:xfrm>
            <a:off x="1865160" y="2844720"/>
            <a:ext cx="3129480" cy="1018080"/>
            <a:chOff x="1865160" y="2844720"/>
            <a:chExt cx="3129480" cy="1018080"/>
          </a:xfrm>
        </p:grpSpPr>
        <p:sp>
          <p:nvSpPr>
            <p:cNvPr id="201" name=""/>
            <p:cNvSpPr/>
            <p:nvPr/>
          </p:nvSpPr>
          <p:spPr>
            <a:xfrm>
              <a:off x="4270320" y="2844720"/>
              <a:ext cx="724320" cy="1016280"/>
            </a:xfrm>
            <a:custGeom>
              <a:avLst/>
              <a:gdLst/>
              <a:ahLst/>
              <a:rect l="0" t="0" r="r" b="b"/>
              <a:pathLst>
                <a:path w="2012" h="2823">
                  <a:moveTo>
                    <a:pt x="0" y="771"/>
                  </a:moveTo>
                  <a:lnTo>
                    <a:pt x="1196" y="2823"/>
                  </a:lnTo>
                  <a:lnTo>
                    <a:pt x="2012" y="1773"/>
                  </a:lnTo>
                  <a:lnTo>
                    <a:pt x="578" y="0"/>
                  </a:lnTo>
                  <a:lnTo>
                    <a:pt x="0" y="771"/>
                  </a:lnTo>
                  <a:close/>
                </a:path>
              </a:pathLst>
            </a:custGeom>
            <a:solidFill>
              <a:srgbClr val="bf5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2287440" y="2844720"/>
              <a:ext cx="2189520" cy="275040"/>
            </a:xfrm>
            <a:custGeom>
              <a:avLst/>
              <a:gdLst/>
              <a:ahLst/>
              <a:rect l="0" t="0" r="r" b="b"/>
              <a:pathLst>
                <a:path w="6082" h="764">
                  <a:moveTo>
                    <a:pt x="0" y="764"/>
                  </a:moveTo>
                  <a:lnTo>
                    <a:pt x="5504" y="764"/>
                  </a:lnTo>
                  <a:lnTo>
                    <a:pt x="6082" y="0"/>
                  </a:lnTo>
                  <a:lnTo>
                    <a:pt x="1538" y="0"/>
                  </a:lnTo>
                  <a:lnTo>
                    <a:pt x="0" y="764"/>
                  </a:lnTo>
                  <a:close/>
                </a:path>
              </a:pathLst>
            </a:custGeom>
            <a:solidFill>
              <a:srgbClr val="5f00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3" name=""/>
            <p:cNvSpPr/>
            <p:nvPr/>
          </p:nvSpPr>
          <p:spPr>
            <a:xfrm>
              <a:off x="1865160" y="3119400"/>
              <a:ext cx="2833920" cy="743400"/>
            </a:xfrm>
            <a:custGeom>
              <a:avLst/>
              <a:gdLst/>
              <a:ahLst/>
              <a:rect l="0" t="0" r="r" b="b"/>
              <a:pathLst>
                <a:path w="7872" h="2065">
                  <a:moveTo>
                    <a:pt x="0" y="2065"/>
                  </a:moveTo>
                  <a:lnTo>
                    <a:pt x="7872" y="2065"/>
                  </a:lnTo>
                  <a:lnTo>
                    <a:pt x="6677" y="0"/>
                  </a:lnTo>
                  <a:lnTo>
                    <a:pt x="1172" y="0"/>
                  </a:lnTo>
                  <a:lnTo>
                    <a:pt x="0" y="2065"/>
                  </a:lnTo>
                  <a:close/>
                </a:path>
              </a:pathLst>
            </a:custGeom>
            <a:solidFill>
              <a:srgbClr val="9f3fd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04" name=""/>
          <p:cNvSpPr/>
          <p:nvPr/>
        </p:nvSpPr>
        <p:spPr>
          <a:xfrm>
            <a:off x="3290760" y="1523880"/>
            <a:ext cx="1157760" cy="1529280"/>
          </a:xfrm>
          <a:custGeom>
            <a:avLst/>
            <a:gdLst/>
            <a:ahLst/>
            <a:rect l="0" t="0" r="r" b="b"/>
            <a:pathLst>
              <a:path w="3216" h="4248">
                <a:moveTo>
                  <a:pt x="2612" y="4248"/>
                </a:moveTo>
                <a:lnTo>
                  <a:pt x="3216" y="3591"/>
                </a:lnTo>
                <a:lnTo>
                  <a:pt x="0" y="0"/>
                </a:lnTo>
                <a:lnTo>
                  <a:pt x="2612" y="4248"/>
                </a:lnTo>
                <a:close/>
              </a:path>
            </a:pathLst>
          </a:custGeom>
          <a:solidFill>
            <a:srgbClr val="ffbf1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76360" y="1523880"/>
            <a:ext cx="1857600" cy="1529280"/>
          </a:xfrm>
          <a:custGeom>
            <a:avLst/>
            <a:gdLst/>
            <a:ahLst/>
            <a:rect l="0" t="0" r="r" b="b"/>
            <a:pathLst>
              <a:path w="5160" h="4248">
                <a:moveTo>
                  <a:pt x="0" y="4248"/>
                </a:moveTo>
                <a:lnTo>
                  <a:pt x="5160" y="4248"/>
                </a:lnTo>
                <a:lnTo>
                  <a:pt x="2579" y="0"/>
                </a:lnTo>
                <a:lnTo>
                  <a:pt x="0" y="4248"/>
                </a:lnTo>
                <a:close/>
              </a:path>
            </a:pathLst>
          </a:custGeom>
          <a:solidFill>
            <a:srgbClr val="ff9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txBox="1"/>
          <p:nvPr/>
        </p:nvSpPr>
        <p:spPr>
          <a:xfrm>
            <a:off x="2674800" y="5272200"/>
            <a:ext cx="1062000" cy="576360"/>
          </a:xfrm>
          <a:prstGeom prst="rect">
            <a:avLst/>
          </a:prstGeom>
          <a:noFill/>
          <a:ln w="0">
            <a:noFill/>
          </a:ln>
        </p:spPr>
        <p:txBody>
          <a:bodyPr lIns="0" rIns="0" tIns="0" bIns="0" anchor="t">
            <a:noAutofit/>
          </a:bodyPr>
          <a:p>
            <a:pPr algn="ctr">
              <a:lnSpc>
                <a:spcPct val="100000"/>
              </a:lnSpc>
            </a:pPr>
            <a:r>
              <a:rPr b="1" lang="en-US" sz="3200" spc="-1" strike="noStrike">
                <a:solidFill>
                  <a:srgbClr val="eaec5e"/>
                </a:solidFill>
                <a:latin typeface="Arial"/>
                <a:ea typeface="Arial"/>
              </a:rPr>
              <a:t>Data</a:t>
            </a:r>
            <a:endParaRPr b="0" lang="en-US" sz="3200" spc="-1" strike="noStrike">
              <a:solidFill>
                <a:srgbClr val="000000"/>
              </a:solidFill>
              <a:latin typeface="Arial"/>
            </a:endParaRPr>
          </a:p>
        </p:txBody>
      </p:sp>
      <p:sp>
        <p:nvSpPr>
          <p:cNvPr id="207" name=""/>
          <p:cNvSpPr txBox="1"/>
          <p:nvPr/>
        </p:nvSpPr>
        <p:spPr>
          <a:xfrm>
            <a:off x="2075040" y="4400640"/>
            <a:ext cx="2416320" cy="576360"/>
          </a:xfrm>
          <a:prstGeom prst="rect">
            <a:avLst/>
          </a:prstGeom>
          <a:noFill/>
          <a:ln w="0">
            <a:noFill/>
          </a:ln>
        </p:spPr>
        <p:txBody>
          <a:bodyPr lIns="0" rIns="0" tIns="0" bIns="0" anchor="t">
            <a:noAutofit/>
          </a:bodyPr>
          <a:p>
            <a:pPr algn="ctr">
              <a:lnSpc>
                <a:spcPct val="100000"/>
              </a:lnSpc>
            </a:pPr>
            <a:r>
              <a:rPr b="1" lang="en-US" sz="3200" spc="-1" strike="noStrike">
                <a:solidFill>
                  <a:srgbClr val="eaec5e"/>
                </a:solidFill>
                <a:latin typeface="Arial"/>
                <a:ea typeface="Arial"/>
              </a:rPr>
              <a:t>Information</a:t>
            </a:r>
            <a:endParaRPr b="0" lang="en-US" sz="3200" spc="-1" strike="noStrike">
              <a:solidFill>
                <a:srgbClr val="000000"/>
              </a:solidFill>
              <a:latin typeface="Arial"/>
            </a:endParaRPr>
          </a:p>
        </p:txBody>
      </p:sp>
      <p:sp>
        <p:nvSpPr>
          <p:cNvPr id="208" name=""/>
          <p:cNvSpPr txBox="1"/>
          <p:nvPr/>
        </p:nvSpPr>
        <p:spPr>
          <a:xfrm>
            <a:off x="2131920" y="3243240"/>
            <a:ext cx="2347920" cy="576360"/>
          </a:xfrm>
          <a:prstGeom prst="rect">
            <a:avLst/>
          </a:prstGeom>
          <a:noFill/>
          <a:ln w="0">
            <a:noFill/>
          </a:ln>
        </p:spPr>
        <p:txBody>
          <a:bodyPr lIns="0" rIns="0" tIns="0" bIns="0" anchor="t">
            <a:noAutofit/>
          </a:bodyPr>
          <a:p>
            <a:pPr algn="ctr">
              <a:lnSpc>
                <a:spcPct val="100000"/>
              </a:lnSpc>
            </a:pPr>
            <a:r>
              <a:rPr b="1" lang="en-US" sz="3200" spc="-1" strike="noStrike">
                <a:solidFill>
                  <a:srgbClr val="eaec5e"/>
                </a:solidFill>
                <a:latin typeface="Arial"/>
                <a:ea typeface="Arial"/>
              </a:rPr>
              <a:t>Knowledge</a:t>
            </a:r>
            <a:endParaRPr b="0" lang="en-US" sz="3200" spc="-1" strike="noStrike">
              <a:solidFill>
                <a:srgbClr val="000000"/>
              </a:solidFill>
              <a:latin typeface="Arial"/>
            </a:endParaRPr>
          </a:p>
        </p:txBody>
      </p:sp>
      <p:sp>
        <p:nvSpPr>
          <p:cNvPr id="209" name=""/>
          <p:cNvSpPr/>
          <p:nvPr/>
        </p:nvSpPr>
        <p:spPr>
          <a:xfrm flipV="1">
            <a:off x="660240" y="3884760"/>
            <a:ext cx="1090800" cy="32040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a:off x="1803240" y="3922560"/>
            <a:ext cx="933480" cy="16200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flipV="1">
            <a:off x="2774880" y="3828960"/>
            <a:ext cx="376200" cy="30636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3218040" y="3908520"/>
            <a:ext cx="576000" cy="17604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flipV="1">
            <a:off x="3801960" y="3927600"/>
            <a:ext cx="790560" cy="20628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a:off x="4646520" y="3965400"/>
            <a:ext cx="1762200" cy="24768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txBox="1"/>
          <p:nvPr/>
        </p:nvSpPr>
        <p:spPr>
          <a:xfrm>
            <a:off x="3000240" y="2157480"/>
            <a:ext cx="2416320" cy="576360"/>
          </a:xfrm>
          <a:prstGeom prst="rect">
            <a:avLst/>
          </a:prstGeom>
          <a:noFill/>
          <a:ln w="0">
            <a:noFill/>
          </a:ln>
        </p:spPr>
        <p:txBody>
          <a:bodyPr lIns="0" rIns="0" tIns="0" bIns="0" anchor="t">
            <a:noAutofit/>
          </a:bodyPr>
          <a:p>
            <a:pPr>
              <a:lnSpc>
                <a:spcPct val="100000"/>
              </a:lnSpc>
            </a:pPr>
            <a:r>
              <a:rPr b="1" lang="en-US" sz="3200" spc="-1" strike="noStrike">
                <a:solidFill>
                  <a:srgbClr val="fc0128"/>
                </a:solidFill>
                <a:latin typeface="Arial"/>
                <a:ea typeface="Arial"/>
              </a:rPr>
              <a:t>Intellig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16"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nowledge is Different (1)</a:t>
            </a:r>
            <a:endParaRPr b="0" lang="en-US" sz="3600" spc="-1" strike="noStrike">
              <a:solidFill>
                <a:srgbClr val="000000"/>
              </a:solidFill>
              <a:latin typeface="Arial"/>
            </a:endParaRPr>
          </a:p>
        </p:txBody>
      </p:sp>
      <p:grpSp>
        <p:nvGrpSpPr>
          <p:cNvPr id="217" name=""/>
          <p:cNvGrpSpPr/>
          <p:nvPr/>
        </p:nvGrpSpPr>
        <p:grpSpPr>
          <a:xfrm>
            <a:off x="804960" y="4649760"/>
            <a:ext cx="5310720" cy="1295640"/>
            <a:chOff x="804960" y="4649760"/>
            <a:chExt cx="5310720" cy="1295640"/>
          </a:xfrm>
        </p:grpSpPr>
        <p:sp>
          <p:nvSpPr>
            <p:cNvPr id="218" name=""/>
            <p:cNvSpPr/>
            <p:nvPr/>
          </p:nvSpPr>
          <p:spPr>
            <a:xfrm>
              <a:off x="5178600" y="4649760"/>
              <a:ext cx="937080" cy="1294200"/>
            </a:xfrm>
            <a:custGeom>
              <a:avLst/>
              <a:gdLst/>
              <a:ahLst/>
              <a:rect l="0" t="0" r="r" b="b"/>
              <a:pathLst>
                <a:path w="2603" h="3595">
                  <a:moveTo>
                    <a:pt x="1226" y="3595"/>
                  </a:moveTo>
                  <a:lnTo>
                    <a:pt x="0" y="1531"/>
                  </a:lnTo>
                  <a:lnTo>
                    <a:pt x="1151" y="0"/>
                  </a:lnTo>
                  <a:lnTo>
                    <a:pt x="2603" y="1791"/>
                  </a:lnTo>
                  <a:lnTo>
                    <a:pt x="1226" y="3595"/>
                  </a:lnTo>
                  <a:close/>
                </a:path>
              </a:pathLst>
            </a:custGeom>
            <a:solidFill>
              <a:srgbClr val="ff5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230480" y="4649760"/>
              <a:ext cx="4362840" cy="554400"/>
            </a:xfrm>
            <a:custGeom>
              <a:avLst/>
              <a:gdLst/>
              <a:ahLst/>
              <a:rect l="0" t="0" r="r" b="b"/>
              <a:pathLst>
                <a:path w="12119" h="1540">
                  <a:moveTo>
                    <a:pt x="0" y="1540"/>
                  </a:moveTo>
                  <a:lnTo>
                    <a:pt x="10968" y="1540"/>
                  </a:lnTo>
                  <a:lnTo>
                    <a:pt x="12119" y="0"/>
                  </a:lnTo>
                  <a:lnTo>
                    <a:pt x="1547" y="0"/>
                  </a:lnTo>
                  <a:lnTo>
                    <a:pt x="0" y="1540"/>
                  </a:lnTo>
                  <a:close/>
                </a:path>
              </a:pathLst>
            </a:custGeom>
            <a:solidFill>
              <a:srgbClr val="80008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20" name=""/>
            <p:cNvSpPr/>
            <p:nvPr/>
          </p:nvSpPr>
          <p:spPr>
            <a:xfrm>
              <a:off x="804960" y="5200560"/>
              <a:ext cx="4818600" cy="744840"/>
            </a:xfrm>
            <a:custGeom>
              <a:avLst/>
              <a:gdLst/>
              <a:ahLst/>
              <a:rect l="0" t="0" r="r" b="b"/>
              <a:pathLst>
                <a:path w="13385" h="2069">
                  <a:moveTo>
                    <a:pt x="1177" y="0"/>
                  </a:moveTo>
                  <a:lnTo>
                    <a:pt x="12146" y="0"/>
                  </a:lnTo>
                  <a:lnTo>
                    <a:pt x="13385" y="2069"/>
                  </a:lnTo>
                  <a:lnTo>
                    <a:pt x="0" y="2069"/>
                  </a:lnTo>
                  <a:lnTo>
                    <a:pt x="1177" y="0"/>
                  </a:lnTo>
                  <a:close/>
                </a:path>
              </a:pathLst>
            </a:custGeom>
            <a:solidFill>
              <a:srgbClr val="ff0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1" name=""/>
          <p:cNvGrpSpPr/>
          <p:nvPr/>
        </p:nvGrpSpPr>
        <p:grpSpPr>
          <a:xfrm>
            <a:off x="1308240" y="3914640"/>
            <a:ext cx="4210200" cy="1172160"/>
            <a:chOff x="1308240" y="3914640"/>
            <a:chExt cx="4210200" cy="1172160"/>
          </a:xfrm>
        </p:grpSpPr>
        <p:sp>
          <p:nvSpPr>
            <p:cNvPr id="222" name=""/>
            <p:cNvSpPr/>
            <p:nvPr/>
          </p:nvSpPr>
          <p:spPr>
            <a:xfrm>
              <a:off x="4691160" y="3914640"/>
              <a:ext cx="827280" cy="1171800"/>
            </a:xfrm>
            <a:custGeom>
              <a:avLst/>
              <a:gdLst/>
              <a:ahLst/>
              <a:rect l="0" t="0" r="r" b="b"/>
              <a:pathLst>
                <a:path w="2298" h="3255">
                  <a:moveTo>
                    <a:pt x="1173" y="3255"/>
                  </a:moveTo>
                  <a:lnTo>
                    <a:pt x="0" y="1137"/>
                  </a:lnTo>
                  <a:lnTo>
                    <a:pt x="859" y="0"/>
                  </a:lnTo>
                  <a:lnTo>
                    <a:pt x="2298" y="1795"/>
                  </a:lnTo>
                  <a:lnTo>
                    <a:pt x="1173" y="3255"/>
                  </a:lnTo>
                  <a:close/>
                </a:path>
              </a:pathLst>
            </a:custGeom>
            <a:solidFill>
              <a:srgbClr val="f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1724040" y="3914640"/>
              <a:ext cx="3278520" cy="411480"/>
            </a:xfrm>
            <a:custGeom>
              <a:avLst/>
              <a:gdLst/>
              <a:ahLst/>
              <a:rect l="0" t="0" r="r" b="b"/>
              <a:pathLst>
                <a:path w="9107" h="1143">
                  <a:moveTo>
                    <a:pt x="0" y="1143"/>
                  </a:moveTo>
                  <a:lnTo>
                    <a:pt x="8251" y="1143"/>
                  </a:lnTo>
                  <a:lnTo>
                    <a:pt x="9107" y="0"/>
                  </a:lnTo>
                  <a:lnTo>
                    <a:pt x="1631" y="4"/>
                  </a:lnTo>
                  <a:lnTo>
                    <a:pt x="0" y="1143"/>
                  </a:lnTo>
                  <a:close/>
                </a:path>
              </a:pathLst>
            </a:custGeom>
            <a:solidFill>
              <a:srgbClr val="8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24" name=""/>
            <p:cNvSpPr/>
            <p:nvPr/>
          </p:nvSpPr>
          <p:spPr>
            <a:xfrm>
              <a:off x="1308240" y="4324320"/>
              <a:ext cx="3805560" cy="762480"/>
            </a:xfrm>
            <a:custGeom>
              <a:avLst/>
              <a:gdLst/>
              <a:ahLst/>
              <a:rect l="0" t="0" r="r" b="b"/>
              <a:pathLst>
                <a:path w="10571" h="2118">
                  <a:moveTo>
                    <a:pt x="0" y="2118"/>
                  </a:moveTo>
                  <a:lnTo>
                    <a:pt x="10571" y="2118"/>
                  </a:lnTo>
                  <a:lnTo>
                    <a:pt x="9398" y="0"/>
                  </a:lnTo>
                  <a:lnTo>
                    <a:pt x="1159" y="0"/>
                  </a:lnTo>
                  <a:lnTo>
                    <a:pt x="0" y="2118"/>
                  </a:lnTo>
                  <a:close/>
                </a:path>
              </a:pathLst>
            </a:custGeom>
            <a:solidFill>
              <a:srgbClr val="ff001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5" name=""/>
          <p:cNvGrpSpPr/>
          <p:nvPr/>
        </p:nvGrpSpPr>
        <p:grpSpPr>
          <a:xfrm>
            <a:off x="1865160" y="2844720"/>
            <a:ext cx="3129480" cy="1018080"/>
            <a:chOff x="1865160" y="2844720"/>
            <a:chExt cx="3129480" cy="1018080"/>
          </a:xfrm>
        </p:grpSpPr>
        <p:sp>
          <p:nvSpPr>
            <p:cNvPr id="226" name=""/>
            <p:cNvSpPr/>
            <p:nvPr/>
          </p:nvSpPr>
          <p:spPr>
            <a:xfrm>
              <a:off x="4270320" y="2844720"/>
              <a:ext cx="724320" cy="1016280"/>
            </a:xfrm>
            <a:custGeom>
              <a:avLst/>
              <a:gdLst/>
              <a:ahLst/>
              <a:rect l="0" t="0" r="r" b="b"/>
              <a:pathLst>
                <a:path w="2012" h="2823">
                  <a:moveTo>
                    <a:pt x="0" y="771"/>
                  </a:moveTo>
                  <a:lnTo>
                    <a:pt x="1196" y="2823"/>
                  </a:lnTo>
                  <a:lnTo>
                    <a:pt x="2012" y="1773"/>
                  </a:lnTo>
                  <a:lnTo>
                    <a:pt x="578" y="0"/>
                  </a:lnTo>
                  <a:lnTo>
                    <a:pt x="0" y="771"/>
                  </a:lnTo>
                  <a:close/>
                </a:path>
              </a:pathLst>
            </a:custGeom>
            <a:solidFill>
              <a:srgbClr val="bf5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2287440" y="2844720"/>
              <a:ext cx="2189520" cy="275040"/>
            </a:xfrm>
            <a:custGeom>
              <a:avLst/>
              <a:gdLst/>
              <a:ahLst/>
              <a:rect l="0" t="0" r="r" b="b"/>
              <a:pathLst>
                <a:path w="6082" h="764">
                  <a:moveTo>
                    <a:pt x="0" y="764"/>
                  </a:moveTo>
                  <a:lnTo>
                    <a:pt x="5504" y="764"/>
                  </a:lnTo>
                  <a:lnTo>
                    <a:pt x="6082" y="0"/>
                  </a:lnTo>
                  <a:lnTo>
                    <a:pt x="1538" y="0"/>
                  </a:lnTo>
                  <a:lnTo>
                    <a:pt x="0" y="764"/>
                  </a:lnTo>
                  <a:close/>
                </a:path>
              </a:pathLst>
            </a:custGeom>
            <a:solidFill>
              <a:srgbClr val="5f00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a:off x="1865160" y="3119400"/>
              <a:ext cx="2833920" cy="743400"/>
            </a:xfrm>
            <a:custGeom>
              <a:avLst/>
              <a:gdLst/>
              <a:ahLst/>
              <a:rect l="0" t="0" r="r" b="b"/>
              <a:pathLst>
                <a:path w="7872" h="2065">
                  <a:moveTo>
                    <a:pt x="0" y="2065"/>
                  </a:moveTo>
                  <a:lnTo>
                    <a:pt x="7872" y="2065"/>
                  </a:lnTo>
                  <a:lnTo>
                    <a:pt x="6677" y="0"/>
                  </a:lnTo>
                  <a:lnTo>
                    <a:pt x="1172" y="0"/>
                  </a:lnTo>
                  <a:lnTo>
                    <a:pt x="0" y="2065"/>
                  </a:lnTo>
                  <a:close/>
                </a:path>
              </a:pathLst>
            </a:custGeom>
            <a:solidFill>
              <a:srgbClr val="9f3fd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29" name=""/>
          <p:cNvSpPr/>
          <p:nvPr/>
        </p:nvSpPr>
        <p:spPr>
          <a:xfrm>
            <a:off x="3290760" y="1523880"/>
            <a:ext cx="1157760" cy="1529280"/>
          </a:xfrm>
          <a:custGeom>
            <a:avLst/>
            <a:gdLst/>
            <a:ahLst/>
            <a:rect l="0" t="0" r="r" b="b"/>
            <a:pathLst>
              <a:path w="3216" h="4248">
                <a:moveTo>
                  <a:pt x="2612" y="4248"/>
                </a:moveTo>
                <a:lnTo>
                  <a:pt x="3216" y="3591"/>
                </a:lnTo>
                <a:lnTo>
                  <a:pt x="0" y="0"/>
                </a:lnTo>
                <a:lnTo>
                  <a:pt x="2612" y="4248"/>
                </a:lnTo>
                <a:close/>
              </a:path>
            </a:pathLst>
          </a:custGeom>
          <a:solidFill>
            <a:srgbClr val="ffbf1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2376360" y="1523880"/>
            <a:ext cx="1857600" cy="1529280"/>
          </a:xfrm>
          <a:custGeom>
            <a:avLst/>
            <a:gdLst/>
            <a:ahLst/>
            <a:rect l="0" t="0" r="r" b="b"/>
            <a:pathLst>
              <a:path w="5160" h="4248">
                <a:moveTo>
                  <a:pt x="0" y="4248"/>
                </a:moveTo>
                <a:lnTo>
                  <a:pt x="5160" y="4248"/>
                </a:lnTo>
                <a:lnTo>
                  <a:pt x="2579" y="0"/>
                </a:lnTo>
                <a:lnTo>
                  <a:pt x="0" y="4248"/>
                </a:lnTo>
                <a:close/>
              </a:path>
            </a:pathLst>
          </a:custGeom>
          <a:solidFill>
            <a:srgbClr val="ff9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txBox="1"/>
          <p:nvPr/>
        </p:nvSpPr>
        <p:spPr>
          <a:xfrm>
            <a:off x="2674800" y="5272200"/>
            <a:ext cx="1062000" cy="576360"/>
          </a:xfrm>
          <a:prstGeom prst="rect">
            <a:avLst/>
          </a:prstGeom>
          <a:noFill/>
          <a:ln w="0">
            <a:noFill/>
          </a:ln>
        </p:spPr>
        <p:txBody>
          <a:bodyPr lIns="0" rIns="0" tIns="0" bIns="0" anchor="t">
            <a:noAutofit/>
          </a:bodyPr>
          <a:p>
            <a:pPr algn="ctr">
              <a:lnSpc>
                <a:spcPct val="100000"/>
              </a:lnSpc>
            </a:pPr>
            <a:r>
              <a:rPr b="1" lang="en-US" sz="3200" spc="-1" strike="noStrike">
                <a:solidFill>
                  <a:srgbClr val="eaec5e"/>
                </a:solidFill>
                <a:latin typeface="Arial"/>
                <a:ea typeface="Arial"/>
              </a:rPr>
              <a:t>Data</a:t>
            </a:r>
            <a:endParaRPr b="0" lang="en-US" sz="3200" spc="-1" strike="noStrike">
              <a:solidFill>
                <a:srgbClr val="000000"/>
              </a:solidFill>
              <a:latin typeface="Arial"/>
            </a:endParaRPr>
          </a:p>
        </p:txBody>
      </p:sp>
      <p:sp>
        <p:nvSpPr>
          <p:cNvPr id="232" name=""/>
          <p:cNvSpPr txBox="1"/>
          <p:nvPr/>
        </p:nvSpPr>
        <p:spPr>
          <a:xfrm>
            <a:off x="2075040" y="4400640"/>
            <a:ext cx="2416320" cy="576360"/>
          </a:xfrm>
          <a:prstGeom prst="rect">
            <a:avLst/>
          </a:prstGeom>
          <a:noFill/>
          <a:ln w="0">
            <a:noFill/>
          </a:ln>
        </p:spPr>
        <p:txBody>
          <a:bodyPr lIns="0" rIns="0" tIns="0" bIns="0" anchor="t">
            <a:noAutofit/>
          </a:bodyPr>
          <a:p>
            <a:pPr algn="ctr">
              <a:lnSpc>
                <a:spcPct val="100000"/>
              </a:lnSpc>
            </a:pPr>
            <a:r>
              <a:rPr b="1" lang="en-US" sz="3200" spc="-1" strike="noStrike">
                <a:solidFill>
                  <a:srgbClr val="eaec5e"/>
                </a:solidFill>
                <a:latin typeface="Arial"/>
                <a:ea typeface="Arial"/>
              </a:rPr>
              <a:t>Information</a:t>
            </a:r>
            <a:endParaRPr b="0" lang="en-US" sz="3200" spc="-1" strike="noStrike">
              <a:solidFill>
                <a:srgbClr val="000000"/>
              </a:solidFill>
              <a:latin typeface="Arial"/>
            </a:endParaRPr>
          </a:p>
        </p:txBody>
      </p:sp>
      <p:sp>
        <p:nvSpPr>
          <p:cNvPr id="233" name=""/>
          <p:cNvSpPr txBox="1"/>
          <p:nvPr/>
        </p:nvSpPr>
        <p:spPr>
          <a:xfrm>
            <a:off x="2131920" y="3243240"/>
            <a:ext cx="2347920" cy="576360"/>
          </a:xfrm>
          <a:prstGeom prst="rect">
            <a:avLst/>
          </a:prstGeom>
          <a:noFill/>
          <a:ln w="0">
            <a:noFill/>
          </a:ln>
        </p:spPr>
        <p:txBody>
          <a:bodyPr lIns="0" rIns="0" tIns="0" bIns="0" anchor="t">
            <a:noAutofit/>
          </a:bodyPr>
          <a:p>
            <a:pPr algn="ctr">
              <a:lnSpc>
                <a:spcPct val="100000"/>
              </a:lnSpc>
            </a:pPr>
            <a:r>
              <a:rPr b="1" lang="en-US" sz="3200" spc="-1" strike="noStrike">
                <a:solidFill>
                  <a:srgbClr val="eaec5e"/>
                </a:solidFill>
                <a:latin typeface="Arial"/>
                <a:ea typeface="Arial"/>
              </a:rPr>
              <a:t>Knowledge</a:t>
            </a:r>
            <a:endParaRPr b="0" lang="en-US" sz="3200" spc="-1" strike="noStrike">
              <a:solidFill>
                <a:srgbClr val="000000"/>
              </a:solidFill>
              <a:latin typeface="Arial"/>
            </a:endParaRPr>
          </a:p>
        </p:txBody>
      </p:sp>
      <p:sp>
        <p:nvSpPr>
          <p:cNvPr id="234" name=""/>
          <p:cNvSpPr/>
          <p:nvPr/>
        </p:nvSpPr>
        <p:spPr>
          <a:xfrm flipV="1">
            <a:off x="660240" y="3884760"/>
            <a:ext cx="1090800" cy="32040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1803240" y="3922560"/>
            <a:ext cx="933480" cy="16200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flipV="1">
            <a:off x="2774880" y="3828960"/>
            <a:ext cx="376200" cy="30636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a:off x="3218040" y="3908520"/>
            <a:ext cx="576000" cy="17604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flipV="1">
            <a:off x="3801960" y="3927600"/>
            <a:ext cx="790560" cy="20628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4646520" y="3965400"/>
            <a:ext cx="1762200" cy="24768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txBox="1"/>
          <p:nvPr/>
        </p:nvSpPr>
        <p:spPr>
          <a:xfrm>
            <a:off x="3000240" y="2157480"/>
            <a:ext cx="2416320" cy="576360"/>
          </a:xfrm>
          <a:prstGeom prst="rect">
            <a:avLst/>
          </a:prstGeom>
          <a:noFill/>
          <a:ln w="0">
            <a:noFill/>
          </a:ln>
        </p:spPr>
        <p:txBody>
          <a:bodyPr lIns="0" rIns="0" tIns="0" bIns="0" anchor="t">
            <a:noAutofit/>
          </a:bodyPr>
          <a:p>
            <a:pPr>
              <a:lnSpc>
                <a:spcPct val="100000"/>
              </a:lnSpc>
            </a:pPr>
            <a:r>
              <a:rPr b="1" lang="en-US" sz="3200" spc="-1" strike="noStrike">
                <a:solidFill>
                  <a:srgbClr val="fc0128"/>
                </a:solidFill>
                <a:latin typeface="Arial"/>
                <a:ea typeface="Arial"/>
              </a:rPr>
              <a:t>Intelligence</a:t>
            </a:r>
            <a:endParaRPr b="0" lang="en-US" sz="3200" spc="-1" strike="noStrike">
              <a:solidFill>
                <a:srgbClr val="000000"/>
              </a:solidFill>
              <a:latin typeface="Arial"/>
            </a:endParaRPr>
          </a:p>
        </p:txBody>
      </p:sp>
      <p:sp>
        <p:nvSpPr>
          <p:cNvPr id="241" name=""/>
          <p:cNvSpPr txBox="1"/>
          <p:nvPr/>
        </p:nvSpPr>
        <p:spPr>
          <a:xfrm>
            <a:off x="6373800" y="4734000"/>
            <a:ext cx="2892600" cy="819000"/>
          </a:xfrm>
          <a:prstGeom prst="rect">
            <a:avLst/>
          </a:prstGeom>
          <a:noFill/>
          <a:ln w="0">
            <a:noFill/>
          </a:ln>
        </p:spPr>
        <p:txBody>
          <a:bodyPr lIns="0" rIns="0" tIns="0" bIns="0" anchor="t">
            <a:noAutofit/>
          </a:bodyPr>
          <a:p>
            <a:pPr>
              <a:lnSpc>
                <a:spcPct val="100000"/>
              </a:lnSpc>
            </a:pPr>
            <a:r>
              <a:rPr b="1" i="1" lang="en-US" sz="2400" spc="-1" strike="noStrike">
                <a:solidFill>
                  <a:srgbClr val="fc0128"/>
                </a:solidFill>
                <a:latin typeface="Arial"/>
                <a:ea typeface="Arial"/>
              </a:rPr>
              <a:t>Codifiable, explicit</a:t>
            </a:r>
            <a:endParaRPr b="0" lang="en-US" sz="2400" spc="-1" strike="noStrike">
              <a:solidFill>
                <a:srgbClr val="000000"/>
              </a:solidFill>
              <a:latin typeface="Arial"/>
            </a:endParaRPr>
          </a:p>
          <a:p>
            <a:pPr>
              <a:lnSpc>
                <a:spcPct val="100000"/>
              </a:lnSpc>
            </a:pPr>
            <a:r>
              <a:rPr b="1" i="1" lang="en-US" sz="2400" spc="-1" strike="noStrike">
                <a:solidFill>
                  <a:srgbClr val="fc0128"/>
                </a:solidFill>
                <a:latin typeface="Arial"/>
                <a:ea typeface="Arial"/>
              </a:rPr>
              <a:t>Easily transferable</a:t>
            </a:r>
            <a:endParaRPr b="0" lang="en-US" sz="2400" spc="-1" strike="noStrike">
              <a:solidFill>
                <a:srgbClr val="000000"/>
              </a:solidFill>
              <a:latin typeface="Arial"/>
            </a:endParaRPr>
          </a:p>
        </p:txBody>
      </p:sp>
      <p:sp>
        <p:nvSpPr>
          <p:cNvPr id="242" name=""/>
          <p:cNvSpPr txBox="1"/>
          <p:nvPr/>
        </p:nvSpPr>
        <p:spPr>
          <a:xfrm>
            <a:off x="6302520" y="2162160"/>
            <a:ext cx="3637080" cy="1549440"/>
          </a:xfrm>
          <a:prstGeom prst="rect">
            <a:avLst/>
          </a:prstGeom>
          <a:noFill/>
          <a:ln w="0">
            <a:noFill/>
          </a:ln>
        </p:spPr>
        <p:txBody>
          <a:bodyPr lIns="0" rIns="0" tIns="0" bIns="0" anchor="t">
            <a:noAutofit/>
          </a:bodyPr>
          <a:p>
            <a:pPr>
              <a:lnSpc>
                <a:spcPct val="100000"/>
              </a:lnSpc>
            </a:pPr>
            <a:r>
              <a:rPr b="1" i="1" lang="en-US" sz="2400" spc="-1" strike="noStrike">
                <a:solidFill>
                  <a:srgbClr val="fc0128"/>
                </a:solidFill>
                <a:latin typeface="Arial"/>
                <a:ea typeface="Arial"/>
              </a:rPr>
              <a:t>Human, judgemental</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i="1" lang="en-US" sz="2400" spc="-1" strike="noStrike">
                <a:solidFill>
                  <a:srgbClr val="fc0128"/>
                </a:solidFill>
                <a:latin typeface="Arial"/>
                <a:ea typeface="Arial"/>
              </a:rPr>
              <a:t>Contextual, tacit</a:t>
            </a:r>
            <a:endParaRPr b="0" lang="en-US" sz="2400" spc="-1" strike="noStrike">
              <a:solidFill>
                <a:srgbClr val="000000"/>
              </a:solidFill>
              <a:latin typeface="Arial"/>
            </a:endParaRPr>
          </a:p>
          <a:p>
            <a:pPr>
              <a:lnSpc>
                <a:spcPct val="100000"/>
              </a:lnSpc>
            </a:pPr>
            <a:r>
              <a:rPr b="1" i="1" lang="en-US" sz="2400" spc="-1" strike="noStrike">
                <a:solidFill>
                  <a:srgbClr val="fc0128"/>
                </a:solidFill>
                <a:latin typeface="Arial"/>
                <a:ea typeface="Arial"/>
              </a:rPr>
              <a:t>Transfer needs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43" name=""/>
          <p:cNvSpPr/>
          <p:nvPr/>
        </p:nvSpPr>
        <p:spPr>
          <a:xfrm>
            <a:off x="2252520" y="4686480"/>
            <a:ext cx="5743440" cy="942840"/>
          </a:xfrm>
          <a:prstGeom prst="rect">
            <a:avLst/>
          </a:prstGeom>
          <a:solidFill>
            <a:srgbClr val="fcd1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nowledge is Different (2)</a:t>
            </a:r>
            <a:endParaRPr b="0" lang="en-US" sz="3600" spc="-1" strike="noStrike">
              <a:solidFill>
                <a:srgbClr val="000000"/>
              </a:solidFill>
              <a:latin typeface="Arial"/>
            </a:endParaRPr>
          </a:p>
        </p:txBody>
      </p:sp>
      <p:sp>
        <p:nvSpPr>
          <p:cNvPr id="245" name=""/>
          <p:cNvSpPr txBox="1"/>
          <p:nvPr/>
        </p:nvSpPr>
        <p:spPr>
          <a:xfrm>
            <a:off x="1428840" y="1547640"/>
            <a:ext cx="7391520" cy="1143000"/>
          </a:xfrm>
          <a:prstGeom prst="rect">
            <a:avLst/>
          </a:prstGeom>
          <a:solidFill>
            <a:srgbClr val="a2c1fe"/>
          </a:solidFill>
          <a:ln w="38160">
            <a:solidFill>
              <a:srgbClr val="063de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Chaotic knowledge processes</a:t>
            </a:r>
            <a:endParaRPr b="0" lang="en-US" sz="2400" spc="-1" strike="noStrike">
              <a:solidFill>
                <a:srgbClr val="000000"/>
              </a:solidFill>
              <a:latin typeface="Arial"/>
            </a:endParaRPr>
          </a:p>
        </p:txBody>
      </p:sp>
      <p:sp>
        <p:nvSpPr>
          <p:cNvPr id="246" name=""/>
          <p:cNvSpPr/>
          <p:nvPr/>
        </p:nvSpPr>
        <p:spPr>
          <a:xfrm flipH="1" flipV="1">
            <a:off x="2185920" y="4616280"/>
            <a:ext cx="5878440" cy="52560"/>
          </a:xfrm>
          <a:prstGeom prst="line">
            <a:avLst/>
          </a:prstGeom>
          <a:ln w="38160">
            <a:solidFill>
              <a:srgbClr val="fc0128"/>
            </a:solidFill>
            <a:round/>
          </a:ln>
        </p:spPr>
        <p:style>
          <a:lnRef idx="0"/>
          <a:fillRef idx="0"/>
          <a:effectRef idx="0"/>
          <a:fontRef idx="minor"/>
        </p:style>
        <p:txBody>
          <a:bodyPr lIns="109080" rIns="109080" tIns="-11520" bIns="-11520" anchor="t">
            <a:noAutofit/>
          </a:bodyPr>
          <a:p>
            <a:endParaRPr b="0" lang="en-US" sz="1800" spc="-1" strike="noStrike">
              <a:solidFill>
                <a:srgbClr val="000000"/>
              </a:solidFill>
              <a:latin typeface="Arial"/>
            </a:endParaRPr>
          </a:p>
        </p:txBody>
      </p:sp>
      <p:sp>
        <p:nvSpPr>
          <p:cNvPr id="247" name=""/>
          <p:cNvSpPr/>
          <p:nvPr/>
        </p:nvSpPr>
        <p:spPr>
          <a:xfrm flipV="1">
            <a:off x="1996920" y="4422600"/>
            <a:ext cx="252720" cy="80676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2001960" y="5238720"/>
            <a:ext cx="247680" cy="58896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flipH="1">
            <a:off x="7956720" y="5241960"/>
            <a:ext cx="336240" cy="57132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p:nvPr/>
        </p:nvSpPr>
        <p:spPr>
          <a:xfrm flipH="1" flipV="1">
            <a:off x="7951680" y="4437000"/>
            <a:ext cx="354240" cy="80640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1" name=""/>
          <p:cNvSpPr txBox="1"/>
          <p:nvPr/>
        </p:nvSpPr>
        <p:spPr>
          <a:xfrm>
            <a:off x="2482920" y="4730760"/>
            <a:ext cx="528336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Systematic information and knowledge processes</a:t>
            </a:r>
            <a:endParaRPr b="0" lang="en-US" sz="2800" spc="-1" strike="noStrike">
              <a:solidFill>
                <a:srgbClr val="000000"/>
              </a:solidFill>
              <a:latin typeface="Arial"/>
            </a:endParaRPr>
          </a:p>
        </p:txBody>
      </p:sp>
      <p:sp>
        <p:nvSpPr>
          <p:cNvPr id="252" name=""/>
          <p:cNvSpPr txBox="1"/>
          <p:nvPr/>
        </p:nvSpPr>
        <p:spPr>
          <a:xfrm>
            <a:off x="2855880" y="2744640"/>
            <a:ext cx="39528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uman knowledge and networking</a:t>
            </a:r>
            <a:endParaRPr b="0" lang="en-US" sz="1800" spc="-1" strike="noStrike">
              <a:solidFill>
                <a:srgbClr val="000000"/>
              </a:solidFill>
              <a:latin typeface="Arial"/>
            </a:endParaRPr>
          </a:p>
        </p:txBody>
      </p:sp>
      <p:sp>
        <p:nvSpPr>
          <p:cNvPr id="253" name=""/>
          <p:cNvSpPr txBox="1"/>
          <p:nvPr/>
        </p:nvSpPr>
        <p:spPr>
          <a:xfrm>
            <a:off x="2411280" y="4092480"/>
            <a:ext cx="54277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rmation databases and technical networking</a:t>
            </a:r>
            <a:endParaRPr b="0" lang="en-US" sz="1800" spc="-1" strike="noStrike">
              <a:solidFill>
                <a:srgbClr val="000000"/>
              </a:solidFill>
              <a:latin typeface="Arial"/>
            </a:endParaRPr>
          </a:p>
        </p:txBody>
      </p:sp>
      <p:sp>
        <p:nvSpPr>
          <p:cNvPr id="254" name=""/>
          <p:cNvSpPr/>
          <p:nvPr/>
        </p:nvSpPr>
        <p:spPr>
          <a:xfrm>
            <a:off x="3409920" y="3146400"/>
            <a:ext cx="0" cy="976320"/>
          </a:xfrm>
          <a:prstGeom prst="line">
            <a:avLst/>
          </a:prstGeom>
          <a:ln w="12600">
            <a:solidFill>
              <a:srgbClr val="000000"/>
            </a:solidFill>
            <a:custDash>
              <a:ds d="202857" sp="2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5086440" y="3146400"/>
            <a:ext cx="0" cy="900000"/>
          </a:xfrm>
          <a:prstGeom prst="line">
            <a:avLst/>
          </a:prstGeom>
          <a:ln w="12600">
            <a:solidFill>
              <a:srgbClr val="000000"/>
            </a:solidFill>
            <a:custDash>
              <a:ds d="202857" sp="2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6838920" y="3070080"/>
            <a:ext cx="0" cy="1052640"/>
          </a:xfrm>
          <a:prstGeom prst="line">
            <a:avLst/>
          </a:prstGeom>
          <a:ln w="12600">
            <a:solidFill>
              <a:srgbClr val="000000"/>
            </a:solidFill>
            <a:custDash>
              <a:ds d="202857" sp="2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023920" y="4686120"/>
            <a:ext cx="200520" cy="1000440"/>
          </a:xfrm>
          <a:custGeom>
            <a:avLst/>
            <a:gdLst/>
            <a:ahLst/>
            <a:rect l="0" t="0" r="r" b="b"/>
            <a:pathLst>
              <a:path w="557" h="2779">
                <a:moveTo>
                  <a:pt x="557" y="2779"/>
                </a:moveTo>
                <a:lnTo>
                  <a:pt x="557" y="0"/>
                </a:lnTo>
                <a:lnTo>
                  <a:pt x="0" y="1390"/>
                </a:lnTo>
                <a:lnTo>
                  <a:pt x="557" y="2779"/>
                </a:lnTo>
                <a:close/>
              </a:path>
            </a:pathLst>
          </a:custGeom>
          <a:solidFill>
            <a:srgbClr val="fcd1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8" name=""/>
          <p:cNvSpPr/>
          <p:nvPr/>
        </p:nvSpPr>
        <p:spPr>
          <a:xfrm>
            <a:off x="8005680" y="4653000"/>
            <a:ext cx="200520" cy="1000440"/>
          </a:xfrm>
          <a:custGeom>
            <a:avLst/>
            <a:gdLst/>
            <a:ahLst/>
            <a:rect l="0" t="0" r="r" b="b"/>
            <a:pathLst>
              <a:path w="557" h="2779">
                <a:moveTo>
                  <a:pt x="0" y="2779"/>
                </a:moveTo>
                <a:lnTo>
                  <a:pt x="0" y="0"/>
                </a:lnTo>
                <a:lnTo>
                  <a:pt x="557" y="1390"/>
                </a:lnTo>
                <a:lnTo>
                  <a:pt x="0" y="2779"/>
                </a:lnTo>
                <a:close/>
              </a:path>
            </a:pathLst>
          </a:custGeom>
          <a:solidFill>
            <a:srgbClr val="fcd1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flipH="1">
            <a:off x="2128680" y="5672160"/>
            <a:ext cx="599292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60"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nowledge Cycles</a:t>
            </a:r>
            <a:endParaRPr b="0" lang="en-US" sz="3600" spc="-1" strike="noStrike">
              <a:solidFill>
                <a:srgbClr val="000000"/>
              </a:solidFill>
              <a:latin typeface="Arial"/>
            </a:endParaRPr>
          </a:p>
        </p:txBody>
      </p:sp>
      <p:grpSp>
        <p:nvGrpSpPr>
          <p:cNvPr id="261" name=""/>
          <p:cNvGrpSpPr/>
          <p:nvPr/>
        </p:nvGrpSpPr>
        <p:grpSpPr>
          <a:xfrm>
            <a:off x="5381640" y="1935000"/>
            <a:ext cx="3329280" cy="3566160"/>
            <a:chOff x="5381640" y="1935000"/>
            <a:chExt cx="3329280" cy="3566160"/>
          </a:xfrm>
        </p:grpSpPr>
        <p:sp>
          <p:nvSpPr>
            <p:cNvPr id="262" name=""/>
            <p:cNvSpPr/>
            <p:nvPr/>
          </p:nvSpPr>
          <p:spPr>
            <a:xfrm>
              <a:off x="5495760" y="1935000"/>
              <a:ext cx="2092680" cy="2781720"/>
            </a:xfrm>
            <a:custGeom>
              <a:avLst/>
              <a:gdLst/>
              <a:ahLst/>
              <a:rect l="0" t="0" r="r" b="b"/>
              <a:pathLst>
                <a:path w="5813" h="7727">
                  <a:moveTo>
                    <a:pt x="3599" y="1014"/>
                  </a:moveTo>
                  <a:lnTo>
                    <a:pt x="3519" y="1027"/>
                  </a:lnTo>
                  <a:lnTo>
                    <a:pt x="3414" y="1049"/>
                  </a:lnTo>
                  <a:lnTo>
                    <a:pt x="3308" y="1075"/>
                  </a:lnTo>
                  <a:lnTo>
                    <a:pt x="3233" y="1093"/>
                  </a:lnTo>
                  <a:lnTo>
                    <a:pt x="3145" y="1115"/>
                  </a:lnTo>
                  <a:lnTo>
                    <a:pt x="3061" y="1146"/>
                  </a:lnTo>
                  <a:lnTo>
                    <a:pt x="2973" y="1172"/>
                  </a:lnTo>
                  <a:lnTo>
                    <a:pt x="2892" y="1195"/>
                  </a:lnTo>
                  <a:lnTo>
                    <a:pt x="2800" y="1234"/>
                  </a:lnTo>
                  <a:lnTo>
                    <a:pt x="2694" y="1283"/>
                  </a:lnTo>
                  <a:lnTo>
                    <a:pt x="2601" y="1318"/>
                  </a:lnTo>
                  <a:lnTo>
                    <a:pt x="2513" y="1362"/>
                  </a:lnTo>
                  <a:lnTo>
                    <a:pt x="2412" y="1406"/>
                  </a:lnTo>
                  <a:lnTo>
                    <a:pt x="2315" y="1459"/>
                  </a:lnTo>
                  <a:lnTo>
                    <a:pt x="2226" y="1503"/>
                  </a:lnTo>
                  <a:lnTo>
                    <a:pt x="2138" y="1561"/>
                  </a:lnTo>
                  <a:lnTo>
                    <a:pt x="2063" y="1609"/>
                  </a:lnTo>
                  <a:lnTo>
                    <a:pt x="1988" y="1666"/>
                  </a:lnTo>
                  <a:lnTo>
                    <a:pt x="1905" y="1715"/>
                  </a:lnTo>
                  <a:lnTo>
                    <a:pt x="1812" y="1785"/>
                  </a:lnTo>
                  <a:lnTo>
                    <a:pt x="1728" y="1852"/>
                  </a:lnTo>
                  <a:lnTo>
                    <a:pt x="1649" y="1918"/>
                  </a:lnTo>
                  <a:lnTo>
                    <a:pt x="1574" y="1976"/>
                  </a:lnTo>
                  <a:lnTo>
                    <a:pt x="1455" y="2082"/>
                  </a:lnTo>
                  <a:lnTo>
                    <a:pt x="1331" y="2205"/>
                  </a:lnTo>
                  <a:lnTo>
                    <a:pt x="1234" y="2298"/>
                  </a:lnTo>
                  <a:lnTo>
                    <a:pt x="1120" y="2430"/>
                  </a:lnTo>
                  <a:lnTo>
                    <a:pt x="1040" y="2532"/>
                  </a:lnTo>
                  <a:lnTo>
                    <a:pt x="952" y="2642"/>
                  </a:lnTo>
                  <a:lnTo>
                    <a:pt x="855" y="2770"/>
                  </a:lnTo>
                  <a:lnTo>
                    <a:pt x="776" y="2889"/>
                  </a:lnTo>
                  <a:lnTo>
                    <a:pt x="692" y="3026"/>
                  </a:lnTo>
                  <a:lnTo>
                    <a:pt x="608" y="3158"/>
                  </a:lnTo>
                  <a:lnTo>
                    <a:pt x="537" y="3299"/>
                  </a:lnTo>
                  <a:lnTo>
                    <a:pt x="467" y="3418"/>
                  </a:lnTo>
                  <a:lnTo>
                    <a:pt x="401" y="3568"/>
                  </a:lnTo>
                  <a:lnTo>
                    <a:pt x="339" y="3713"/>
                  </a:lnTo>
                  <a:lnTo>
                    <a:pt x="286" y="3863"/>
                  </a:lnTo>
                  <a:lnTo>
                    <a:pt x="233" y="4027"/>
                  </a:lnTo>
                  <a:lnTo>
                    <a:pt x="167" y="4229"/>
                  </a:lnTo>
                  <a:lnTo>
                    <a:pt x="123" y="4415"/>
                  </a:lnTo>
                  <a:lnTo>
                    <a:pt x="79" y="4609"/>
                  </a:lnTo>
                  <a:lnTo>
                    <a:pt x="57" y="4794"/>
                  </a:lnTo>
                  <a:lnTo>
                    <a:pt x="26" y="5010"/>
                  </a:lnTo>
                  <a:lnTo>
                    <a:pt x="4" y="5283"/>
                  </a:lnTo>
                  <a:lnTo>
                    <a:pt x="0" y="5495"/>
                  </a:lnTo>
                  <a:lnTo>
                    <a:pt x="4" y="5707"/>
                  </a:lnTo>
                  <a:lnTo>
                    <a:pt x="22" y="5902"/>
                  </a:lnTo>
                  <a:lnTo>
                    <a:pt x="44" y="6091"/>
                  </a:lnTo>
                  <a:lnTo>
                    <a:pt x="66" y="6285"/>
                  </a:lnTo>
                  <a:lnTo>
                    <a:pt x="105" y="6488"/>
                  </a:lnTo>
                  <a:lnTo>
                    <a:pt x="158" y="6704"/>
                  </a:lnTo>
                  <a:lnTo>
                    <a:pt x="224" y="6929"/>
                  </a:lnTo>
                  <a:lnTo>
                    <a:pt x="291" y="7132"/>
                  </a:lnTo>
                  <a:lnTo>
                    <a:pt x="366" y="7335"/>
                  </a:lnTo>
                  <a:lnTo>
                    <a:pt x="476" y="7529"/>
                  </a:lnTo>
                  <a:lnTo>
                    <a:pt x="586" y="7727"/>
                  </a:lnTo>
                  <a:lnTo>
                    <a:pt x="2301" y="6678"/>
                  </a:lnTo>
                  <a:lnTo>
                    <a:pt x="2209" y="6484"/>
                  </a:lnTo>
                  <a:lnTo>
                    <a:pt x="2143" y="6334"/>
                  </a:lnTo>
                  <a:lnTo>
                    <a:pt x="2099" y="6171"/>
                  </a:lnTo>
                  <a:lnTo>
                    <a:pt x="2059" y="6012"/>
                  </a:lnTo>
                  <a:lnTo>
                    <a:pt x="2032" y="5866"/>
                  </a:lnTo>
                  <a:lnTo>
                    <a:pt x="2024" y="5720"/>
                  </a:lnTo>
                  <a:lnTo>
                    <a:pt x="2010" y="5579"/>
                  </a:lnTo>
                  <a:lnTo>
                    <a:pt x="2010" y="5429"/>
                  </a:lnTo>
                  <a:lnTo>
                    <a:pt x="2019" y="5257"/>
                  </a:lnTo>
                  <a:lnTo>
                    <a:pt x="2041" y="5089"/>
                  </a:lnTo>
                  <a:lnTo>
                    <a:pt x="2072" y="4904"/>
                  </a:lnTo>
                  <a:lnTo>
                    <a:pt x="2112" y="4759"/>
                  </a:lnTo>
                  <a:lnTo>
                    <a:pt x="2173" y="4587"/>
                  </a:lnTo>
                  <a:lnTo>
                    <a:pt x="2235" y="4446"/>
                  </a:lnTo>
                  <a:lnTo>
                    <a:pt x="2306" y="4304"/>
                  </a:lnTo>
                  <a:lnTo>
                    <a:pt x="2368" y="4194"/>
                  </a:lnTo>
                  <a:lnTo>
                    <a:pt x="2429" y="4106"/>
                  </a:lnTo>
                  <a:lnTo>
                    <a:pt x="2491" y="4018"/>
                  </a:lnTo>
                  <a:lnTo>
                    <a:pt x="2562" y="3930"/>
                  </a:lnTo>
                  <a:lnTo>
                    <a:pt x="2641" y="3837"/>
                  </a:lnTo>
                  <a:lnTo>
                    <a:pt x="2707" y="3771"/>
                  </a:lnTo>
                  <a:lnTo>
                    <a:pt x="2782" y="3691"/>
                  </a:lnTo>
                  <a:lnTo>
                    <a:pt x="2857" y="3621"/>
                  </a:lnTo>
                  <a:lnTo>
                    <a:pt x="2946" y="3550"/>
                  </a:lnTo>
                  <a:lnTo>
                    <a:pt x="3052" y="3480"/>
                  </a:lnTo>
                  <a:lnTo>
                    <a:pt x="3140" y="3414"/>
                  </a:lnTo>
                  <a:lnTo>
                    <a:pt x="3215" y="3374"/>
                  </a:lnTo>
                  <a:lnTo>
                    <a:pt x="3325" y="3303"/>
                  </a:lnTo>
                  <a:lnTo>
                    <a:pt x="3422" y="3264"/>
                  </a:lnTo>
                  <a:lnTo>
                    <a:pt x="3506" y="3233"/>
                  </a:lnTo>
                  <a:lnTo>
                    <a:pt x="3594" y="3198"/>
                  </a:lnTo>
                  <a:lnTo>
                    <a:pt x="3731" y="3167"/>
                  </a:lnTo>
                  <a:lnTo>
                    <a:pt x="3855" y="3145"/>
                  </a:lnTo>
                  <a:lnTo>
                    <a:pt x="3982" y="3127"/>
                  </a:lnTo>
                  <a:lnTo>
                    <a:pt x="4110" y="3118"/>
                  </a:lnTo>
                  <a:lnTo>
                    <a:pt x="4181" y="3114"/>
                  </a:lnTo>
                  <a:lnTo>
                    <a:pt x="4181" y="4243"/>
                  </a:lnTo>
                  <a:lnTo>
                    <a:pt x="5813" y="2152"/>
                  </a:lnTo>
                  <a:lnTo>
                    <a:pt x="4185" y="0"/>
                  </a:lnTo>
                  <a:lnTo>
                    <a:pt x="4185" y="970"/>
                  </a:lnTo>
                  <a:lnTo>
                    <a:pt x="4097" y="974"/>
                  </a:lnTo>
                  <a:lnTo>
                    <a:pt x="3969" y="978"/>
                  </a:lnTo>
                  <a:lnTo>
                    <a:pt x="3837" y="987"/>
                  </a:lnTo>
                  <a:lnTo>
                    <a:pt x="3709" y="1001"/>
                  </a:lnTo>
                  <a:lnTo>
                    <a:pt x="3599" y="101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3" name=""/>
            <p:cNvSpPr/>
            <p:nvPr/>
          </p:nvSpPr>
          <p:spPr>
            <a:xfrm>
              <a:off x="5381640" y="3962520"/>
              <a:ext cx="2781720" cy="1538640"/>
            </a:xfrm>
            <a:custGeom>
              <a:avLst/>
              <a:gdLst/>
              <a:ahLst/>
              <a:rect l="0" t="0" r="r" b="b"/>
              <a:pathLst>
                <a:path w="7727" h="4274">
                  <a:moveTo>
                    <a:pt x="3846" y="4221"/>
                  </a:moveTo>
                  <a:lnTo>
                    <a:pt x="3766" y="4207"/>
                  </a:lnTo>
                  <a:lnTo>
                    <a:pt x="3661" y="4190"/>
                  </a:lnTo>
                  <a:lnTo>
                    <a:pt x="3555" y="4168"/>
                  </a:lnTo>
                  <a:lnTo>
                    <a:pt x="3480" y="4150"/>
                  </a:lnTo>
                  <a:lnTo>
                    <a:pt x="3392" y="4124"/>
                  </a:lnTo>
                  <a:lnTo>
                    <a:pt x="3299" y="4097"/>
                  </a:lnTo>
                  <a:lnTo>
                    <a:pt x="3211" y="4075"/>
                  </a:lnTo>
                  <a:lnTo>
                    <a:pt x="3131" y="4044"/>
                  </a:lnTo>
                  <a:lnTo>
                    <a:pt x="3043" y="4009"/>
                  </a:lnTo>
                  <a:lnTo>
                    <a:pt x="2933" y="3965"/>
                  </a:lnTo>
                  <a:lnTo>
                    <a:pt x="2840" y="3925"/>
                  </a:lnTo>
                  <a:lnTo>
                    <a:pt x="2752" y="3881"/>
                  </a:lnTo>
                  <a:lnTo>
                    <a:pt x="2651" y="3837"/>
                  </a:lnTo>
                  <a:lnTo>
                    <a:pt x="2554" y="3784"/>
                  </a:lnTo>
                  <a:lnTo>
                    <a:pt x="2466" y="3740"/>
                  </a:lnTo>
                  <a:lnTo>
                    <a:pt x="2382" y="3683"/>
                  </a:lnTo>
                  <a:lnTo>
                    <a:pt x="2307" y="3634"/>
                  </a:lnTo>
                  <a:lnTo>
                    <a:pt x="2232" y="3581"/>
                  </a:lnTo>
                  <a:lnTo>
                    <a:pt x="2148" y="3528"/>
                  </a:lnTo>
                  <a:lnTo>
                    <a:pt x="2055" y="3462"/>
                  </a:lnTo>
                  <a:lnTo>
                    <a:pt x="1972" y="3400"/>
                  </a:lnTo>
                  <a:lnTo>
                    <a:pt x="1891" y="3334"/>
                  </a:lnTo>
                  <a:lnTo>
                    <a:pt x="1821" y="3277"/>
                  </a:lnTo>
                  <a:lnTo>
                    <a:pt x="1697" y="3176"/>
                  </a:lnTo>
                  <a:lnTo>
                    <a:pt x="1587" y="3074"/>
                  </a:lnTo>
                  <a:lnTo>
                    <a:pt x="1477" y="2955"/>
                  </a:lnTo>
                  <a:lnTo>
                    <a:pt x="1358" y="2823"/>
                  </a:lnTo>
                  <a:lnTo>
                    <a:pt x="1278" y="2726"/>
                  </a:lnTo>
                  <a:lnTo>
                    <a:pt x="1190" y="2611"/>
                  </a:lnTo>
                  <a:lnTo>
                    <a:pt x="1093" y="2492"/>
                  </a:lnTo>
                  <a:lnTo>
                    <a:pt x="1009" y="2369"/>
                  </a:lnTo>
                  <a:lnTo>
                    <a:pt x="930" y="2241"/>
                  </a:lnTo>
                  <a:lnTo>
                    <a:pt x="833" y="2090"/>
                  </a:lnTo>
                  <a:lnTo>
                    <a:pt x="0" y="2602"/>
                  </a:lnTo>
                  <a:lnTo>
                    <a:pt x="815" y="0"/>
                  </a:lnTo>
                  <a:lnTo>
                    <a:pt x="3462" y="493"/>
                  </a:lnTo>
                  <a:lnTo>
                    <a:pt x="2571" y="1023"/>
                  </a:lnTo>
                  <a:lnTo>
                    <a:pt x="2646" y="1137"/>
                  </a:lnTo>
                  <a:lnTo>
                    <a:pt x="2726" y="1234"/>
                  </a:lnTo>
                  <a:lnTo>
                    <a:pt x="2805" y="1331"/>
                  </a:lnTo>
                  <a:lnTo>
                    <a:pt x="2884" y="1424"/>
                  </a:lnTo>
                  <a:lnTo>
                    <a:pt x="2951" y="1494"/>
                  </a:lnTo>
                  <a:lnTo>
                    <a:pt x="3021" y="1574"/>
                  </a:lnTo>
                  <a:lnTo>
                    <a:pt x="3101" y="1640"/>
                  </a:lnTo>
                  <a:lnTo>
                    <a:pt x="3189" y="1706"/>
                  </a:lnTo>
                  <a:lnTo>
                    <a:pt x="3295" y="1781"/>
                  </a:lnTo>
                  <a:lnTo>
                    <a:pt x="3387" y="1843"/>
                  </a:lnTo>
                  <a:lnTo>
                    <a:pt x="3462" y="1891"/>
                  </a:lnTo>
                  <a:lnTo>
                    <a:pt x="3572" y="1953"/>
                  </a:lnTo>
                  <a:lnTo>
                    <a:pt x="3669" y="1997"/>
                  </a:lnTo>
                  <a:lnTo>
                    <a:pt x="3753" y="2024"/>
                  </a:lnTo>
                  <a:lnTo>
                    <a:pt x="3841" y="2059"/>
                  </a:lnTo>
                  <a:lnTo>
                    <a:pt x="3969" y="2094"/>
                  </a:lnTo>
                  <a:lnTo>
                    <a:pt x="4097" y="2112"/>
                  </a:lnTo>
                  <a:lnTo>
                    <a:pt x="4225" y="2125"/>
                  </a:lnTo>
                  <a:lnTo>
                    <a:pt x="4419" y="2139"/>
                  </a:lnTo>
                  <a:lnTo>
                    <a:pt x="4662" y="2144"/>
                  </a:lnTo>
                  <a:lnTo>
                    <a:pt x="4851" y="2112"/>
                  </a:lnTo>
                  <a:lnTo>
                    <a:pt x="5023" y="2072"/>
                  </a:lnTo>
                  <a:lnTo>
                    <a:pt x="5222" y="2010"/>
                  </a:lnTo>
                  <a:lnTo>
                    <a:pt x="5402" y="1931"/>
                  </a:lnTo>
                  <a:lnTo>
                    <a:pt x="5579" y="1838"/>
                  </a:lnTo>
                  <a:lnTo>
                    <a:pt x="5738" y="1733"/>
                  </a:lnTo>
                  <a:lnTo>
                    <a:pt x="5893" y="1587"/>
                  </a:lnTo>
                  <a:lnTo>
                    <a:pt x="7727" y="2699"/>
                  </a:lnTo>
                  <a:lnTo>
                    <a:pt x="7652" y="2792"/>
                  </a:lnTo>
                  <a:lnTo>
                    <a:pt x="7547" y="2902"/>
                  </a:lnTo>
                  <a:lnTo>
                    <a:pt x="7458" y="2995"/>
                  </a:lnTo>
                  <a:lnTo>
                    <a:pt x="7370" y="3083"/>
                  </a:lnTo>
                  <a:lnTo>
                    <a:pt x="7282" y="3171"/>
                  </a:lnTo>
                  <a:lnTo>
                    <a:pt x="7172" y="3264"/>
                  </a:lnTo>
                  <a:lnTo>
                    <a:pt x="7075" y="3343"/>
                  </a:lnTo>
                  <a:lnTo>
                    <a:pt x="6978" y="3418"/>
                  </a:lnTo>
                  <a:lnTo>
                    <a:pt x="6867" y="3493"/>
                  </a:lnTo>
                  <a:lnTo>
                    <a:pt x="6762" y="3572"/>
                  </a:lnTo>
                  <a:lnTo>
                    <a:pt x="6651" y="3647"/>
                  </a:lnTo>
                  <a:lnTo>
                    <a:pt x="6550" y="3705"/>
                  </a:lnTo>
                  <a:lnTo>
                    <a:pt x="6449" y="3766"/>
                  </a:lnTo>
                  <a:lnTo>
                    <a:pt x="6351" y="3819"/>
                  </a:lnTo>
                  <a:lnTo>
                    <a:pt x="6215" y="3881"/>
                  </a:lnTo>
                  <a:lnTo>
                    <a:pt x="6091" y="3938"/>
                  </a:lnTo>
                  <a:lnTo>
                    <a:pt x="5950" y="3996"/>
                  </a:lnTo>
                  <a:lnTo>
                    <a:pt x="5844" y="4035"/>
                  </a:lnTo>
                  <a:lnTo>
                    <a:pt x="5742" y="4079"/>
                  </a:lnTo>
                  <a:lnTo>
                    <a:pt x="5623" y="4115"/>
                  </a:lnTo>
                  <a:lnTo>
                    <a:pt x="5508" y="4150"/>
                  </a:lnTo>
                  <a:lnTo>
                    <a:pt x="5394" y="4177"/>
                  </a:lnTo>
                  <a:lnTo>
                    <a:pt x="5257" y="4203"/>
                  </a:lnTo>
                  <a:lnTo>
                    <a:pt x="5125" y="4225"/>
                  </a:lnTo>
                  <a:lnTo>
                    <a:pt x="4988" y="4247"/>
                  </a:lnTo>
                  <a:lnTo>
                    <a:pt x="4847" y="4260"/>
                  </a:lnTo>
                  <a:lnTo>
                    <a:pt x="4741" y="4265"/>
                  </a:lnTo>
                  <a:lnTo>
                    <a:pt x="4595" y="4274"/>
                  </a:lnTo>
                  <a:lnTo>
                    <a:pt x="4454" y="4274"/>
                  </a:lnTo>
                  <a:lnTo>
                    <a:pt x="4335" y="4269"/>
                  </a:lnTo>
                  <a:lnTo>
                    <a:pt x="4212" y="4265"/>
                  </a:lnTo>
                  <a:lnTo>
                    <a:pt x="4075" y="4256"/>
                  </a:lnTo>
                  <a:lnTo>
                    <a:pt x="3952" y="4238"/>
                  </a:lnTo>
                  <a:lnTo>
                    <a:pt x="3846" y="4221"/>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304040" y="2311560"/>
              <a:ext cx="1406880" cy="2754720"/>
            </a:xfrm>
            <a:custGeom>
              <a:avLst/>
              <a:gdLst/>
              <a:ahLst/>
              <a:rect l="0" t="0" r="r" b="b"/>
              <a:pathLst>
                <a:path w="3908" h="7652">
                  <a:moveTo>
                    <a:pt x="0" y="0"/>
                  </a:moveTo>
                  <a:lnTo>
                    <a:pt x="83" y="13"/>
                  </a:lnTo>
                  <a:lnTo>
                    <a:pt x="167" y="26"/>
                  </a:lnTo>
                  <a:lnTo>
                    <a:pt x="282" y="57"/>
                  </a:lnTo>
                  <a:lnTo>
                    <a:pt x="366" y="74"/>
                  </a:lnTo>
                  <a:lnTo>
                    <a:pt x="454" y="101"/>
                  </a:lnTo>
                  <a:lnTo>
                    <a:pt x="537" y="132"/>
                  </a:lnTo>
                  <a:lnTo>
                    <a:pt x="626" y="154"/>
                  </a:lnTo>
                  <a:lnTo>
                    <a:pt x="709" y="180"/>
                  </a:lnTo>
                  <a:lnTo>
                    <a:pt x="798" y="220"/>
                  </a:lnTo>
                  <a:lnTo>
                    <a:pt x="903" y="260"/>
                  </a:lnTo>
                  <a:lnTo>
                    <a:pt x="992" y="304"/>
                  </a:lnTo>
                  <a:lnTo>
                    <a:pt x="1084" y="343"/>
                  </a:lnTo>
                  <a:lnTo>
                    <a:pt x="1181" y="392"/>
                  </a:lnTo>
                  <a:lnTo>
                    <a:pt x="1278" y="445"/>
                  </a:lnTo>
                  <a:lnTo>
                    <a:pt x="1367" y="489"/>
                  </a:lnTo>
                  <a:lnTo>
                    <a:pt x="1450" y="546"/>
                  </a:lnTo>
                  <a:lnTo>
                    <a:pt x="1525" y="595"/>
                  </a:lnTo>
                  <a:lnTo>
                    <a:pt x="1600" y="648"/>
                  </a:lnTo>
                  <a:lnTo>
                    <a:pt x="1684" y="701"/>
                  </a:lnTo>
                  <a:lnTo>
                    <a:pt x="1777" y="767"/>
                  </a:lnTo>
                  <a:lnTo>
                    <a:pt x="1860" y="837"/>
                  </a:lnTo>
                  <a:lnTo>
                    <a:pt x="1940" y="903"/>
                  </a:lnTo>
                  <a:lnTo>
                    <a:pt x="2020" y="956"/>
                  </a:lnTo>
                  <a:lnTo>
                    <a:pt x="2144" y="1067"/>
                  </a:lnTo>
                  <a:lnTo>
                    <a:pt x="2267" y="1190"/>
                  </a:lnTo>
                  <a:lnTo>
                    <a:pt x="2364" y="1287"/>
                  </a:lnTo>
                  <a:lnTo>
                    <a:pt x="2479" y="1419"/>
                  </a:lnTo>
                  <a:lnTo>
                    <a:pt x="2558" y="1521"/>
                  </a:lnTo>
                  <a:lnTo>
                    <a:pt x="2646" y="1631"/>
                  </a:lnTo>
                  <a:lnTo>
                    <a:pt x="2743" y="1759"/>
                  </a:lnTo>
                  <a:lnTo>
                    <a:pt x="2823" y="1874"/>
                  </a:lnTo>
                  <a:lnTo>
                    <a:pt x="2902" y="2011"/>
                  </a:lnTo>
                  <a:lnTo>
                    <a:pt x="2981" y="2144"/>
                  </a:lnTo>
                  <a:lnTo>
                    <a:pt x="3061" y="2285"/>
                  </a:lnTo>
                  <a:lnTo>
                    <a:pt x="3127" y="2404"/>
                  </a:lnTo>
                  <a:lnTo>
                    <a:pt x="3189" y="2554"/>
                  </a:lnTo>
                  <a:lnTo>
                    <a:pt x="3250" y="2699"/>
                  </a:lnTo>
                  <a:lnTo>
                    <a:pt x="3303" y="2849"/>
                  </a:lnTo>
                  <a:lnTo>
                    <a:pt x="3356" y="3012"/>
                  </a:lnTo>
                  <a:lnTo>
                    <a:pt x="3422" y="3215"/>
                  </a:lnTo>
                  <a:lnTo>
                    <a:pt x="3467" y="3400"/>
                  </a:lnTo>
                  <a:lnTo>
                    <a:pt x="3511" y="3590"/>
                  </a:lnTo>
                  <a:lnTo>
                    <a:pt x="3533" y="3780"/>
                  </a:lnTo>
                  <a:lnTo>
                    <a:pt x="3564" y="3996"/>
                  </a:lnTo>
                  <a:lnTo>
                    <a:pt x="3586" y="4265"/>
                  </a:lnTo>
                  <a:lnTo>
                    <a:pt x="3590" y="4481"/>
                  </a:lnTo>
                  <a:lnTo>
                    <a:pt x="3586" y="4692"/>
                  </a:lnTo>
                  <a:lnTo>
                    <a:pt x="3568" y="4891"/>
                  </a:lnTo>
                  <a:lnTo>
                    <a:pt x="3546" y="5081"/>
                  </a:lnTo>
                  <a:lnTo>
                    <a:pt x="3524" y="5275"/>
                  </a:lnTo>
                  <a:lnTo>
                    <a:pt x="3484" y="5477"/>
                  </a:lnTo>
                  <a:lnTo>
                    <a:pt x="3431" y="5693"/>
                  </a:lnTo>
                  <a:lnTo>
                    <a:pt x="3365" y="5911"/>
                  </a:lnTo>
                  <a:lnTo>
                    <a:pt x="3299" y="6118"/>
                  </a:lnTo>
                  <a:lnTo>
                    <a:pt x="3224" y="6321"/>
                  </a:lnTo>
                  <a:lnTo>
                    <a:pt x="3136" y="6515"/>
                  </a:lnTo>
                  <a:lnTo>
                    <a:pt x="3030" y="6704"/>
                  </a:lnTo>
                  <a:lnTo>
                    <a:pt x="3908" y="7233"/>
                  </a:lnTo>
                  <a:lnTo>
                    <a:pt x="1225" y="7652"/>
                  </a:lnTo>
                  <a:lnTo>
                    <a:pt x="242" y="5041"/>
                  </a:lnTo>
                  <a:lnTo>
                    <a:pt x="1269" y="5627"/>
                  </a:lnTo>
                  <a:lnTo>
                    <a:pt x="1371" y="5460"/>
                  </a:lnTo>
                  <a:lnTo>
                    <a:pt x="1433" y="5310"/>
                  </a:lnTo>
                  <a:lnTo>
                    <a:pt x="1490" y="5155"/>
                  </a:lnTo>
                  <a:lnTo>
                    <a:pt x="1530" y="5001"/>
                  </a:lnTo>
                  <a:lnTo>
                    <a:pt x="1556" y="4851"/>
                  </a:lnTo>
                  <a:lnTo>
                    <a:pt x="1565" y="4706"/>
                  </a:lnTo>
                  <a:lnTo>
                    <a:pt x="1578" y="4560"/>
                  </a:lnTo>
                  <a:lnTo>
                    <a:pt x="1578" y="4415"/>
                  </a:lnTo>
                  <a:lnTo>
                    <a:pt x="1569" y="4243"/>
                  </a:lnTo>
                  <a:lnTo>
                    <a:pt x="1552" y="4075"/>
                  </a:lnTo>
                  <a:lnTo>
                    <a:pt x="1516" y="3890"/>
                  </a:lnTo>
                  <a:lnTo>
                    <a:pt x="1477" y="3740"/>
                  </a:lnTo>
                  <a:lnTo>
                    <a:pt x="1415" y="3572"/>
                  </a:lnTo>
                  <a:lnTo>
                    <a:pt x="1362" y="3427"/>
                  </a:lnTo>
                  <a:lnTo>
                    <a:pt x="1287" y="3290"/>
                  </a:lnTo>
                  <a:lnTo>
                    <a:pt x="1225" y="3180"/>
                  </a:lnTo>
                  <a:lnTo>
                    <a:pt x="1164" y="3092"/>
                  </a:lnTo>
                  <a:lnTo>
                    <a:pt x="1102" y="3004"/>
                  </a:lnTo>
                  <a:lnTo>
                    <a:pt x="1031" y="2915"/>
                  </a:lnTo>
                  <a:lnTo>
                    <a:pt x="956" y="2818"/>
                  </a:lnTo>
                  <a:lnTo>
                    <a:pt x="890" y="2757"/>
                  </a:lnTo>
                  <a:lnTo>
                    <a:pt x="815" y="2673"/>
                  </a:lnTo>
                  <a:lnTo>
                    <a:pt x="740" y="2607"/>
                  </a:lnTo>
                  <a:lnTo>
                    <a:pt x="652" y="2536"/>
                  </a:lnTo>
                  <a:lnTo>
                    <a:pt x="546" y="2461"/>
                  </a:lnTo>
                  <a:lnTo>
                    <a:pt x="458" y="2399"/>
                  </a:lnTo>
                  <a:lnTo>
                    <a:pt x="383" y="2351"/>
                  </a:lnTo>
                  <a:lnTo>
                    <a:pt x="273" y="2289"/>
                  </a:lnTo>
                  <a:lnTo>
                    <a:pt x="167" y="2241"/>
                  </a:lnTo>
                  <a:lnTo>
                    <a:pt x="0" y="2188"/>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5" name=""/>
            <p:cNvSpPr/>
            <p:nvPr/>
          </p:nvSpPr>
          <p:spPr>
            <a:xfrm>
              <a:off x="5487840" y="1949400"/>
              <a:ext cx="2092680" cy="2492640"/>
            </a:xfrm>
            <a:custGeom>
              <a:avLst/>
              <a:gdLst/>
              <a:ahLst/>
              <a:rect l="0" t="0" r="r" b="b"/>
              <a:pathLst>
                <a:path w="5813" h="6924">
                  <a:moveTo>
                    <a:pt x="3599" y="1014"/>
                  </a:moveTo>
                  <a:lnTo>
                    <a:pt x="3519" y="1027"/>
                  </a:lnTo>
                  <a:lnTo>
                    <a:pt x="3414" y="1045"/>
                  </a:lnTo>
                  <a:lnTo>
                    <a:pt x="3308" y="1075"/>
                  </a:lnTo>
                  <a:lnTo>
                    <a:pt x="3233" y="1093"/>
                  </a:lnTo>
                  <a:lnTo>
                    <a:pt x="3145" y="1115"/>
                  </a:lnTo>
                  <a:lnTo>
                    <a:pt x="3061" y="1146"/>
                  </a:lnTo>
                  <a:lnTo>
                    <a:pt x="2973" y="1172"/>
                  </a:lnTo>
                  <a:lnTo>
                    <a:pt x="2892" y="1195"/>
                  </a:lnTo>
                  <a:lnTo>
                    <a:pt x="2800" y="1234"/>
                  </a:lnTo>
                  <a:lnTo>
                    <a:pt x="2694" y="1278"/>
                  </a:lnTo>
                  <a:lnTo>
                    <a:pt x="2601" y="1318"/>
                  </a:lnTo>
                  <a:lnTo>
                    <a:pt x="2513" y="1358"/>
                  </a:lnTo>
                  <a:lnTo>
                    <a:pt x="2412" y="1406"/>
                  </a:lnTo>
                  <a:lnTo>
                    <a:pt x="2315" y="1459"/>
                  </a:lnTo>
                  <a:lnTo>
                    <a:pt x="2226" y="1503"/>
                  </a:lnTo>
                  <a:lnTo>
                    <a:pt x="2138" y="1561"/>
                  </a:lnTo>
                  <a:lnTo>
                    <a:pt x="2063" y="1609"/>
                  </a:lnTo>
                  <a:lnTo>
                    <a:pt x="1988" y="1662"/>
                  </a:lnTo>
                  <a:lnTo>
                    <a:pt x="1905" y="1715"/>
                  </a:lnTo>
                  <a:lnTo>
                    <a:pt x="1812" y="1781"/>
                  </a:lnTo>
                  <a:lnTo>
                    <a:pt x="1728" y="1847"/>
                  </a:lnTo>
                  <a:lnTo>
                    <a:pt x="1649" y="1913"/>
                  </a:lnTo>
                  <a:lnTo>
                    <a:pt x="1574" y="1971"/>
                  </a:lnTo>
                  <a:lnTo>
                    <a:pt x="1455" y="2081"/>
                  </a:lnTo>
                  <a:lnTo>
                    <a:pt x="1331" y="2200"/>
                  </a:lnTo>
                  <a:lnTo>
                    <a:pt x="1234" y="2297"/>
                  </a:lnTo>
                  <a:lnTo>
                    <a:pt x="1120" y="2429"/>
                  </a:lnTo>
                  <a:lnTo>
                    <a:pt x="1040" y="2531"/>
                  </a:lnTo>
                  <a:lnTo>
                    <a:pt x="952" y="2641"/>
                  </a:lnTo>
                  <a:lnTo>
                    <a:pt x="855" y="2769"/>
                  </a:lnTo>
                  <a:lnTo>
                    <a:pt x="776" y="2888"/>
                  </a:lnTo>
                  <a:lnTo>
                    <a:pt x="692" y="3025"/>
                  </a:lnTo>
                  <a:lnTo>
                    <a:pt x="608" y="3157"/>
                  </a:lnTo>
                  <a:lnTo>
                    <a:pt x="537" y="3294"/>
                  </a:lnTo>
                  <a:lnTo>
                    <a:pt x="467" y="3417"/>
                  </a:lnTo>
                  <a:lnTo>
                    <a:pt x="401" y="3568"/>
                  </a:lnTo>
                  <a:lnTo>
                    <a:pt x="339" y="3713"/>
                  </a:lnTo>
                  <a:lnTo>
                    <a:pt x="286" y="3863"/>
                  </a:lnTo>
                  <a:lnTo>
                    <a:pt x="233" y="4027"/>
                  </a:lnTo>
                  <a:lnTo>
                    <a:pt x="167" y="4225"/>
                  </a:lnTo>
                  <a:lnTo>
                    <a:pt x="123" y="4415"/>
                  </a:lnTo>
                  <a:lnTo>
                    <a:pt x="79" y="4604"/>
                  </a:lnTo>
                  <a:lnTo>
                    <a:pt x="57" y="4794"/>
                  </a:lnTo>
                  <a:lnTo>
                    <a:pt x="26" y="5006"/>
                  </a:lnTo>
                  <a:lnTo>
                    <a:pt x="4" y="5279"/>
                  </a:lnTo>
                  <a:lnTo>
                    <a:pt x="0" y="5491"/>
                  </a:lnTo>
                  <a:lnTo>
                    <a:pt x="4" y="5698"/>
                  </a:lnTo>
                  <a:lnTo>
                    <a:pt x="22" y="5901"/>
                  </a:lnTo>
                  <a:lnTo>
                    <a:pt x="44" y="6086"/>
                  </a:lnTo>
                  <a:lnTo>
                    <a:pt x="66" y="6284"/>
                  </a:lnTo>
                  <a:lnTo>
                    <a:pt x="105" y="6483"/>
                  </a:lnTo>
                  <a:lnTo>
                    <a:pt x="158" y="6699"/>
                  </a:lnTo>
                  <a:lnTo>
                    <a:pt x="224" y="6924"/>
                  </a:lnTo>
                  <a:lnTo>
                    <a:pt x="604" y="5671"/>
                  </a:lnTo>
                  <a:lnTo>
                    <a:pt x="2054" y="5932"/>
                  </a:lnTo>
                  <a:lnTo>
                    <a:pt x="2024" y="5711"/>
                  </a:lnTo>
                  <a:lnTo>
                    <a:pt x="2010" y="5574"/>
                  </a:lnTo>
                  <a:lnTo>
                    <a:pt x="2010" y="5424"/>
                  </a:lnTo>
                  <a:lnTo>
                    <a:pt x="2019" y="5248"/>
                  </a:lnTo>
                  <a:lnTo>
                    <a:pt x="2041" y="5085"/>
                  </a:lnTo>
                  <a:lnTo>
                    <a:pt x="2072" y="4904"/>
                  </a:lnTo>
                  <a:lnTo>
                    <a:pt x="2112" y="4754"/>
                  </a:lnTo>
                  <a:lnTo>
                    <a:pt x="2173" y="4587"/>
                  </a:lnTo>
                  <a:lnTo>
                    <a:pt x="2235" y="4441"/>
                  </a:lnTo>
                  <a:lnTo>
                    <a:pt x="2306" y="4300"/>
                  </a:lnTo>
                  <a:lnTo>
                    <a:pt x="2368" y="4194"/>
                  </a:lnTo>
                  <a:lnTo>
                    <a:pt x="2429" y="4106"/>
                  </a:lnTo>
                  <a:lnTo>
                    <a:pt x="2491" y="4018"/>
                  </a:lnTo>
                  <a:lnTo>
                    <a:pt x="2562" y="3925"/>
                  </a:lnTo>
                  <a:lnTo>
                    <a:pt x="2641" y="3833"/>
                  </a:lnTo>
                  <a:lnTo>
                    <a:pt x="2707" y="3766"/>
                  </a:lnTo>
                  <a:lnTo>
                    <a:pt x="2782" y="3687"/>
                  </a:lnTo>
                  <a:lnTo>
                    <a:pt x="2857" y="3621"/>
                  </a:lnTo>
                  <a:lnTo>
                    <a:pt x="2946" y="3550"/>
                  </a:lnTo>
                  <a:lnTo>
                    <a:pt x="3052" y="3480"/>
                  </a:lnTo>
                  <a:lnTo>
                    <a:pt x="3140" y="3413"/>
                  </a:lnTo>
                  <a:lnTo>
                    <a:pt x="3215" y="3369"/>
                  </a:lnTo>
                  <a:lnTo>
                    <a:pt x="3325" y="3298"/>
                  </a:lnTo>
                  <a:lnTo>
                    <a:pt x="3422" y="3263"/>
                  </a:lnTo>
                  <a:lnTo>
                    <a:pt x="3506" y="3232"/>
                  </a:lnTo>
                  <a:lnTo>
                    <a:pt x="3594" y="3197"/>
                  </a:lnTo>
                  <a:lnTo>
                    <a:pt x="3731" y="3166"/>
                  </a:lnTo>
                  <a:lnTo>
                    <a:pt x="3855" y="3139"/>
                  </a:lnTo>
                  <a:lnTo>
                    <a:pt x="3982" y="3126"/>
                  </a:lnTo>
                  <a:lnTo>
                    <a:pt x="4110" y="3117"/>
                  </a:lnTo>
                  <a:lnTo>
                    <a:pt x="4181" y="3113"/>
                  </a:lnTo>
                  <a:lnTo>
                    <a:pt x="4181" y="4243"/>
                  </a:lnTo>
                  <a:lnTo>
                    <a:pt x="5813" y="2151"/>
                  </a:lnTo>
                  <a:lnTo>
                    <a:pt x="4185" y="0"/>
                  </a:lnTo>
                  <a:lnTo>
                    <a:pt x="4185" y="965"/>
                  </a:lnTo>
                  <a:lnTo>
                    <a:pt x="4097" y="970"/>
                  </a:lnTo>
                  <a:lnTo>
                    <a:pt x="3969" y="978"/>
                  </a:lnTo>
                  <a:lnTo>
                    <a:pt x="3837" y="987"/>
                  </a:lnTo>
                  <a:lnTo>
                    <a:pt x="3709" y="1001"/>
                  </a:lnTo>
                  <a:lnTo>
                    <a:pt x="3599" y="101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266" name="" descr=""/>
          <p:cNvPicPr/>
          <p:nvPr/>
        </p:nvPicPr>
        <p:blipFill>
          <a:blip r:embed="rId1"/>
          <a:stretch/>
        </p:blipFill>
        <p:spPr>
          <a:xfrm>
            <a:off x="1189080" y="2016000"/>
            <a:ext cx="3246480" cy="3392640"/>
          </a:xfrm>
          <a:prstGeom prst="rect">
            <a:avLst/>
          </a:prstGeom>
          <a:ln w="0">
            <a:noFill/>
          </a:ln>
        </p:spPr>
      </p:pic>
      <p:sp>
        <p:nvSpPr>
          <p:cNvPr id="267" name=""/>
          <p:cNvSpPr txBox="1"/>
          <p:nvPr/>
        </p:nvSpPr>
        <p:spPr>
          <a:xfrm>
            <a:off x="4476600" y="3641760"/>
            <a:ext cx="94284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Create</a:t>
            </a:r>
            <a:endParaRPr b="0" lang="en-US" sz="2000" spc="-1" strike="noStrike">
              <a:solidFill>
                <a:srgbClr val="000000"/>
              </a:solidFill>
              <a:latin typeface="Arial"/>
            </a:endParaRPr>
          </a:p>
        </p:txBody>
      </p:sp>
      <p:sp>
        <p:nvSpPr>
          <p:cNvPr id="268" name=""/>
          <p:cNvSpPr txBox="1"/>
          <p:nvPr/>
        </p:nvSpPr>
        <p:spPr>
          <a:xfrm>
            <a:off x="2247840" y="3456000"/>
            <a:ext cx="1127160" cy="69840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Arial"/>
                <a:ea typeface="Arial"/>
              </a:rPr>
              <a:t>Produc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Arial"/>
              </a:rPr>
              <a:t>Process</a:t>
            </a:r>
            <a:endParaRPr b="0" lang="en-US" sz="2000" spc="-1" strike="noStrike">
              <a:solidFill>
                <a:srgbClr val="000000"/>
              </a:solidFill>
              <a:latin typeface="Arial"/>
            </a:endParaRPr>
          </a:p>
        </p:txBody>
      </p:sp>
      <p:sp>
        <p:nvSpPr>
          <p:cNvPr id="269" name=""/>
          <p:cNvSpPr txBox="1"/>
          <p:nvPr/>
        </p:nvSpPr>
        <p:spPr>
          <a:xfrm>
            <a:off x="1238400" y="1290600"/>
            <a:ext cx="6956280" cy="57636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Innovation Cycle                  KM Cycle</a:t>
            </a:r>
            <a:endParaRPr b="0" lang="en-US" sz="3200" spc="-1" strike="noStrike">
              <a:solidFill>
                <a:srgbClr val="000000"/>
              </a:solidFill>
              <a:latin typeface="Arial"/>
            </a:endParaRPr>
          </a:p>
        </p:txBody>
      </p:sp>
      <p:sp>
        <p:nvSpPr>
          <p:cNvPr id="270" name=""/>
          <p:cNvSpPr txBox="1"/>
          <p:nvPr/>
        </p:nvSpPr>
        <p:spPr>
          <a:xfrm>
            <a:off x="6400800" y="3522600"/>
            <a:ext cx="1438200" cy="69840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Arial"/>
                <a:ea typeface="Arial"/>
              </a:rPr>
              <a:t>Knowledg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Arial"/>
              </a:rPr>
              <a:t>Repository</a:t>
            </a:r>
            <a:endParaRPr b="0" lang="en-US" sz="2000" spc="-1" strike="noStrike">
              <a:solidFill>
                <a:srgbClr val="000000"/>
              </a:solidFill>
              <a:latin typeface="Arial"/>
            </a:endParaRPr>
          </a:p>
        </p:txBody>
      </p:sp>
      <p:sp>
        <p:nvSpPr>
          <p:cNvPr id="271" name=""/>
          <p:cNvSpPr txBox="1"/>
          <p:nvPr/>
        </p:nvSpPr>
        <p:spPr>
          <a:xfrm>
            <a:off x="1747800" y="1998720"/>
            <a:ext cx="90180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Codify</a:t>
            </a:r>
            <a:endParaRPr b="0" lang="en-US" sz="2000" spc="-1" strike="noStrike">
              <a:solidFill>
                <a:srgbClr val="000000"/>
              </a:solidFill>
              <a:latin typeface="Arial"/>
            </a:endParaRPr>
          </a:p>
        </p:txBody>
      </p:sp>
      <p:sp>
        <p:nvSpPr>
          <p:cNvPr id="272" name=""/>
          <p:cNvSpPr txBox="1"/>
          <p:nvPr/>
        </p:nvSpPr>
        <p:spPr>
          <a:xfrm>
            <a:off x="404640" y="3184560"/>
            <a:ext cx="98568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Embed</a:t>
            </a:r>
            <a:endParaRPr b="0" lang="en-US" sz="2000" spc="-1" strike="noStrike">
              <a:solidFill>
                <a:srgbClr val="000000"/>
              </a:solidFill>
              <a:latin typeface="Arial"/>
            </a:endParaRPr>
          </a:p>
        </p:txBody>
      </p:sp>
      <p:sp>
        <p:nvSpPr>
          <p:cNvPr id="273" name=""/>
          <p:cNvSpPr txBox="1"/>
          <p:nvPr/>
        </p:nvSpPr>
        <p:spPr>
          <a:xfrm>
            <a:off x="1604880" y="5356080"/>
            <a:ext cx="97164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Diffuse</a:t>
            </a:r>
            <a:endParaRPr b="0" lang="en-US" sz="2000" spc="-1" strike="noStrike">
              <a:solidFill>
                <a:srgbClr val="000000"/>
              </a:solidFill>
              <a:latin typeface="Arial"/>
            </a:endParaRPr>
          </a:p>
        </p:txBody>
      </p:sp>
      <p:sp>
        <p:nvSpPr>
          <p:cNvPr id="274" name=""/>
          <p:cNvSpPr txBox="1"/>
          <p:nvPr/>
        </p:nvSpPr>
        <p:spPr>
          <a:xfrm>
            <a:off x="5091120" y="2370240"/>
            <a:ext cx="100008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Identify</a:t>
            </a:r>
            <a:endParaRPr b="0" lang="en-US" sz="2000" spc="-1" strike="noStrike">
              <a:solidFill>
                <a:srgbClr val="000000"/>
              </a:solidFill>
              <a:latin typeface="Arial"/>
            </a:endParaRPr>
          </a:p>
        </p:txBody>
      </p:sp>
      <p:sp>
        <p:nvSpPr>
          <p:cNvPr id="275" name=""/>
          <p:cNvSpPr txBox="1"/>
          <p:nvPr/>
        </p:nvSpPr>
        <p:spPr>
          <a:xfrm>
            <a:off x="8362800" y="2541600"/>
            <a:ext cx="106992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Classify</a:t>
            </a:r>
            <a:endParaRPr b="0" lang="en-US" sz="2000" spc="-1" strike="noStrike">
              <a:solidFill>
                <a:srgbClr val="000000"/>
              </a:solidFill>
              <a:latin typeface="Arial"/>
            </a:endParaRPr>
          </a:p>
        </p:txBody>
      </p:sp>
      <p:sp>
        <p:nvSpPr>
          <p:cNvPr id="276" name=""/>
          <p:cNvSpPr txBox="1"/>
          <p:nvPr/>
        </p:nvSpPr>
        <p:spPr>
          <a:xfrm>
            <a:off x="7077240" y="5427720"/>
            <a:ext cx="100008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Access</a:t>
            </a:r>
            <a:endParaRPr b="0" lang="en-US" sz="2000" spc="-1" strike="noStrike">
              <a:solidFill>
                <a:srgbClr val="000000"/>
              </a:solidFill>
              <a:latin typeface="Arial"/>
            </a:endParaRPr>
          </a:p>
        </p:txBody>
      </p:sp>
      <p:sp>
        <p:nvSpPr>
          <p:cNvPr id="277" name=""/>
          <p:cNvSpPr txBox="1"/>
          <p:nvPr/>
        </p:nvSpPr>
        <p:spPr>
          <a:xfrm>
            <a:off x="4933800" y="5141880"/>
            <a:ext cx="146520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Use/Exploit</a:t>
            </a:r>
            <a:endParaRPr b="0" lang="en-US" sz="2000" spc="-1" strike="noStrike">
              <a:solidFill>
                <a:srgbClr val="000000"/>
              </a:solidFill>
              <a:latin typeface="Arial"/>
            </a:endParaRPr>
          </a:p>
        </p:txBody>
      </p:sp>
      <p:sp>
        <p:nvSpPr>
          <p:cNvPr id="278" name=""/>
          <p:cNvSpPr txBox="1"/>
          <p:nvPr/>
        </p:nvSpPr>
        <p:spPr>
          <a:xfrm>
            <a:off x="7237440" y="1841400"/>
            <a:ext cx="95724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Collect</a:t>
            </a:r>
            <a:endParaRPr b="0" lang="en-US" sz="2000" spc="-1" strike="noStrike">
              <a:solidFill>
                <a:srgbClr val="000000"/>
              </a:solidFill>
              <a:latin typeface="Arial"/>
            </a:endParaRPr>
          </a:p>
        </p:txBody>
      </p:sp>
      <p:sp>
        <p:nvSpPr>
          <p:cNvPr id="279" name=""/>
          <p:cNvSpPr txBox="1"/>
          <p:nvPr/>
        </p:nvSpPr>
        <p:spPr>
          <a:xfrm>
            <a:off x="8548560" y="3441600"/>
            <a:ext cx="1282680" cy="69840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Organize/</a:t>
            </a:r>
            <a:endParaRPr b="0" lang="en-US" sz="2000" spc="-1" strike="noStrike">
              <a:solidFill>
                <a:srgbClr val="000000"/>
              </a:solidFill>
              <a:latin typeface="Arial"/>
            </a:endParaRPr>
          </a:p>
          <a:p>
            <a:pPr>
              <a:lnSpc>
                <a:spcPct val="100000"/>
              </a:lnSpc>
            </a:pPr>
            <a:r>
              <a:rPr b="0" i="1" lang="en-US" sz="2000" spc="-1" strike="noStrike">
                <a:solidFill>
                  <a:srgbClr val="000000"/>
                </a:solidFill>
                <a:latin typeface="Arial"/>
                <a:ea typeface="Arial"/>
              </a:rPr>
              <a:t>Store</a:t>
            </a:r>
            <a:endParaRPr b="0" lang="en-US" sz="2000" spc="-1" strike="noStrike">
              <a:solidFill>
                <a:srgbClr val="000000"/>
              </a:solidFill>
              <a:latin typeface="Arial"/>
            </a:endParaRPr>
          </a:p>
        </p:txBody>
      </p:sp>
      <p:sp>
        <p:nvSpPr>
          <p:cNvPr id="280" name=""/>
          <p:cNvSpPr txBox="1"/>
          <p:nvPr/>
        </p:nvSpPr>
        <p:spPr>
          <a:xfrm>
            <a:off x="8197920" y="4927680"/>
            <a:ext cx="1577880" cy="69840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Share/</a:t>
            </a:r>
            <a:endParaRPr b="0" lang="en-US" sz="2000" spc="-1" strike="noStrike">
              <a:solidFill>
                <a:srgbClr val="000000"/>
              </a:solidFill>
              <a:latin typeface="Arial"/>
            </a:endParaRPr>
          </a:p>
          <a:p>
            <a:pPr>
              <a:lnSpc>
                <a:spcPct val="100000"/>
              </a:lnSpc>
            </a:pPr>
            <a:r>
              <a:rPr b="0" i="1" lang="en-US" sz="2000" spc="-1" strike="noStrike">
                <a:solidFill>
                  <a:srgbClr val="000000"/>
                </a:solidFill>
                <a:latin typeface="Arial"/>
                <a:ea typeface="Arial"/>
              </a:rPr>
              <a:t>Dissemin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81"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br>
              <a:rPr sz="3600"/>
            </a:br>
            <a:r>
              <a:rPr b="1" lang="en-US" sz="3600" spc="-1" strike="noStrike">
                <a:solidFill>
                  <a:srgbClr val="000000"/>
                </a:solidFill>
                <a:latin typeface="Arial"/>
                <a:ea typeface="Arial"/>
              </a:rPr>
              <a:t>Knowledge Repositories</a:t>
            </a:r>
            <a:endParaRPr b="0" lang="en-US" sz="3600" spc="-1" strike="noStrike">
              <a:solidFill>
                <a:srgbClr val="000000"/>
              </a:solidFill>
              <a:latin typeface="Arial"/>
            </a:endParaRPr>
          </a:p>
        </p:txBody>
      </p:sp>
      <p:sp>
        <p:nvSpPr>
          <p:cNvPr id="282" name=""/>
          <p:cNvSpPr txBox="1"/>
          <p:nvPr/>
        </p:nvSpPr>
        <p:spPr>
          <a:xfrm>
            <a:off x="452520" y="1533600"/>
            <a:ext cx="89154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More contextual information - </a:t>
            </a:r>
            <a:r>
              <a:rPr b="0" lang="en-US" sz="2400" spc="-1" strike="noStrike">
                <a:solidFill>
                  <a:srgbClr val="000000"/>
                </a:solidFill>
                <a:latin typeface="Arial"/>
                <a:ea typeface="Arial"/>
              </a:rPr>
              <a:t>why, where, how etc.</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Pointers to experts/expertise </a:t>
            </a:r>
            <a:r>
              <a:rPr b="0" lang="en-US" sz="2400" spc="-1" strike="noStrike">
                <a:solidFill>
                  <a:srgbClr val="000000"/>
                </a:solidFill>
                <a:latin typeface="Arial"/>
                <a:ea typeface="Arial"/>
              </a:rPr>
              <a:t>- useful directories</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Multimedia - </a:t>
            </a:r>
            <a:r>
              <a:rPr b="0" lang="en-US" sz="2400" spc="-1" strike="noStrike">
                <a:solidFill>
                  <a:srgbClr val="000000"/>
                </a:solidFill>
                <a:latin typeface="Arial"/>
                <a:ea typeface="Arial"/>
              </a:rPr>
              <a:t>video, sound clips, desk-top conferencing</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uthor(ity)/expert access - </a:t>
            </a:r>
            <a:r>
              <a:rPr b="0" lang="en-US" sz="2400" spc="-1" strike="noStrike">
                <a:solidFill>
                  <a:srgbClr val="000000"/>
                </a:solidFill>
                <a:latin typeface="Arial"/>
                <a:ea typeface="Arial"/>
              </a:rPr>
              <a:t>click for conversation</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Build Knowledge Communities - </a:t>
            </a:r>
            <a:r>
              <a:rPr b="0" lang="en-US" sz="2400" spc="-1" strike="noStrike">
                <a:solidFill>
                  <a:srgbClr val="000000"/>
                </a:solidFill>
                <a:latin typeface="Arial"/>
                <a:ea typeface="Arial"/>
              </a:rPr>
              <a:t>discussion groups, forums</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dd the human interface - </a:t>
            </a:r>
            <a:r>
              <a:rPr b="0" lang="en-US" sz="2400" spc="-1" strike="noStrike">
                <a:solidFill>
                  <a:srgbClr val="000000"/>
                </a:solidFill>
                <a:latin typeface="Arial"/>
                <a:ea typeface="Arial"/>
              </a:rPr>
              <a:t>people-to-people as well as people-to-comp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83"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nowledge Centres</a:t>
            </a:r>
            <a:endParaRPr b="0" lang="en-US" sz="3600" spc="-1" strike="noStrike">
              <a:solidFill>
                <a:srgbClr val="000000"/>
              </a:solidFill>
              <a:latin typeface="Arial"/>
            </a:endParaRPr>
          </a:p>
        </p:txBody>
      </p:sp>
      <p:sp>
        <p:nvSpPr>
          <p:cNvPr id="284" name=""/>
          <p:cNvSpPr txBox="1"/>
          <p:nvPr/>
        </p:nvSpPr>
        <p:spPr>
          <a:xfrm>
            <a:off x="438120" y="1461960"/>
            <a:ext cx="918684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Updated flavour of corporate library</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Hubs of knowledge - in and out</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s sources/experts - internal and external</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atalogues and indexes for efficient retrieval</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Maintains and sustains the knowledge bank</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One stop shop for multiple needs </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dvisory service - knows relevance to busines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Librarians and second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85"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nefits of Knowledge Centres</a:t>
            </a:r>
            <a:endParaRPr b="0" lang="en-US" sz="3600" spc="-1" strike="noStrike">
              <a:solidFill>
                <a:srgbClr val="000000"/>
              </a:solidFill>
              <a:latin typeface="Arial"/>
            </a:endParaRPr>
          </a:p>
        </p:txBody>
      </p:sp>
      <p:sp>
        <p:nvSpPr>
          <p:cNvPr id="286" name=""/>
          <p:cNvSpPr txBox="1"/>
          <p:nvPr/>
        </p:nvSpPr>
        <p:spPr>
          <a:xfrm>
            <a:off x="195120" y="1419120"/>
            <a:ext cx="952992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Economies of scale - sourcing discount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Saves time of professionals (8:1 faster searches) </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voids duplication - source once, use many time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ritical mass of library expertis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Resilience - continuity of servic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onnects people - user/supplier; peer group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Selective dissemination - focused distribution</a:t>
            </a: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000000"/>
                </a:solidFill>
                <a:latin typeface="Arial"/>
                <a:ea typeface="Arial"/>
              </a:rPr>
              <a:t>Challenges - user vs. centre; automated vs. hum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87"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ommunities of Practice</a:t>
            </a:r>
            <a:endParaRPr b="0" lang="en-US" sz="3600" spc="-1" strike="noStrike">
              <a:solidFill>
                <a:srgbClr val="000000"/>
              </a:solidFill>
              <a:latin typeface="Arial"/>
            </a:endParaRPr>
          </a:p>
        </p:txBody>
      </p:sp>
      <p:sp>
        <p:nvSpPr>
          <p:cNvPr id="288" name=""/>
          <p:cNvSpPr txBox="1"/>
          <p:nvPr/>
        </p:nvSpPr>
        <p:spPr>
          <a:xfrm>
            <a:off x="409680" y="1433520"/>
            <a:ext cx="89154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t>
            </a:r>
            <a:r>
              <a:rPr b="0" lang="en-US" sz="3200" spc="-1" strike="noStrike">
                <a:solidFill>
                  <a:srgbClr val="000000"/>
                </a:solidFill>
                <a:latin typeface="Arial"/>
                <a:ea typeface="Arial"/>
              </a:rPr>
              <a:t>Peers in the execution of real work”</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Informal network - common interests/goal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Use bulletin boards, FTF</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Need for good conference moderation</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Ecology - social + psychological</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Personal mentoring/mutual support</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Hands-off management: nurture and support</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Trust is fundament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89"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me Cases</a:t>
            </a:r>
            <a:endParaRPr b="0" lang="en-US" sz="3600" spc="-1" strike="noStrike">
              <a:solidFill>
                <a:srgbClr val="000000"/>
              </a:solidFill>
              <a:latin typeface="Arial"/>
            </a:endParaRPr>
          </a:p>
        </p:txBody>
      </p:sp>
      <p:sp>
        <p:nvSpPr>
          <p:cNvPr id="290" name=""/>
          <p:cNvSpPr txBox="1"/>
          <p:nvPr/>
        </p:nvSpPr>
        <p:spPr>
          <a:xfrm>
            <a:off x="303120" y="1447920"/>
            <a:ext cx="918684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reate/discover - 3M, Glaxo Wellcome </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odify - BHA, Standard Life,PcW, </a:t>
            </a:r>
            <a:r>
              <a:rPr b="0" lang="en-US" sz="3200" spc="-1" strike="noStrike">
                <a:solidFill>
                  <a:srgbClr val="063de8"/>
                </a:solidFill>
                <a:latin typeface="Arial"/>
                <a:ea typeface="Arial"/>
              </a:rPr>
              <a:t>Teltech</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Diffuse - H-P, Thos. Miller, Rover, BP, </a:t>
            </a:r>
            <a:r>
              <a:rPr b="0" lang="en-US" sz="3200" spc="-1" strike="noStrike">
                <a:solidFill>
                  <a:srgbClr val="063de8"/>
                </a:solidFill>
                <a:latin typeface="Arial"/>
                <a:ea typeface="Arial"/>
              </a:rPr>
              <a:t>TI</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Use - </a:t>
            </a:r>
            <a:r>
              <a:rPr b="0" lang="en-US" sz="3200" spc="-1" strike="noStrike">
                <a:solidFill>
                  <a:srgbClr val="063de8"/>
                </a:solidFill>
                <a:latin typeface="Arial"/>
                <a:ea typeface="Arial"/>
              </a:rPr>
              <a:t>Buckman</a:t>
            </a:r>
            <a:r>
              <a:rPr b="0" lang="en-US" sz="3200" spc="-1" strike="noStrike">
                <a:solidFill>
                  <a:srgbClr val="000000"/>
                </a:solidFill>
                <a:latin typeface="Arial"/>
                <a:ea typeface="Arial"/>
              </a:rPr>
              <a:t>, Steelcase, PW, Andersen etc.</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Process/culture - Cigna, Analog</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onversion - Monsanto</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Measure/exploit - Skandia, D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62"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Presentation Knowledge Map</a:t>
            </a:r>
            <a:endParaRPr b="0" lang="en-US" sz="3600" spc="-1" strike="noStrike">
              <a:solidFill>
                <a:srgbClr val="000000"/>
              </a:solidFill>
              <a:latin typeface="Arial"/>
            </a:endParaRPr>
          </a:p>
        </p:txBody>
      </p:sp>
      <p:sp>
        <p:nvSpPr>
          <p:cNvPr id="63" name=""/>
          <p:cNvSpPr/>
          <p:nvPr/>
        </p:nvSpPr>
        <p:spPr>
          <a:xfrm>
            <a:off x="3352680" y="2957400"/>
            <a:ext cx="2514600" cy="10429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4" name=""/>
          <p:cNvSpPr txBox="1"/>
          <p:nvPr/>
        </p:nvSpPr>
        <p:spPr>
          <a:xfrm>
            <a:off x="2033640" y="4510080"/>
            <a:ext cx="8031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KM</a:t>
            </a:r>
            <a:endParaRPr b="0" lang="en-US" sz="2400" spc="-1" strike="noStrike">
              <a:solidFill>
                <a:srgbClr val="000000"/>
              </a:solidFill>
              <a:latin typeface="Arial"/>
            </a:endParaRPr>
          </a:p>
        </p:txBody>
      </p:sp>
      <p:sp>
        <p:nvSpPr>
          <p:cNvPr id="65" name=""/>
          <p:cNvSpPr/>
          <p:nvPr/>
        </p:nvSpPr>
        <p:spPr>
          <a:xfrm>
            <a:off x="1938240" y="4414680"/>
            <a:ext cx="814320" cy="728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66" name="" descr=""/>
          <p:cNvPicPr/>
          <p:nvPr/>
        </p:nvPicPr>
        <p:blipFill>
          <a:blip r:embed="rId1"/>
          <a:stretch/>
        </p:blipFill>
        <p:spPr>
          <a:xfrm>
            <a:off x="2673360" y="1401840"/>
            <a:ext cx="1006560" cy="853920"/>
          </a:xfrm>
          <a:prstGeom prst="rect">
            <a:avLst/>
          </a:prstGeom>
          <a:ln w="0">
            <a:noFill/>
          </a:ln>
        </p:spPr>
      </p:pic>
      <p:sp>
        <p:nvSpPr>
          <p:cNvPr id="67" name=""/>
          <p:cNvSpPr txBox="1"/>
          <p:nvPr/>
        </p:nvSpPr>
        <p:spPr>
          <a:xfrm>
            <a:off x="3591000" y="3095640"/>
            <a:ext cx="2044800" cy="819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Knowledg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anagement</a:t>
            </a:r>
            <a:endParaRPr b="0" lang="en-US" sz="2400" spc="-1" strike="noStrike">
              <a:solidFill>
                <a:srgbClr val="000000"/>
              </a:solidFill>
              <a:latin typeface="Arial"/>
            </a:endParaRPr>
          </a:p>
        </p:txBody>
      </p:sp>
      <p:sp>
        <p:nvSpPr>
          <p:cNvPr id="68" name=""/>
          <p:cNvSpPr/>
          <p:nvPr/>
        </p:nvSpPr>
        <p:spPr>
          <a:xfrm>
            <a:off x="5761080" y="3708360"/>
            <a:ext cx="1143000" cy="2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4889520" y="4008600"/>
            <a:ext cx="514440" cy="728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flipH="1">
            <a:off x="3933720" y="3951360"/>
            <a:ext cx="254160" cy="728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txBox="1"/>
          <p:nvPr/>
        </p:nvSpPr>
        <p:spPr>
          <a:xfrm>
            <a:off x="390600" y="4441680"/>
            <a:ext cx="1450800" cy="6984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Cases and</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Arial"/>
                <a:ea typeface="Arial"/>
              </a:rPr>
              <a:t>Practice</a:t>
            </a:r>
            <a:endParaRPr b="0" lang="en-US" sz="2000" spc="-1" strike="noStrike">
              <a:solidFill>
                <a:srgbClr val="000000"/>
              </a:solidFill>
              <a:latin typeface="Arial"/>
            </a:endParaRPr>
          </a:p>
        </p:txBody>
      </p:sp>
      <p:sp>
        <p:nvSpPr>
          <p:cNvPr id="72" name=""/>
          <p:cNvSpPr/>
          <p:nvPr/>
        </p:nvSpPr>
        <p:spPr>
          <a:xfrm>
            <a:off x="3132000" y="2222640"/>
            <a:ext cx="614520" cy="79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2917800" y="3809880"/>
            <a:ext cx="585720" cy="325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74" name="" descr=""/>
          <p:cNvPicPr/>
          <p:nvPr/>
        </p:nvPicPr>
        <p:blipFill>
          <a:blip r:embed="rId2"/>
          <a:stretch/>
        </p:blipFill>
        <p:spPr>
          <a:xfrm>
            <a:off x="7054920" y="3813120"/>
            <a:ext cx="790560" cy="600120"/>
          </a:xfrm>
          <a:prstGeom prst="rect">
            <a:avLst/>
          </a:prstGeom>
          <a:ln w="0">
            <a:noFill/>
          </a:ln>
        </p:spPr>
      </p:pic>
      <p:sp>
        <p:nvSpPr>
          <p:cNvPr id="75" name=""/>
          <p:cNvSpPr txBox="1"/>
          <p:nvPr/>
        </p:nvSpPr>
        <p:spPr>
          <a:xfrm>
            <a:off x="7415280" y="1733400"/>
            <a:ext cx="2263680" cy="819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ad or</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Fundamental?</a:t>
            </a:r>
            <a:endParaRPr b="0" lang="en-US" sz="2400" spc="-1" strike="noStrike">
              <a:solidFill>
                <a:srgbClr val="000000"/>
              </a:solidFill>
              <a:latin typeface="Arial"/>
            </a:endParaRPr>
          </a:p>
        </p:txBody>
      </p:sp>
      <p:sp>
        <p:nvSpPr>
          <p:cNvPr id="76" name=""/>
          <p:cNvSpPr/>
          <p:nvPr/>
        </p:nvSpPr>
        <p:spPr>
          <a:xfrm flipH="1">
            <a:off x="5162400" y="2593800"/>
            <a:ext cx="66852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7" name=""/>
          <p:cNvGrpSpPr/>
          <p:nvPr/>
        </p:nvGrpSpPr>
        <p:grpSpPr>
          <a:xfrm>
            <a:off x="5996160" y="1601640"/>
            <a:ext cx="1330200" cy="952560"/>
            <a:chOff x="5996160" y="1601640"/>
            <a:chExt cx="1330200" cy="952560"/>
          </a:xfrm>
        </p:grpSpPr>
        <p:sp>
          <p:nvSpPr>
            <p:cNvPr id="78" name=""/>
            <p:cNvSpPr/>
            <p:nvPr/>
          </p:nvSpPr>
          <p:spPr>
            <a:xfrm flipV="1">
              <a:off x="5996160" y="1601640"/>
              <a:ext cx="0" cy="952560"/>
            </a:xfrm>
            <a:prstGeom prst="line">
              <a:avLst/>
            </a:prstGeom>
            <a:ln w="25560">
              <a:solidFill>
                <a:srgbClr val="063de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 name=""/>
            <p:cNvSpPr/>
            <p:nvPr/>
          </p:nvSpPr>
          <p:spPr>
            <a:xfrm>
              <a:off x="6010200" y="2538360"/>
              <a:ext cx="1227240" cy="0"/>
            </a:xfrm>
            <a:prstGeom prst="line">
              <a:avLst/>
            </a:prstGeom>
            <a:ln w="25560">
              <a:solidFill>
                <a:srgbClr val="063de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 name=""/>
            <p:cNvSpPr/>
            <p:nvPr/>
          </p:nvSpPr>
          <p:spPr>
            <a:xfrm>
              <a:off x="6005160" y="2463840"/>
              <a:ext cx="324360" cy="51120"/>
            </a:xfrm>
            <a:custGeom>
              <a:avLst/>
              <a:gdLst/>
              <a:ahLst/>
              <a:rect l="0" t="0" r="r" b="b"/>
              <a:pathLst>
                <a:path fill="none" w="901" h="142">
                  <a:moveTo>
                    <a:pt x="0" y="142"/>
                  </a:moveTo>
                  <a:lnTo>
                    <a:pt x="0" y="142"/>
                  </a:lnTo>
                  <a:cubicBezTo>
                    <a:pt x="2" y="142"/>
                    <a:pt x="3" y="142"/>
                    <a:pt x="5" y="142"/>
                  </a:cubicBezTo>
                  <a:cubicBezTo>
                    <a:pt x="162" y="142"/>
                    <a:pt x="317" y="135"/>
                    <a:pt x="453" y="123"/>
                  </a:cubicBezTo>
                  <a:cubicBezTo>
                    <a:pt x="589" y="110"/>
                    <a:pt x="702" y="92"/>
                    <a:pt x="781" y="70"/>
                  </a:cubicBezTo>
                  <a:cubicBezTo>
                    <a:pt x="859" y="49"/>
                    <a:pt x="900" y="25"/>
                    <a:pt x="901" y="0"/>
                  </a:cubicBezTo>
                </a:path>
              </a:pathLst>
            </a:custGeom>
            <a:ln w="25560">
              <a:solidFill>
                <a:srgbClr val="fc0128"/>
              </a:solidFill>
              <a:round/>
            </a:ln>
          </p:spPr>
          <p:txBody>
            <a:bodyPr lIns="102600" rIns="102600" tIns="-6480" bIns="-6480" anchor="t">
              <a:noAutofit/>
            </a:bodyPr>
            <a:p>
              <a:endParaRPr b="0" lang="en-US" sz="1800" spc="-1" strike="noStrike">
                <a:solidFill>
                  <a:srgbClr val="000000"/>
                </a:solidFill>
                <a:latin typeface="Arial"/>
              </a:endParaRPr>
            </a:p>
          </p:txBody>
        </p:sp>
        <p:sp>
          <p:nvSpPr>
            <p:cNvPr id="81" name=""/>
            <p:cNvSpPr/>
            <p:nvPr/>
          </p:nvSpPr>
          <p:spPr>
            <a:xfrm flipV="1">
              <a:off x="6350040" y="2317680"/>
              <a:ext cx="166680" cy="1699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 name=""/>
            <p:cNvSpPr/>
            <p:nvPr/>
          </p:nvSpPr>
          <p:spPr>
            <a:xfrm flipV="1">
              <a:off x="6545160" y="1855800"/>
              <a:ext cx="263520" cy="4906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 name=""/>
            <p:cNvSpPr/>
            <p:nvPr/>
          </p:nvSpPr>
          <p:spPr>
            <a:xfrm>
              <a:off x="6834240" y="1720800"/>
              <a:ext cx="403920" cy="154080"/>
            </a:xfrm>
            <a:custGeom>
              <a:avLst/>
              <a:gdLst/>
              <a:ahLst/>
              <a:rect l="0" t="0" r="r" b="b"/>
              <a:pathLst>
                <a:path fill="none" w="1122" h="428">
                  <a:moveTo>
                    <a:pt x="1122" y="0"/>
                  </a:moveTo>
                  <a:lnTo>
                    <a:pt x="1122" y="0"/>
                  </a:lnTo>
                  <a:cubicBezTo>
                    <a:pt x="926" y="0"/>
                    <a:pt x="733" y="20"/>
                    <a:pt x="563" y="57"/>
                  </a:cubicBezTo>
                  <a:cubicBezTo>
                    <a:pt x="392" y="95"/>
                    <a:pt x="250" y="149"/>
                    <a:pt x="151" y="214"/>
                  </a:cubicBezTo>
                  <a:cubicBezTo>
                    <a:pt x="52" y="279"/>
                    <a:pt x="0" y="353"/>
                    <a:pt x="0" y="428"/>
                  </a:cubicBezTo>
                  <a:lnTo>
                    <a:pt x="0" y="428"/>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 name=""/>
            <p:cNvSpPr/>
            <p:nvPr/>
          </p:nvSpPr>
          <p:spPr>
            <a:xfrm>
              <a:off x="6859800" y="1820880"/>
              <a:ext cx="403200" cy="44640"/>
            </a:xfrm>
            <a:custGeom>
              <a:avLst/>
              <a:gdLst/>
              <a:ahLst/>
              <a:rect l="0" t="0" r="r" b="b"/>
              <a:pathLst>
                <a:path fill="none" w="1120" h="124">
                  <a:moveTo>
                    <a:pt x="1120" y="124"/>
                  </a:moveTo>
                  <a:lnTo>
                    <a:pt x="1120" y="124"/>
                  </a:lnTo>
                  <a:lnTo>
                    <a:pt x="1120" y="124"/>
                  </a:lnTo>
                  <a:cubicBezTo>
                    <a:pt x="1120" y="102"/>
                    <a:pt x="1068" y="81"/>
                    <a:pt x="970" y="62"/>
                  </a:cubicBezTo>
                  <a:cubicBezTo>
                    <a:pt x="873" y="43"/>
                    <a:pt x="732" y="27"/>
                    <a:pt x="562" y="17"/>
                  </a:cubicBezTo>
                  <a:cubicBezTo>
                    <a:pt x="392" y="6"/>
                    <a:pt x="200" y="0"/>
                    <a:pt x="4" y="0"/>
                  </a:cubicBezTo>
                  <a:cubicBezTo>
                    <a:pt x="3" y="0"/>
                    <a:pt x="1" y="0"/>
                    <a:pt x="0" y="0"/>
                  </a:cubicBezTo>
                </a:path>
              </a:pathLst>
            </a:custGeom>
            <a:ln w="25560">
              <a:solidFill>
                <a:srgbClr val="fc0128"/>
              </a:solidFill>
              <a:round/>
            </a:ln>
          </p:spPr>
          <p:txBody>
            <a:bodyPr lIns="102600" rIns="102600" tIns="-12960" bIns="-12960" anchor="t">
              <a:noAutofit/>
            </a:bodyPr>
            <a:p>
              <a:endParaRPr b="0" lang="en-US" sz="1800" spc="-1" strike="noStrike">
                <a:solidFill>
                  <a:srgbClr val="000000"/>
                </a:solidFill>
                <a:latin typeface="Arial"/>
              </a:endParaRPr>
            </a:p>
          </p:txBody>
        </p:sp>
        <p:sp>
          <p:nvSpPr>
            <p:cNvPr id="85" name=""/>
            <p:cNvSpPr/>
            <p:nvPr/>
          </p:nvSpPr>
          <p:spPr>
            <a:xfrm>
              <a:off x="6853320" y="1824120"/>
              <a:ext cx="254160" cy="105120"/>
            </a:xfrm>
            <a:custGeom>
              <a:avLst/>
              <a:gdLst/>
              <a:ahLst/>
              <a:rect l="0" t="0" r="r" b="b"/>
              <a:pathLst>
                <a:path fill="none" w="706" h="292">
                  <a:moveTo>
                    <a:pt x="706" y="292"/>
                  </a:moveTo>
                  <a:lnTo>
                    <a:pt x="706" y="292"/>
                  </a:lnTo>
                  <a:lnTo>
                    <a:pt x="706" y="292"/>
                  </a:lnTo>
                  <a:cubicBezTo>
                    <a:pt x="706" y="241"/>
                    <a:pt x="674" y="190"/>
                    <a:pt x="612" y="146"/>
                  </a:cubicBezTo>
                  <a:cubicBezTo>
                    <a:pt x="550" y="102"/>
                    <a:pt x="461" y="65"/>
                    <a:pt x="355" y="39"/>
                  </a:cubicBezTo>
                  <a:cubicBezTo>
                    <a:pt x="248" y="13"/>
                    <a:pt x="126" y="0"/>
                    <a:pt x="3" y="0"/>
                  </a:cubicBezTo>
                  <a:cubicBezTo>
                    <a:pt x="2" y="0"/>
                    <a:pt x="1" y="0"/>
                    <a:pt x="0" y="0"/>
                  </a:cubicBezTo>
                </a:path>
              </a:pathLst>
            </a:custGeom>
            <a:ln w="25560">
              <a:solidFill>
                <a:srgbClr val="fc0128"/>
              </a:solidFill>
              <a:round/>
            </a:ln>
          </p:spPr>
          <p:txBody>
            <a:bodyPr lIns="102600" rIns="102600" tIns="47520" bIns="47520" anchor="t">
              <a:noAutofit/>
            </a:bodyPr>
            <a:p>
              <a:endParaRPr b="0" lang="en-US" sz="1800" spc="-1" strike="noStrike">
                <a:solidFill>
                  <a:srgbClr val="000000"/>
                </a:solidFill>
                <a:latin typeface="Arial"/>
              </a:endParaRPr>
            </a:p>
          </p:txBody>
        </p:sp>
        <p:sp>
          <p:nvSpPr>
            <p:cNvPr id="86" name=""/>
            <p:cNvSpPr/>
            <p:nvPr/>
          </p:nvSpPr>
          <p:spPr>
            <a:xfrm>
              <a:off x="7129440" y="1924200"/>
              <a:ext cx="173160" cy="1936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 name=""/>
            <p:cNvSpPr/>
            <p:nvPr/>
          </p:nvSpPr>
          <p:spPr>
            <a:xfrm>
              <a:off x="6859800" y="1833480"/>
              <a:ext cx="128880" cy="27360"/>
            </a:xfrm>
            <a:custGeom>
              <a:avLst/>
              <a:gdLst/>
              <a:ahLst/>
              <a:rect l="0" t="0" r="r" b="b"/>
              <a:pathLst>
                <a:path fill="none" w="358" h="76">
                  <a:moveTo>
                    <a:pt x="358" y="76"/>
                  </a:moveTo>
                  <a:lnTo>
                    <a:pt x="358" y="76"/>
                  </a:lnTo>
                  <a:lnTo>
                    <a:pt x="358" y="76"/>
                  </a:lnTo>
                  <a:cubicBezTo>
                    <a:pt x="358" y="63"/>
                    <a:pt x="342" y="50"/>
                    <a:pt x="311" y="38"/>
                  </a:cubicBezTo>
                  <a:cubicBezTo>
                    <a:pt x="280" y="26"/>
                    <a:pt x="235" y="17"/>
                    <a:pt x="182" y="10"/>
                  </a:cubicBezTo>
                  <a:cubicBezTo>
                    <a:pt x="128" y="4"/>
                    <a:pt x="67" y="0"/>
                    <a:pt x="5" y="0"/>
                  </a:cubicBezTo>
                  <a:cubicBezTo>
                    <a:pt x="3" y="0"/>
                    <a:pt x="2" y="0"/>
                    <a:pt x="0" y="0"/>
                  </a:cubicBezTo>
                </a:path>
              </a:pathLst>
            </a:custGeom>
            <a:ln w="25560">
              <a:solidFill>
                <a:srgbClr val="fc0128"/>
              </a:solidFill>
              <a:round/>
            </a:ln>
          </p:spPr>
          <p:txBody>
            <a:bodyPr lIns="102600" rIns="102600" tIns="-30240" bIns="-30240" anchor="t">
              <a:noAutofit/>
            </a:bodyPr>
            <a:p>
              <a:endParaRPr b="0" lang="en-US" sz="1800" spc="-1" strike="noStrike">
                <a:solidFill>
                  <a:srgbClr val="000000"/>
                </a:solidFill>
                <a:latin typeface="Arial"/>
              </a:endParaRPr>
            </a:p>
          </p:txBody>
        </p:sp>
        <p:sp>
          <p:nvSpPr>
            <p:cNvPr id="88" name=""/>
            <p:cNvSpPr/>
            <p:nvPr/>
          </p:nvSpPr>
          <p:spPr>
            <a:xfrm>
              <a:off x="7010280" y="1870200"/>
              <a:ext cx="316080" cy="4413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 name=""/>
            <p:cNvSpPr/>
            <p:nvPr/>
          </p:nvSpPr>
          <p:spPr>
            <a:xfrm>
              <a:off x="6423120" y="1925640"/>
              <a:ext cx="0" cy="401760"/>
            </a:xfrm>
            <a:prstGeom prst="line">
              <a:avLst/>
            </a:prstGeom>
            <a:ln w="25560">
              <a:solidFill>
                <a:srgbClr val="063de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 name=""/>
            <p:cNvSpPr/>
            <p:nvPr/>
          </p:nvSpPr>
          <p:spPr>
            <a:xfrm>
              <a:off x="6243480" y="1751040"/>
              <a:ext cx="73656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1" name=""/>
          <p:cNvGrpSpPr/>
          <p:nvPr/>
        </p:nvGrpSpPr>
        <p:grpSpPr>
          <a:xfrm>
            <a:off x="5362560" y="4510080"/>
            <a:ext cx="1536840" cy="948240"/>
            <a:chOff x="5362560" y="4510080"/>
            <a:chExt cx="1536840" cy="948240"/>
          </a:xfrm>
        </p:grpSpPr>
        <p:grpSp>
          <p:nvGrpSpPr>
            <p:cNvPr id="92" name=""/>
            <p:cNvGrpSpPr/>
            <p:nvPr/>
          </p:nvGrpSpPr>
          <p:grpSpPr>
            <a:xfrm>
              <a:off x="5362560" y="5180040"/>
              <a:ext cx="1473480" cy="278280"/>
              <a:chOff x="5362560" y="5180040"/>
              <a:chExt cx="1473480" cy="278280"/>
            </a:xfrm>
          </p:grpSpPr>
          <p:sp>
            <p:nvSpPr>
              <p:cNvPr id="93" name=""/>
              <p:cNvSpPr/>
              <p:nvPr/>
            </p:nvSpPr>
            <p:spPr>
              <a:xfrm>
                <a:off x="6576840" y="5180040"/>
                <a:ext cx="259200" cy="278280"/>
              </a:xfrm>
              <a:custGeom>
                <a:avLst/>
                <a:gdLst/>
                <a:ahLst/>
                <a:rect l="0" t="0" r="r" b="b"/>
                <a:pathLst>
                  <a:path w="720" h="773">
                    <a:moveTo>
                      <a:pt x="340" y="773"/>
                    </a:moveTo>
                    <a:lnTo>
                      <a:pt x="0" y="331"/>
                    </a:lnTo>
                    <a:lnTo>
                      <a:pt x="318" y="0"/>
                    </a:lnTo>
                    <a:lnTo>
                      <a:pt x="720" y="384"/>
                    </a:lnTo>
                    <a:lnTo>
                      <a:pt x="340" y="773"/>
                    </a:lnTo>
                    <a:close/>
                  </a:path>
                </a:pathLst>
              </a:custGeom>
              <a:solidFill>
                <a:srgbClr val="ff5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5479920" y="5180040"/>
                <a:ext cx="1211760" cy="119520"/>
              </a:xfrm>
              <a:custGeom>
                <a:avLst/>
                <a:gdLst/>
                <a:ahLst/>
                <a:rect l="0" t="0" r="r" b="b"/>
                <a:pathLst>
                  <a:path w="3366" h="332">
                    <a:moveTo>
                      <a:pt x="0" y="332"/>
                    </a:moveTo>
                    <a:lnTo>
                      <a:pt x="3049" y="332"/>
                    </a:lnTo>
                    <a:lnTo>
                      <a:pt x="3366" y="0"/>
                    </a:lnTo>
                    <a:lnTo>
                      <a:pt x="427" y="0"/>
                    </a:lnTo>
                    <a:lnTo>
                      <a:pt x="0" y="332"/>
                    </a:lnTo>
                    <a:close/>
                  </a:path>
                </a:pathLst>
              </a:custGeom>
              <a:solidFill>
                <a:srgbClr val="80008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5362560" y="5297400"/>
                <a:ext cx="1337040" cy="160560"/>
              </a:xfrm>
              <a:custGeom>
                <a:avLst/>
                <a:gdLst/>
                <a:ahLst/>
                <a:rect l="0" t="0" r="r" b="b"/>
                <a:pathLst>
                  <a:path w="3714" h="446">
                    <a:moveTo>
                      <a:pt x="326" y="0"/>
                    </a:moveTo>
                    <a:lnTo>
                      <a:pt x="3371" y="0"/>
                    </a:lnTo>
                    <a:lnTo>
                      <a:pt x="3714" y="446"/>
                    </a:lnTo>
                    <a:lnTo>
                      <a:pt x="0" y="446"/>
                    </a:lnTo>
                    <a:lnTo>
                      <a:pt x="326" y="0"/>
                    </a:lnTo>
                    <a:close/>
                  </a:path>
                </a:pathLst>
              </a:custGeom>
              <a:solidFill>
                <a:srgbClr val="ff0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6" name=""/>
            <p:cNvGrpSpPr/>
            <p:nvPr/>
          </p:nvGrpSpPr>
          <p:grpSpPr>
            <a:xfrm>
              <a:off x="5502240" y="5022720"/>
              <a:ext cx="1168560" cy="251280"/>
              <a:chOff x="5502240" y="5022720"/>
              <a:chExt cx="1168560" cy="251280"/>
            </a:xfrm>
          </p:grpSpPr>
          <p:sp>
            <p:nvSpPr>
              <p:cNvPr id="97" name=""/>
              <p:cNvSpPr/>
              <p:nvPr/>
            </p:nvSpPr>
            <p:spPr>
              <a:xfrm>
                <a:off x="6440400" y="5022720"/>
                <a:ext cx="230400" cy="251280"/>
              </a:xfrm>
              <a:custGeom>
                <a:avLst/>
                <a:gdLst/>
                <a:ahLst/>
                <a:rect l="0" t="0" r="r" b="b"/>
                <a:pathLst>
                  <a:path w="640" h="698">
                    <a:moveTo>
                      <a:pt x="327" y="698"/>
                    </a:moveTo>
                    <a:lnTo>
                      <a:pt x="0" y="243"/>
                    </a:lnTo>
                    <a:lnTo>
                      <a:pt x="238" y="0"/>
                    </a:lnTo>
                    <a:lnTo>
                      <a:pt x="640" y="384"/>
                    </a:lnTo>
                    <a:lnTo>
                      <a:pt x="327" y="698"/>
                    </a:lnTo>
                    <a:close/>
                  </a:path>
                </a:pathLst>
              </a:custGeom>
              <a:solidFill>
                <a:srgbClr val="f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5618160" y="5022720"/>
                <a:ext cx="910080" cy="87840"/>
              </a:xfrm>
              <a:custGeom>
                <a:avLst/>
                <a:gdLst/>
                <a:ahLst/>
                <a:rect l="0" t="0" r="r" b="b"/>
                <a:pathLst>
                  <a:path w="2528" h="244">
                    <a:moveTo>
                      <a:pt x="0" y="244"/>
                    </a:moveTo>
                    <a:lnTo>
                      <a:pt x="2290" y="244"/>
                    </a:lnTo>
                    <a:lnTo>
                      <a:pt x="2528" y="0"/>
                    </a:lnTo>
                    <a:lnTo>
                      <a:pt x="454" y="0"/>
                    </a:lnTo>
                    <a:lnTo>
                      <a:pt x="0" y="244"/>
                    </a:lnTo>
                    <a:close/>
                  </a:path>
                </a:pathLst>
              </a:custGeom>
              <a:solidFill>
                <a:srgbClr val="8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99" name=""/>
              <p:cNvSpPr/>
              <p:nvPr/>
            </p:nvSpPr>
            <p:spPr>
              <a:xfrm>
                <a:off x="5502240" y="5110200"/>
                <a:ext cx="1055880" cy="163800"/>
              </a:xfrm>
              <a:custGeom>
                <a:avLst/>
                <a:gdLst/>
                <a:ahLst/>
                <a:rect l="0" t="0" r="r" b="b"/>
                <a:pathLst>
                  <a:path w="2933" h="455">
                    <a:moveTo>
                      <a:pt x="0" y="455"/>
                    </a:moveTo>
                    <a:lnTo>
                      <a:pt x="2933" y="455"/>
                    </a:lnTo>
                    <a:lnTo>
                      <a:pt x="2607" y="0"/>
                    </a:lnTo>
                    <a:lnTo>
                      <a:pt x="321" y="0"/>
                    </a:lnTo>
                    <a:lnTo>
                      <a:pt x="0" y="455"/>
                    </a:lnTo>
                    <a:close/>
                  </a:path>
                </a:pathLst>
              </a:custGeom>
              <a:solidFill>
                <a:srgbClr val="ff001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0" name=""/>
            <p:cNvGrpSpPr/>
            <p:nvPr/>
          </p:nvGrpSpPr>
          <p:grpSpPr>
            <a:xfrm>
              <a:off x="5656320" y="4792680"/>
              <a:ext cx="868680" cy="219600"/>
              <a:chOff x="5656320" y="4792680"/>
              <a:chExt cx="868680" cy="219600"/>
            </a:xfrm>
          </p:grpSpPr>
          <p:sp>
            <p:nvSpPr>
              <p:cNvPr id="101" name=""/>
              <p:cNvSpPr/>
              <p:nvPr/>
            </p:nvSpPr>
            <p:spPr>
              <a:xfrm>
                <a:off x="6324480" y="4792680"/>
                <a:ext cx="200520" cy="219600"/>
              </a:xfrm>
              <a:custGeom>
                <a:avLst/>
                <a:gdLst/>
                <a:ahLst/>
                <a:rect l="0" t="0" r="r" b="b"/>
                <a:pathLst>
                  <a:path w="557" h="610">
                    <a:moveTo>
                      <a:pt x="0" y="168"/>
                    </a:moveTo>
                    <a:lnTo>
                      <a:pt x="331" y="610"/>
                    </a:lnTo>
                    <a:lnTo>
                      <a:pt x="557" y="384"/>
                    </a:lnTo>
                    <a:lnTo>
                      <a:pt x="159" y="0"/>
                    </a:lnTo>
                    <a:lnTo>
                      <a:pt x="0" y="168"/>
                    </a:lnTo>
                    <a:close/>
                  </a:path>
                </a:pathLst>
              </a:custGeom>
              <a:solidFill>
                <a:srgbClr val="bf5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5773680" y="4792680"/>
                <a:ext cx="608400" cy="59040"/>
              </a:xfrm>
              <a:custGeom>
                <a:avLst/>
                <a:gdLst/>
                <a:ahLst/>
                <a:rect l="0" t="0" r="r" b="b"/>
                <a:pathLst>
                  <a:path w="1690" h="164">
                    <a:moveTo>
                      <a:pt x="0" y="164"/>
                    </a:moveTo>
                    <a:lnTo>
                      <a:pt x="1532" y="164"/>
                    </a:lnTo>
                    <a:lnTo>
                      <a:pt x="1690" y="0"/>
                    </a:lnTo>
                    <a:lnTo>
                      <a:pt x="428" y="0"/>
                    </a:lnTo>
                    <a:lnTo>
                      <a:pt x="0" y="164"/>
                    </a:lnTo>
                    <a:close/>
                  </a:path>
                </a:pathLst>
              </a:custGeom>
              <a:solidFill>
                <a:srgbClr val="5f009f"/>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103" name=""/>
              <p:cNvSpPr/>
              <p:nvPr/>
            </p:nvSpPr>
            <p:spPr>
              <a:xfrm>
                <a:off x="5656320" y="4851360"/>
                <a:ext cx="787680" cy="160560"/>
              </a:xfrm>
              <a:custGeom>
                <a:avLst/>
                <a:gdLst/>
                <a:ahLst/>
                <a:rect l="0" t="0" r="r" b="b"/>
                <a:pathLst>
                  <a:path w="2188" h="446">
                    <a:moveTo>
                      <a:pt x="0" y="446"/>
                    </a:moveTo>
                    <a:lnTo>
                      <a:pt x="2188" y="446"/>
                    </a:lnTo>
                    <a:lnTo>
                      <a:pt x="1857" y="0"/>
                    </a:lnTo>
                    <a:lnTo>
                      <a:pt x="326" y="0"/>
                    </a:lnTo>
                    <a:lnTo>
                      <a:pt x="0" y="446"/>
                    </a:lnTo>
                    <a:close/>
                  </a:path>
                </a:pathLst>
              </a:custGeom>
              <a:solidFill>
                <a:srgbClr val="9f3fd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4" name=""/>
            <p:cNvSpPr/>
            <p:nvPr/>
          </p:nvSpPr>
          <p:spPr>
            <a:xfrm>
              <a:off x="6053040" y="4510080"/>
              <a:ext cx="321120" cy="327240"/>
            </a:xfrm>
            <a:custGeom>
              <a:avLst/>
              <a:gdLst/>
              <a:ahLst/>
              <a:rect l="0" t="0" r="r" b="b"/>
              <a:pathLst>
                <a:path w="892" h="909">
                  <a:moveTo>
                    <a:pt x="725" y="909"/>
                  </a:moveTo>
                  <a:lnTo>
                    <a:pt x="892" y="768"/>
                  </a:lnTo>
                  <a:lnTo>
                    <a:pt x="0" y="0"/>
                  </a:lnTo>
                  <a:lnTo>
                    <a:pt x="725" y="909"/>
                  </a:lnTo>
                  <a:close/>
                </a:path>
              </a:pathLst>
            </a:custGeom>
            <a:solidFill>
              <a:srgbClr val="ffbf1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5799240" y="4510080"/>
              <a:ext cx="514800" cy="327240"/>
            </a:xfrm>
            <a:custGeom>
              <a:avLst/>
              <a:gdLst/>
              <a:ahLst/>
              <a:rect l="0" t="0" r="r" b="b"/>
              <a:pathLst>
                <a:path w="1430" h="909">
                  <a:moveTo>
                    <a:pt x="0" y="909"/>
                  </a:moveTo>
                  <a:lnTo>
                    <a:pt x="1430" y="909"/>
                  </a:lnTo>
                  <a:lnTo>
                    <a:pt x="715" y="0"/>
                  </a:lnTo>
                  <a:lnTo>
                    <a:pt x="0" y="909"/>
                  </a:lnTo>
                  <a:close/>
                </a:path>
              </a:pathLst>
            </a:custGeom>
            <a:solidFill>
              <a:srgbClr val="ff9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5659560" y="5019840"/>
              <a:ext cx="220680" cy="44280"/>
            </a:xfrm>
            <a:prstGeom prst="line">
              <a:avLst/>
            </a:prstGeom>
            <a:ln w="38160">
              <a:solidFill>
                <a:srgbClr val="00dfca"/>
              </a:solidFill>
              <a:round/>
            </a:ln>
          </p:spPr>
          <p:style>
            <a:lnRef idx="0"/>
            <a:fillRef idx="0"/>
            <a:effectRef idx="0"/>
            <a:fontRef idx="minor"/>
          </p:style>
          <p:txBody>
            <a:bodyPr lIns="109080" rIns="109080" tIns="-19800" bIns="-19800" anchor="t">
              <a:noAutofit/>
            </a:bodyPr>
            <a:p>
              <a:endParaRPr b="0" lang="en-US" sz="1800" spc="-1" strike="noStrike">
                <a:solidFill>
                  <a:srgbClr val="000000"/>
                </a:solidFill>
                <a:latin typeface="Arial"/>
              </a:endParaRPr>
            </a:p>
          </p:txBody>
        </p:sp>
        <p:sp>
          <p:nvSpPr>
            <p:cNvPr id="107" name=""/>
            <p:cNvSpPr/>
            <p:nvPr/>
          </p:nvSpPr>
          <p:spPr>
            <a:xfrm flipV="1">
              <a:off x="5927760" y="4983120"/>
              <a:ext cx="66600" cy="104760"/>
            </a:xfrm>
            <a:prstGeom prst="line">
              <a:avLst/>
            </a:prstGeom>
            <a:ln w="38160">
              <a:solidFill>
                <a:srgbClr val="00dfca"/>
              </a:solidFill>
              <a:round/>
            </a:ln>
          </p:spPr>
          <p:style>
            <a:lnRef idx="0"/>
            <a:fillRef idx="0"/>
            <a:effectRef idx="0"/>
            <a:fontRef idx="minor"/>
          </p:style>
          <p:txBody>
            <a:bodyPr lIns="109080" rIns="109080" tIns="40680" bIns="40680" anchor="t">
              <a:noAutofit/>
            </a:bodyPr>
            <a:p>
              <a:endParaRPr b="0" lang="en-US" sz="1800" spc="-1" strike="noStrike">
                <a:solidFill>
                  <a:srgbClr val="000000"/>
                </a:solidFill>
                <a:latin typeface="Arial"/>
              </a:endParaRPr>
            </a:p>
          </p:txBody>
        </p:sp>
        <p:sp>
          <p:nvSpPr>
            <p:cNvPr id="108" name=""/>
            <p:cNvSpPr/>
            <p:nvPr/>
          </p:nvSpPr>
          <p:spPr>
            <a:xfrm>
              <a:off x="6051600" y="5016600"/>
              <a:ext cx="122040" cy="47520"/>
            </a:xfrm>
            <a:prstGeom prst="line">
              <a:avLst/>
            </a:prstGeom>
            <a:ln w="38160">
              <a:solidFill>
                <a:srgbClr val="00dfca"/>
              </a:solidFill>
              <a:round/>
            </a:ln>
          </p:spPr>
          <p:style>
            <a:lnRef idx="0"/>
            <a:fillRef idx="0"/>
            <a:effectRef idx="0"/>
            <a:fontRef idx="minor"/>
          </p:style>
          <p:txBody>
            <a:bodyPr lIns="109080" rIns="109080" tIns="-16560" bIns="-16560" anchor="t">
              <a:noAutofit/>
            </a:bodyPr>
            <a:p>
              <a:endParaRPr b="0" lang="en-US" sz="1800" spc="-1" strike="noStrike">
                <a:solidFill>
                  <a:srgbClr val="000000"/>
                </a:solidFill>
                <a:latin typeface="Arial"/>
              </a:endParaRPr>
            </a:p>
          </p:txBody>
        </p:sp>
        <p:sp>
          <p:nvSpPr>
            <p:cNvPr id="109" name=""/>
            <p:cNvSpPr/>
            <p:nvPr/>
          </p:nvSpPr>
          <p:spPr>
            <a:xfrm flipV="1">
              <a:off x="6213600" y="5005440"/>
              <a:ext cx="182520" cy="82440"/>
            </a:xfrm>
            <a:prstGeom prst="line">
              <a:avLst/>
            </a:prstGeom>
            <a:ln w="38160">
              <a:solidFill>
                <a:srgbClr val="00dfca"/>
              </a:solidFill>
              <a:round/>
            </a:ln>
          </p:spPr>
          <p:style>
            <a:lnRef idx="0"/>
            <a:fillRef idx="0"/>
            <a:effectRef idx="0"/>
            <a:fontRef idx="minor"/>
          </p:style>
          <p:txBody>
            <a:bodyPr lIns="109080" rIns="109080" tIns="18360" bIns="18360" anchor="t">
              <a:noAutofit/>
            </a:bodyPr>
            <a:p>
              <a:endParaRPr b="0" lang="en-US" sz="1800" spc="-1" strike="noStrike">
                <a:solidFill>
                  <a:srgbClr val="000000"/>
                </a:solidFill>
                <a:latin typeface="Arial"/>
              </a:endParaRPr>
            </a:p>
          </p:txBody>
        </p:sp>
        <p:sp>
          <p:nvSpPr>
            <p:cNvPr id="110" name=""/>
            <p:cNvSpPr/>
            <p:nvPr/>
          </p:nvSpPr>
          <p:spPr>
            <a:xfrm>
              <a:off x="6448320" y="5054760"/>
              <a:ext cx="451080" cy="12600"/>
            </a:xfrm>
            <a:prstGeom prst="line">
              <a:avLst/>
            </a:prstGeom>
            <a:ln w="38160">
              <a:solidFill>
                <a:srgbClr val="00dfca"/>
              </a:solidFill>
              <a:round/>
            </a:ln>
          </p:spPr>
          <p:style>
            <a:lnRef idx="0"/>
            <a:fillRef idx="0"/>
            <a:effectRef idx="0"/>
            <a:fontRef idx="minor"/>
          </p:style>
          <p:txBody>
            <a:bodyPr lIns="109080" rIns="109080" tIns="-51480" bIns="-51480" anchor="t">
              <a:noAutofit/>
            </a:bodyPr>
            <a:p>
              <a:endParaRPr b="0" lang="en-US" sz="1800" spc="-1" strike="noStrike">
                <a:solidFill>
                  <a:srgbClr val="000000"/>
                </a:solidFill>
                <a:latin typeface="Arial"/>
              </a:endParaRPr>
            </a:p>
          </p:txBody>
        </p:sp>
      </p:grpSp>
      <p:grpSp>
        <p:nvGrpSpPr>
          <p:cNvPr id="111" name=""/>
          <p:cNvGrpSpPr/>
          <p:nvPr/>
        </p:nvGrpSpPr>
        <p:grpSpPr>
          <a:xfrm>
            <a:off x="3405240" y="4757760"/>
            <a:ext cx="1067040" cy="1143360"/>
            <a:chOff x="3405240" y="4757760"/>
            <a:chExt cx="1067040" cy="1143360"/>
          </a:xfrm>
        </p:grpSpPr>
        <p:sp>
          <p:nvSpPr>
            <p:cNvPr id="112" name=""/>
            <p:cNvSpPr/>
            <p:nvPr/>
          </p:nvSpPr>
          <p:spPr>
            <a:xfrm>
              <a:off x="3441600" y="4757760"/>
              <a:ext cx="670320" cy="892440"/>
            </a:xfrm>
            <a:custGeom>
              <a:avLst/>
              <a:gdLst/>
              <a:ahLst/>
              <a:rect l="0" t="0" r="r" b="b"/>
              <a:pathLst>
                <a:path w="1862" h="2479">
                  <a:moveTo>
                    <a:pt x="1151" y="326"/>
                  </a:moveTo>
                  <a:lnTo>
                    <a:pt x="1129" y="330"/>
                  </a:lnTo>
                  <a:lnTo>
                    <a:pt x="1094" y="335"/>
                  </a:lnTo>
                  <a:lnTo>
                    <a:pt x="1059" y="343"/>
                  </a:lnTo>
                  <a:lnTo>
                    <a:pt x="1037" y="352"/>
                  </a:lnTo>
                  <a:lnTo>
                    <a:pt x="1006" y="357"/>
                  </a:lnTo>
                  <a:lnTo>
                    <a:pt x="979" y="366"/>
                  </a:lnTo>
                  <a:lnTo>
                    <a:pt x="953" y="374"/>
                  </a:lnTo>
                  <a:lnTo>
                    <a:pt x="927" y="383"/>
                  </a:lnTo>
                  <a:lnTo>
                    <a:pt x="896" y="396"/>
                  </a:lnTo>
                  <a:lnTo>
                    <a:pt x="865" y="410"/>
                  </a:lnTo>
                  <a:lnTo>
                    <a:pt x="834" y="423"/>
                  </a:lnTo>
                  <a:lnTo>
                    <a:pt x="803" y="436"/>
                  </a:lnTo>
                  <a:lnTo>
                    <a:pt x="772" y="449"/>
                  </a:lnTo>
                  <a:lnTo>
                    <a:pt x="741" y="467"/>
                  </a:lnTo>
                  <a:lnTo>
                    <a:pt x="715" y="485"/>
                  </a:lnTo>
                  <a:lnTo>
                    <a:pt x="684" y="502"/>
                  </a:lnTo>
                  <a:lnTo>
                    <a:pt x="662" y="515"/>
                  </a:lnTo>
                  <a:lnTo>
                    <a:pt x="640" y="533"/>
                  </a:lnTo>
                  <a:lnTo>
                    <a:pt x="609" y="551"/>
                  </a:lnTo>
                  <a:lnTo>
                    <a:pt x="583" y="573"/>
                  </a:lnTo>
                  <a:lnTo>
                    <a:pt x="556" y="595"/>
                  </a:lnTo>
                  <a:lnTo>
                    <a:pt x="530" y="612"/>
                  </a:lnTo>
                  <a:lnTo>
                    <a:pt x="503" y="635"/>
                  </a:lnTo>
                  <a:lnTo>
                    <a:pt x="468" y="665"/>
                  </a:lnTo>
                  <a:lnTo>
                    <a:pt x="427" y="705"/>
                  </a:lnTo>
                  <a:lnTo>
                    <a:pt x="396" y="736"/>
                  </a:lnTo>
                  <a:lnTo>
                    <a:pt x="357" y="780"/>
                  </a:lnTo>
                  <a:lnTo>
                    <a:pt x="330" y="811"/>
                  </a:lnTo>
                  <a:lnTo>
                    <a:pt x="304" y="846"/>
                  </a:lnTo>
                  <a:lnTo>
                    <a:pt x="273" y="886"/>
                  </a:lnTo>
                  <a:lnTo>
                    <a:pt x="246" y="926"/>
                  </a:lnTo>
                  <a:lnTo>
                    <a:pt x="220" y="970"/>
                  </a:lnTo>
                  <a:lnTo>
                    <a:pt x="194" y="1014"/>
                  </a:lnTo>
                  <a:lnTo>
                    <a:pt x="171" y="1058"/>
                  </a:lnTo>
                  <a:lnTo>
                    <a:pt x="149" y="1098"/>
                  </a:lnTo>
                  <a:lnTo>
                    <a:pt x="127" y="1146"/>
                  </a:lnTo>
                  <a:lnTo>
                    <a:pt x="110" y="1190"/>
                  </a:lnTo>
                  <a:lnTo>
                    <a:pt x="92" y="1239"/>
                  </a:lnTo>
                  <a:lnTo>
                    <a:pt x="74" y="1293"/>
                  </a:lnTo>
                  <a:lnTo>
                    <a:pt x="52" y="1359"/>
                  </a:lnTo>
                  <a:lnTo>
                    <a:pt x="39" y="1416"/>
                  </a:lnTo>
                  <a:lnTo>
                    <a:pt x="26" y="1478"/>
                  </a:lnTo>
                  <a:lnTo>
                    <a:pt x="17" y="1539"/>
                  </a:lnTo>
                  <a:lnTo>
                    <a:pt x="8" y="1606"/>
                  </a:lnTo>
                  <a:lnTo>
                    <a:pt x="0" y="1694"/>
                  </a:lnTo>
                  <a:lnTo>
                    <a:pt x="0" y="1764"/>
                  </a:lnTo>
                  <a:lnTo>
                    <a:pt x="0" y="1831"/>
                  </a:lnTo>
                  <a:lnTo>
                    <a:pt x="8" y="1892"/>
                  </a:lnTo>
                  <a:lnTo>
                    <a:pt x="13" y="1954"/>
                  </a:lnTo>
                  <a:lnTo>
                    <a:pt x="22" y="2016"/>
                  </a:lnTo>
                  <a:lnTo>
                    <a:pt x="35" y="2082"/>
                  </a:lnTo>
                  <a:lnTo>
                    <a:pt x="52" y="2148"/>
                  </a:lnTo>
                  <a:lnTo>
                    <a:pt x="70" y="2223"/>
                  </a:lnTo>
                  <a:lnTo>
                    <a:pt x="92" y="2289"/>
                  </a:lnTo>
                  <a:lnTo>
                    <a:pt x="119" y="2351"/>
                  </a:lnTo>
                  <a:lnTo>
                    <a:pt x="154" y="2417"/>
                  </a:lnTo>
                  <a:lnTo>
                    <a:pt x="189" y="2479"/>
                  </a:lnTo>
                  <a:lnTo>
                    <a:pt x="737" y="2144"/>
                  </a:lnTo>
                  <a:lnTo>
                    <a:pt x="706" y="2082"/>
                  </a:lnTo>
                  <a:lnTo>
                    <a:pt x="688" y="2033"/>
                  </a:lnTo>
                  <a:lnTo>
                    <a:pt x="675" y="1980"/>
                  </a:lnTo>
                  <a:lnTo>
                    <a:pt x="662" y="1928"/>
                  </a:lnTo>
                  <a:lnTo>
                    <a:pt x="653" y="1883"/>
                  </a:lnTo>
                  <a:lnTo>
                    <a:pt x="649" y="1835"/>
                  </a:lnTo>
                  <a:lnTo>
                    <a:pt x="644" y="1791"/>
                  </a:lnTo>
                  <a:lnTo>
                    <a:pt x="644" y="1742"/>
                  </a:lnTo>
                  <a:lnTo>
                    <a:pt x="649" y="1685"/>
                  </a:lnTo>
                  <a:lnTo>
                    <a:pt x="653" y="1632"/>
                  </a:lnTo>
                  <a:lnTo>
                    <a:pt x="666" y="1575"/>
                  </a:lnTo>
                  <a:lnTo>
                    <a:pt x="680" y="1526"/>
                  </a:lnTo>
                  <a:lnTo>
                    <a:pt x="697" y="1473"/>
                  </a:lnTo>
                  <a:lnTo>
                    <a:pt x="715" y="1425"/>
                  </a:lnTo>
                  <a:lnTo>
                    <a:pt x="737" y="1381"/>
                  </a:lnTo>
                  <a:lnTo>
                    <a:pt x="759" y="1345"/>
                  </a:lnTo>
                  <a:lnTo>
                    <a:pt x="777" y="1319"/>
                  </a:lnTo>
                  <a:lnTo>
                    <a:pt x="799" y="1288"/>
                  </a:lnTo>
                  <a:lnTo>
                    <a:pt x="821" y="1262"/>
                  </a:lnTo>
                  <a:lnTo>
                    <a:pt x="847" y="1230"/>
                  </a:lnTo>
                  <a:lnTo>
                    <a:pt x="869" y="1208"/>
                  </a:lnTo>
                  <a:lnTo>
                    <a:pt x="891" y="1181"/>
                  </a:lnTo>
                  <a:lnTo>
                    <a:pt x="913" y="1159"/>
                  </a:lnTo>
                  <a:lnTo>
                    <a:pt x="944" y="1137"/>
                  </a:lnTo>
                  <a:lnTo>
                    <a:pt x="979" y="1115"/>
                  </a:lnTo>
                  <a:lnTo>
                    <a:pt x="1006" y="1093"/>
                  </a:lnTo>
                  <a:lnTo>
                    <a:pt x="1028" y="1080"/>
                  </a:lnTo>
                  <a:lnTo>
                    <a:pt x="1068" y="1058"/>
                  </a:lnTo>
                  <a:lnTo>
                    <a:pt x="1099" y="1045"/>
                  </a:lnTo>
                  <a:lnTo>
                    <a:pt x="1125" y="1036"/>
                  </a:lnTo>
                  <a:lnTo>
                    <a:pt x="1151" y="1027"/>
                  </a:lnTo>
                  <a:lnTo>
                    <a:pt x="1196" y="1014"/>
                  </a:lnTo>
                  <a:lnTo>
                    <a:pt x="1235" y="1009"/>
                  </a:lnTo>
                  <a:lnTo>
                    <a:pt x="1275" y="1005"/>
                  </a:lnTo>
                  <a:lnTo>
                    <a:pt x="1315" y="1001"/>
                  </a:lnTo>
                  <a:lnTo>
                    <a:pt x="1337" y="1001"/>
                  </a:lnTo>
                  <a:lnTo>
                    <a:pt x="1337" y="1363"/>
                  </a:lnTo>
                  <a:lnTo>
                    <a:pt x="1862" y="687"/>
                  </a:lnTo>
                  <a:lnTo>
                    <a:pt x="1341" y="0"/>
                  </a:lnTo>
                  <a:lnTo>
                    <a:pt x="1341" y="308"/>
                  </a:lnTo>
                  <a:lnTo>
                    <a:pt x="1310" y="313"/>
                  </a:lnTo>
                  <a:lnTo>
                    <a:pt x="1271" y="313"/>
                  </a:lnTo>
                  <a:lnTo>
                    <a:pt x="1226" y="317"/>
                  </a:lnTo>
                  <a:lnTo>
                    <a:pt x="1187" y="321"/>
                  </a:lnTo>
                  <a:lnTo>
                    <a:pt x="1151" y="326"/>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3405240" y="5407200"/>
              <a:ext cx="891000" cy="493920"/>
            </a:xfrm>
            <a:custGeom>
              <a:avLst/>
              <a:gdLst/>
              <a:ahLst/>
              <a:rect l="0" t="0" r="r" b="b"/>
              <a:pathLst>
                <a:path w="2475" h="1372">
                  <a:moveTo>
                    <a:pt x="1231" y="1354"/>
                  </a:moveTo>
                  <a:lnTo>
                    <a:pt x="1204" y="1350"/>
                  </a:lnTo>
                  <a:lnTo>
                    <a:pt x="1173" y="1345"/>
                  </a:lnTo>
                  <a:lnTo>
                    <a:pt x="1138" y="1337"/>
                  </a:lnTo>
                  <a:lnTo>
                    <a:pt x="1116" y="1332"/>
                  </a:lnTo>
                  <a:lnTo>
                    <a:pt x="1085" y="1323"/>
                  </a:lnTo>
                  <a:lnTo>
                    <a:pt x="1059" y="1315"/>
                  </a:lnTo>
                  <a:lnTo>
                    <a:pt x="1028" y="1306"/>
                  </a:lnTo>
                  <a:lnTo>
                    <a:pt x="1002" y="1297"/>
                  </a:lnTo>
                  <a:lnTo>
                    <a:pt x="975" y="1288"/>
                  </a:lnTo>
                  <a:lnTo>
                    <a:pt x="940" y="1275"/>
                  </a:lnTo>
                  <a:lnTo>
                    <a:pt x="909" y="1262"/>
                  </a:lnTo>
                  <a:lnTo>
                    <a:pt x="882" y="1248"/>
                  </a:lnTo>
                  <a:lnTo>
                    <a:pt x="847" y="1231"/>
                  </a:lnTo>
                  <a:lnTo>
                    <a:pt x="816" y="1213"/>
                  </a:lnTo>
                  <a:lnTo>
                    <a:pt x="790" y="1200"/>
                  </a:lnTo>
                  <a:lnTo>
                    <a:pt x="763" y="1182"/>
                  </a:lnTo>
                  <a:lnTo>
                    <a:pt x="741" y="1169"/>
                  </a:lnTo>
                  <a:lnTo>
                    <a:pt x="715" y="1151"/>
                  </a:lnTo>
                  <a:lnTo>
                    <a:pt x="688" y="1134"/>
                  </a:lnTo>
                  <a:lnTo>
                    <a:pt x="658" y="1112"/>
                  </a:lnTo>
                  <a:lnTo>
                    <a:pt x="631" y="1090"/>
                  </a:lnTo>
                  <a:lnTo>
                    <a:pt x="604" y="1072"/>
                  </a:lnTo>
                  <a:lnTo>
                    <a:pt x="582" y="1054"/>
                  </a:lnTo>
                  <a:lnTo>
                    <a:pt x="542" y="1019"/>
                  </a:lnTo>
                  <a:lnTo>
                    <a:pt x="507" y="988"/>
                  </a:lnTo>
                  <a:lnTo>
                    <a:pt x="471" y="949"/>
                  </a:lnTo>
                  <a:lnTo>
                    <a:pt x="436" y="904"/>
                  </a:lnTo>
                  <a:lnTo>
                    <a:pt x="410" y="874"/>
                  </a:lnTo>
                  <a:lnTo>
                    <a:pt x="383" y="838"/>
                  </a:lnTo>
                  <a:lnTo>
                    <a:pt x="348" y="799"/>
                  </a:lnTo>
                  <a:lnTo>
                    <a:pt x="321" y="759"/>
                  </a:lnTo>
                  <a:lnTo>
                    <a:pt x="299" y="719"/>
                  </a:lnTo>
                  <a:lnTo>
                    <a:pt x="264" y="670"/>
                  </a:lnTo>
                  <a:lnTo>
                    <a:pt x="0" y="834"/>
                  </a:lnTo>
                  <a:lnTo>
                    <a:pt x="260" y="0"/>
                  </a:lnTo>
                  <a:lnTo>
                    <a:pt x="1107" y="158"/>
                  </a:lnTo>
                  <a:lnTo>
                    <a:pt x="825" y="330"/>
                  </a:lnTo>
                  <a:lnTo>
                    <a:pt x="847" y="366"/>
                  </a:lnTo>
                  <a:lnTo>
                    <a:pt x="874" y="396"/>
                  </a:lnTo>
                  <a:lnTo>
                    <a:pt x="900" y="427"/>
                  </a:lnTo>
                  <a:lnTo>
                    <a:pt x="922" y="458"/>
                  </a:lnTo>
                  <a:lnTo>
                    <a:pt x="944" y="480"/>
                  </a:lnTo>
                  <a:lnTo>
                    <a:pt x="966" y="507"/>
                  </a:lnTo>
                  <a:lnTo>
                    <a:pt x="993" y="524"/>
                  </a:lnTo>
                  <a:lnTo>
                    <a:pt x="1024" y="546"/>
                  </a:lnTo>
                  <a:lnTo>
                    <a:pt x="1054" y="573"/>
                  </a:lnTo>
                  <a:lnTo>
                    <a:pt x="1085" y="590"/>
                  </a:lnTo>
                  <a:lnTo>
                    <a:pt x="1107" y="608"/>
                  </a:lnTo>
                  <a:lnTo>
                    <a:pt x="1143" y="626"/>
                  </a:lnTo>
                  <a:lnTo>
                    <a:pt x="1173" y="639"/>
                  </a:lnTo>
                  <a:lnTo>
                    <a:pt x="1200" y="648"/>
                  </a:lnTo>
                  <a:lnTo>
                    <a:pt x="1231" y="661"/>
                  </a:lnTo>
                  <a:lnTo>
                    <a:pt x="1270" y="670"/>
                  </a:lnTo>
                  <a:lnTo>
                    <a:pt x="1315" y="679"/>
                  </a:lnTo>
                  <a:lnTo>
                    <a:pt x="1354" y="683"/>
                  </a:lnTo>
                  <a:lnTo>
                    <a:pt x="1416" y="688"/>
                  </a:lnTo>
                  <a:lnTo>
                    <a:pt x="1491" y="688"/>
                  </a:lnTo>
                  <a:lnTo>
                    <a:pt x="1553" y="679"/>
                  </a:lnTo>
                  <a:lnTo>
                    <a:pt x="1610" y="665"/>
                  </a:lnTo>
                  <a:lnTo>
                    <a:pt x="1672" y="643"/>
                  </a:lnTo>
                  <a:lnTo>
                    <a:pt x="1729" y="621"/>
                  </a:lnTo>
                  <a:lnTo>
                    <a:pt x="1786" y="590"/>
                  </a:lnTo>
                  <a:lnTo>
                    <a:pt x="1839" y="555"/>
                  </a:lnTo>
                  <a:lnTo>
                    <a:pt x="1889" y="511"/>
                  </a:lnTo>
                  <a:lnTo>
                    <a:pt x="2475" y="865"/>
                  </a:lnTo>
                  <a:lnTo>
                    <a:pt x="2453" y="896"/>
                  </a:lnTo>
                  <a:lnTo>
                    <a:pt x="2418" y="931"/>
                  </a:lnTo>
                  <a:lnTo>
                    <a:pt x="2387" y="962"/>
                  </a:lnTo>
                  <a:lnTo>
                    <a:pt x="2361" y="988"/>
                  </a:lnTo>
                  <a:lnTo>
                    <a:pt x="2334" y="1019"/>
                  </a:lnTo>
                  <a:lnTo>
                    <a:pt x="2299" y="1046"/>
                  </a:lnTo>
                  <a:lnTo>
                    <a:pt x="2268" y="1072"/>
                  </a:lnTo>
                  <a:lnTo>
                    <a:pt x="2237" y="1099"/>
                  </a:lnTo>
                  <a:lnTo>
                    <a:pt x="2202" y="1121"/>
                  </a:lnTo>
                  <a:lnTo>
                    <a:pt x="2167" y="1147"/>
                  </a:lnTo>
                  <a:lnTo>
                    <a:pt x="2131" y="1169"/>
                  </a:lnTo>
                  <a:lnTo>
                    <a:pt x="2096" y="1191"/>
                  </a:lnTo>
                  <a:lnTo>
                    <a:pt x="2065" y="1209"/>
                  </a:lnTo>
                  <a:lnTo>
                    <a:pt x="2034" y="1226"/>
                  </a:lnTo>
                  <a:lnTo>
                    <a:pt x="1990" y="1248"/>
                  </a:lnTo>
                  <a:lnTo>
                    <a:pt x="1951" y="1266"/>
                  </a:lnTo>
                  <a:lnTo>
                    <a:pt x="1906" y="1284"/>
                  </a:lnTo>
                  <a:lnTo>
                    <a:pt x="1871" y="1297"/>
                  </a:lnTo>
                  <a:lnTo>
                    <a:pt x="1839" y="1310"/>
                  </a:lnTo>
                  <a:lnTo>
                    <a:pt x="1800" y="1319"/>
                  </a:lnTo>
                  <a:lnTo>
                    <a:pt x="1764" y="1332"/>
                  </a:lnTo>
                  <a:lnTo>
                    <a:pt x="1725" y="1341"/>
                  </a:lnTo>
                  <a:lnTo>
                    <a:pt x="1685" y="1350"/>
                  </a:lnTo>
                  <a:lnTo>
                    <a:pt x="1641" y="1359"/>
                  </a:lnTo>
                  <a:lnTo>
                    <a:pt x="1597" y="1363"/>
                  </a:lnTo>
                  <a:lnTo>
                    <a:pt x="1553" y="1368"/>
                  </a:lnTo>
                  <a:lnTo>
                    <a:pt x="1517" y="1368"/>
                  </a:lnTo>
                  <a:lnTo>
                    <a:pt x="1473" y="1372"/>
                  </a:lnTo>
                  <a:lnTo>
                    <a:pt x="1425" y="1372"/>
                  </a:lnTo>
                  <a:lnTo>
                    <a:pt x="1390" y="1372"/>
                  </a:lnTo>
                  <a:lnTo>
                    <a:pt x="1350" y="1368"/>
                  </a:lnTo>
                  <a:lnTo>
                    <a:pt x="1306" y="1368"/>
                  </a:lnTo>
                  <a:lnTo>
                    <a:pt x="1266" y="1359"/>
                  </a:lnTo>
                  <a:lnTo>
                    <a:pt x="1231" y="1354"/>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 name=""/>
            <p:cNvSpPr/>
            <p:nvPr/>
          </p:nvSpPr>
          <p:spPr>
            <a:xfrm>
              <a:off x="4021200" y="4878360"/>
              <a:ext cx="451080" cy="883080"/>
            </a:xfrm>
            <a:custGeom>
              <a:avLst/>
              <a:gdLst/>
              <a:ahLst/>
              <a:rect l="0" t="0" r="r" b="b"/>
              <a:pathLst>
                <a:path w="1253" h="2453">
                  <a:moveTo>
                    <a:pt x="0" y="0"/>
                  </a:moveTo>
                  <a:lnTo>
                    <a:pt x="26" y="4"/>
                  </a:lnTo>
                  <a:lnTo>
                    <a:pt x="52" y="8"/>
                  </a:lnTo>
                  <a:lnTo>
                    <a:pt x="92" y="17"/>
                  </a:lnTo>
                  <a:lnTo>
                    <a:pt x="119" y="22"/>
                  </a:lnTo>
                  <a:lnTo>
                    <a:pt x="145" y="30"/>
                  </a:lnTo>
                  <a:lnTo>
                    <a:pt x="171" y="44"/>
                  </a:lnTo>
                  <a:lnTo>
                    <a:pt x="202" y="48"/>
                  </a:lnTo>
                  <a:lnTo>
                    <a:pt x="229" y="57"/>
                  </a:lnTo>
                  <a:lnTo>
                    <a:pt x="255" y="70"/>
                  </a:lnTo>
                  <a:lnTo>
                    <a:pt x="291" y="83"/>
                  </a:lnTo>
                  <a:lnTo>
                    <a:pt x="317" y="97"/>
                  </a:lnTo>
                  <a:lnTo>
                    <a:pt x="348" y="110"/>
                  </a:lnTo>
                  <a:lnTo>
                    <a:pt x="379" y="127"/>
                  </a:lnTo>
                  <a:lnTo>
                    <a:pt x="410" y="141"/>
                  </a:lnTo>
                  <a:lnTo>
                    <a:pt x="436" y="158"/>
                  </a:lnTo>
                  <a:lnTo>
                    <a:pt x="467" y="176"/>
                  </a:lnTo>
                  <a:lnTo>
                    <a:pt x="489" y="189"/>
                  </a:lnTo>
                  <a:lnTo>
                    <a:pt x="511" y="207"/>
                  </a:lnTo>
                  <a:lnTo>
                    <a:pt x="542" y="224"/>
                  </a:lnTo>
                  <a:lnTo>
                    <a:pt x="568" y="246"/>
                  </a:lnTo>
                  <a:lnTo>
                    <a:pt x="595" y="268"/>
                  </a:lnTo>
                  <a:lnTo>
                    <a:pt x="621" y="291"/>
                  </a:lnTo>
                  <a:lnTo>
                    <a:pt x="649" y="308"/>
                  </a:lnTo>
                  <a:lnTo>
                    <a:pt x="688" y="339"/>
                  </a:lnTo>
                  <a:lnTo>
                    <a:pt x="728" y="383"/>
                  </a:lnTo>
                  <a:lnTo>
                    <a:pt x="759" y="410"/>
                  </a:lnTo>
                  <a:lnTo>
                    <a:pt x="794" y="454"/>
                  </a:lnTo>
                  <a:lnTo>
                    <a:pt x="821" y="485"/>
                  </a:lnTo>
                  <a:lnTo>
                    <a:pt x="847" y="524"/>
                  </a:lnTo>
                  <a:lnTo>
                    <a:pt x="878" y="564"/>
                  </a:lnTo>
                  <a:lnTo>
                    <a:pt x="904" y="599"/>
                  </a:lnTo>
                  <a:lnTo>
                    <a:pt x="931" y="644"/>
                  </a:lnTo>
                  <a:lnTo>
                    <a:pt x="957" y="688"/>
                  </a:lnTo>
                  <a:lnTo>
                    <a:pt x="979" y="733"/>
                  </a:lnTo>
                  <a:lnTo>
                    <a:pt x="1002" y="772"/>
                  </a:lnTo>
                  <a:lnTo>
                    <a:pt x="1024" y="821"/>
                  </a:lnTo>
                  <a:lnTo>
                    <a:pt x="1041" y="865"/>
                  </a:lnTo>
                  <a:lnTo>
                    <a:pt x="1059" y="913"/>
                  </a:lnTo>
                  <a:lnTo>
                    <a:pt x="1076" y="966"/>
                  </a:lnTo>
                  <a:lnTo>
                    <a:pt x="1099" y="1028"/>
                  </a:lnTo>
                  <a:lnTo>
                    <a:pt x="1112" y="1090"/>
                  </a:lnTo>
                  <a:lnTo>
                    <a:pt x="1125" y="1151"/>
                  </a:lnTo>
                  <a:lnTo>
                    <a:pt x="1134" y="1213"/>
                  </a:lnTo>
                  <a:lnTo>
                    <a:pt x="1143" y="1279"/>
                  </a:lnTo>
                  <a:lnTo>
                    <a:pt x="1151" y="1368"/>
                  </a:lnTo>
                  <a:lnTo>
                    <a:pt x="1151" y="1438"/>
                  </a:lnTo>
                  <a:lnTo>
                    <a:pt x="1151" y="1504"/>
                  </a:lnTo>
                  <a:lnTo>
                    <a:pt x="1143" y="1566"/>
                  </a:lnTo>
                  <a:lnTo>
                    <a:pt x="1138" y="1628"/>
                  </a:lnTo>
                  <a:lnTo>
                    <a:pt x="1129" y="1689"/>
                  </a:lnTo>
                  <a:lnTo>
                    <a:pt x="1116" y="1756"/>
                  </a:lnTo>
                  <a:lnTo>
                    <a:pt x="1099" y="1826"/>
                  </a:lnTo>
                  <a:lnTo>
                    <a:pt x="1081" y="1898"/>
                  </a:lnTo>
                  <a:lnTo>
                    <a:pt x="1059" y="1964"/>
                  </a:lnTo>
                  <a:lnTo>
                    <a:pt x="1032" y="2026"/>
                  </a:lnTo>
                  <a:lnTo>
                    <a:pt x="1006" y="2087"/>
                  </a:lnTo>
                  <a:lnTo>
                    <a:pt x="971" y="2149"/>
                  </a:lnTo>
                  <a:lnTo>
                    <a:pt x="1253" y="2317"/>
                  </a:lnTo>
                  <a:lnTo>
                    <a:pt x="392" y="2453"/>
                  </a:lnTo>
                  <a:lnTo>
                    <a:pt x="79" y="1614"/>
                  </a:lnTo>
                  <a:lnTo>
                    <a:pt x="405" y="1804"/>
                  </a:lnTo>
                  <a:lnTo>
                    <a:pt x="440" y="1751"/>
                  </a:lnTo>
                  <a:lnTo>
                    <a:pt x="458" y="1703"/>
                  </a:lnTo>
                  <a:lnTo>
                    <a:pt x="476" y="1654"/>
                  </a:lnTo>
                  <a:lnTo>
                    <a:pt x="489" y="1601"/>
                  </a:lnTo>
                  <a:lnTo>
                    <a:pt x="498" y="1553"/>
                  </a:lnTo>
                  <a:lnTo>
                    <a:pt x="502" y="1509"/>
                  </a:lnTo>
                  <a:lnTo>
                    <a:pt x="507" y="1460"/>
                  </a:lnTo>
                  <a:lnTo>
                    <a:pt x="507" y="1416"/>
                  </a:lnTo>
                  <a:lnTo>
                    <a:pt x="502" y="1359"/>
                  </a:lnTo>
                  <a:lnTo>
                    <a:pt x="498" y="1306"/>
                  </a:lnTo>
                  <a:lnTo>
                    <a:pt x="485" y="1248"/>
                  </a:lnTo>
                  <a:lnTo>
                    <a:pt x="476" y="1200"/>
                  </a:lnTo>
                  <a:lnTo>
                    <a:pt x="454" y="1147"/>
                  </a:lnTo>
                  <a:lnTo>
                    <a:pt x="436" y="1099"/>
                  </a:lnTo>
                  <a:lnTo>
                    <a:pt x="414" y="1054"/>
                  </a:lnTo>
                  <a:lnTo>
                    <a:pt x="392" y="1019"/>
                  </a:lnTo>
                  <a:lnTo>
                    <a:pt x="374" y="993"/>
                  </a:lnTo>
                  <a:lnTo>
                    <a:pt x="352" y="962"/>
                  </a:lnTo>
                  <a:lnTo>
                    <a:pt x="330" y="935"/>
                  </a:lnTo>
                  <a:lnTo>
                    <a:pt x="308" y="904"/>
                  </a:lnTo>
                  <a:lnTo>
                    <a:pt x="286" y="882"/>
                  </a:lnTo>
                  <a:lnTo>
                    <a:pt x="260" y="856"/>
                  </a:lnTo>
                  <a:lnTo>
                    <a:pt x="238" y="834"/>
                  </a:lnTo>
                  <a:lnTo>
                    <a:pt x="207" y="812"/>
                  </a:lnTo>
                  <a:lnTo>
                    <a:pt x="176" y="790"/>
                  </a:lnTo>
                  <a:lnTo>
                    <a:pt x="145" y="768"/>
                  </a:lnTo>
                  <a:lnTo>
                    <a:pt x="123" y="755"/>
                  </a:lnTo>
                  <a:lnTo>
                    <a:pt x="88" y="733"/>
                  </a:lnTo>
                  <a:lnTo>
                    <a:pt x="52" y="719"/>
                  </a:lnTo>
                  <a:lnTo>
                    <a:pt x="0" y="702"/>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3438360" y="4762440"/>
              <a:ext cx="671760" cy="798840"/>
            </a:xfrm>
            <a:custGeom>
              <a:avLst/>
              <a:gdLst/>
              <a:ahLst/>
              <a:rect l="0" t="0" r="r" b="b"/>
              <a:pathLst>
                <a:path w="1866" h="2219">
                  <a:moveTo>
                    <a:pt x="1156" y="326"/>
                  </a:moveTo>
                  <a:lnTo>
                    <a:pt x="1129" y="330"/>
                  </a:lnTo>
                  <a:lnTo>
                    <a:pt x="1099" y="335"/>
                  </a:lnTo>
                  <a:lnTo>
                    <a:pt x="1063" y="343"/>
                  </a:lnTo>
                  <a:lnTo>
                    <a:pt x="1037" y="348"/>
                  </a:lnTo>
                  <a:lnTo>
                    <a:pt x="1010" y="357"/>
                  </a:lnTo>
                  <a:lnTo>
                    <a:pt x="984" y="366"/>
                  </a:lnTo>
                  <a:lnTo>
                    <a:pt x="953" y="374"/>
                  </a:lnTo>
                  <a:lnTo>
                    <a:pt x="930" y="383"/>
                  </a:lnTo>
                  <a:lnTo>
                    <a:pt x="899" y="396"/>
                  </a:lnTo>
                  <a:lnTo>
                    <a:pt x="864" y="410"/>
                  </a:lnTo>
                  <a:lnTo>
                    <a:pt x="833" y="423"/>
                  </a:lnTo>
                  <a:lnTo>
                    <a:pt x="806" y="436"/>
                  </a:lnTo>
                  <a:lnTo>
                    <a:pt x="771" y="449"/>
                  </a:lnTo>
                  <a:lnTo>
                    <a:pt x="740" y="467"/>
                  </a:lnTo>
                  <a:lnTo>
                    <a:pt x="714" y="480"/>
                  </a:lnTo>
                  <a:lnTo>
                    <a:pt x="687" y="498"/>
                  </a:lnTo>
                  <a:lnTo>
                    <a:pt x="661" y="515"/>
                  </a:lnTo>
                  <a:lnTo>
                    <a:pt x="639" y="533"/>
                  </a:lnTo>
                  <a:lnTo>
                    <a:pt x="612" y="551"/>
                  </a:lnTo>
                  <a:lnTo>
                    <a:pt x="582" y="568"/>
                  </a:lnTo>
                  <a:lnTo>
                    <a:pt x="555" y="590"/>
                  </a:lnTo>
                  <a:lnTo>
                    <a:pt x="529" y="612"/>
                  </a:lnTo>
                  <a:lnTo>
                    <a:pt x="507" y="630"/>
                  </a:lnTo>
                  <a:lnTo>
                    <a:pt x="467" y="665"/>
                  </a:lnTo>
                  <a:lnTo>
                    <a:pt x="427" y="705"/>
                  </a:lnTo>
                  <a:lnTo>
                    <a:pt x="396" y="736"/>
                  </a:lnTo>
                  <a:lnTo>
                    <a:pt x="357" y="780"/>
                  </a:lnTo>
                  <a:lnTo>
                    <a:pt x="335" y="811"/>
                  </a:lnTo>
                  <a:lnTo>
                    <a:pt x="304" y="846"/>
                  </a:lnTo>
                  <a:lnTo>
                    <a:pt x="273" y="886"/>
                  </a:lnTo>
                  <a:lnTo>
                    <a:pt x="246" y="926"/>
                  </a:lnTo>
                  <a:lnTo>
                    <a:pt x="224" y="970"/>
                  </a:lnTo>
                  <a:lnTo>
                    <a:pt x="194" y="1009"/>
                  </a:lnTo>
                  <a:lnTo>
                    <a:pt x="171" y="1053"/>
                  </a:lnTo>
                  <a:lnTo>
                    <a:pt x="149" y="1093"/>
                  </a:lnTo>
                  <a:lnTo>
                    <a:pt x="127" y="1143"/>
                  </a:lnTo>
                  <a:lnTo>
                    <a:pt x="110" y="1191"/>
                  </a:lnTo>
                  <a:lnTo>
                    <a:pt x="92" y="1240"/>
                  </a:lnTo>
                  <a:lnTo>
                    <a:pt x="74" y="1288"/>
                  </a:lnTo>
                  <a:lnTo>
                    <a:pt x="52" y="1354"/>
                  </a:lnTo>
                  <a:lnTo>
                    <a:pt x="39" y="1416"/>
                  </a:lnTo>
                  <a:lnTo>
                    <a:pt x="26" y="1478"/>
                  </a:lnTo>
                  <a:lnTo>
                    <a:pt x="17" y="1535"/>
                  </a:lnTo>
                  <a:lnTo>
                    <a:pt x="8" y="1606"/>
                  </a:lnTo>
                  <a:lnTo>
                    <a:pt x="0" y="1689"/>
                  </a:lnTo>
                  <a:lnTo>
                    <a:pt x="0" y="1760"/>
                  </a:lnTo>
                  <a:lnTo>
                    <a:pt x="0" y="1826"/>
                  </a:lnTo>
                  <a:lnTo>
                    <a:pt x="8" y="1892"/>
                  </a:lnTo>
                  <a:lnTo>
                    <a:pt x="13" y="1950"/>
                  </a:lnTo>
                  <a:lnTo>
                    <a:pt x="22" y="2011"/>
                  </a:lnTo>
                  <a:lnTo>
                    <a:pt x="35" y="2077"/>
                  </a:lnTo>
                  <a:lnTo>
                    <a:pt x="52" y="2148"/>
                  </a:lnTo>
                  <a:lnTo>
                    <a:pt x="70" y="2219"/>
                  </a:lnTo>
                  <a:lnTo>
                    <a:pt x="194" y="1817"/>
                  </a:lnTo>
                  <a:lnTo>
                    <a:pt x="661" y="1901"/>
                  </a:lnTo>
                  <a:lnTo>
                    <a:pt x="648" y="1831"/>
                  </a:lnTo>
                  <a:lnTo>
                    <a:pt x="643" y="1786"/>
                  </a:lnTo>
                  <a:lnTo>
                    <a:pt x="643" y="1738"/>
                  </a:lnTo>
                  <a:lnTo>
                    <a:pt x="648" y="1681"/>
                  </a:lnTo>
                  <a:lnTo>
                    <a:pt x="657" y="1632"/>
                  </a:lnTo>
                  <a:lnTo>
                    <a:pt x="665" y="1570"/>
                  </a:lnTo>
                  <a:lnTo>
                    <a:pt x="679" y="1522"/>
                  </a:lnTo>
                  <a:lnTo>
                    <a:pt x="696" y="1469"/>
                  </a:lnTo>
                  <a:lnTo>
                    <a:pt x="718" y="1425"/>
                  </a:lnTo>
                  <a:lnTo>
                    <a:pt x="740" y="1376"/>
                  </a:lnTo>
                  <a:lnTo>
                    <a:pt x="758" y="1345"/>
                  </a:lnTo>
                  <a:lnTo>
                    <a:pt x="780" y="1315"/>
                  </a:lnTo>
                  <a:lnTo>
                    <a:pt x="798" y="1288"/>
                  </a:lnTo>
                  <a:lnTo>
                    <a:pt x="820" y="1257"/>
                  </a:lnTo>
                  <a:lnTo>
                    <a:pt x="846" y="1231"/>
                  </a:lnTo>
                  <a:lnTo>
                    <a:pt x="868" y="1209"/>
                  </a:lnTo>
                  <a:lnTo>
                    <a:pt x="890" y="1182"/>
                  </a:lnTo>
                  <a:lnTo>
                    <a:pt x="917" y="1160"/>
                  </a:lnTo>
                  <a:lnTo>
                    <a:pt x="944" y="1138"/>
                  </a:lnTo>
                  <a:lnTo>
                    <a:pt x="979" y="1116"/>
                  </a:lnTo>
                  <a:lnTo>
                    <a:pt x="1010" y="1093"/>
                  </a:lnTo>
                  <a:lnTo>
                    <a:pt x="1032" y="1080"/>
                  </a:lnTo>
                  <a:lnTo>
                    <a:pt x="1068" y="1058"/>
                  </a:lnTo>
                  <a:lnTo>
                    <a:pt x="1099" y="1045"/>
                  </a:lnTo>
                  <a:lnTo>
                    <a:pt x="1125" y="1036"/>
                  </a:lnTo>
                  <a:lnTo>
                    <a:pt x="1156" y="1023"/>
                  </a:lnTo>
                  <a:lnTo>
                    <a:pt x="1196" y="1014"/>
                  </a:lnTo>
                  <a:lnTo>
                    <a:pt x="1235" y="1005"/>
                  </a:lnTo>
                  <a:lnTo>
                    <a:pt x="1279" y="1001"/>
                  </a:lnTo>
                  <a:lnTo>
                    <a:pt x="1319" y="1001"/>
                  </a:lnTo>
                  <a:lnTo>
                    <a:pt x="1341" y="996"/>
                  </a:lnTo>
                  <a:lnTo>
                    <a:pt x="1341" y="1359"/>
                  </a:lnTo>
                  <a:lnTo>
                    <a:pt x="1866" y="687"/>
                  </a:lnTo>
                  <a:lnTo>
                    <a:pt x="1345" y="0"/>
                  </a:lnTo>
                  <a:lnTo>
                    <a:pt x="1345" y="308"/>
                  </a:lnTo>
                  <a:lnTo>
                    <a:pt x="1315" y="313"/>
                  </a:lnTo>
                  <a:lnTo>
                    <a:pt x="1275" y="313"/>
                  </a:lnTo>
                  <a:lnTo>
                    <a:pt x="1231" y="317"/>
                  </a:lnTo>
                  <a:lnTo>
                    <a:pt x="1191" y="321"/>
                  </a:lnTo>
                  <a:lnTo>
                    <a:pt x="1156" y="326"/>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116" name="" descr=""/>
          <p:cNvPicPr/>
          <p:nvPr/>
        </p:nvPicPr>
        <p:blipFill>
          <a:blip r:embed="rId3"/>
          <a:stretch/>
        </p:blipFill>
        <p:spPr>
          <a:xfrm>
            <a:off x="2174760" y="2771640"/>
            <a:ext cx="700200" cy="1206360"/>
          </a:xfrm>
          <a:prstGeom prst="rect">
            <a:avLst/>
          </a:prstGeom>
          <a:ln w="0">
            <a:noFill/>
          </a:ln>
        </p:spPr>
      </p:pic>
      <p:sp>
        <p:nvSpPr>
          <p:cNvPr id="117" name=""/>
          <p:cNvSpPr txBox="1"/>
          <p:nvPr/>
        </p:nvSpPr>
        <p:spPr>
          <a:xfrm>
            <a:off x="6853320" y="5086440"/>
            <a:ext cx="2314440" cy="8190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Information</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vs. Knowledge</a:t>
            </a:r>
            <a:endParaRPr b="0" lang="en-US" sz="2400" spc="-1" strike="noStrike">
              <a:solidFill>
                <a:srgbClr val="000000"/>
              </a:solidFill>
              <a:latin typeface="Arial"/>
            </a:endParaRPr>
          </a:p>
        </p:txBody>
      </p:sp>
      <p:sp>
        <p:nvSpPr>
          <p:cNvPr id="118" name=""/>
          <p:cNvSpPr txBox="1"/>
          <p:nvPr/>
        </p:nvSpPr>
        <p:spPr>
          <a:xfrm>
            <a:off x="7983360" y="3695760"/>
            <a:ext cx="1806480" cy="819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Knowledg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genda</a:t>
            </a:r>
            <a:endParaRPr b="0" lang="en-US" sz="2400" spc="-1" strike="noStrike">
              <a:solidFill>
                <a:srgbClr val="000000"/>
              </a:solidFill>
              <a:latin typeface="Arial"/>
            </a:endParaRPr>
          </a:p>
        </p:txBody>
      </p:sp>
      <p:sp>
        <p:nvSpPr>
          <p:cNvPr id="119" name=""/>
          <p:cNvSpPr txBox="1"/>
          <p:nvPr/>
        </p:nvSpPr>
        <p:spPr>
          <a:xfrm>
            <a:off x="657360" y="5605560"/>
            <a:ext cx="28749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Knowledge Cycles</a:t>
            </a:r>
            <a:endParaRPr b="0" lang="en-US" sz="2400" spc="-1" strike="noStrike">
              <a:solidFill>
                <a:srgbClr val="000000"/>
              </a:solidFill>
              <a:latin typeface="Arial"/>
            </a:endParaRPr>
          </a:p>
        </p:txBody>
      </p:sp>
      <p:sp>
        <p:nvSpPr>
          <p:cNvPr id="120" name=""/>
          <p:cNvSpPr txBox="1"/>
          <p:nvPr/>
        </p:nvSpPr>
        <p:spPr>
          <a:xfrm>
            <a:off x="490680" y="1566720"/>
            <a:ext cx="195912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mplications</a:t>
            </a:r>
            <a:endParaRPr b="0" lang="en-US" sz="2400" spc="-1" strike="noStrike">
              <a:solidFill>
                <a:srgbClr val="000000"/>
              </a:solidFill>
              <a:latin typeface="Arial"/>
            </a:endParaRPr>
          </a:p>
        </p:txBody>
      </p:sp>
      <p:sp>
        <p:nvSpPr>
          <p:cNvPr id="121" name=""/>
          <p:cNvSpPr txBox="1"/>
          <p:nvPr/>
        </p:nvSpPr>
        <p:spPr>
          <a:xfrm>
            <a:off x="176040" y="2838600"/>
            <a:ext cx="2179800" cy="819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Lessons from</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Leaders</a:t>
            </a:r>
            <a:endParaRPr b="0" lang="en-US" sz="2400" spc="-1" strike="noStrike">
              <a:solidFill>
                <a:srgbClr val="000000"/>
              </a:solidFill>
              <a:latin typeface="Arial"/>
            </a:endParaRPr>
          </a:p>
        </p:txBody>
      </p:sp>
      <p:sp>
        <p:nvSpPr>
          <p:cNvPr id="122" name=""/>
          <p:cNvSpPr/>
          <p:nvPr/>
        </p:nvSpPr>
        <p:spPr>
          <a:xfrm>
            <a:off x="2631960" y="345744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1"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eltech Resources</a:t>
            </a:r>
            <a:endParaRPr b="0" lang="en-US" sz="3600" spc="-1" strike="noStrike">
              <a:solidFill>
                <a:srgbClr val="000000"/>
              </a:solidFill>
              <a:latin typeface="Arial"/>
            </a:endParaRPr>
          </a:p>
        </p:txBody>
      </p:sp>
      <p:sp>
        <p:nvSpPr>
          <p:cNvPr id="292" name=""/>
          <p:cNvSpPr txBox="1"/>
          <p:nvPr/>
        </p:nvSpPr>
        <p:spPr>
          <a:xfrm>
            <a:off x="452520" y="1533600"/>
            <a:ext cx="94410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t>
            </a:r>
            <a:r>
              <a:rPr b="0" lang="en-US" sz="3200" spc="-1" strike="noStrike">
                <a:solidFill>
                  <a:srgbClr val="000000"/>
                </a:solidFill>
                <a:latin typeface="Arial"/>
                <a:ea typeface="Arial"/>
              </a:rPr>
              <a:t>Experts for Hire”</a:t>
            </a:r>
            <a:r>
              <a:rPr b="0" lang="en-US" sz="2400" spc="-1" strike="noStrike">
                <a:solidFill>
                  <a:srgbClr val="000000"/>
                </a:solidFill>
                <a:latin typeface="Arial"/>
                <a:ea typeface="Arial"/>
              </a:rPr>
              <a:t> - 3000 plus; many fields</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Services</a:t>
            </a:r>
            <a:r>
              <a:rPr b="0" lang="en-US" sz="2400" spc="-1" strike="noStrike">
                <a:solidFill>
                  <a:srgbClr val="000000"/>
                </a:solidFill>
                <a:latin typeface="Arial"/>
                <a:ea typeface="Arial"/>
              </a:rPr>
              <a:t> - assisted database, vendors, technical alert</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Scope</a:t>
            </a:r>
            <a:r>
              <a:rPr b="0" lang="en-US" sz="2400" spc="-1" strike="noStrike">
                <a:solidFill>
                  <a:srgbClr val="000000"/>
                </a:solidFill>
                <a:latin typeface="Arial"/>
                <a:ea typeface="Arial"/>
              </a:rPr>
              <a:t>   - a taxonomy; 1000 new terms/mth</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Analysts</a:t>
            </a:r>
            <a:r>
              <a:rPr b="0" lang="en-US" sz="2400" spc="-1" strike="noStrike">
                <a:solidFill>
                  <a:srgbClr val="000000"/>
                </a:solidFill>
                <a:latin typeface="Arial"/>
                <a:ea typeface="Arial"/>
              </a:rPr>
              <a:t> - client/user bridging</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Reorient client’s ‘information behaviour’</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Monthly service summaries</a:t>
            </a: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063de8"/>
                </a:solidFill>
                <a:latin typeface="Arial"/>
                <a:ea typeface="Arial"/>
              </a:rPr>
              <a:t>  </a:t>
            </a:r>
            <a:r>
              <a:rPr b="0" i="1" lang="en-US" sz="3200" spc="-1" strike="noStrike">
                <a:solidFill>
                  <a:srgbClr val="063de8"/>
                </a:solidFill>
                <a:latin typeface="Arial"/>
                <a:ea typeface="Arial"/>
              </a:rPr>
              <a:t>Bottom Line - successful KM consulting service</a:t>
            </a:r>
            <a:endParaRPr b="0" lang="en-US" sz="3200" spc="-1" strike="noStrike">
              <a:solidFill>
                <a:srgbClr val="000000"/>
              </a:solidFill>
              <a:latin typeface="Arial"/>
            </a:endParaRPr>
          </a:p>
        </p:txBody>
      </p:sp>
      <p:sp>
        <p:nvSpPr>
          <p:cNvPr id="293" name=""/>
          <p:cNvSpPr txBox="1"/>
          <p:nvPr/>
        </p:nvSpPr>
        <p:spPr>
          <a:xfrm>
            <a:off x="3940200" y="2695680"/>
            <a:ext cx="4381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4"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exas Instruments</a:t>
            </a:r>
            <a:endParaRPr b="0" lang="en-US" sz="3600" spc="-1" strike="noStrike">
              <a:solidFill>
                <a:srgbClr val="000000"/>
              </a:solidFill>
              <a:latin typeface="Arial"/>
            </a:endParaRPr>
          </a:p>
        </p:txBody>
      </p:sp>
      <p:sp>
        <p:nvSpPr>
          <p:cNvPr id="295" name=""/>
          <p:cNvSpPr txBox="1"/>
          <p:nvPr/>
        </p:nvSpPr>
        <p:spPr>
          <a:xfrm>
            <a:off x="366840" y="1419120"/>
            <a:ext cx="89154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Quality Leadership - define excellenc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TI-BEST (1995) - 15 person core team</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Best Practice Definition - per proces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Sharing via Database; OBP; visit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Facilitator Network (138) - culture chang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ShareFair (1996) - 500 attended - award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Biggest challenge - trusting, sharing culture</a:t>
            </a: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000000"/>
                </a:solidFill>
                <a:latin typeface="Arial"/>
                <a:ea typeface="Arial"/>
              </a:rPr>
              <a:t>  </a:t>
            </a:r>
            <a:r>
              <a:rPr b="0" i="1" lang="en-US" sz="3200" spc="-1" strike="noStrike">
                <a:solidFill>
                  <a:srgbClr val="063de8"/>
                </a:solidFill>
                <a:latin typeface="Arial"/>
                <a:ea typeface="Arial"/>
              </a:rPr>
              <a:t>Bottom Line - One Free Fab Pl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6"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uckman Laboratories </a:t>
            </a:r>
            <a:endParaRPr b="0" lang="en-US" sz="3600" spc="-1" strike="noStrike">
              <a:solidFill>
                <a:srgbClr val="000000"/>
              </a:solidFill>
              <a:latin typeface="Arial"/>
            </a:endParaRPr>
          </a:p>
        </p:txBody>
      </p:sp>
      <p:sp>
        <p:nvSpPr>
          <p:cNvPr id="297" name=""/>
          <p:cNvSpPr txBox="1"/>
          <p:nvPr/>
        </p:nvSpPr>
        <p:spPr>
          <a:xfrm>
            <a:off x="438120" y="1376280"/>
            <a:ext cx="89154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t>
            </a:r>
            <a:r>
              <a:rPr b="0" lang="en-US" sz="3200" spc="-1" strike="noStrike">
                <a:solidFill>
                  <a:srgbClr val="000000"/>
                </a:solidFill>
                <a:latin typeface="Arial"/>
                <a:ea typeface="Arial"/>
              </a:rPr>
              <a:t>Solutions lie in minds, not database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orporate network (V1 - CIS) - up in 30 day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Transfer department and VP</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EO monitors and uses the network</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FAQs, virtual conferences, forum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etix (sm) - knowledge sharing Intranet</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Metrics - direct customer engagement</a:t>
            </a: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000000"/>
                </a:solidFill>
                <a:latin typeface="Arial"/>
                <a:ea typeface="Arial"/>
              </a:rPr>
              <a:t>Bottom line - open, unrestricted commun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8"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ritical Factors</a:t>
            </a:r>
            <a:endParaRPr b="0" lang="en-US" sz="3600" spc="-1" strike="noStrike">
              <a:solidFill>
                <a:srgbClr val="000000"/>
              </a:solidFill>
              <a:latin typeface="Arial"/>
            </a:endParaRPr>
          </a:p>
        </p:txBody>
      </p:sp>
      <p:sp>
        <p:nvSpPr>
          <p:cNvPr id="299" name=""/>
          <p:cNvSpPr txBox="1"/>
          <p:nvPr/>
        </p:nvSpPr>
        <p:spPr>
          <a:xfrm>
            <a:off x="209520" y="1405080"/>
            <a:ext cx="86472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Strong link to business imperativ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ompelling vision and architectur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leadership</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creating and sharing cultur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ontinuous Learning</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Well developed ICT infrastructur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Systematic knowledge proc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00"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nowledge Leadership</a:t>
            </a:r>
            <a:endParaRPr b="0" lang="en-US" sz="3600" spc="-1" strike="noStrike">
              <a:solidFill>
                <a:srgbClr val="000000"/>
              </a:solidFill>
              <a:latin typeface="Arial"/>
            </a:endParaRPr>
          </a:p>
        </p:txBody>
      </p:sp>
      <p:sp>
        <p:nvSpPr>
          <p:cNvPr id="301" name=""/>
          <p:cNvSpPr txBox="1"/>
          <p:nvPr/>
        </p:nvSpPr>
        <p:spPr>
          <a:xfrm>
            <a:off x="452520" y="1533600"/>
            <a:ext cx="94410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lear vision and value proposition e.g.</a:t>
            </a:r>
            <a:endParaRPr b="0" lang="en-US" sz="3200" spc="-1" strike="noStrike">
              <a:solidFill>
                <a:srgbClr val="000000"/>
              </a:solidFill>
              <a:latin typeface="Arial"/>
            </a:endParaRPr>
          </a:p>
          <a:p>
            <a:pPr lvl="1" marL="743040" indent="-28584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share best practice       - faster innovation</a:t>
            </a:r>
            <a:endParaRPr b="0" lang="en-US" sz="2800" spc="-1" strike="noStrike">
              <a:solidFill>
                <a:srgbClr val="000000"/>
              </a:solidFill>
              <a:latin typeface="Arial"/>
            </a:endParaRPr>
          </a:p>
          <a:p>
            <a:pPr lvl="1" marL="743040" indent="-28584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reusable knowledge     - developing competency</a:t>
            </a:r>
            <a:endParaRPr b="0" lang="en-US" sz="2800" spc="-1" strike="noStrike">
              <a:solidFill>
                <a:srgbClr val="000000"/>
              </a:solidFill>
              <a:latin typeface="Arial"/>
            </a:endParaRPr>
          </a:p>
          <a:p>
            <a:pPr lvl="1" marL="743040" indent="-28584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intellectual assets         - know-how businesses</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Frameworks for action - simple model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Find champions in the business - change agent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Facilitate networking - tap into expertis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Excellent communicators - internal and exter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02"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mplications - Info Scientists</a:t>
            </a:r>
            <a:endParaRPr b="0" lang="en-US" sz="3600" spc="-1" strike="noStrike">
              <a:solidFill>
                <a:srgbClr val="000000"/>
              </a:solidFill>
              <a:latin typeface="Arial"/>
            </a:endParaRPr>
          </a:p>
        </p:txBody>
      </p:sp>
      <p:sp>
        <p:nvSpPr>
          <p:cNvPr id="303" name=""/>
          <p:cNvSpPr txBox="1"/>
          <p:nvPr/>
        </p:nvSpPr>
        <p:spPr>
          <a:xfrm>
            <a:off x="266760" y="1533600"/>
            <a:ext cx="94410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Don’t get hi-jacked - </a:t>
            </a:r>
            <a:r>
              <a:rPr b="0" lang="en-US" sz="2400" spc="-1" strike="noStrike">
                <a:solidFill>
                  <a:srgbClr val="000000"/>
                </a:solidFill>
                <a:latin typeface="Arial"/>
                <a:ea typeface="Arial"/>
              </a:rPr>
              <a:t>articulate the value of good info mgmt</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Develop partnerships with your CKO and user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Build the links from info to knowledge</a:t>
            </a:r>
            <a:r>
              <a:rPr b="0" lang="en-US" sz="2400" spc="-1" strike="noStrike">
                <a:solidFill>
                  <a:srgbClr val="000000"/>
                </a:solidFill>
                <a:latin typeface="Arial"/>
                <a:ea typeface="Arial"/>
              </a:rPr>
              <a:t> e.g. interactivity</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utomate information flows</a:t>
            </a:r>
            <a:r>
              <a:rPr b="0" lang="en-US" sz="2400" spc="-1" strike="noStrike">
                <a:solidFill>
                  <a:srgbClr val="000000"/>
                </a:solidFill>
                <a:latin typeface="Arial"/>
                <a:ea typeface="Arial"/>
              </a:rPr>
              <a:t> - help users help themselves</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dd the human element to information - </a:t>
            </a:r>
            <a:r>
              <a:rPr b="0" lang="en-US" sz="2400" spc="-1" strike="noStrike">
                <a:solidFill>
                  <a:srgbClr val="000000"/>
                </a:solidFill>
                <a:latin typeface="Arial"/>
                <a:ea typeface="Arial"/>
              </a:rPr>
              <a:t>know your business, personalise, nurutre CoPs, build your networks!</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Use knowledge management yourself - </a:t>
            </a:r>
            <a:r>
              <a:rPr b="0" lang="en-US" sz="2400" spc="-1" strike="noStrike">
                <a:solidFill>
                  <a:srgbClr val="000000"/>
                </a:solidFill>
                <a:latin typeface="Arial"/>
                <a:ea typeface="Arial"/>
              </a:rPr>
              <a:t>benchmark; apply best practice, learn continuously, add value to your Intra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04"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ontact Details</a:t>
            </a:r>
            <a:endParaRPr b="0" lang="en-US" sz="3600" spc="-1" strike="noStrike">
              <a:solidFill>
                <a:srgbClr val="000000"/>
              </a:solidFill>
              <a:latin typeface="Arial"/>
            </a:endParaRPr>
          </a:p>
        </p:txBody>
      </p:sp>
      <p:sp>
        <p:nvSpPr>
          <p:cNvPr id="305" name=""/>
          <p:cNvSpPr txBox="1"/>
          <p:nvPr/>
        </p:nvSpPr>
        <p:spPr>
          <a:xfrm>
            <a:off x="1023840" y="1433520"/>
            <a:ext cx="7772400" cy="4114800"/>
          </a:xfrm>
          <a:prstGeom prst="rect">
            <a:avLst/>
          </a:prstGeom>
          <a:noFill/>
          <a:ln w="0">
            <a:noFill/>
          </a:ln>
        </p:spPr>
        <p:txBody>
          <a:bodyPr lIns="0" rIns="0" tIns="0" bIns="0" anchor="t">
            <a:noAutofit/>
          </a:bodyPr>
          <a:p>
            <a:pPr marL="343080" indent="-343080" algn="ctr">
              <a:lnSpc>
                <a:spcPct val="80000"/>
              </a:lnSpc>
              <a:spcBef>
                <a:spcPts val="479"/>
              </a:spcBef>
            </a:pPr>
            <a:r>
              <a:rPr b="0" lang="en-US" sz="3200" spc="-1" strike="noStrike">
                <a:solidFill>
                  <a:srgbClr val="000000"/>
                </a:solidFill>
                <a:latin typeface="Arial"/>
                <a:ea typeface="Arial"/>
              </a:rPr>
              <a:t>Dr David J. Skyrme</a:t>
            </a:r>
            <a:endParaRPr b="0" lang="en-US" sz="3200" spc="-1" strike="noStrike">
              <a:solidFill>
                <a:srgbClr val="000000"/>
              </a:solidFill>
              <a:latin typeface="Arial"/>
            </a:endParaRPr>
          </a:p>
          <a:p>
            <a:pPr marL="343080" indent="-343080" algn="ctr">
              <a:lnSpc>
                <a:spcPct val="80000"/>
              </a:lnSpc>
              <a:spcBef>
                <a:spcPts val="479"/>
              </a:spcBef>
            </a:pPr>
            <a:r>
              <a:rPr b="0" lang="en-US" sz="3200" spc="-1" strike="noStrike">
                <a:solidFill>
                  <a:srgbClr val="000000"/>
                </a:solidFill>
                <a:latin typeface="Arial"/>
                <a:ea typeface="Arial"/>
              </a:rPr>
              <a:t>David Skyrme Associates Limited</a:t>
            </a:r>
            <a:endParaRPr b="0" lang="en-US" sz="3200" spc="-1" strike="noStrike">
              <a:solidFill>
                <a:srgbClr val="000000"/>
              </a:solidFill>
              <a:latin typeface="Arial"/>
            </a:endParaRPr>
          </a:p>
          <a:p>
            <a:pPr marL="343080" indent="-343080" algn="ctr">
              <a:lnSpc>
                <a:spcPct val="80000"/>
              </a:lnSpc>
              <a:spcBef>
                <a:spcPts val="479"/>
              </a:spcBef>
            </a:pPr>
            <a:r>
              <a:rPr b="0" lang="en-US" sz="3200" spc="-1" strike="noStrike">
                <a:solidFill>
                  <a:srgbClr val="000000"/>
                </a:solidFill>
                <a:latin typeface="Arial"/>
                <a:ea typeface="Arial"/>
              </a:rPr>
              <a:t>Cherry Gate, Tubbs Lane</a:t>
            </a:r>
            <a:endParaRPr b="0" lang="en-US" sz="3200" spc="-1" strike="noStrike">
              <a:solidFill>
                <a:srgbClr val="000000"/>
              </a:solidFill>
              <a:latin typeface="Arial"/>
            </a:endParaRPr>
          </a:p>
          <a:p>
            <a:pPr marL="343080" indent="-343080" algn="ctr">
              <a:lnSpc>
                <a:spcPct val="80000"/>
              </a:lnSpc>
              <a:spcBef>
                <a:spcPts val="479"/>
              </a:spcBef>
            </a:pPr>
            <a:r>
              <a:rPr b="0" lang="en-US" sz="3200" spc="-1" strike="noStrike">
                <a:solidFill>
                  <a:srgbClr val="000000"/>
                </a:solidFill>
                <a:latin typeface="Arial"/>
                <a:ea typeface="Arial"/>
              </a:rPr>
              <a:t>Highclere, NEWBURY</a:t>
            </a:r>
            <a:endParaRPr b="0" lang="en-US" sz="3200" spc="-1" strike="noStrike">
              <a:solidFill>
                <a:srgbClr val="000000"/>
              </a:solidFill>
              <a:latin typeface="Arial"/>
            </a:endParaRPr>
          </a:p>
          <a:p>
            <a:pPr marL="343080" indent="-343080" algn="ctr">
              <a:lnSpc>
                <a:spcPct val="80000"/>
              </a:lnSpc>
              <a:spcBef>
                <a:spcPts val="479"/>
              </a:spcBef>
            </a:pPr>
            <a:r>
              <a:rPr b="0" lang="en-US" sz="3200" spc="-1" strike="noStrike">
                <a:solidFill>
                  <a:srgbClr val="000000"/>
                </a:solidFill>
                <a:latin typeface="Arial"/>
                <a:ea typeface="Arial"/>
              </a:rPr>
              <a:t>RG20 9PR</a:t>
            </a:r>
            <a:endParaRPr b="0" lang="en-US" sz="3200" spc="-1" strike="noStrike">
              <a:solidFill>
                <a:srgbClr val="000000"/>
              </a:solidFill>
              <a:latin typeface="Arial"/>
            </a:endParaRPr>
          </a:p>
          <a:p>
            <a:pPr marL="343080" indent="-343080" algn="ctr">
              <a:lnSpc>
                <a:spcPct val="80000"/>
              </a:lnSpc>
              <a:spcBef>
                <a:spcPts val="479"/>
              </a:spcBef>
            </a:pPr>
            <a:endParaRPr b="0" lang="en-US" sz="3200" spc="-1" strike="noStrike">
              <a:solidFill>
                <a:srgbClr val="000000"/>
              </a:solidFill>
              <a:latin typeface="Arial"/>
            </a:endParaRPr>
          </a:p>
          <a:p>
            <a:pPr marL="343080" indent="-343080" algn="ctr">
              <a:lnSpc>
                <a:spcPct val="80000"/>
              </a:lnSpc>
              <a:spcBef>
                <a:spcPts val="479"/>
              </a:spcBef>
            </a:pPr>
            <a:r>
              <a:rPr b="0" lang="en-US" sz="3200" spc="-1" strike="noStrike">
                <a:solidFill>
                  <a:srgbClr val="000000"/>
                </a:solidFill>
                <a:latin typeface="Arial"/>
                <a:ea typeface="Arial"/>
              </a:rPr>
              <a:t>Tel/Fax: +44 1635 25 35 45</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Arial"/>
                <a:ea typeface="Arial"/>
              </a:rPr>
              <a:t>email: david@skyrme.com</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Arial"/>
                <a:ea typeface="Arial"/>
              </a:rPr>
              <a:t>WWW - http://www.skyrme.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23"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New ..... Yet Not New</a:t>
            </a:r>
            <a:endParaRPr b="0" lang="en-US" sz="3600" spc="-1" strike="noStrike">
              <a:solidFill>
                <a:srgbClr val="000000"/>
              </a:solidFill>
              <a:latin typeface="Arial"/>
            </a:endParaRPr>
          </a:p>
        </p:txBody>
      </p:sp>
      <p:sp>
        <p:nvSpPr>
          <p:cNvPr id="124" name=""/>
          <p:cNvSpPr txBox="1"/>
          <p:nvPr/>
        </p:nvSpPr>
        <p:spPr>
          <a:xfrm>
            <a:off x="452520" y="1819440"/>
            <a:ext cx="45864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Philosophic discussion</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Knowledge as factor</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Push for competitiveness /strategic advantage</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Search for the Holy Grail</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Holistic approach to management</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Management ‘fads’</a:t>
            </a:r>
            <a:endParaRPr b="0" lang="en-US" sz="2800" spc="-1" strike="noStrike">
              <a:solidFill>
                <a:srgbClr val="000000"/>
              </a:solidFill>
              <a:latin typeface="Arial"/>
            </a:endParaRPr>
          </a:p>
        </p:txBody>
      </p:sp>
      <p:sp>
        <p:nvSpPr>
          <p:cNvPr id="125" name=""/>
          <p:cNvSpPr txBox="1"/>
          <p:nvPr/>
        </p:nvSpPr>
        <p:spPr>
          <a:xfrm>
            <a:off x="4986360" y="1805040"/>
            <a:ext cx="438156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Context - globalization, ‘smart’ products, Internet  etc.</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Explicit interest in managing knowledge</a:t>
            </a:r>
            <a:endParaRPr b="0" lang="en-US" sz="2800" spc="-1" strike="noStrike">
              <a:solidFill>
                <a:srgbClr val="000000"/>
              </a:solidFill>
              <a:latin typeface="Arial"/>
            </a:endParaRPr>
          </a:p>
          <a:p>
            <a:pPr lvl="1" marL="743040" indent="-285840">
              <a:lnSpc>
                <a:spcPct val="100000"/>
              </a:lnSpc>
              <a:spcBef>
                <a:spcPts val="479"/>
              </a:spcBef>
              <a:buClr>
                <a:srgbClr val="063de8"/>
              </a:buClr>
              <a:buSzPct val="75000"/>
              <a:buFont typeface="Monotype Sorts"/>
              <a:buChar char=""/>
            </a:pPr>
            <a:r>
              <a:rPr b="0" lang="en-US" sz="2400" spc="-1" strike="noStrike">
                <a:solidFill>
                  <a:srgbClr val="000000"/>
                </a:solidFill>
                <a:latin typeface="Arial"/>
                <a:ea typeface="Arial"/>
              </a:rPr>
              <a:t>CKOs etc.</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The Label - coverage</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Consultancy’s next ‘big thing’</a:t>
            </a:r>
            <a:endParaRPr b="0" lang="en-US" sz="2800" spc="-1" strike="noStrike">
              <a:solidFill>
                <a:srgbClr val="000000"/>
              </a:solidFill>
              <a:latin typeface="Arial"/>
            </a:endParaRPr>
          </a:p>
        </p:txBody>
      </p:sp>
      <p:sp>
        <p:nvSpPr>
          <p:cNvPr id="126" name=""/>
          <p:cNvSpPr txBox="1"/>
          <p:nvPr/>
        </p:nvSpPr>
        <p:spPr>
          <a:xfrm>
            <a:off x="404640" y="1266840"/>
            <a:ext cx="24843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What’s Not New</a:t>
            </a:r>
            <a:endParaRPr b="0" lang="en-US" sz="2400" spc="-1" strike="noStrike">
              <a:solidFill>
                <a:srgbClr val="000000"/>
              </a:solidFill>
              <a:latin typeface="Arial"/>
            </a:endParaRPr>
          </a:p>
        </p:txBody>
      </p:sp>
      <p:sp>
        <p:nvSpPr>
          <p:cNvPr id="127" name=""/>
          <p:cNvSpPr txBox="1"/>
          <p:nvPr/>
        </p:nvSpPr>
        <p:spPr>
          <a:xfrm>
            <a:off x="4933800" y="1266840"/>
            <a:ext cx="189072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What’s N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grpSp>
        <p:nvGrpSpPr>
          <p:cNvPr id="128" name=""/>
          <p:cNvGrpSpPr/>
          <p:nvPr/>
        </p:nvGrpSpPr>
        <p:grpSpPr>
          <a:xfrm>
            <a:off x="530280" y="2073240"/>
            <a:ext cx="4194360" cy="3202200"/>
            <a:chOff x="530280" y="2073240"/>
            <a:chExt cx="4194360" cy="3202200"/>
          </a:xfrm>
        </p:grpSpPr>
        <p:sp>
          <p:nvSpPr>
            <p:cNvPr id="129" name=""/>
            <p:cNvSpPr/>
            <p:nvPr/>
          </p:nvSpPr>
          <p:spPr>
            <a:xfrm>
              <a:off x="1835280" y="2170080"/>
              <a:ext cx="1023840" cy="10684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2674800" y="2073240"/>
              <a:ext cx="835200" cy="8715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3419640" y="2946240"/>
              <a:ext cx="1305000" cy="1359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995400" y="3529080"/>
              <a:ext cx="1492200" cy="15526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3046320" y="3720960"/>
              <a:ext cx="1116000" cy="1163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622440" y="3819600"/>
              <a:ext cx="838080" cy="8715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530280" y="3141720"/>
              <a:ext cx="836640" cy="870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03240" y="2365200"/>
              <a:ext cx="1305000" cy="13572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2022480" y="3916440"/>
              <a:ext cx="1303200" cy="1359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3605040" y="2462040"/>
              <a:ext cx="1025640" cy="10666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3325680" y="2073240"/>
              <a:ext cx="930240" cy="968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878040" y="2336760"/>
              <a:ext cx="3605400" cy="2518200"/>
            </a:xfrm>
            <a:custGeom>
              <a:avLst/>
              <a:gdLst/>
              <a:ahLst/>
              <a:rect l="0" t="0" r="r" b="b"/>
              <a:pathLst>
                <a:path w="10015" h="6995">
                  <a:moveTo>
                    <a:pt x="3086" y="701"/>
                  </a:moveTo>
                  <a:lnTo>
                    <a:pt x="3510" y="202"/>
                  </a:lnTo>
                  <a:lnTo>
                    <a:pt x="5376" y="233"/>
                  </a:lnTo>
                  <a:lnTo>
                    <a:pt x="6699" y="0"/>
                  </a:lnTo>
                  <a:lnTo>
                    <a:pt x="8370" y="837"/>
                  </a:lnTo>
                  <a:lnTo>
                    <a:pt x="9208" y="599"/>
                  </a:lnTo>
                  <a:lnTo>
                    <a:pt x="9658" y="701"/>
                  </a:lnTo>
                  <a:lnTo>
                    <a:pt x="9755" y="2779"/>
                  </a:lnTo>
                  <a:lnTo>
                    <a:pt x="10015" y="3109"/>
                  </a:lnTo>
                  <a:lnTo>
                    <a:pt x="9243" y="4719"/>
                  </a:lnTo>
                  <a:lnTo>
                    <a:pt x="8401" y="3616"/>
                  </a:lnTo>
                  <a:lnTo>
                    <a:pt x="8176" y="4181"/>
                  </a:lnTo>
                  <a:lnTo>
                    <a:pt x="6990" y="6391"/>
                  </a:lnTo>
                  <a:lnTo>
                    <a:pt x="3025" y="6995"/>
                  </a:lnTo>
                  <a:lnTo>
                    <a:pt x="965" y="6559"/>
                  </a:lnTo>
                  <a:lnTo>
                    <a:pt x="321" y="5186"/>
                  </a:lnTo>
                  <a:lnTo>
                    <a:pt x="321" y="3780"/>
                  </a:lnTo>
                  <a:lnTo>
                    <a:pt x="0" y="2611"/>
                  </a:lnTo>
                  <a:lnTo>
                    <a:pt x="3086" y="70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41"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Fad or Fundamental? </a:t>
            </a:r>
            <a:endParaRPr b="0" lang="en-US" sz="3600" spc="-1" strike="noStrike">
              <a:solidFill>
                <a:srgbClr val="000000"/>
              </a:solidFill>
              <a:latin typeface="Arial"/>
            </a:endParaRPr>
          </a:p>
        </p:txBody>
      </p:sp>
      <p:sp>
        <p:nvSpPr>
          <p:cNvPr id="142" name=""/>
          <p:cNvSpPr/>
          <p:nvPr/>
        </p:nvSpPr>
        <p:spPr>
          <a:xfrm>
            <a:off x="1252440" y="3129120"/>
            <a:ext cx="2671920" cy="942840"/>
          </a:xfrm>
          <a:prstGeom prst="rect">
            <a:avLst/>
          </a:prstGeom>
          <a:solidFill>
            <a:srgbClr val="081d58"/>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txBox="1"/>
          <p:nvPr/>
        </p:nvSpPr>
        <p:spPr>
          <a:xfrm>
            <a:off x="1076400" y="3381480"/>
            <a:ext cx="2874960" cy="453960"/>
          </a:xfrm>
          <a:prstGeom prst="rect">
            <a:avLst/>
          </a:prstGeom>
          <a:noFill/>
          <a:ln w="0">
            <a:noFill/>
          </a:ln>
        </p:spPr>
        <p:txBody>
          <a:bodyPr lIns="0" rIns="0" tIns="0" bIns="0" anchor="t">
            <a:noAutofit/>
          </a:bodyPr>
          <a:p>
            <a:pPr algn="ctr">
              <a:lnSpc>
                <a:spcPct val="100000"/>
              </a:lnSpc>
            </a:pPr>
            <a:r>
              <a:rPr b="1" lang="en-US" sz="2400" spc="-1" strike="noStrike">
                <a:solidFill>
                  <a:srgbClr val="eaec5e"/>
                </a:solidFill>
                <a:latin typeface="Arial"/>
                <a:ea typeface="Arial"/>
              </a:rPr>
              <a:t>Goods &amp; Services</a:t>
            </a:r>
            <a:endParaRPr b="0" lang="en-US" sz="2400" spc="-1" strike="noStrike">
              <a:solidFill>
                <a:srgbClr val="000000"/>
              </a:solidFill>
              <a:latin typeface="Arial"/>
            </a:endParaRPr>
          </a:p>
        </p:txBody>
      </p:sp>
      <p:sp>
        <p:nvSpPr>
          <p:cNvPr id="144" name=""/>
          <p:cNvSpPr txBox="1"/>
          <p:nvPr/>
        </p:nvSpPr>
        <p:spPr>
          <a:xfrm>
            <a:off x="2104920" y="2452680"/>
            <a:ext cx="168912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Knowledge</a:t>
            </a:r>
            <a:endParaRPr b="0" lang="en-US" sz="2400" spc="-1" strike="noStrike">
              <a:solidFill>
                <a:srgbClr val="000000"/>
              </a:solidFill>
              <a:latin typeface="Arial"/>
            </a:endParaRPr>
          </a:p>
        </p:txBody>
      </p:sp>
      <p:sp>
        <p:nvSpPr>
          <p:cNvPr id="145" name=""/>
          <p:cNvSpPr txBox="1"/>
          <p:nvPr/>
        </p:nvSpPr>
        <p:spPr>
          <a:xfrm>
            <a:off x="1461960" y="4281480"/>
            <a:ext cx="170496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Information</a:t>
            </a:r>
            <a:endParaRPr b="0" lang="en-US" sz="2400" spc="-1" strike="noStrike">
              <a:solidFill>
                <a:srgbClr val="000000"/>
              </a:solidFill>
              <a:latin typeface="Arial"/>
            </a:endParaRPr>
          </a:p>
        </p:txBody>
      </p:sp>
      <p:sp>
        <p:nvSpPr>
          <p:cNvPr id="146" name=""/>
          <p:cNvSpPr/>
          <p:nvPr/>
        </p:nvSpPr>
        <p:spPr>
          <a:xfrm>
            <a:off x="4848120" y="3267000"/>
            <a:ext cx="1719720" cy="714960"/>
          </a:xfrm>
          <a:custGeom>
            <a:avLst/>
            <a:gdLst/>
            <a:ahLst/>
            <a:rect l="0" t="0" r="r" b="b"/>
            <a:pathLst>
              <a:path w="4777" h="1986">
                <a:moveTo>
                  <a:pt x="0" y="396"/>
                </a:moveTo>
                <a:lnTo>
                  <a:pt x="0" y="1589"/>
                </a:lnTo>
                <a:lnTo>
                  <a:pt x="3344" y="1589"/>
                </a:lnTo>
                <a:lnTo>
                  <a:pt x="3344" y="1986"/>
                </a:lnTo>
                <a:lnTo>
                  <a:pt x="4777" y="993"/>
                </a:lnTo>
                <a:lnTo>
                  <a:pt x="3344" y="0"/>
                </a:lnTo>
                <a:lnTo>
                  <a:pt x="3344" y="396"/>
                </a:lnTo>
                <a:lnTo>
                  <a:pt x="0" y="3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txBox="1"/>
          <p:nvPr/>
        </p:nvSpPr>
        <p:spPr>
          <a:xfrm>
            <a:off x="5977080" y="1452600"/>
            <a:ext cx="3508200" cy="876240"/>
          </a:xfrm>
          <a:prstGeom prst="rect">
            <a:avLst/>
          </a:prstGeom>
          <a:noFill/>
          <a:ln w="25560">
            <a:solidFill>
              <a:srgbClr val="063de8"/>
            </a:solidFill>
            <a:round/>
          </a:ln>
        </p:spPr>
        <p:txBody>
          <a:bodyPr lIns="0" rIns="0" tIns="0" bIns="0" anchor="t">
            <a:noAutofit/>
          </a:bodyPr>
          <a:p>
            <a:pPr>
              <a:lnSpc>
                <a:spcPct val="100000"/>
              </a:lnSpc>
            </a:pPr>
            <a:r>
              <a:rPr b="0" lang="en-US" sz="2400" spc="-1" strike="noStrike">
                <a:solidFill>
                  <a:srgbClr val="000000"/>
                </a:solidFill>
                <a:latin typeface="Arial"/>
                <a:ea typeface="Arial"/>
              </a:rPr>
              <a:t>Innovation in Product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Services and Processes</a:t>
            </a:r>
            <a:endParaRPr b="0" lang="en-US" sz="2400" spc="-1" strike="noStrike">
              <a:solidFill>
                <a:srgbClr val="000000"/>
              </a:solidFill>
              <a:latin typeface="Arial"/>
            </a:endParaRPr>
          </a:p>
        </p:txBody>
      </p:sp>
      <p:sp>
        <p:nvSpPr>
          <p:cNvPr id="148" name=""/>
          <p:cNvSpPr/>
          <p:nvPr/>
        </p:nvSpPr>
        <p:spPr>
          <a:xfrm>
            <a:off x="5318280" y="4051440"/>
            <a:ext cx="196380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 name=""/>
          <p:cNvSpPr txBox="1"/>
          <p:nvPr/>
        </p:nvSpPr>
        <p:spPr>
          <a:xfrm>
            <a:off x="204840" y="5078520"/>
            <a:ext cx="16668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rket driven</a:t>
            </a:r>
            <a:endParaRPr b="0" lang="en-US" sz="1800" spc="-1" strike="noStrike">
              <a:solidFill>
                <a:srgbClr val="000000"/>
              </a:solidFill>
              <a:latin typeface="Arial"/>
            </a:endParaRPr>
          </a:p>
        </p:txBody>
      </p:sp>
      <p:sp>
        <p:nvSpPr>
          <p:cNvPr id="150" name=""/>
          <p:cNvSpPr txBox="1"/>
          <p:nvPr/>
        </p:nvSpPr>
        <p:spPr>
          <a:xfrm>
            <a:off x="-50760" y="2039760"/>
            <a:ext cx="25430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Information Society”</a:t>
            </a:r>
            <a:endParaRPr b="0" lang="en-US" sz="1800" spc="-1" strike="noStrike">
              <a:solidFill>
                <a:srgbClr val="000000"/>
              </a:solidFill>
              <a:latin typeface="Arial"/>
            </a:endParaRPr>
          </a:p>
        </p:txBody>
      </p:sp>
      <p:sp>
        <p:nvSpPr>
          <p:cNvPr id="151" name=""/>
          <p:cNvSpPr txBox="1"/>
          <p:nvPr/>
        </p:nvSpPr>
        <p:spPr>
          <a:xfrm>
            <a:off x="2062080" y="1592280"/>
            <a:ext cx="156528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ded Value</a:t>
            </a:r>
            <a:endParaRPr b="0" lang="en-US" sz="1800" spc="-1" strike="noStrike">
              <a:solidFill>
                <a:srgbClr val="000000"/>
              </a:solidFill>
              <a:latin typeface="Arial"/>
            </a:endParaRPr>
          </a:p>
        </p:txBody>
      </p:sp>
      <p:sp>
        <p:nvSpPr>
          <p:cNvPr id="152" name=""/>
          <p:cNvSpPr txBox="1"/>
          <p:nvPr/>
        </p:nvSpPr>
        <p:spPr>
          <a:xfrm>
            <a:off x="3848040" y="1906560"/>
            <a:ext cx="18320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ime-to-market</a:t>
            </a:r>
            <a:endParaRPr b="0" lang="en-US" sz="1800" spc="-1" strike="noStrike">
              <a:solidFill>
                <a:srgbClr val="000000"/>
              </a:solidFill>
              <a:latin typeface="Arial"/>
            </a:endParaRPr>
          </a:p>
        </p:txBody>
      </p:sp>
      <p:sp>
        <p:nvSpPr>
          <p:cNvPr id="153" name=""/>
          <p:cNvSpPr txBox="1"/>
          <p:nvPr/>
        </p:nvSpPr>
        <p:spPr>
          <a:xfrm>
            <a:off x="6607080" y="2766960"/>
            <a:ext cx="2997360" cy="30099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2400" spc="-1" strike="noStrike">
                <a:solidFill>
                  <a:srgbClr val="000000"/>
                </a:solidFill>
                <a:latin typeface="Arial"/>
                <a:ea typeface="Arial"/>
              </a:rPr>
              <a:t>Global Customers</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1" lang="en-US" sz="2400" spc="-1" strike="noStrike">
                <a:solidFill>
                  <a:srgbClr val="000000"/>
                </a:solidFill>
                <a:latin typeface="Arial"/>
                <a:ea typeface="Arial"/>
              </a:rPr>
              <a:t>Changing Needs</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1" lang="en-US" sz="2400" spc="-1" strike="noStrike">
                <a:solidFill>
                  <a:srgbClr val="000000"/>
                </a:solidFill>
                <a:latin typeface="Arial"/>
                <a:ea typeface="Arial"/>
              </a:rPr>
              <a:t>Time-to-market</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1" lang="en-US" sz="2400" spc="-1" strike="noStrike">
                <a:solidFill>
                  <a:srgbClr val="000000"/>
                </a:solidFill>
                <a:latin typeface="Arial"/>
                <a:ea typeface="Arial"/>
              </a:rPr>
              <a:t>‘</a:t>
            </a:r>
            <a:r>
              <a:rPr b="1" lang="en-US" sz="2400" spc="-1" strike="noStrike">
                <a:solidFill>
                  <a:srgbClr val="000000"/>
                </a:solidFill>
                <a:latin typeface="Arial"/>
                <a:ea typeface="Arial"/>
              </a:rPr>
              <a:t>Smart’ Products</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1" lang="en-US" sz="2400" spc="-1" strike="noStrike">
                <a:solidFill>
                  <a:srgbClr val="000000"/>
                </a:solidFill>
                <a:latin typeface="Arial"/>
                <a:ea typeface="Arial"/>
              </a:rPr>
              <a:t>Customization</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1" lang="en-US" sz="2400" spc="-1" strike="noStrike">
                <a:solidFill>
                  <a:srgbClr val="000000"/>
                </a:solidFill>
                <a:latin typeface="Arial"/>
                <a:ea typeface="Arial"/>
              </a:rPr>
              <a:t>Service</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1" lang="en-US" sz="2400" spc="-1" strike="noStrike">
                <a:solidFill>
                  <a:srgbClr val="000000"/>
                </a:solidFill>
                <a:latin typeface="Arial"/>
                <a:ea typeface="Arial"/>
              </a:rPr>
              <a:t>Quality</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1" lang="en-US" sz="2400" spc="-1" strike="noStrike">
                <a:solidFill>
                  <a:srgbClr val="000000"/>
                </a:solidFill>
                <a:latin typeface="Arial"/>
                <a:ea typeface="Arial"/>
              </a:rPr>
              <a:t>Intangibles</a:t>
            </a:r>
            <a:endParaRPr b="0" lang="en-US" sz="2400" spc="-1" strike="noStrike">
              <a:solidFill>
                <a:srgbClr val="000000"/>
              </a:solidFill>
              <a:latin typeface="Arial"/>
            </a:endParaRPr>
          </a:p>
        </p:txBody>
      </p:sp>
      <p:sp>
        <p:nvSpPr>
          <p:cNvPr id="154" name=""/>
          <p:cNvSpPr txBox="1"/>
          <p:nvPr/>
        </p:nvSpPr>
        <p:spPr>
          <a:xfrm>
            <a:off x="3706920" y="4473720"/>
            <a:ext cx="19861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sponsiveness</a:t>
            </a:r>
            <a:endParaRPr b="0" lang="en-US" sz="1800" spc="-1" strike="noStrike">
              <a:solidFill>
                <a:srgbClr val="000000"/>
              </a:solidFill>
              <a:latin typeface="Arial"/>
            </a:endParaRPr>
          </a:p>
        </p:txBody>
      </p:sp>
      <p:sp>
        <p:nvSpPr>
          <p:cNvPr id="155" name=""/>
          <p:cNvSpPr txBox="1"/>
          <p:nvPr/>
        </p:nvSpPr>
        <p:spPr>
          <a:xfrm>
            <a:off x="2397240" y="5297400"/>
            <a:ext cx="12351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lexi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56"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 of a Fad</a:t>
            </a:r>
            <a:endParaRPr b="0" lang="en-US" sz="3600" spc="-1" strike="noStrike">
              <a:solidFill>
                <a:srgbClr val="000000"/>
              </a:solidFill>
              <a:latin typeface="Arial"/>
            </a:endParaRPr>
          </a:p>
        </p:txBody>
      </p:sp>
      <p:sp>
        <p:nvSpPr>
          <p:cNvPr id="157" name=""/>
          <p:cNvSpPr/>
          <p:nvPr/>
        </p:nvSpPr>
        <p:spPr>
          <a:xfrm flipV="1">
            <a:off x="681120" y="1701720"/>
            <a:ext cx="0" cy="3753000"/>
          </a:xfrm>
          <a:prstGeom prst="line">
            <a:avLst/>
          </a:prstGeom>
          <a:ln w="25560">
            <a:solidFill>
              <a:srgbClr val="063de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a:off x="695160" y="5429160"/>
            <a:ext cx="4345200" cy="0"/>
          </a:xfrm>
          <a:prstGeom prst="line">
            <a:avLst/>
          </a:prstGeom>
          <a:ln w="25560">
            <a:solidFill>
              <a:srgbClr val="063de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 name=""/>
          <p:cNvSpPr/>
          <p:nvPr/>
        </p:nvSpPr>
        <p:spPr>
          <a:xfrm>
            <a:off x="709560" y="5129640"/>
            <a:ext cx="1159200" cy="244440"/>
          </a:xfrm>
          <a:custGeom>
            <a:avLst/>
            <a:gdLst/>
            <a:ahLst/>
            <a:rect l="0" t="0" r="r" b="b"/>
            <a:pathLst>
              <a:path fill="none" w="3220" h="679">
                <a:moveTo>
                  <a:pt x="0" y="679"/>
                </a:moveTo>
                <a:lnTo>
                  <a:pt x="0" y="679"/>
                </a:lnTo>
                <a:lnTo>
                  <a:pt x="0" y="679"/>
                </a:lnTo>
                <a:cubicBezTo>
                  <a:pt x="565" y="679"/>
                  <a:pt x="1121" y="648"/>
                  <a:pt x="1610" y="588"/>
                </a:cubicBezTo>
                <a:cubicBezTo>
                  <a:pt x="2100" y="528"/>
                  <a:pt x="2506" y="442"/>
                  <a:pt x="2789" y="339"/>
                </a:cubicBezTo>
                <a:cubicBezTo>
                  <a:pt x="3070" y="236"/>
                  <a:pt x="3219" y="119"/>
                  <a:pt x="3220" y="0"/>
                </a:cubicBez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 name=""/>
          <p:cNvSpPr/>
          <p:nvPr/>
        </p:nvSpPr>
        <p:spPr>
          <a:xfrm flipV="1">
            <a:off x="1879560" y="4573440"/>
            <a:ext cx="644400" cy="6098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 name=""/>
          <p:cNvSpPr/>
          <p:nvPr/>
        </p:nvSpPr>
        <p:spPr>
          <a:xfrm flipV="1">
            <a:off x="2565360" y="2716200"/>
            <a:ext cx="987480" cy="18954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2" name=""/>
          <p:cNvSpPr/>
          <p:nvPr/>
        </p:nvSpPr>
        <p:spPr>
          <a:xfrm>
            <a:off x="3567240" y="2100240"/>
            <a:ext cx="1443240" cy="658440"/>
          </a:xfrm>
          <a:custGeom>
            <a:avLst/>
            <a:gdLst/>
            <a:ahLst/>
            <a:rect l="0" t="0" r="r" b="b"/>
            <a:pathLst>
              <a:path fill="none" w="4009" h="1829">
                <a:moveTo>
                  <a:pt x="4009" y="0"/>
                </a:moveTo>
                <a:lnTo>
                  <a:pt x="4009" y="0"/>
                </a:lnTo>
                <a:cubicBezTo>
                  <a:pt x="3306" y="0"/>
                  <a:pt x="2615" y="85"/>
                  <a:pt x="2006" y="245"/>
                </a:cubicBezTo>
                <a:cubicBezTo>
                  <a:pt x="1396" y="406"/>
                  <a:pt x="890" y="637"/>
                  <a:pt x="538" y="915"/>
                </a:cubicBezTo>
                <a:cubicBezTo>
                  <a:pt x="186" y="1193"/>
                  <a:pt x="1" y="1508"/>
                  <a:pt x="0" y="1829"/>
                </a:cubicBez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 name=""/>
          <p:cNvSpPr/>
          <p:nvPr/>
        </p:nvSpPr>
        <p:spPr>
          <a:xfrm>
            <a:off x="3697200" y="2500200"/>
            <a:ext cx="1429200" cy="216360"/>
          </a:xfrm>
          <a:custGeom>
            <a:avLst/>
            <a:gdLst/>
            <a:ahLst/>
            <a:rect l="0" t="0" r="r" b="b"/>
            <a:pathLst>
              <a:path fill="none" w="3970" h="601">
                <a:moveTo>
                  <a:pt x="3970" y="601"/>
                </a:moveTo>
                <a:lnTo>
                  <a:pt x="3970" y="601"/>
                </a:lnTo>
                <a:lnTo>
                  <a:pt x="3970" y="601"/>
                </a:lnTo>
                <a:cubicBezTo>
                  <a:pt x="3970" y="496"/>
                  <a:pt x="3786" y="392"/>
                  <a:pt x="3437" y="300"/>
                </a:cubicBezTo>
                <a:cubicBezTo>
                  <a:pt x="3089" y="209"/>
                  <a:pt x="2587" y="133"/>
                  <a:pt x="1982" y="81"/>
                </a:cubicBezTo>
                <a:cubicBezTo>
                  <a:pt x="1380" y="28"/>
                  <a:pt x="696" y="0"/>
                  <a:pt x="0" y="0"/>
                </a:cubicBez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4" name=""/>
          <p:cNvSpPr/>
          <p:nvPr/>
        </p:nvSpPr>
        <p:spPr>
          <a:xfrm>
            <a:off x="3668040" y="2514600"/>
            <a:ext cx="915480" cy="459000"/>
          </a:xfrm>
          <a:custGeom>
            <a:avLst/>
            <a:gdLst/>
            <a:ahLst/>
            <a:rect l="0" t="0" r="r" b="b"/>
            <a:pathLst>
              <a:path fill="none" w="2543" h="1275">
                <a:moveTo>
                  <a:pt x="2543" y="1275"/>
                </a:moveTo>
                <a:lnTo>
                  <a:pt x="2543" y="1275"/>
                </a:lnTo>
                <a:lnTo>
                  <a:pt x="2543" y="1275"/>
                </a:lnTo>
                <a:cubicBezTo>
                  <a:pt x="2543" y="1051"/>
                  <a:pt x="2425" y="831"/>
                  <a:pt x="2202" y="637"/>
                </a:cubicBezTo>
                <a:cubicBezTo>
                  <a:pt x="1978" y="444"/>
                  <a:pt x="1657" y="283"/>
                  <a:pt x="1270" y="171"/>
                </a:cubicBezTo>
                <a:cubicBezTo>
                  <a:pt x="884" y="59"/>
                  <a:pt x="446" y="0"/>
                  <a:pt x="0" y="0"/>
                </a:cubicBez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a:off x="4595760" y="2914560"/>
            <a:ext cx="673200" cy="8589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6" name=""/>
          <p:cNvSpPr/>
          <p:nvPr/>
        </p:nvSpPr>
        <p:spPr>
          <a:xfrm>
            <a:off x="3696120" y="2557440"/>
            <a:ext cx="473040" cy="144720"/>
          </a:xfrm>
          <a:custGeom>
            <a:avLst/>
            <a:gdLst/>
            <a:ahLst/>
            <a:rect l="0" t="0" r="r" b="b"/>
            <a:pathLst>
              <a:path fill="none" w="1314" h="402">
                <a:moveTo>
                  <a:pt x="1314" y="402"/>
                </a:moveTo>
                <a:lnTo>
                  <a:pt x="1314" y="402"/>
                </a:lnTo>
                <a:lnTo>
                  <a:pt x="1314" y="402"/>
                </a:lnTo>
                <a:cubicBezTo>
                  <a:pt x="1314" y="331"/>
                  <a:pt x="1253" y="262"/>
                  <a:pt x="1138" y="201"/>
                </a:cubicBezTo>
                <a:cubicBezTo>
                  <a:pt x="1022" y="140"/>
                  <a:pt x="856" y="89"/>
                  <a:pt x="656" y="54"/>
                </a:cubicBezTo>
                <a:cubicBezTo>
                  <a:pt x="457" y="19"/>
                  <a:pt x="230" y="0"/>
                  <a:pt x="0" y="0"/>
                </a:cubicBez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7" name=""/>
          <p:cNvSpPr/>
          <p:nvPr/>
        </p:nvSpPr>
        <p:spPr>
          <a:xfrm>
            <a:off x="4181400" y="2700360"/>
            <a:ext cx="1173240" cy="18590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8" name=""/>
          <p:cNvSpPr txBox="1"/>
          <p:nvPr/>
        </p:nvSpPr>
        <p:spPr>
          <a:xfrm>
            <a:off x="5319720" y="1863720"/>
            <a:ext cx="3927600" cy="363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ontinues - embedded ... e.g. TQM</a:t>
            </a:r>
            <a:endParaRPr b="0" lang="en-US" sz="1800" spc="-1" strike="noStrike">
              <a:solidFill>
                <a:srgbClr val="000000"/>
              </a:solidFill>
              <a:latin typeface="Arial"/>
            </a:endParaRPr>
          </a:p>
        </p:txBody>
      </p:sp>
      <p:sp>
        <p:nvSpPr>
          <p:cNvPr id="169" name=""/>
          <p:cNvSpPr txBox="1"/>
          <p:nvPr/>
        </p:nvSpPr>
        <p:spPr>
          <a:xfrm>
            <a:off x="5348160" y="2535120"/>
            <a:ext cx="3795840" cy="638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ontinues - new style/n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g. BPR  &gt; process management</a:t>
            </a:r>
            <a:endParaRPr b="0" lang="en-US" sz="1800" spc="-1" strike="noStrike">
              <a:solidFill>
                <a:srgbClr val="000000"/>
              </a:solidFill>
              <a:latin typeface="Arial"/>
            </a:endParaRPr>
          </a:p>
        </p:txBody>
      </p:sp>
      <p:sp>
        <p:nvSpPr>
          <p:cNvPr id="170" name=""/>
          <p:cNvSpPr/>
          <p:nvPr/>
        </p:nvSpPr>
        <p:spPr>
          <a:xfrm>
            <a:off x="6432480" y="297180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txBox="1"/>
          <p:nvPr/>
        </p:nvSpPr>
        <p:spPr>
          <a:xfrm>
            <a:off x="5405400" y="3578400"/>
            <a:ext cx="3952800" cy="638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anges substantially - subsum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BO  &gt; Performance Appraisal</a:t>
            </a:r>
            <a:endParaRPr b="0" lang="en-US" sz="1800" spc="-1" strike="noStrike">
              <a:solidFill>
                <a:srgbClr val="000000"/>
              </a:solidFill>
              <a:latin typeface="Arial"/>
            </a:endParaRPr>
          </a:p>
        </p:txBody>
      </p:sp>
      <p:sp>
        <p:nvSpPr>
          <p:cNvPr id="172" name=""/>
          <p:cNvSpPr txBox="1"/>
          <p:nvPr/>
        </p:nvSpPr>
        <p:spPr>
          <a:xfrm>
            <a:off x="5433840" y="4378320"/>
            <a:ext cx="3840120" cy="638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bandoned (or lingering death)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g. managerial grid, matrix mgmt</a:t>
            </a:r>
            <a:endParaRPr b="0" lang="en-US" sz="1800" spc="-1" strike="noStrike">
              <a:solidFill>
                <a:srgbClr val="000000"/>
              </a:solidFill>
              <a:latin typeface="Arial"/>
            </a:endParaRPr>
          </a:p>
        </p:txBody>
      </p:sp>
      <p:sp>
        <p:nvSpPr>
          <p:cNvPr id="173" name=""/>
          <p:cNvSpPr/>
          <p:nvPr/>
        </p:nvSpPr>
        <p:spPr>
          <a:xfrm>
            <a:off x="2166840" y="2928960"/>
            <a:ext cx="0" cy="1687320"/>
          </a:xfrm>
          <a:prstGeom prst="line">
            <a:avLst/>
          </a:prstGeom>
          <a:ln w="25560">
            <a:solidFill>
              <a:srgbClr val="063de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 name=""/>
          <p:cNvSpPr txBox="1"/>
          <p:nvPr/>
        </p:nvSpPr>
        <p:spPr>
          <a:xfrm>
            <a:off x="1776240" y="2406600"/>
            <a:ext cx="733320" cy="515880"/>
          </a:xfrm>
          <a:prstGeom prst="rect">
            <a:avLst/>
          </a:prstGeom>
          <a:noFill/>
          <a:ln w="0">
            <a:noFill/>
          </a:ln>
        </p:spPr>
        <p:txBody>
          <a:bodyPr lIns="0" rIns="0" tIns="0" bIns="0" anchor="t">
            <a:noAutofit/>
          </a:bodyPr>
          <a:p>
            <a:pPr>
              <a:lnSpc>
                <a:spcPct val="100000"/>
              </a:lnSpc>
            </a:pPr>
            <a:r>
              <a:rPr b="1" lang="en-US" sz="2800" spc="-1" strike="noStrike">
                <a:solidFill>
                  <a:srgbClr val="063de8"/>
                </a:solidFill>
                <a:latin typeface="Arial"/>
                <a:ea typeface="Arial"/>
              </a:rPr>
              <a:t>KM</a:t>
            </a:r>
            <a:endParaRPr b="0" lang="en-US" sz="2800" spc="-1" strike="noStrike">
              <a:solidFill>
                <a:srgbClr val="000000"/>
              </a:solidFill>
              <a:latin typeface="Arial"/>
            </a:endParaRPr>
          </a:p>
        </p:txBody>
      </p:sp>
      <p:sp>
        <p:nvSpPr>
          <p:cNvPr id="175" name=""/>
          <p:cNvSpPr/>
          <p:nvPr/>
        </p:nvSpPr>
        <p:spPr>
          <a:xfrm flipH="1">
            <a:off x="6033960" y="4000680"/>
            <a:ext cx="18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76"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nowledge Agenda ... in Practice</a:t>
            </a:r>
            <a:endParaRPr b="0" lang="en-US" sz="3600" spc="-1" strike="noStrike">
              <a:solidFill>
                <a:srgbClr val="000000"/>
              </a:solidFill>
              <a:latin typeface="Arial"/>
            </a:endParaRPr>
          </a:p>
        </p:txBody>
      </p:sp>
      <p:sp>
        <p:nvSpPr>
          <p:cNvPr id="177" name=""/>
          <p:cNvSpPr txBox="1"/>
          <p:nvPr/>
        </p:nvSpPr>
        <p:spPr>
          <a:xfrm>
            <a:off x="252360" y="1528920"/>
            <a:ext cx="9344160" cy="445788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Teams - </a:t>
            </a:r>
            <a:r>
              <a:rPr b="0" lang="en-US" sz="2400" spc="-1" strike="noStrike">
                <a:solidFill>
                  <a:srgbClr val="000000"/>
                </a:solidFill>
                <a:latin typeface="Arial"/>
                <a:ea typeface="Arial"/>
              </a:rPr>
              <a:t>multi-disciplinary, cross-functional</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a:t>
            </a:r>
            <a:r>
              <a:rPr b="0" i="1" lang="en-US" sz="3200" spc="-1" strike="noStrike">
                <a:solidFill>
                  <a:srgbClr val="000000"/>
                </a:solidFill>
                <a:latin typeface="Arial"/>
                <a:ea typeface="Arial"/>
              </a:rPr>
              <a:t>Data)</a:t>
            </a:r>
            <a:r>
              <a:rPr b="0" lang="en-US" sz="3200" spc="-1" strike="noStrike">
                <a:solidFill>
                  <a:srgbClr val="000000"/>
                </a:solidFill>
                <a:latin typeface="Arial"/>
                <a:ea typeface="Arial"/>
              </a:rPr>
              <a:t>bases - </a:t>
            </a:r>
            <a:r>
              <a:rPr b="0" lang="en-US" sz="2400" spc="-1" strike="noStrike">
                <a:solidFill>
                  <a:srgbClr val="000000"/>
                </a:solidFill>
                <a:latin typeface="Arial"/>
                <a:ea typeface="Arial"/>
              </a:rPr>
              <a:t>experts, best practice</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Centres - </a:t>
            </a:r>
            <a:r>
              <a:rPr b="0" lang="en-US" sz="2400" spc="-1" strike="noStrike">
                <a:solidFill>
                  <a:srgbClr val="000000"/>
                </a:solidFill>
                <a:latin typeface="Arial"/>
                <a:ea typeface="Arial"/>
              </a:rPr>
              <a:t>hubs of knowledge</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Learning Organization - </a:t>
            </a:r>
            <a:r>
              <a:rPr b="0" lang="en-US" sz="2400" spc="-1" strike="noStrike">
                <a:solidFill>
                  <a:srgbClr val="000000"/>
                </a:solidFill>
                <a:latin typeface="Arial"/>
                <a:ea typeface="Arial"/>
              </a:rPr>
              <a:t>personal/team/org development</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ommunities of Practice - </a:t>
            </a:r>
            <a:r>
              <a:rPr b="0" lang="en-US" sz="2400" spc="-1" strike="noStrike">
                <a:solidFill>
                  <a:srgbClr val="000000"/>
                </a:solidFill>
                <a:latin typeface="Arial"/>
                <a:ea typeface="Arial"/>
              </a:rPr>
              <a:t>peers in execution of work</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Technology Infrastructure - </a:t>
            </a:r>
            <a:r>
              <a:rPr b="0" lang="en-US" sz="2400" spc="-1" strike="noStrike">
                <a:solidFill>
                  <a:srgbClr val="000000"/>
                </a:solidFill>
                <a:latin typeface="Arial"/>
                <a:ea typeface="Arial"/>
              </a:rPr>
              <a:t>Intranets, Domino, doc mgt</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orporate Initiatives - </a:t>
            </a:r>
            <a:r>
              <a:rPr b="0" lang="en-US" sz="2400" spc="-1" strike="noStrike">
                <a:solidFill>
                  <a:srgbClr val="000000"/>
                </a:solidFill>
                <a:latin typeface="Arial"/>
                <a:ea typeface="Arial"/>
              </a:rPr>
              <a:t>CKOs, IAM, IC accoun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78"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me Key Drivers and </a:t>
            </a:r>
            <a:r>
              <a:rPr b="1" lang="en-US" sz="3600" spc="-1" strike="noStrike">
                <a:solidFill>
                  <a:srgbClr val="fc0128"/>
                </a:solidFill>
                <a:latin typeface="Arial"/>
                <a:ea typeface="Arial"/>
              </a:rPr>
              <a:t>Triggers</a:t>
            </a:r>
            <a:endParaRPr b="0" lang="en-US" sz="3600" spc="-1" strike="noStrike">
              <a:solidFill>
                <a:srgbClr val="000000"/>
              </a:solidFill>
              <a:latin typeface="Arial"/>
            </a:endParaRPr>
          </a:p>
        </p:txBody>
      </p:sp>
      <p:sp>
        <p:nvSpPr>
          <p:cNvPr id="179" name=""/>
          <p:cNvSpPr txBox="1"/>
          <p:nvPr/>
        </p:nvSpPr>
        <p:spPr>
          <a:xfrm>
            <a:off x="166680" y="1476360"/>
            <a:ext cx="750096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The Value of Intellectual Capital</a:t>
            </a:r>
            <a:endParaRPr b="0" lang="en-US" sz="3200" spc="-1" strike="noStrike">
              <a:solidFill>
                <a:srgbClr val="000000"/>
              </a:solidFill>
              <a:latin typeface="Arial"/>
            </a:endParaRPr>
          </a:p>
          <a:p>
            <a:pPr lvl="1" marL="743040" indent="-28584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what you can measure you can manage</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Performance; cost avoidance</a:t>
            </a:r>
            <a:endParaRPr b="0" lang="en-US" sz="3200" spc="-1" strike="noStrike">
              <a:solidFill>
                <a:srgbClr val="000000"/>
              </a:solidFill>
              <a:latin typeface="Arial"/>
            </a:endParaRPr>
          </a:p>
          <a:p>
            <a:pPr lvl="1" marL="743040" indent="-28584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knowing what you know, don’t reinvent</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as key success factor</a:t>
            </a:r>
            <a:endParaRPr b="0" lang="en-US" sz="3200" spc="-1" strike="noStrike">
              <a:solidFill>
                <a:srgbClr val="000000"/>
              </a:solidFill>
              <a:latin typeface="Arial"/>
            </a:endParaRPr>
          </a:p>
          <a:p>
            <a:pPr lvl="1" marL="743040" indent="-28584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customer service, best practice process</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How as Value Driver</a:t>
            </a:r>
            <a:endParaRPr b="0" lang="en-US" sz="3200" spc="-1" strike="noStrike">
              <a:solidFill>
                <a:srgbClr val="000000"/>
              </a:solidFill>
              <a:latin typeface="Arial"/>
            </a:endParaRPr>
          </a:p>
          <a:p>
            <a:pPr lvl="1" marL="743040" indent="-28584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innovation, knowledge-based products</a:t>
            </a:r>
            <a:endParaRPr b="0" lang="en-US" sz="2800" spc="-1" strike="noStrike">
              <a:solidFill>
                <a:srgbClr val="000000"/>
              </a:solidFill>
              <a:latin typeface="Arial"/>
            </a:endParaRPr>
          </a:p>
        </p:txBody>
      </p:sp>
      <p:sp>
        <p:nvSpPr>
          <p:cNvPr id="180" name=""/>
          <p:cNvSpPr txBox="1"/>
          <p:nvPr/>
        </p:nvSpPr>
        <p:spPr>
          <a:xfrm>
            <a:off x="7548480" y="1557360"/>
            <a:ext cx="2336760" cy="4489560"/>
          </a:xfrm>
          <a:prstGeom prst="rect">
            <a:avLst/>
          </a:prstGeom>
          <a:noFill/>
          <a:ln w="0">
            <a:noFill/>
          </a:ln>
        </p:spPr>
        <p:txBody>
          <a:bodyPr lIns="0" rIns="0" tIns="0" bIns="0" anchor="t">
            <a:noAutofit/>
          </a:bodyPr>
          <a:p>
            <a:pPr>
              <a:lnSpc>
                <a:spcPct val="100000"/>
              </a:lnSpc>
            </a:pPr>
            <a:r>
              <a:rPr b="1" lang="en-US" sz="1600" spc="-1" strike="noStrike">
                <a:solidFill>
                  <a:srgbClr val="fc0128"/>
                </a:solidFill>
                <a:latin typeface="Arial"/>
                <a:ea typeface="Arial"/>
              </a:rPr>
              <a:t>Poor share price</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Raising Capital</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Bad Result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Losing to Competition</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Strategic Review</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New CEO</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Downsizing aftermath</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Mature market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New technology</a:t>
            </a: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e.g. Internet</a:t>
            </a:r>
            <a:endParaRPr b="0" lang="en-US" sz="1600" spc="-1" strike="noStrike">
              <a:solidFill>
                <a:srgbClr val="000000"/>
              </a:solidFill>
              <a:latin typeface="Arial"/>
            </a:endParaRPr>
          </a:p>
        </p:txBody>
      </p:sp>
      <p:sp>
        <p:nvSpPr>
          <p:cNvPr id="181" name=""/>
          <p:cNvSpPr/>
          <p:nvPr/>
        </p:nvSpPr>
        <p:spPr>
          <a:xfrm>
            <a:off x="7396200" y="1542960"/>
            <a:ext cx="2457360" cy="4529160"/>
          </a:xfrm>
          <a:prstGeom prst="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82"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orking Definition</a:t>
            </a:r>
            <a:endParaRPr b="0" lang="en-US" sz="3600" spc="-1" strike="noStrike">
              <a:solidFill>
                <a:srgbClr val="000000"/>
              </a:solidFill>
              <a:latin typeface="Arial"/>
            </a:endParaRPr>
          </a:p>
        </p:txBody>
      </p:sp>
      <p:sp>
        <p:nvSpPr>
          <p:cNvPr id="183" name=""/>
          <p:cNvSpPr txBox="1"/>
          <p:nvPr/>
        </p:nvSpPr>
        <p:spPr>
          <a:xfrm>
            <a:off x="452520" y="1533600"/>
            <a:ext cx="8915400" cy="4410000"/>
          </a:xfrm>
          <a:prstGeom prst="rect">
            <a:avLst/>
          </a:prstGeom>
          <a:noFill/>
          <a:ln w="0">
            <a:noFill/>
          </a:ln>
        </p:spPr>
        <p:txBody>
          <a:bodyPr lIns="0" rIns="0" tIns="0" bIns="0" anchor="t">
            <a:noAutofit/>
          </a:bodyPr>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Knowledge Management is the </a:t>
            </a:r>
            <a:r>
              <a:rPr b="0" i="1" lang="en-US" sz="3200" spc="-1" strike="noStrike" u="sng">
                <a:solidFill>
                  <a:srgbClr val="000000"/>
                </a:solidFill>
                <a:uFillTx/>
                <a:latin typeface="Arial"/>
                <a:ea typeface="Arial"/>
              </a:rPr>
              <a:t>explicit </a:t>
            </a: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and </a:t>
            </a:r>
            <a:r>
              <a:rPr b="0" i="1" lang="en-US" sz="3200" spc="-1" strike="noStrike" u="sng">
                <a:solidFill>
                  <a:srgbClr val="000000"/>
                </a:solidFill>
                <a:uFillTx/>
                <a:latin typeface="Arial"/>
                <a:ea typeface="Arial"/>
              </a:rPr>
              <a:t>systematic</a:t>
            </a:r>
            <a:r>
              <a:rPr b="0" i="1" lang="en-US" sz="3200" spc="-1" strike="noStrike">
                <a:solidFill>
                  <a:srgbClr val="000000"/>
                </a:solidFill>
                <a:latin typeface="Arial"/>
                <a:ea typeface="Arial"/>
              </a:rPr>
              <a:t> management of </a:t>
            </a:r>
            <a:r>
              <a:rPr b="0" i="1" lang="en-US" sz="3200" spc="-1" strike="noStrike" u="sng">
                <a:solidFill>
                  <a:srgbClr val="000000"/>
                </a:solidFill>
                <a:uFillTx/>
                <a:latin typeface="Arial"/>
                <a:ea typeface="Arial"/>
              </a:rPr>
              <a:t>vital</a:t>
            </a: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knowledge - and its associated </a:t>
            </a:r>
            <a:r>
              <a:rPr b="0" i="1" lang="en-US" sz="3200" spc="-1" strike="noStrike" u="sng">
                <a:solidFill>
                  <a:srgbClr val="000000"/>
                </a:solidFill>
                <a:uFillTx/>
                <a:latin typeface="Arial"/>
                <a:ea typeface="Arial"/>
              </a:rPr>
              <a:t>processes</a:t>
            </a: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of creation, organisation, diffusion, use and</a:t>
            </a: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exploi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84"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2 Key Thrusts</a:t>
            </a:r>
            <a:endParaRPr b="0" lang="en-US" sz="3600" spc="-1" strike="noStrike">
              <a:solidFill>
                <a:srgbClr val="000000"/>
              </a:solidFill>
              <a:latin typeface="Arial"/>
            </a:endParaRPr>
          </a:p>
        </p:txBody>
      </p:sp>
      <p:sp>
        <p:nvSpPr>
          <p:cNvPr id="185" name=""/>
          <p:cNvSpPr/>
          <p:nvPr/>
        </p:nvSpPr>
        <p:spPr>
          <a:xfrm flipV="1">
            <a:off x="1467000" y="2158920"/>
            <a:ext cx="2315880" cy="1352520"/>
          </a:xfrm>
          <a:prstGeom prst="line">
            <a:avLst/>
          </a:prstGeom>
          <a:ln w="25560">
            <a:solidFill>
              <a:srgbClr val="063de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6" name=""/>
          <p:cNvSpPr txBox="1"/>
          <p:nvPr/>
        </p:nvSpPr>
        <p:spPr>
          <a:xfrm>
            <a:off x="4105440" y="1590840"/>
            <a:ext cx="5129280" cy="1063800"/>
          </a:xfrm>
          <a:prstGeom prst="rect">
            <a:avLst/>
          </a:prstGeom>
          <a:noFill/>
          <a:ln w="0">
            <a:noFill/>
          </a:ln>
        </p:spPr>
        <p:txBody>
          <a:bodyPr lIns="0" rIns="0" tIns="0" bIns="0" anchor="t">
            <a:noAutofit/>
          </a:bodyPr>
          <a:p>
            <a:pPr>
              <a:lnSpc>
                <a:spcPct val="100000"/>
              </a:lnSpc>
            </a:pPr>
            <a:r>
              <a:rPr b="0" lang="en-US" sz="3200" spc="-1" strike="noStrike">
                <a:solidFill>
                  <a:srgbClr val="063de8"/>
                </a:solidFill>
                <a:latin typeface="Arial"/>
                <a:ea typeface="Arial"/>
              </a:rPr>
              <a:t>Sharing existing knowledge</a:t>
            </a:r>
            <a:endParaRPr b="0" lang="en-US" sz="3200" spc="-1" strike="noStrike">
              <a:solidFill>
                <a:srgbClr val="000000"/>
              </a:solidFill>
              <a:latin typeface="Arial"/>
            </a:endParaRPr>
          </a:p>
          <a:p>
            <a:pPr>
              <a:lnSpc>
                <a:spcPct val="100000"/>
              </a:lnSpc>
            </a:pPr>
            <a:r>
              <a:rPr b="0" i="1" lang="en-US" sz="3200" spc="-1" strike="noStrike">
                <a:solidFill>
                  <a:srgbClr val="063de8"/>
                </a:solidFill>
                <a:latin typeface="Arial"/>
                <a:ea typeface="Arial"/>
              </a:rPr>
              <a:t>“</a:t>
            </a:r>
            <a:r>
              <a:rPr b="0" i="1" lang="en-US" sz="3200" spc="-1" strike="noStrike">
                <a:solidFill>
                  <a:srgbClr val="063de8"/>
                </a:solidFill>
                <a:latin typeface="Arial"/>
                <a:ea typeface="Arial"/>
              </a:rPr>
              <a:t>Knowing what you know”</a:t>
            </a:r>
            <a:endParaRPr b="0" lang="en-US" sz="3200" spc="-1" strike="noStrike">
              <a:solidFill>
                <a:srgbClr val="000000"/>
              </a:solidFill>
              <a:latin typeface="Arial"/>
            </a:endParaRPr>
          </a:p>
        </p:txBody>
      </p:sp>
      <p:sp>
        <p:nvSpPr>
          <p:cNvPr id="187" name=""/>
          <p:cNvSpPr/>
          <p:nvPr/>
        </p:nvSpPr>
        <p:spPr>
          <a:xfrm>
            <a:off x="1467000" y="3500280"/>
            <a:ext cx="2158920" cy="1116000"/>
          </a:xfrm>
          <a:prstGeom prst="line">
            <a:avLst/>
          </a:prstGeom>
          <a:ln w="25560">
            <a:solidFill>
              <a:srgbClr val="063de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8" name=""/>
          <p:cNvSpPr txBox="1"/>
          <p:nvPr/>
        </p:nvSpPr>
        <p:spPr>
          <a:xfrm>
            <a:off x="4192560" y="4133880"/>
            <a:ext cx="4856040" cy="1063800"/>
          </a:xfrm>
          <a:prstGeom prst="rect">
            <a:avLst/>
          </a:prstGeom>
          <a:noFill/>
          <a:ln w="0">
            <a:noFill/>
          </a:ln>
        </p:spPr>
        <p:txBody>
          <a:bodyPr lIns="0" rIns="0" tIns="0" bIns="0" anchor="t">
            <a:noAutofit/>
          </a:bodyPr>
          <a:p>
            <a:pPr>
              <a:lnSpc>
                <a:spcPct val="100000"/>
              </a:lnSpc>
            </a:pPr>
            <a:r>
              <a:rPr b="0" lang="en-US" sz="3200" spc="-1" strike="noStrike">
                <a:solidFill>
                  <a:srgbClr val="063de8"/>
                </a:solidFill>
                <a:latin typeface="Arial"/>
                <a:ea typeface="Arial"/>
              </a:rPr>
              <a:t>Knowledge for Innovation</a:t>
            </a:r>
            <a:endParaRPr b="0" lang="en-US" sz="3200" spc="-1" strike="noStrike">
              <a:solidFill>
                <a:srgbClr val="000000"/>
              </a:solidFill>
              <a:latin typeface="Arial"/>
            </a:endParaRPr>
          </a:p>
          <a:p>
            <a:pPr>
              <a:lnSpc>
                <a:spcPct val="100000"/>
              </a:lnSpc>
            </a:pPr>
            <a:r>
              <a:rPr b="0" i="1" lang="en-US" sz="3200" spc="-1" strike="noStrike">
                <a:solidFill>
                  <a:srgbClr val="063de8"/>
                </a:solidFill>
                <a:latin typeface="Arial"/>
                <a:ea typeface="Arial"/>
              </a:rPr>
              <a:t>“</a:t>
            </a:r>
            <a:r>
              <a:rPr b="0" i="1" lang="en-US" sz="3200" spc="-1" strike="noStrike">
                <a:solidFill>
                  <a:srgbClr val="063de8"/>
                </a:solidFill>
                <a:latin typeface="Arial"/>
                <a:ea typeface="Arial"/>
              </a:rPr>
              <a:t>Creating </a:t>
            </a:r>
            <a:r>
              <a:rPr b="0" i="1" lang="en-US" sz="3200" spc="-1" strike="noStrike" u="sng">
                <a:solidFill>
                  <a:srgbClr val="063de8"/>
                </a:solidFill>
                <a:uFillTx/>
                <a:latin typeface="Arial"/>
                <a:ea typeface="Arial"/>
              </a:rPr>
              <a:t>and</a:t>
            </a:r>
            <a:r>
              <a:rPr b="0" i="1" lang="en-US" sz="3200" spc="-1" strike="noStrike">
                <a:solidFill>
                  <a:srgbClr val="063de8"/>
                </a:solidFill>
                <a:latin typeface="Arial"/>
                <a:ea typeface="Arial"/>
              </a:rPr>
              <a:t> Conver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vid J. Skyrme</dc:creator>
  <dc:description/>
  <dc:language>en-US</dc:language>
  <cp:lastModifiedBy>David J. Skyrme</cp:lastModifiedBy>
  <cp:revision>0</cp:revision>
  <dc:subject/>
  <dc:title>Knowledge Management</dc:title>
</cp:coreProperties>
</file>