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533-2C95-4B2E-87B6-EC7FF99F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0CA-1BF9-4593-B5D4-8654E3E9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12F-6905-40AC-8EC1-54732B51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EDF-0943-4DCC-8CC6-12F43F04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29E2-88A6-411A-A988-427E9059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947F-8B70-4EAD-B551-A4E213CC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4849-042B-4777-A59B-A581D2A0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6340-3D76-4570-B138-BE9E0AE1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3D4C-03ED-467E-BD15-3EEE1623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A50D-8944-44F8-B382-5589B1D8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EEB3-9359-47EC-8A1D-B27A3BE9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0E7-FABD-48CC-9B13-F4D31034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552E-0229-4C06-84B2-3F433D6B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3713-CBA2-42B3-8844-6B9A5D11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99CC-B235-44F2-A9F7-0FCB2A94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AFC7-026D-43D9-A771-F10041E0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BBC2-53D2-426F-874E-C3F1521D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4D5-E638-44B3-9A40-9B49A304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945-C799-4FC1-B229-59C4EC6C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7D7-B737-4AEC-A665-C3329FFF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BE9-979C-4F84-87E6-C2030A83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A54-E75A-4AF3-BC3D-57FC576F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585-D7E3-4795-9B4D-7A4CC5B2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18B-6771-4DB8-967D-3A77AE73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E863-0DBF-4383-A2CA-33503A4D8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D3A8-60FE-4510-9518-6E1D30CCC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saondvd.com/" TargetMode="External"/><Relationship Id="rId2" Type="http://schemas.openxmlformats.org/officeDocument/2006/relationships/hyperlink" Target="http://www.usaondvd.com/" TargetMode="External"/><Relationship Id="rId3" Type="http://schemas.openxmlformats.org/officeDocument/2006/relationships/hyperlink" Target="http://www.usaondvd.com/" TargetMode="External"/><Relationship Id="rId4" Type="http://schemas.openxmlformats.org/officeDocument/2006/relationships/hyperlink" Target="http://www.census.gov/geo/www/tiger/landview.html" TargetMode="External"/><Relationship Id="rId5" Type="http://schemas.openxmlformats.org/officeDocument/2006/relationships/hyperlink" Target="http://www.census.gov/geo/www/tiger/landview.html" TargetMode="External"/><Relationship Id="rId6" Type="http://schemas.openxmlformats.org/officeDocument/2006/relationships/hyperlink" Target="http://www.census.gov/geo/www/tiger/landview.html" TargetMode="External"/><Relationship Id="rId7" Type="http://schemas.openxmlformats.org/officeDocument/2006/relationships/hyperlink" Target="http://www.census.gov/geo/www/tiger/landview.html" TargetMode="External"/><Relationship Id="rId8" Type="http://schemas.openxmlformats.org/officeDocument/2006/relationships/hyperlink" Target="http://www.census.gov/geo/www/tiger/landview.html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ely-coupled Web-connected DV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’99: Standards, Applications an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ional Institute of Standards and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ember 30 – December 1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Re-engineering EPA Data and Information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of Environmenta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ection (and archi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e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ight information in the most efficient way for quality integration and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me Uses of DV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CD-ROM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media Lab: 9 CDs (some with multiple vers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xics Release Inventory: 2 C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s and Web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View Ware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Stats Ware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Data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lect, manage, disseminate and arch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journal record of reproducible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ghlights of Demons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plot – Mapping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plot – Map Layer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View –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View – Censu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View – EPA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View – Link to EPA Web data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plot – Local area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rplot: Mapping Wind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1539720"/>
            <a:ext cx="73915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rplot: Map Layer Wind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: Databa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1601640"/>
            <a:ext cx="66294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: Census Da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: EPA Da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15048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"/>
              </a:rPr>
              <a:t>LandView: Link to EPA Web Database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148608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: Local Ma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tribu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er Gattuso – U.S. Environmental Protection Agency, Office of Chemical Emergency Preparedness and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 Gunderson, U.S. Geological Survey, Mapping Di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lph LeBarge – AlphaDVD, Managing Part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ul Manka – U.S. Bureau of the Census, Products and Services St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rry McFaul – U.S. Geological Survey, Geology Division, and President of the SIGCAT Foun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nd Niemann, U.S. Environmental Protection Agency, Office of Environmental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eb-connected CD/DV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-Enabled CDs Mean Fast, Current Data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ttp://www.PlanetIT.com/docs/PIT19990714S001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oft Encarta Reference Suite 99 – Best of Show at DVDPro’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ing DVD Hybrids, Ralph LaBarge, DVD Pro ’99 and NIST DVD’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DVD from Hyperlock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 on the World” CD in the London Sunday Times (1.5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MA in a Box” (static geospatial data on CD-ROM with URLs to dynamic data on NIMA Web si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eographic reference like an electronic at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Federal environmental and Census data on ma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information about the reactivity of 4,300 chemicals or mixtures of chem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ulates vulnerable zone distances based on the Risk Management Program Guidance for Offsite Consequence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: Brief Hist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andView I) – TIGER/Line Data Viewer (199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I – 11 CD-ROMs (3/199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II – 11 CD-ROMS (12/199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II – About 6 CD-ROMs for special applications (1997-pres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II – One DVD with additional databases (12/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V – One DVD (mid-2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2000 – One DVD (2001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: UR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phaDVD –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usaondvd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sus Bureau –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http://www.census.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gov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/geo/www/tiger/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landview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PA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pa.gov/swercepp/cameo/what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CAT – http://www.sigcat.org/usaondvd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GS – http://cdserver.er.usgs.gov/lviii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ely-coupl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II Y2K (7/9/19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2K Compli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on &gt;=100 MHz P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ing EPA’s EnviroFacts database on the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II on DV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etup.exe for querying EPA EnviroFacts and linking to Census and USGS Web s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ition of data lay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eb-connect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EO (Computer-Aided Management of Emergency Operations) – http://www.epa.gov/swercepp/cameo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Documentation and Tuto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ensus.gov/geo/www/tiger/lv3tech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data and Datab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cdserver.er.usgs.gov/lviii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bution on the Right-To-Know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rtk.net/landview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 I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File Maker 4 for same new 32-bit interface on both Windows and M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connectivity to Census, EPA, and U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d color ramps for thematic m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d road layer based on TIGER/Line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esigned radius calculation based upon 5 million Census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pefile format import and ex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deo tuto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14:27:41Z</dcterms:created>
  <dc:creator>Niemann</dc:creator>
  <dc:description/>
  <dc:language>en-US</dc:language>
  <cp:lastModifiedBy>brand niemann</cp:lastModifiedBy>
  <dcterms:modified xsi:type="dcterms:W3CDTF">1999-12-02T13:36:15Z</dcterms:modified>
  <cp:revision>67</cp:revision>
  <dc:subject/>
  <dc:title>Closely-coupled Web-connected DVDs</dc:title>
</cp:coreProperties>
</file>