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8989e5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09480" y="2133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Management      Final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43160" y="3365640"/>
            <a:ext cx="6400800" cy="25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 D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Tay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 Z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1944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57360" y="99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Industry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fied Competition from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Customer Price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Sophistication of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 9000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bok cer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00200" y="89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Industry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fied Competition from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Customer Price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Sophistication of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Demand Higher Levels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from education to structur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from structured to custo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 Organization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78200" y="2857680"/>
            <a:ext cx="4968720" cy="256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9760" y="3886200"/>
            <a:ext cx="0" cy="74520"/>
          </a:xfrm>
          <a:prstGeom prst="line">
            <a:avLst/>
          </a:prstGeom>
          <a:ln w="25560">
            <a:solidFill>
              <a:srgbClr val="990000"/>
            </a:solidFill>
            <a:custDash>
              <a:ds d="198592" sp="198592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16240" y="3124080"/>
            <a:ext cx="824400" cy="754560"/>
          </a:xfrm>
          <a:custGeom>
            <a:avLst/>
            <a:gdLst/>
            <a:ahLst/>
            <a:rect l="0" t="0" r="r" b="b"/>
            <a:pathLst>
              <a:path fill="none" w="2290" h="2096">
                <a:moveTo>
                  <a:pt x="2290" y="0"/>
                </a:moveTo>
                <a:lnTo>
                  <a:pt x="0" y="0"/>
                </a:lnTo>
                <a:lnTo>
                  <a:pt x="0" y="2096"/>
                </a:lnTo>
              </a:path>
            </a:pathLst>
          </a:custGeom>
          <a:ln w="25560">
            <a:solidFill>
              <a:srgbClr val="99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6840" y="3718080"/>
            <a:ext cx="765360" cy="146520"/>
          </a:xfrm>
          <a:custGeom>
            <a:avLst/>
            <a:gdLst/>
            <a:ahLst/>
            <a:rect l="0" t="0" r="r" b="b"/>
            <a:pathLst>
              <a:path fill="none" w="2126" h="407">
                <a:moveTo>
                  <a:pt x="0" y="0"/>
                </a:moveTo>
                <a:lnTo>
                  <a:pt x="0" y="407"/>
                </a:lnTo>
                <a:lnTo>
                  <a:pt x="2126" y="407"/>
                </a:lnTo>
              </a:path>
            </a:pathLst>
          </a:custGeom>
          <a:ln w="25560">
            <a:solidFill>
              <a:srgbClr val="99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49560" y="5952960"/>
            <a:ext cx="863640" cy="0"/>
          </a:xfrm>
          <a:prstGeom prst="line">
            <a:avLst/>
          </a:prstGeom>
          <a:ln w="25560">
            <a:solidFill>
              <a:srgbClr val="99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79720" y="5734080"/>
            <a:ext cx="451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l Supervision &amp; Del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60880" y="3718080"/>
            <a:ext cx="2357640" cy="132120"/>
            <a:chOff x="3260880" y="3718080"/>
            <a:chExt cx="2357640" cy="132120"/>
          </a:xfrm>
        </p:grpSpPr>
        <p:sp>
          <p:nvSpPr>
            <p:cNvPr id="111" name=""/>
            <p:cNvSpPr/>
            <p:nvPr/>
          </p:nvSpPr>
          <p:spPr>
            <a:xfrm>
              <a:off x="4184640" y="3718080"/>
              <a:ext cx="1433880" cy="132120"/>
            </a:xfrm>
            <a:custGeom>
              <a:avLst/>
              <a:gdLst/>
              <a:ahLst/>
              <a:rect l="0" t="0" r="r" b="b"/>
              <a:pathLst>
                <a:path fill="none" w="3983" h="367">
                  <a:moveTo>
                    <a:pt x="3983" y="0"/>
                  </a:moveTo>
                  <a:lnTo>
                    <a:pt x="3983" y="367"/>
                  </a:lnTo>
                  <a:lnTo>
                    <a:pt x="0" y="367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99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60880" y="3848040"/>
              <a:ext cx="923760" cy="0"/>
            </a:xfrm>
            <a:prstGeom prst="line">
              <a:avLst/>
            </a:prstGeom>
            <a:ln w="25560">
              <a:solidFill>
                <a:srgbClr val="9900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Success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 follows maturation of high-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of IPS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ed managers apply their know-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s upon skills of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that Rewards Initiative/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of the human spir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art Spires’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us Notes Network and Cust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art Spires’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ly trained in systems analysis for US Navy submar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goal-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directed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d as systems manager at several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s potential strategic value of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85800" y="1981080"/>
            <a:ext cx="777240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us Notes Network and Cust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growth highlighted the need for virtual access to information about clients, engagements, support material, and sales in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: Lotus Notes / Domino on 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Zelmer begins programming in Lotus to facilitate use of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on requests started filtering back to Spires from most members of executiv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85800" y="1981080"/>
            <a:ext cx="7772400" cy="41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Manag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questions, suggestions, comments, by instructor and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ed to improve delivery process and identify new product offe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dvocates’ schedule and manage engagements for client and field professionals -advocates rely heavily on Engagemen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d “remote access problems” limit use by trainers and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Manag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Intelligenc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st competitive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sales l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ed for sales process, product development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force relies on non-technical contact management resources, does not deal with Lotu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685800" y="1981080"/>
            <a:ext cx="7772400" cy="41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Manag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Intelligenc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 Products and Service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the latest versions of various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customized versions of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etary tools an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ed in recent months as products and services are added to the IPS offe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ability of information im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09480" y="2133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Management at Integrated Projec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 as Operating Leverage for a Small Professional Services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1944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04880" y="171468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Manag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Intelligenc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 Products and Service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Objective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specific activities to compan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nclude product development, growth options, major strategic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Group was primary user, other groups beginning to se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clear definition of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going Strategic Initi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 of Growth Through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 Expansion with East Coast and Asian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ng Product Line Through Educationa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ng Sales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fy Hiring Process to Meet 40% Grow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Integration of 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85800" y="198108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Manager database should provide more than basic assignm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value of trainers through personal/contextual cli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ly this might require debrief and input by Client Advo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ly trainers will understand that use of this database is faster and more accurate than calling the Client Advo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Integration of 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Intelligenc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/Assign sales l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-to-date news on latest PM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st information on new/potential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st feedback on new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“Daily Briefing” for sales reps in easy to access newsletter format.  Simplify the interface -- hotlink via ema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Integration of 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s and Services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up-to-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macro application to facilitate the editing, maintenance and production of proprietary documents (i.e. change once, change everyw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Integration of 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Objectives: Need rollup reporting and recognition of major milest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ion check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ed status updates as milestones are comp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and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systems maintenance functions from knowledge management planning by designating a knowledge ‘cz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user-friendliness of KM tools by making critical information easier to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ed email that hot-links to specif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ed mileston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and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population of KM databases the task of the developers until critical mass of knowledge eases a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e incentives to integrate KM into daily activities of trainers and the sales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00200" y="85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and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KM an integrated component in strategic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, “How will our KM systems react to the proposed office expansion or acquisitio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e resources accord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and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KM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going Strategic 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Integration of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and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and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 Service Offe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Competi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 Organization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 Service Offe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predefined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of PM methodology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PM Training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or client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methodology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On-site P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‘hands-on’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 Service Offe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1530360"/>
            <a:ext cx="69372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Competitiv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094440" y="3354480"/>
            <a:ext cx="2378160" cy="1143000"/>
            <a:chOff x="6094440" y="3354480"/>
            <a:chExt cx="2378160" cy="1143000"/>
          </a:xfrm>
        </p:grpSpPr>
        <p:sp>
          <p:nvSpPr>
            <p:cNvPr id="60" name=""/>
            <p:cNvSpPr txBox="1"/>
            <p:nvPr/>
          </p:nvSpPr>
          <p:spPr>
            <a:xfrm>
              <a:off x="6094440" y="3720960"/>
              <a:ext cx="23781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W Manufactur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 Manufactur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st-time to Market Produc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ustries Undergoing Consoli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703920" y="3375000"/>
              <a:ext cx="1027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tential Cl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10280" y="3354480"/>
              <a:ext cx="228600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11720" y="3689280"/>
              <a:ext cx="228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352680" y="5372280"/>
            <a:ext cx="1981440" cy="1074600"/>
            <a:chOff x="3352680" y="5372280"/>
            <a:chExt cx="1981440" cy="1074600"/>
          </a:xfrm>
        </p:grpSpPr>
        <p:sp>
          <p:nvSpPr>
            <p:cNvPr id="65" name=""/>
            <p:cNvSpPr txBox="1"/>
            <p:nvPr/>
          </p:nvSpPr>
          <p:spPr>
            <a:xfrm>
              <a:off x="3413160" y="5745240"/>
              <a:ext cx="18381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f-Study CBT &amp; Manu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-site Consul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ge &amp; Professional Trai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3794040" y="5440320"/>
              <a:ext cx="7412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titu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5372280"/>
              <a:ext cx="198108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4480" y="5676840"/>
              <a:ext cx="197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352680" y="1714680"/>
            <a:ext cx="1905120" cy="911160"/>
            <a:chOff x="3352680" y="1714680"/>
            <a:chExt cx="1905120" cy="911160"/>
          </a:xfrm>
        </p:grpSpPr>
        <p:sp>
          <p:nvSpPr>
            <p:cNvPr id="70" name=""/>
            <p:cNvSpPr txBox="1"/>
            <p:nvPr/>
          </p:nvSpPr>
          <p:spPr>
            <a:xfrm>
              <a:off x="3352680" y="1924200"/>
              <a:ext cx="1752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 Consul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Consul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ftware Hou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adem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794040" y="1714680"/>
              <a:ext cx="1090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tential Entra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3352680" y="1752480"/>
              <a:ext cx="1905120" cy="838080"/>
              <a:chOff x="3352680" y="1752480"/>
              <a:chExt cx="1905120" cy="838080"/>
            </a:xfrm>
          </p:grpSpPr>
          <p:sp>
            <p:nvSpPr>
              <p:cNvPr id="73" name=""/>
              <p:cNvSpPr/>
              <p:nvPr/>
            </p:nvSpPr>
            <p:spPr>
              <a:xfrm>
                <a:off x="3352680" y="1752480"/>
                <a:ext cx="190512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354480" y="1924200"/>
                <a:ext cx="19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2682720" y="3960720"/>
            <a:ext cx="798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2360" y="3873600"/>
            <a:ext cx="912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9880" y="2620800"/>
            <a:ext cx="0" cy="760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19640" y="478800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76160" y="3354480"/>
            <a:ext cx="1905120" cy="911160"/>
            <a:chOff x="776160" y="3354480"/>
            <a:chExt cx="1905120" cy="911160"/>
          </a:xfrm>
        </p:grpSpPr>
        <p:sp>
          <p:nvSpPr>
            <p:cNvPr id="80" name=""/>
            <p:cNvSpPr txBox="1"/>
            <p:nvPr/>
          </p:nvSpPr>
          <p:spPr>
            <a:xfrm>
              <a:off x="776160" y="3564000"/>
              <a:ext cx="1752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 Consul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Consul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ftware Hou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adem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217520" y="3354480"/>
              <a:ext cx="663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li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76160" y="3392640"/>
              <a:ext cx="1905120" cy="838080"/>
              <a:chOff x="776160" y="3392640"/>
              <a:chExt cx="1905120" cy="838080"/>
            </a:xfrm>
          </p:grpSpPr>
          <p:sp>
            <p:nvSpPr>
              <p:cNvPr id="83" name=""/>
              <p:cNvSpPr/>
              <p:nvPr/>
            </p:nvSpPr>
            <p:spPr>
              <a:xfrm>
                <a:off x="776160" y="3392640"/>
                <a:ext cx="190512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7960" y="3564000"/>
                <a:ext cx="19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3367080" y="3354480"/>
            <a:ext cx="1905120" cy="1419120"/>
            <a:chOff x="3367080" y="3354480"/>
            <a:chExt cx="1905120" cy="1419120"/>
          </a:xfrm>
        </p:grpSpPr>
        <p:sp>
          <p:nvSpPr>
            <p:cNvPr id="86" name=""/>
            <p:cNvSpPr txBox="1"/>
            <p:nvPr/>
          </p:nvSpPr>
          <p:spPr>
            <a:xfrm>
              <a:off x="4030560" y="3414600"/>
              <a:ext cx="625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367080" y="3913200"/>
              <a:ext cx="13399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me / Location Fl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d Produ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erience/ Trainer f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67080" y="3354480"/>
              <a:ext cx="1905120" cy="14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68520" y="3835440"/>
              <a:ext cx="190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00200" y="92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Industry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fied Competition from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ourc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consultants, 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 body of knowledge (Pmbok) on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Project, Lotus Notes, NetScape Col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71400" y="8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Industry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260352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fied Competition from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Customer Price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request volum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use to pay travel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ree training materials or custo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J. Zanger</dc:creator>
  <dc:description/>
  <dc:language>en-US</dc:language>
  <cp:lastModifiedBy>Jonathan J. Zanger</cp:lastModifiedBy>
  <cp:revision>0</cp:revision>
  <dc:subject/>
  <dc:title>Knowledge Management at Integrated Project Systems</dc:title>
</cp:coreProperties>
</file>