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83640" y="4446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360" cy="2134080"/>
          </a:xfrm>
          <a:custGeom>
            <a:avLst/>
            <a:gdLst/>
            <a:ahLst/>
            <a:rect l="0" t="0" r="r" b="b"/>
            <a:pathLst>
              <a:path w="25401" h="5928">
                <a:moveTo>
                  <a:pt x="0" y="0"/>
                </a:moveTo>
                <a:lnTo>
                  <a:pt x="25401" y="0"/>
                </a:lnTo>
                <a:lnTo>
                  <a:pt x="25401" y="4207"/>
                </a:lnTo>
                <a:lnTo>
                  <a:pt x="25237" y="4260"/>
                </a:lnTo>
                <a:lnTo>
                  <a:pt x="25074" y="4298"/>
                </a:lnTo>
                <a:lnTo>
                  <a:pt x="24911" y="4322"/>
                </a:lnTo>
                <a:lnTo>
                  <a:pt x="24708" y="4341"/>
                </a:lnTo>
                <a:lnTo>
                  <a:pt x="24303" y="4351"/>
                </a:lnTo>
                <a:lnTo>
                  <a:pt x="23857" y="4332"/>
                </a:lnTo>
                <a:lnTo>
                  <a:pt x="23328" y="4289"/>
                </a:lnTo>
                <a:lnTo>
                  <a:pt x="22799" y="4217"/>
                </a:lnTo>
                <a:lnTo>
                  <a:pt x="22230" y="4135"/>
                </a:lnTo>
                <a:lnTo>
                  <a:pt x="21622" y="4044"/>
                </a:lnTo>
                <a:lnTo>
                  <a:pt x="20321" y="3857"/>
                </a:lnTo>
                <a:lnTo>
                  <a:pt x="19669" y="3776"/>
                </a:lnTo>
                <a:lnTo>
                  <a:pt x="18937" y="3690"/>
                </a:lnTo>
                <a:lnTo>
                  <a:pt x="18205" y="3642"/>
                </a:lnTo>
                <a:lnTo>
                  <a:pt x="17434" y="3608"/>
                </a:lnTo>
                <a:lnTo>
                  <a:pt x="16662" y="3608"/>
                </a:lnTo>
                <a:lnTo>
                  <a:pt x="15890" y="3642"/>
                </a:lnTo>
                <a:lnTo>
                  <a:pt x="15485" y="3671"/>
                </a:lnTo>
                <a:lnTo>
                  <a:pt x="15039" y="3723"/>
                </a:lnTo>
                <a:lnTo>
                  <a:pt x="14590" y="3776"/>
                </a:lnTo>
                <a:lnTo>
                  <a:pt x="14105" y="3838"/>
                </a:lnTo>
                <a:lnTo>
                  <a:pt x="13086" y="4001"/>
                </a:lnTo>
                <a:lnTo>
                  <a:pt x="11987" y="4188"/>
                </a:lnTo>
                <a:lnTo>
                  <a:pt x="10850" y="4394"/>
                </a:lnTo>
                <a:lnTo>
                  <a:pt x="9673" y="4620"/>
                </a:lnTo>
                <a:lnTo>
                  <a:pt x="8491" y="4845"/>
                </a:lnTo>
                <a:lnTo>
                  <a:pt x="7354" y="5075"/>
                </a:lnTo>
                <a:lnTo>
                  <a:pt x="6176" y="5291"/>
                </a:lnTo>
                <a:lnTo>
                  <a:pt x="5079" y="5487"/>
                </a:lnTo>
                <a:lnTo>
                  <a:pt x="3981" y="5650"/>
                </a:lnTo>
                <a:lnTo>
                  <a:pt x="3496" y="5722"/>
                </a:lnTo>
                <a:lnTo>
                  <a:pt x="3006" y="5784"/>
                </a:lnTo>
                <a:lnTo>
                  <a:pt x="2517" y="5847"/>
                </a:lnTo>
                <a:lnTo>
                  <a:pt x="2072" y="5890"/>
                </a:lnTo>
                <a:lnTo>
                  <a:pt x="1666" y="5909"/>
                </a:lnTo>
                <a:lnTo>
                  <a:pt x="1260" y="5928"/>
                </a:lnTo>
                <a:lnTo>
                  <a:pt x="895" y="5928"/>
                </a:lnTo>
                <a:lnTo>
                  <a:pt x="568" y="5919"/>
                </a:lnTo>
                <a:lnTo>
                  <a:pt x="286" y="5890"/>
                </a:lnTo>
                <a:lnTo>
                  <a:pt x="0" y="58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3520"/>
            <a:ext cx="9144360" cy="5694840"/>
          </a:xfrm>
          <a:custGeom>
            <a:avLst/>
            <a:gdLst/>
            <a:ahLst/>
            <a:rect l="0" t="0" r="r" b="b"/>
            <a:pathLst>
              <a:path w="25401" h="15819">
                <a:moveTo>
                  <a:pt x="0" y="2114"/>
                </a:moveTo>
                <a:lnTo>
                  <a:pt x="855" y="2173"/>
                </a:lnTo>
                <a:lnTo>
                  <a:pt x="1666" y="2205"/>
                </a:lnTo>
                <a:lnTo>
                  <a:pt x="2477" y="2205"/>
                </a:lnTo>
                <a:lnTo>
                  <a:pt x="3293" y="2141"/>
                </a:lnTo>
                <a:lnTo>
                  <a:pt x="4876" y="1986"/>
                </a:lnTo>
                <a:lnTo>
                  <a:pt x="6379" y="1768"/>
                </a:lnTo>
                <a:lnTo>
                  <a:pt x="7843" y="1481"/>
                </a:lnTo>
                <a:lnTo>
                  <a:pt x="9183" y="1198"/>
                </a:lnTo>
                <a:lnTo>
                  <a:pt x="10444" y="915"/>
                </a:lnTo>
                <a:lnTo>
                  <a:pt x="11622" y="692"/>
                </a:lnTo>
                <a:lnTo>
                  <a:pt x="11661" y="692"/>
                </a:lnTo>
                <a:lnTo>
                  <a:pt x="11745" y="665"/>
                </a:lnTo>
                <a:lnTo>
                  <a:pt x="11868" y="665"/>
                </a:lnTo>
                <a:lnTo>
                  <a:pt x="12071" y="633"/>
                </a:lnTo>
                <a:lnTo>
                  <a:pt x="12517" y="569"/>
                </a:lnTo>
                <a:lnTo>
                  <a:pt x="13086" y="473"/>
                </a:lnTo>
                <a:lnTo>
                  <a:pt x="13655" y="378"/>
                </a:lnTo>
                <a:lnTo>
                  <a:pt x="14184" y="318"/>
                </a:lnTo>
                <a:lnTo>
                  <a:pt x="14590" y="255"/>
                </a:lnTo>
                <a:lnTo>
                  <a:pt x="14753" y="223"/>
                </a:lnTo>
                <a:lnTo>
                  <a:pt x="14876" y="191"/>
                </a:lnTo>
                <a:lnTo>
                  <a:pt x="15524" y="95"/>
                </a:lnTo>
                <a:lnTo>
                  <a:pt x="16177" y="31"/>
                </a:lnTo>
                <a:lnTo>
                  <a:pt x="16909" y="0"/>
                </a:lnTo>
                <a:lnTo>
                  <a:pt x="17597" y="31"/>
                </a:lnTo>
                <a:lnTo>
                  <a:pt x="18368" y="95"/>
                </a:lnTo>
                <a:lnTo>
                  <a:pt x="19100" y="159"/>
                </a:lnTo>
                <a:lnTo>
                  <a:pt x="20564" y="378"/>
                </a:lnTo>
                <a:lnTo>
                  <a:pt x="22028" y="633"/>
                </a:lnTo>
                <a:lnTo>
                  <a:pt x="22676" y="756"/>
                </a:lnTo>
                <a:lnTo>
                  <a:pt x="23328" y="852"/>
                </a:lnTo>
                <a:lnTo>
                  <a:pt x="23937" y="947"/>
                </a:lnTo>
                <a:lnTo>
                  <a:pt x="24466" y="1043"/>
                </a:lnTo>
                <a:lnTo>
                  <a:pt x="24955" y="1070"/>
                </a:lnTo>
                <a:lnTo>
                  <a:pt x="25401" y="1102"/>
                </a:lnTo>
                <a:lnTo>
                  <a:pt x="25401" y="15819"/>
                </a:lnTo>
                <a:lnTo>
                  <a:pt x="0" y="15819"/>
                </a:lnTo>
                <a:lnTo>
                  <a:pt x="0" y="15787"/>
                </a:lnTo>
                <a:lnTo>
                  <a:pt x="0" y="15660"/>
                </a:lnTo>
                <a:lnTo>
                  <a:pt x="0" y="15473"/>
                </a:lnTo>
                <a:lnTo>
                  <a:pt x="0" y="15222"/>
                </a:lnTo>
                <a:lnTo>
                  <a:pt x="0" y="14908"/>
                </a:lnTo>
                <a:lnTo>
                  <a:pt x="0" y="14557"/>
                </a:lnTo>
                <a:lnTo>
                  <a:pt x="0" y="14151"/>
                </a:lnTo>
                <a:lnTo>
                  <a:pt x="0" y="13677"/>
                </a:lnTo>
                <a:lnTo>
                  <a:pt x="0" y="13172"/>
                </a:lnTo>
                <a:lnTo>
                  <a:pt x="0" y="12638"/>
                </a:lnTo>
                <a:lnTo>
                  <a:pt x="0" y="11471"/>
                </a:lnTo>
                <a:lnTo>
                  <a:pt x="0" y="10240"/>
                </a:lnTo>
                <a:lnTo>
                  <a:pt x="0" y="8983"/>
                </a:lnTo>
                <a:lnTo>
                  <a:pt x="0" y="7688"/>
                </a:lnTo>
                <a:lnTo>
                  <a:pt x="0" y="6462"/>
                </a:lnTo>
                <a:lnTo>
                  <a:pt x="0" y="5296"/>
                </a:lnTo>
                <a:lnTo>
                  <a:pt x="0" y="4758"/>
                </a:lnTo>
                <a:lnTo>
                  <a:pt x="0" y="4257"/>
                </a:lnTo>
                <a:lnTo>
                  <a:pt x="0" y="3782"/>
                </a:lnTo>
                <a:lnTo>
                  <a:pt x="0" y="3372"/>
                </a:lnTo>
                <a:lnTo>
                  <a:pt x="0" y="3025"/>
                </a:lnTo>
                <a:lnTo>
                  <a:pt x="0" y="2711"/>
                </a:lnTo>
                <a:lnTo>
                  <a:pt x="0" y="2460"/>
                </a:lnTo>
                <a:lnTo>
                  <a:pt x="0" y="2269"/>
                </a:lnTo>
                <a:lnTo>
                  <a:pt x="0" y="2141"/>
                </a:lnTo>
                <a:lnTo>
                  <a:pt x="0" y="2114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91960"/>
            <a:ext cx="9144360" cy="854280"/>
          </a:xfrm>
          <a:custGeom>
            <a:avLst/>
            <a:gdLst/>
            <a:ahLst/>
            <a:rect l="0" t="0" r="r" b="b"/>
            <a:pathLst>
              <a:path w="25401" h="2373">
                <a:moveTo>
                  <a:pt x="0" y="647"/>
                </a:moveTo>
                <a:lnTo>
                  <a:pt x="0" y="1753"/>
                </a:lnTo>
                <a:lnTo>
                  <a:pt x="286" y="1799"/>
                </a:lnTo>
                <a:lnTo>
                  <a:pt x="568" y="1836"/>
                </a:lnTo>
                <a:lnTo>
                  <a:pt x="1300" y="1901"/>
                </a:lnTo>
                <a:lnTo>
                  <a:pt x="2155" y="1957"/>
                </a:lnTo>
                <a:lnTo>
                  <a:pt x="3130" y="1998"/>
                </a:lnTo>
                <a:lnTo>
                  <a:pt x="3659" y="2012"/>
                </a:lnTo>
                <a:lnTo>
                  <a:pt x="4228" y="2017"/>
                </a:lnTo>
                <a:lnTo>
                  <a:pt x="4796" y="2021"/>
                </a:lnTo>
                <a:lnTo>
                  <a:pt x="5365" y="2017"/>
                </a:lnTo>
                <a:lnTo>
                  <a:pt x="5974" y="2012"/>
                </a:lnTo>
                <a:lnTo>
                  <a:pt x="6582" y="1998"/>
                </a:lnTo>
                <a:lnTo>
                  <a:pt x="7195" y="1975"/>
                </a:lnTo>
                <a:lnTo>
                  <a:pt x="7803" y="1943"/>
                </a:lnTo>
                <a:lnTo>
                  <a:pt x="8130" y="1920"/>
                </a:lnTo>
                <a:lnTo>
                  <a:pt x="8451" y="1901"/>
                </a:lnTo>
                <a:lnTo>
                  <a:pt x="9183" y="1836"/>
                </a:lnTo>
                <a:lnTo>
                  <a:pt x="9955" y="1753"/>
                </a:lnTo>
                <a:lnTo>
                  <a:pt x="10726" y="1665"/>
                </a:lnTo>
                <a:lnTo>
                  <a:pt x="11582" y="1564"/>
                </a:lnTo>
                <a:lnTo>
                  <a:pt x="12437" y="1457"/>
                </a:lnTo>
                <a:lnTo>
                  <a:pt x="14144" y="1231"/>
                </a:lnTo>
                <a:lnTo>
                  <a:pt x="14995" y="1123"/>
                </a:lnTo>
                <a:lnTo>
                  <a:pt x="15851" y="1022"/>
                </a:lnTo>
                <a:lnTo>
                  <a:pt x="16662" y="924"/>
                </a:lnTo>
                <a:lnTo>
                  <a:pt x="17478" y="846"/>
                </a:lnTo>
                <a:lnTo>
                  <a:pt x="18205" y="781"/>
                </a:lnTo>
                <a:lnTo>
                  <a:pt x="18571" y="753"/>
                </a:lnTo>
                <a:lnTo>
                  <a:pt x="18937" y="735"/>
                </a:lnTo>
                <a:lnTo>
                  <a:pt x="19263" y="716"/>
                </a:lnTo>
                <a:lnTo>
                  <a:pt x="19589" y="707"/>
                </a:lnTo>
                <a:lnTo>
                  <a:pt x="19872" y="702"/>
                </a:lnTo>
                <a:lnTo>
                  <a:pt x="20158" y="707"/>
                </a:lnTo>
                <a:lnTo>
                  <a:pt x="20440" y="716"/>
                </a:lnTo>
                <a:lnTo>
                  <a:pt x="20687" y="739"/>
                </a:lnTo>
                <a:lnTo>
                  <a:pt x="20930" y="763"/>
                </a:lnTo>
                <a:lnTo>
                  <a:pt x="21172" y="795"/>
                </a:lnTo>
                <a:lnTo>
                  <a:pt x="21419" y="841"/>
                </a:lnTo>
                <a:lnTo>
                  <a:pt x="21662" y="887"/>
                </a:lnTo>
                <a:lnTo>
                  <a:pt x="21865" y="943"/>
                </a:lnTo>
                <a:lnTo>
                  <a:pt x="22067" y="994"/>
                </a:lnTo>
                <a:lnTo>
                  <a:pt x="22473" y="1123"/>
                </a:lnTo>
                <a:lnTo>
                  <a:pt x="22883" y="1268"/>
                </a:lnTo>
                <a:lnTo>
                  <a:pt x="23205" y="1420"/>
                </a:lnTo>
                <a:lnTo>
                  <a:pt x="23531" y="1568"/>
                </a:lnTo>
                <a:lnTo>
                  <a:pt x="23857" y="1725"/>
                </a:lnTo>
                <a:lnTo>
                  <a:pt x="24140" y="1869"/>
                </a:lnTo>
                <a:lnTo>
                  <a:pt x="24386" y="2003"/>
                </a:lnTo>
                <a:lnTo>
                  <a:pt x="24629" y="2123"/>
                </a:lnTo>
                <a:lnTo>
                  <a:pt x="24708" y="2179"/>
                </a:lnTo>
                <a:lnTo>
                  <a:pt x="24832" y="2225"/>
                </a:lnTo>
                <a:lnTo>
                  <a:pt x="24955" y="2271"/>
                </a:lnTo>
                <a:lnTo>
                  <a:pt x="25035" y="2308"/>
                </a:lnTo>
                <a:lnTo>
                  <a:pt x="25114" y="2331"/>
                </a:lnTo>
                <a:lnTo>
                  <a:pt x="25237" y="2354"/>
                </a:lnTo>
                <a:lnTo>
                  <a:pt x="25321" y="2364"/>
                </a:lnTo>
                <a:lnTo>
                  <a:pt x="25401" y="2373"/>
                </a:lnTo>
                <a:lnTo>
                  <a:pt x="25401" y="647"/>
                </a:lnTo>
                <a:lnTo>
                  <a:pt x="25035" y="504"/>
                </a:lnTo>
                <a:lnTo>
                  <a:pt x="24589" y="369"/>
                </a:lnTo>
                <a:lnTo>
                  <a:pt x="24060" y="245"/>
                </a:lnTo>
                <a:lnTo>
                  <a:pt x="23774" y="189"/>
                </a:lnTo>
                <a:lnTo>
                  <a:pt x="23452" y="138"/>
                </a:lnTo>
                <a:lnTo>
                  <a:pt x="23125" y="97"/>
                </a:lnTo>
                <a:lnTo>
                  <a:pt x="22760" y="64"/>
                </a:lnTo>
                <a:lnTo>
                  <a:pt x="22394" y="32"/>
                </a:lnTo>
                <a:lnTo>
                  <a:pt x="21988" y="9"/>
                </a:lnTo>
                <a:lnTo>
                  <a:pt x="21538" y="0"/>
                </a:lnTo>
                <a:lnTo>
                  <a:pt x="21093" y="0"/>
                </a:lnTo>
                <a:lnTo>
                  <a:pt x="20604" y="4"/>
                </a:lnTo>
                <a:lnTo>
                  <a:pt x="20119" y="27"/>
                </a:lnTo>
                <a:lnTo>
                  <a:pt x="19832" y="41"/>
                </a:lnTo>
                <a:lnTo>
                  <a:pt x="19550" y="64"/>
                </a:lnTo>
                <a:lnTo>
                  <a:pt x="19263" y="92"/>
                </a:lnTo>
                <a:lnTo>
                  <a:pt x="18981" y="124"/>
                </a:lnTo>
                <a:lnTo>
                  <a:pt x="18329" y="198"/>
                </a:lnTo>
                <a:lnTo>
                  <a:pt x="17636" y="291"/>
                </a:lnTo>
                <a:lnTo>
                  <a:pt x="16909" y="397"/>
                </a:lnTo>
                <a:lnTo>
                  <a:pt x="16177" y="508"/>
                </a:lnTo>
                <a:lnTo>
                  <a:pt x="15401" y="624"/>
                </a:lnTo>
                <a:lnTo>
                  <a:pt x="14629" y="749"/>
                </a:lnTo>
                <a:lnTo>
                  <a:pt x="13858" y="874"/>
                </a:lnTo>
                <a:lnTo>
                  <a:pt x="13086" y="989"/>
                </a:lnTo>
                <a:lnTo>
                  <a:pt x="12314" y="1100"/>
                </a:lnTo>
                <a:lnTo>
                  <a:pt x="11582" y="1203"/>
                </a:lnTo>
                <a:lnTo>
                  <a:pt x="10810" y="1291"/>
                </a:lnTo>
                <a:lnTo>
                  <a:pt x="10118" y="1365"/>
                </a:lnTo>
                <a:lnTo>
                  <a:pt x="9752" y="1393"/>
                </a:lnTo>
                <a:lnTo>
                  <a:pt x="9426" y="1420"/>
                </a:lnTo>
                <a:lnTo>
                  <a:pt x="9104" y="1439"/>
                </a:lnTo>
                <a:lnTo>
                  <a:pt x="8778" y="1453"/>
                </a:lnTo>
                <a:lnTo>
                  <a:pt x="8130" y="1462"/>
                </a:lnTo>
                <a:lnTo>
                  <a:pt x="7517" y="1453"/>
                </a:lnTo>
                <a:lnTo>
                  <a:pt x="6869" y="1430"/>
                </a:lnTo>
                <a:lnTo>
                  <a:pt x="6260" y="1393"/>
                </a:lnTo>
                <a:lnTo>
                  <a:pt x="5608" y="1342"/>
                </a:lnTo>
                <a:lnTo>
                  <a:pt x="4999" y="1286"/>
                </a:lnTo>
                <a:lnTo>
                  <a:pt x="4391" y="1221"/>
                </a:lnTo>
                <a:lnTo>
                  <a:pt x="3818" y="1151"/>
                </a:lnTo>
                <a:lnTo>
                  <a:pt x="2680" y="998"/>
                </a:lnTo>
                <a:lnTo>
                  <a:pt x="1666" y="855"/>
                </a:lnTo>
                <a:lnTo>
                  <a:pt x="1221" y="790"/>
                </a:lnTo>
                <a:lnTo>
                  <a:pt x="771" y="735"/>
                </a:lnTo>
                <a:lnTo>
                  <a:pt x="365" y="684"/>
                </a:lnTo>
                <a:lnTo>
                  <a:pt x="0" y="647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05160"/>
            <a:ext cx="9144360" cy="1070280"/>
          </a:xfrm>
          <a:custGeom>
            <a:avLst/>
            <a:gdLst/>
            <a:ahLst/>
            <a:rect l="0" t="0" r="r" b="b"/>
            <a:pathLst>
              <a:path w="25401" h="2973">
                <a:moveTo>
                  <a:pt x="0" y="1026"/>
                </a:moveTo>
                <a:lnTo>
                  <a:pt x="0" y="1767"/>
                </a:lnTo>
                <a:lnTo>
                  <a:pt x="202" y="1819"/>
                </a:lnTo>
                <a:lnTo>
                  <a:pt x="445" y="1885"/>
                </a:lnTo>
                <a:lnTo>
                  <a:pt x="771" y="1965"/>
                </a:lnTo>
                <a:lnTo>
                  <a:pt x="1097" y="2031"/>
                </a:lnTo>
                <a:lnTo>
                  <a:pt x="1869" y="2195"/>
                </a:lnTo>
                <a:lnTo>
                  <a:pt x="2724" y="2379"/>
                </a:lnTo>
                <a:lnTo>
                  <a:pt x="3575" y="2544"/>
                </a:lnTo>
                <a:lnTo>
                  <a:pt x="4391" y="2690"/>
                </a:lnTo>
                <a:lnTo>
                  <a:pt x="5079" y="2808"/>
                </a:lnTo>
                <a:lnTo>
                  <a:pt x="5405" y="2855"/>
                </a:lnTo>
                <a:lnTo>
                  <a:pt x="5647" y="2888"/>
                </a:lnTo>
                <a:lnTo>
                  <a:pt x="5850" y="2921"/>
                </a:lnTo>
                <a:lnTo>
                  <a:pt x="5974" y="2940"/>
                </a:lnTo>
                <a:lnTo>
                  <a:pt x="6013" y="2954"/>
                </a:lnTo>
                <a:lnTo>
                  <a:pt x="6053" y="2973"/>
                </a:lnTo>
                <a:lnTo>
                  <a:pt x="6013" y="2973"/>
                </a:lnTo>
                <a:lnTo>
                  <a:pt x="5974" y="2954"/>
                </a:lnTo>
                <a:lnTo>
                  <a:pt x="5974" y="2907"/>
                </a:lnTo>
                <a:lnTo>
                  <a:pt x="6013" y="2874"/>
                </a:lnTo>
                <a:lnTo>
                  <a:pt x="6097" y="2841"/>
                </a:lnTo>
                <a:lnTo>
                  <a:pt x="6260" y="2789"/>
                </a:lnTo>
                <a:lnTo>
                  <a:pt x="6503" y="2723"/>
                </a:lnTo>
                <a:lnTo>
                  <a:pt x="6785" y="2657"/>
                </a:lnTo>
                <a:lnTo>
                  <a:pt x="7195" y="2591"/>
                </a:lnTo>
                <a:lnTo>
                  <a:pt x="7680" y="2492"/>
                </a:lnTo>
                <a:lnTo>
                  <a:pt x="8288" y="2379"/>
                </a:lnTo>
                <a:lnTo>
                  <a:pt x="8981" y="2228"/>
                </a:lnTo>
                <a:lnTo>
                  <a:pt x="9752" y="2064"/>
                </a:lnTo>
                <a:lnTo>
                  <a:pt x="10568" y="1885"/>
                </a:lnTo>
                <a:lnTo>
                  <a:pt x="11419" y="1701"/>
                </a:lnTo>
                <a:lnTo>
                  <a:pt x="13249" y="1323"/>
                </a:lnTo>
                <a:lnTo>
                  <a:pt x="15119" y="956"/>
                </a:lnTo>
                <a:lnTo>
                  <a:pt x="16014" y="810"/>
                </a:lnTo>
                <a:lnTo>
                  <a:pt x="16909" y="659"/>
                </a:lnTo>
                <a:lnTo>
                  <a:pt x="17720" y="546"/>
                </a:lnTo>
                <a:lnTo>
                  <a:pt x="18492" y="461"/>
                </a:lnTo>
                <a:lnTo>
                  <a:pt x="19184" y="414"/>
                </a:lnTo>
                <a:lnTo>
                  <a:pt x="19792" y="395"/>
                </a:lnTo>
                <a:lnTo>
                  <a:pt x="20361" y="428"/>
                </a:lnTo>
                <a:lnTo>
                  <a:pt x="20890" y="494"/>
                </a:lnTo>
                <a:lnTo>
                  <a:pt x="21375" y="612"/>
                </a:lnTo>
                <a:lnTo>
                  <a:pt x="21825" y="758"/>
                </a:lnTo>
                <a:lnTo>
                  <a:pt x="22270" y="923"/>
                </a:lnTo>
                <a:lnTo>
                  <a:pt x="22676" y="1106"/>
                </a:lnTo>
                <a:lnTo>
                  <a:pt x="23408" y="1536"/>
                </a:lnTo>
                <a:lnTo>
                  <a:pt x="24020" y="1951"/>
                </a:lnTo>
                <a:lnTo>
                  <a:pt x="24303" y="2148"/>
                </a:lnTo>
                <a:lnTo>
                  <a:pt x="24545" y="2313"/>
                </a:lnTo>
                <a:lnTo>
                  <a:pt x="24792" y="2459"/>
                </a:lnTo>
                <a:lnTo>
                  <a:pt x="25035" y="2591"/>
                </a:lnTo>
                <a:lnTo>
                  <a:pt x="25237" y="2676"/>
                </a:lnTo>
                <a:lnTo>
                  <a:pt x="25401" y="2709"/>
                </a:lnTo>
                <a:lnTo>
                  <a:pt x="25401" y="956"/>
                </a:lnTo>
                <a:lnTo>
                  <a:pt x="24871" y="810"/>
                </a:lnTo>
                <a:lnTo>
                  <a:pt x="24179" y="626"/>
                </a:lnTo>
                <a:lnTo>
                  <a:pt x="23368" y="461"/>
                </a:lnTo>
                <a:lnTo>
                  <a:pt x="22433" y="296"/>
                </a:lnTo>
                <a:lnTo>
                  <a:pt x="21375" y="150"/>
                </a:lnTo>
                <a:lnTo>
                  <a:pt x="20282" y="51"/>
                </a:lnTo>
                <a:lnTo>
                  <a:pt x="19669" y="18"/>
                </a:lnTo>
                <a:lnTo>
                  <a:pt x="19060" y="0"/>
                </a:lnTo>
                <a:lnTo>
                  <a:pt x="18452" y="0"/>
                </a:lnTo>
                <a:lnTo>
                  <a:pt x="17799" y="18"/>
                </a:lnTo>
                <a:lnTo>
                  <a:pt x="17112" y="65"/>
                </a:lnTo>
                <a:lnTo>
                  <a:pt x="16380" y="131"/>
                </a:lnTo>
                <a:lnTo>
                  <a:pt x="15608" y="230"/>
                </a:lnTo>
                <a:lnTo>
                  <a:pt x="14753" y="348"/>
                </a:lnTo>
                <a:lnTo>
                  <a:pt x="13898" y="480"/>
                </a:lnTo>
                <a:lnTo>
                  <a:pt x="12963" y="626"/>
                </a:lnTo>
                <a:lnTo>
                  <a:pt x="11137" y="956"/>
                </a:lnTo>
                <a:lnTo>
                  <a:pt x="9346" y="1271"/>
                </a:lnTo>
                <a:lnTo>
                  <a:pt x="8451" y="1422"/>
                </a:lnTo>
                <a:lnTo>
                  <a:pt x="7640" y="1555"/>
                </a:lnTo>
                <a:lnTo>
                  <a:pt x="6829" y="1687"/>
                </a:lnTo>
                <a:lnTo>
                  <a:pt x="6097" y="1786"/>
                </a:lnTo>
                <a:lnTo>
                  <a:pt x="5445" y="1852"/>
                </a:lnTo>
                <a:lnTo>
                  <a:pt x="4836" y="1899"/>
                </a:lnTo>
                <a:lnTo>
                  <a:pt x="4307" y="1918"/>
                </a:lnTo>
                <a:lnTo>
                  <a:pt x="3818" y="1918"/>
                </a:lnTo>
                <a:lnTo>
                  <a:pt x="3372" y="1899"/>
                </a:lnTo>
                <a:lnTo>
                  <a:pt x="2967" y="1866"/>
                </a:lnTo>
                <a:lnTo>
                  <a:pt x="2275" y="1753"/>
                </a:lnTo>
                <a:lnTo>
                  <a:pt x="1706" y="1588"/>
                </a:lnTo>
                <a:lnTo>
                  <a:pt x="1177" y="1422"/>
                </a:lnTo>
                <a:lnTo>
                  <a:pt x="771" y="1257"/>
                </a:lnTo>
                <a:lnTo>
                  <a:pt x="365" y="1125"/>
                </a:lnTo>
                <a:lnTo>
                  <a:pt x="0" y="1026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476440" y="1522440"/>
            <a:ext cx="6667920" cy="5335920"/>
          </a:xfrm>
          <a:custGeom>
            <a:avLst/>
            <a:gdLst/>
            <a:ahLst/>
            <a:rect l="0" t="0" r="r" b="b"/>
            <a:pathLst>
              <a:path w="18522" h="14822">
                <a:moveTo>
                  <a:pt x="0" y="14822"/>
                </a:moveTo>
                <a:lnTo>
                  <a:pt x="39" y="14560"/>
                </a:lnTo>
                <a:lnTo>
                  <a:pt x="118" y="14259"/>
                </a:lnTo>
                <a:lnTo>
                  <a:pt x="163" y="13931"/>
                </a:lnTo>
                <a:lnTo>
                  <a:pt x="242" y="13535"/>
                </a:lnTo>
                <a:lnTo>
                  <a:pt x="282" y="13140"/>
                </a:lnTo>
                <a:lnTo>
                  <a:pt x="365" y="12683"/>
                </a:lnTo>
                <a:lnTo>
                  <a:pt x="528" y="11692"/>
                </a:lnTo>
                <a:lnTo>
                  <a:pt x="687" y="10639"/>
                </a:lnTo>
                <a:lnTo>
                  <a:pt x="894" y="9486"/>
                </a:lnTo>
                <a:lnTo>
                  <a:pt x="1136" y="8333"/>
                </a:lnTo>
                <a:lnTo>
                  <a:pt x="1379" y="7112"/>
                </a:lnTo>
                <a:lnTo>
                  <a:pt x="1665" y="5959"/>
                </a:lnTo>
                <a:lnTo>
                  <a:pt x="1987" y="4806"/>
                </a:lnTo>
                <a:lnTo>
                  <a:pt x="2313" y="3720"/>
                </a:lnTo>
                <a:lnTo>
                  <a:pt x="2718" y="2734"/>
                </a:lnTo>
                <a:lnTo>
                  <a:pt x="2921" y="2272"/>
                </a:lnTo>
                <a:lnTo>
                  <a:pt x="3128" y="1877"/>
                </a:lnTo>
                <a:lnTo>
                  <a:pt x="3371" y="1481"/>
                </a:lnTo>
                <a:lnTo>
                  <a:pt x="3613" y="1119"/>
                </a:lnTo>
                <a:lnTo>
                  <a:pt x="3855" y="824"/>
                </a:lnTo>
                <a:lnTo>
                  <a:pt x="4102" y="557"/>
                </a:lnTo>
                <a:lnTo>
                  <a:pt x="4384" y="362"/>
                </a:lnTo>
                <a:lnTo>
                  <a:pt x="4671" y="195"/>
                </a:lnTo>
                <a:lnTo>
                  <a:pt x="4998" y="100"/>
                </a:lnTo>
                <a:lnTo>
                  <a:pt x="5319" y="33"/>
                </a:lnTo>
                <a:lnTo>
                  <a:pt x="5685" y="0"/>
                </a:lnTo>
                <a:lnTo>
                  <a:pt x="6051" y="0"/>
                </a:lnTo>
                <a:lnTo>
                  <a:pt x="6456" y="66"/>
                </a:lnTo>
                <a:lnTo>
                  <a:pt x="6906" y="133"/>
                </a:lnTo>
                <a:lnTo>
                  <a:pt x="7800" y="395"/>
                </a:lnTo>
                <a:lnTo>
                  <a:pt x="8774" y="757"/>
                </a:lnTo>
                <a:lnTo>
                  <a:pt x="9788" y="1186"/>
                </a:lnTo>
                <a:lnTo>
                  <a:pt x="10845" y="1676"/>
                </a:lnTo>
                <a:lnTo>
                  <a:pt x="11903" y="2239"/>
                </a:lnTo>
                <a:lnTo>
                  <a:pt x="12916" y="2829"/>
                </a:lnTo>
                <a:lnTo>
                  <a:pt x="13931" y="3458"/>
                </a:lnTo>
                <a:lnTo>
                  <a:pt x="14909" y="4049"/>
                </a:lnTo>
                <a:lnTo>
                  <a:pt x="15799" y="4644"/>
                </a:lnTo>
                <a:lnTo>
                  <a:pt x="16654" y="5169"/>
                </a:lnTo>
                <a:lnTo>
                  <a:pt x="17385" y="5664"/>
                </a:lnTo>
                <a:lnTo>
                  <a:pt x="18033" y="6059"/>
                </a:lnTo>
                <a:lnTo>
                  <a:pt x="18522" y="6355"/>
                </a:lnTo>
                <a:lnTo>
                  <a:pt x="18522" y="8466"/>
                </a:lnTo>
                <a:lnTo>
                  <a:pt x="18320" y="8366"/>
                </a:lnTo>
                <a:lnTo>
                  <a:pt x="18033" y="8199"/>
                </a:lnTo>
                <a:lnTo>
                  <a:pt x="17751" y="8038"/>
                </a:lnTo>
                <a:lnTo>
                  <a:pt x="17425" y="7837"/>
                </a:lnTo>
                <a:lnTo>
                  <a:pt x="16733" y="7346"/>
                </a:lnTo>
                <a:lnTo>
                  <a:pt x="15922" y="6750"/>
                </a:lnTo>
                <a:lnTo>
                  <a:pt x="15072" y="6093"/>
                </a:lnTo>
                <a:lnTo>
                  <a:pt x="14133" y="5402"/>
                </a:lnTo>
                <a:lnTo>
                  <a:pt x="13159" y="4678"/>
                </a:lnTo>
                <a:lnTo>
                  <a:pt x="12145" y="3954"/>
                </a:lnTo>
                <a:lnTo>
                  <a:pt x="11127" y="3258"/>
                </a:lnTo>
                <a:lnTo>
                  <a:pt x="10153" y="2601"/>
                </a:lnTo>
                <a:lnTo>
                  <a:pt x="9179" y="2010"/>
                </a:lnTo>
                <a:lnTo>
                  <a:pt x="8245" y="1514"/>
                </a:lnTo>
                <a:lnTo>
                  <a:pt x="7800" y="1314"/>
                </a:lnTo>
                <a:lnTo>
                  <a:pt x="7351" y="1152"/>
                </a:lnTo>
                <a:lnTo>
                  <a:pt x="6945" y="1019"/>
                </a:lnTo>
                <a:lnTo>
                  <a:pt x="6580" y="919"/>
                </a:lnTo>
                <a:lnTo>
                  <a:pt x="6214" y="857"/>
                </a:lnTo>
                <a:lnTo>
                  <a:pt x="5888" y="824"/>
                </a:lnTo>
                <a:lnTo>
                  <a:pt x="5566" y="857"/>
                </a:lnTo>
                <a:lnTo>
                  <a:pt x="5280" y="919"/>
                </a:lnTo>
                <a:lnTo>
                  <a:pt x="5037" y="1052"/>
                </a:lnTo>
                <a:lnTo>
                  <a:pt x="4790" y="1219"/>
                </a:lnTo>
                <a:lnTo>
                  <a:pt x="4547" y="1448"/>
                </a:lnTo>
                <a:lnTo>
                  <a:pt x="4344" y="1710"/>
                </a:lnTo>
                <a:lnTo>
                  <a:pt x="4142" y="2043"/>
                </a:lnTo>
                <a:lnTo>
                  <a:pt x="3979" y="2405"/>
                </a:lnTo>
                <a:lnTo>
                  <a:pt x="3816" y="2801"/>
                </a:lnTo>
                <a:lnTo>
                  <a:pt x="3653" y="3225"/>
                </a:lnTo>
                <a:lnTo>
                  <a:pt x="3371" y="4149"/>
                </a:lnTo>
                <a:lnTo>
                  <a:pt x="3084" y="5169"/>
                </a:lnTo>
                <a:lnTo>
                  <a:pt x="2881" y="6255"/>
                </a:lnTo>
                <a:lnTo>
                  <a:pt x="2679" y="7408"/>
                </a:lnTo>
                <a:lnTo>
                  <a:pt x="2516" y="8562"/>
                </a:lnTo>
                <a:lnTo>
                  <a:pt x="2397" y="9681"/>
                </a:lnTo>
                <a:lnTo>
                  <a:pt x="2234" y="10805"/>
                </a:lnTo>
                <a:lnTo>
                  <a:pt x="2110" y="11825"/>
                </a:lnTo>
                <a:lnTo>
                  <a:pt x="1987" y="12778"/>
                </a:lnTo>
                <a:lnTo>
                  <a:pt x="1908" y="13207"/>
                </a:lnTo>
                <a:lnTo>
                  <a:pt x="1828" y="13602"/>
                </a:lnTo>
                <a:lnTo>
                  <a:pt x="1784" y="13964"/>
                </a:lnTo>
                <a:lnTo>
                  <a:pt x="1705" y="14293"/>
                </a:lnTo>
                <a:lnTo>
                  <a:pt x="1621" y="14593"/>
                </a:lnTo>
                <a:lnTo>
                  <a:pt x="1542" y="14822"/>
                </a:lnTo>
                <a:lnTo>
                  <a:pt x="0" y="14822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3443400"/>
            <a:ext cx="9144360" cy="3056400"/>
          </a:xfrm>
          <a:custGeom>
            <a:avLst/>
            <a:gdLst/>
            <a:ahLst/>
            <a:rect l="0" t="0" r="r" b="b"/>
            <a:pathLst>
              <a:path w="25401" h="8490">
                <a:moveTo>
                  <a:pt x="0" y="3520"/>
                </a:moveTo>
                <a:lnTo>
                  <a:pt x="0" y="4404"/>
                </a:lnTo>
                <a:lnTo>
                  <a:pt x="242" y="4593"/>
                </a:lnTo>
                <a:lnTo>
                  <a:pt x="529" y="4849"/>
                </a:lnTo>
                <a:lnTo>
                  <a:pt x="855" y="5134"/>
                </a:lnTo>
                <a:lnTo>
                  <a:pt x="1221" y="5449"/>
                </a:lnTo>
                <a:lnTo>
                  <a:pt x="2032" y="6179"/>
                </a:lnTo>
                <a:lnTo>
                  <a:pt x="2927" y="6909"/>
                </a:lnTo>
                <a:lnTo>
                  <a:pt x="3412" y="7258"/>
                </a:lnTo>
                <a:lnTo>
                  <a:pt x="3901" y="7606"/>
                </a:lnTo>
                <a:lnTo>
                  <a:pt x="4431" y="7891"/>
                </a:lnTo>
                <a:lnTo>
                  <a:pt x="4915" y="8142"/>
                </a:lnTo>
                <a:lnTo>
                  <a:pt x="5405" y="8302"/>
                </a:lnTo>
                <a:lnTo>
                  <a:pt x="5894" y="8427"/>
                </a:lnTo>
                <a:lnTo>
                  <a:pt x="6379" y="8490"/>
                </a:lnTo>
                <a:lnTo>
                  <a:pt x="6829" y="8427"/>
                </a:lnTo>
                <a:lnTo>
                  <a:pt x="7071" y="8365"/>
                </a:lnTo>
                <a:lnTo>
                  <a:pt x="7274" y="8268"/>
                </a:lnTo>
                <a:lnTo>
                  <a:pt x="7720" y="7983"/>
                </a:lnTo>
                <a:lnTo>
                  <a:pt x="8169" y="7606"/>
                </a:lnTo>
                <a:lnTo>
                  <a:pt x="8575" y="7132"/>
                </a:lnTo>
                <a:lnTo>
                  <a:pt x="9020" y="6590"/>
                </a:lnTo>
                <a:lnTo>
                  <a:pt x="9426" y="6019"/>
                </a:lnTo>
                <a:lnTo>
                  <a:pt x="10321" y="4752"/>
                </a:lnTo>
                <a:lnTo>
                  <a:pt x="10771" y="4153"/>
                </a:lnTo>
                <a:lnTo>
                  <a:pt x="11256" y="3549"/>
                </a:lnTo>
                <a:lnTo>
                  <a:pt x="11705" y="2978"/>
                </a:lnTo>
                <a:lnTo>
                  <a:pt x="12190" y="2471"/>
                </a:lnTo>
                <a:lnTo>
                  <a:pt x="12720" y="2030"/>
                </a:lnTo>
                <a:lnTo>
                  <a:pt x="13249" y="1682"/>
                </a:lnTo>
                <a:lnTo>
                  <a:pt x="13778" y="1459"/>
                </a:lnTo>
                <a:lnTo>
                  <a:pt x="14061" y="1363"/>
                </a:lnTo>
                <a:lnTo>
                  <a:pt x="14347" y="1334"/>
                </a:lnTo>
                <a:lnTo>
                  <a:pt x="14629" y="1334"/>
                </a:lnTo>
                <a:lnTo>
                  <a:pt x="14956" y="1363"/>
                </a:lnTo>
                <a:lnTo>
                  <a:pt x="15648" y="1488"/>
                </a:lnTo>
                <a:lnTo>
                  <a:pt x="16336" y="1711"/>
                </a:lnTo>
                <a:lnTo>
                  <a:pt x="17112" y="2030"/>
                </a:lnTo>
                <a:lnTo>
                  <a:pt x="17923" y="2408"/>
                </a:lnTo>
                <a:lnTo>
                  <a:pt x="18734" y="2853"/>
                </a:lnTo>
                <a:lnTo>
                  <a:pt x="19550" y="3360"/>
                </a:lnTo>
                <a:lnTo>
                  <a:pt x="20361" y="3868"/>
                </a:lnTo>
                <a:lnTo>
                  <a:pt x="21904" y="4878"/>
                </a:lnTo>
                <a:lnTo>
                  <a:pt x="22636" y="5386"/>
                </a:lnTo>
                <a:lnTo>
                  <a:pt x="23328" y="5859"/>
                </a:lnTo>
                <a:lnTo>
                  <a:pt x="23976" y="6275"/>
                </a:lnTo>
                <a:lnTo>
                  <a:pt x="24545" y="6624"/>
                </a:lnTo>
                <a:lnTo>
                  <a:pt x="24995" y="6876"/>
                </a:lnTo>
                <a:lnTo>
                  <a:pt x="25401" y="7064"/>
                </a:lnTo>
                <a:lnTo>
                  <a:pt x="25401" y="5197"/>
                </a:lnTo>
                <a:lnTo>
                  <a:pt x="25035" y="5100"/>
                </a:lnTo>
                <a:lnTo>
                  <a:pt x="24589" y="4912"/>
                </a:lnTo>
                <a:lnTo>
                  <a:pt x="24060" y="4627"/>
                </a:lnTo>
                <a:lnTo>
                  <a:pt x="23452" y="4279"/>
                </a:lnTo>
                <a:lnTo>
                  <a:pt x="22799" y="3868"/>
                </a:lnTo>
                <a:lnTo>
                  <a:pt x="22067" y="3389"/>
                </a:lnTo>
                <a:lnTo>
                  <a:pt x="21296" y="2915"/>
                </a:lnTo>
                <a:lnTo>
                  <a:pt x="20485" y="2408"/>
                </a:lnTo>
                <a:lnTo>
                  <a:pt x="19669" y="1933"/>
                </a:lnTo>
                <a:lnTo>
                  <a:pt x="18818" y="1459"/>
                </a:lnTo>
                <a:lnTo>
                  <a:pt x="18002" y="1015"/>
                </a:lnTo>
                <a:lnTo>
                  <a:pt x="17191" y="633"/>
                </a:lnTo>
                <a:lnTo>
                  <a:pt x="16419" y="348"/>
                </a:lnTo>
                <a:lnTo>
                  <a:pt x="15648" y="130"/>
                </a:lnTo>
                <a:lnTo>
                  <a:pt x="14956" y="33"/>
                </a:lnTo>
                <a:lnTo>
                  <a:pt x="14629" y="0"/>
                </a:lnTo>
                <a:lnTo>
                  <a:pt x="14308" y="33"/>
                </a:lnTo>
                <a:lnTo>
                  <a:pt x="14021" y="96"/>
                </a:lnTo>
                <a:lnTo>
                  <a:pt x="13739" y="193"/>
                </a:lnTo>
                <a:lnTo>
                  <a:pt x="13452" y="319"/>
                </a:lnTo>
                <a:lnTo>
                  <a:pt x="13210" y="444"/>
                </a:lnTo>
                <a:lnTo>
                  <a:pt x="12680" y="855"/>
                </a:lnTo>
                <a:lnTo>
                  <a:pt x="12190" y="1334"/>
                </a:lnTo>
                <a:lnTo>
                  <a:pt x="11705" y="1870"/>
                </a:lnTo>
                <a:lnTo>
                  <a:pt x="11256" y="2505"/>
                </a:lnTo>
                <a:lnTo>
                  <a:pt x="10810" y="3138"/>
                </a:lnTo>
                <a:lnTo>
                  <a:pt x="10361" y="3805"/>
                </a:lnTo>
                <a:lnTo>
                  <a:pt x="9915" y="4467"/>
                </a:lnTo>
                <a:lnTo>
                  <a:pt x="9510" y="5134"/>
                </a:lnTo>
                <a:lnTo>
                  <a:pt x="9064" y="5768"/>
                </a:lnTo>
                <a:lnTo>
                  <a:pt x="8654" y="6304"/>
                </a:lnTo>
                <a:lnTo>
                  <a:pt x="8249" y="6813"/>
                </a:lnTo>
                <a:lnTo>
                  <a:pt x="7803" y="7224"/>
                </a:lnTo>
                <a:lnTo>
                  <a:pt x="7398" y="7509"/>
                </a:lnTo>
                <a:lnTo>
                  <a:pt x="7151" y="7635"/>
                </a:lnTo>
                <a:lnTo>
                  <a:pt x="6948" y="7697"/>
                </a:lnTo>
                <a:lnTo>
                  <a:pt x="6503" y="7765"/>
                </a:lnTo>
                <a:lnTo>
                  <a:pt x="6013" y="7697"/>
                </a:lnTo>
                <a:lnTo>
                  <a:pt x="5528" y="7543"/>
                </a:lnTo>
                <a:lnTo>
                  <a:pt x="4999" y="7287"/>
                </a:lnTo>
                <a:lnTo>
                  <a:pt x="4510" y="7001"/>
                </a:lnTo>
                <a:lnTo>
                  <a:pt x="3981" y="6653"/>
                </a:lnTo>
                <a:lnTo>
                  <a:pt x="3496" y="6275"/>
                </a:lnTo>
                <a:lnTo>
                  <a:pt x="3006" y="5859"/>
                </a:lnTo>
                <a:lnTo>
                  <a:pt x="2072" y="5038"/>
                </a:lnTo>
                <a:lnTo>
                  <a:pt x="1626" y="4656"/>
                </a:lnTo>
                <a:lnTo>
                  <a:pt x="1221" y="4279"/>
                </a:lnTo>
                <a:lnTo>
                  <a:pt x="855" y="3993"/>
                </a:lnTo>
                <a:lnTo>
                  <a:pt x="529" y="3737"/>
                </a:lnTo>
                <a:lnTo>
                  <a:pt x="242" y="3583"/>
                </a:lnTo>
                <a:lnTo>
                  <a:pt x="0" y="352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3552840"/>
            <a:ext cx="6237720" cy="3366000"/>
          </a:xfrm>
          <a:custGeom>
            <a:avLst/>
            <a:gdLst/>
            <a:ahLst/>
            <a:rect l="0" t="0" r="r" b="b"/>
            <a:pathLst>
              <a:path w="17327" h="9350">
                <a:moveTo>
                  <a:pt x="0" y="1614"/>
                </a:moveTo>
                <a:lnTo>
                  <a:pt x="0" y="2069"/>
                </a:lnTo>
                <a:lnTo>
                  <a:pt x="175" y="2101"/>
                </a:lnTo>
                <a:lnTo>
                  <a:pt x="435" y="2101"/>
                </a:lnTo>
                <a:lnTo>
                  <a:pt x="787" y="2036"/>
                </a:lnTo>
                <a:lnTo>
                  <a:pt x="1222" y="1939"/>
                </a:lnTo>
                <a:lnTo>
                  <a:pt x="1690" y="1841"/>
                </a:lnTo>
                <a:lnTo>
                  <a:pt x="2213" y="1679"/>
                </a:lnTo>
                <a:lnTo>
                  <a:pt x="2797" y="1549"/>
                </a:lnTo>
                <a:lnTo>
                  <a:pt x="3408" y="1387"/>
                </a:lnTo>
                <a:lnTo>
                  <a:pt x="4687" y="1099"/>
                </a:lnTo>
                <a:lnTo>
                  <a:pt x="5970" y="839"/>
                </a:lnTo>
                <a:lnTo>
                  <a:pt x="6609" y="774"/>
                </a:lnTo>
                <a:lnTo>
                  <a:pt x="7253" y="709"/>
                </a:lnTo>
                <a:lnTo>
                  <a:pt x="7832" y="709"/>
                </a:lnTo>
                <a:lnTo>
                  <a:pt x="8388" y="774"/>
                </a:lnTo>
                <a:lnTo>
                  <a:pt x="8939" y="872"/>
                </a:lnTo>
                <a:lnTo>
                  <a:pt x="9523" y="1002"/>
                </a:lnTo>
                <a:lnTo>
                  <a:pt x="10745" y="1354"/>
                </a:lnTo>
                <a:lnTo>
                  <a:pt x="12056" y="1776"/>
                </a:lnTo>
                <a:lnTo>
                  <a:pt x="13312" y="2296"/>
                </a:lnTo>
                <a:lnTo>
                  <a:pt x="13923" y="2589"/>
                </a:lnTo>
                <a:lnTo>
                  <a:pt x="14502" y="2877"/>
                </a:lnTo>
                <a:lnTo>
                  <a:pt x="15058" y="3169"/>
                </a:lnTo>
                <a:lnTo>
                  <a:pt x="15554" y="3462"/>
                </a:lnTo>
                <a:lnTo>
                  <a:pt x="16017" y="3754"/>
                </a:lnTo>
                <a:lnTo>
                  <a:pt x="16424" y="4042"/>
                </a:lnTo>
                <a:lnTo>
                  <a:pt x="16748" y="4334"/>
                </a:lnTo>
                <a:lnTo>
                  <a:pt x="17008" y="4594"/>
                </a:lnTo>
                <a:lnTo>
                  <a:pt x="17184" y="4886"/>
                </a:lnTo>
                <a:lnTo>
                  <a:pt x="17300" y="5206"/>
                </a:lnTo>
                <a:lnTo>
                  <a:pt x="17327" y="5563"/>
                </a:lnTo>
                <a:lnTo>
                  <a:pt x="17300" y="5953"/>
                </a:lnTo>
                <a:lnTo>
                  <a:pt x="17212" y="6375"/>
                </a:lnTo>
                <a:lnTo>
                  <a:pt x="17068" y="6760"/>
                </a:lnTo>
                <a:lnTo>
                  <a:pt x="16920" y="7183"/>
                </a:lnTo>
                <a:lnTo>
                  <a:pt x="16716" y="7573"/>
                </a:lnTo>
                <a:lnTo>
                  <a:pt x="16545" y="7958"/>
                </a:lnTo>
                <a:lnTo>
                  <a:pt x="16341" y="8316"/>
                </a:lnTo>
                <a:lnTo>
                  <a:pt x="16137" y="8608"/>
                </a:lnTo>
                <a:lnTo>
                  <a:pt x="15961" y="8900"/>
                </a:lnTo>
                <a:lnTo>
                  <a:pt x="15785" y="9090"/>
                </a:lnTo>
                <a:lnTo>
                  <a:pt x="15669" y="9253"/>
                </a:lnTo>
                <a:lnTo>
                  <a:pt x="15581" y="9350"/>
                </a:lnTo>
                <a:lnTo>
                  <a:pt x="15554" y="9350"/>
                </a:lnTo>
                <a:lnTo>
                  <a:pt x="17124" y="3559"/>
                </a:lnTo>
                <a:lnTo>
                  <a:pt x="16920" y="3267"/>
                </a:lnTo>
                <a:lnTo>
                  <a:pt x="16660" y="2974"/>
                </a:lnTo>
                <a:lnTo>
                  <a:pt x="16341" y="2682"/>
                </a:lnTo>
                <a:lnTo>
                  <a:pt x="15989" y="2394"/>
                </a:lnTo>
                <a:lnTo>
                  <a:pt x="15581" y="2101"/>
                </a:lnTo>
                <a:lnTo>
                  <a:pt x="15146" y="1841"/>
                </a:lnTo>
                <a:lnTo>
                  <a:pt x="14650" y="1582"/>
                </a:lnTo>
                <a:lnTo>
                  <a:pt x="14155" y="1326"/>
                </a:lnTo>
                <a:lnTo>
                  <a:pt x="13108" y="872"/>
                </a:lnTo>
                <a:lnTo>
                  <a:pt x="12000" y="514"/>
                </a:lnTo>
                <a:lnTo>
                  <a:pt x="10893" y="222"/>
                </a:lnTo>
                <a:lnTo>
                  <a:pt x="9786" y="32"/>
                </a:lnTo>
                <a:lnTo>
                  <a:pt x="9231" y="0"/>
                </a:lnTo>
                <a:lnTo>
                  <a:pt x="8619" y="0"/>
                </a:lnTo>
                <a:lnTo>
                  <a:pt x="8008" y="32"/>
                </a:lnTo>
                <a:lnTo>
                  <a:pt x="7341" y="92"/>
                </a:lnTo>
                <a:lnTo>
                  <a:pt x="5970" y="320"/>
                </a:lnTo>
                <a:lnTo>
                  <a:pt x="4604" y="579"/>
                </a:lnTo>
                <a:lnTo>
                  <a:pt x="3232" y="872"/>
                </a:lnTo>
                <a:lnTo>
                  <a:pt x="2593" y="1034"/>
                </a:lnTo>
                <a:lnTo>
                  <a:pt x="1982" y="1196"/>
                </a:lnTo>
                <a:lnTo>
                  <a:pt x="1426" y="1326"/>
                </a:lnTo>
                <a:lnTo>
                  <a:pt x="903" y="1452"/>
                </a:lnTo>
                <a:lnTo>
                  <a:pt x="407" y="1549"/>
                </a:lnTo>
                <a:lnTo>
                  <a:pt x="0" y="1614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83640" y="4446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360" cy="2134080"/>
          </a:xfrm>
          <a:custGeom>
            <a:avLst/>
            <a:gdLst/>
            <a:ahLst/>
            <a:rect l="0" t="0" r="r" b="b"/>
            <a:pathLst>
              <a:path w="25401" h="5928">
                <a:moveTo>
                  <a:pt x="0" y="0"/>
                </a:moveTo>
                <a:lnTo>
                  <a:pt x="25401" y="0"/>
                </a:lnTo>
                <a:lnTo>
                  <a:pt x="25401" y="4207"/>
                </a:lnTo>
                <a:lnTo>
                  <a:pt x="25237" y="4260"/>
                </a:lnTo>
                <a:lnTo>
                  <a:pt x="25074" y="4298"/>
                </a:lnTo>
                <a:lnTo>
                  <a:pt x="24911" y="4322"/>
                </a:lnTo>
                <a:lnTo>
                  <a:pt x="24708" y="4341"/>
                </a:lnTo>
                <a:lnTo>
                  <a:pt x="24303" y="4351"/>
                </a:lnTo>
                <a:lnTo>
                  <a:pt x="23857" y="4332"/>
                </a:lnTo>
                <a:lnTo>
                  <a:pt x="23328" y="4289"/>
                </a:lnTo>
                <a:lnTo>
                  <a:pt x="22799" y="4217"/>
                </a:lnTo>
                <a:lnTo>
                  <a:pt x="22230" y="4135"/>
                </a:lnTo>
                <a:lnTo>
                  <a:pt x="21622" y="4044"/>
                </a:lnTo>
                <a:lnTo>
                  <a:pt x="20321" y="3857"/>
                </a:lnTo>
                <a:lnTo>
                  <a:pt x="19669" y="3776"/>
                </a:lnTo>
                <a:lnTo>
                  <a:pt x="18937" y="3690"/>
                </a:lnTo>
                <a:lnTo>
                  <a:pt x="18205" y="3642"/>
                </a:lnTo>
                <a:lnTo>
                  <a:pt x="17434" y="3608"/>
                </a:lnTo>
                <a:lnTo>
                  <a:pt x="16662" y="3608"/>
                </a:lnTo>
                <a:lnTo>
                  <a:pt x="15890" y="3642"/>
                </a:lnTo>
                <a:lnTo>
                  <a:pt x="15485" y="3671"/>
                </a:lnTo>
                <a:lnTo>
                  <a:pt x="15039" y="3723"/>
                </a:lnTo>
                <a:lnTo>
                  <a:pt x="14590" y="3776"/>
                </a:lnTo>
                <a:lnTo>
                  <a:pt x="14105" y="3838"/>
                </a:lnTo>
                <a:lnTo>
                  <a:pt x="13086" y="4001"/>
                </a:lnTo>
                <a:lnTo>
                  <a:pt x="11987" y="4188"/>
                </a:lnTo>
                <a:lnTo>
                  <a:pt x="10850" y="4394"/>
                </a:lnTo>
                <a:lnTo>
                  <a:pt x="9673" y="4620"/>
                </a:lnTo>
                <a:lnTo>
                  <a:pt x="8491" y="4845"/>
                </a:lnTo>
                <a:lnTo>
                  <a:pt x="7354" y="5075"/>
                </a:lnTo>
                <a:lnTo>
                  <a:pt x="6176" y="5291"/>
                </a:lnTo>
                <a:lnTo>
                  <a:pt x="5079" y="5487"/>
                </a:lnTo>
                <a:lnTo>
                  <a:pt x="3981" y="5650"/>
                </a:lnTo>
                <a:lnTo>
                  <a:pt x="3496" y="5722"/>
                </a:lnTo>
                <a:lnTo>
                  <a:pt x="3006" y="5784"/>
                </a:lnTo>
                <a:lnTo>
                  <a:pt x="2517" y="5847"/>
                </a:lnTo>
                <a:lnTo>
                  <a:pt x="2072" y="5890"/>
                </a:lnTo>
                <a:lnTo>
                  <a:pt x="1666" y="5909"/>
                </a:lnTo>
                <a:lnTo>
                  <a:pt x="1260" y="5928"/>
                </a:lnTo>
                <a:lnTo>
                  <a:pt x="895" y="5928"/>
                </a:lnTo>
                <a:lnTo>
                  <a:pt x="568" y="5919"/>
                </a:lnTo>
                <a:lnTo>
                  <a:pt x="286" y="5890"/>
                </a:lnTo>
                <a:lnTo>
                  <a:pt x="0" y="58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63520"/>
            <a:ext cx="9144360" cy="5694840"/>
          </a:xfrm>
          <a:custGeom>
            <a:avLst/>
            <a:gdLst/>
            <a:ahLst/>
            <a:rect l="0" t="0" r="r" b="b"/>
            <a:pathLst>
              <a:path w="25401" h="15819">
                <a:moveTo>
                  <a:pt x="0" y="2114"/>
                </a:moveTo>
                <a:lnTo>
                  <a:pt x="855" y="2173"/>
                </a:lnTo>
                <a:lnTo>
                  <a:pt x="1666" y="2205"/>
                </a:lnTo>
                <a:lnTo>
                  <a:pt x="2477" y="2205"/>
                </a:lnTo>
                <a:lnTo>
                  <a:pt x="3293" y="2141"/>
                </a:lnTo>
                <a:lnTo>
                  <a:pt x="4876" y="1986"/>
                </a:lnTo>
                <a:lnTo>
                  <a:pt x="6379" y="1768"/>
                </a:lnTo>
                <a:lnTo>
                  <a:pt x="7843" y="1481"/>
                </a:lnTo>
                <a:lnTo>
                  <a:pt x="9183" y="1198"/>
                </a:lnTo>
                <a:lnTo>
                  <a:pt x="10444" y="915"/>
                </a:lnTo>
                <a:lnTo>
                  <a:pt x="11622" y="692"/>
                </a:lnTo>
                <a:lnTo>
                  <a:pt x="11661" y="692"/>
                </a:lnTo>
                <a:lnTo>
                  <a:pt x="11745" y="665"/>
                </a:lnTo>
                <a:lnTo>
                  <a:pt x="11868" y="665"/>
                </a:lnTo>
                <a:lnTo>
                  <a:pt x="12071" y="633"/>
                </a:lnTo>
                <a:lnTo>
                  <a:pt x="12517" y="569"/>
                </a:lnTo>
                <a:lnTo>
                  <a:pt x="13086" y="473"/>
                </a:lnTo>
                <a:lnTo>
                  <a:pt x="13655" y="378"/>
                </a:lnTo>
                <a:lnTo>
                  <a:pt x="14184" y="318"/>
                </a:lnTo>
                <a:lnTo>
                  <a:pt x="14590" y="255"/>
                </a:lnTo>
                <a:lnTo>
                  <a:pt x="14753" y="223"/>
                </a:lnTo>
                <a:lnTo>
                  <a:pt x="14876" y="191"/>
                </a:lnTo>
                <a:lnTo>
                  <a:pt x="15524" y="95"/>
                </a:lnTo>
                <a:lnTo>
                  <a:pt x="16177" y="31"/>
                </a:lnTo>
                <a:lnTo>
                  <a:pt x="16909" y="0"/>
                </a:lnTo>
                <a:lnTo>
                  <a:pt x="17597" y="31"/>
                </a:lnTo>
                <a:lnTo>
                  <a:pt x="18368" y="95"/>
                </a:lnTo>
                <a:lnTo>
                  <a:pt x="19100" y="159"/>
                </a:lnTo>
                <a:lnTo>
                  <a:pt x="20564" y="378"/>
                </a:lnTo>
                <a:lnTo>
                  <a:pt x="22028" y="633"/>
                </a:lnTo>
                <a:lnTo>
                  <a:pt x="22676" y="756"/>
                </a:lnTo>
                <a:lnTo>
                  <a:pt x="23328" y="852"/>
                </a:lnTo>
                <a:lnTo>
                  <a:pt x="23937" y="947"/>
                </a:lnTo>
                <a:lnTo>
                  <a:pt x="24466" y="1043"/>
                </a:lnTo>
                <a:lnTo>
                  <a:pt x="24955" y="1070"/>
                </a:lnTo>
                <a:lnTo>
                  <a:pt x="25401" y="1102"/>
                </a:lnTo>
                <a:lnTo>
                  <a:pt x="25401" y="15819"/>
                </a:lnTo>
                <a:lnTo>
                  <a:pt x="0" y="15819"/>
                </a:lnTo>
                <a:lnTo>
                  <a:pt x="0" y="15787"/>
                </a:lnTo>
                <a:lnTo>
                  <a:pt x="0" y="15660"/>
                </a:lnTo>
                <a:lnTo>
                  <a:pt x="0" y="15473"/>
                </a:lnTo>
                <a:lnTo>
                  <a:pt x="0" y="15222"/>
                </a:lnTo>
                <a:lnTo>
                  <a:pt x="0" y="14908"/>
                </a:lnTo>
                <a:lnTo>
                  <a:pt x="0" y="14557"/>
                </a:lnTo>
                <a:lnTo>
                  <a:pt x="0" y="14151"/>
                </a:lnTo>
                <a:lnTo>
                  <a:pt x="0" y="13677"/>
                </a:lnTo>
                <a:lnTo>
                  <a:pt x="0" y="13172"/>
                </a:lnTo>
                <a:lnTo>
                  <a:pt x="0" y="12638"/>
                </a:lnTo>
                <a:lnTo>
                  <a:pt x="0" y="11471"/>
                </a:lnTo>
                <a:lnTo>
                  <a:pt x="0" y="10240"/>
                </a:lnTo>
                <a:lnTo>
                  <a:pt x="0" y="8983"/>
                </a:lnTo>
                <a:lnTo>
                  <a:pt x="0" y="7688"/>
                </a:lnTo>
                <a:lnTo>
                  <a:pt x="0" y="6462"/>
                </a:lnTo>
                <a:lnTo>
                  <a:pt x="0" y="5296"/>
                </a:lnTo>
                <a:lnTo>
                  <a:pt x="0" y="4758"/>
                </a:lnTo>
                <a:lnTo>
                  <a:pt x="0" y="4257"/>
                </a:lnTo>
                <a:lnTo>
                  <a:pt x="0" y="3782"/>
                </a:lnTo>
                <a:lnTo>
                  <a:pt x="0" y="3372"/>
                </a:lnTo>
                <a:lnTo>
                  <a:pt x="0" y="3025"/>
                </a:lnTo>
                <a:lnTo>
                  <a:pt x="0" y="2711"/>
                </a:lnTo>
                <a:lnTo>
                  <a:pt x="0" y="2460"/>
                </a:lnTo>
                <a:lnTo>
                  <a:pt x="0" y="2269"/>
                </a:lnTo>
                <a:lnTo>
                  <a:pt x="0" y="2141"/>
                </a:lnTo>
                <a:lnTo>
                  <a:pt x="0" y="2114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360" cy="854280"/>
          </a:xfrm>
          <a:custGeom>
            <a:avLst/>
            <a:gdLst/>
            <a:ahLst/>
            <a:rect l="0" t="0" r="r" b="b"/>
            <a:pathLst>
              <a:path w="25401" h="2373">
                <a:moveTo>
                  <a:pt x="0" y="647"/>
                </a:moveTo>
                <a:lnTo>
                  <a:pt x="0" y="1753"/>
                </a:lnTo>
                <a:lnTo>
                  <a:pt x="286" y="1799"/>
                </a:lnTo>
                <a:lnTo>
                  <a:pt x="568" y="1836"/>
                </a:lnTo>
                <a:lnTo>
                  <a:pt x="1300" y="1901"/>
                </a:lnTo>
                <a:lnTo>
                  <a:pt x="2155" y="1957"/>
                </a:lnTo>
                <a:lnTo>
                  <a:pt x="3130" y="1998"/>
                </a:lnTo>
                <a:lnTo>
                  <a:pt x="3659" y="2012"/>
                </a:lnTo>
                <a:lnTo>
                  <a:pt x="4228" y="2017"/>
                </a:lnTo>
                <a:lnTo>
                  <a:pt x="4796" y="2021"/>
                </a:lnTo>
                <a:lnTo>
                  <a:pt x="5365" y="2017"/>
                </a:lnTo>
                <a:lnTo>
                  <a:pt x="5974" y="2012"/>
                </a:lnTo>
                <a:lnTo>
                  <a:pt x="6582" y="1998"/>
                </a:lnTo>
                <a:lnTo>
                  <a:pt x="7195" y="1975"/>
                </a:lnTo>
                <a:lnTo>
                  <a:pt x="7803" y="1943"/>
                </a:lnTo>
                <a:lnTo>
                  <a:pt x="8130" y="1920"/>
                </a:lnTo>
                <a:lnTo>
                  <a:pt x="8451" y="1901"/>
                </a:lnTo>
                <a:lnTo>
                  <a:pt x="9183" y="1836"/>
                </a:lnTo>
                <a:lnTo>
                  <a:pt x="9955" y="1753"/>
                </a:lnTo>
                <a:lnTo>
                  <a:pt x="10726" y="1665"/>
                </a:lnTo>
                <a:lnTo>
                  <a:pt x="11582" y="1564"/>
                </a:lnTo>
                <a:lnTo>
                  <a:pt x="12437" y="1457"/>
                </a:lnTo>
                <a:lnTo>
                  <a:pt x="14144" y="1231"/>
                </a:lnTo>
                <a:lnTo>
                  <a:pt x="14995" y="1123"/>
                </a:lnTo>
                <a:lnTo>
                  <a:pt x="15851" y="1022"/>
                </a:lnTo>
                <a:lnTo>
                  <a:pt x="16662" y="924"/>
                </a:lnTo>
                <a:lnTo>
                  <a:pt x="17478" y="846"/>
                </a:lnTo>
                <a:lnTo>
                  <a:pt x="18205" y="781"/>
                </a:lnTo>
                <a:lnTo>
                  <a:pt x="18571" y="753"/>
                </a:lnTo>
                <a:lnTo>
                  <a:pt x="18937" y="735"/>
                </a:lnTo>
                <a:lnTo>
                  <a:pt x="19263" y="716"/>
                </a:lnTo>
                <a:lnTo>
                  <a:pt x="19589" y="707"/>
                </a:lnTo>
                <a:lnTo>
                  <a:pt x="19872" y="702"/>
                </a:lnTo>
                <a:lnTo>
                  <a:pt x="20158" y="707"/>
                </a:lnTo>
                <a:lnTo>
                  <a:pt x="20440" y="716"/>
                </a:lnTo>
                <a:lnTo>
                  <a:pt x="20687" y="739"/>
                </a:lnTo>
                <a:lnTo>
                  <a:pt x="20930" y="763"/>
                </a:lnTo>
                <a:lnTo>
                  <a:pt x="21172" y="795"/>
                </a:lnTo>
                <a:lnTo>
                  <a:pt x="21419" y="841"/>
                </a:lnTo>
                <a:lnTo>
                  <a:pt x="21662" y="887"/>
                </a:lnTo>
                <a:lnTo>
                  <a:pt x="21865" y="943"/>
                </a:lnTo>
                <a:lnTo>
                  <a:pt x="22067" y="994"/>
                </a:lnTo>
                <a:lnTo>
                  <a:pt x="22473" y="1123"/>
                </a:lnTo>
                <a:lnTo>
                  <a:pt x="22883" y="1268"/>
                </a:lnTo>
                <a:lnTo>
                  <a:pt x="23205" y="1420"/>
                </a:lnTo>
                <a:lnTo>
                  <a:pt x="23531" y="1568"/>
                </a:lnTo>
                <a:lnTo>
                  <a:pt x="23857" y="1725"/>
                </a:lnTo>
                <a:lnTo>
                  <a:pt x="24140" y="1869"/>
                </a:lnTo>
                <a:lnTo>
                  <a:pt x="24386" y="2003"/>
                </a:lnTo>
                <a:lnTo>
                  <a:pt x="24629" y="2123"/>
                </a:lnTo>
                <a:lnTo>
                  <a:pt x="24708" y="2179"/>
                </a:lnTo>
                <a:lnTo>
                  <a:pt x="24832" y="2225"/>
                </a:lnTo>
                <a:lnTo>
                  <a:pt x="24955" y="2271"/>
                </a:lnTo>
                <a:lnTo>
                  <a:pt x="25035" y="2308"/>
                </a:lnTo>
                <a:lnTo>
                  <a:pt x="25114" y="2331"/>
                </a:lnTo>
                <a:lnTo>
                  <a:pt x="25237" y="2354"/>
                </a:lnTo>
                <a:lnTo>
                  <a:pt x="25321" y="2364"/>
                </a:lnTo>
                <a:lnTo>
                  <a:pt x="25401" y="2373"/>
                </a:lnTo>
                <a:lnTo>
                  <a:pt x="25401" y="647"/>
                </a:lnTo>
                <a:lnTo>
                  <a:pt x="25035" y="504"/>
                </a:lnTo>
                <a:lnTo>
                  <a:pt x="24589" y="369"/>
                </a:lnTo>
                <a:lnTo>
                  <a:pt x="24060" y="245"/>
                </a:lnTo>
                <a:lnTo>
                  <a:pt x="23774" y="189"/>
                </a:lnTo>
                <a:lnTo>
                  <a:pt x="23452" y="138"/>
                </a:lnTo>
                <a:lnTo>
                  <a:pt x="23125" y="97"/>
                </a:lnTo>
                <a:lnTo>
                  <a:pt x="22760" y="64"/>
                </a:lnTo>
                <a:lnTo>
                  <a:pt x="22394" y="32"/>
                </a:lnTo>
                <a:lnTo>
                  <a:pt x="21988" y="9"/>
                </a:lnTo>
                <a:lnTo>
                  <a:pt x="21538" y="0"/>
                </a:lnTo>
                <a:lnTo>
                  <a:pt x="21093" y="0"/>
                </a:lnTo>
                <a:lnTo>
                  <a:pt x="20604" y="4"/>
                </a:lnTo>
                <a:lnTo>
                  <a:pt x="20119" y="27"/>
                </a:lnTo>
                <a:lnTo>
                  <a:pt x="19832" y="41"/>
                </a:lnTo>
                <a:lnTo>
                  <a:pt x="19550" y="64"/>
                </a:lnTo>
                <a:lnTo>
                  <a:pt x="19263" y="92"/>
                </a:lnTo>
                <a:lnTo>
                  <a:pt x="18981" y="124"/>
                </a:lnTo>
                <a:lnTo>
                  <a:pt x="18329" y="198"/>
                </a:lnTo>
                <a:lnTo>
                  <a:pt x="17636" y="291"/>
                </a:lnTo>
                <a:lnTo>
                  <a:pt x="16909" y="397"/>
                </a:lnTo>
                <a:lnTo>
                  <a:pt x="16177" y="508"/>
                </a:lnTo>
                <a:lnTo>
                  <a:pt x="15401" y="624"/>
                </a:lnTo>
                <a:lnTo>
                  <a:pt x="14629" y="749"/>
                </a:lnTo>
                <a:lnTo>
                  <a:pt x="13858" y="874"/>
                </a:lnTo>
                <a:lnTo>
                  <a:pt x="13086" y="989"/>
                </a:lnTo>
                <a:lnTo>
                  <a:pt x="12314" y="1100"/>
                </a:lnTo>
                <a:lnTo>
                  <a:pt x="11582" y="1203"/>
                </a:lnTo>
                <a:lnTo>
                  <a:pt x="10810" y="1291"/>
                </a:lnTo>
                <a:lnTo>
                  <a:pt x="10118" y="1365"/>
                </a:lnTo>
                <a:lnTo>
                  <a:pt x="9752" y="1393"/>
                </a:lnTo>
                <a:lnTo>
                  <a:pt x="9426" y="1420"/>
                </a:lnTo>
                <a:lnTo>
                  <a:pt x="9104" y="1439"/>
                </a:lnTo>
                <a:lnTo>
                  <a:pt x="8778" y="1453"/>
                </a:lnTo>
                <a:lnTo>
                  <a:pt x="8130" y="1462"/>
                </a:lnTo>
                <a:lnTo>
                  <a:pt x="7517" y="1453"/>
                </a:lnTo>
                <a:lnTo>
                  <a:pt x="6869" y="1430"/>
                </a:lnTo>
                <a:lnTo>
                  <a:pt x="6260" y="1393"/>
                </a:lnTo>
                <a:lnTo>
                  <a:pt x="5608" y="1342"/>
                </a:lnTo>
                <a:lnTo>
                  <a:pt x="4999" y="1286"/>
                </a:lnTo>
                <a:lnTo>
                  <a:pt x="4391" y="1221"/>
                </a:lnTo>
                <a:lnTo>
                  <a:pt x="3818" y="1151"/>
                </a:lnTo>
                <a:lnTo>
                  <a:pt x="2680" y="998"/>
                </a:lnTo>
                <a:lnTo>
                  <a:pt x="1666" y="855"/>
                </a:lnTo>
                <a:lnTo>
                  <a:pt x="1221" y="790"/>
                </a:lnTo>
                <a:lnTo>
                  <a:pt x="771" y="735"/>
                </a:lnTo>
                <a:lnTo>
                  <a:pt x="365" y="684"/>
                </a:lnTo>
                <a:lnTo>
                  <a:pt x="0" y="647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360" cy="1070280"/>
          </a:xfrm>
          <a:custGeom>
            <a:avLst/>
            <a:gdLst/>
            <a:ahLst/>
            <a:rect l="0" t="0" r="r" b="b"/>
            <a:pathLst>
              <a:path w="25401" h="2973">
                <a:moveTo>
                  <a:pt x="0" y="1026"/>
                </a:moveTo>
                <a:lnTo>
                  <a:pt x="0" y="1767"/>
                </a:lnTo>
                <a:lnTo>
                  <a:pt x="202" y="1819"/>
                </a:lnTo>
                <a:lnTo>
                  <a:pt x="445" y="1885"/>
                </a:lnTo>
                <a:lnTo>
                  <a:pt x="771" y="1965"/>
                </a:lnTo>
                <a:lnTo>
                  <a:pt x="1097" y="2031"/>
                </a:lnTo>
                <a:lnTo>
                  <a:pt x="1869" y="2195"/>
                </a:lnTo>
                <a:lnTo>
                  <a:pt x="2724" y="2379"/>
                </a:lnTo>
                <a:lnTo>
                  <a:pt x="3575" y="2544"/>
                </a:lnTo>
                <a:lnTo>
                  <a:pt x="4391" y="2690"/>
                </a:lnTo>
                <a:lnTo>
                  <a:pt x="5079" y="2808"/>
                </a:lnTo>
                <a:lnTo>
                  <a:pt x="5405" y="2855"/>
                </a:lnTo>
                <a:lnTo>
                  <a:pt x="5647" y="2888"/>
                </a:lnTo>
                <a:lnTo>
                  <a:pt x="5850" y="2921"/>
                </a:lnTo>
                <a:lnTo>
                  <a:pt x="5974" y="2940"/>
                </a:lnTo>
                <a:lnTo>
                  <a:pt x="6013" y="2954"/>
                </a:lnTo>
                <a:lnTo>
                  <a:pt x="6053" y="2973"/>
                </a:lnTo>
                <a:lnTo>
                  <a:pt x="6013" y="2973"/>
                </a:lnTo>
                <a:lnTo>
                  <a:pt x="5974" y="2954"/>
                </a:lnTo>
                <a:lnTo>
                  <a:pt x="5974" y="2907"/>
                </a:lnTo>
                <a:lnTo>
                  <a:pt x="6013" y="2874"/>
                </a:lnTo>
                <a:lnTo>
                  <a:pt x="6097" y="2841"/>
                </a:lnTo>
                <a:lnTo>
                  <a:pt x="6260" y="2789"/>
                </a:lnTo>
                <a:lnTo>
                  <a:pt x="6503" y="2723"/>
                </a:lnTo>
                <a:lnTo>
                  <a:pt x="6785" y="2657"/>
                </a:lnTo>
                <a:lnTo>
                  <a:pt x="7195" y="2591"/>
                </a:lnTo>
                <a:lnTo>
                  <a:pt x="7680" y="2492"/>
                </a:lnTo>
                <a:lnTo>
                  <a:pt x="8288" y="2379"/>
                </a:lnTo>
                <a:lnTo>
                  <a:pt x="8981" y="2228"/>
                </a:lnTo>
                <a:lnTo>
                  <a:pt x="9752" y="2064"/>
                </a:lnTo>
                <a:lnTo>
                  <a:pt x="10568" y="1885"/>
                </a:lnTo>
                <a:lnTo>
                  <a:pt x="11419" y="1701"/>
                </a:lnTo>
                <a:lnTo>
                  <a:pt x="13249" y="1323"/>
                </a:lnTo>
                <a:lnTo>
                  <a:pt x="15119" y="956"/>
                </a:lnTo>
                <a:lnTo>
                  <a:pt x="16014" y="810"/>
                </a:lnTo>
                <a:lnTo>
                  <a:pt x="16909" y="659"/>
                </a:lnTo>
                <a:lnTo>
                  <a:pt x="17720" y="546"/>
                </a:lnTo>
                <a:lnTo>
                  <a:pt x="18492" y="461"/>
                </a:lnTo>
                <a:lnTo>
                  <a:pt x="19184" y="414"/>
                </a:lnTo>
                <a:lnTo>
                  <a:pt x="19792" y="395"/>
                </a:lnTo>
                <a:lnTo>
                  <a:pt x="20361" y="428"/>
                </a:lnTo>
                <a:lnTo>
                  <a:pt x="20890" y="494"/>
                </a:lnTo>
                <a:lnTo>
                  <a:pt x="21375" y="612"/>
                </a:lnTo>
                <a:lnTo>
                  <a:pt x="21825" y="758"/>
                </a:lnTo>
                <a:lnTo>
                  <a:pt x="22270" y="923"/>
                </a:lnTo>
                <a:lnTo>
                  <a:pt x="22676" y="1106"/>
                </a:lnTo>
                <a:lnTo>
                  <a:pt x="23408" y="1536"/>
                </a:lnTo>
                <a:lnTo>
                  <a:pt x="24020" y="1951"/>
                </a:lnTo>
                <a:lnTo>
                  <a:pt x="24303" y="2148"/>
                </a:lnTo>
                <a:lnTo>
                  <a:pt x="24545" y="2313"/>
                </a:lnTo>
                <a:lnTo>
                  <a:pt x="24792" y="2459"/>
                </a:lnTo>
                <a:lnTo>
                  <a:pt x="25035" y="2591"/>
                </a:lnTo>
                <a:lnTo>
                  <a:pt x="25237" y="2676"/>
                </a:lnTo>
                <a:lnTo>
                  <a:pt x="25401" y="2709"/>
                </a:lnTo>
                <a:lnTo>
                  <a:pt x="25401" y="956"/>
                </a:lnTo>
                <a:lnTo>
                  <a:pt x="24871" y="810"/>
                </a:lnTo>
                <a:lnTo>
                  <a:pt x="24179" y="626"/>
                </a:lnTo>
                <a:lnTo>
                  <a:pt x="23368" y="461"/>
                </a:lnTo>
                <a:lnTo>
                  <a:pt x="22433" y="296"/>
                </a:lnTo>
                <a:lnTo>
                  <a:pt x="21375" y="150"/>
                </a:lnTo>
                <a:lnTo>
                  <a:pt x="20282" y="51"/>
                </a:lnTo>
                <a:lnTo>
                  <a:pt x="19669" y="18"/>
                </a:lnTo>
                <a:lnTo>
                  <a:pt x="19060" y="0"/>
                </a:lnTo>
                <a:lnTo>
                  <a:pt x="18452" y="0"/>
                </a:lnTo>
                <a:lnTo>
                  <a:pt x="17799" y="18"/>
                </a:lnTo>
                <a:lnTo>
                  <a:pt x="17112" y="65"/>
                </a:lnTo>
                <a:lnTo>
                  <a:pt x="16380" y="131"/>
                </a:lnTo>
                <a:lnTo>
                  <a:pt x="15608" y="230"/>
                </a:lnTo>
                <a:lnTo>
                  <a:pt x="14753" y="348"/>
                </a:lnTo>
                <a:lnTo>
                  <a:pt x="13898" y="480"/>
                </a:lnTo>
                <a:lnTo>
                  <a:pt x="12963" y="626"/>
                </a:lnTo>
                <a:lnTo>
                  <a:pt x="11137" y="956"/>
                </a:lnTo>
                <a:lnTo>
                  <a:pt x="9346" y="1271"/>
                </a:lnTo>
                <a:lnTo>
                  <a:pt x="8451" y="1422"/>
                </a:lnTo>
                <a:lnTo>
                  <a:pt x="7640" y="1555"/>
                </a:lnTo>
                <a:lnTo>
                  <a:pt x="6829" y="1687"/>
                </a:lnTo>
                <a:lnTo>
                  <a:pt x="6097" y="1786"/>
                </a:lnTo>
                <a:lnTo>
                  <a:pt x="5445" y="1852"/>
                </a:lnTo>
                <a:lnTo>
                  <a:pt x="4836" y="1899"/>
                </a:lnTo>
                <a:lnTo>
                  <a:pt x="4307" y="1918"/>
                </a:lnTo>
                <a:lnTo>
                  <a:pt x="3818" y="1918"/>
                </a:lnTo>
                <a:lnTo>
                  <a:pt x="3372" y="1899"/>
                </a:lnTo>
                <a:lnTo>
                  <a:pt x="2967" y="1866"/>
                </a:lnTo>
                <a:lnTo>
                  <a:pt x="2275" y="1753"/>
                </a:lnTo>
                <a:lnTo>
                  <a:pt x="1706" y="1588"/>
                </a:lnTo>
                <a:lnTo>
                  <a:pt x="1177" y="1422"/>
                </a:lnTo>
                <a:lnTo>
                  <a:pt x="771" y="1257"/>
                </a:lnTo>
                <a:lnTo>
                  <a:pt x="365" y="1125"/>
                </a:lnTo>
                <a:lnTo>
                  <a:pt x="0" y="1026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522440"/>
            <a:ext cx="6667920" cy="5335920"/>
          </a:xfrm>
          <a:custGeom>
            <a:avLst/>
            <a:gdLst/>
            <a:ahLst/>
            <a:rect l="0" t="0" r="r" b="b"/>
            <a:pathLst>
              <a:path w="18522" h="14822">
                <a:moveTo>
                  <a:pt x="0" y="14822"/>
                </a:moveTo>
                <a:lnTo>
                  <a:pt x="39" y="14560"/>
                </a:lnTo>
                <a:lnTo>
                  <a:pt x="118" y="14259"/>
                </a:lnTo>
                <a:lnTo>
                  <a:pt x="163" y="13931"/>
                </a:lnTo>
                <a:lnTo>
                  <a:pt x="242" y="13535"/>
                </a:lnTo>
                <a:lnTo>
                  <a:pt x="282" y="13140"/>
                </a:lnTo>
                <a:lnTo>
                  <a:pt x="365" y="12683"/>
                </a:lnTo>
                <a:lnTo>
                  <a:pt x="528" y="11692"/>
                </a:lnTo>
                <a:lnTo>
                  <a:pt x="687" y="10639"/>
                </a:lnTo>
                <a:lnTo>
                  <a:pt x="894" y="9486"/>
                </a:lnTo>
                <a:lnTo>
                  <a:pt x="1136" y="8333"/>
                </a:lnTo>
                <a:lnTo>
                  <a:pt x="1379" y="7112"/>
                </a:lnTo>
                <a:lnTo>
                  <a:pt x="1665" y="5959"/>
                </a:lnTo>
                <a:lnTo>
                  <a:pt x="1987" y="4806"/>
                </a:lnTo>
                <a:lnTo>
                  <a:pt x="2313" y="3720"/>
                </a:lnTo>
                <a:lnTo>
                  <a:pt x="2718" y="2734"/>
                </a:lnTo>
                <a:lnTo>
                  <a:pt x="2921" y="2272"/>
                </a:lnTo>
                <a:lnTo>
                  <a:pt x="3128" y="1877"/>
                </a:lnTo>
                <a:lnTo>
                  <a:pt x="3371" y="1481"/>
                </a:lnTo>
                <a:lnTo>
                  <a:pt x="3613" y="1119"/>
                </a:lnTo>
                <a:lnTo>
                  <a:pt x="3855" y="824"/>
                </a:lnTo>
                <a:lnTo>
                  <a:pt x="4102" y="557"/>
                </a:lnTo>
                <a:lnTo>
                  <a:pt x="4384" y="362"/>
                </a:lnTo>
                <a:lnTo>
                  <a:pt x="4671" y="195"/>
                </a:lnTo>
                <a:lnTo>
                  <a:pt x="4998" y="100"/>
                </a:lnTo>
                <a:lnTo>
                  <a:pt x="5319" y="33"/>
                </a:lnTo>
                <a:lnTo>
                  <a:pt x="5685" y="0"/>
                </a:lnTo>
                <a:lnTo>
                  <a:pt x="6051" y="0"/>
                </a:lnTo>
                <a:lnTo>
                  <a:pt x="6456" y="66"/>
                </a:lnTo>
                <a:lnTo>
                  <a:pt x="6906" y="133"/>
                </a:lnTo>
                <a:lnTo>
                  <a:pt x="7800" y="395"/>
                </a:lnTo>
                <a:lnTo>
                  <a:pt x="8774" y="757"/>
                </a:lnTo>
                <a:lnTo>
                  <a:pt x="9788" y="1186"/>
                </a:lnTo>
                <a:lnTo>
                  <a:pt x="10845" y="1676"/>
                </a:lnTo>
                <a:lnTo>
                  <a:pt x="11903" y="2239"/>
                </a:lnTo>
                <a:lnTo>
                  <a:pt x="12916" y="2829"/>
                </a:lnTo>
                <a:lnTo>
                  <a:pt x="13931" y="3458"/>
                </a:lnTo>
                <a:lnTo>
                  <a:pt x="14909" y="4049"/>
                </a:lnTo>
                <a:lnTo>
                  <a:pt x="15799" y="4644"/>
                </a:lnTo>
                <a:lnTo>
                  <a:pt x="16654" y="5169"/>
                </a:lnTo>
                <a:lnTo>
                  <a:pt x="17385" y="5664"/>
                </a:lnTo>
                <a:lnTo>
                  <a:pt x="18033" y="6059"/>
                </a:lnTo>
                <a:lnTo>
                  <a:pt x="18522" y="6355"/>
                </a:lnTo>
                <a:lnTo>
                  <a:pt x="18522" y="8466"/>
                </a:lnTo>
                <a:lnTo>
                  <a:pt x="18320" y="8366"/>
                </a:lnTo>
                <a:lnTo>
                  <a:pt x="18033" y="8199"/>
                </a:lnTo>
                <a:lnTo>
                  <a:pt x="17751" y="8038"/>
                </a:lnTo>
                <a:lnTo>
                  <a:pt x="17425" y="7837"/>
                </a:lnTo>
                <a:lnTo>
                  <a:pt x="16733" y="7346"/>
                </a:lnTo>
                <a:lnTo>
                  <a:pt x="15922" y="6750"/>
                </a:lnTo>
                <a:lnTo>
                  <a:pt x="15072" y="6093"/>
                </a:lnTo>
                <a:lnTo>
                  <a:pt x="14133" y="5402"/>
                </a:lnTo>
                <a:lnTo>
                  <a:pt x="13159" y="4678"/>
                </a:lnTo>
                <a:lnTo>
                  <a:pt x="12145" y="3954"/>
                </a:lnTo>
                <a:lnTo>
                  <a:pt x="11127" y="3258"/>
                </a:lnTo>
                <a:lnTo>
                  <a:pt x="10153" y="2601"/>
                </a:lnTo>
                <a:lnTo>
                  <a:pt x="9179" y="2010"/>
                </a:lnTo>
                <a:lnTo>
                  <a:pt x="8245" y="1514"/>
                </a:lnTo>
                <a:lnTo>
                  <a:pt x="7800" y="1314"/>
                </a:lnTo>
                <a:lnTo>
                  <a:pt x="7351" y="1152"/>
                </a:lnTo>
                <a:lnTo>
                  <a:pt x="6945" y="1019"/>
                </a:lnTo>
                <a:lnTo>
                  <a:pt x="6580" y="919"/>
                </a:lnTo>
                <a:lnTo>
                  <a:pt x="6214" y="857"/>
                </a:lnTo>
                <a:lnTo>
                  <a:pt x="5888" y="824"/>
                </a:lnTo>
                <a:lnTo>
                  <a:pt x="5566" y="857"/>
                </a:lnTo>
                <a:lnTo>
                  <a:pt x="5280" y="919"/>
                </a:lnTo>
                <a:lnTo>
                  <a:pt x="5037" y="1052"/>
                </a:lnTo>
                <a:lnTo>
                  <a:pt x="4790" y="1219"/>
                </a:lnTo>
                <a:lnTo>
                  <a:pt x="4547" y="1448"/>
                </a:lnTo>
                <a:lnTo>
                  <a:pt x="4344" y="1710"/>
                </a:lnTo>
                <a:lnTo>
                  <a:pt x="4142" y="2043"/>
                </a:lnTo>
                <a:lnTo>
                  <a:pt x="3979" y="2405"/>
                </a:lnTo>
                <a:lnTo>
                  <a:pt x="3816" y="2801"/>
                </a:lnTo>
                <a:lnTo>
                  <a:pt x="3653" y="3225"/>
                </a:lnTo>
                <a:lnTo>
                  <a:pt x="3371" y="4149"/>
                </a:lnTo>
                <a:lnTo>
                  <a:pt x="3084" y="5169"/>
                </a:lnTo>
                <a:lnTo>
                  <a:pt x="2881" y="6255"/>
                </a:lnTo>
                <a:lnTo>
                  <a:pt x="2679" y="7408"/>
                </a:lnTo>
                <a:lnTo>
                  <a:pt x="2516" y="8562"/>
                </a:lnTo>
                <a:lnTo>
                  <a:pt x="2397" y="9681"/>
                </a:lnTo>
                <a:lnTo>
                  <a:pt x="2234" y="10805"/>
                </a:lnTo>
                <a:lnTo>
                  <a:pt x="2110" y="11825"/>
                </a:lnTo>
                <a:lnTo>
                  <a:pt x="1987" y="12778"/>
                </a:lnTo>
                <a:lnTo>
                  <a:pt x="1908" y="13207"/>
                </a:lnTo>
                <a:lnTo>
                  <a:pt x="1828" y="13602"/>
                </a:lnTo>
                <a:lnTo>
                  <a:pt x="1784" y="13964"/>
                </a:lnTo>
                <a:lnTo>
                  <a:pt x="1705" y="14293"/>
                </a:lnTo>
                <a:lnTo>
                  <a:pt x="1621" y="14593"/>
                </a:lnTo>
                <a:lnTo>
                  <a:pt x="1542" y="14822"/>
                </a:lnTo>
                <a:lnTo>
                  <a:pt x="0" y="14822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360" cy="3056400"/>
          </a:xfrm>
          <a:custGeom>
            <a:avLst/>
            <a:gdLst/>
            <a:ahLst/>
            <a:rect l="0" t="0" r="r" b="b"/>
            <a:pathLst>
              <a:path w="25401" h="8490">
                <a:moveTo>
                  <a:pt x="0" y="3520"/>
                </a:moveTo>
                <a:lnTo>
                  <a:pt x="0" y="4404"/>
                </a:lnTo>
                <a:lnTo>
                  <a:pt x="242" y="4593"/>
                </a:lnTo>
                <a:lnTo>
                  <a:pt x="529" y="4849"/>
                </a:lnTo>
                <a:lnTo>
                  <a:pt x="855" y="5134"/>
                </a:lnTo>
                <a:lnTo>
                  <a:pt x="1221" y="5449"/>
                </a:lnTo>
                <a:lnTo>
                  <a:pt x="2032" y="6179"/>
                </a:lnTo>
                <a:lnTo>
                  <a:pt x="2927" y="6909"/>
                </a:lnTo>
                <a:lnTo>
                  <a:pt x="3412" y="7258"/>
                </a:lnTo>
                <a:lnTo>
                  <a:pt x="3901" y="7606"/>
                </a:lnTo>
                <a:lnTo>
                  <a:pt x="4431" y="7891"/>
                </a:lnTo>
                <a:lnTo>
                  <a:pt x="4915" y="8142"/>
                </a:lnTo>
                <a:lnTo>
                  <a:pt x="5405" y="8302"/>
                </a:lnTo>
                <a:lnTo>
                  <a:pt x="5894" y="8427"/>
                </a:lnTo>
                <a:lnTo>
                  <a:pt x="6379" y="8490"/>
                </a:lnTo>
                <a:lnTo>
                  <a:pt x="6829" y="8427"/>
                </a:lnTo>
                <a:lnTo>
                  <a:pt x="7071" y="8365"/>
                </a:lnTo>
                <a:lnTo>
                  <a:pt x="7274" y="8268"/>
                </a:lnTo>
                <a:lnTo>
                  <a:pt x="7720" y="7983"/>
                </a:lnTo>
                <a:lnTo>
                  <a:pt x="8169" y="7606"/>
                </a:lnTo>
                <a:lnTo>
                  <a:pt x="8575" y="7132"/>
                </a:lnTo>
                <a:lnTo>
                  <a:pt x="9020" y="6590"/>
                </a:lnTo>
                <a:lnTo>
                  <a:pt x="9426" y="6019"/>
                </a:lnTo>
                <a:lnTo>
                  <a:pt x="10321" y="4752"/>
                </a:lnTo>
                <a:lnTo>
                  <a:pt x="10771" y="4153"/>
                </a:lnTo>
                <a:lnTo>
                  <a:pt x="11256" y="3549"/>
                </a:lnTo>
                <a:lnTo>
                  <a:pt x="11705" y="2978"/>
                </a:lnTo>
                <a:lnTo>
                  <a:pt x="12190" y="2471"/>
                </a:lnTo>
                <a:lnTo>
                  <a:pt x="12720" y="2030"/>
                </a:lnTo>
                <a:lnTo>
                  <a:pt x="13249" y="1682"/>
                </a:lnTo>
                <a:lnTo>
                  <a:pt x="13778" y="1459"/>
                </a:lnTo>
                <a:lnTo>
                  <a:pt x="14061" y="1363"/>
                </a:lnTo>
                <a:lnTo>
                  <a:pt x="14347" y="1334"/>
                </a:lnTo>
                <a:lnTo>
                  <a:pt x="14629" y="1334"/>
                </a:lnTo>
                <a:lnTo>
                  <a:pt x="14956" y="1363"/>
                </a:lnTo>
                <a:lnTo>
                  <a:pt x="15648" y="1488"/>
                </a:lnTo>
                <a:lnTo>
                  <a:pt x="16336" y="1711"/>
                </a:lnTo>
                <a:lnTo>
                  <a:pt x="17112" y="2030"/>
                </a:lnTo>
                <a:lnTo>
                  <a:pt x="17923" y="2408"/>
                </a:lnTo>
                <a:lnTo>
                  <a:pt x="18734" y="2853"/>
                </a:lnTo>
                <a:lnTo>
                  <a:pt x="19550" y="3360"/>
                </a:lnTo>
                <a:lnTo>
                  <a:pt x="20361" y="3868"/>
                </a:lnTo>
                <a:lnTo>
                  <a:pt x="21904" y="4878"/>
                </a:lnTo>
                <a:lnTo>
                  <a:pt x="22636" y="5386"/>
                </a:lnTo>
                <a:lnTo>
                  <a:pt x="23328" y="5859"/>
                </a:lnTo>
                <a:lnTo>
                  <a:pt x="23976" y="6275"/>
                </a:lnTo>
                <a:lnTo>
                  <a:pt x="24545" y="6624"/>
                </a:lnTo>
                <a:lnTo>
                  <a:pt x="24995" y="6876"/>
                </a:lnTo>
                <a:lnTo>
                  <a:pt x="25401" y="7064"/>
                </a:lnTo>
                <a:lnTo>
                  <a:pt x="25401" y="5197"/>
                </a:lnTo>
                <a:lnTo>
                  <a:pt x="25035" y="5100"/>
                </a:lnTo>
                <a:lnTo>
                  <a:pt x="24589" y="4912"/>
                </a:lnTo>
                <a:lnTo>
                  <a:pt x="24060" y="4627"/>
                </a:lnTo>
                <a:lnTo>
                  <a:pt x="23452" y="4279"/>
                </a:lnTo>
                <a:lnTo>
                  <a:pt x="22799" y="3868"/>
                </a:lnTo>
                <a:lnTo>
                  <a:pt x="22067" y="3389"/>
                </a:lnTo>
                <a:lnTo>
                  <a:pt x="21296" y="2915"/>
                </a:lnTo>
                <a:lnTo>
                  <a:pt x="20485" y="2408"/>
                </a:lnTo>
                <a:lnTo>
                  <a:pt x="19669" y="1933"/>
                </a:lnTo>
                <a:lnTo>
                  <a:pt x="18818" y="1459"/>
                </a:lnTo>
                <a:lnTo>
                  <a:pt x="18002" y="1015"/>
                </a:lnTo>
                <a:lnTo>
                  <a:pt x="17191" y="633"/>
                </a:lnTo>
                <a:lnTo>
                  <a:pt x="16419" y="348"/>
                </a:lnTo>
                <a:lnTo>
                  <a:pt x="15648" y="130"/>
                </a:lnTo>
                <a:lnTo>
                  <a:pt x="14956" y="33"/>
                </a:lnTo>
                <a:lnTo>
                  <a:pt x="14629" y="0"/>
                </a:lnTo>
                <a:lnTo>
                  <a:pt x="14308" y="33"/>
                </a:lnTo>
                <a:lnTo>
                  <a:pt x="14021" y="96"/>
                </a:lnTo>
                <a:lnTo>
                  <a:pt x="13739" y="193"/>
                </a:lnTo>
                <a:lnTo>
                  <a:pt x="13452" y="319"/>
                </a:lnTo>
                <a:lnTo>
                  <a:pt x="13210" y="444"/>
                </a:lnTo>
                <a:lnTo>
                  <a:pt x="12680" y="855"/>
                </a:lnTo>
                <a:lnTo>
                  <a:pt x="12190" y="1334"/>
                </a:lnTo>
                <a:lnTo>
                  <a:pt x="11705" y="1870"/>
                </a:lnTo>
                <a:lnTo>
                  <a:pt x="11256" y="2505"/>
                </a:lnTo>
                <a:lnTo>
                  <a:pt x="10810" y="3138"/>
                </a:lnTo>
                <a:lnTo>
                  <a:pt x="10361" y="3805"/>
                </a:lnTo>
                <a:lnTo>
                  <a:pt x="9915" y="4467"/>
                </a:lnTo>
                <a:lnTo>
                  <a:pt x="9510" y="5134"/>
                </a:lnTo>
                <a:lnTo>
                  <a:pt x="9064" y="5768"/>
                </a:lnTo>
                <a:lnTo>
                  <a:pt x="8654" y="6304"/>
                </a:lnTo>
                <a:lnTo>
                  <a:pt x="8249" y="6813"/>
                </a:lnTo>
                <a:lnTo>
                  <a:pt x="7803" y="7224"/>
                </a:lnTo>
                <a:lnTo>
                  <a:pt x="7398" y="7509"/>
                </a:lnTo>
                <a:lnTo>
                  <a:pt x="7151" y="7635"/>
                </a:lnTo>
                <a:lnTo>
                  <a:pt x="6948" y="7697"/>
                </a:lnTo>
                <a:lnTo>
                  <a:pt x="6503" y="7765"/>
                </a:lnTo>
                <a:lnTo>
                  <a:pt x="6013" y="7697"/>
                </a:lnTo>
                <a:lnTo>
                  <a:pt x="5528" y="7543"/>
                </a:lnTo>
                <a:lnTo>
                  <a:pt x="4999" y="7287"/>
                </a:lnTo>
                <a:lnTo>
                  <a:pt x="4510" y="7001"/>
                </a:lnTo>
                <a:lnTo>
                  <a:pt x="3981" y="6653"/>
                </a:lnTo>
                <a:lnTo>
                  <a:pt x="3496" y="6275"/>
                </a:lnTo>
                <a:lnTo>
                  <a:pt x="3006" y="5859"/>
                </a:lnTo>
                <a:lnTo>
                  <a:pt x="2072" y="5038"/>
                </a:lnTo>
                <a:lnTo>
                  <a:pt x="1626" y="4656"/>
                </a:lnTo>
                <a:lnTo>
                  <a:pt x="1221" y="4279"/>
                </a:lnTo>
                <a:lnTo>
                  <a:pt x="855" y="3993"/>
                </a:lnTo>
                <a:lnTo>
                  <a:pt x="529" y="3737"/>
                </a:lnTo>
                <a:lnTo>
                  <a:pt x="242" y="3583"/>
                </a:lnTo>
                <a:lnTo>
                  <a:pt x="0" y="352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2840"/>
            <a:ext cx="6237720" cy="3366000"/>
          </a:xfrm>
          <a:custGeom>
            <a:avLst/>
            <a:gdLst/>
            <a:ahLst/>
            <a:rect l="0" t="0" r="r" b="b"/>
            <a:pathLst>
              <a:path w="17327" h="9350">
                <a:moveTo>
                  <a:pt x="0" y="1614"/>
                </a:moveTo>
                <a:lnTo>
                  <a:pt x="0" y="2069"/>
                </a:lnTo>
                <a:lnTo>
                  <a:pt x="175" y="2101"/>
                </a:lnTo>
                <a:lnTo>
                  <a:pt x="435" y="2101"/>
                </a:lnTo>
                <a:lnTo>
                  <a:pt x="787" y="2036"/>
                </a:lnTo>
                <a:lnTo>
                  <a:pt x="1222" y="1939"/>
                </a:lnTo>
                <a:lnTo>
                  <a:pt x="1690" y="1841"/>
                </a:lnTo>
                <a:lnTo>
                  <a:pt x="2213" y="1679"/>
                </a:lnTo>
                <a:lnTo>
                  <a:pt x="2797" y="1549"/>
                </a:lnTo>
                <a:lnTo>
                  <a:pt x="3408" y="1387"/>
                </a:lnTo>
                <a:lnTo>
                  <a:pt x="4687" y="1099"/>
                </a:lnTo>
                <a:lnTo>
                  <a:pt x="5970" y="839"/>
                </a:lnTo>
                <a:lnTo>
                  <a:pt x="6609" y="774"/>
                </a:lnTo>
                <a:lnTo>
                  <a:pt x="7253" y="709"/>
                </a:lnTo>
                <a:lnTo>
                  <a:pt x="7832" y="709"/>
                </a:lnTo>
                <a:lnTo>
                  <a:pt x="8388" y="774"/>
                </a:lnTo>
                <a:lnTo>
                  <a:pt x="8939" y="872"/>
                </a:lnTo>
                <a:lnTo>
                  <a:pt x="9523" y="1002"/>
                </a:lnTo>
                <a:lnTo>
                  <a:pt x="10745" y="1354"/>
                </a:lnTo>
                <a:lnTo>
                  <a:pt x="12056" y="1776"/>
                </a:lnTo>
                <a:lnTo>
                  <a:pt x="13312" y="2296"/>
                </a:lnTo>
                <a:lnTo>
                  <a:pt x="13923" y="2589"/>
                </a:lnTo>
                <a:lnTo>
                  <a:pt x="14502" y="2877"/>
                </a:lnTo>
                <a:lnTo>
                  <a:pt x="15058" y="3169"/>
                </a:lnTo>
                <a:lnTo>
                  <a:pt x="15554" y="3462"/>
                </a:lnTo>
                <a:lnTo>
                  <a:pt x="16017" y="3754"/>
                </a:lnTo>
                <a:lnTo>
                  <a:pt x="16424" y="4042"/>
                </a:lnTo>
                <a:lnTo>
                  <a:pt x="16748" y="4334"/>
                </a:lnTo>
                <a:lnTo>
                  <a:pt x="17008" y="4594"/>
                </a:lnTo>
                <a:lnTo>
                  <a:pt x="17184" y="4886"/>
                </a:lnTo>
                <a:lnTo>
                  <a:pt x="17300" y="5206"/>
                </a:lnTo>
                <a:lnTo>
                  <a:pt x="17327" y="5563"/>
                </a:lnTo>
                <a:lnTo>
                  <a:pt x="17300" y="5953"/>
                </a:lnTo>
                <a:lnTo>
                  <a:pt x="17212" y="6375"/>
                </a:lnTo>
                <a:lnTo>
                  <a:pt x="17068" y="6760"/>
                </a:lnTo>
                <a:lnTo>
                  <a:pt x="16920" y="7183"/>
                </a:lnTo>
                <a:lnTo>
                  <a:pt x="16716" y="7573"/>
                </a:lnTo>
                <a:lnTo>
                  <a:pt x="16545" y="7958"/>
                </a:lnTo>
                <a:lnTo>
                  <a:pt x="16341" y="8316"/>
                </a:lnTo>
                <a:lnTo>
                  <a:pt x="16137" y="8608"/>
                </a:lnTo>
                <a:lnTo>
                  <a:pt x="15961" y="8900"/>
                </a:lnTo>
                <a:lnTo>
                  <a:pt x="15785" y="9090"/>
                </a:lnTo>
                <a:lnTo>
                  <a:pt x="15669" y="9253"/>
                </a:lnTo>
                <a:lnTo>
                  <a:pt x="15581" y="9350"/>
                </a:lnTo>
                <a:lnTo>
                  <a:pt x="15554" y="9350"/>
                </a:lnTo>
                <a:lnTo>
                  <a:pt x="17124" y="3559"/>
                </a:lnTo>
                <a:lnTo>
                  <a:pt x="16920" y="3267"/>
                </a:lnTo>
                <a:lnTo>
                  <a:pt x="16660" y="2974"/>
                </a:lnTo>
                <a:lnTo>
                  <a:pt x="16341" y="2682"/>
                </a:lnTo>
                <a:lnTo>
                  <a:pt x="15989" y="2394"/>
                </a:lnTo>
                <a:lnTo>
                  <a:pt x="15581" y="2101"/>
                </a:lnTo>
                <a:lnTo>
                  <a:pt x="15146" y="1841"/>
                </a:lnTo>
                <a:lnTo>
                  <a:pt x="14650" y="1582"/>
                </a:lnTo>
                <a:lnTo>
                  <a:pt x="14155" y="1326"/>
                </a:lnTo>
                <a:lnTo>
                  <a:pt x="13108" y="872"/>
                </a:lnTo>
                <a:lnTo>
                  <a:pt x="12000" y="514"/>
                </a:lnTo>
                <a:lnTo>
                  <a:pt x="10893" y="222"/>
                </a:lnTo>
                <a:lnTo>
                  <a:pt x="9786" y="32"/>
                </a:lnTo>
                <a:lnTo>
                  <a:pt x="9231" y="0"/>
                </a:lnTo>
                <a:lnTo>
                  <a:pt x="8619" y="0"/>
                </a:lnTo>
                <a:lnTo>
                  <a:pt x="8008" y="32"/>
                </a:lnTo>
                <a:lnTo>
                  <a:pt x="7341" y="92"/>
                </a:lnTo>
                <a:lnTo>
                  <a:pt x="5970" y="320"/>
                </a:lnTo>
                <a:lnTo>
                  <a:pt x="4604" y="579"/>
                </a:lnTo>
                <a:lnTo>
                  <a:pt x="3232" y="872"/>
                </a:lnTo>
                <a:lnTo>
                  <a:pt x="2593" y="1034"/>
                </a:lnTo>
                <a:lnTo>
                  <a:pt x="1982" y="1196"/>
                </a:lnTo>
                <a:lnTo>
                  <a:pt x="1426" y="1326"/>
                </a:lnTo>
                <a:lnTo>
                  <a:pt x="903" y="1452"/>
                </a:lnTo>
                <a:lnTo>
                  <a:pt x="407" y="1549"/>
                </a:lnTo>
                <a:lnTo>
                  <a:pt x="0" y="1614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98108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centives and Reward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key to 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32280" y="4613400"/>
            <a:ext cx="50403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pared for Cognetics, Inc. (disgu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y: Jonas Lamis and Miles 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tivating Use v.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2438280"/>
            <a:ext cx="153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rin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54000" y="3809880"/>
            <a:ext cx="1650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in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68520" y="4952880"/>
            <a:ext cx="817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4120" y="4952880"/>
            <a:ext cx="1447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85880" y="1900080"/>
            <a:ext cx="2371680" cy="1495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85880" y="3386160"/>
            <a:ext cx="2371680" cy="1495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48200" y="3386160"/>
            <a:ext cx="2371680" cy="1495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48200" y="1900080"/>
            <a:ext cx="2371680" cy="1495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79640" y="2403360"/>
            <a:ext cx="1763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Compet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66880" y="3673440"/>
            <a:ext cx="2298600" cy="822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Self-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246640" y="2362320"/>
            <a:ext cx="1639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Good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70320" y="3733920"/>
            <a:ext cx="1704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Financial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1906560"/>
            <a:ext cx="0" cy="2970360"/>
          </a:xfrm>
          <a:prstGeom prst="line">
            <a:avLst/>
          </a:prstGeom>
          <a:ln w="1260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3429000"/>
            <a:ext cx="4722840" cy="0"/>
          </a:xfrm>
          <a:prstGeom prst="line">
            <a:avLst/>
          </a:prstGeom>
          <a:ln w="1260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110120" y="266220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Xer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25880" y="1525680"/>
            <a:ext cx="4417920" cy="2665440"/>
          </a:xfrm>
          <a:prstGeom prst="line">
            <a:avLst/>
          </a:prstGeom>
          <a:ln w="25560">
            <a:solidFill>
              <a:srgbClr val="ffffcc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Intrinsic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9920" y="2058840"/>
            <a:ext cx="0" cy="2513160"/>
          </a:xfrm>
          <a:prstGeom prst="line">
            <a:avLst/>
          </a:prstGeom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41720" y="4572000"/>
            <a:ext cx="2741400" cy="0"/>
          </a:xfrm>
          <a:prstGeom prst="line">
            <a:avLst/>
          </a:prstGeom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1720" y="2514600"/>
            <a:ext cx="1914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Time +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454120" y="1971720"/>
            <a:ext cx="719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454120" y="4052880"/>
            <a:ext cx="66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71800" y="4738680"/>
            <a:ext cx="1170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in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54560" y="4714920"/>
            <a:ext cx="1112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rin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24080" y="5181480"/>
            <a:ext cx="3276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tivatio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516480" y="250992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497560" y="228132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64040" y="258588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25960" y="228132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&amp;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02280" y="304308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l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16480" y="3348000"/>
            <a:ext cx="695160" cy="5065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07040" y="1900080"/>
            <a:ext cx="695160" cy="5065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p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90440" y="5742000"/>
            <a:ext cx="7213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eed for knowledge, time, and motivation to per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ifts the reward system from extrinsic to intrins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29080" y="174780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24320" y="2890800"/>
            <a:ext cx="695160" cy="4665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5760" y="1982880"/>
            <a:ext cx="912960" cy="136440"/>
          </a:xfrm>
          <a:prstGeom prst="line">
            <a:avLst/>
          </a:prstGeom>
          <a:ln w="25560">
            <a:solidFill>
              <a:srgbClr val="ff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904160" y="1824120"/>
            <a:ext cx="1046160" cy="720720"/>
          </a:xfrm>
          <a:prstGeom prst="rect">
            <a:avLst/>
          </a:prstGeom>
          <a:noFill/>
          <a:ln w="1260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rin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o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rom Pavlov to Ma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vlov - KM systems that are introduced into functioning work environments with the intention of aiding work activities must be supported with behavior altering efforts to encourage their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slow - Key to a successful introduction of a KM system into a work environment requires that it become fully integrated into the work activities, become a vital part of conducting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wards: Extrinsic and Intrin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insic rewards - rewards which are unrelated to performance or personal satisfaction.  Rewards which are offered for an action, but are not associated with the results of that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nancial bo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in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ve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rinsic rewards - rewards that stem from increased performance of an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rove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gher “win r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petitiv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pplicability for Cog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neral KM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pert or Superuser- employee evaluation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nowledge user - incent to try no incentive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incent existing verbal knowledge reus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g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itial consultants incented by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nge client expert evaluation system to focus on sha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ers are incented because Cognetics is path of least re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752480"/>
            <a:ext cx="77724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7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nowledge management has a fundamental cultural component that must be approached through the incentive system.  Very few companies have been successful at shifting cultural norms to support knowledge sharing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7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insic rewards appear to offer a reasonable path to motivating behavior, but when removed behavior reverts to previous no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7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rinsic rewards are more difficult to instill and measure, but provide the only foundation for successful knowledge sharing and re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at is Cognetics softw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icrosoft Help on Steroids” for ERP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w is it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gnetics software provides ERP users with a cascading help system that tracks inputs and provides realtime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ers activate the system on three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Receive selective push of most likely solution with hot key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Access expanded knowledgebase through Case Based Reasoning (CB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Access to expert yellow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w is it suppor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lementation: Cognetics consultants develop the knowledgebase a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going: Sharers - Superusers who contribute expertise through yellow pages functional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tement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dependent of its software, Cognetics needs to offer customer guidelines for ensuring User and Shar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gnetics is concerned with the cultural and behavioral barriers to the acceptance of it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receive a reasonable return on Cognetics software investment requires a high degree of dedicated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Cognetics to be effective, it must serve as the path of least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opposed to other enterprise software packages where there is no other pa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entation will examine issues surrounding motivating Users and Sh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304920"/>
            <a:ext cx="777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troducing Cognetics system into existing information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79880" y="111240"/>
            <a:ext cx="375120" cy="7772760"/>
          </a:xfrm>
          <a:custGeom>
            <a:avLst/>
            <a:gdLst/>
            <a:ahLst/>
            <a:rect l="0" t="0" r="r" b="b"/>
            <a:pathLst>
              <a:path w="1042" h="21591">
                <a:moveTo>
                  <a:pt x="1042" y="2643"/>
                </a:moveTo>
                <a:lnTo>
                  <a:pt x="1042" y="0"/>
                </a:lnTo>
                <a:lnTo>
                  <a:pt x="521" y="18947"/>
                </a:lnTo>
                <a:lnTo>
                  <a:pt x="0" y="1586"/>
                </a:lnTo>
                <a:lnTo>
                  <a:pt x="0" y="4229"/>
                </a:lnTo>
                <a:lnTo>
                  <a:pt x="521" y="21591"/>
                </a:lnTo>
                <a:lnTo>
                  <a:pt x="1042" y="2643"/>
                </a:lnTo>
                <a:close/>
              </a:path>
            </a:pathLst>
          </a:custGeom>
          <a:solidFill>
            <a:srgbClr val="cc0099"/>
          </a:solidFill>
          <a:ln w="12600">
            <a:solidFill>
              <a:srgbClr val="ffff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8440" y="831960"/>
            <a:ext cx="3073320" cy="1444680"/>
            <a:chOff x="298440" y="831960"/>
            <a:chExt cx="3073320" cy="1444680"/>
          </a:xfrm>
        </p:grpSpPr>
        <p:sp>
          <p:nvSpPr>
            <p:cNvPr id="103" name=""/>
            <p:cNvSpPr txBox="1"/>
            <p:nvPr/>
          </p:nvSpPr>
          <p:spPr>
            <a:xfrm>
              <a:off x="1136520" y="831960"/>
              <a:ext cx="1363680" cy="36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Use of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98440" y="1670040"/>
              <a:ext cx="1401840" cy="36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Encourage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898640" y="1670040"/>
              <a:ext cx="1473120" cy="606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Dissuade fr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existing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144440" y="1220760"/>
              <a:ext cx="532080" cy="455760"/>
            </a:xfrm>
            <a:prstGeom prst="line">
              <a:avLst/>
            </a:prstGeom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0240" y="1220760"/>
              <a:ext cx="684360" cy="455760"/>
            </a:xfrm>
            <a:prstGeom prst="line">
              <a:avLst/>
            </a:prstGeom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219560" y="755640"/>
            <a:ext cx="2933640" cy="4572360"/>
            <a:chOff x="4219560" y="755640"/>
            <a:chExt cx="2933640" cy="4572360"/>
          </a:xfrm>
        </p:grpSpPr>
        <p:sp>
          <p:nvSpPr>
            <p:cNvPr id="109" name=""/>
            <p:cNvSpPr/>
            <p:nvPr/>
          </p:nvSpPr>
          <p:spPr>
            <a:xfrm>
              <a:off x="5492880" y="755640"/>
              <a:ext cx="290880" cy="4572360"/>
            </a:xfrm>
            <a:custGeom>
              <a:avLst/>
              <a:gdLst/>
              <a:ahLst/>
              <a:rect l="0" t="0" r="r" b="b"/>
              <a:pathLst>
                <a:path w="808" h="12701">
                  <a:moveTo>
                    <a:pt x="808" y="1612"/>
                  </a:moveTo>
                  <a:lnTo>
                    <a:pt x="808" y="0"/>
                  </a:lnTo>
                  <a:lnTo>
                    <a:pt x="404" y="11155"/>
                  </a:lnTo>
                  <a:lnTo>
                    <a:pt x="0" y="806"/>
                  </a:lnTo>
                  <a:lnTo>
                    <a:pt x="0" y="2351"/>
                  </a:lnTo>
                  <a:lnTo>
                    <a:pt x="404" y="12701"/>
                  </a:lnTo>
                  <a:lnTo>
                    <a:pt x="808" y="1612"/>
                  </a:lnTo>
                  <a:close/>
                </a:path>
              </a:pathLst>
            </a:custGeom>
            <a:solidFill>
              <a:srgbClr val="cc0099"/>
            </a:solidFill>
            <a:ln w="12600">
              <a:solidFill>
                <a:srgbClr val="ffff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219560" y="3271680"/>
              <a:ext cx="2933640" cy="66024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N roles; experts could re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ob title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75160" y="755640"/>
            <a:ext cx="4316400" cy="2167200"/>
            <a:chOff x="3575160" y="755640"/>
            <a:chExt cx="4316400" cy="2167200"/>
          </a:xfrm>
        </p:grpSpPr>
        <p:sp>
          <p:nvSpPr>
            <p:cNvPr id="112" name=""/>
            <p:cNvSpPr txBox="1"/>
            <p:nvPr/>
          </p:nvSpPr>
          <p:spPr>
            <a:xfrm>
              <a:off x="4903920" y="755640"/>
              <a:ext cx="1714680" cy="3618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upport of expe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575160" y="1149480"/>
              <a:ext cx="1989000" cy="1641240"/>
              <a:chOff x="3575160" y="1149480"/>
              <a:chExt cx="1989000" cy="1641240"/>
            </a:xfrm>
          </p:grpSpPr>
          <p:sp>
            <p:nvSpPr>
              <p:cNvPr id="114" name=""/>
              <p:cNvSpPr txBox="1"/>
              <p:nvPr/>
            </p:nvSpPr>
            <p:spPr>
              <a:xfrm>
                <a:off x="3575160" y="2428920"/>
                <a:ext cx="765000" cy="361800"/>
              </a:xfrm>
              <a:prstGeom prst="rect">
                <a:avLst/>
              </a:prstGeom>
              <a:solidFill>
                <a:srgbClr val="6699ff"/>
              </a:solidFill>
              <a:ln w="12600">
                <a:solidFill>
                  <a:srgbClr val="ffffcc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220011"/>
                    </a:solidFill>
                    <a:latin typeface="Times New Roman"/>
                    <a:ea typeface="Times New Roman"/>
                  </a:rPr>
                  <a:t>Verb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730760" y="2428920"/>
                <a:ext cx="833400" cy="361800"/>
              </a:xfrm>
              <a:prstGeom prst="rect">
                <a:avLst/>
              </a:prstGeom>
              <a:solidFill>
                <a:srgbClr val="6699ff"/>
              </a:solidFill>
              <a:ln w="12600">
                <a:solidFill>
                  <a:srgbClr val="ffffcc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220011"/>
                    </a:solidFill>
                    <a:latin typeface="Times New Roman"/>
                    <a:ea typeface="Times New Roman"/>
                  </a:rPr>
                  <a:t>Writt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4070520" y="1149480"/>
                <a:ext cx="1326960" cy="1000080"/>
                <a:chOff x="4070520" y="1149480"/>
                <a:chExt cx="1326960" cy="1000080"/>
              </a:xfrm>
            </p:grpSpPr>
            <p:sp>
              <p:nvSpPr>
                <p:cNvPr id="117" name=""/>
                <p:cNvSpPr txBox="1"/>
                <p:nvPr/>
              </p:nvSpPr>
              <p:spPr>
                <a:xfrm>
                  <a:off x="4070520" y="1542960"/>
                  <a:ext cx="1168560" cy="606600"/>
                </a:xfrm>
                <a:prstGeom prst="rect">
                  <a:avLst/>
                </a:prstGeom>
                <a:solidFill>
                  <a:srgbClr val="6699ff"/>
                </a:solidFill>
                <a:ln w="12600">
                  <a:solidFill>
                    <a:srgbClr val="ffffcc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220011"/>
                      </a:solidFill>
                      <a:latin typeface="Times New Roman"/>
                      <a:ea typeface="Times New Roman"/>
                    </a:rPr>
                    <a:t>Encourag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220011"/>
                      </a:solidFill>
                      <a:latin typeface="Times New Roman"/>
                      <a:ea typeface="Times New Roman"/>
                    </a:rPr>
                    <a:t>to sha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821120" y="1149480"/>
                  <a:ext cx="576360" cy="40140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 flipH="1">
                <a:off x="4078440" y="2197080"/>
                <a:ext cx="328320" cy="239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21120" y="2197080"/>
                <a:ext cx="246240" cy="239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632560" y="1149480"/>
              <a:ext cx="2259000" cy="1773360"/>
              <a:chOff x="5632560" y="1149480"/>
              <a:chExt cx="2259000" cy="1773360"/>
            </a:xfrm>
          </p:grpSpPr>
          <p:sp>
            <p:nvSpPr>
              <p:cNvPr id="122" name=""/>
              <p:cNvSpPr txBox="1"/>
              <p:nvPr/>
            </p:nvSpPr>
            <p:spPr>
              <a:xfrm>
                <a:off x="5632560" y="2389320"/>
                <a:ext cx="1241280" cy="361800"/>
              </a:xfrm>
              <a:prstGeom prst="rect">
                <a:avLst/>
              </a:prstGeom>
              <a:solidFill>
                <a:srgbClr val="6699ff"/>
              </a:solidFill>
              <a:ln w="12600">
                <a:solidFill>
                  <a:srgbClr val="ffffcc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220011"/>
                    </a:solidFill>
                    <a:latin typeface="Times New Roman"/>
                    <a:ea typeface="Times New Roman"/>
                  </a:rPr>
                  <a:t>Certif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6978600" y="2316240"/>
                <a:ext cx="912960" cy="606600"/>
              </a:xfrm>
              <a:prstGeom prst="rect">
                <a:avLst/>
              </a:prstGeom>
              <a:solidFill>
                <a:srgbClr val="6699ff"/>
              </a:solidFill>
              <a:ln w="12600">
                <a:solidFill>
                  <a:srgbClr val="ffffcc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220011"/>
                    </a:solidFill>
                    <a:latin typeface="Times New Roman"/>
                    <a:ea typeface="Times New Roman"/>
                  </a:rPr>
                  <a:t>Filter &amp;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220011"/>
                    </a:solidFill>
                    <a:latin typeface="Times New Roman"/>
                    <a:ea typeface="Times New Roman"/>
                  </a:rPr>
                  <a:t>revie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013440" y="1149480"/>
                <a:ext cx="1212840" cy="961920"/>
                <a:chOff x="6013440" y="1149480"/>
                <a:chExt cx="1212840" cy="961920"/>
              </a:xfrm>
            </p:grpSpPr>
            <p:sp>
              <p:nvSpPr>
                <p:cNvPr id="125" name=""/>
                <p:cNvSpPr txBox="1"/>
                <p:nvPr/>
              </p:nvSpPr>
              <p:spPr>
                <a:xfrm>
                  <a:off x="6229440" y="1504800"/>
                  <a:ext cx="996840" cy="606600"/>
                </a:xfrm>
                <a:prstGeom prst="rect">
                  <a:avLst/>
                </a:prstGeom>
                <a:solidFill>
                  <a:srgbClr val="6699ff"/>
                </a:solidFill>
                <a:ln w="12600">
                  <a:solidFill>
                    <a:srgbClr val="ffffcc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220011"/>
                      </a:solidFill>
                      <a:latin typeface="Times New Roman"/>
                      <a:ea typeface="Times New Roman"/>
                    </a:rPr>
                    <a:t>Maintain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220011"/>
                      </a:solidFill>
                      <a:latin typeface="Times New Roman"/>
                      <a:ea typeface="Times New Roman"/>
                    </a:rPr>
                    <a:t>qual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13440" y="1149480"/>
                  <a:ext cx="598320" cy="3650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flipH="1">
                <a:off x="6313320" y="2103480"/>
                <a:ext cx="298440" cy="29196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62840" y="2103480"/>
                <a:ext cx="222120" cy="21888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197000" y="4253040"/>
            <a:ext cx="6321600" cy="2460600"/>
            <a:chOff x="1197000" y="4253040"/>
            <a:chExt cx="6321600" cy="2460600"/>
          </a:xfrm>
        </p:grpSpPr>
        <p:sp>
          <p:nvSpPr>
            <p:cNvPr id="130" name=""/>
            <p:cNvSpPr txBox="1"/>
            <p:nvPr/>
          </p:nvSpPr>
          <p:spPr>
            <a:xfrm>
              <a:off x="4648320" y="6072120"/>
              <a:ext cx="2870280" cy="6415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Financial Reward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centives, and E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197000" y="5181480"/>
              <a:ext cx="2162160" cy="422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trinsic Rew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950000" y="5181480"/>
              <a:ext cx="2219400" cy="422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Extrinsic Rew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442880" y="4253040"/>
              <a:ext cx="5511960" cy="476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Motivating change through 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1600200" y="6072120"/>
              <a:ext cx="1434960" cy="6415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Competiti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86280" y="4719600"/>
              <a:ext cx="466920" cy="466920"/>
            </a:xfrm>
            <a:custGeom>
              <a:avLst/>
              <a:gdLst/>
              <a:ahLst/>
              <a:rect l="0" t="0" r="r" b="b"/>
              <a:pathLst>
                <a:path w="1297" h="1297">
                  <a:moveTo>
                    <a:pt x="0" y="431"/>
                  </a:moveTo>
                  <a:lnTo>
                    <a:pt x="0" y="864"/>
                  </a:lnTo>
                  <a:lnTo>
                    <a:pt x="908" y="864"/>
                  </a:lnTo>
                  <a:lnTo>
                    <a:pt x="908" y="1297"/>
                  </a:lnTo>
                  <a:lnTo>
                    <a:pt x="1297" y="649"/>
                  </a:lnTo>
                  <a:lnTo>
                    <a:pt x="908" y="0"/>
                  </a:lnTo>
                  <a:lnTo>
                    <a:pt x="908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6400" y="4719600"/>
              <a:ext cx="466920" cy="466920"/>
            </a:xfrm>
            <a:custGeom>
              <a:avLst/>
              <a:gdLst/>
              <a:ahLst/>
              <a:rect l="0" t="0" r="r" b="b"/>
              <a:pathLst>
                <a:path w="1297" h="1297">
                  <a:moveTo>
                    <a:pt x="0" y="431"/>
                  </a:moveTo>
                  <a:lnTo>
                    <a:pt x="0" y="864"/>
                  </a:lnTo>
                  <a:lnTo>
                    <a:pt x="908" y="864"/>
                  </a:lnTo>
                  <a:lnTo>
                    <a:pt x="908" y="1297"/>
                  </a:lnTo>
                  <a:lnTo>
                    <a:pt x="1297" y="649"/>
                  </a:lnTo>
                  <a:lnTo>
                    <a:pt x="908" y="0"/>
                  </a:lnTo>
                  <a:lnTo>
                    <a:pt x="908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2720" y="5592600"/>
              <a:ext cx="466920" cy="466920"/>
            </a:xfrm>
            <a:custGeom>
              <a:avLst/>
              <a:gdLst/>
              <a:ahLst/>
              <a:rect l="0" t="0" r="r" b="b"/>
              <a:pathLst>
                <a:path w="1297" h="1297">
                  <a:moveTo>
                    <a:pt x="0" y="431"/>
                  </a:moveTo>
                  <a:lnTo>
                    <a:pt x="0" y="864"/>
                  </a:lnTo>
                  <a:lnTo>
                    <a:pt x="908" y="864"/>
                  </a:lnTo>
                  <a:lnTo>
                    <a:pt x="908" y="1297"/>
                  </a:lnTo>
                  <a:lnTo>
                    <a:pt x="1297" y="649"/>
                  </a:lnTo>
                  <a:lnTo>
                    <a:pt x="908" y="0"/>
                  </a:lnTo>
                  <a:lnTo>
                    <a:pt x="908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6280" y="5592600"/>
              <a:ext cx="466920" cy="466920"/>
            </a:xfrm>
            <a:custGeom>
              <a:avLst/>
              <a:gdLst/>
              <a:ahLst/>
              <a:rect l="0" t="0" r="r" b="b"/>
              <a:pathLst>
                <a:path w="1297" h="1297">
                  <a:moveTo>
                    <a:pt x="0" y="431"/>
                  </a:moveTo>
                  <a:lnTo>
                    <a:pt x="0" y="864"/>
                  </a:lnTo>
                  <a:lnTo>
                    <a:pt x="908" y="864"/>
                  </a:lnTo>
                  <a:lnTo>
                    <a:pt x="908" y="1297"/>
                  </a:lnTo>
                  <a:lnTo>
                    <a:pt x="1297" y="649"/>
                  </a:lnTo>
                  <a:lnTo>
                    <a:pt x="908" y="0"/>
                  </a:lnTo>
                  <a:lnTo>
                    <a:pt x="908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ffff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st Practices Related to Encouragin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7524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a method of employe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aluated on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nancial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al Recognition and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ile-high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t-invented here”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inkets (Telt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2120" y="5730840"/>
            <a:ext cx="768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first portion of this presentation provides a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best practices for rewarding knowledge sharing and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st Practices Related to Discouraging Existing Info.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ctioning work environment has existing knowledge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unities of practice, informal co-worker assistance, massive rei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oal: Disincent current system to foster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ise barriers to existing proces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bolic instantiation of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uy who burned paper to push for paperless office (Davenport’s IT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st Practices Related to Support of Exp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unities of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lationship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ritocrat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ward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mploye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int 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ints fo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ints when people reuse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intain Quality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ributions review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nowledge revie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ltering and review of con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centives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positive con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rning From Other’s Mistak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ngs not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ve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urning Paper in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equent Flyer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4724280"/>
            <a:ext cx="77263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insic rewards motivate specific behavior when avail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ut once removed, behavior reverts to previous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general the only way to instill long term behavi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rough the development of intrinsic rewar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es Ewing</dc:creator>
  <dc:description/>
  <dc:language>en-US</dc:language>
  <cp:lastModifiedBy>Miles Ewing</cp:lastModifiedBy>
  <cp:revision>0</cp:revision>
  <dc:subject/>
  <dc:title>Incentives and Rewards the key to Knowledge Management</dc:title>
</cp:coreProperties>
</file>