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0A74-71C1-43BC-8168-EE788861E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5409-080D-4407-964D-A75414BA2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0323-7328-4AA4-B0D3-E9101013A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38AC-7722-426E-8EC1-EAC015B18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482F-C01B-42FC-A23A-151C902A0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D93A-A497-4027-B07F-0B4F70E60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9130-9D2B-494D-B565-F346B76C9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819A-7886-4E70-BA03-907F91F3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C094-FF0C-4E53-A9DA-52A97465D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EF1F-C71B-44EA-A38A-0A59CD518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48F7-0567-42B9-957F-59589F68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0989-232F-4B82-A3A5-8EE38D73B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501-D417-4D85-B430-72AF51B1A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9160" y="1595520"/>
            <a:ext cx="114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57BE-3012-44F0-9FD8-924932305DD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1752480"/>
            <a:ext cx="9067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116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ies in the Knowledge Oin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Daven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nd Knowled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on the Knowledge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of our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origi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atur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deficit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 hype over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Knowledge Wort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never know in the gener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can lead to lots of specific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reduction in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production dow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 per call, fewer calls in custom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nefits will never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value of bette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already spend trillions 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hich the overall value is decidedly un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ye of little fai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ave All Those Bad Old Idea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could lead to a slavish devotion to existing ideas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a long way from that problem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in Japan they should w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problem is much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“new” ideas are combinations or repackagings of old ones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of KM systems should be encouraged to build on existing ideas, not use them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Management is an Oxymor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human and emerges from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it can’t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lso learn from structured forms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can facilitate finding the right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rs can manipulate who works with wh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for knowledge is already in short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create more of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attract it to where it’s most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come skilled at attention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ill technology really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attention economy replace the monetary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Not Too Much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right mix of knowing and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will surely focus too much on kn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 balance depen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dividual’s ability as a kno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 of the per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’s industry and business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 know for the rest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credible Hype 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zz i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uple of conferences per month, at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hortage of books, artic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s (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nts (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vendors (ug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ith “knowledge” in their titles (st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terminological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get beyond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d-surfers look for the next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theless, I’m Optimis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knowledge workers ou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an enduring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 use of knowledge seems to correlate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industries have no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have had a 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are getting smarter about h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8T07:04:19Z</dcterms:created>
  <dc:creator>Tom</dc:creator>
  <dc:description/>
  <cp:keywords>Index ecology CIO</cp:keywords>
  <dc:language>en-US</dc:language>
  <cp:lastModifiedBy>Tom &amp; Jodi Davenport</cp:lastModifiedBy>
  <cp:lastPrinted>1998-04-29T14:20:41Z</cp:lastPrinted>
  <dcterms:modified xsi:type="dcterms:W3CDTF">1998-05-05T12:58:28Z</dcterms:modified>
  <cp:revision>35</cp:revision>
  <dc:subject/>
  <dc:title>Balancing Technology and Ecology</dc:title>
</cp:coreProperties>
</file>