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096-CB85-4B66-B51F-6A2CE027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58A-35C4-43BE-B9D6-A25B042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E11-0BB7-4D36-A98D-91B49C81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D05-6932-4FB9-9B84-2BB10DB8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C19-B4EE-4B48-84D8-0DBE615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943-9694-433A-AAFB-C1342FC4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203-3DAC-4E21-B9B0-7B015BD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B9D-FD94-4E52-B8A4-DA34EEC3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23E-2C3B-493D-B17A-9FEB770C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123-E250-40A3-A198-5E3F7F8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2A9-DF63-4215-BCC2-38A8ED8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77A-004A-4CF9-AE08-4F32CD6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9C6-549A-4A03-BB6C-EE0F0E1F36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96200" y="46080"/>
            <a:ext cx="87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E9F7-89C4-401D-AD23-ECCDF7EDDB3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Manages Knowled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580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Daven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nd 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counting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71600" y="1943280"/>
            <a:ext cx="7732800" cy="4190760"/>
            <a:chOff x="1371600" y="1943280"/>
            <a:chExt cx="7732800" cy="4190760"/>
          </a:xfrm>
        </p:grpSpPr>
        <p:sp>
          <p:nvSpPr>
            <p:cNvPr id="151" name=""/>
            <p:cNvSpPr/>
            <p:nvPr/>
          </p:nvSpPr>
          <p:spPr>
            <a:xfrm>
              <a:off x="1371600" y="20397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28782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37162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45543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5392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19432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7720" y="19652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crease, measure, and communicate the value of intellectual capit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3600" y="27813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39600" y="2971800"/>
              <a:ext cx="40924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ounting, investor relation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3600" y="36194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6640" y="3794040"/>
              <a:ext cx="31248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ything measureabl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03600" y="44578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9960" y="4708440"/>
              <a:ext cx="19818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asure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03600" y="5295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1400" y="5470560"/>
              <a:ext cx="277596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andia, Coca-Col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R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l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M/yr. at Dow in patent and licens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onths faster to NDA at Ro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d customer face time at Genentech, Astra-Mer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 higher sales for new sales reps after 6 months at S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/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days less downtime per incident at B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production curves at National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 reduction in dispatches at Rank Xer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% reduction in cost/call at HP in tw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urdles and Barri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49520" y="2540160"/>
            <a:ext cx="69800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man/woman a knowledge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ing around in the executive garbage can (decision-making apparatu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fication by fait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ing that politics don’t mat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 wor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92240" y="1828800"/>
            <a:ext cx="7746840" cy="3583080"/>
            <a:chOff x="1092240" y="1828800"/>
            <a:chExt cx="7746840" cy="3583080"/>
          </a:xfrm>
        </p:grpSpPr>
        <p:sp>
          <p:nvSpPr>
            <p:cNvPr id="171" name=""/>
            <p:cNvSpPr/>
            <p:nvPr/>
          </p:nvSpPr>
          <p:spPr>
            <a:xfrm>
              <a:off x="1092240" y="182880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3080" y="183672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6200" y="1974960"/>
              <a:ext cx="35748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623960" y="1986120"/>
              <a:ext cx="6589800" cy="264600"/>
              <a:chOff x="1623960" y="1986120"/>
              <a:chExt cx="6589800" cy="26460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3635280" y="2130120"/>
                <a:ext cx="21132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383000" y="210816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003640" y="2095200"/>
                <a:ext cx="21456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592600" y="2049480"/>
                <a:ext cx="22572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207120" y="2060640"/>
                <a:ext cx="235080" cy="93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754680" y="1988640"/>
                <a:ext cx="223920" cy="1558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361280" y="203796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942320" y="1986120"/>
                <a:ext cx="271440" cy="126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623960" y="2060280"/>
                <a:ext cx="193680" cy="903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031840" y="2084040"/>
                <a:ext cx="195480" cy="874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846520" y="2087280"/>
                <a:ext cx="20628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0" y="5407200"/>
            <a:ext cx="1182600" cy="1439640"/>
            <a:chOff x="0" y="5407200"/>
            <a:chExt cx="1182600" cy="1439640"/>
          </a:xfrm>
        </p:grpSpPr>
        <p:grpSp>
          <p:nvGrpSpPr>
            <p:cNvPr id="187" name=""/>
            <p:cNvGrpSpPr/>
            <p:nvPr/>
          </p:nvGrpSpPr>
          <p:grpSpPr>
            <a:xfrm>
              <a:off x="385920" y="5703840"/>
              <a:ext cx="796680" cy="1143000"/>
              <a:chOff x="385920" y="5703840"/>
              <a:chExt cx="796680" cy="1143000"/>
            </a:xfrm>
          </p:grpSpPr>
          <p:sp>
            <p:nvSpPr>
              <p:cNvPr id="188" name=""/>
              <p:cNvSpPr/>
              <p:nvPr/>
            </p:nvSpPr>
            <p:spPr>
              <a:xfrm>
                <a:off x="428760" y="5705640"/>
                <a:ext cx="23940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85920" y="5991120"/>
                <a:ext cx="796680" cy="855720"/>
                <a:chOff x="385920" y="5991120"/>
                <a:chExt cx="796680" cy="85572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409680" y="6281640"/>
                  <a:ext cx="772920" cy="565200"/>
                  <a:chOff x="409680" y="6281640"/>
                  <a:chExt cx="772920" cy="565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955800" y="6281640"/>
                    <a:ext cx="997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09680" y="6337440"/>
                    <a:ext cx="772920" cy="509400"/>
                    <a:chOff x="409680" y="6337440"/>
                    <a:chExt cx="772920" cy="5094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09680" y="6643800"/>
                      <a:ext cx="266760" cy="2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965160" y="6337440"/>
                      <a:ext cx="21744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5" name=""/>
                <p:cNvSpPr/>
                <p:nvPr/>
              </p:nvSpPr>
              <p:spPr>
                <a:xfrm>
                  <a:off x="385920" y="6006960"/>
                  <a:ext cx="653760" cy="67968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17600" y="5991120"/>
                  <a:ext cx="226800" cy="160560"/>
                  <a:chOff x="417600" y="5991120"/>
                  <a:chExt cx="226800" cy="1605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17600" y="5991120"/>
                    <a:ext cx="226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5880" y="6039000"/>
                    <a:ext cx="82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34960" y="606420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>
                <a:off x="473040" y="5703840"/>
                <a:ext cx="74520" cy="12240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5407200"/>
              <a:ext cx="1139760" cy="1047600"/>
              <a:chOff x="0" y="5407200"/>
              <a:chExt cx="1139760" cy="1047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65120" y="5407200"/>
                <a:ext cx="273240" cy="345960"/>
                <a:chOff x="465120" y="5407200"/>
                <a:chExt cx="273240" cy="345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5120" y="5418000"/>
                  <a:ext cx="273240" cy="33516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5120" y="5407200"/>
                  <a:ext cx="198360" cy="20772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625320" y="5477040"/>
                  <a:ext cx="57240" cy="42840"/>
                  <a:chOff x="625320" y="5477040"/>
                  <a:chExt cx="57240" cy="42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25320" y="5481720"/>
                    <a:ext cx="49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44400" y="5477040"/>
                    <a:ext cx="38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596880" y="5643720"/>
                <a:ext cx="542880" cy="269640"/>
                <a:chOff x="596880" y="5643720"/>
                <a:chExt cx="542880" cy="2696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911160" y="5643720"/>
                  <a:ext cx="228600" cy="168120"/>
                  <a:chOff x="911160" y="5643720"/>
                  <a:chExt cx="228600" cy="1681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911160" y="5643720"/>
                    <a:ext cx="2286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963720" y="5664240"/>
                    <a:ext cx="158760" cy="114120"/>
                    <a:chOff x="963720" y="5664240"/>
                    <a:chExt cx="158760" cy="1141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963720" y="5667480"/>
                      <a:ext cx="100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1058760" y="5703840"/>
                      <a:ext cx="604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011240" y="5718240"/>
                      <a:ext cx="1112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055520" y="566424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865080" y="5708520"/>
                  <a:ext cx="90720" cy="12708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6880" y="5740560"/>
                  <a:ext cx="318960" cy="17280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515880" y="5608800"/>
                <a:ext cx="35712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0" y="6113520"/>
                <a:ext cx="368280" cy="341280"/>
                <a:chOff x="0" y="6113520"/>
                <a:chExt cx="368280" cy="341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6360" y="6143760"/>
                  <a:ext cx="331920" cy="9180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0" y="6180120"/>
                  <a:ext cx="28116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36520" y="621828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2920" y="6113520"/>
                  <a:ext cx="119160" cy="7308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8280" y="6172200"/>
                  <a:ext cx="198720" cy="6660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263520" y="6259680"/>
                  <a:ext cx="3024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57320" y="5688000"/>
                <a:ext cx="371160" cy="603360"/>
                <a:chOff x="157320" y="5688000"/>
                <a:chExt cx="371160" cy="6033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74600" y="5688000"/>
                  <a:ext cx="353880" cy="60336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85760" y="5954760"/>
                  <a:ext cx="8712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7320" y="5975280"/>
                  <a:ext cx="153720" cy="17316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cus-Specific Hurd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8120" y="2313000"/>
            <a:ext cx="69800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c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we build it, they will come…but only for e-mail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y focu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put the personnel manual on our web pag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ing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we need is major changes in the world’s accounting structures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QM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ne dare call it knowledg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al learning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e don’t need no stinkin’ CEO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97160" y="1676520"/>
            <a:ext cx="7746840" cy="3582720"/>
            <a:chOff x="1397160" y="1676520"/>
            <a:chExt cx="7746840" cy="3582720"/>
          </a:xfrm>
        </p:grpSpPr>
        <p:sp>
          <p:nvSpPr>
            <p:cNvPr id="233" name=""/>
            <p:cNvSpPr/>
            <p:nvPr/>
          </p:nvSpPr>
          <p:spPr>
            <a:xfrm>
              <a:off x="1397160" y="167652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168444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81120" y="1822320"/>
              <a:ext cx="35712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928880" y="1833120"/>
              <a:ext cx="6589800" cy="265320"/>
              <a:chOff x="1928880" y="1833120"/>
              <a:chExt cx="6589800" cy="26532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3940200" y="1977840"/>
                <a:ext cx="21096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687920" y="195588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308560" y="1942920"/>
                <a:ext cx="21420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5897520" y="1897200"/>
                <a:ext cx="22536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512040" y="1907640"/>
                <a:ext cx="234720" cy="939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059600" y="1836720"/>
                <a:ext cx="223920" cy="1555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666200" y="188568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247240" y="1833120"/>
                <a:ext cx="271440" cy="1270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1928880" y="1908000"/>
                <a:ext cx="193680" cy="90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336760" y="1932120"/>
                <a:ext cx="195480" cy="871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151080" y="1935000"/>
                <a:ext cx="206640" cy="1224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560520" y="4187880"/>
            <a:ext cx="1182600" cy="1439640"/>
            <a:chOff x="560520" y="4187880"/>
            <a:chExt cx="1182600" cy="1439640"/>
          </a:xfrm>
        </p:grpSpPr>
        <p:grpSp>
          <p:nvGrpSpPr>
            <p:cNvPr id="249" name=""/>
            <p:cNvGrpSpPr/>
            <p:nvPr/>
          </p:nvGrpSpPr>
          <p:grpSpPr>
            <a:xfrm>
              <a:off x="946080" y="4484520"/>
              <a:ext cx="797040" cy="1143000"/>
              <a:chOff x="946080" y="4484520"/>
              <a:chExt cx="79704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988920" y="4486320"/>
                <a:ext cx="23976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946080" y="4772160"/>
                <a:ext cx="797040" cy="855360"/>
                <a:chOff x="946080" y="4772160"/>
                <a:chExt cx="797040" cy="85536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969840" y="5062680"/>
                  <a:ext cx="773280" cy="564840"/>
                  <a:chOff x="969840" y="5062680"/>
                  <a:chExt cx="773280" cy="5648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1515960" y="5062680"/>
                    <a:ext cx="100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969840" y="5118120"/>
                    <a:ext cx="773280" cy="509400"/>
                    <a:chOff x="969840" y="5118120"/>
                    <a:chExt cx="773280" cy="509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969840" y="5424480"/>
                      <a:ext cx="266760" cy="2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1525680" y="5118120"/>
                      <a:ext cx="21744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7" name=""/>
                <p:cNvSpPr/>
                <p:nvPr/>
              </p:nvSpPr>
              <p:spPr>
                <a:xfrm>
                  <a:off x="946080" y="4788000"/>
                  <a:ext cx="654120" cy="67932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977760" y="4772160"/>
                  <a:ext cx="227160" cy="160200"/>
                  <a:chOff x="977760" y="4772160"/>
                  <a:chExt cx="227160" cy="1602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977760" y="4772160"/>
                    <a:ext cx="227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076400" y="4819680"/>
                    <a:ext cx="82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095480" y="484488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2" name=""/>
              <p:cNvSpPr/>
              <p:nvPr/>
            </p:nvSpPr>
            <p:spPr>
              <a:xfrm>
                <a:off x="1033560" y="4484520"/>
                <a:ext cx="74520" cy="12240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60520" y="4187880"/>
              <a:ext cx="1139760" cy="1047600"/>
              <a:chOff x="560520" y="4187880"/>
              <a:chExt cx="1139760" cy="1047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1025640" y="4187880"/>
                <a:ext cx="272880" cy="345960"/>
                <a:chOff x="1025640" y="4187880"/>
                <a:chExt cx="272880" cy="345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025640" y="4199040"/>
                  <a:ext cx="272880" cy="33480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25640" y="4187880"/>
                  <a:ext cx="198360" cy="20808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185840" y="4257720"/>
                  <a:ext cx="57240" cy="42840"/>
                  <a:chOff x="1185840" y="4257720"/>
                  <a:chExt cx="57240" cy="428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185840" y="4262400"/>
                    <a:ext cx="49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204920" y="4257720"/>
                    <a:ext cx="38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1157400" y="4424400"/>
                <a:ext cx="542880" cy="270000"/>
                <a:chOff x="1157400" y="4424400"/>
                <a:chExt cx="542880" cy="270000"/>
              </a:xfrm>
            </p:grpSpPr>
            <p:grpSp>
              <p:nvGrpSpPr>
                <p:cNvPr id="271" name=""/>
                <p:cNvGrpSpPr/>
                <p:nvPr/>
              </p:nvGrpSpPr>
              <p:grpSpPr>
                <a:xfrm>
                  <a:off x="1471680" y="4424400"/>
                  <a:ext cx="228600" cy="168120"/>
                  <a:chOff x="1471680" y="4424400"/>
                  <a:chExt cx="228600" cy="168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471680" y="4424400"/>
                    <a:ext cx="2286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1523880" y="4444920"/>
                    <a:ext cx="158760" cy="114480"/>
                    <a:chOff x="1523880" y="4444920"/>
                    <a:chExt cx="158760" cy="114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523880" y="4448160"/>
                      <a:ext cx="10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619280" y="4484520"/>
                      <a:ext cx="60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1571760" y="4498920"/>
                      <a:ext cx="110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616040" y="444492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4489560"/>
                  <a:ext cx="90360" cy="12672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57400" y="4521240"/>
                  <a:ext cx="318960" cy="17316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076400" y="4389480"/>
                <a:ext cx="35712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60520" y="4894200"/>
                <a:ext cx="368280" cy="341280"/>
                <a:chOff x="560520" y="4894200"/>
                <a:chExt cx="368280" cy="341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96880" y="4924440"/>
                  <a:ext cx="331920" cy="9216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60520" y="4960800"/>
                  <a:ext cx="28080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7040" y="499896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440" y="4894200"/>
                  <a:ext cx="118800" cy="7308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58800" y="4952880"/>
                  <a:ext cx="198360" cy="669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823680" y="5040360"/>
                  <a:ext cx="2988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17480" y="4468680"/>
                <a:ext cx="371520" cy="603360"/>
                <a:chOff x="717480" y="4468680"/>
                <a:chExt cx="371520" cy="6033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35120" y="4468680"/>
                  <a:ext cx="353880" cy="60336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6280" y="4735440"/>
                  <a:ext cx="8712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7480" y="4756320"/>
                  <a:ext cx="154080" cy="17280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s of the Successfu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2770200"/>
            <a:ext cx="698040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n “ecological” approa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career paths for KM work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vs. perman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 mixture of learning and do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ffer by job typ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 blend of internal and external 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20840" y="2133720"/>
            <a:ext cx="7746840" cy="3582720"/>
            <a:chOff x="1320840" y="2133720"/>
            <a:chExt cx="7746840" cy="3582720"/>
          </a:xfrm>
        </p:grpSpPr>
        <p:sp>
          <p:nvSpPr>
            <p:cNvPr id="295" name=""/>
            <p:cNvSpPr/>
            <p:nvPr/>
          </p:nvSpPr>
          <p:spPr>
            <a:xfrm>
              <a:off x="1320840" y="213372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91680" y="214164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04800" y="2279520"/>
              <a:ext cx="35748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852560" y="2290320"/>
              <a:ext cx="6589800" cy="265320"/>
              <a:chOff x="1852560" y="2290320"/>
              <a:chExt cx="6589800" cy="26532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3863880" y="2435040"/>
                <a:ext cx="21132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611600" y="241308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232240" y="2400120"/>
                <a:ext cx="21456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821200" y="2354400"/>
                <a:ext cx="22572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435720" y="2364840"/>
                <a:ext cx="235080" cy="939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983280" y="2293920"/>
                <a:ext cx="223920" cy="1555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589880" y="234288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8170920" y="2290320"/>
                <a:ext cx="271440" cy="1270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1852560" y="2365200"/>
                <a:ext cx="193680" cy="90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260440" y="2389320"/>
                <a:ext cx="195480" cy="871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075120" y="2392200"/>
                <a:ext cx="206280" cy="1224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36480" y="1139760"/>
            <a:ext cx="1182960" cy="1440000"/>
            <a:chOff x="636480" y="1139760"/>
            <a:chExt cx="1182960" cy="1440000"/>
          </a:xfrm>
        </p:grpSpPr>
        <p:grpSp>
          <p:nvGrpSpPr>
            <p:cNvPr id="311" name=""/>
            <p:cNvGrpSpPr/>
            <p:nvPr/>
          </p:nvGrpSpPr>
          <p:grpSpPr>
            <a:xfrm>
              <a:off x="1022400" y="1436760"/>
              <a:ext cx="797040" cy="1143000"/>
              <a:chOff x="1022400" y="1436760"/>
              <a:chExt cx="797040" cy="114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1065240" y="1438200"/>
                <a:ext cx="23976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022400" y="1724040"/>
                <a:ext cx="797040" cy="855720"/>
                <a:chOff x="1022400" y="1724040"/>
                <a:chExt cx="797040" cy="8557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1046160" y="2014560"/>
                  <a:ext cx="773280" cy="565200"/>
                  <a:chOff x="1046160" y="2014560"/>
                  <a:chExt cx="773280" cy="5652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1592280" y="2014560"/>
                    <a:ext cx="100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1046160" y="2070000"/>
                    <a:ext cx="773280" cy="509760"/>
                    <a:chOff x="1046160" y="2070000"/>
                    <a:chExt cx="773280" cy="5097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046160" y="2376360"/>
                      <a:ext cx="26676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601640" y="2070000"/>
                      <a:ext cx="21780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9" name=""/>
                <p:cNvSpPr/>
                <p:nvPr/>
              </p:nvSpPr>
              <p:spPr>
                <a:xfrm>
                  <a:off x="1022400" y="1739880"/>
                  <a:ext cx="654120" cy="67932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054080" y="1724040"/>
                  <a:ext cx="227160" cy="160200"/>
                  <a:chOff x="1054080" y="1724040"/>
                  <a:chExt cx="227160" cy="160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1054080" y="1724040"/>
                    <a:ext cx="227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152360" y="1771560"/>
                    <a:ext cx="828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171440" y="179712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1109520" y="1436760"/>
                <a:ext cx="74880" cy="12204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36480" y="1139760"/>
              <a:ext cx="1139760" cy="1047960"/>
              <a:chOff x="636480" y="1139760"/>
              <a:chExt cx="1139760" cy="10479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101600" y="1139760"/>
                <a:ext cx="273240" cy="346320"/>
                <a:chOff x="1101600" y="1139760"/>
                <a:chExt cx="273240" cy="346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101600" y="1150920"/>
                  <a:ext cx="273240" cy="33516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01600" y="1139760"/>
                  <a:ext cx="198720" cy="20808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1262160" y="1209600"/>
                  <a:ext cx="56880" cy="42840"/>
                  <a:chOff x="1262160" y="1209600"/>
                  <a:chExt cx="56880" cy="428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1262160" y="1214280"/>
                    <a:ext cx="48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81240" y="1209600"/>
                    <a:ext cx="37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1233360" y="1376280"/>
                <a:ext cx="542880" cy="270000"/>
                <a:chOff x="1233360" y="1376280"/>
                <a:chExt cx="542880" cy="27000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1547640" y="1376280"/>
                  <a:ext cx="228600" cy="168480"/>
                  <a:chOff x="1547640" y="1376280"/>
                  <a:chExt cx="228600" cy="1684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1547640" y="1376280"/>
                    <a:ext cx="2286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1600200" y="1397160"/>
                    <a:ext cx="158760" cy="114120"/>
                    <a:chOff x="1600200" y="1397160"/>
                    <a:chExt cx="158760" cy="1141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600200" y="1400040"/>
                      <a:ext cx="10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695600" y="1436760"/>
                      <a:ext cx="60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647720" y="1450800"/>
                      <a:ext cx="11124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692360" y="139716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0" name=""/>
                <p:cNvSpPr/>
                <p:nvPr/>
              </p:nvSpPr>
              <p:spPr>
                <a:xfrm>
                  <a:off x="1501920" y="1441440"/>
                  <a:ext cx="90360" cy="12708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233360" y="1473120"/>
                  <a:ext cx="319320" cy="17316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1152360" y="1341360"/>
                <a:ext cx="357480" cy="27324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636480" y="1846440"/>
                <a:ext cx="368280" cy="341280"/>
                <a:chOff x="636480" y="1846440"/>
                <a:chExt cx="368280" cy="341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73200" y="1876320"/>
                  <a:ext cx="331560" cy="9216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36480" y="1913040"/>
                  <a:ext cx="28116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73000" y="195120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79400" y="1846440"/>
                  <a:ext cx="119160" cy="7272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35120" y="1905120"/>
                  <a:ext cx="198360" cy="6660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900000" y="1992240"/>
                  <a:ext cx="3024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93800" y="1420920"/>
                <a:ext cx="371520" cy="603000"/>
                <a:chOff x="793800" y="1420920"/>
                <a:chExt cx="371520" cy="6030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11080" y="1420920"/>
                  <a:ext cx="354240" cy="60300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2240" y="1687680"/>
                  <a:ext cx="8748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800" y="1708200"/>
                  <a:ext cx="154080" cy="17316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tay’s the Th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easy to get started with knowledge management, but (probably) difficult to susta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jects start small and avoid overly high expectations, but have little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project is just the beginning of what should be a long-term, comprehensive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various ways to begin managing knowledge, and they have their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mportant to take advantage of existing change approaches and avoid pitf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M Doesn’t Stand Al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ld doesn’t need another “new”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 should build on existing change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change approaches should incorporate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approach to KM: solve a business problem (e.g., customer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: evolve from an existing change anc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in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57320" y="227952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9600" y="225756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0840" y="2279520"/>
            <a:ext cx="64958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echnology to support knowledge in addition to data and in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7320" y="311796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Involv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9600" y="309564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57320" y="395604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Ty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9600" y="3933720"/>
            <a:ext cx="6724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87600" y="4108320"/>
            <a:ext cx="65674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, discussions, expert biograph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57320" y="479412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Proc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7320" y="563256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477216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4946760"/>
            <a:ext cx="657684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ture, distrib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9600" y="561024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70320" y="5784840"/>
            <a:ext cx="62625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, Sequent, Silicon Graph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9040" y="3270240"/>
            <a:ext cx="65674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/IT, Webmaster, etc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porate Libraries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11200" y="238284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1200" y="322092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Involv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1200" y="405936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Ty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1200" y="489744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Proc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11200" y="573552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28600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7680" y="2308320"/>
            <a:ext cx="61862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greater access to structured knowledge collec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124080"/>
            <a:ext cx="6400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1360" y="3314880"/>
            <a:ext cx="37148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ans of various typ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396252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962520"/>
            <a:ext cx="42051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, external databa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80060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4800600"/>
            <a:ext cx="51814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definition, categorization, and distrib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638680"/>
            <a:ext cx="6400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81360" y="5813280"/>
            <a:ext cx="386712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d Met, Owens-Co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Learning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1600" y="2171880"/>
            <a:ext cx="7732800" cy="4190760"/>
            <a:chOff x="1371600" y="2171880"/>
            <a:chExt cx="7732800" cy="4190760"/>
          </a:xfrm>
        </p:grpSpPr>
        <p:sp>
          <p:nvSpPr>
            <p:cNvPr id="82" name=""/>
            <p:cNvSpPr/>
            <p:nvPr/>
          </p:nvSpPr>
          <p:spPr>
            <a:xfrm>
              <a:off x="1371600" y="2192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3030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38685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47070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55450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3600" y="21718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7720" y="21938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rove education and learning processes and change organizational cultur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03600" y="3009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1040" y="3200400"/>
              <a:ext cx="256536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uman Resour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03600" y="3848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4840" y="4022640"/>
              <a:ext cx="41857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ricula, archetypes, system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3600" y="4686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39240" y="4937040"/>
              <a:ext cx="32878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quisition, applic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03600" y="5524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1040" y="5699160"/>
              <a:ext cx="35636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, Ford, Analog Devi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Research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2360520"/>
            <a:ext cx="7732800" cy="4191120"/>
            <a:chOff x="1371600" y="2360520"/>
            <a:chExt cx="7732800" cy="4191120"/>
          </a:xfrm>
        </p:grpSpPr>
        <p:sp>
          <p:nvSpPr>
            <p:cNvPr id="99" name=""/>
            <p:cNvSpPr/>
            <p:nvPr/>
          </p:nvSpPr>
          <p:spPr>
            <a:xfrm>
              <a:off x="1371600" y="24573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295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4133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971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5810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3600" y="236052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17720" y="23828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velop brands, hear the voice of the market, make better use of market knowledg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3600" y="3198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9240" y="3389400"/>
              <a:ext cx="44978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ing, product develop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3600" y="403704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6280" y="4211640"/>
              <a:ext cx="37436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, product, pric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03600" y="487512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0680" y="5126040"/>
              <a:ext cx="19134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ion, us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3600" y="5713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38160" y="5888160"/>
              <a:ext cx="34920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ter &amp; Gamble, Kraf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&amp;D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1866960"/>
            <a:ext cx="7732800" cy="4191120"/>
            <a:chOff x="1371600" y="1866960"/>
            <a:chExt cx="7732800" cy="4191120"/>
          </a:xfrm>
        </p:grpSpPr>
        <p:sp>
          <p:nvSpPr>
            <p:cNvPr id="116" name=""/>
            <p:cNvSpPr/>
            <p:nvPr/>
          </p:nvSpPr>
          <p:spPr>
            <a:xfrm>
              <a:off x="1371600" y="1963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801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639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4478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5316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3600" y="1866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7720" y="188928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e better knowledge in the first place and harvest it more effectivel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3600" y="2705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1760" y="2895480"/>
              <a:ext cx="17593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&amp;D, Leg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3600" y="3543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5560" y="3718080"/>
              <a:ext cx="45482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ents, licenses, NPD document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03600" y="4381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0320" y="4632480"/>
              <a:ext cx="29480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ion, applic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03600" y="52196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1400" y="5394240"/>
              <a:ext cx="30884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w, IBM, W.L. Gor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QM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71600" y="1866960"/>
            <a:ext cx="7732800" cy="4343040"/>
            <a:chOff x="1371600" y="1866960"/>
            <a:chExt cx="7732800" cy="4343040"/>
          </a:xfrm>
        </p:grpSpPr>
        <p:sp>
          <p:nvSpPr>
            <p:cNvPr id="133" name=""/>
            <p:cNvSpPr/>
            <p:nvPr/>
          </p:nvSpPr>
          <p:spPr>
            <a:xfrm>
              <a:off x="5664960" y="6008760"/>
              <a:ext cx="7002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ILE NAME</a:t>
              </a:r>
              <a:endParaRPr b="0" lang="en-US" sz="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1600" y="1963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2801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3639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4478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1600" y="5316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3600" y="1866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7720" y="188928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are knowledge of improved or innovative processes within an organiz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3600" y="2705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9960" y="2895480"/>
              <a:ext cx="29466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QM, Reenginee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3600" y="3543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4120" y="3718080"/>
              <a:ext cx="31111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st practices, metric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3600" y="4381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0320" y="4632480"/>
              <a:ext cx="17791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3600" y="52196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1040" y="5394240"/>
              <a:ext cx="30304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iticorp, TI, Chevr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43:54Z</dcterms:created>
  <dc:creator>Brett R. Bunch</dc:creator>
  <dc:description/>
  <dc:language>en-US</dc:language>
  <cp:lastModifiedBy>Tom &amp; Jodi Davenport</cp:lastModifiedBy>
  <cp:lastPrinted>1997-10-30T15:05:20Z</cp:lastPrinted>
  <dcterms:modified xsi:type="dcterms:W3CDTF">1998-05-05T12:58:04Z</dcterms:modified>
  <cp:revision>28</cp:revision>
  <dc:subject/>
  <dc:title>Managing Knowledge</dc:title>
</cp:coreProperties>
</file>