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F3BC-624E-4AF6-9F1B-DC806B246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2858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FDA4-83EC-4B91-81D0-4A678981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20570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2858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0760" y="42858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46D4-93EF-4B99-9C9E-E79692CB4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080" y="20570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3720" y="20570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2858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080" y="42858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3720" y="42858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9BA5-A076-4A93-AAAA-07C271271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6E77-45B1-4074-9441-5D2F9574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F0FB-C775-4E33-BC6D-34BC5094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0760" y="20570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B521-085F-465B-B658-CDE3CD84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A4C3-3078-45F6-B8C8-51131B74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440" y="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791E-B5A2-4148-B571-18D6A5AC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0760" y="20570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2858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9DE9-7D85-4C95-912C-20F92106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20570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0760" y="42858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2BF5-84C3-4F57-9C02-B6080C88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20570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2858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5C9D-71E7-4DA9-B9C9-9836DE8A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28CD-2711-4462-A3B9-F11EECA8B5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8380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196200" y="46080"/>
            <a:ext cx="875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6508-0FE4-4286-8206-473085C2F64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nowledge Work and Knowledge Managem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m Daven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versity of Texas at Aus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ormation and Knowledge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ch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Least of These Is…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3657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it takes is money and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lready have much of it any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vendors are solving the problem fo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this off ‘til la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1523880"/>
            <a:ext cx="2362320" cy="2133720"/>
          </a:xfrm>
          <a:prstGeom prst="ellipse">
            <a:avLst/>
          </a:prstGeom>
          <a:solidFill>
            <a:srgbClr val="66ff66"/>
          </a:solidFill>
          <a:ln w="5724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32840" y="2362320"/>
            <a:ext cx="179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!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nowledge Management Technology Environme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5791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ple technologies for multiple purp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I lives! (for specific narrow domai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 for information access,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es for discussion and 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ural nets for data into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cument management for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rastructure a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dicated data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on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ktop and communications 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289480" y="1854360"/>
          <a:ext cx="3618000" cy="40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9480" y="1854360"/>
                    <a:ext cx="3618000" cy="40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nowledge Technology Dilemma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124080" y="1981080"/>
            <a:ext cx="60199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 me now or structure me la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ilitate the work of experts or novi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cus on tacit or explicit knowledg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t energy into technology or into people facilitating technology (e.g., data mining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 the knowledge or point to peop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977760"/>
            <a:ext cx="324972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1676520"/>
            <a:ext cx="8001000" cy="4876560"/>
          </a:xfrm>
          <a:prstGeom prst="ellipse">
            <a:avLst/>
          </a:prstGeom>
          <a:solidFill>
            <a:srgbClr val="ff99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2438280"/>
            <a:ext cx="6248520" cy="31244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3124080"/>
            <a:ext cx="2666880" cy="1371600"/>
          </a:xfrm>
          <a:prstGeom prst="ellipse">
            <a:avLst/>
          </a:prstGeom>
          <a:solidFill>
            <a:srgbClr val="66ff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M’s Really More Complex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3352680"/>
            <a:ext cx="1746000" cy="74952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1760" y="3505320"/>
            <a:ext cx="1692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4724280"/>
            <a:ext cx="1746360" cy="74952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89680" y="487692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5880" y="3429000"/>
            <a:ext cx="1746360" cy="74916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99360" y="3581280"/>
            <a:ext cx="1168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3960" y="251460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3733920"/>
            <a:ext cx="1746360" cy="74916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3886200"/>
            <a:ext cx="1639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16960" y="32004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9200" y="19051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62720" y="5410080"/>
            <a:ext cx="1746000" cy="74952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4760" y="5486400"/>
            <a:ext cx="11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ric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5638680"/>
            <a:ext cx="1746000" cy="74952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61800" y="5791320"/>
            <a:ext cx="1422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gment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5334120"/>
            <a:ext cx="1746000" cy="74916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4880" y="5486400"/>
            <a:ext cx="1559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naging Knowledge Cont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lentlessly adding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xt, Comparison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quences, Concis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ucturing f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derstanding, flex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xonom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ole of thesau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chitecting for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 vs. M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865760" y="2273400"/>
            <a:ext cx="4201920" cy="33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670572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Big Picture: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Knowledge Strateg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320" y="1828800"/>
            <a:ext cx="63244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knowledge content really matters to us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does our knowledge environment need improvement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do we make money on our knowledge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ould we make, buy or sell    our knowledge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do we measure progress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248520" y="2449440"/>
            <a:ext cx="2895480" cy="23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nowledge Re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l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40M/yr. at Dow in patent and license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 months faster to NDA at Ro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ubled customer face time at Genentech, Astra-Mer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% higher sales for new sales reps after 6 months at Sequ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ufacturing/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days less downtime per incident at BP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ster production curves at National Semico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mer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% reduction in dispatches at Rank Xer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% reduction in cost/call at HP in two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ne Lin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28600" y="1581120"/>
          <a:ext cx="8888400" cy="47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81120"/>
                    <a:ext cx="8888400" cy="47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666880" y="4114440"/>
            <a:ext cx="472464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ucture vs.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ople vs.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ng term vs. sh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ss vs. her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8120" y="1828800"/>
            <a:ext cx="2361960" cy="2133720"/>
          </a:xfrm>
          <a:prstGeom prst="ellipse">
            <a:avLst/>
          </a:prstGeom>
          <a:solidFill>
            <a:srgbClr val="66ff66"/>
          </a:solidFill>
          <a:ln w="5724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Now Abideth…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3200400"/>
            <a:ext cx="2361960" cy="2133720"/>
          </a:xfrm>
          <a:prstGeom prst="ellipse">
            <a:avLst/>
          </a:prstGeom>
          <a:solidFill>
            <a:srgbClr val="66ffff"/>
          </a:solidFill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3200400"/>
            <a:ext cx="2279520" cy="2133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1960" y="2590920"/>
            <a:ext cx="1692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1760" y="40384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99160" y="4038480"/>
            <a:ext cx="1168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t the greatest of these is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 organizational structure, culture, networks, roles and responsibiliti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ng knowledge and learning from it are highly volitional and largely invi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ft stuff is always the hard stu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1523880"/>
            <a:ext cx="2279520" cy="2133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13000" y="2362320"/>
            <a:ext cx="1151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ople!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nowledge Works through Network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A Communities of Practice, Interest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exist before (or at least simultaneously with)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financial community” that wasn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meet socially and FtF on occa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rength of weak ties (for searc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strong ties needed for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48560" y="1143000"/>
            <a:ext cx="1495440" cy="2130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4727520"/>
            <a:ext cx="1495440" cy="2130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762120"/>
            <a:ext cx="1495440" cy="2130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7648560" y="4727520"/>
            <a:ext cx="1495440" cy="2130480"/>
          </a:xfrm>
          <a:prstGeom prst="rect">
            <a:avLst/>
          </a:prstGeom>
          <a:ln w="0">
            <a:noFill/>
          </a:ln>
        </p:spPr>
      </p:pic>
      <p:cxnSp>
        <p:nvCxnSpPr>
          <p:cNvPr id="61" name=""/>
          <p:cNvCxnSpPr>
            <a:stCxn id="59" idx="3"/>
            <a:endCxn id="57" idx="1"/>
          </p:cNvCxnSpPr>
          <p:nvPr/>
        </p:nvCxnSpPr>
        <p:spPr>
          <a:xfrm>
            <a:off x="1495440" y="1827360"/>
            <a:ext cx="6153840" cy="381600"/>
          </a:xfrm>
          <a:prstGeom prst="straightConnector1">
            <a:avLst/>
          </a:prstGeom>
          <a:ln w="12600">
            <a:solidFill>
              <a:srgbClr val="3365fb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62" name=""/>
          <p:cNvCxnSpPr>
            <a:stCxn id="59" idx="2"/>
            <a:endCxn id="58" idx="0"/>
          </p:cNvCxnSpPr>
          <p:nvPr/>
        </p:nvCxnSpPr>
        <p:spPr>
          <a:xfrm>
            <a:off x="747360" y="2892240"/>
            <a:ext cx="1080" cy="1835640"/>
          </a:xfrm>
          <a:prstGeom prst="straightConnector1">
            <a:avLst/>
          </a:prstGeom>
          <a:ln w="12600">
            <a:solidFill>
              <a:srgbClr val="3365fb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63" name=""/>
          <p:cNvCxnSpPr>
            <a:stCxn id="58" idx="3"/>
            <a:endCxn id="60" idx="1"/>
          </p:cNvCxnSpPr>
          <p:nvPr/>
        </p:nvCxnSpPr>
        <p:spPr>
          <a:xfrm>
            <a:off x="1495440" y="5792400"/>
            <a:ext cx="6153840" cy="1080"/>
          </a:xfrm>
          <a:prstGeom prst="straightConnector1">
            <a:avLst/>
          </a:prstGeom>
          <a:ln w="12600">
            <a:solidFill>
              <a:srgbClr val="3365fb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64" name=""/>
          <p:cNvCxnSpPr>
            <a:stCxn id="57" idx="2"/>
            <a:endCxn id="60" idx="0"/>
          </p:cNvCxnSpPr>
          <p:nvPr/>
        </p:nvCxnSpPr>
        <p:spPr>
          <a:xfrm>
            <a:off x="8395920" y="3273120"/>
            <a:ext cx="1080" cy="1454760"/>
          </a:xfrm>
          <a:prstGeom prst="straightConnector1">
            <a:avLst/>
          </a:prstGeom>
          <a:ln w="12600">
            <a:solidFill>
              <a:srgbClr val="3365fb"/>
            </a:solidFill>
            <a:miter/>
            <a:headEnd len="sm" type="triangle" w="sm"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Roles of Peopl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5280" y="23619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nowledge lea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KO vs. C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nowledge initiative mana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nowledge foot sold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twork facilit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orters and ed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st importantly, everybody e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much division of knowledge lab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832280" y="984240"/>
          <a:ext cx="403884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32280" y="984240"/>
                    <a:ext cx="40388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0520" y="1903320"/>
            <a:ext cx="62485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ormation cultures oriented to creating and sharing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hortation vs.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aluation and incentive structures that reward knowledge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latively democratic knowledge poli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nowledge-Oriented Culture and Organiz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875120" y="3890880"/>
          <a:ext cx="4267440" cy="27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5120" y="3890880"/>
                    <a:ext cx="4267440" cy="27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the 2nd Greatest is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38098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ledge work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ing, R&amp;D, customer service, consulting, managing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ledge management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, capture, refine, distribute, use, mon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1280" y="1523880"/>
            <a:ext cx="2362320" cy="2133720"/>
          </a:xfrm>
          <a:prstGeom prst="ellipse">
            <a:avLst/>
          </a:prstGeom>
          <a:solidFill>
            <a:srgbClr val="66ffff"/>
          </a:solidFill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89680" y="2362320"/>
            <a:ext cx="1270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!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roving Knowledge Work Process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205704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call it reengineering, but don’t leave it al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rocess orientation is OK, but also expl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and with whom peopl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ing the unit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knowledge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486400" y="2819520"/>
          <a:ext cx="36576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819520"/>
                    <a:ext cx="36576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28800" y="5226120"/>
            <a:ext cx="1095480" cy="1631880"/>
          </a:xfrm>
          <a:custGeom>
            <a:avLst/>
            <a:gdLst/>
            <a:ahLst/>
            <a:rect l="l" t="t" r="r" b="b"/>
            <a:pathLst>
              <a:path w="1458" h="1425">
                <a:moveTo>
                  <a:pt x="925" y="336"/>
                </a:moveTo>
                <a:lnTo>
                  <a:pt x="0" y="336"/>
                </a:lnTo>
                <a:lnTo>
                  <a:pt x="0" y="1089"/>
                </a:lnTo>
                <a:lnTo>
                  <a:pt x="953" y="1089"/>
                </a:lnTo>
                <a:lnTo>
                  <a:pt x="953" y="1424"/>
                </a:lnTo>
                <a:lnTo>
                  <a:pt x="1457" y="727"/>
                </a:lnTo>
                <a:lnTo>
                  <a:pt x="925" y="0"/>
                </a:lnTo>
                <a:lnTo>
                  <a:pt x="925" y="33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nking Knowledge Process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7400" y="5759280"/>
            <a:ext cx="84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reat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048520" y="1563840"/>
            <a:ext cx="1095480" cy="1576080"/>
          </a:xfrm>
          <a:custGeom>
            <a:avLst/>
            <a:gdLst/>
            <a:ahLst/>
            <a:rect l="l" t="t" r="r" b="b"/>
            <a:pathLst>
              <a:path w="1458" h="1425">
                <a:moveTo>
                  <a:pt x="925" y="336"/>
                </a:moveTo>
                <a:lnTo>
                  <a:pt x="0" y="336"/>
                </a:lnTo>
                <a:lnTo>
                  <a:pt x="0" y="1089"/>
                </a:lnTo>
                <a:lnTo>
                  <a:pt x="953" y="1089"/>
                </a:lnTo>
                <a:lnTo>
                  <a:pt x="953" y="1424"/>
                </a:lnTo>
                <a:lnTo>
                  <a:pt x="1457" y="727"/>
                </a:lnTo>
                <a:lnTo>
                  <a:pt x="925" y="0"/>
                </a:lnTo>
                <a:lnTo>
                  <a:pt x="925" y="336"/>
                </a:lnTo>
              </a:path>
            </a:pathLst>
          </a:custGeom>
          <a:solidFill>
            <a:srgbClr val="ff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96080" y="1523880"/>
            <a:ext cx="1095480" cy="1632240"/>
          </a:xfrm>
          <a:custGeom>
            <a:avLst/>
            <a:gdLst/>
            <a:ahLst/>
            <a:rect l="l" t="t" r="r" b="b"/>
            <a:pathLst>
              <a:path w="1458" h="1425">
                <a:moveTo>
                  <a:pt x="925" y="336"/>
                </a:moveTo>
                <a:lnTo>
                  <a:pt x="0" y="336"/>
                </a:lnTo>
                <a:lnTo>
                  <a:pt x="0" y="1089"/>
                </a:lnTo>
                <a:lnTo>
                  <a:pt x="953" y="1089"/>
                </a:lnTo>
                <a:lnTo>
                  <a:pt x="953" y="1424"/>
                </a:lnTo>
                <a:lnTo>
                  <a:pt x="1457" y="727"/>
                </a:lnTo>
                <a:lnTo>
                  <a:pt x="925" y="0"/>
                </a:lnTo>
                <a:lnTo>
                  <a:pt x="925" y="33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00800" y="1523880"/>
            <a:ext cx="1095120" cy="1632240"/>
          </a:xfrm>
          <a:custGeom>
            <a:avLst/>
            <a:gdLst/>
            <a:ahLst/>
            <a:rect l="l" t="t" r="r" b="b"/>
            <a:pathLst>
              <a:path w="1458" h="1425">
                <a:moveTo>
                  <a:pt x="925" y="336"/>
                </a:moveTo>
                <a:lnTo>
                  <a:pt x="0" y="336"/>
                </a:lnTo>
                <a:lnTo>
                  <a:pt x="0" y="1089"/>
                </a:lnTo>
                <a:lnTo>
                  <a:pt x="953" y="1089"/>
                </a:lnTo>
                <a:lnTo>
                  <a:pt x="953" y="1424"/>
                </a:lnTo>
                <a:lnTo>
                  <a:pt x="1457" y="727"/>
                </a:lnTo>
                <a:lnTo>
                  <a:pt x="925" y="0"/>
                </a:lnTo>
                <a:lnTo>
                  <a:pt x="925" y="336"/>
                </a:lnTo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81480" y="1503360"/>
            <a:ext cx="1095480" cy="1631880"/>
          </a:xfrm>
          <a:custGeom>
            <a:avLst/>
            <a:gdLst/>
            <a:ahLst/>
            <a:rect l="l" t="t" r="r" b="b"/>
            <a:pathLst>
              <a:path w="1458" h="1425">
                <a:moveTo>
                  <a:pt x="925" y="336"/>
                </a:moveTo>
                <a:lnTo>
                  <a:pt x="0" y="336"/>
                </a:lnTo>
                <a:lnTo>
                  <a:pt x="0" y="1089"/>
                </a:lnTo>
                <a:lnTo>
                  <a:pt x="953" y="1089"/>
                </a:lnTo>
                <a:lnTo>
                  <a:pt x="953" y="1424"/>
                </a:lnTo>
                <a:lnTo>
                  <a:pt x="1457" y="727"/>
                </a:lnTo>
                <a:lnTo>
                  <a:pt x="925" y="0"/>
                </a:lnTo>
                <a:lnTo>
                  <a:pt x="925" y="336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62160" y="1523880"/>
            <a:ext cx="1095480" cy="1632240"/>
          </a:xfrm>
          <a:custGeom>
            <a:avLst/>
            <a:gdLst/>
            <a:ahLst/>
            <a:rect l="l" t="t" r="r" b="b"/>
            <a:pathLst>
              <a:path w="1458" h="1425">
                <a:moveTo>
                  <a:pt x="925" y="336"/>
                </a:moveTo>
                <a:lnTo>
                  <a:pt x="0" y="336"/>
                </a:lnTo>
                <a:lnTo>
                  <a:pt x="0" y="1089"/>
                </a:lnTo>
                <a:lnTo>
                  <a:pt x="953" y="1089"/>
                </a:lnTo>
                <a:lnTo>
                  <a:pt x="953" y="1424"/>
                </a:lnTo>
                <a:lnTo>
                  <a:pt x="1457" y="727"/>
                </a:lnTo>
                <a:lnTo>
                  <a:pt x="925" y="0"/>
                </a:lnTo>
                <a:lnTo>
                  <a:pt x="925" y="336"/>
                </a:lnTo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19360" y="1523880"/>
            <a:ext cx="1095120" cy="1632240"/>
          </a:xfrm>
          <a:custGeom>
            <a:avLst/>
            <a:gdLst/>
            <a:ahLst/>
            <a:rect l="l" t="t" r="r" b="b"/>
            <a:pathLst>
              <a:path w="1458" h="1425">
                <a:moveTo>
                  <a:pt x="925" y="336"/>
                </a:moveTo>
                <a:lnTo>
                  <a:pt x="0" y="336"/>
                </a:lnTo>
                <a:lnTo>
                  <a:pt x="0" y="1089"/>
                </a:lnTo>
                <a:lnTo>
                  <a:pt x="953" y="1089"/>
                </a:lnTo>
                <a:lnTo>
                  <a:pt x="953" y="1424"/>
                </a:lnTo>
                <a:lnTo>
                  <a:pt x="1457" y="727"/>
                </a:lnTo>
                <a:lnTo>
                  <a:pt x="925" y="0"/>
                </a:lnTo>
                <a:lnTo>
                  <a:pt x="925" y="33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51760" y="2173320"/>
            <a:ext cx="84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3720" y="2173320"/>
            <a:ext cx="75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66360" y="2173320"/>
            <a:ext cx="97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ropos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61280" y="2173320"/>
            <a:ext cx="89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liver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360" y="2173320"/>
            <a:ext cx="8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ses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76600" y="2173320"/>
            <a:ext cx="80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lat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380880" y="1752480"/>
            <a:ext cx="205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e.g.) The Consulting Proces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762120" y="5410080"/>
            <a:ext cx="26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nowledge Management Proces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429000"/>
            <a:ext cx="533520" cy="685800"/>
          </a:xfrm>
          <a:prstGeom prst="upDownArrow">
            <a:avLst>
              <a:gd name="adj1" fmla="val 50000"/>
              <a:gd name="adj2" fmla="val 25589"/>
            </a:avLst>
          </a:prstGeom>
          <a:solidFill>
            <a:srgbClr val="ff99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610480" y="3429000"/>
            <a:ext cx="533520" cy="685800"/>
          </a:xfrm>
          <a:prstGeom prst="upDownArrow">
            <a:avLst>
              <a:gd name="adj1" fmla="val 50000"/>
              <a:gd name="adj2" fmla="val 25589"/>
            </a:avLst>
          </a:prstGeom>
          <a:solidFill>
            <a:srgbClr val="ff99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048520" y="5189400"/>
            <a:ext cx="1095480" cy="1576440"/>
          </a:xfrm>
          <a:custGeom>
            <a:avLst/>
            <a:gdLst/>
            <a:ahLst/>
            <a:rect l="l" t="t" r="r" b="b"/>
            <a:pathLst>
              <a:path w="1458" h="1425">
                <a:moveTo>
                  <a:pt x="925" y="336"/>
                </a:moveTo>
                <a:lnTo>
                  <a:pt x="0" y="336"/>
                </a:lnTo>
                <a:lnTo>
                  <a:pt x="0" y="1089"/>
                </a:lnTo>
                <a:lnTo>
                  <a:pt x="953" y="1089"/>
                </a:lnTo>
                <a:lnTo>
                  <a:pt x="953" y="1424"/>
                </a:lnTo>
                <a:lnTo>
                  <a:pt x="1457" y="727"/>
                </a:lnTo>
                <a:lnTo>
                  <a:pt x="925" y="0"/>
                </a:lnTo>
                <a:lnTo>
                  <a:pt x="925" y="336"/>
                </a:lnTo>
              </a:path>
            </a:pathLst>
          </a:custGeom>
          <a:solidFill>
            <a:srgbClr val="ff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96080" y="5149800"/>
            <a:ext cx="1095480" cy="1631880"/>
          </a:xfrm>
          <a:custGeom>
            <a:avLst/>
            <a:gdLst/>
            <a:ahLst/>
            <a:rect l="l" t="t" r="r" b="b"/>
            <a:pathLst>
              <a:path w="1458" h="1425">
                <a:moveTo>
                  <a:pt x="925" y="336"/>
                </a:moveTo>
                <a:lnTo>
                  <a:pt x="0" y="336"/>
                </a:lnTo>
                <a:lnTo>
                  <a:pt x="0" y="1089"/>
                </a:lnTo>
                <a:lnTo>
                  <a:pt x="953" y="1089"/>
                </a:lnTo>
                <a:lnTo>
                  <a:pt x="953" y="1424"/>
                </a:lnTo>
                <a:lnTo>
                  <a:pt x="1457" y="727"/>
                </a:lnTo>
                <a:lnTo>
                  <a:pt x="925" y="0"/>
                </a:lnTo>
                <a:lnTo>
                  <a:pt x="925" y="33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00800" y="5149800"/>
            <a:ext cx="1095120" cy="1631880"/>
          </a:xfrm>
          <a:custGeom>
            <a:avLst/>
            <a:gdLst/>
            <a:ahLst/>
            <a:rect l="l" t="t" r="r" b="b"/>
            <a:pathLst>
              <a:path w="1458" h="1425">
                <a:moveTo>
                  <a:pt x="925" y="336"/>
                </a:moveTo>
                <a:lnTo>
                  <a:pt x="0" y="336"/>
                </a:lnTo>
                <a:lnTo>
                  <a:pt x="0" y="1089"/>
                </a:lnTo>
                <a:lnTo>
                  <a:pt x="953" y="1089"/>
                </a:lnTo>
                <a:lnTo>
                  <a:pt x="953" y="1424"/>
                </a:lnTo>
                <a:lnTo>
                  <a:pt x="1457" y="727"/>
                </a:lnTo>
                <a:lnTo>
                  <a:pt x="925" y="0"/>
                </a:lnTo>
                <a:lnTo>
                  <a:pt x="925" y="336"/>
                </a:lnTo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81480" y="5129280"/>
            <a:ext cx="1095480" cy="1631880"/>
          </a:xfrm>
          <a:custGeom>
            <a:avLst/>
            <a:gdLst/>
            <a:ahLst/>
            <a:rect l="l" t="t" r="r" b="b"/>
            <a:pathLst>
              <a:path w="1458" h="1425">
                <a:moveTo>
                  <a:pt x="925" y="336"/>
                </a:moveTo>
                <a:lnTo>
                  <a:pt x="0" y="336"/>
                </a:lnTo>
                <a:lnTo>
                  <a:pt x="0" y="1089"/>
                </a:lnTo>
                <a:lnTo>
                  <a:pt x="953" y="1089"/>
                </a:lnTo>
                <a:lnTo>
                  <a:pt x="953" y="1424"/>
                </a:lnTo>
                <a:lnTo>
                  <a:pt x="1457" y="727"/>
                </a:lnTo>
                <a:lnTo>
                  <a:pt x="925" y="0"/>
                </a:lnTo>
                <a:lnTo>
                  <a:pt x="925" y="336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2160" y="5149800"/>
            <a:ext cx="1095480" cy="1631880"/>
          </a:xfrm>
          <a:custGeom>
            <a:avLst/>
            <a:gdLst/>
            <a:ahLst/>
            <a:rect l="l" t="t" r="r" b="b"/>
            <a:pathLst>
              <a:path w="1458" h="1425">
                <a:moveTo>
                  <a:pt x="925" y="336"/>
                </a:moveTo>
                <a:lnTo>
                  <a:pt x="0" y="336"/>
                </a:lnTo>
                <a:lnTo>
                  <a:pt x="0" y="1089"/>
                </a:lnTo>
                <a:lnTo>
                  <a:pt x="953" y="1089"/>
                </a:lnTo>
                <a:lnTo>
                  <a:pt x="953" y="1424"/>
                </a:lnTo>
                <a:lnTo>
                  <a:pt x="1457" y="727"/>
                </a:lnTo>
                <a:lnTo>
                  <a:pt x="925" y="0"/>
                </a:lnTo>
                <a:lnTo>
                  <a:pt x="925" y="336"/>
                </a:lnTo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7760" y="5607000"/>
            <a:ext cx="1061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pture/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tor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2680" y="5759280"/>
            <a:ext cx="820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efin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86040" y="5607000"/>
            <a:ext cx="947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trib-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t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34320" y="5759280"/>
            <a:ext cx="5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46080" y="5759280"/>
            <a:ext cx="99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4400" y="5835600"/>
            <a:ext cx="84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reat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9520" y="3200400"/>
            <a:ext cx="449604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lots and prot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desig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2520" y="3505320"/>
            <a:ext cx="261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Linki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Mechanism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09T20:43:54Z</dcterms:created>
  <dc:creator>Brett R. Bunch</dc:creator>
  <dc:description/>
  <dc:language>en-US</dc:language>
  <cp:lastModifiedBy>Tom &amp; Jodi Davenport</cp:lastModifiedBy>
  <cp:lastPrinted>1997-09-09T02:30:42Z</cp:lastPrinted>
  <dcterms:modified xsi:type="dcterms:W3CDTF">1998-03-11T03:08:58Z</dcterms:modified>
  <cp:revision>24</cp:revision>
  <dc:subject/>
  <dc:title>Managing Knowledge</dc:title>
</cp:coreProperties>
</file>