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B5F9AF-FBC4-4B00-BAE7-8AAA690FB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5520" y="312840"/>
            <a:ext cx="846720" cy="6544080"/>
            <a:chOff x="155520" y="312840"/>
            <a:chExt cx="846720" cy="6544080"/>
          </a:xfrm>
        </p:grpSpPr>
        <p:sp>
          <p:nvSpPr>
            <p:cNvPr id="1" name=""/>
            <p:cNvSpPr/>
            <p:nvPr/>
          </p:nvSpPr>
          <p:spPr>
            <a:xfrm>
              <a:off x="157320" y="31399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7320" y="40831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5520" y="50245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5520" y="5970600"/>
              <a:ext cx="844920" cy="886320"/>
            </a:xfrm>
            <a:custGeom>
              <a:avLst/>
              <a:gdLst/>
              <a:ahLst/>
              <a:rect l="0" t="0" r="r" b="b"/>
              <a:pathLst>
                <a:path w="2347" h="2462">
                  <a:moveTo>
                    <a:pt x="2347" y="0"/>
                  </a:moveTo>
                  <a:lnTo>
                    <a:pt x="2347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7320" y="31284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5520" y="124920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5520" y="219564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400" cy="6858360"/>
            <a:chOff x="150840" y="0"/>
            <a:chExt cx="851400" cy="6858360"/>
          </a:xfrm>
        </p:grpSpPr>
        <p:sp>
          <p:nvSpPr>
            <p:cNvPr id="15" name=""/>
            <p:cNvSpPr/>
            <p:nvPr/>
          </p:nvSpPr>
          <p:spPr>
            <a:xfrm>
              <a:off x="157320" y="36115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5520" y="455616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5520" y="549756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5520" y="78264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5520" y="172260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5520" y="266868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d74a4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d74a4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55520" y="312840"/>
            <a:ext cx="846720" cy="6544080"/>
            <a:chOff x="155520" y="312840"/>
            <a:chExt cx="846720" cy="6544080"/>
          </a:xfrm>
        </p:grpSpPr>
        <p:sp>
          <p:nvSpPr>
            <p:cNvPr id="301" name=""/>
            <p:cNvSpPr/>
            <p:nvPr/>
          </p:nvSpPr>
          <p:spPr>
            <a:xfrm>
              <a:off x="157320" y="31399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7320" y="40831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5520" y="50245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5520" y="5970600"/>
              <a:ext cx="844920" cy="886320"/>
            </a:xfrm>
            <a:custGeom>
              <a:avLst/>
              <a:gdLst/>
              <a:ahLst/>
              <a:rect l="0" t="0" r="r" b="b"/>
              <a:pathLst>
                <a:path w="2347" h="2462">
                  <a:moveTo>
                    <a:pt x="2347" y="0"/>
                  </a:moveTo>
                  <a:lnTo>
                    <a:pt x="2347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7320" y="31284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5520" y="124920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5520" y="219564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50840" y="0"/>
            <a:ext cx="851400" cy="6858360"/>
            <a:chOff x="150840" y="0"/>
            <a:chExt cx="851400" cy="6858360"/>
          </a:xfrm>
        </p:grpSpPr>
        <p:sp>
          <p:nvSpPr>
            <p:cNvPr id="315" name=""/>
            <p:cNvSpPr/>
            <p:nvPr/>
          </p:nvSpPr>
          <p:spPr>
            <a:xfrm>
              <a:off x="157320" y="36115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5520" y="455616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5520" y="549756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5520" y="78264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5520" y="172260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5520" y="266868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 txBox="1"/>
          <p:nvPr/>
        </p:nvSpPr>
        <p:spPr>
          <a:xfrm>
            <a:off x="1295280" y="152388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Science, Technology and Industry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Fall 1997 Worksh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219320" y="41904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Links are currently in place for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ca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High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Project M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pri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Links for APS “ready to 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Kluwer and Elsevier are “working on i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IOP and OCLC ECO not yet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Other publish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1841400" cy="27050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955800" cy="7160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7467480" y="1066680"/>
            <a:ext cx="955800" cy="7160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1442880" y="1595520"/>
            <a:ext cx="31338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 I find specific citatio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414680" y="5481720"/>
            <a:ext cx="229536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#4: Use your bookm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338720" y="2782800"/>
            <a:ext cx="29052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#2: Follow a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wnloaded l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338720" y="1747800"/>
            <a:ext cx="298116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#1: Search a MELVYL A&amp;I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5029200" y="3733920"/>
            <a:ext cx="955800" cy="7160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414680" y="4491000"/>
            <a:ext cx="21556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#3: Search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LVYL PE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5"/>
          <a:stretch/>
        </p:blipFill>
        <p:spPr>
          <a:xfrm>
            <a:off x="7620120" y="3733920"/>
            <a:ext cx="955800" cy="7160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7157880" y="1747800"/>
            <a:ext cx="1922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ticle Full-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781680" y="4572000"/>
            <a:ext cx="20718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ournal Web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647040" y="1371600"/>
            <a:ext cx="502920" cy="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342120" y="4114800"/>
            <a:ext cx="960480" cy="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7080" y="223920"/>
            <a:ext cx="7781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 Electronic Full-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442880" y="4795920"/>
            <a:ext cx="31338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 I find an entire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ourn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100480" y="2357280"/>
            <a:ext cx="6951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100480" y="5100480"/>
            <a:ext cx="6951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797520" y="5172120"/>
            <a:ext cx="731880" cy="47772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7331040" y="2200320"/>
            <a:ext cx="351000" cy="47772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5840" y="2516040"/>
            <a:ext cx="7236000" cy="30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ampus Librar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  <a:tabLst>
                <a:tab algn="l" pos="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nalytical data, e.g., ISI Searches of UC</a:t>
            </a: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itations, local us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  <a:tabLst>
                <a:tab algn="l" pos="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Faculty and other campus constituen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92160" y="763560"/>
            <a:ext cx="75502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Impact"/>
                <a:ea typeface="Impact"/>
              </a:rPr>
              <a:t>STIC Task Force Plans for Inp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49360" y="3583080"/>
            <a:ext cx="5407200" cy="28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afd00"/>
                </a:solidFill>
                <a:latin typeface="Impact"/>
                <a:ea typeface="Impact"/>
              </a:rPr>
              <a:t>Katie Frohmberg (Berkele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afd00"/>
                </a:solidFill>
                <a:latin typeface="Impact"/>
                <a:ea typeface="Impact"/>
              </a:rPr>
              <a:t>Locke Morrisey (Irvi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afd00"/>
                </a:solidFill>
                <a:latin typeface="Impact"/>
                <a:ea typeface="Impact"/>
              </a:rPr>
              <a:t>Alison Bunting (UCL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afd00"/>
                </a:solidFill>
                <a:latin typeface="Impact"/>
                <a:ea typeface="Impact"/>
              </a:rPr>
              <a:t>Beverlee French (Dav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afd00"/>
                </a:solidFill>
                <a:latin typeface="Impact"/>
                <a:ea typeface="Impact"/>
              </a:rPr>
              <a:t>Stella Bentley (S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afd00"/>
                </a:solidFill>
                <a:latin typeface="Impact"/>
                <a:ea typeface="Impact"/>
              </a:rPr>
              <a:t>Susan Starr (S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8640" y="534960"/>
            <a:ext cx="754056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  </a:t>
            </a: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Campus Librari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5840" y="2135160"/>
            <a:ext cx="7693200" cy="16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ix (original) STIC campuses created initial list of publishers and reference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714680" y="3049560"/>
            <a:ext cx="5586480" cy="30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harlene Baldwin (Riversi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huck Huber (S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atherine Soehner (S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hristy Hightower (S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Karen</a:t>
            </a: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utter (S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297080" y="230040"/>
            <a:ext cx="4473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Campus Librari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49360" y="1876320"/>
            <a:ext cx="7159680" cy="15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Official contacts from all campuses now appoi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830240" y="2367000"/>
            <a:ext cx="7134120" cy="36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Listserv</a:t>
            </a: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for STIC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47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Future feedback mechanis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omputer Science, Biot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nd other su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Role of existing listserv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Other ide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92160" y="382680"/>
            <a:ext cx="815040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6844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Impact"/>
                <a:ea typeface="Impact"/>
              </a:rPr>
              <a:t>Campus Librarians: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Impact"/>
                <a:ea typeface="Impact"/>
              </a:rPr>
              <a:t>Communication Mechanisms for ST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915840" y="1298520"/>
            <a:ext cx="807408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"UCDL would negotiate Universitywide licenses for an agreed-upon body of general-purpose materials, such as full text major journals, abstracting and document delivery services, and databases used in many disciplines.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entification of materials that should belong to this "core collection" should involve librarians, other information managers, and faculty .…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s material to be acquired or licensed becomes more specialized, selection should move closer to faculty users and librarians...who are able to judge quality and significance and set priorities."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068480" y="230040"/>
            <a:ext cx="4473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Campus</a:t>
            </a: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Librari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924280" y="6242040"/>
            <a:ext cx="59342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C Digital Library Working Group Report (Appendix C, pg 3</a:t>
            </a:r>
            <a:r>
              <a:rPr b="1" i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915840" y="2882880"/>
            <a:ext cx="708336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ventional collection development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iteria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hould be paramount and should be applied consistently across formats including digital resource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068480" y="382680"/>
            <a:ext cx="83026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Librarians - Use Conventional Collection Development Criteria and Mechanism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287440" y="5472000"/>
            <a:ext cx="65502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[UC] </a:t>
            </a:r>
            <a:r>
              <a:rPr b="0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ciples for Acquiring and Licensing Information in Digital Format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5840" y="2184480"/>
            <a:ext cx="7616880" cy="32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Knowledge</a:t>
            </a: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of curriculum and resear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Knowledge of publications in discip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nalytical data (e.g., use, cit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ommunication with faculty and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92160" y="306360"/>
            <a:ext cx="868212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Impact"/>
                <a:ea typeface="Impact"/>
              </a:rPr>
              <a:t>Conventional Collection Development</a:t>
            </a:r>
            <a:r>
              <a:rPr b="1" lang="en-US" sz="36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Impact"/>
                <a:ea typeface="Impact"/>
              </a:rPr>
              <a:t>Criteria</a:t>
            </a:r>
            <a:r>
              <a:rPr b="1" lang="en-US" sz="36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Impact"/>
                <a:ea typeface="Impact"/>
              </a:rPr>
              <a:t>and Mech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STIC Taskfor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lison Bunting (UCL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everlee French (UC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Katie Frohmberg (UC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Locke Morrisey (UC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usan Starr (UCO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763560" y="2058840"/>
            <a:ext cx="83790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01760" indent="-40176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terial from disciplines whose use patterns make them most ready for electronic ac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spcAft>
                <a:spcPts val="601"/>
              </a:spcAf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itles that are both indexed in a MELVYL A&amp;I databases and have URLs that can link citations directly to journal full-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spcAft>
                <a:spcPts val="601"/>
              </a:spcAf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terial from society presses in disciplines in which society publications are of equal [to commercial presses] or primary importance to u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spcAft>
                <a:spcPts val="601"/>
              </a:spcAf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terial of likely interest to possible industry partn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4120" y="290520"/>
            <a:ext cx="845352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f funds do not extend to all the desirable titles or publishers, the following principles can be used to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lect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mong them: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7226280" y="6378480"/>
            <a:ext cx="18763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IC [Proposals</a:t>
            </a: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15840" y="2516040"/>
            <a:ext cx="7236000" cy="30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  <a:tabLst>
                <a:tab algn="l" pos="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ampus Librar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nalytical data, e.g., ISI Searches of UC citations, local us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  <a:tabLst>
                <a:tab algn="l" pos="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Faculty and other campus constituen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992160" y="763560"/>
            <a:ext cx="75502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Impact"/>
                <a:ea typeface="Impact"/>
              </a:rPr>
              <a:t>STIC Task Force Plans for Inp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ISI Sear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cience Citation Index via Dial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earch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ubject Categories vs. Departmental affil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Journals published in vs. Journals cited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ISI Sear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afd00"/>
                </a:solidFill>
                <a:latin typeface="Impact"/>
                <a:ea typeface="Impact"/>
              </a:rPr>
              <a:t>Search strate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Years cov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1995-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Ra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Sorted by Cited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ISI Sear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afd00"/>
                </a:solidFill>
                <a:latin typeface="Impact"/>
                <a:ea typeface="Impact"/>
              </a:rPr>
              <a:t>Presentation of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Excel 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Journal Title Abbrev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ISI Journal Citation report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ISI Sear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219320" y="2044800"/>
            <a:ext cx="7772400" cy="47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Impact Fa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Impact"/>
                <a:ea typeface="Impact"/>
              </a:rPr>
              <a:t>     </a:t>
            </a:r>
            <a:r>
              <a:rPr b="0" lang="en-US" sz="2400" spc="-1" strike="noStrike">
                <a:solidFill>
                  <a:srgbClr val="fafd00"/>
                </a:solidFill>
                <a:latin typeface="Impact"/>
                <a:ea typeface="Impact"/>
              </a:rPr>
              <a:t>Impact factor: "A measure of the frequency with which the 'average article' in a journal has been cited in a particular year. The JCR impact factor is basically a ratio between citations and recent citable items published. Thus, the impact factor of Journal X would be calculated by dividing the number of all current citations of source items published in Journal X during the previous two years by the number of articles Journal X published in those two year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ISI Sear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219320" y="2044800"/>
            <a:ext cx="7772400" cy="45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afd00"/>
                </a:solidFill>
                <a:latin typeface="Impact"/>
                <a:ea typeface="Impact"/>
              </a:rPr>
              <a:t>Immediacy Inde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     </a:t>
            </a: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“</a:t>
            </a: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A journal's Immediacy Index considers citations made during the year in which the cited items were published. Thus, the Immediacy Index  of Journal X would be calculated by dividing the</a:t>
            </a:r>
            <a:r>
              <a:rPr b="1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number of all current citations of current source items published in Journal X by the total number of articles Journal X published that year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ISI Sear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afd00"/>
                </a:solidFill>
                <a:latin typeface="Impact"/>
                <a:ea typeface="Impact"/>
              </a:rPr>
              <a:t>Interpreting</a:t>
            </a:r>
            <a:r>
              <a:rPr b="1" lang="en-US" sz="3600" spc="-1" strike="noStrike">
                <a:solidFill>
                  <a:srgbClr val="fafd00"/>
                </a:solidFill>
                <a:latin typeface="Impact"/>
                <a:ea typeface="Impact"/>
              </a:rPr>
              <a:t> the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N/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Change in ISI abbrev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TItle change in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Cited work is not a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ISI Sear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Publisher summary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omputer</a:t>
            </a:r>
            <a:r>
              <a:rPr b="1" i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i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Society publishers most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Relative small number of total publis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Many top cited works not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371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ISI Sear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Publisher summary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iotechnology/Cell biology/BIoc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Many more publishers repres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Society publishers well repres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Cold Spring Harbor monographs heavily c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Workshop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Introduction and 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Plans for Obtaining In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ample Faculty S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Data Sub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Use of ISI Sear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ompare results with faculty in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ompare results with local usag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Use for establishing priorities and acquiring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915840" y="2516040"/>
            <a:ext cx="7236000" cy="30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  <a:tabLst>
                <a:tab algn="l" pos="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ampus Librar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  <a:tabLst>
                <a:tab algn="l" pos="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nalytical data, e.g., ISI Searches of UC</a:t>
            </a: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itations, local us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Faculty and other campus constituen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992160" y="763560"/>
            <a:ext cx="75502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Impact"/>
                <a:ea typeface="Impact"/>
              </a:rPr>
              <a:t>STIC Task Force Plans for Inp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297080" y="2135160"/>
            <a:ext cx="8074080" cy="287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Faculty role in creating the Digital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Librarians</a:t>
            </a:r>
            <a:r>
              <a:rPr b="1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- key to communicating with facul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Goals for librarian-faculty communication/ faculty “surve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Sample faculty se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068480" y="306360"/>
            <a:ext cx="6667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Communication with Facul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144440" y="1982880"/>
            <a:ext cx="799776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o assure the breadth of input necessary, this [Library Planning and Action Initiative] Task Force will be composed of Vice Chancellors, other Academic Administrators, University Librarians, a LAUC representative, Information Technologist, and Faculty, including relevant Senate committee representation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144440" y="306360"/>
            <a:ext cx="76932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Faculty Role in Creating the</a:t>
            </a: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Digital</a:t>
            </a: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 Libr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201840" y="6037200"/>
            <a:ext cx="55594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niversity of California Library Planning and Action Initiative: Descrip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144440" y="2744640"/>
            <a:ext cx="7083360" cy="23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  <a:tabLst>
                <a:tab algn="l" pos="22212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Formal</a:t>
            </a: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involvement in selecting</a:t>
            </a: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ontent for the Digital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  <a:tabLst>
                <a:tab algn="l" pos="22212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New and better  methods for seeking their in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297080" y="154080"/>
            <a:ext cx="54309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Faculty</a:t>
            </a: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Groups H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Requested</a:t>
            </a: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915840" y="2319480"/>
            <a:ext cx="7540560" cy="30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cademic Council Groups, including Committee on Library and Committee on Research and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ampus Academic Senate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Faculty representative to the CF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297080" y="230040"/>
            <a:ext cx="784548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Requests Have Come in Discussions Wit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915840" y="2243160"/>
            <a:ext cx="7769160" cy="47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1.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To inform faculty of what we are doing to develop the California Digital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2.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To respond to faculty requests to the LPAI for a larger role in planning coll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3.</a:t>
            </a: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To provide a </a:t>
            </a:r>
            <a:r>
              <a:rPr b="0" i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formal, documented faculty input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992160" y="306360"/>
            <a:ext cx="7693200" cy="19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Impact"/>
                <a:ea typeface="Impact"/>
              </a:rPr>
              <a:t>Goals for Communication With Faculty and Faculty “Survey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917640" y="2287440"/>
            <a:ext cx="8224920" cy="39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Aft>
                <a:spcPts val="83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Review transition in scholarly scientific publi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83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UC positioning itself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to assure that UC faculty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nd students on all campuses have access to the electronic materials they will need to</a:t>
            </a: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ustain research and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116000" y="382680"/>
            <a:ext cx="345744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Inform</a:t>
            </a: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Facul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Inform Facul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219320" y="2044800"/>
            <a:ext cx="7772400" cy="45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Reassure faculty that UC is acquiring new funds for the Digital Library that will help protect local print collection funds; that efficiencies will be gained by creating a Universitywide Digital Library</a:t>
            </a:r>
            <a:r>
              <a:rPr b="1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Reassure faculty that they will continue to have input into digital as well as print coll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[Sample faculty session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219320" y="41904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UC Library Planning and Action Initiative (LPA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UC initiative advised by a Task Force of  faculty, administrators, and librar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Read all about it at: http://lpai.ucsf.edu:8080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LPAI Web si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fafd00"/>
                </a:solidFill>
                <a:latin typeface="Impact"/>
                <a:ea typeface="Impact"/>
              </a:rPr>
              <a:t>http://lpai.ucsf.edu:80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fafd00"/>
                </a:solidFill>
                <a:latin typeface="Impact"/>
                <a:ea typeface="Impact"/>
              </a:rPr>
              <a:t>(UC IP Addresses onl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Rationale for LP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UC’s Library System at a critical jun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udget constraints, spiraling costs, demand for new formats has created an unsustainable busine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Need to develop a new model to accommodate the necessary evolution of UC’s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219320" y="41904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The New Model for UC’s Libraries Requi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upport of campus leadership and the facul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integration with overall academic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increased cooperation and sharing of resources, especially dig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new funding for digital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219320" y="41904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California Digital Library (CDL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“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o-Library” of the University of Califor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UCOP has committed funding for a CDL University Librarian and other co-library staff and for coll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219320" y="41904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Primary CDL collection responsi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Develop electronic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Make content available to all of UC and others in the State of Califor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219320" y="41904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Science, Technology and Industry Collection (STIC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First collection of the CD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Will provide access to a wide range of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traditional published lit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research material produced by UC faculty and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ttract industry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219320" y="41904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Science, Technology and Industry Collection (STIC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First priority is a broad array of high quality journal lit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Life, health, and physical sciences and engineering discip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Commercial and society publis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219320" y="41904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Science, Technology and Industry Collection (STIC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219320" y="2044800"/>
            <a:ext cx="7772400" cy="460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egin to develop in-depth coll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dependent on funding and content avail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concentrate initially on biotechnology and computer science (2 UC industry outreach priorit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technical reports, patents, genomic data, reference tools, digital versions of UC pub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1219320" y="41904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Status of STIC Collection Develo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219320" y="2044800"/>
            <a:ext cx="7772400" cy="50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In negotiation with a number of commercial and society publishers to provide UC-wide access to the digital versions of their jour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cademic P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Elsevier Scient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Highwire P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Klu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Springer Verl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Access to STIC Cont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To entire journal--for browsing or reading your favor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bookmark titles of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via links from individual UC library Web p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via links from MELVYL periodical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Access to STIC Cont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To specific citations--known or retrieved via a subject 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via links from MELVYL abstracting and indexing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via downloaded links in local Web p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219320" y="41904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The California Digital Libr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219320" y="2044800"/>
            <a:ext cx="777240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 collaborative initiative of the 9 campus libraries that wil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reate a single statewide digital collection to serve the University’s common information needs and w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enhance and expand library resource sharing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upport efforts to transform scholarly and scientific publi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219320" y="41904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Science, Technology, Industry Collection (STIC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Presentation for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UCLA Chemistry and Biochemistry Depar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December 25,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MELVYL on the Web De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onduct an A&amp;I search that retrieves citations with links in a database of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lick on link and go to full 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Developing STIC Cont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road input sought fr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faculty and campus lead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campus librar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nalytical dat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citation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Faculty Input Mechanis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ession today--please answer the questions on the form pro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ubject specific focus groups--for the development of in-depth CDL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Ongoing communications with campus  librarians via e-mail, in perso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Next St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In early Nove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STIC Task Force and Contacts Conference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y Decembe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Each campus develops a plan for soliciting faculty in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Next st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y March 15, 19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Hold faculty  workshops on your camp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Return faculty responses to your STIC Task Force member or cont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y April 1, 19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Task Force members/contacts submit results for their camp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Results Format</a:t>
            </a: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Please provi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Full verified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Requestor’s department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Number of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(see sample in packet tod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0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d74a4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d74a4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55520" y="312840"/>
            <a:ext cx="846720" cy="6544080"/>
            <a:chOff x="155520" y="312840"/>
            <a:chExt cx="846720" cy="6544080"/>
          </a:xfrm>
        </p:grpSpPr>
        <p:sp>
          <p:nvSpPr>
            <p:cNvPr id="563" name=""/>
            <p:cNvSpPr/>
            <p:nvPr/>
          </p:nvSpPr>
          <p:spPr>
            <a:xfrm>
              <a:off x="157320" y="31399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7320" y="40831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5520" y="50245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55520" y="5970600"/>
              <a:ext cx="844920" cy="886320"/>
            </a:xfrm>
            <a:custGeom>
              <a:avLst/>
              <a:gdLst/>
              <a:ahLst/>
              <a:rect l="0" t="0" r="r" b="b"/>
              <a:pathLst>
                <a:path w="2347" h="2462">
                  <a:moveTo>
                    <a:pt x="2347" y="0"/>
                  </a:moveTo>
                  <a:lnTo>
                    <a:pt x="2347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57320" y="31284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5520" y="124920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5520" y="219564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150840" y="0"/>
            <a:ext cx="851400" cy="6858360"/>
            <a:chOff x="150840" y="0"/>
            <a:chExt cx="851400" cy="6858360"/>
          </a:xfrm>
        </p:grpSpPr>
        <p:sp>
          <p:nvSpPr>
            <p:cNvPr id="577" name=""/>
            <p:cNvSpPr/>
            <p:nvPr/>
          </p:nvSpPr>
          <p:spPr>
            <a:xfrm>
              <a:off x="157320" y="36115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55520" y="455616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55520" y="549756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5520" y="78264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55520" y="172260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55520" y="266868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Initial</a:t>
            </a: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Tas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uild the </a:t>
            </a:r>
            <a:r>
              <a:rPr b="0" i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cience, Technology and Industry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uild systems which support enhanced resource sh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Develop a management and advisory structure to support widespread information access and disse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uilding the </a:t>
            </a:r>
            <a:r>
              <a:rPr b="1" i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cience, Technology and Industry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219320" y="2044800"/>
            <a:ext cx="7772400" cy="5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egin with full text of electronic jour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uild a critical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Target computer science and bio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dd reference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dd non-traditional literature. E.g.UC  technic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dd material to attract industry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uilding the Science, Technology and Industry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219320" y="2044800"/>
            <a:ext cx="77724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1997-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$1 million for content (purchased or creat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$500,000 for staff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Funding from President’s discretionary f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1998-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$4 million for staffing and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uilding the </a:t>
            </a:r>
            <a:r>
              <a:rPr b="1" i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cience, Technology and Industry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219320" y="2044800"/>
            <a:ext cx="7772400" cy="52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Negotiations have begun with several high priority provid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Elsevier, Springer, Kluwer, Highwire, IE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Negotiations will begin shortly with oth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CM, Wi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Negotiations with other targeted providers will depend on available f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ffice of the President</dc:creator>
  <dc:description/>
  <dc:language>en-US</dc:language>
  <cp:lastModifiedBy>Library</cp:lastModifiedBy>
  <cp:revision>0</cp:revision>
  <dc:subject/>
  <dc:title>Mission of the California Digital Library</dc:title>
</cp:coreProperties>
</file>