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642100" cy="9777413"/>
  <p:custShowLst>
    <p:custShow name="Lecture 1" id="0">
      <p:sldLst>
        <p:sld r:id="rId6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4"/>
        <p:sld r:id="rId35"/>
        <p:sld r:id="rId37"/>
        <p:sld r:id="rId38"/>
        <p:sld r:id="rId39"/>
        <p:sld r:id="rId41"/>
        <p:sld r:id="rId43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6"/>
        <p:sld r:id="rId67"/>
        <p:sld r:id="rId70"/>
      </p:sldLst>
    </p:custShow>
    <p:custShow name="Spring 2003" id="1">
      <p:sldLst>
        <p:sld r:id="rId6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71"/>
        <p:sld r:id="rId7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263600" y="90648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884160" y="4644720"/>
            <a:ext cx="4873680" cy="4397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50% of the respondents state that Ö globalization, rapid  technology development, further integration of products/services and shorter product life cycles are changes which will take place in their industry in the next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263600" y="90648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884160" y="4644720"/>
            <a:ext cx="4873680" cy="4397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statements have been considered as slightly fals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's competencies are m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don't receive an overflow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have sufficient time to shar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knowledge is re-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knowledge creation is a structur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information is sufficiently sorted out, compiled and summarized into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statements have been judged as slightly true 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rformances are improved based on the exchange of experiences/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are stimulated to present new ideas; there is an appropriate structur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review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are willing to sha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knowledge is available at the righ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 people do learn from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263600" y="90792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885600" y="4662360"/>
            <a:ext cx="4870440" cy="43466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240" bIns="3924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8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te clusteren in 2 groep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van Behavioral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Information/Knowledge transfer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vandaag gekozen voor symboliek van het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uis begin je te bouwen bij het Fund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Fundament moet af zijn voordat je de Muren op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Plafond en dak zijn resultante van Fundament en M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et geheel heeft value based Knowledge Management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553080"/>
            <a:ext cx="2287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M in Organizations  </a:t>
            </a:r>
            <a:fld id="{D2CD8F67-E4AF-4240-897C-103FC28D69CA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hyperlink" Target="file:///Knowledge-Exchange.ppt#Knowledge Management in Organizations" TargetMode="External"/><Relationship Id="rId7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hyperlink" Target="file:///Knowledge-Exchange.ppt#Knowledge Management in Organizations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Knowledge Management in Organizations" TargetMode="External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hyperlink" Target="file:///Knowledge-Exchange.ppt#Knowledge Management in Organizations" TargetMode="External"/><Relationship Id="rId4" Type="http://schemas.openxmlformats.org/officeDocument/2006/relationships/hyperlink" Target="file:///Knowledge-Exchange.ppt#Knowledge Management in Organizations" TargetMode="External"/><Relationship Id="rId5" Type="http://schemas.openxmlformats.org/officeDocument/2006/relationships/hyperlink" Target="file:///Knowledge-Exchange.ppt#Knowledge Management in Organizations" TargetMode="External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Knowledge-Exchange.ppt#Knowledge Management in Organizations" TargetMode="External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kpmg.com/" TargetMode="External"/><Relationship Id="rId2" Type="http://schemas.openxmlformats.org/officeDocument/2006/relationships/hyperlink" Target="http://www.kpmg.com/" TargetMode="External"/><Relationship Id="rId3" Type="http://schemas.openxmlformats.org/officeDocument/2006/relationships/hyperlink" Target="http://www.kpmg.com/" TargetMode="External"/><Relationship Id="rId4" Type="http://schemas.openxmlformats.org/officeDocument/2006/relationships/hyperlink" Target="http://www.kpmg.com/" TargetMode="External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Histor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 written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rawings, icons for storage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poken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 method for collection, organization, distribu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ordinated KM very difficul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limited common representation schem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limited systematic collection, organization and distribution metho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ly dependent on individual/small group effo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ntiquit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ritten language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sistent storage for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uplication and distribution of documents possible, but tediou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ed coordination efforts for K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stematic collection and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cord keeping, libra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ordination mostly by govern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stantial overhea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utenber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fficient duplication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inting press allows mass-production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reater distribu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mewhat extended KM effor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ordination by governments and other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urches, local entities, land and property own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ergence of large-scale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ss production of goo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ministration of large constituenc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s efficient knowledge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ministrativ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ordination of resources, materials; distribution of produ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nal information flow; record keep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aper-based offi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orage and distribution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ypewriters, stencil duplicators, vertical files, telephones, photograph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ffects on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atic, planned knowledge and information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lex, dedicated information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sed on human labor and paper as storage mediu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nual” information tech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quires precise methods and process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ational, planned system of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gistration, filing, index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pport for strategic plan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gathere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rac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nual KM is Onero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ually based on central reposit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ery document received must b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umber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cord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tegoriz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il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ral indexes must be generat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ually dependent on the purpo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.g. people, places, subje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laceholders for temporarily removed document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nsit card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blems with Manual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phabetical or subject-based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loppy 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rrect categor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mplete indi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controlled vocabula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lling variations,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lays in processing fi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racking of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tributed across fi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and the  Yorkshire Ripp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tion availab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iles of suspect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 the West Yorkshire police station (coordinators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ains the file of the murder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nks between murderer and victi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 list of individuals who could have received in their wages a bank note found on one of the victi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66960" indent="-214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list contained the name of the murder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tilization of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match was made between the files of suspects and the list of individu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Case of the Yorkshire Ripp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unt for the serial killer Peter Sutcliff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list of possible suspects was provided to poli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ividuals who could have received in their wages a bank note found on one of the victi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list included Sutcliff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list was checked against the files of su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tcliffe’s file was not in the registry, but on the desk of a detective, and no transit records had been mad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match was found between the two 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tcliffe committed more murders after tha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2440" y="6524640"/>
            <a:ext cx="196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Black &amp; Brunt 2000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data collected by the Harris Research Centre in Spring 1998 on behalf of KPMG Management Consult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ample covered 100 leading UK compan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evance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 many organizations, what they know  becomes more important than traditional sources of economic pow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ital, land, facilities, lab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etitive advantage through knowledge-based competenc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ological know-how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duct design skil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blem solving expertise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reativ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ility to innovat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isks of Knowledge Los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of best practice in important areas of ope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mage to relationships with key clients or suppli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oss of inco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st Critical Knowledge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about custom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rk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ducts and servi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etito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kills of employe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ediments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ople want to share knowledge but don’t have the ti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asted efforts through re-inventing the whe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ck of rewards and incentiv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atively few peop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e unwilling to share knowledge or best practi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ink there is too much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riving Needs for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lmost exclusively financial consider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ing profi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fending market share against competito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st re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rowing revenu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sible Benefits of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ventional (budget-focused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tter decision mak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aster response time to key iss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d productiv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duced cos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reased prof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w business opportun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tter staff reten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chnological Infra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net ac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an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 managemen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oupwa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ta warehousing, data mi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cision suppor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tran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8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76200"/>
            <a:ext cx="914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rvey Backgroun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stablish the extent to which companies regard knowledge  management as important and pursue initiatives to implement and master it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rget group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id- to large-size companies from a variety of industries. The research was conducted among chief executives, business unit managers, product managers, marketing managers and R&amp;D manag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Questionnaire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 from 25 companies was proces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efinitions for the Surve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knowledge in the business about customers, products, processes, competitors and so 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discipline of capturing knowledge-based competencies, storing and disseminating them for the benefit of the organization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312920"/>
            <a:ext cx="6989760" cy="411804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8720" y="1546200"/>
            <a:ext cx="4237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ze responding organizations</a:t>
            </a:r>
            <a:endParaRPr b="0" lang="en-US" sz="2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904760" y="1933200"/>
            <a:ext cx="3298680" cy="3318120"/>
            <a:chOff x="1904760" y="1933200"/>
            <a:chExt cx="3298680" cy="3318120"/>
          </a:xfrm>
        </p:grpSpPr>
        <p:grpSp>
          <p:nvGrpSpPr>
            <p:cNvPr id="123" name=""/>
            <p:cNvGrpSpPr/>
            <p:nvPr/>
          </p:nvGrpSpPr>
          <p:grpSpPr>
            <a:xfrm>
              <a:off x="1904760" y="1933200"/>
              <a:ext cx="3298680" cy="3318120"/>
              <a:chOff x="1904760" y="1933200"/>
              <a:chExt cx="3298680" cy="331812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6920" y="1936800"/>
                <a:ext cx="3294360" cy="331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96" y="1"/>
                    </a:moveTo>
                    <a:arcTo wR="10800" hR="10800" stAng="-5433117" swAng="5142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96" y="1"/>
                    </a:moveTo>
                    <a:arcTo wR="10800" hR="10800" stAng="-5433117" swAng="5142916"/>
                  </a:path>
                </a:pathLst>
              </a:custGeom>
              <a:solidFill>
                <a:srgbClr val="552de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4760" y="1933200"/>
                <a:ext cx="3298680" cy="331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61" y="9888"/>
                    </a:moveTo>
                    <a:arcTo wR="10800" hR="10800" stAng="-290617" swAng="44019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61" y="9888"/>
                    </a:moveTo>
                    <a:arcTo wR="10800" hR="10800" stAng="-290617" swAng="4401986"/>
                  </a:path>
                </a:pathLst>
              </a:custGeom>
              <a:solidFill>
                <a:srgbClr val="99006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5840" y="1935000"/>
                <a:ext cx="3290400" cy="331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759" y="20848"/>
                    </a:moveTo>
                    <a:arcTo wR="10800" hR="10800" stAng="4109760" swAng="2641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759" y="20848"/>
                    </a:moveTo>
                    <a:arcTo wR="10800" hR="10800" stAng="4109760" swAng="2641390"/>
                  </a:path>
                </a:pathLst>
              </a:custGeom>
              <a:solidFill>
                <a:srgbClr val="eeaf3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05120" y="1936080"/>
                <a:ext cx="3295080" cy="331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658" y="20774"/>
                    </a:moveTo>
                    <a:arcTo wR="10800" hR="10800" stAng="6753039" swAng="59870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658" y="20774"/>
                    </a:moveTo>
                    <a:arcTo wR="10800" hR="10800" stAng="6753039" swAng="5987028"/>
                  </a:path>
                </a:pathLst>
              </a:custGeom>
              <a:solidFill>
                <a:srgbClr val="66cdcd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06920" y="1936800"/>
                <a:ext cx="3294720" cy="331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75" y="5024"/>
                    </a:moveTo>
                    <a:arcTo wR="10800" hR="10800" stAng="-8859933" swAng="34268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75" y="5024"/>
                    </a:moveTo>
                    <a:arcTo wR="10800" hR="10800" stAng="-8859933" swAng="3426816"/>
                  </a:path>
                </a:pathLst>
              </a:custGeom>
              <a:solidFill>
                <a:srgbClr val="330099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894120" y="267984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24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46400" y="393372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20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65400" y="456408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12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44600" y="370044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28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1680" y="2489040"/>
              <a:ext cx="8967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16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769360" y="2787480"/>
            <a:ext cx="206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2f2fff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5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9900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1-5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eeaf3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01-25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66cdc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.001-100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3300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0.000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06640" y="1025640"/>
            <a:ext cx="69260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638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verage size respondents +/- 35.000 people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resentative sample of 25 mid- to large- size compani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M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istorical Perspect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d Hoc K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ed K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M and Comput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rrent Trends and Tendenc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atus of KM in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lans for KM in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Workers and Knowledge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ustrial vs. Knowledge A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utual Benefits for Workers and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730520" y="1312920"/>
            <a:ext cx="5678280" cy="1962000"/>
            <a:chOff x="1730520" y="1312920"/>
            <a:chExt cx="5678280" cy="1962000"/>
          </a:xfrm>
        </p:grpSpPr>
        <p:sp>
          <p:nvSpPr>
            <p:cNvPr id="139" name=""/>
            <p:cNvSpPr/>
            <p:nvPr/>
          </p:nvSpPr>
          <p:spPr>
            <a:xfrm>
              <a:off x="1730520" y="1312920"/>
              <a:ext cx="5678280" cy="196200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5400" y="1928880"/>
              <a:ext cx="3722760" cy="882720"/>
            </a:xfrm>
            <a:custGeom>
              <a:avLst/>
              <a:gdLst/>
              <a:ahLst/>
              <a:rect l="l" t="t" r="r" b="b"/>
              <a:pathLst>
                <a:path w="2345" h="556">
                  <a:moveTo>
                    <a:pt x="0" y="0"/>
                  </a:moveTo>
                  <a:lnTo>
                    <a:pt x="2344" y="0"/>
                  </a:lnTo>
                  <a:lnTo>
                    <a:pt x="2344" y="555"/>
                  </a:lnTo>
                  <a:lnTo>
                    <a:pt x="0" y="555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5400" y="1928880"/>
              <a:ext cx="3722760" cy="882720"/>
            </a:xfrm>
            <a:custGeom>
              <a:avLst/>
              <a:gdLst/>
              <a:ahLst/>
              <a:rect l="l" t="t" r="r" b="b"/>
              <a:pathLst>
                <a:path w="2345" h="556">
                  <a:moveTo>
                    <a:pt x="0" y="0"/>
                  </a:moveTo>
                  <a:lnTo>
                    <a:pt x="2344" y="0"/>
                  </a:lnTo>
                  <a:lnTo>
                    <a:pt x="2344" y="555"/>
                  </a:lnTo>
                  <a:lnTo>
                    <a:pt x="0" y="55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5400" y="2505240"/>
              <a:ext cx="596880" cy="169560"/>
            </a:xfrm>
            <a:custGeom>
              <a:avLst/>
              <a:gdLst/>
              <a:ahLst/>
              <a:rect l="l" t="t" r="r" b="b"/>
              <a:pathLst>
                <a:path w="376" h="107">
                  <a:moveTo>
                    <a:pt x="0" y="0"/>
                  </a:moveTo>
                  <a:lnTo>
                    <a:pt x="375" y="0"/>
                  </a:lnTo>
                  <a:lnTo>
                    <a:pt x="375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5400" y="2063880"/>
              <a:ext cx="3127320" cy="171360"/>
            </a:xfrm>
            <a:custGeom>
              <a:avLst/>
              <a:gdLst/>
              <a:ahLst/>
              <a:rect l="l" t="t" r="r" b="b"/>
              <a:pathLst>
                <a:path w="1970" h="108">
                  <a:moveTo>
                    <a:pt x="0" y="0"/>
                  </a:moveTo>
                  <a:lnTo>
                    <a:pt x="1969" y="0"/>
                  </a:lnTo>
                  <a:lnTo>
                    <a:pt x="196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35400" y="280980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3540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831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8308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56092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0864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056360" y="2759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5400" y="1928880"/>
              <a:ext cx="0" cy="88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84640" y="2809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4640" y="2368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84640" y="19288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8560" y="1463760"/>
              <a:ext cx="1139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2120" y="2903400"/>
              <a:ext cx="2916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872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644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652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4240" y="290340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9760" y="2903400"/>
              <a:ext cx="5050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5120" y="2411280"/>
              <a:ext cx="12610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ne location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2120" y="1836720"/>
              <a:ext cx="14209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ore than one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5000" y="2090880"/>
              <a:ext cx="84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47800" y="3451320"/>
            <a:ext cx="5645160" cy="1896840"/>
            <a:chOff x="1747800" y="3451320"/>
            <a:chExt cx="5645160" cy="1896840"/>
          </a:xfrm>
        </p:grpSpPr>
        <p:sp>
          <p:nvSpPr>
            <p:cNvPr id="166" name=""/>
            <p:cNvSpPr/>
            <p:nvPr/>
          </p:nvSpPr>
          <p:spPr>
            <a:xfrm>
              <a:off x="1747800" y="3451320"/>
              <a:ext cx="5645160" cy="189684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5120" y="4033800"/>
              <a:ext cx="4519800" cy="773280"/>
            </a:xfrm>
            <a:custGeom>
              <a:avLst/>
              <a:gdLst/>
              <a:ahLst/>
              <a:rect l="l" t="t" r="r" b="b"/>
              <a:pathLst>
                <a:path w="2847" h="487">
                  <a:moveTo>
                    <a:pt x="0" y="0"/>
                  </a:moveTo>
                  <a:lnTo>
                    <a:pt x="2846" y="0"/>
                  </a:lnTo>
                  <a:lnTo>
                    <a:pt x="2846" y="486"/>
                  </a:lnTo>
                  <a:lnTo>
                    <a:pt x="0" y="486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5120" y="4033800"/>
              <a:ext cx="4519800" cy="773280"/>
            </a:xfrm>
            <a:custGeom>
              <a:avLst/>
              <a:gdLst/>
              <a:ahLst/>
              <a:rect l="l" t="t" r="r" b="b"/>
              <a:pathLst>
                <a:path w="2847" h="487">
                  <a:moveTo>
                    <a:pt x="0" y="0"/>
                  </a:moveTo>
                  <a:lnTo>
                    <a:pt x="2846" y="0"/>
                  </a:lnTo>
                  <a:lnTo>
                    <a:pt x="2846" y="486"/>
                  </a:lnTo>
                  <a:lnTo>
                    <a:pt x="0" y="48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35120" y="4537080"/>
              <a:ext cx="1811520" cy="152280"/>
            </a:xfrm>
            <a:custGeom>
              <a:avLst/>
              <a:gdLst/>
              <a:ahLst/>
              <a:rect l="l" t="t" r="r" b="b"/>
              <a:pathLst>
                <a:path w="1141" h="96">
                  <a:moveTo>
                    <a:pt x="0" y="0"/>
                  </a:moveTo>
                  <a:lnTo>
                    <a:pt x="1140" y="0"/>
                  </a:lnTo>
                  <a:lnTo>
                    <a:pt x="1140" y="95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5120" y="4151160"/>
              <a:ext cx="3841920" cy="152640"/>
            </a:xfrm>
            <a:custGeom>
              <a:avLst/>
              <a:gdLst/>
              <a:ahLst/>
              <a:rect l="l" t="t" r="r" b="b"/>
              <a:pathLst>
                <a:path w="2420" h="96">
                  <a:moveTo>
                    <a:pt x="0" y="0"/>
                  </a:moveTo>
                  <a:lnTo>
                    <a:pt x="2419" y="0"/>
                  </a:lnTo>
                  <a:lnTo>
                    <a:pt x="2419" y="95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35120" y="4805280"/>
              <a:ext cx="45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35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66876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020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91984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53120" y="4754520"/>
              <a:ext cx="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5120" y="4033800"/>
              <a:ext cx="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84360" y="4805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4360" y="4419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4360" y="403380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7320" y="3568680"/>
              <a:ext cx="2422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eign subsidiarie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6640" y="4870440"/>
              <a:ext cx="2916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880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8244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988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33520" y="4870440"/>
              <a:ext cx="398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62080" y="4400640"/>
              <a:ext cx="4287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42560" y="4014720"/>
              <a:ext cx="5140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5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56386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 companies have numerous locations in more than one count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3200" y="1306440"/>
            <a:ext cx="7792920" cy="3743280"/>
            <a:chOff x="673200" y="1306440"/>
            <a:chExt cx="7792920" cy="3743280"/>
          </a:xfrm>
        </p:grpSpPr>
        <p:sp>
          <p:nvSpPr>
            <p:cNvPr id="194" name=""/>
            <p:cNvSpPr/>
            <p:nvPr/>
          </p:nvSpPr>
          <p:spPr>
            <a:xfrm>
              <a:off x="673200" y="1306440"/>
              <a:ext cx="7792920" cy="37432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863280" y="1459080"/>
              <a:ext cx="7417080" cy="3442320"/>
              <a:chOff x="863280" y="1459080"/>
              <a:chExt cx="7417080" cy="3442320"/>
            </a:xfrm>
          </p:grpSpPr>
          <p:sp>
            <p:nvSpPr>
              <p:cNvPr id="196" name=""/>
              <p:cNvSpPr/>
              <p:nvPr/>
            </p:nvSpPr>
            <p:spPr>
              <a:xfrm>
                <a:off x="1235160" y="1609560"/>
                <a:ext cx="7045200" cy="2776680"/>
              </a:xfrm>
              <a:custGeom>
                <a:avLst/>
                <a:gdLst/>
                <a:ahLst/>
                <a:rect l="l" t="t" r="r" b="b"/>
                <a:pathLst>
                  <a:path w="4438" h="1749">
                    <a:moveTo>
                      <a:pt x="0" y="0"/>
                    </a:moveTo>
                    <a:lnTo>
                      <a:pt x="4437" y="0"/>
                    </a:lnTo>
                    <a:lnTo>
                      <a:pt x="4437" y="1748"/>
                    </a:lnTo>
                    <a:lnTo>
                      <a:pt x="0" y="17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35160" y="1609560"/>
                <a:ext cx="7045200" cy="2776680"/>
              </a:xfrm>
              <a:custGeom>
                <a:avLst/>
                <a:gdLst/>
                <a:ahLst/>
                <a:rect l="l" t="t" r="r" b="b"/>
                <a:pathLst>
                  <a:path w="4438" h="1749">
                    <a:moveTo>
                      <a:pt x="0" y="0"/>
                    </a:moveTo>
                    <a:lnTo>
                      <a:pt x="4437" y="0"/>
                    </a:lnTo>
                    <a:lnTo>
                      <a:pt x="4437" y="1748"/>
                    </a:lnTo>
                    <a:lnTo>
                      <a:pt x="0" y="174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71680" y="3151080"/>
                <a:ext cx="306360" cy="1235160"/>
              </a:xfrm>
              <a:custGeom>
                <a:avLst/>
                <a:gdLst/>
                <a:ahLst/>
                <a:rect l="l" t="t" r="r" b="b"/>
                <a:pathLst>
                  <a:path w="193" h="778">
                    <a:moveTo>
                      <a:pt x="0" y="0"/>
                    </a:moveTo>
                    <a:lnTo>
                      <a:pt x="192" y="0"/>
                    </a:lnTo>
                    <a:lnTo>
                      <a:pt x="192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47840" y="3151080"/>
                <a:ext cx="320760" cy="1235160"/>
              </a:xfrm>
              <a:custGeom>
                <a:avLst/>
                <a:gdLst/>
                <a:ahLst/>
                <a:rect l="l" t="t" r="r" b="b"/>
                <a:pathLst>
                  <a:path w="202" h="778">
                    <a:moveTo>
                      <a:pt x="0" y="0"/>
                    </a:moveTo>
                    <a:lnTo>
                      <a:pt x="201" y="0"/>
                    </a:lnTo>
                    <a:lnTo>
                      <a:pt x="201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38400" y="2535120"/>
                <a:ext cx="306360" cy="1851120"/>
              </a:xfrm>
              <a:custGeom>
                <a:avLst/>
                <a:gdLst/>
                <a:ahLst/>
                <a:rect l="l" t="t" r="r" b="b"/>
                <a:pathLst>
                  <a:path w="193" h="1166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165"/>
                    </a:lnTo>
                    <a:lnTo>
                      <a:pt x="0" y="11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14920" y="1919160"/>
                <a:ext cx="320400" cy="2467080"/>
              </a:xfrm>
              <a:custGeom>
                <a:avLst/>
                <a:gdLst/>
                <a:ahLst/>
                <a:rect l="l" t="t" r="r" b="b"/>
                <a:pathLst>
                  <a:path w="202" h="1554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553"/>
                    </a:lnTo>
                    <a:lnTo>
                      <a:pt x="0" y="15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05480" y="1919160"/>
                <a:ext cx="306360" cy="2467080"/>
              </a:xfrm>
              <a:custGeom>
                <a:avLst/>
                <a:gdLst/>
                <a:ahLst/>
                <a:rect l="l" t="t" r="r" b="b"/>
                <a:pathLst>
                  <a:path w="193" h="155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553"/>
                    </a:lnTo>
                    <a:lnTo>
                      <a:pt x="0" y="15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81640" y="2535120"/>
                <a:ext cx="320760" cy="1851120"/>
              </a:xfrm>
              <a:custGeom>
                <a:avLst/>
                <a:gdLst/>
                <a:ahLst/>
                <a:rect l="l" t="t" r="r" b="b"/>
                <a:pathLst>
                  <a:path w="202" h="1166">
                    <a:moveTo>
                      <a:pt x="0" y="0"/>
                    </a:moveTo>
                    <a:lnTo>
                      <a:pt x="201" y="0"/>
                    </a:lnTo>
                    <a:lnTo>
                      <a:pt x="201" y="1165"/>
                    </a:lnTo>
                    <a:lnTo>
                      <a:pt x="0" y="11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72200" y="2535120"/>
                <a:ext cx="306360" cy="1851120"/>
              </a:xfrm>
              <a:custGeom>
                <a:avLst/>
                <a:gdLst/>
                <a:ahLst/>
                <a:rect l="l" t="t" r="r" b="b"/>
                <a:pathLst>
                  <a:path w="193" h="1166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165"/>
                    </a:lnTo>
                    <a:lnTo>
                      <a:pt x="0" y="11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48360" y="3151080"/>
                <a:ext cx="320760" cy="1235160"/>
              </a:xfrm>
              <a:custGeom>
                <a:avLst/>
                <a:gdLst/>
                <a:ahLst/>
                <a:rect l="l" t="t" r="r" b="b"/>
                <a:pathLst>
                  <a:path w="202" h="778">
                    <a:moveTo>
                      <a:pt x="0" y="0"/>
                    </a:moveTo>
                    <a:lnTo>
                      <a:pt x="201" y="0"/>
                    </a:lnTo>
                    <a:lnTo>
                      <a:pt x="201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38920" y="3151080"/>
                <a:ext cx="306360" cy="1235160"/>
              </a:xfrm>
              <a:custGeom>
                <a:avLst/>
                <a:gdLst/>
                <a:ahLst/>
                <a:rect l="l" t="t" r="r" b="b"/>
                <a:pathLst>
                  <a:path w="193" h="778">
                    <a:moveTo>
                      <a:pt x="0" y="0"/>
                    </a:moveTo>
                    <a:lnTo>
                      <a:pt x="192" y="0"/>
                    </a:lnTo>
                    <a:lnTo>
                      <a:pt x="192" y="777"/>
                    </a:lnTo>
                    <a:lnTo>
                      <a:pt x="0" y="7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35160" y="1609560"/>
                <a:ext cx="0" cy="27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93760" y="438480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93760" y="40766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93760" y="37670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93760" y="345924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93760" y="31510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93760" y="284328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93760" y="25351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93760" y="222732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93760" y="19191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93760" y="1609560"/>
                <a:ext cx="8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35160" y="4384800"/>
                <a:ext cx="704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123516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01132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280188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357840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36896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14512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93568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71184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50240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8278920" y="43304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8968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6584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00600" y="22096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89360" y="159372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79920" y="159372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6440" y="22096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34400" y="22096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6672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55480" y="28256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48240" y="423396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48240" y="392436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48240" y="361620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48240" y="330840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48240" y="3000240"/>
                <a:ext cx="2703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3640" y="269244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63640" y="23842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640" y="207648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63640" y="1768320"/>
                <a:ext cx="3556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63280" y="1459080"/>
                <a:ext cx="5338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% 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68200" y="4437000"/>
                <a:ext cx="921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/F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Service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028240" y="4437000"/>
                <a:ext cx="712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tail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amp; Dist.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32640" y="4437000"/>
                <a:ext cx="3434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34840" y="4437000"/>
                <a:ext cx="86796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lecom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08920" y="4437000"/>
                <a:ext cx="712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lec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onic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44040" y="4437000"/>
                <a:ext cx="810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m.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amp; Food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7680" y="4446720"/>
                <a:ext cx="779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gi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ering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38480" y="4437000"/>
                <a:ext cx="7506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62160" y="4437000"/>
                <a:ext cx="6314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pondents were from various industri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8640" y="1293840"/>
            <a:ext cx="7143480" cy="4551480"/>
          </a:xfrm>
          <a:prstGeom prst="rect">
            <a:avLst/>
          </a:prstGeom>
          <a:solidFill>
            <a:srgbClr val="feff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pondents’ Profi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71680" y="1481040"/>
            <a:ext cx="61819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anies perceived their KM position as:</a:t>
            </a:r>
            <a:endParaRPr b="0" lang="en-US" sz="2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36800" y="3025800"/>
            <a:ext cx="21196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1188"/>
              </a:spcBef>
              <a:buClr>
                <a:srgbClr val="30c2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19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88"/>
              </a:spcBef>
              <a:buClr>
                <a:srgbClr val="2f2fff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9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88"/>
              </a:spcBef>
              <a:buClr>
                <a:srgbClr val="9900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gging behind</a:t>
            </a:r>
            <a:endParaRPr b="0" lang="en-US" sz="19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523880" y="2057400"/>
            <a:ext cx="335448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28600" y="1600200"/>
            <a:ext cx="8755920" cy="3492360"/>
            <a:chOff x="228600" y="1600200"/>
            <a:chExt cx="8755920" cy="3492360"/>
          </a:xfrm>
        </p:grpSpPr>
        <p:sp>
          <p:nvSpPr>
            <p:cNvPr id="266" name=""/>
            <p:cNvSpPr/>
            <p:nvPr/>
          </p:nvSpPr>
          <p:spPr>
            <a:xfrm>
              <a:off x="228600" y="1600200"/>
              <a:ext cx="8737560" cy="349236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43320" y="1801800"/>
              <a:ext cx="6234120" cy="2943360"/>
            </a:xfrm>
            <a:custGeom>
              <a:avLst/>
              <a:gdLst/>
              <a:ahLst/>
              <a:rect l="l" t="t" r="r" b="b"/>
              <a:pathLst>
                <a:path w="3927" h="1854">
                  <a:moveTo>
                    <a:pt x="0" y="0"/>
                  </a:moveTo>
                  <a:lnTo>
                    <a:pt x="3926" y="0"/>
                  </a:lnTo>
                  <a:lnTo>
                    <a:pt x="3926" y="1853"/>
                  </a:lnTo>
                  <a:lnTo>
                    <a:pt x="0" y="1853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216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252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0992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4028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5948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7688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072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264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564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75640" y="1801800"/>
              <a:ext cx="0" cy="29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43320" y="1801800"/>
              <a:ext cx="6234120" cy="2943360"/>
            </a:xfrm>
            <a:custGeom>
              <a:avLst/>
              <a:gdLst/>
              <a:ahLst/>
              <a:rect l="l" t="t" r="r" b="b"/>
              <a:pathLst>
                <a:path w="3927" h="1854">
                  <a:moveTo>
                    <a:pt x="0" y="0"/>
                  </a:moveTo>
                  <a:lnTo>
                    <a:pt x="3926" y="0"/>
                  </a:lnTo>
                  <a:lnTo>
                    <a:pt x="3926" y="1853"/>
                  </a:lnTo>
                  <a:lnTo>
                    <a:pt x="0" y="185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43320" y="4452840"/>
              <a:ext cx="1250640" cy="165240"/>
            </a:xfrm>
            <a:custGeom>
              <a:avLst/>
              <a:gdLst/>
              <a:ahLst/>
              <a:rect l="l" t="t" r="r" b="b"/>
              <a:pathLst>
                <a:path w="788" h="104">
                  <a:moveTo>
                    <a:pt x="0" y="0"/>
                  </a:moveTo>
                  <a:lnTo>
                    <a:pt x="787" y="0"/>
                  </a:lnTo>
                  <a:lnTo>
                    <a:pt x="787" y="103"/>
                  </a:lnTo>
                  <a:lnTo>
                    <a:pt x="0" y="103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3320" y="4025880"/>
              <a:ext cx="4238640" cy="174600"/>
            </a:xfrm>
            <a:custGeom>
              <a:avLst/>
              <a:gdLst/>
              <a:ahLst/>
              <a:rect l="l" t="t" r="r" b="b"/>
              <a:pathLst>
                <a:path w="2670" h="110">
                  <a:moveTo>
                    <a:pt x="0" y="0"/>
                  </a:moveTo>
                  <a:lnTo>
                    <a:pt x="2669" y="0"/>
                  </a:lnTo>
                  <a:lnTo>
                    <a:pt x="2669" y="10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43320" y="3608280"/>
              <a:ext cx="4740120" cy="163440"/>
            </a:xfrm>
            <a:custGeom>
              <a:avLst/>
              <a:gdLst/>
              <a:ahLst/>
              <a:rect l="l" t="t" r="r" b="b"/>
              <a:pathLst>
                <a:path w="2986" h="103">
                  <a:moveTo>
                    <a:pt x="0" y="0"/>
                  </a:moveTo>
                  <a:lnTo>
                    <a:pt x="2985" y="0"/>
                  </a:lnTo>
                  <a:lnTo>
                    <a:pt x="2985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43320" y="3192480"/>
              <a:ext cx="4984560" cy="163440"/>
            </a:xfrm>
            <a:custGeom>
              <a:avLst/>
              <a:gdLst/>
              <a:ahLst/>
              <a:rect l="l" t="t" r="r" b="b"/>
              <a:pathLst>
                <a:path w="3140" h="103">
                  <a:moveTo>
                    <a:pt x="0" y="0"/>
                  </a:moveTo>
                  <a:lnTo>
                    <a:pt x="3139" y="0"/>
                  </a:lnTo>
                  <a:lnTo>
                    <a:pt x="3139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43320" y="2774880"/>
              <a:ext cx="1996920" cy="16344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0"/>
                  </a:moveTo>
                  <a:lnTo>
                    <a:pt x="1257" y="0"/>
                  </a:lnTo>
                  <a:lnTo>
                    <a:pt x="1257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3320" y="2346480"/>
              <a:ext cx="3490920" cy="176040"/>
            </a:xfrm>
            <a:custGeom>
              <a:avLst/>
              <a:gdLst/>
              <a:ahLst/>
              <a:rect l="l" t="t" r="r" b="b"/>
              <a:pathLst>
                <a:path w="2199" h="111">
                  <a:moveTo>
                    <a:pt x="0" y="0"/>
                  </a:moveTo>
                  <a:lnTo>
                    <a:pt x="2198" y="0"/>
                  </a:lnTo>
                  <a:lnTo>
                    <a:pt x="2198" y="110"/>
                  </a:lnTo>
                  <a:lnTo>
                    <a:pt x="0" y="11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43320" y="1930320"/>
              <a:ext cx="1752480" cy="163440"/>
            </a:xfrm>
            <a:custGeom>
              <a:avLst/>
              <a:gdLst/>
              <a:ahLst/>
              <a:rect l="l" t="t" r="r" b="b"/>
              <a:pathLst>
                <a:path w="1104" h="103">
                  <a:moveTo>
                    <a:pt x="0" y="0"/>
                  </a:moveTo>
                  <a:lnTo>
                    <a:pt x="1103" y="0"/>
                  </a:lnTo>
                  <a:lnTo>
                    <a:pt x="1103" y="102"/>
                  </a:lnTo>
                  <a:lnTo>
                    <a:pt x="0" y="102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3320" y="4743360"/>
              <a:ext cx="623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06216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9252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30992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94028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55948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7688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8072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4264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0564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675640" y="47430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6920" y="4757760"/>
              <a:ext cx="255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980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3016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756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792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712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1452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4488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6408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94080" y="47926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76560" y="4792680"/>
              <a:ext cx="5079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800" y="4322880"/>
              <a:ext cx="1666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Production shift to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low-cost  countri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120" y="3889440"/>
              <a:ext cx="184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Further integr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products/servic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3240" y="3471840"/>
              <a:ext cx="1564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Rapid technology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9200" y="3092400"/>
              <a:ext cx="12168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Globaliz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160" y="2682720"/>
              <a:ext cx="18738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(Mass) customiz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560" y="2273400"/>
              <a:ext cx="2103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Shorter product lifecycl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3280" y="1765440"/>
              <a:ext cx="169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Deverticalization of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supply chai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hanges in Business Environ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5334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lobalization, rapid technology development, further integration of products and services and shorter product life cycles are regarded as the main business chang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jor Iss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7160" y="1306440"/>
            <a:ext cx="8863560" cy="3675240"/>
            <a:chOff x="137160" y="1306440"/>
            <a:chExt cx="8863560" cy="3675240"/>
          </a:xfrm>
        </p:grpSpPr>
        <p:sp>
          <p:nvSpPr>
            <p:cNvPr id="320" name=""/>
            <p:cNvSpPr/>
            <p:nvPr/>
          </p:nvSpPr>
          <p:spPr>
            <a:xfrm>
              <a:off x="179280" y="1306440"/>
              <a:ext cx="8755200" cy="367524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5200" y="1486080"/>
              <a:ext cx="6953040" cy="3117600"/>
            </a:xfrm>
            <a:custGeom>
              <a:avLst/>
              <a:gdLst/>
              <a:ahLst/>
              <a:rect l="l" t="t" r="r" b="b"/>
              <a:pathLst>
                <a:path w="4380" h="1964">
                  <a:moveTo>
                    <a:pt x="0" y="0"/>
                  </a:moveTo>
                  <a:lnTo>
                    <a:pt x="4379" y="0"/>
                  </a:lnTo>
                  <a:lnTo>
                    <a:pt x="4379" y="1963"/>
                  </a:lnTo>
                  <a:lnTo>
                    <a:pt x="0" y="1963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1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3056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149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1332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02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868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9144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84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148608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1486080"/>
              <a:ext cx="6953040" cy="3117600"/>
            </a:xfrm>
            <a:custGeom>
              <a:avLst/>
              <a:gdLst/>
              <a:ahLst/>
              <a:rect l="l" t="t" r="r" b="b"/>
              <a:pathLst>
                <a:path w="4380" h="1964">
                  <a:moveTo>
                    <a:pt x="0" y="0"/>
                  </a:moveTo>
                  <a:lnTo>
                    <a:pt x="4379" y="0"/>
                  </a:lnTo>
                  <a:lnTo>
                    <a:pt x="4379" y="1963"/>
                  </a:lnTo>
                  <a:lnTo>
                    <a:pt x="0" y="196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5200" y="4295880"/>
              <a:ext cx="3892320" cy="172800"/>
            </a:xfrm>
            <a:custGeom>
              <a:avLst/>
              <a:gdLst/>
              <a:ahLst/>
              <a:rect l="l" t="t" r="r" b="b"/>
              <a:pathLst>
                <a:path w="2452" h="109">
                  <a:moveTo>
                    <a:pt x="0" y="0"/>
                  </a:moveTo>
                  <a:lnTo>
                    <a:pt x="2451" y="0"/>
                  </a:lnTo>
                  <a:lnTo>
                    <a:pt x="2451" y="108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35200" y="3843360"/>
              <a:ext cx="4174920" cy="185760"/>
            </a:xfrm>
            <a:custGeom>
              <a:avLst/>
              <a:gdLst/>
              <a:ahLst/>
              <a:rect l="l" t="t" r="r" b="b"/>
              <a:pathLst>
                <a:path w="2630" h="117">
                  <a:moveTo>
                    <a:pt x="0" y="0"/>
                  </a:moveTo>
                  <a:lnTo>
                    <a:pt x="2629" y="0"/>
                  </a:lnTo>
                  <a:lnTo>
                    <a:pt x="2629" y="116"/>
                  </a:lnTo>
                  <a:lnTo>
                    <a:pt x="0" y="11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35200" y="3403440"/>
              <a:ext cx="5288040" cy="173160"/>
            </a:xfrm>
            <a:custGeom>
              <a:avLst/>
              <a:gdLst/>
              <a:ahLst/>
              <a:rect l="l" t="t" r="r" b="b"/>
              <a:pathLst>
                <a:path w="3331" h="109">
                  <a:moveTo>
                    <a:pt x="0" y="0"/>
                  </a:moveTo>
                  <a:lnTo>
                    <a:pt x="3330" y="0"/>
                  </a:lnTo>
                  <a:lnTo>
                    <a:pt x="3330" y="108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35200" y="2952720"/>
              <a:ext cx="5557680" cy="184320"/>
            </a:xfrm>
            <a:custGeom>
              <a:avLst/>
              <a:gdLst/>
              <a:ahLst/>
              <a:rect l="l" t="t" r="r" b="b"/>
              <a:pathLst>
                <a:path w="3501" h="116">
                  <a:moveTo>
                    <a:pt x="0" y="0"/>
                  </a:moveTo>
                  <a:lnTo>
                    <a:pt x="3500" y="0"/>
                  </a:lnTo>
                  <a:lnTo>
                    <a:pt x="3500" y="115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5200" y="2513160"/>
              <a:ext cx="3060720" cy="171360"/>
            </a:xfrm>
            <a:custGeom>
              <a:avLst/>
              <a:gdLst/>
              <a:ahLst/>
              <a:rect l="l" t="t" r="r" b="b"/>
              <a:pathLst>
                <a:path w="1928" h="108">
                  <a:moveTo>
                    <a:pt x="0" y="0"/>
                  </a:moveTo>
                  <a:lnTo>
                    <a:pt x="1927" y="0"/>
                  </a:lnTo>
                  <a:lnTo>
                    <a:pt x="1927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35200" y="2060640"/>
              <a:ext cx="3611520" cy="183960"/>
            </a:xfrm>
            <a:custGeom>
              <a:avLst/>
              <a:gdLst/>
              <a:ahLst/>
              <a:rect l="l" t="t" r="r" b="b"/>
              <a:pathLst>
                <a:path w="2275" h="116">
                  <a:moveTo>
                    <a:pt x="0" y="0"/>
                  </a:moveTo>
                  <a:lnTo>
                    <a:pt x="2274" y="0"/>
                  </a:lnTo>
                  <a:lnTo>
                    <a:pt x="2274" y="115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35200" y="1620720"/>
              <a:ext cx="1947960" cy="171720"/>
            </a:xfrm>
            <a:custGeom>
              <a:avLst/>
              <a:gdLst/>
              <a:ahLst/>
              <a:rect l="l" t="t" r="r" b="b"/>
              <a:pathLst>
                <a:path w="1227" h="108">
                  <a:moveTo>
                    <a:pt x="0" y="0"/>
                  </a:moveTo>
                  <a:lnTo>
                    <a:pt x="1226" y="0"/>
                  </a:lnTo>
                  <a:lnTo>
                    <a:pt x="1226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35200" y="4602240"/>
              <a:ext cx="69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43216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3056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81492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51332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028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90868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60564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29144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98840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686800" y="46018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7280" y="1587600"/>
              <a:ext cx="0" cy="31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18920" y="4638600"/>
              <a:ext cx="2628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4136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3796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376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2252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1948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608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484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064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97600" y="4629240"/>
              <a:ext cx="3405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57480" y="4629240"/>
              <a:ext cx="5432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1360" y="4184640"/>
              <a:ext cx="11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Cost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Productivit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8560" y="3789360"/>
              <a:ext cx="7412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Qualit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1800" y="3349800"/>
              <a:ext cx="10094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3040" y="2897280"/>
              <a:ext cx="10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lliances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Network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360" y="2457360"/>
              <a:ext cx="9194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Flexibilit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160" y="1906560"/>
              <a:ext cx="1596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ime to market /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Responsiveness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3560" y="1565280"/>
              <a:ext cx="11480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Outsourc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 line with the expected key changes and issues, more effective management of knowledge is required in the near future (84%)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ly 4% of respondents regard current level of managing knowledge appropriate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ill a Long Way to Go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6280" y="1028880"/>
            <a:ext cx="8785440" cy="478152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600" y="1343160"/>
            <a:ext cx="38743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Information transformed into 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New ideas are stimulate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Knowledge-creation is structured proc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Knowledge is available at right pla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Mistakes used as learning experienc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Improvement o.b.o. experiences and best practi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Knowledge is re-used</a:t>
            </a:r>
            <a:br>
              <a:rPr sz="1400"/>
            </a:br>
            <a:r>
              <a:rPr b="0" lang="en-US" sz="1400" spc="-1" strike="noStrike">
                <a:solidFill>
                  <a:srgbClr val="000020"/>
                </a:solidFill>
                <a:latin typeface="Univers 45 Light"/>
              </a:rPr>
              <a:t>(not re-inventing the wheel)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People's competencies are mapped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No overflow of inform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Univers 45 Light"/>
              </a:rPr>
              <a:t>Sufficient time to share 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Univers 45 Light"/>
              </a:rPr>
              <a:t>Willingness to share knowledg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33840" y="1092240"/>
            <a:ext cx="4305240" cy="444600"/>
          </a:xfrm>
          <a:prstGeom prst="rect">
            <a:avLst/>
          </a:prstGeom>
          <a:solidFill>
            <a:srgbClr val="aeaeff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915800" y="5543640"/>
            <a:ext cx="3519360" cy="332280"/>
            <a:chOff x="4915800" y="5543640"/>
            <a:chExt cx="3519360" cy="332280"/>
          </a:xfrm>
        </p:grpSpPr>
        <p:sp>
          <p:nvSpPr>
            <p:cNvPr id="377" name=""/>
            <p:cNvSpPr/>
            <p:nvPr/>
          </p:nvSpPr>
          <p:spPr>
            <a:xfrm>
              <a:off x="600480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524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5724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15800" y="5543640"/>
              <a:ext cx="27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24480" y="1603440"/>
            <a:ext cx="4343400" cy="3981240"/>
            <a:chOff x="4524480" y="1603440"/>
            <a:chExt cx="4343400" cy="3981240"/>
          </a:xfrm>
        </p:grpSpPr>
        <p:sp>
          <p:nvSpPr>
            <p:cNvPr id="382" name=""/>
            <p:cNvSpPr/>
            <p:nvPr/>
          </p:nvSpPr>
          <p:spPr>
            <a:xfrm>
              <a:off x="4530960" y="1611360"/>
              <a:ext cx="4330800" cy="396720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6772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5348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924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25000" y="1603440"/>
              <a:ext cx="0" cy="398124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24480" y="196704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24480" y="232884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24480" y="269064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24480" y="305280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4480" y="341460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4480" y="377676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480" y="413856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4480" y="450072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24480" y="486108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4480" y="5222880"/>
              <a:ext cx="4343400" cy="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10600" y="1604880"/>
              <a:ext cx="0" cy="397692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96360" y="1604880"/>
              <a:ext cx="0" cy="397692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0960" y="1682640"/>
              <a:ext cx="2251080" cy="15876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30960" y="2044800"/>
              <a:ext cx="1870200" cy="17784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30960" y="2406600"/>
              <a:ext cx="2251080" cy="19692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30960" y="3130560"/>
              <a:ext cx="2022480" cy="15876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30960" y="3492360"/>
              <a:ext cx="1565280" cy="17784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30960" y="3854520"/>
              <a:ext cx="2556000" cy="19692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30960" y="4216320"/>
              <a:ext cx="2860560" cy="216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30960" y="4578480"/>
              <a:ext cx="2708280" cy="1587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30960" y="4940280"/>
              <a:ext cx="2708280" cy="1778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30960" y="5375160"/>
              <a:ext cx="1946160" cy="12384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30960" y="2825640"/>
              <a:ext cx="2022480" cy="158760"/>
            </a:xfrm>
            <a:prstGeom prst="rect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9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791240" y="1201680"/>
            <a:ext cx="5810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Tru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41960" y="1201680"/>
            <a:ext cx="639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13000" y="1096920"/>
            <a:ext cx="8186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Slightl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Tru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60600" y="1096920"/>
            <a:ext cx="8186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Slightl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Fals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240" y="57909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 companies acknowledge that managing knowledge can be improved for a wide range of aspects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T Infrastructure &amp; Softwa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94200" y="838080"/>
            <a:ext cx="8526960" cy="4807080"/>
            <a:chOff x="394200" y="838080"/>
            <a:chExt cx="8526960" cy="4807080"/>
          </a:xfrm>
        </p:grpSpPr>
        <p:sp>
          <p:nvSpPr>
            <p:cNvPr id="418" name=""/>
            <p:cNvSpPr/>
            <p:nvPr/>
          </p:nvSpPr>
          <p:spPr>
            <a:xfrm>
              <a:off x="1260000" y="838080"/>
              <a:ext cx="7536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Univers 45 Light"/>
                </a:rPr>
                <a:t> </a:t>
              </a:r>
              <a:r>
                <a:rPr b="0" lang="en-US" sz="1600" spc="-1" strike="noStrike">
                  <a:solidFill>
                    <a:srgbClr val="000080"/>
                  </a:solidFill>
                  <a:latin typeface="Univers 45 Light"/>
                </a:rPr>
                <a:t>IT infrastructure and software used to collect, share and analyze information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960" y="1079280"/>
              <a:ext cx="849636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33680" y="1184040"/>
              <a:ext cx="6105600" cy="4008600"/>
            </a:xfrm>
            <a:custGeom>
              <a:avLst/>
              <a:gdLst/>
              <a:ahLst/>
              <a:rect l="l" t="t" r="r" b="b"/>
              <a:pathLst>
                <a:path w="3846" h="2525">
                  <a:moveTo>
                    <a:pt x="0" y="0"/>
                  </a:moveTo>
                  <a:lnTo>
                    <a:pt x="3845" y="0"/>
                  </a:lnTo>
                  <a:lnTo>
                    <a:pt x="3845" y="2524"/>
                  </a:lnTo>
                  <a:lnTo>
                    <a:pt x="0" y="2524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510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5300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896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7052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864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0244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0400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1996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2152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6374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33680" y="1184040"/>
              <a:ext cx="6105600" cy="4008600"/>
            </a:xfrm>
            <a:custGeom>
              <a:avLst/>
              <a:gdLst/>
              <a:ahLst/>
              <a:rect l="l" t="t" r="r" b="b"/>
              <a:pathLst>
                <a:path w="3846" h="2525">
                  <a:moveTo>
                    <a:pt x="0" y="0"/>
                  </a:moveTo>
                  <a:lnTo>
                    <a:pt x="3845" y="0"/>
                  </a:lnTo>
                  <a:lnTo>
                    <a:pt x="3845" y="2524"/>
                  </a:lnTo>
                  <a:lnTo>
                    <a:pt x="0" y="25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33680" y="4843440"/>
              <a:ext cx="1220760" cy="204840"/>
            </a:xfrm>
            <a:custGeom>
              <a:avLst/>
              <a:gdLst/>
              <a:ahLst/>
              <a:rect l="l" t="t" r="r" b="b"/>
              <a:pathLst>
                <a:path w="769" h="129">
                  <a:moveTo>
                    <a:pt x="0" y="0"/>
                  </a:moveTo>
                  <a:lnTo>
                    <a:pt x="768" y="0"/>
                  </a:lnTo>
                  <a:lnTo>
                    <a:pt x="768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33680" y="4340160"/>
              <a:ext cx="1954080" cy="204840"/>
            </a:xfrm>
            <a:custGeom>
              <a:avLst/>
              <a:gdLst/>
              <a:ahLst/>
              <a:rect l="l" t="t" r="r" b="b"/>
              <a:pathLst>
                <a:path w="1231" h="129">
                  <a:moveTo>
                    <a:pt x="0" y="0"/>
                  </a:moveTo>
                  <a:lnTo>
                    <a:pt x="1230" y="0"/>
                  </a:lnTo>
                  <a:lnTo>
                    <a:pt x="1230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33680" y="3848040"/>
              <a:ext cx="485640" cy="193680"/>
            </a:xfrm>
            <a:custGeom>
              <a:avLst/>
              <a:gdLst/>
              <a:ahLst/>
              <a:rect l="l" t="t" r="r" b="b"/>
              <a:pathLst>
                <a:path w="306" h="122">
                  <a:moveTo>
                    <a:pt x="0" y="0"/>
                  </a:moveTo>
                  <a:lnTo>
                    <a:pt x="305" y="0"/>
                  </a:lnTo>
                  <a:lnTo>
                    <a:pt x="305" y="121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33680" y="3343320"/>
              <a:ext cx="3670200" cy="206280"/>
            </a:xfrm>
            <a:custGeom>
              <a:avLst/>
              <a:gdLst/>
              <a:ahLst/>
              <a:rect l="l" t="t" r="r" b="b"/>
              <a:pathLst>
                <a:path w="2312" h="130">
                  <a:moveTo>
                    <a:pt x="0" y="0"/>
                  </a:moveTo>
                  <a:lnTo>
                    <a:pt x="2311" y="0"/>
                  </a:lnTo>
                  <a:lnTo>
                    <a:pt x="2311" y="129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33680" y="2840040"/>
              <a:ext cx="4403520" cy="204840"/>
            </a:xfrm>
            <a:custGeom>
              <a:avLst/>
              <a:gdLst/>
              <a:ahLst/>
              <a:rect l="l" t="t" r="r" b="b"/>
              <a:pathLst>
                <a:path w="2774" h="129">
                  <a:moveTo>
                    <a:pt x="0" y="0"/>
                  </a:moveTo>
                  <a:lnTo>
                    <a:pt x="2773" y="0"/>
                  </a:lnTo>
                  <a:lnTo>
                    <a:pt x="2773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33680" y="2336760"/>
              <a:ext cx="1220760" cy="204840"/>
            </a:xfrm>
            <a:custGeom>
              <a:avLst/>
              <a:gdLst/>
              <a:ahLst/>
              <a:rect l="l" t="t" r="r" b="b"/>
              <a:pathLst>
                <a:path w="769" h="129">
                  <a:moveTo>
                    <a:pt x="0" y="0"/>
                  </a:moveTo>
                  <a:lnTo>
                    <a:pt x="768" y="0"/>
                  </a:lnTo>
                  <a:lnTo>
                    <a:pt x="768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33680" y="1844640"/>
              <a:ext cx="4403520" cy="193680"/>
            </a:xfrm>
            <a:custGeom>
              <a:avLst/>
              <a:gdLst/>
              <a:ahLst/>
              <a:rect l="l" t="t" r="r" b="b"/>
              <a:pathLst>
                <a:path w="2774" h="122">
                  <a:moveTo>
                    <a:pt x="0" y="0"/>
                  </a:moveTo>
                  <a:lnTo>
                    <a:pt x="2773" y="0"/>
                  </a:lnTo>
                  <a:lnTo>
                    <a:pt x="2773" y="121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33680" y="1339920"/>
              <a:ext cx="5637240" cy="206280"/>
            </a:xfrm>
            <a:custGeom>
              <a:avLst/>
              <a:gdLst/>
              <a:ahLst/>
              <a:rect l="l" t="t" r="r" b="b"/>
              <a:pathLst>
                <a:path w="3551" h="130">
                  <a:moveTo>
                    <a:pt x="0" y="0"/>
                  </a:moveTo>
                  <a:lnTo>
                    <a:pt x="3550" y="0"/>
                  </a:lnTo>
                  <a:lnTo>
                    <a:pt x="3550" y="129"/>
                  </a:lnTo>
                  <a:lnTo>
                    <a:pt x="0" y="12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33680" y="5191200"/>
              <a:ext cx="610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5336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1510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75300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36896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497052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5864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20244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80400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1996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802152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637480" y="51908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3680" y="1184040"/>
              <a:ext cx="0" cy="40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72760" y="5222880"/>
              <a:ext cx="255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4444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4600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6196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6352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7948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9724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9880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1476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16320" y="522288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13200" y="5248080"/>
              <a:ext cx="5079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2520" y="4707000"/>
              <a:ext cx="16848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Expert/Decis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support software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97560" y="4282920"/>
              <a:ext cx="60264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ERP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4840" y="3778200"/>
              <a:ext cx="18432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Workflow software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41360" y="3282840"/>
              <a:ext cx="11862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Groupware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4200" y="2687760"/>
              <a:ext cx="21038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Database/Document</a:t>
              </a:r>
              <a:br>
                <a:rPr sz="1600"/>
              </a:b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Management System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57360" y="2273400"/>
              <a:ext cx="94104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Extranet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25040" y="1778040"/>
              <a:ext cx="8722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25040" y="1263600"/>
              <a:ext cx="8722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11920" y="540072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240" y="54864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net, intranet, databases and groupware are used by more than 50% of the respond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kflow software is rarely u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ision and the Human Facto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76800" y="2095560"/>
            <a:ext cx="1108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640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48320" y="2095560"/>
            <a:ext cx="1170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97800" y="2095560"/>
            <a:ext cx="11066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15960" y="1682640"/>
            <a:ext cx="7531200" cy="3873600"/>
            <a:chOff x="615960" y="1682640"/>
            <a:chExt cx="7531200" cy="3873600"/>
          </a:xfrm>
        </p:grpSpPr>
        <p:sp>
          <p:nvSpPr>
            <p:cNvPr id="481" name=""/>
            <p:cNvSpPr/>
            <p:nvPr/>
          </p:nvSpPr>
          <p:spPr>
            <a:xfrm>
              <a:off x="615960" y="1682640"/>
              <a:ext cx="7531200" cy="387360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98760" y="2468520"/>
              <a:ext cx="4353120" cy="268308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21080" y="1835280"/>
              <a:ext cx="4330800" cy="450720"/>
            </a:xfrm>
            <a:prstGeom prst="rect">
              <a:avLst/>
            </a:prstGeom>
            <a:solidFill>
              <a:srgbClr val="e3e3e3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3920" y="2360520"/>
              <a:ext cx="2647440" cy="27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</a:rPr>
                <a:t>Vision / Strategy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</a:rPr>
                <a:t>Organizational structur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</a:rPr>
                <a:t>IT system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</a:rPr>
                <a:t>Personnel (profile, attitude)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Univers 45 Light"/>
                </a:rPr>
                <a:t>Cultur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Univers 45 Light"/>
                </a:rPr>
                <a:t>Management styl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1440" y="1866960"/>
              <a:ext cx="150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800" spc="-1" strike="noStrike">
                  <a:solidFill>
                    <a:srgbClr val="000020"/>
                  </a:solidFill>
                  <a:latin typeface="Times New Roman"/>
                </a:rPr>
                <a:t>Not important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31160" y="1866960"/>
              <a:ext cx="160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i="1" lang="en-US" sz="1800" spc="-1" strike="noStrike">
                  <a:solidFill>
                    <a:srgbClr val="000080"/>
                  </a:solidFill>
                  <a:latin typeface="Times New Roman"/>
                </a:rPr>
                <a:t>Very important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25520" y="524520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06600" y="524520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97400" y="524664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43000" y="5245200"/>
              <a:ext cx="258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1080" y="2997360"/>
              <a:ext cx="236376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1080" y="3454560"/>
              <a:ext cx="271944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1080" y="3911760"/>
              <a:ext cx="315108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1080" y="4368960"/>
              <a:ext cx="331632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1080" y="4826160"/>
              <a:ext cx="2897280" cy="2347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21080" y="2558880"/>
              <a:ext cx="3544920" cy="21600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5748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360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2936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5120" y="2460600"/>
              <a:ext cx="0" cy="2720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14600" y="33386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14600" y="38527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14600" y="42721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4600" y="471024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00720" y="2462040"/>
              <a:ext cx="0" cy="2718000"/>
            </a:xfrm>
            <a:prstGeom prst="line">
              <a:avLst/>
            </a:prstGeom>
            <a:ln w="12600">
              <a:solidFill>
                <a:srgbClr val="0000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8648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72240" y="2462040"/>
              <a:ext cx="0" cy="271800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14600" y="2900520"/>
              <a:ext cx="4343400" cy="0"/>
            </a:xfrm>
            <a:prstGeom prst="line">
              <a:avLst/>
            </a:prstGeom>
            <a:ln w="1260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240" y="56383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must be vision-based and respect soft values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6280" y="1306440"/>
            <a:ext cx="8172360" cy="4541760"/>
          </a:xfrm>
          <a:prstGeom prst="rect">
            <a:avLst/>
          </a:prstGeom>
          <a:solidFill>
            <a:srgbClr val="fe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41560" y="1957320"/>
            <a:ext cx="3482280" cy="3473640"/>
            <a:chOff x="1141560" y="1957320"/>
            <a:chExt cx="3482280" cy="3473640"/>
          </a:xfrm>
        </p:grpSpPr>
        <p:sp>
          <p:nvSpPr>
            <p:cNvPr id="514" name=""/>
            <p:cNvSpPr/>
            <p:nvPr/>
          </p:nvSpPr>
          <p:spPr>
            <a:xfrm>
              <a:off x="1146600" y="1959120"/>
              <a:ext cx="3475800" cy="347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2" y="1"/>
                  </a:moveTo>
                  <a:arcTo wR="10800" hR="10800" stAng="-5434533" swAng="7830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2" y="1"/>
                  </a:moveTo>
                  <a:arcTo wR="10800" hR="10800" stAng="-5434533" swAng="7830388"/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4080" y="1960560"/>
              <a:ext cx="3479040" cy="347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20" y="17563"/>
                  </a:moveTo>
                  <a:arcTo wR="10800" hR="10800" stAng="2326150" swAng="7036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20" y="17563"/>
                  </a:moveTo>
                  <a:arcTo wR="10800" hR="10800" stAng="2326150" swAng="7036429"/>
                </a:path>
              </a:pathLst>
            </a:custGeom>
            <a:solidFill>
              <a:srgbClr val="eeaf36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41560" y="1957320"/>
              <a:ext cx="3482280" cy="347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8" y="15180"/>
                  </a:moveTo>
                  <a:arcTo wR="10800" hR="10800" stAng="9364435" swAng="6797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928" y="15180"/>
                  </a:moveTo>
                  <a:arcTo wR="10800" hR="10800" stAng="9364435" swAng="6797944"/>
                </a:path>
              </a:pathLst>
            </a:custGeom>
            <a:solidFill>
              <a:srgbClr val="30c2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81400" y="2863800"/>
              <a:ext cx="9349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36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2600" y="4433760"/>
              <a:ext cx="9349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32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9040" y="2863800"/>
              <a:ext cx="93492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>
              <a:spAutoFit/>
            </a:bodyPr>
            <a:p>
              <a:pPr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32%</a:t>
              </a:r>
              <a:endParaRPr b="0" lang="en-US" sz="2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534280" y="3035160"/>
            <a:ext cx="28026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e62a05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in pl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prepar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eeaf3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ing/Investigat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30c2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mplem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7200" y="838080"/>
            <a:ext cx="8172360" cy="4267080"/>
            <a:chOff x="457200" y="838080"/>
            <a:chExt cx="8172360" cy="4267080"/>
          </a:xfrm>
        </p:grpSpPr>
        <p:sp>
          <p:nvSpPr>
            <p:cNvPr id="524" name=""/>
            <p:cNvSpPr/>
            <p:nvPr/>
          </p:nvSpPr>
          <p:spPr>
            <a:xfrm>
              <a:off x="457200" y="838080"/>
              <a:ext cx="8172360" cy="42670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97160" y="990360"/>
              <a:ext cx="4381200" cy="3896280"/>
              <a:chOff x="497160" y="990360"/>
              <a:chExt cx="4381200" cy="3896280"/>
            </a:xfrm>
          </p:grpSpPr>
          <p:sp>
            <p:nvSpPr>
              <p:cNvPr id="526" name=""/>
              <p:cNvSpPr/>
              <p:nvPr/>
            </p:nvSpPr>
            <p:spPr>
              <a:xfrm>
                <a:off x="903240" y="990360"/>
                <a:ext cx="3975120" cy="3503520"/>
              </a:xfrm>
              <a:custGeom>
                <a:avLst/>
                <a:gdLst/>
                <a:ahLst/>
                <a:rect l="l" t="t" r="r" b="b"/>
                <a:pathLst>
                  <a:path w="2504" h="2207">
                    <a:moveTo>
                      <a:pt x="0" y="0"/>
                    </a:moveTo>
                    <a:lnTo>
                      <a:pt x="0" y="2206"/>
                    </a:lnTo>
                    <a:lnTo>
                      <a:pt x="2503" y="2206"/>
                    </a:lnTo>
                  </a:path>
                </a:pathLst>
              </a:custGeom>
              <a:noFill/>
              <a:ln cap="rnd" w="50760">
                <a:solidFill>
                  <a:srgbClr val="00cece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33480" y="4587480"/>
                <a:ext cx="371304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001"/>
                  </a:spcBef>
                  <a:tabLst>
                    <a:tab algn="l" pos="0"/>
                    <a:tab algn="ctr" pos="476280"/>
                    <a:tab algn="ctr" pos="1714680"/>
                    <a:tab algn="ctr" pos="295272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995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995-1998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998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052640" y="3765240"/>
                <a:ext cx="939600" cy="71424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46b123"/>
                  </a:gs>
                </a:gsLst>
                <a:lin ang="5400000"/>
              </a:gradFill>
              <a:ln w="255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02080" y="3419280"/>
                <a:ext cx="939600" cy="106020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46b123"/>
                  </a:gs>
                </a:gsLst>
                <a:lin ang="5400000"/>
              </a:gradFill>
              <a:ln w="255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286000" y="2104560"/>
                <a:ext cx="939960" cy="23749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46b123"/>
                  </a:gs>
                </a:gsLst>
                <a:lin ang="5400000"/>
              </a:gradFill>
              <a:ln w="255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7160" y="1265040"/>
                <a:ext cx="533880" cy="34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7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6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5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4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3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2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1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0"/>
                    </a:solidFill>
                    <a:latin typeface="Arial"/>
                  </a:rPr>
                  <a:t>0 -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403960" y="996840"/>
              <a:ext cx="2899800" cy="4001400"/>
              <a:chOff x="5403960" y="996840"/>
              <a:chExt cx="2899800" cy="400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5405760" y="997920"/>
                <a:ext cx="2894760" cy="289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55" y="9816"/>
                    </a:moveTo>
                    <a:arcTo wR="10800" hR="10800" stAng="-313543" swAng="35505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55" y="9816"/>
                    </a:moveTo>
                    <a:arcTo wR="10800" hR="10800" stAng="-313543" swAng="3550577"/>
                  </a:path>
                </a:pathLst>
              </a:custGeom>
              <a:solidFill>
                <a:srgbClr val="e62a05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08280" y="998640"/>
                <a:ext cx="2895480" cy="28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09" y="19342"/>
                    </a:moveTo>
                    <a:arcTo wR="10800" hR="10800" stAng="3136197" swAng="62277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09" y="19342"/>
                    </a:moveTo>
                    <a:arcTo wR="10800" hR="10800" stAng="3136197" swAng="6227780"/>
                  </a:path>
                </a:pathLst>
              </a:custGeom>
              <a:solidFill>
                <a:srgbClr val="eeaf3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03960" y="996840"/>
                <a:ext cx="2898360" cy="289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29" y="15181"/>
                    </a:moveTo>
                    <a:arcTo wR="10800" hR="10800" stAng="9363977" swAng="121907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29" y="15181"/>
                    </a:moveTo>
                    <a:arcTo wR="10800" hR="10800" stAng="9363977" swAng="12190718"/>
                  </a:path>
                </a:pathLst>
              </a:custGeom>
              <a:solidFill>
                <a:srgbClr val="30c2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19800" y="2560320"/>
                <a:ext cx="9126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760" bIns="5076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1065240"/>
                    <a:tab algn="l" pos="2130480"/>
                    <a:tab algn="l" pos="3195720"/>
                    <a:tab algn="l" pos="4260960"/>
                    <a:tab algn="l" pos="5326200"/>
                    <a:tab algn="l" pos="6391440"/>
                    <a:tab algn="l" pos="7456320"/>
                    <a:tab algn="l" pos="8521560"/>
                    <a:tab algn="l" pos="9586800"/>
                    <a:tab algn="l" pos="10652040"/>
                  </a:tabLst>
                </a:pPr>
                <a:r>
                  <a:rPr b="1" lang="en-US" sz="2800" spc="-1" strike="noStrike">
                    <a:solidFill>
                      <a:srgbClr val="000020"/>
                    </a:solidFill>
                    <a:latin typeface="Arial"/>
                  </a:rPr>
                  <a:t>12%</a:t>
                </a:r>
                <a:endParaRPr b="0" lang="en-US" sz="2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10360" y="3012840"/>
                <a:ext cx="9126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760" bIns="5076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1065240"/>
                    <a:tab algn="l" pos="2130480"/>
                    <a:tab algn="l" pos="3195720"/>
                    <a:tab algn="l" pos="4260960"/>
                    <a:tab algn="l" pos="5326200"/>
                    <a:tab algn="l" pos="6391440"/>
                    <a:tab algn="l" pos="7456320"/>
                    <a:tab algn="l" pos="8521560"/>
                    <a:tab algn="l" pos="9586800"/>
                    <a:tab algn="l" pos="10652040"/>
                  </a:tabLst>
                </a:pPr>
                <a:r>
                  <a:rPr b="1" lang="en-US" sz="2800" spc="-1" strike="noStrike">
                    <a:solidFill>
                      <a:srgbClr val="000020"/>
                    </a:solidFill>
                    <a:latin typeface="Arial"/>
                  </a:rPr>
                  <a:t>25%</a:t>
                </a:r>
                <a:endParaRPr b="0" lang="en-US" sz="2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283440" y="1504800"/>
                <a:ext cx="9126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760" bIns="5076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1065240"/>
                    <a:tab algn="l" pos="2130480"/>
                    <a:tab algn="l" pos="3195720"/>
                    <a:tab algn="l" pos="4260960"/>
                    <a:tab algn="l" pos="5326200"/>
                    <a:tab algn="l" pos="6391440"/>
                    <a:tab algn="l" pos="7456320"/>
                    <a:tab algn="l" pos="8521560"/>
                    <a:tab algn="l" pos="9586800"/>
                    <a:tab algn="l" pos="10652040"/>
                  </a:tabLst>
                </a:pPr>
                <a:r>
                  <a:rPr b="1" lang="en-US" sz="2800" spc="-1" strike="noStrike">
                    <a:solidFill>
                      <a:srgbClr val="000020"/>
                    </a:solidFill>
                    <a:latin typeface="Arial"/>
                  </a:rPr>
                  <a:t>63%</a:t>
                </a:r>
                <a:endParaRPr b="0" lang="en-US" sz="2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13360" y="4103280"/>
                <a:ext cx="2119680" cy="89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110000"/>
                  </a:lnSpc>
                  <a:buClr>
                    <a:srgbClr val="66ff33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20"/>
                    </a:solidFill>
                    <a:latin typeface="Univers 45 Light"/>
                  </a:rPr>
                  <a:t>Company level 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285840" indent="-285840">
                  <a:lnSpc>
                    <a:spcPct val="110000"/>
                  </a:lnSpc>
                  <a:buClr>
                    <a:srgbClr val="eeaf36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20"/>
                    </a:solidFill>
                    <a:latin typeface="Univers 45 Light"/>
                  </a:rPr>
                  <a:t>Division/BU level 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285840" indent="-285840">
                  <a:lnSpc>
                    <a:spcPct val="110000"/>
                  </a:lnSpc>
                  <a:buClr>
                    <a:srgbClr val="e62a05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20"/>
                    </a:solidFill>
                    <a:latin typeface="Univers 45 Light"/>
                  </a:rPr>
                  <a:t>Department level</a:t>
                </a:r>
                <a:endParaRPr b="0" lang="en-US" sz="16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5029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anies that have been preparing for a launch for 2 years may lose critical commitment to implement knowledge management successfully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ffectiveness of initiatives at departmental level is doubtful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asons for 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34440" y="1465200"/>
            <a:ext cx="8574480" cy="3770280"/>
            <a:chOff x="334440" y="1465200"/>
            <a:chExt cx="8574480" cy="3770280"/>
          </a:xfrm>
        </p:grpSpPr>
        <p:sp>
          <p:nvSpPr>
            <p:cNvPr id="544" name=""/>
            <p:cNvSpPr/>
            <p:nvPr/>
          </p:nvSpPr>
          <p:spPr>
            <a:xfrm>
              <a:off x="369720" y="1465200"/>
              <a:ext cx="8539200" cy="377028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8120" y="1736640"/>
              <a:ext cx="5556240" cy="3102120"/>
            </a:xfrm>
            <a:custGeom>
              <a:avLst/>
              <a:gdLst/>
              <a:ahLst/>
              <a:rect l="l" t="t" r="r" b="b"/>
              <a:pathLst>
                <a:path w="3500" h="1954">
                  <a:moveTo>
                    <a:pt x="0" y="0"/>
                  </a:moveTo>
                  <a:lnTo>
                    <a:pt x="3499" y="0"/>
                  </a:lnTo>
                  <a:lnTo>
                    <a:pt x="3499" y="1953"/>
                  </a:lnTo>
                  <a:lnTo>
                    <a:pt x="0" y="1953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418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37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260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30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4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1692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1064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2560" y="1736640"/>
              <a:ext cx="0" cy="31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8120" y="1736640"/>
              <a:ext cx="5556240" cy="3102120"/>
            </a:xfrm>
            <a:custGeom>
              <a:avLst/>
              <a:gdLst/>
              <a:ahLst/>
              <a:rect l="l" t="t" r="r" b="b"/>
              <a:pathLst>
                <a:path w="3500" h="1954">
                  <a:moveTo>
                    <a:pt x="0" y="0"/>
                  </a:moveTo>
                  <a:lnTo>
                    <a:pt x="3499" y="0"/>
                  </a:lnTo>
                  <a:lnTo>
                    <a:pt x="3499" y="1953"/>
                  </a:lnTo>
                  <a:lnTo>
                    <a:pt x="0" y="195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8120" y="4467240"/>
              <a:ext cx="909360" cy="222120"/>
            </a:xfrm>
            <a:custGeom>
              <a:avLst/>
              <a:gdLst/>
              <a:ahLst/>
              <a:rect l="l" t="t" r="r" b="b"/>
              <a:pathLst>
                <a:path w="573" h="140">
                  <a:moveTo>
                    <a:pt x="0" y="0"/>
                  </a:moveTo>
                  <a:lnTo>
                    <a:pt x="572" y="0"/>
                  </a:lnTo>
                  <a:lnTo>
                    <a:pt x="572" y="139"/>
                  </a:lnTo>
                  <a:lnTo>
                    <a:pt x="0" y="13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3959280"/>
              <a:ext cx="4792680" cy="209520"/>
            </a:xfrm>
            <a:custGeom>
              <a:avLst/>
              <a:gdLst/>
              <a:ahLst/>
              <a:rect l="l" t="t" r="r" b="b"/>
              <a:pathLst>
                <a:path w="3019" h="132">
                  <a:moveTo>
                    <a:pt x="0" y="0"/>
                  </a:moveTo>
                  <a:lnTo>
                    <a:pt x="3018" y="0"/>
                  </a:lnTo>
                  <a:lnTo>
                    <a:pt x="3018" y="131"/>
                  </a:lnTo>
                  <a:lnTo>
                    <a:pt x="0" y="13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3438360"/>
              <a:ext cx="1733400" cy="220680"/>
            </a:xfrm>
            <a:custGeom>
              <a:avLst/>
              <a:gdLst/>
              <a:ahLst/>
              <a:rect l="l" t="t" r="r" b="b"/>
              <a:pathLst>
                <a:path w="1092" h="139">
                  <a:moveTo>
                    <a:pt x="0" y="0"/>
                  </a:moveTo>
                  <a:lnTo>
                    <a:pt x="1091" y="0"/>
                  </a:lnTo>
                  <a:lnTo>
                    <a:pt x="1091" y="138"/>
                  </a:lnTo>
                  <a:lnTo>
                    <a:pt x="0" y="13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48120" y="2917800"/>
              <a:ext cx="3895560" cy="220680"/>
            </a:xfrm>
            <a:custGeom>
              <a:avLst/>
              <a:gdLst/>
              <a:ahLst/>
              <a:rect l="l" t="t" r="r" b="b"/>
              <a:pathLst>
                <a:path w="2454" h="139">
                  <a:moveTo>
                    <a:pt x="0" y="0"/>
                  </a:moveTo>
                  <a:lnTo>
                    <a:pt x="2453" y="0"/>
                  </a:lnTo>
                  <a:lnTo>
                    <a:pt x="2453" y="138"/>
                  </a:lnTo>
                  <a:lnTo>
                    <a:pt x="0" y="138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2408400"/>
              <a:ext cx="3477960" cy="209520"/>
            </a:xfrm>
            <a:custGeom>
              <a:avLst/>
              <a:gdLst/>
              <a:ahLst/>
              <a:rect l="l" t="t" r="r" b="b"/>
              <a:pathLst>
                <a:path w="2191" h="132">
                  <a:moveTo>
                    <a:pt x="0" y="0"/>
                  </a:moveTo>
                  <a:lnTo>
                    <a:pt x="2190" y="0"/>
                  </a:lnTo>
                  <a:lnTo>
                    <a:pt x="2190" y="131"/>
                  </a:lnTo>
                  <a:lnTo>
                    <a:pt x="0" y="131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8120" y="1887480"/>
              <a:ext cx="2641320" cy="222480"/>
            </a:xfrm>
            <a:custGeom>
              <a:avLst/>
              <a:gdLst/>
              <a:ahLst/>
              <a:rect l="l" t="t" r="r" b="b"/>
              <a:pathLst>
                <a:path w="1664" h="140">
                  <a:moveTo>
                    <a:pt x="0" y="0"/>
                  </a:moveTo>
                  <a:lnTo>
                    <a:pt x="1663" y="0"/>
                  </a:lnTo>
                  <a:lnTo>
                    <a:pt x="1663" y="139"/>
                  </a:lnTo>
                  <a:lnTo>
                    <a:pt x="0" y="13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4836960"/>
              <a:ext cx="55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7418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43376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1260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3092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5246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21692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91064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8602560" y="4836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11400" y="483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1400" y="431640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11400" y="38084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11400" y="328788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11400" y="27669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11400" y="225756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11400" y="173664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93320" y="4862520"/>
              <a:ext cx="2552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5068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440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3668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4156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3528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2720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0920" y="4862520"/>
              <a:ext cx="3250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13200" y="4862520"/>
              <a:ext cx="4381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4560" y="4495680"/>
              <a:ext cx="7635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5360" y="3343320"/>
              <a:ext cx="255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staff attitude/morale/competenci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5400" y="2824200"/>
              <a:ext cx="2061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potential for</a:t>
              </a:r>
              <a:br>
                <a:rPr sz="1400"/>
              </a:b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4440" y="2406600"/>
              <a:ext cx="27241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market performanc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9520" y="1876320"/>
              <a:ext cx="2670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execute a strategic direc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9360" y="3881520"/>
              <a:ext cx="23263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To improve communic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nd decision-mak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ther key motives touch upon innovation potential, market performance or a strategic direction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&amp;D and 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03440" y="1306440"/>
            <a:ext cx="7738920" cy="3749400"/>
            <a:chOff x="703440" y="1306440"/>
            <a:chExt cx="7738920" cy="3749400"/>
          </a:xfrm>
        </p:grpSpPr>
        <p:sp>
          <p:nvSpPr>
            <p:cNvPr id="596" name=""/>
            <p:cNvSpPr/>
            <p:nvPr/>
          </p:nvSpPr>
          <p:spPr>
            <a:xfrm>
              <a:off x="703440" y="1306440"/>
              <a:ext cx="7738920" cy="37450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749160" y="1459080"/>
              <a:ext cx="7643160" cy="3596760"/>
              <a:chOff x="749160" y="1459080"/>
              <a:chExt cx="7643160" cy="3596760"/>
            </a:xfrm>
          </p:grpSpPr>
          <p:sp>
            <p:nvSpPr>
              <p:cNvPr id="598" name=""/>
              <p:cNvSpPr/>
              <p:nvPr/>
            </p:nvSpPr>
            <p:spPr>
              <a:xfrm>
                <a:off x="2743200" y="1744560"/>
                <a:ext cx="5373720" cy="3041640"/>
              </a:xfrm>
              <a:custGeom>
                <a:avLst/>
                <a:gdLst/>
                <a:ahLst/>
                <a:rect l="l" t="t" r="r" b="b"/>
                <a:pathLst>
                  <a:path w="3385" h="1916">
                    <a:moveTo>
                      <a:pt x="0" y="0"/>
                    </a:moveTo>
                    <a:lnTo>
                      <a:pt x="3384" y="0"/>
                    </a:lnTo>
                    <a:lnTo>
                      <a:pt x="3384" y="1915"/>
                    </a:lnTo>
                    <a:lnTo>
                      <a:pt x="0" y="19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1784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092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5452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2916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03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788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40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11548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43200" y="1744560"/>
                <a:ext cx="5373720" cy="3041640"/>
              </a:xfrm>
              <a:custGeom>
                <a:avLst/>
                <a:gdLst/>
                <a:ahLst/>
                <a:rect l="l" t="t" r="r" b="b"/>
                <a:pathLst>
                  <a:path w="3385" h="1916">
                    <a:moveTo>
                      <a:pt x="0" y="0"/>
                    </a:moveTo>
                    <a:lnTo>
                      <a:pt x="3384" y="0"/>
                    </a:lnTo>
                    <a:lnTo>
                      <a:pt x="3384" y="1915"/>
                    </a:lnTo>
                    <a:lnTo>
                      <a:pt x="0" y="191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43200" y="4545000"/>
                <a:ext cx="401760" cy="150840"/>
              </a:xfrm>
              <a:custGeom>
                <a:avLst/>
                <a:gdLst/>
                <a:ahLst/>
                <a:rect l="l" t="t" r="r" b="b"/>
                <a:pathLst>
                  <a:path w="253" h="95">
                    <a:moveTo>
                      <a:pt x="0" y="0"/>
                    </a:moveTo>
                    <a:lnTo>
                      <a:pt x="252" y="0"/>
                    </a:lnTo>
                    <a:lnTo>
                      <a:pt x="252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43200" y="4213080"/>
                <a:ext cx="1681200" cy="139680"/>
              </a:xfrm>
              <a:custGeom>
                <a:avLst/>
                <a:gdLst/>
                <a:ahLst/>
                <a:rect l="l" t="t" r="r" b="b"/>
                <a:pathLst>
                  <a:path w="1059" h="88">
                    <a:moveTo>
                      <a:pt x="0" y="0"/>
                    </a:moveTo>
                    <a:lnTo>
                      <a:pt x="1058" y="0"/>
                    </a:lnTo>
                    <a:lnTo>
                      <a:pt x="1058" y="87"/>
                    </a:lnTo>
                    <a:lnTo>
                      <a:pt x="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43200" y="3870360"/>
                <a:ext cx="1281240" cy="150840"/>
              </a:xfrm>
              <a:custGeom>
                <a:avLst/>
                <a:gdLst/>
                <a:ahLst/>
                <a:rect l="l" t="t" r="r" b="b"/>
                <a:pathLst>
                  <a:path w="807" h="95">
                    <a:moveTo>
                      <a:pt x="0" y="0"/>
                    </a:moveTo>
                    <a:lnTo>
                      <a:pt x="806" y="0"/>
                    </a:lnTo>
                    <a:lnTo>
                      <a:pt x="806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43200" y="3540240"/>
                <a:ext cx="4230720" cy="137880"/>
              </a:xfrm>
              <a:custGeom>
                <a:avLst/>
                <a:gdLst/>
                <a:ahLst/>
                <a:rect l="l" t="t" r="r" b="b"/>
                <a:pathLst>
                  <a:path w="2665" h="87">
                    <a:moveTo>
                      <a:pt x="0" y="0"/>
                    </a:moveTo>
                    <a:lnTo>
                      <a:pt x="2664" y="0"/>
                    </a:lnTo>
                    <a:lnTo>
                      <a:pt x="2664" y="86"/>
                    </a:ln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43200" y="3195720"/>
                <a:ext cx="1681200" cy="150840"/>
              </a:xfrm>
              <a:custGeom>
                <a:avLst/>
                <a:gdLst/>
                <a:ahLst/>
                <a:rect l="l" t="t" r="r" b="b"/>
                <a:pathLst>
                  <a:path w="1059" h="95">
                    <a:moveTo>
                      <a:pt x="0" y="0"/>
                    </a:moveTo>
                    <a:lnTo>
                      <a:pt x="1058" y="0"/>
                    </a:lnTo>
                    <a:lnTo>
                      <a:pt x="1058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43200" y="2865600"/>
                <a:ext cx="1281240" cy="137880"/>
              </a:xfrm>
              <a:custGeom>
                <a:avLst/>
                <a:gdLst/>
                <a:ahLst/>
                <a:rect l="l" t="t" r="r" b="b"/>
                <a:pathLst>
                  <a:path w="807" h="87">
                    <a:moveTo>
                      <a:pt x="0" y="0"/>
                    </a:moveTo>
                    <a:lnTo>
                      <a:pt x="806" y="0"/>
                    </a:lnTo>
                    <a:lnTo>
                      <a:pt x="806" y="86"/>
                    </a:ln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43200" y="2522520"/>
                <a:ext cx="2550960" cy="149400"/>
              </a:xfrm>
              <a:custGeom>
                <a:avLst/>
                <a:gdLst/>
                <a:ahLst/>
                <a:rect l="l" t="t" r="r" b="b"/>
                <a:pathLst>
                  <a:path w="1607" h="94">
                    <a:moveTo>
                      <a:pt x="0" y="0"/>
                    </a:moveTo>
                    <a:lnTo>
                      <a:pt x="1606" y="0"/>
                    </a:lnTo>
                    <a:lnTo>
                      <a:pt x="1606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43200" y="2190600"/>
                <a:ext cx="2082960" cy="138240"/>
              </a:xfrm>
              <a:custGeom>
                <a:avLst/>
                <a:gdLst/>
                <a:ahLst/>
                <a:rect l="l" t="t" r="r" b="b"/>
                <a:pathLst>
                  <a:path w="1312" h="87">
                    <a:moveTo>
                      <a:pt x="0" y="0"/>
                    </a:moveTo>
                    <a:lnTo>
                      <a:pt x="1311" y="0"/>
                    </a:lnTo>
                    <a:lnTo>
                      <a:pt x="1311" y="86"/>
                    </a:ln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43200" y="1847880"/>
                <a:ext cx="2962440" cy="149040"/>
              </a:xfrm>
              <a:custGeom>
                <a:avLst/>
                <a:gdLst/>
                <a:ahLst/>
                <a:rect l="l" t="t" r="r" b="b"/>
                <a:pathLst>
                  <a:path w="1866" h="94">
                    <a:moveTo>
                      <a:pt x="0" y="0"/>
                    </a:moveTo>
                    <a:lnTo>
                      <a:pt x="1865" y="0"/>
                    </a:lnTo>
                    <a:lnTo>
                      <a:pt x="186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743200" y="4784760"/>
                <a:ext cx="537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74320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41784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09248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75452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2916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10380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77880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44048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115480" y="4784400"/>
                <a:ext cx="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43200" y="1744560"/>
                <a:ext cx="0" cy="304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697120" y="4784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697120" y="44416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697120" y="4111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697120" y="37688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97120" y="343692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97120" y="3094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97120" y="27622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97120" y="2419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97120" y="208764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97120" y="17445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615760" y="4834080"/>
                <a:ext cx="25524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25692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3012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9360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26824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94324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1788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79920" y="4834080"/>
                <a:ext cx="325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954200" y="4834080"/>
                <a:ext cx="4381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749160" y="1459080"/>
                <a:ext cx="2030760" cy="3289680"/>
                <a:chOff x="749160" y="1459080"/>
                <a:chExt cx="2030760" cy="32896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895400" y="4475160"/>
                  <a:ext cx="88164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Logistics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312920" y="4133880"/>
                  <a:ext cx="146520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Sales/Marketing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72080" y="3828960"/>
                  <a:ext cx="170748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</a:rPr>
                    <a:t>Operations/Production</a:t>
                  </a:r>
                  <a:endParaRPr b="0" lang="en-US" sz="12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203920" y="3487680"/>
                  <a:ext cx="5691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R&amp;D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613880" y="3125880"/>
                  <a:ext cx="116208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</a:rPr>
                    <a:t>IT Department</a:t>
                  </a:r>
                  <a:endParaRPr b="0" lang="en-US" sz="12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184480" y="2792520"/>
                  <a:ext cx="5889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HRM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49160" y="2451240"/>
                  <a:ext cx="20307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Business Unit manager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936000" y="2125800"/>
                  <a:ext cx="18417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Arial"/>
                    </a:rPr>
                    <a:t>Chief Information Officer</a:t>
                  </a:r>
                  <a:endParaRPr b="0" lang="en-US" sz="12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79040" y="1814400"/>
                  <a:ext cx="109656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80"/>
                      </a:solidFill>
                      <a:latin typeface="Arial"/>
                    </a:rPr>
                    <a:t>Board/CEO</a:t>
                  </a:r>
                  <a:endParaRPr b="0" lang="en-US" sz="1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90960" y="1459080"/>
                  <a:ext cx="1478880" cy="29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r">
                    <a:lnSpc>
                      <a:spcPct val="85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80"/>
                      </a:solidFill>
                      <a:latin typeface="Arial"/>
                    </a:rPr>
                    <a:t>KM Initiators:</a:t>
                  </a:r>
                  <a:endParaRPr b="0" lang="en-US" sz="16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69% of the cases, more than 1 person leads the initiative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KM initiative at company level, the board is usually involved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-11916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verage of 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98440" y="685800"/>
            <a:ext cx="8543880" cy="4443480"/>
            <a:chOff x="298440" y="685800"/>
            <a:chExt cx="8543880" cy="4443480"/>
          </a:xfrm>
        </p:grpSpPr>
        <p:sp>
          <p:nvSpPr>
            <p:cNvPr id="662" name=""/>
            <p:cNvSpPr/>
            <p:nvPr/>
          </p:nvSpPr>
          <p:spPr>
            <a:xfrm>
              <a:off x="298440" y="685800"/>
              <a:ext cx="8543880" cy="444348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94000" y="835200"/>
              <a:ext cx="5413320" cy="3922560"/>
            </a:xfrm>
            <a:custGeom>
              <a:avLst/>
              <a:gdLst/>
              <a:ahLst/>
              <a:rect l="l" t="t" r="r" b="b"/>
              <a:pathLst>
                <a:path w="3410" h="2471">
                  <a:moveTo>
                    <a:pt x="0" y="0"/>
                  </a:moveTo>
                  <a:lnTo>
                    <a:pt x="3409" y="0"/>
                  </a:lnTo>
                  <a:lnTo>
                    <a:pt x="3409" y="2470"/>
                  </a:lnTo>
                  <a:lnTo>
                    <a:pt x="0" y="2470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94000" y="835200"/>
              <a:ext cx="5413320" cy="3922560"/>
            </a:xfrm>
            <a:custGeom>
              <a:avLst/>
              <a:gdLst/>
              <a:ahLst/>
              <a:rect l="l" t="t" r="r" b="b"/>
              <a:pathLst>
                <a:path w="3410" h="2471">
                  <a:moveTo>
                    <a:pt x="0" y="0"/>
                  </a:moveTo>
                  <a:lnTo>
                    <a:pt x="3409" y="0"/>
                  </a:lnTo>
                  <a:lnTo>
                    <a:pt x="3409" y="2470"/>
                  </a:lnTo>
                  <a:lnTo>
                    <a:pt x="0" y="24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94000" y="4488120"/>
              <a:ext cx="2712960" cy="160200"/>
            </a:xfrm>
            <a:custGeom>
              <a:avLst/>
              <a:gdLst/>
              <a:ahLst/>
              <a:rect l="l" t="t" r="r" b="b"/>
              <a:pathLst>
                <a:path w="1709" h="101">
                  <a:moveTo>
                    <a:pt x="0" y="0"/>
                  </a:moveTo>
                  <a:lnTo>
                    <a:pt x="1708" y="0"/>
                  </a:lnTo>
                  <a:lnTo>
                    <a:pt x="170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4087800"/>
              <a:ext cx="1674720" cy="171720"/>
            </a:xfrm>
            <a:custGeom>
              <a:avLst/>
              <a:gdLst/>
              <a:ahLst/>
              <a:rect l="l" t="t" r="r" b="b"/>
              <a:pathLst>
                <a:path w="1055" h="108">
                  <a:moveTo>
                    <a:pt x="0" y="0"/>
                  </a:moveTo>
                  <a:lnTo>
                    <a:pt x="1054" y="0"/>
                  </a:lnTo>
                  <a:lnTo>
                    <a:pt x="105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94000" y="3702240"/>
              <a:ext cx="3035160" cy="158760"/>
            </a:xfrm>
            <a:custGeom>
              <a:avLst/>
              <a:gdLst/>
              <a:ahLst/>
              <a:rect l="l" t="t" r="r" b="b"/>
              <a:pathLst>
                <a:path w="1912" h="100">
                  <a:moveTo>
                    <a:pt x="0" y="0"/>
                  </a:moveTo>
                  <a:lnTo>
                    <a:pt x="1911" y="0"/>
                  </a:lnTo>
                  <a:lnTo>
                    <a:pt x="1911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94000" y="3301920"/>
              <a:ext cx="706320" cy="171720"/>
            </a:xfrm>
            <a:custGeom>
              <a:avLst/>
              <a:gdLst/>
              <a:ahLst/>
              <a:rect l="l" t="t" r="r" b="b"/>
              <a:pathLst>
                <a:path w="445" h="108">
                  <a:moveTo>
                    <a:pt x="0" y="0"/>
                  </a:moveTo>
                  <a:lnTo>
                    <a:pt x="444" y="0"/>
                  </a:lnTo>
                  <a:lnTo>
                    <a:pt x="44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94000" y="2914920"/>
              <a:ext cx="3135240" cy="160200"/>
            </a:xfrm>
            <a:custGeom>
              <a:avLst/>
              <a:gdLst/>
              <a:ahLst/>
              <a:rect l="l" t="t" r="r" b="b"/>
              <a:pathLst>
                <a:path w="1975" h="101">
                  <a:moveTo>
                    <a:pt x="0" y="0"/>
                  </a:moveTo>
                  <a:lnTo>
                    <a:pt x="1974" y="0"/>
                  </a:lnTo>
                  <a:lnTo>
                    <a:pt x="197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94000" y="2527560"/>
              <a:ext cx="2712960" cy="160200"/>
            </a:xfrm>
            <a:custGeom>
              <a:avLst/>
              <a:gdLst/>
              <a:ahLst/>
              <a:rect l="l" t="t" r="r" b="b"/>
              <a:pathLst>
                <a:path w="1709" h="101">
                  <a:moveTo>
                    <a:pt x="0" y="0"/>
                  </a:moveTo>
                  <a:lnTo>
                    <a:pt x="1708" y="0"/>
                  </a:lnTo>
                  <a:lnTo>
                    <a:pt x="170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94000" y="2129040"/>
              <a:ext cx="1674720" cy="171360"/>
            </a:xfrm>
            <a:custGeom>
              <a:avLst/>
              <a:gdLst/>
              <a:ahLst/>
              <a:rect l="l" t="t" r="r" b="b"/>
              <a:pathLst>
                <a:path w="1055" h="108">
                  <a:moveTo>
                    <a:pt x="0" y="0"/>
                  </a:moveTo>
                  <a:lnTo>
                    <a:pt x="1054" y="0"/>
                  </a:lnTo>
                  <a:lnTo>
                    <a:pt x="105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94000" y="1741680"/>
              <a:ext cx="2712960" cy="158760"/>
            </a:xfrm>
            <a:custGeom>
              <a:avLst/>
              <a:gdLst/>
              <a:ahLst/>
              <a:rect l="l" t="t" r="r" b="b"/>
              <a:pathLst>
                <a:path w="1709" h="100">
                  <a:moveTo>
                    <a:pt x="0" y="0"/>
                  </a:moveTo>
                  <a:lnTo>
                    <a:pt x="1708" y="0"/>
                  </a:lnTo>
                  <a:lnTo>
                    <a:pt x="1708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94000" y="1343160"/>
              <a:ext cx="2057400" cy="171360"/>
            </a:xfrm>
            <a:custGeom>
              <a:avLst/>
              <a:gdLst/>
              <a:ahLst/>
              <a:rect l="l" t="t" r="r" b="b"/>
              <a:pathLst>
                <a:path w="1296" h="108">
                  <a:moveTo>
                    <a:pt x="0" y="0"/>
                  </a:moveTo>
                  <a:lnTo>
                    <a:pt x="1295" y="0"/>
                  </a:lnTo>
                  <a:lnTo>
                    <a:pt x="1295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94000" y="954360"/>
              <a:ext cx="4062240" cy="160200"/>
            </a:xfrm>
            <a:custGeom>
              <a:avLst/>
              <a:gdLst/>
              <a:ahLst/>
              <a:rect l="l" t="t" r="r" b="b"/>
              <a:pathLst>
                <a:path w="2559" h="101">
                  <a:moveTo>
                    <a:pt x="0" y="0"/>
                  </a:moveTo>
                  <a:lnTo>
                    <a:pt x="2558" y="0"/>
                  </a:lnTo>
                  <a:lnTo>
                    <a:pt x="255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520" y="4488120"/>
              <a:ext cx="1673280" cy="160200"/>
            </a:xfrm>
            <a:custGeom>
              <a:avLst/>
              <a:gdLst/>
              <a:ahLst/>
              <a:rect l="l" t="t" r="r" b="b"/>
              <a:pathLst>
                <a:path w="1054" h="101">
                  <a:moveTo>
                    <a:pt x="0" y="0"/>
                  </a:moveTo>
                  <a:lnTo>
                    <a:pt x="1053" y="0"/>
                  </a:lnTo>
                  <a:lnTo>
                    <a:pt x="1053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67280" y="4087800"/>
              <a:ext cx="3033720" cy="171720"/>
            </a:xfrm>
            <a:custGeom>
              <a:avLst/>
              <a:gdLst/>
              <a:ahLst/>
              <a:rect l="l" t="t" r="r" b="b"/>
              <a:pathLst>
                <a:path w="1911" h="108">
                  <a:moveTo>
                    <a:pt x="0" y="0"/>
                  </a:moveTo>
                  <a:lnTo>
                    <a:pt x="1910" y="0"/>
                  </a:lnTo>
                  <a:lnTo>
                    <a:pt x="1910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7720" y="3702240"/>
              <a:ext cx="1673280" cy="158760"/>
            </a:xfrm>
            <a:custGeom>
              <a:avLst/>
              <a:gdLst/>
              <a:ahLst/>
              <a:rect l="l" t="t" r="r" b="b"/>
              <a:pathLst>
                <a:path w="1054" h="100">
                  <a:moveTo>
                    <a:pt x="0" y="0"/>
                  </a:moveTo>
                  <a:lnTo>
                    <a:pt x="1053" y="0"/>
                  </a:lnTo>
                  <a:lnTo>
                    <a:pt x="1053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98880" y="3301920"/>
              <a:ext cx="3730680" cy="171720"/>
            </a:xfrm>
            <a:custGeom>
              <a:avLst/>
              <a:gdLst/>
              <a:ahLst/>
              <a:rect l="l" t="t" r="r" b="b"/>
              <a:pathLst>
                <a:path w="2350" h="108">
                  <a:moveTo>
                    <a:pt x="0" y="0"/>
                  </a:moveTo>
                  <a:lnTo>
                    <a:pt x="2349" y="0"/>
                  </a:lnTo>
                  <a:lnTo>
                    <a:pt x="234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27800" y="2914920"/>
              <a:ext cx="2066760" cy="160200"/>
            </a:xfrm>
            <a:custGeom>
              <a:avLst/>
              <a:gdLst/>
              <a:ahLst/>
              <a:rect l="l" t="t" r="r" b="b"/>
              <a:pathLst>
                <a:path w="1302" h="101">
                  <a:moveTo>
                    <a:pt x="0" y="0"/>
                  </a:moveTo>
                  <a:lnTo>
                    <a:pt x="1301" y="0"/>
                  </a:lnTo>
                  <a:lnTo>
                    <a:pt x="1301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05520" y="2527560"/>
              <a:ext cx="2055600" cy="160200"/>
            </a:xfrm>
            <a:custGeom>
              <a:avLst/>
              <a:gdLst/>
              <a:ahLst/>
              <a:rect l="l" t="t" r="r" b="b"/>
              <a:pathLst>
                <a:path w="1295" h="101">
                  <a:moveTo>
                    <a:pt x="0" y="0"/>
                  </a:moveTo>
                  <a:lnTo>
                    <a:pt x="1294" y="0"/>
                  </a:lnTo>
                  <a:lnTo>
                    <a:pt x="129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67280" y="2129040"/>
              <a:ext cx="2711520" cy="171360"/>
            </a:xfrm>
            <a:custGeom>
              <a:avLst/>
              <a:gdLst/>
              <a:ahLst/>
              <a:rect l="l" t="t" r="r" b="b"/>
              <a:pathLst>
                <a:path w="1708" h="108">
                  <a:moveTo>
                    <a:pt x="0" y="0"/>
                  </a:moveTo>
                  <a:lnTo>
                    <a:pt x="1707" y="0"/>
                  </a:lnTo>
                  <a:lnTo>
                    <a:pt x="1707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05520" y="1741680"/>
              <a:ext cx="1350720" cy="158760"/>
            </a:xfrm>
            <a:custGeom>
              <a:avLst/>
              <a:gdLst/>
              <a:ahLst/>
              <a:rect l="l" t="t" r="r" b="b"/>
              <a:pathLst>
                <a:path w="851" h="100">
                  <a:moveTo>
                    <a:pt x="0" y="0"/>
                  </a:moveTo>
                  <a:lnTo>
                    <a:pt x="850" y="0"/>
                  </a:lnTo>
                  <a:lnTo>
                    <a:pt x="850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49600" y="1343160"/>
              <a:ext cx="2379960" cy="171360"/>
            </a:xfrm>
            <a:custGeom>
              <a:avLst/>
              <a:gdLst/>
              <a:ahLst/>
              <a:rect l="l" t="t" r="r" b="b"/>
              <a:pathLst>
                <a:path w="1499" h="108">
                  <a:moveTo>
                    <a:pt x="0" y="0"/>
                  </a:moveTo>
                  <a:lnTo>
                    <a:pt x="1498" y="0"/>
                  </a:lnTo>
                  <a:lnTo>
                    <a:pt x="1498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54800" y="954360"/>
              <a:ext cx="706320" cy="160200"/>
            </a:xfrm>
            <a:custGeom>
              <a:avLst/>
              <a:gdLst/>
              <a:ahLst/>
              <a:rect l="l" t="t" r="r" b="b"/>
              <a:pathLst>
                <a:path w="445" h="101">
                  <a:moveTo>
                    <a:pt x="0" y="0"/>
                  </a:moveTo>
                  <a:lnTo>
                    <a:pt x="444" y="0"/>
                  </a:lnTo>
                  <a:lnTo>
                    <a:pt x="44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e62a0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77000" y="4488120"/>
              <a:ext cx="1030320" cy="160200"/>
            </a:xfrm>
            <a:custGeom>
              <a:avLst/>
              <a:gdLst/>
              <a:ahLst/>
              <a:rect l="l" t="t" r="r" b="b"/>
              <a:pathLst>
                <a:path w="649" h="101">
                  <a:moveTo>
                    <a:pt x="0" y="0"/>
                  </a:moveTo>
                  <a:lnTo>
                    <a:pt x="648" y="0"/>
                  </a:lnTo>
                  <a:lnTo>
                    <a:pt x="648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99200" y="4087800"/>
              <a:ext cx="708120" cy="171720"/>
            </a:xfrm>
            <a:custGeom>
              <a:avLst/>
              <a:gdLst/>
              <a:ahLst/>
              <a:rect l="l" t="t" r="r" b="b"/>
              <a:pathLst>
                <a:path w="446" h="108">
                  <a:moveTo>
                    <a:pt x="0" y="0"/>
                  </a:moveTo>
                  <a:lnTo>
                    <a:pt x="445" y="0"/>
                  </a:lnTo>
                  <a:lnTo>
                    <a:pt x="445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99200" y="3702240"/>
              <a:ext cx="708120" cy="158760"/>
            </a:xfrm>
            <a:custGeom>
              <a:avLst/>
              <a:gdLst/>
              <a:ahLst/>
              <a:rect l="l" t="t" r="r" b="b"/>
              <a:pathLst>
                <a:path w="446" h="100">
                  <a:moveTo>
                    <a:pt x="0" y="0"/>
                  </a:moveTo>
                  <a:lnTo>
                    <a:pt x="445" y="0"/>
                  </a:lnTo>
                  <a:lnTo>
                    <a:pt x="445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27760" y="3301920"/>
              <a:ext cx="979560" cy="171720"/>
            </a:xfrm>
            <a:custGeom>
              <a:avLst/>
              <a:gdLst/>
              <a:ahLst/>
              <a:rect l="l" t="t" r="r" b="b"/>
              <a:pathLst>
                <a:path w="617" h="108">
                  <a:moveTo>
                    <a:pt x="0" y="0"/>
                  </a:moveTo>
                  <a:lnTo>
                    <a:pt x="616" y="0"/>
                  </a:lnTo>
                  <a:lnTo>
                    <a:pt x="616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93120" y="2914920"/>
              <a:ext cx="21420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0" y="0"/>
                  </a:moveTo>
                  <a:lnTo>
                    <a:pt x="134" y="0"/>
                  </a:lnTo>
                  <a:lnTo>
                    <a:pt x="13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59680" y="2527560"/>
              <a:ext cx="647640" cy="16020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0"/>
                  </a:moveTo>
                  <a:lnTo>
                    <a:pt x="407" y="0"/>
                  </a:lnTo>
                  <a:lnTo>
                    <a:pt x="407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77000" y="2129040"/>
              <a:ext cx="1030320" cy="171360"/>
            </a:xfrm>
            <a:custGeom>
              <a:avLst/>
              <a:gdLst/>
              <a:ahLst/>
              <a:rect l="l" t="t" r="r" b="b"/>
              <a:pathLst>
                <a:path w="649" h="108">
                  <a:moveTo>
                    <a:pt x="0" y="0"/>
                  </a:moveTo>
                  <a:lnTo>
                    <a:pt x="648" y="0"/>
                  </a:lnTo>
                  <a:lnTo>
                    <a:pt x="648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54800" y="1741680"/>
              <a:ext cx="1352520" cy="158760"/>
            </a:xfrm>
            <a:custGeom>
              <a:avLst/>
              <a:gdLst/>
              <a:ahLst/>
              <a:rect l="l" t="t" r="r" b="b"/>
              <a:pathLst>
                <a:path w="852" h="100">
                  <a:moveTo>
                    <a:pt x="0" y="0"/>
                  </a:moveTo>
                  <a:lnTo>
                    <a:pt x="851" y="0"/>
                  </a:lnTo>
                  <a:lnTo>
                    <a:pt x="851" y="99"/>
                  </a:lnTo>
                  <a:lnTo>
                    <a:pt x="0" y="99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27760" y="1343160"/>
              <a:ext cx="979560" cy="171360"/>
            </a:xfrm>
            <a:custGeom>
              <a:avLst/>
              <a:gdLst/>
              <a:ahLst/>
              <a:rect l="l" t="t" r="r" b="b"/>
              <a:pathLst>
                <a:path w="617" h="108">
                  <a:moveTo>
                    <a:pt x="0" y="0"/>
                  </a:moveTo>
                  <a:lnTo>
                    <a:pt x="616" y="0"/>
                  </a:lnTo>
                  <a:lnTo>
                    <a:pt x="616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954360"/>
              <a:ext cx="647640" cy="16020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0"/>
                  </a:moveTo>
                  <a:lnTo>
                    <a:pt x="407" y="0"/>
                  </a:lnTo>
                  <a:lnTo>
                    <a:pt x="407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94000" y="4756320"/>
              <a:ext cx="541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39400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93832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47184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401652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56084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09436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63868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18336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72624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26120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805880" y="47260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94000" y="835200"/>
              <a:ext cx="0" cy="39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54400" y="47563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54400" y="43671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54400" y="39704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54400" y="35816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54400" y="31845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54400" y="27957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54400" y="24066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54400" y="20098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54400" y="16210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54400" y="12240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54400" y="8352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70880" y="4792680"/>
              <a:ext cx="24912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7560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0876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5344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9632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4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3128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7596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1884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7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6316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96680" y="4792680"/>
              <a:ext cx="3452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82760" y="4792680"/>
              <a:ext cx="24912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0200" y="4391280"/>
              <a:ext cx="1957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Processes/jobs affected by the initiativ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6440" y="4019760"/>
              <a:ext cx="1981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ncentives changed to stimulate knowledg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82440" y="4119840"/>
              <a:ext cx="1850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3440" y="3614760"/>
              <a:ext cx="1684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Special people appointed to manage knowledg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0840" y="3213360"/>
              <a:ext cx="19666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Workflow linked to knowledge databas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4920" y="2836800"/>
              <a:ext cx="20826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Formats defined for meaningful presentation of data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4600" y="2424240"/>
              <a:ext cx="19429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Processes defined for info gathering/maintenanc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9360" y="2027160"/>
              <a:ext cx="18381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nformation needs, flows and owners are clear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56760" y="1706760"/>
              <a:ext cx="11239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Budget allocated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0120" y="1239840"/>
              <a:ext cx="2057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Knowledge management strategy with objectives 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440" y="862200"/>
              <a:ext cx="19810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nitiative embedded in</a:t>
              </a:r>
              <a:br>
                <a:rPr sz="1000"/>
              </a:b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business plan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73240" y="984240"/>
              <a:ext cx="183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7880760" y="2413080"/>
              <a:ext cx="791640" cy="1039320"/>
              <a:chOff x="7880760" y="2413080"/>
              <a:chExt cx="791640" cy="1039320"/>
            </a:xfrm>
          </p:grpSpPr>
          <p:sp>
            <p:nvSpPr>
              <p:cNvPr id="743" name=""/>
              <p:cNvSpPr/>
              <p:nvPr/>
            </p:nvSpPr>
            <p:spPr>
              <a:xfrm>
                <a:off x="7880760" y="2413080"/>
                <a:ext cx="791640" cy="10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85000"/>
                  </a:lnSpc>
                  <a:spcBef>
                    <a:spcPts val="876"/>
                  </a:spcBef>
                  <a:buClr>
                    <a:srgbClr val="2f2fff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876"/>
                  </a:spcBef>
                  <a:buClr>
                    <a:srgbClr val="e62a05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85000"/>
                  </a:lnSpc>
                  <a:spcBef>
                    <a:spcPts val="876"/>
                  </a:spcBef>
                  <a:buClr>
                    <a:srgbClr val="fcfeb9"/>
                  </a:buClr>
                  <a:buSzPct val="12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n’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now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988400" y="3024360"/>
                <a:ext cx="128520" cy="120600"/>
              </a:xfrm>
              <a:prstGeom prst="rect">
                <a:avLst/>
              </a:prstGeom>
              <a:noFill/>
              <a:ln w="1260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510552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itiatives often lack direction (44%)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nclear understanding of info needs, flows, owners (50%)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use of stimulating incentive schemes (56%) and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link between workflow and databases (69%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ottlenecks for KM Implem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70000" y="838080"/>
            <a:ext cx="8497800" cy="4924800"/>
            <a:chOff x="270000" y="838080"/>
            <a:chExt cx="8497800" cy="4924800"/>
          </a:xfrm>
        </p:grpSpPr>
        <p:sp>
          <p:nvSpPr>
            <p:cNvPr id="749" name=""/>
            <p:cNvSpPr/>
            <p:nvPr/>
          </p:nvSpPr>
          <p:spPr>
            <a:xfrm>
              <a:off x="385920" y="838080"/>
              <a:ext cx="8381880" cy="489096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30520" y="996840"/>
              <a:ext cx="5871960" cy="4406760"/>
            </a:xfrm>
            <a:custGeom>
              <a:avLst/>
              <a:gdLst/>
              <a:ahLst/>
              <a:rect l="l" t="t" r="r" b="b"/>
              <a:pathLst>
                <a:path w="3699" h="2776">
                  <a:moveTo>
                    <a:pt x="0" y="0"/>
                  </a:moveTo>
                  <a:lnTo>
                    <a:pt x="3698" y="0"/>
                  </a:lnTo>
                  <a:lnTo>
                    <a:pt x="3698" y="2775"/>
                  </a:lnTo>
                  <a:lnTo>
                    <a:pt x="0" y="2775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2092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196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9092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168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706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168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406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310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1208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501040" y="99684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30520" y="996840"/>
              <a:ext cx="5871960" cy="4406760"/>
            </a:xfrm>
            <a:custGeom>
              <a:avLst/>
              <a:gdLst/>
              <a:ahLst/>
              <a:rect l="l" t="t" r="r" b="b"/>
              <a:pathLst>
                <a:path w="3699" h="2776">
                  <a:moveTo>
                    <a:pt x="0" y="0"/>
                  </a:moveTo>
                  <a:lnTo>
                    <a:pt x="3698" y="0"/>
                  </a:lnTo>
                  <a:lnTo>
                    <a:pt x="3698" y="2775"/>
                  </a:lnTo>
                  <a:lnTo>
                    <a:pt x="0" y="277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5121000"/>
              <a:ext cx="2228760" cy="169920"/>
            </a:xfrm>
            <a:custGeom>
              <a:avLst/>
              <a:gdLst/>
              <a:ahLst/>
              <a:rect l="l" t="t" r="r" b="b"/>
              <a:pathLst>
                <a:path w="1404" h="107">
                  <a:moveTo>
                    <a:pt x="0" y="0"/>
                  </a:moveTo>
                  <a:lnTo>
                    <a:pt x="1403" y="0"/>
                  </a:lnTo>
                  <a:lnTo>
                    <a:pt x="1403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630520" y="4727160"/>
              <a:ext cx="2581200" cy="160560"/>
            </a:xfrm>
            <a:custGeom>
              <a:avLst/>
              <a:gdLst/>
              <a:ahLst/>
              <a:rect l="l" t="t" r="r" b="b"/>
              <a:pathLst>
                <a:path w="1626" h="101">
                  <a:moveTo>
                    <a:pt x="0" y="0"/>
                  </a:moveTo>
                  <a:lnTo>
                    <a:pt x="1625" y="0"/>
                  </a:lnTo>
                  <a:lnTo>
                    <a:pt x="1625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30520" y="4323960"/>
              <a:ext cx="2941560" cy="169920"/>
            </a:xfrm>
            <a:custGeom>
              <a:avLst/>
              <a:gdLst/>
              <a:ahLst/>
              <a:rect l="l" t="t" r="r" b="b"/>
              <a:pathLst>
                <a:path w="1853" h="107">
                  <a:moveTo>
                    <a:pt x="0" y="0"/>
                  </a:moveTo>
                  <a:lnTo>
                    <a:pt x="1852" y="0"/>
                  </a:lnTo>
                  <a:lnTo>
                    <a:pt x="1852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30520" y="3920760"/>
              <a:ext cx="3294000" cy="171720"/>
            </a:xfrm>
            <a:custGeom>
              <a:avLst/>
              <a:gdLst/>
              <a:ahLst/>
              <a:rect l="l" t="t" r="r" b="b"/>
              <a:pathLst>
                <a:path w="2075" h="108">
                  <a:moveTo>
                    <a:pt x="0" y="0"/>
                  </a:moveTo>
                  <a:lnTo>
                    <a:pt x="2074" y="0"/>
                  </a:lnTo>
                  <a:lnTo>
                    <a:pt x="2074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30520" y="3517560"/>
              <a:ext cx="763560" cy="171720"/>
            </a:xfrm>
            <a:custGeom>
              <a:avLst/>
              <a:gdLst/>
              <a:ahLst/>
              <a:rect l="l" t="t" r="r" b="b"/>
              <a:pathLst>
                <a:path w="481" h="108">
                  <a:moveTo>
                    <a:pt x="0" y="0"/>
                  </a:moveTo>
                  <a:lnTo>
                    <a:pt x="480" y="0"/>
                  </a:lnTo>
                  <a:lnTo>
                    <a:pt x="480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630520" y="3125520"/>
              <a:ext cx="3294000" cy="160200"/>
            </a:xfrm>
            <a:custGeom>
              <a:avLst/>
              <a:gdLst/>
              <a:ahLst/>
              <a:rect l="l" t="t" r="r" b="b"/>
              <a:pathLst>
                <a:path w="2075" h="101">
                  <a:moveTo>
                    <a:pt x="0" y="0"/>
                  </a:moveTo>
                  <a:lnTo>
                    <a:pt x="2074" y="0"/>
                  </a:lnTo>
                  <a:lnTo>
                    <a:pt x="2074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30520" y="2722320"/>
              <a:ext cx="2941560" cy="169920"/>
            </a:xfrm>
            <a:custGeom>
              <a:avLst/>
              <a:gdLst/>
              <a:ahLst/>
              <a:rect l="l" t="t" r="r" b="b"/>
              <a:pathLst>
                <a:path w="1853" h="107">
                  <a:moveTo>
                    <a:pt x="0" y="0"/>
                  </a:moveTo>
                  <a:lnTo>
                    <a:pt x="1852" y="0"/>
                  </a:lnTo>
                  <a:lnTo>
                    <a:pt x="1852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30520" y="2319120"/>
              <a:ext cx="2581200" cy="169920"/>
            </a:xfrm>
            <a:custGeom>
              <a:avLst/>
              <a:gdLst/>
              <a:ahLst/>
              <a:rect l="l" t="t" r="r" b="b"/>
              <a:pathLst>
                <a:path w="1626" h="107">
                  <a:moveTo>
                    <a:pt x="0" y="0"/>
                  </a:moveTo>
                  <a:lnTo>
                    <a:pt x="1625" y="0"/>
                  </a:lnTo>
                  <a:lnTo>
                    <a:pt x="1625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30520" y="1915920"/>
              <a:ext cx="2941560" cy="169920"/>
            </a:xfrm>
            <a:custGeom>
              <a:avLst/>
              <a:gdLst/>
              <a:ahLst/>
              <a:rect l="l" t="t" r="r" b="b"/>
              <a:pathLst>
                <a:path w="1853" h="107">
                  <a:moveTo>
                    <a:pt x="0" y="0"/>
                  </a:moveTo>
                  <a:lnTo>
                    <a:pt x="1852" y="0"/>
                  </a:lnTo>
                  <a:lnTo>
                    <a:pt x="1852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30520" y="1522080"/>
              <a:ext cx="3703680" cy="160560"/>
            </a:xfrm>
            <a:custGeom>
              <a:avLst/>
              <a:gdLst/>
              <a:ahLst/>
              <a:rect l="l" t="t" r="r" b="b"/>
              <a:pathLst>
                <a:path w="2333" h="101">
                  <a:moveTo>
                    <a:pt x="0" y="0"/>
                  </a:moveTo>
                  <a:lnTo>
                    <a:pt x="2332" y="0"/>
                  </a:lnTo>
                  <a:lnTo>
                    <a:pt x="2332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30520" y="1118880"/>
              <a:ext cx="3294000" cy="169920"/>
            </a:xfrm>
            <a:custGeom>
              <a:avLst/>
              <a:gdLst/>
              <a:ahLst/>
              <a:rect l="l" t="t" r="r" b="b"/>
              <a:pathLst>
                <a:path w="2075" h="107">
                  <a:moveTo>
                    <a:pt x="0" y="0"/>
                  </a:moveTo>
                  <a:lnTo>
                    <a:pt x="2074" y="0"/>
                  </a:lnTo>
                  <a:lnTo>
                    <a:pt x="2074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8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30520" y="5402160"/>
              <a:ext cx="587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604960" y="53827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22092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80196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39092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98168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5706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15168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7406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310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91208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501040" y="54018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04960" y="977760"/>
              <a:ext cx="0" cy="44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29000" y="5383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29000" y="49798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29000" y="4586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29000" y="418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29000" y="3781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29000" y="33778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29000" y="2984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29000" y="2581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29000" y="21776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29000" y="1774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29000" y="1380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29000" y="977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13000" y="5392440"/>
              <a:ext cx="24156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722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328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422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326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2160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0264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9160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8236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763400" y="5437080"/>
              <a:ext cx="297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23920" y="5437080"/>
              <a:ext cx="35424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09040" y="5054400"/>
              <a:ext cx="1198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IT support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41320" y="4651200"/>
              <a:ext cx="1765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KM techniques/tools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3200" y="4248000"/>
              <a:ext cx="22014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Hierarchical organizational structur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9760" y="3838320"/>
              <a:ext cx="20952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mphasis on short term result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76480" y="3450960"/>
              <a:ext cx="14302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true teamwork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7520" y="3017520"/>
              <a:ext cx="20174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Too little time to share information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7960" y="2593800"/>
              <a:ext cx="20970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Current culture does not encourage knowledge sharing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69320" y="2252520"/>
              <a:ext cx="9378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funds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8600" y="1796760"/>
              <a:ext cx="14763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Lack of commitment senior management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7360" y="1446120"/>
              <a:ext cx="1947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KM is no top priority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000" y="983880"/>
              <a:ext cx="23349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Lack of understanding of KM and its potential benefit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39120" y="5518080"/>
              <a:ext cx="29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cfeb9"/>
                  </a:solidFill>
                  <a:latin typeface="Times New Roman"/>
                </a:rPr>
                <a:t>%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280" y="5791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jor road blocks are a lack of understanding, interest, patience for results and time for sharing information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0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nfavorable Conditions for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417680" y="5538960"/>
            <a:ext cx="6965640" cy="785160"/>
            <a:chOff x="1417680" y="5538960"/>
            <a:chExt cx="6965640" cy="785160"/>
          </a:xfrm>
        </p:grpSpPr>
        <p:sp>
          <p:nvSpPr>
            <p:cNvPr id="825" name=""/>
            <p:cNvSpPr/>
            <p:nvPr/>
          </p:nvSpPr>
          <p:spPr>
            <a:xfrm>
              <a:off x="7227720" y="5538960"/>
              <a:ext cx="1155600" cy="78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0" y="0"/>
                  </a:moveTo>
                  <a:arcTo wR="10800" hR="10800" stAng="-5409430" swAng="10809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0" y="0"/>
                  </a:moveTo>
                  <a:arcTo wR="10800" hR="10800" stAng="-5409430" swAng="10809430"/>
                </a:path>
              </a:pathLst>
            </a:custGeom>
            <a:noFill/>
            <a:ln cap="rnd" w="507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17680" y="6318720"/>
              <a:ext cx="6364080" cy="0"/>
            </a:xfrm>
            <a:prstGeom prst="line">
              <a:avLst/>
            </a:prstGeom>
            <a:ln w="50760">
              <a:solidFill>
                <a:srgbClr val="ff33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685800" y="5715000"/>
            <a:ext cx="794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c0128"/>
                </a:solidFill>
                <a:latin typeface="Times New Roman"/>
              </a:rPr>
              <a:t>… </a:t>
            </a:r>
            <a:r>
              <a:rPr b="0" i="1" lang="en-US" sz="3600" spc="-1" strike="noStrike">
                <a:solidFill>
                  <a:srgbClr val="fc0128"/>
                </a:solidFill>
                <a:latin typeface="Times New Roman"/>
              </a:rPr>
              <a:t>then don’t start a KM initiative</a:t>
            </a:r>
            <a:endParaRPr b="0" lang="en-US" sz="3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990720"/>
            <a:ext cx="672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Times New Roman"/>
              </a:rPr>
              <a:t>If this is your company ...</a:t>
            </a:r>
            <a:endParaRPr b="0" lang="en-US" sz="36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384200" y="1641600"/>
            <a:ext cx="6407280" cy="4073400"/>
            <a:chOff x="1384200" y="1641600"/>
            <a:chExt cx="6407280" cy="4073400"/>
          </a:xfrm>
        </p:grpSpPr>
        <p:pic>
          <p:nvPicPr>
            <p:cNvPr id="831" name="" descr=""/>
            <p:cNvPicPr/>
            <p:nvPr/>
          </p:nvPicPr>
          <p:blipFill>
            <a:blip r:embed="rId4"/>
            <a:srcRect l="0" t="0" r="1862422" b="2198"/>
            <a:stretch/>
          </p:blipFill>
          <p:spPr>
            <a:xfrm>
              <a:off x="1384200" y="1641600"/>
              <a:ext cx="640728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2733120" y="1949400"/>
              <a:ext cx="46479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80"/>
                  </a:solidFill>
                  <a:latin typeface="Univers 45 Light"/>
                </a:rPr>
                <a:t>No commitment or not a priority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71280" y="2863800"/>
              <a:ext cx="25236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20"/>
                  </a:solidFill>
                  <a:latin typeface="Univers 45 Light"/>
                </a:rPr>
                <a:t>Short-term focus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23000" y="3664080"/>
              <a:ext cx="470124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20"/>
                  </a:solidFill>
                  <a:latin typeface="Univers 45 Light"/>
                </a:rPr>
                <a:t>Insufficient understanding of KM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0600" y="4572000"/>
              <a:ext cx="2990880" cy="82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89520" y="4214880"/>
              <a:ext cx="45810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4680"/>
                  <a:tab algn="l" pos="3429000"/>
                  <a:tab algn="l" pos="5143680"/>
                  <a:tab algn="l" pos="6858000"/>
                  <a:tab algn="l" pos="8572680"/>
                  <a:tab algn="l" pos="10287000"/>
                </a:tabLst>
              </a:pPr>
              <a:r>
                <a:rPr b="1" lang="en-US" sz="2100" spc="-1" strike="noStrike">
                  <a:solidFill>
                    <a:srgbClr val="000020"/>
                  </a:solidFill>
                  <a:latin typeface="Univers 45 Light"/>
                </a:rPr>
                <a:t>Overtaxed organization/no time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 flipH="1" rot="16200000">
            <a:off x="3199320" y="-1576080"/>
            <a:ext cx="2667240" cy="8458200"/>
          </a:xfrm>
          <a:custGeom>
            <a:avLst/>
            <a:gdLst>
              <a:gd name="textAreaLeft" fmla="*/ -360 w 2667240"/>
              <a:gd name="textAreaRight" fmla="*/ 2667240 w 2667240"/>
              <a:gd name="textAreaTop" fmla="*/ 0 h 8458200"/>
              <a:gd name="textAreaBottom" fmla="*/ 8458560 h 845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7300"/>
              </a:gs>
              <a:gs pos="100000">
                <a:srgbClr val="30c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828960" y="1714680"/>
            <a:ext cx="1374480" cy="1049040"/>
            <a:chOff x="3828960" y="1714680"/>
            <a:chExt cx="1374480" cy="1049040"/>
          </a:xfrm>
        </p:grpSpPr>
        <p:sp>
          <p:nvSpPr>
            <p:cNvPr id="839" name=""/>
            <p:cNvSpPr/>
            <p:nvPr/>
          </p:nvSpPr>
          <p:spPr>
            <a:xfrm>
              <a:off x="4857480" y="2031840"/>
              <a:ext cx="1440" cy="7300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17880" y="2763720"/>
              <a:ext cx="94284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4868640" y="2432160"/>
              <a:ext cx="266760" cy="324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33600" y="1911240"/>
              <a:ext cx="0" cy="5220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309560" y="2433600"/>
              <a:ext cx="82548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915720" y="2035080"/>
              <a:ext cx="1800" cy="7218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17880" y="2433240"/>
              <a:ext cx="392040" cy="3186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05240" y="2031840"/>
              <a:ext cx="2880" cy="4014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19360" y="198108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28960" y="1930320"/>
              <a:ext cx="1326960" cy="99720"/>
            </a:xfrm>
            <a:prstGeom prst="parallelogram">
              <a:avLst>
                <a:gd name="adj" fmla="val 340557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35200" y="207648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35200" y="207648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408200" y="1737720"/>
              <a:ext cx="235080" cy="140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0920" y="202248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90920" y="202248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48080" y="1716120"/>
              <a:ext cx="855360" cy="267840"/>
            </a:xfrm>
            <a:custGeom>
              <a:avLst/>
              <a:gdLst/>
              <a:ahLst/>
              <a:rect l="l" t="t" r="r" b="b"/>
              <a:pathLst>
                <a:path w="539" h="169">
                  <a:moveTo>
                    <a:pt x="409" y="168"/>
                  </a:moveTo>
                  <a:lnTo>
                    <a:pt x="538" y="123"/>
                  </a:lnTo>
                  <a:lnTo>
                    <a:pt x="180" y="0"/>
                  </a:lnTo>
                  <a:lnTo>
                    <a:pt x="0" y="26"/>
                  </a:lnTo>
                  <a:lnTo>
                    <a:pt x="409" y="168"/>
                  </a:lnTo>
                </a:path>
              </a:pathLst>
            </a:custGeom>
            <a:noFill/>
            <a:ln cap="rnd" w="12600">
              <a:solidFill>
                <a:srgbClr val="00cec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65600" y="1714680"/>
              <a:ext cx="496800" cy="207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28960" y="1758960"/>
              <a:ext cx="1112760" cy="2646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62120" y="1716120"/>
            <a:ext cx="1488600" cy="1046160"/>
            <a:chOff x="762120" y="1716120"/>
            <a:chExt cx="1488600" cy="1046160"/>
          </a:xfrm>
        </p:grpSpPr>
        <p:sp>
          <p:nvSpPr>
            <p:cNvPr id="858" name=""/>
            <p:cNvSpPr/>
            <p:nvPr/>
          </p:nvSpPr>
          <p:spPr>
            <a:xfrm>
              <a:off x="1887480" y="2041560"/>
              <a:ext cx="0" cy="6969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9160" y="1911600"/>
              <a:ext cx="0" cy="509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57160" y="2055960"/>
              <a:ext cx="0" cy="6811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857160" y="2396880"/>
              <a:ext cx="1332360" cy="365400"/>
              <a:chOff x="857160" y="2396880"/>
              <a:chExt cx="1332360" cy="365400"/>
            </a:xfrm>
          </p:grpSpPr>
          <p:sp>
            <p:nvSpPr>
              <p:cNvPr id="862" name=""/>
              <p:cNvSpPr/>
              <p:nvPr/>
            </p:nvSpPr>
            <p:spPr>
              <a:xfrm>
                <a:off x="857160" y="2739960"/>
                <a:ext cx="1029960" cy="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1868040" y="2421000"/>
                <a:ext cx="320400" cy="34128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281960" y="2419560"/>
                <a:ext cx="907560" cy="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58240" y="2396880"/>
                <a:ext cx="466560" cy="336600"/>
              </a:xfrm>
              <a:prstGeom prst="line">
                <a:avLst/>
              </a:prstGeom>
              <a:ln w="50760">
                <a:solidFill>
                  <a:srgbClr val="0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280880" y="2054160"/>
              <a:ext cx="0" cy="365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06520" y="1979640"/>
              <a:ext cx="900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2120" y="1933560"/>
              <a:ext cx="1447560" cy="82800"/>
            </a:xfrm>
            <a:prstGeom prst="parallelogram">
              <a:avLst>
                <a:gd name="adj" fmla="val 44742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23800" y="2067120"/>
              <a:ext cx="61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23800" y="2067120"/>
              <a:ext cx="61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1396800" y="1741320"/>
              <a:ext cx="252000" cy="140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73040" y="2019240"/>
              <a:ext cx="28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947600" y="1912680"/>
              <a:ext cx="279000" cy="8892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73040" y="2019240"/>
              <a:ext cx="28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1965240" y="1911240"/>
              <a:ext cx="285480" cy="99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77960" y="1716120"/>
              <a:ext cx="539280" cy="208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120" y="1757520"/>
              <a:ext cx="1217520" cy="2570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781680" y="1676520"/>
            <a:ext cx="1555920" cy="1127160"/>
            <a:chOff x="6781680" y="1676520"/>
            <a:chExt cx="1555920" cy="1127160"/>
          </a:xfrm>
        </p:grpSpPr>
        <p:sp>
          <p:nvSpPr>
            <p:cNvPr id="879" name=""/>
            <p:cNvSpPr/>
            <p:nvPr/>
          </p:nvSpPr>
          <p:spPr>
            <a:xfrm>
              <a:off x="7966080" y="2035080"/>
              <a:ext cx="0" cy="7686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62680" y="2803680"/>
              <a:ext cx="110340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975440" y="2452680"/>
              <a:ext cx="316080" cy="349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90080" y="1887480"/>
              <a:ext cx="0" cy="565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323120" y="2451240"/>
              <a:ext cx="96696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62680" y="2049480"/>
              <a:ext cx="0" cy="752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864480" y="2452320"/>
              <a:ext cx="461880" cy="343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3120" y="2050920"/>
              <a:ext cx="0" cy="403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1640" y="196200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72520" y="206388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72520" y="206388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442280" y="1703520"/>
              <a:ext cx="269640" cy="158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19960" y="2006640"/>
              <a:ext cx="97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8029440" y="1888920"/>
              <a:ext cx="301680" cy="10476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19960" y="2006640"/>
              <a:ext cx="97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937640" y="1879200"/>
              <a:ext cx="355320" cy="16020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40720" y="1676520"/>
              <a:ext cx="596880" cy="22680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81680" y="1738440"/>
              <a:ext cx="1270080" cy="32688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423200" y="1679400"/>
              <a:ext cx="323640" cy="59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s Like Building a House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52280" y="40381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fundament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 KM represents a set of Behavioral/Structural Condi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walls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of KM represent a set of Operational Condi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roof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of KM represents the corporate knowledge by which learning, innovation, speed and productivity will be enhanc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09520" y="2874960"/>
            <a:ext cx="1771560" cy="245052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erformance metric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Science workshop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Technology exchange network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Extra budg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08120" y="4438800"/>
            <a:ext cx="4954680" cy="998280"/>
          </a:xfrm>
          <a:custGeom>
            <a:avLst/>
            <a:gdLst/>
            <a:ahLst/>
            <a:rect l="l" t="t" r="r" b="b"/>
            <a:pathLst>
              <a:path w="3121" h="629">
                <a:moveTo>
                  <a:pt x="0" y="628"/>
                </a:moveTo>
                <a:lnTo>
                  <a:pt x="841" y="0"/>
                </a:lnTo>
                <a:lnTo>
                  <a:pt x="3120" y="0"/>
                </a:lnTo>
                <a:lnTo>
                  <a:pt x="2467" y="628"/>
                </a:lnTo>
                <a:lnTo>
                  <a:pt x="0" y="6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88040" y="2344680"/>
            <a:ext cx="2556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78240" y="3063960"/>
            <a:ext cx="0" cy="236376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394320" y="4427640"/>
            <a:ext cx="1103400" cy="1008000"/>
          </a:xfrm>
          <a:prstGeom prst="line">
            <a:avLst/>
          </a:prstGeom>
          <a:ln w="38160">
            <a:solidFill>
              <a:srgbClr val="00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97720" y="2604960"/>
            <a:ext cx="0" cy="182268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835080" y="4422600"/>
            <a:ext cx="3662280" cy="5040"/>
          </a:xfrm>
          <a:prstGeom prst="line">
            <a:avLst/>
          </a:prstGeom>
          <a:ln w="38160">
            <a:solidFill>
              <a:srgbClr val="00cece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2479680" y="4460400"/>
            <a:ext cx="1343160" cy="963720"/>
          </a:xfrm>
          <a:prstGeom prst="line">
            <a:avLst/>
          </a:prstGeom>
          <a:ln w="38160">
            <a:solidFill>
              <a:srgbClr val="00cece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65880" y="3063960"/>
            <a:ext cx="0" cy="238104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473200" y="5446800"/>
            <a:ext cx="3891240" cy="0"/>
          </a:xfrm>
          <a:prstGeom prst="line">
            <a:avLst/>
          </a:prstGeom>
          <a:ln w="38160">
            <a:solidFill>
              <a:srgbClr val="00cece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36880" y="2608200"/>
            <a:ext cx="0" cy="185436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84360" y="2549520"/>
            <a:ext cx="5052960" cy="507960"/>
          </a:xfrm>
          <a:prstGeom prst="parallelogram">
            <a:avLst>
              <a:gd name="adj" fmla="val 254584"/>
            </a:avLst>
          </a:prstGeom>
          <a:noFill/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600440" y="1698480"/>
            <a:ext cx="917640" cy="10800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6507000" y="2208240"/>
            <a:ext cx="935280" cy="25704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19880" y="1697040"/>
            <a:ext cx="1917720" cy="50976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84360" y="1805040"/>
            <a:ext cx="4065840" cy="671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719840" y="3733920"/>
            <a:ext cx="1424160" cy="977760"/>
            <a:chOff x="7719840" y="3733920"/>
            <a:chExt cx="1424160" cy="977760"/>
          </a:xfrm>
        </p:grpSpPr>
        <p:sp>
          <p:nvSpPr>
            <p:cNvPr id="918" name=""/>
            <p:cNvSpPr/>
            <p:nvPr/>
          </p:nvSpPr>
          <p:spPr>
            <a:xfrm>
              <a:off x="7748280" y="3733920"/>
              <a:ext cx="1295640" cy="9777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19840" y="3760560"/>
              <a:ext cx="142416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Open,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sharing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rot="18960000">
            <a:off x="6445440" y="4889160"/>
            <a:ext cx="1749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KNOWLEDGE SHAR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6095880" y="5562720"/>
            <a:ext cx="1339920" cy="934920"/>
            <a:chOff x="6095880" y="5562720"/>
            <a:chExt cx="1339920" cy="934920"/>
          </a:xfrm>
        </p:grpSpPr>
        <p:sp>
          <p:nvSpPr>
            <p:cNvPr id="922" name=""/>
            <p:cNvSpPr/>
            <p:nvPr/>
          </p:nvSpPr>
          <p:spPr>
            <a:xfrm>
              <a:off x="6095880" y="5618160"/>
              <a:ext cx="1295280" cy="8794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0520" y="5562720"/>
              <a:ext cx="129528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Non-sharing 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 rot="19320000">
            <a:off x="2411280" y="4681080"/>
            <a:ext cx="13287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TEAMWORK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29280" y="4151160"/>
            <a:ext cx="20016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COMMITMEN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720880" y="5500800"/>
            <a:ext cx="29415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cece"/>
                </a:solidFill>
                <a:latin typeface="Arial"/>
              </a:rPr>
              <a:t>ORGANISATION STRUCTURE &amp; PROCESS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i="1" lang="en-US" sz="14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wards and Incentives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7248600" y="4330800"/>
            <a:ext cx="1635120" cy="10666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830920" y="2808360"/>
            <a:ext cx="2376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22400" y="3527280"/>
            <a:ext cx="0" cy="23637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0" y="3048120"/>
            <a:ext cx="0" cy="182232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810400" y="3527280"/>
            <a:ext cx="0" cy="23814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20960" y="5910120"/>
            <a:ext cx="3889440" cy="0"/>
          </a:xfrm>
          <a:prstGeom prst="line">
            <a:avLst/>
          </a:prstGeom>
          <a:ln w="12600">
            <a:solidFill>
              <a:srgbClr val="fcfe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82840" y="3071880"/>
            <a:ext cx="0" cy="185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044960" y="2162160"/>
            <a:ext cx="917640" cy="108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951520" y="2671920"/>
            <a:ext cx="934920" cy="257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64040" y="2160720"/>
            <a:ext cx="1917720" cy="509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928880" y="2268360"/>
            <a:ext cx="4065480" cy="671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86680" y="4443480"/>
            <a:ext cx="172404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eparate information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19520" y="4135320"/>
            <a:ext cx="20858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Research 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39080" y="3768840"/>
            <a:ext cx="17240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Enabling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echnologi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5600">
            <a:off x="3276720" y="3558960"/>
            <a:ext cx="16794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Upgrad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Of Existing 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i="1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78200" y="4270320"/>
            <a:ext cx="13698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Of New Ideas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229520" y="2502000"/>
            <a:ext cx="1635120" cy="10666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94600" y="2625840"/>
            <a:ext cx="179532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Integrated Information System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17720" y="4915080"/>
            <a:ext cx="4954680" cy="998280"/>
          </a:xfrm>
          <a:custGeom>
            <a:avLst/>
            <a:gdLst/>
            <a:ahLst/>
            <a:rect l="l" t="t" r="r" b="b"/>
            <a:pathLst>
              <a:path w="3121" h="629">
                <a:moveTo>
                  <a:pt x="0" y="628"/>
                </a:moveTo>
                <a:lnTo>
                  <a:pt x="841" y="0"/>
                </a:lnTo>
                <a:lnTo>
                  <a:pt x="3120" y="0"/>
                </a:lnTo>
                <a:lnTo>
                  <a:pt x="2467" y="628"/>
                </a:lnTo>
                <a:lnTo>
                  <a:pt x="0" y="628"/>
                </a:lnTo>
              </a:path>
            </a:pathLst>
          </a:custGeom>
          <a:noFill/>
          <a:ln w="9360">
            <a:solidFill>
              <a:srgbClr val="00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971800"/>
            <a:ext cx="1542960" cy="245052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Database 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Groupwar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Web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User-interface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Intran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ed Syste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05120" y="3048120"/>
            <a:ext cx="4952880" cy="465120"/>
          </a:xfrm>
          <a:custGeom>
            <a:avLst/>
            <a:gdLst/>
            <a:ahLst/>
            <a:rect l="l" t="t" r="r" b="b"/>
            <a:pathLst>
              <a:path w="3121" h="629">
                <a:moveTo>
                  <a:pt x="0" y="628"/>
                </a:moveTo>
                <a:lnTo>
                  <a:pt x="841" y="0"/>
                </a:lnTo>
                <a:lnTo>
                  <a:pt x="3120" y="0"/>
                </a:lnTo>
                <a:lnTo>
                  <a:pt x="2467" y="628"/>
                </a:lnTo>
                <a:lnTo>
                  <a:pt x="0" y="628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2035080" y="4025880"/>
            <a:ext cx="4346640" cy="1039680"/>
          </a:xfrm>
          <a:prstGeom prst="parallelogram">
            <a:avLst>
              <a:gd name="adj" fmla="val 104499"/>
            </a:avLst>
          </a:prstGeom>
          <a:solidFill>
            <a:srgbClr val="0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Behavioral and Structur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727600" y="997200"/>
            <a:ext cx="2766600" cy="2145600"/>
            <a:chOff x="5727600" y="997200"/>
            <a:chExt cx="2766600" cy="2145600"/>
          </a:xfrm>
        </p:grpSpPr>
        <p:sp>
          <p:nvSpPr>
            <p:cNvPr id="955" name=""/>
            <p:cNvSpPr/>
            <p:nvPr/>
          </p:nvSpPr>
          <p:spPr>
            <a:xfrm>
              <a:off x="5869440" y="2438280"/>
              <a:ext cx="24721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5727600" y="997200"/>
              <a:ext cx="2766600" cy="1576800"/>
              <a:chOff x="5727600" y="997200"/>
              <a:chExt cx="2766600" cy="1576800"/>
            </a:xfrm>
          </p:grpSpPr>
          <p:sp>
            <p:nvSpPr>
              <p:cNvPr id="957" name=""/>
              <p:cNvSpPr/>
              <p:nvPr/>
            </p:nvSpPr>
            <p:spPr>
              <a:xfrm>
                <a:off x="6012000" y="217188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8600000">
                <a:off x="5699160" y="1465920"/>
                <a:ext cx="14180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8600000">
                <a:off x="6298200" y="1630080"/>
                <a:ext cx="10206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8600000">
                <a:off x="6892560" y="1537200"/>
                <a:ext cx="125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8600000">
                <a:off x="7455600" y="1607040"/>
                <a:ext cx="107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realiz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018120" y="217800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3400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17876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93200" y="217800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27600" y="215892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243480" y="215892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87160" y="2158920"/>
                <a:ext cx="5511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04120" y="215892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0" name=""/>
          <p:cNvSpPr/>
          <p:nvPr/>
        </p:nvSpPr>
        <p:spPr>
          <a:xfrm>
            <a:off x="2055960" y="5176800"/>
            <a:ext cx="15552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Hierarchical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21320" y="5172120"/>
            <a:ext cx="33796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Process-oriented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500080" y="4809960"/>
            <a:ext cx="169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Power cultur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394320" y="4013280"/>
            <a:ext cx="195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pen &amp; sharing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80840" y="4451400"/>
            <a:ext cx="1254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Focus on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70040" y="3517920"/>
            <a:ext cx="1267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Focus on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group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succ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75200" y="3260880"/>
            <a:ext cx="1774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No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of KM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23400" y="3479760"/>
            <a:ext cx="2142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Top management 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commitment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76600" y="515628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452680" y="452772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011320" y="5059440"/>
            <a:ext cx="1752480" cy="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5334120" y="4529160"/>
            <a:ext cx="533160" cy="5335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24080" y="4010040"/>
            <a:ext cx="1143000" cy="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011320" y="4529160"/>
            <a:ext cx="533520" cy="5335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5883120" y="4425480"/>
            <a:ext cx="109800" cy="1177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529000" y="4352760"/>
            <a:ext cx="230040" cy="1987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722760" y="5059440"/>
            <a:ext cx="216000" cy="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67080" y="4010040"/>
            <a:ext cx="990720" cy="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881680" y="452772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76560" y="399420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feb9"/>
                </a:solidFill>
                <a:latin typeface="Arial"/>
              </a:rPr>
              <a:t>1,9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40640" y="652140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280" y="5790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 the behavioral/structural axis, there is still enough improvement potential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444600" y="5754600"/>
            <a:ext cx="883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Operation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6397560" y="1835280"/>
            <a:ext cx="2755440" cy="2145960"/>
            <a:chOff x="6397560" y="1835280"/>
            <a:chExt cx="2755440" cy="2145960"/>
          </a:xfrm>
        </p:grpSpPr>
        <p:sp>
          <p:nvSpPr>
            <p:cNvPr id="995" name=""/>
            <p:cNvSpPr/>
            <p:nvPr/>
          </p:nvSpPr>
          <p:spPr>
            <a:xfrm>
              <a:off x="6539400" y="3276720"/>
              <a:ext cx="24721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Arial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397560" y="1835280"/>
              <a:ext cx="2755440" cy="1577160"/>
              <a:chOff x="6397560" y="1835280"/>
              <a:chExt cx="2755440" cy="1577160"/>
            </a:xfrm>
          </p:grpSpPr>
          <p:sp>
            <p:nvSpPr>
              <p:cNvPr id="997" name=""/>
              <p:cNvSpPr/>
              <p:nvPr/>
            </p:nvSpPr>
            <p:spPr>
              <a:xfrm>
                <a:off x="6681960" y="300996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600000">
                <a:off x="6369120" y="2304000"/>
                <a:ext cx="14180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8600000">
                <a:off x="6968160" y="2468160"/>
                <a:ext cx="10206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600000">
                <a:off x="7570440" y="2377080"/>
                <a:ext cx="125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8600000">
                <a:off x="8114400" y="2443680"/>
                <a:ext cx="10706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realiz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88080" y="301608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20396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84872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362800" y="301608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397560" y="299736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13440" y="299736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57120" y="2997360"/>
                <a:ext cx="5511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74080" y="2997360"/>
                <a:ext cx="43200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Arial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1652760" y="1438200"/>
            <a:ext cx="4371840" cy="4194360"/>
          </a:xfrm>
          <a:prstGeom prst="cube">
            <a:avLst>
              <a:gd name="adj" fmla="val 24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52760" y="2100240"/>
            <a:ext cx="3328920" cy="38592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14760" y="1035000"/>
            <a:ext cx="3328920" cy="39060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341520" y="1028880"/>
            <a:ext cx="1019520" cy="104112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650960" y="4593960"/>
            <a:ext cx="1074600" cy="101916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727360" y="4594320"/>
            <a:ext cx="330192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727360" y="1460160"/>
            <a:ext cx="0" cy="313380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560" y="4027320"/>
            <a:ext cx="20732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Knowledge stor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mentally an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hysicall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56640" y="1306440"/>
            <a:ext cx="18950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ntegrat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atabases linked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with workflow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42720" y="5092560"/>
            <a:ext cx="1273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d-hoc 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9840" y="2470320"/>
            <a:ext cx="1302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tructured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trategic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00720" y="4165560"/>
            <a:ext cx="1212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Ad-hoc data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collec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447520" y="319896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72560" y="4440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0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77400" y="3243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86680" y="1438200"/>
            <a:ext cx="1305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Professional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1641600" y="4525560"/>
            <a:ext cx="0" cy="11113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41600" y="4179960"/>
            <a:ext cx="0" cy="37440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724120" y="3341520"/>
            <a:ext cx="0" cy="127008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029280" y="3357720"/>
            <a:ext cx="0" cy="123984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724120" y="3053880"/>
            <a:ext cx="0" cy="30348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34800" y="2577960"/>
            <a:ext cx="1132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support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decision-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mak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365440" y="5311800"/>
            <a:ext cx="18324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n-customized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022800" y="3060360"/>
            <a:ext cx="0" cy="291960"/>
          </a:xfrm>
          <a:prstGeom prst="line">
            <a:avLst/>
          </a:prstGeom>
          <a:ln w="25560">
            <a:solidFill>
              <a:srgbClr val="30c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628640" y="4591080"/>
            <a:ext cx="4402440" cy="1106280"/>
          </a:xfrm>
          <a:custGeom>
            <a:avLst/>
            <a:gdLst/>
            <a:ahLst/>
            <a:rect l="l" t="t" r="r" b="b"/>
            <a:pathLst>
              <a:path w="2773" h="697">
                <a:moveTo>
                  <a:pt x="0" y="666"/>
                </a:moveTo>
                <a:lnTo>
                  <a:pt x="690" y="0"/>
                </a:lnTo>
                <a:lnTo>
                  <a:pt x="2772" y="0"/>
                </a:lnTo>
                <a:lnTo>
                  <a:pt x="2112" y="660"/>
                </a:lnTo>
                <a:lnTo>
                  <a:pt x="6" y="660"/>
                </a:lnTo>
                <a:lnTo>
                  <a:pt x="6" y="696"/>
                </a:lnTo>
              </a:path>
            </a:pathLst>
          </a:custGeom>
          <a:noFill/>
          <a:ln w="93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93560" y="423720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1,9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989600" y="4049640"/>
            <a:ext cx="0" cy="5191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89600" y="4568760"/>
            <a:ext cx="0" cy="108288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4989600" y="4539960"/>
            <a:ext cx="0" cy="10969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240" y="5714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quick fix is not possible for the implementation of KM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7240" indent="-2372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ep by step, the KM performance should be improved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ixed Feelings about KM Benefi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552600" y="1916280"/>
            <a:ext cx="3504960" cy="2428560"/>
            <a:chOff x="552600" y="1916280"/>
            <a:chExt cx="3504960" cy="2428560"/>
          </a:xfrm>
        </p:grpSpPr>
        <p:sp>
          <p:nvSpPr>
            <p:cNvPr id="1043" name=""/>
            <p:cNvSpPr/>
            <p:nvPr/>
          </p:nvSpPr>
          <p:spPr>
            <a:xfrm>
              <a:off x="552600" y="1916280"/>
              <a:ext cx="3473280" cy="2428560"/>
            </a:xfrm>
            <a:prstGeom prst="rect">
              <a:avLst/>
            </a:prstGeom>
            <a:solidFill>
              <a:srgbClr val="fe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1680" y="1986120"/>
              <a:ext cx="34858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20"/>
                  </a:solidFill>
                  <a:latin typeface="Arial"/>
                </a:rPr>
                <a:t>Overall satisfying results?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587160" y="2376360"/>
              <a:ext cx="3329640" cy="1687320"/>
              <a:chOff x="587160" y="2376360"/>
              <a:chExt cx="3329640" cy="1687320"/>
            </a:xfrm>
          </p:grpSpPr>
          <p:sp>
            <p:nvSpPr>
              <p:cNvPr id="1046" name=""/>
              <p:cNvSpPr/>
              <p:nvPr/>
            </p:nvSpPr>
            <p:spPr>
              <a:xfrm>
                <a:off x="1012680" y="2376360"/>
                <a:ext cx="1555560" cy="15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6" y="0"/>
                    </a:moveTo>
                    <a:arcTo wR="10800" hR="10800" stAng="-5414031" swAng="79977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6" y="0"/>
                    </a:moveTo>
                    <a:arcTo wR="10800" hR="10800" stAng="-5414031" swAng="7997789"/>
                  </a:path>
                </a:pathLst>
              </a:custGeom>
              <a:solidFill>
                <a:srgbClr val="30c2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12680" y="2376360"/>
                <a:ext cx="1555560" cy="15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691" y="18174"/>
                    </a:moveTo>
                    <a:arcTo wR="10800" hR="10800" stAng="2583757" swAng="28303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691" y="18174"/>
                    </a:moveTo>
                    <a:arcTo wR="10800" hR="10800" stAng="2583757" swAng="2830302"/>
                  </a:path>
                </a:pathLst>
              </a:custGeom>
              <a:solidFill>
                <a:srgbClr val="e62a05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012680" y="2378160"/>
                <a:ext cx="1555560" cy="156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6" y="21600"/>
                    </a:moveTo>
                    <a:arcTo wR="10800" hR="10800" stAng="5414060" swAng="107719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6" y="21600"/>
                    </a:moveTo>
                    <a:arcTo wR="10800" hR="10800" stAng="5414060" swAng="10771909"/>
                  </a:path>
                </a:pathLst>
              </a:custGeom>
              <a:solidFill>
                <a:srgbClr val="eeaf36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436480" y="2583000"/>
                <a:ext cx="491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7%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047680" y="3816360"/>
                <a:ext cx="491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3%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7160" y="2986200"/>
                <a:ext cx="491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864880" y="3021120"/>
                <a:ext cx="10519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95400" indent="-95400">
                  <a:lnSpc>
                    <a:spcPct val="85000"/>
                  </a:lnSpc>
                  <a:spcBef>
                    <a:spcPts val="751"/>
                  </a:spcBef>
                  <a:buClr>
                    <a:srgbClr val="30c200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751"/>
                  </a:spcBef>
                  <a:buClr>
                    <a:srgbClr val="e62a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marL="95400" indent="-95400">
                  <a:lnSpc>
                    <a:spcPct val="85000"/>
                  </a:lnSpc>
                  <a:spcBef>
                    <a:spcPts val="751"/>
                  </a:spcBef>
                  <a:buClr>
                    <a:srgbClr val="eeaf36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n't know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767160" y="3997440"/>
              <a:ext cx="201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Univers 45 Light"/>
                </a:rPr>
                <a:t>(*) KM initiative in plac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385160" y="1924200"/>
            <a:ext cx="4587480" cy="2414520"/>
            <a:chOff x="4385160" y="1924200"/>
            <a:chExt cx="4587480" cy="2414520"/>
          </a:xfrm>
        </p:grpSpPr>
        <p:sp>
          <p:nvSpPr>
            <p:cNvPr id="1055" name=""/>
            <p:cNvSpPr/>
            <p:nvPr/>
          </p:nvSpPr>
          <p:spPr>
            <a:xfrm>
              <a:off x="4392720" y="1924200"/>
              <a:ext cx="4459320" cy="2414520"/>
            </a:xfrm>
            <a:prstGeom prst="rect">
              <a:avLst/>
            </a:prstGeom>
            <a:solidFill>
              <a:srgbClr val="feffab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4840" y="2036880"/>
              <a:ext cx="2903400" cy="179856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4664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8032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1348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4860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1688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983360" y="2075040"/>
              <a:ext cx="0" cy="17762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19680" y="3870360"/>
              <a:ext cx="3252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762120"/>
                  <a:tab algn="ctr" pos="1143000"/>
                  <a:tab algn="ctr" pos="1523880"/>
                  <a:tab algn="ctr" pos="1809720"/>
                  <a:tab algn="ctr" pos="2190600"/>
                  <a:tab algn="ctr" pos="2476440"/>
                  <a:tab algn="l" pos="2532240"/>
                  <a:tab algn="l" pos="2762280"/>
                  <a:tab algn="l" pos="2992320"/>
                  <a:tab algn="l" pos="3222720"/>
                  <a:tab algn="l" pos="3452760"/>
                  <a:tab algn="l" pos="3683160"/>
                  <a:tab algn="l" pos="3913200"/>
                  <a:tab algn="l" pos="4143240"/>
                  <a:tab algn="l" pos="4373640"/>
                  <a:tab algn="l" pos="4603680"/>
                  <a:tab algn="l" pos="4834080"/>
                  <a:tab algn="l" pos="5064120"/>
                  <a:tab algn="l" pos="5294160"/>
                  <a:tab algn="l" pos="5524560"/>
                  <a:tab algn="l" pos="5754600"/>
                  <a:tab algn="l" pos="5985000"/>
                  <a:tab algn="l" pos="6215040"/>
                  <a:tab algn="l" pos="6445080"/>
                  <a:tab algn="l" pos="6675480"/>
                  <a:tab algn="l" pos="6905520"/>
                </a:tabLst>
              </a:pPr>
              <a:r>
                <a:rPr b="1" lang="en-US" sz="800" spc="-1" strike="noStrike">
                  <a:solidFill>
                    <a:srgbClr val="000020"/>
                  </a:solidFill>
                  <a:latin typeface="Univers 45 Light"/>
                </a:rPr>
                <a:t>0         10         20</a:t>
              </a:r>
              <a:r>
                <a:rPr b="1" lang="en-US" sz="800" spc="-1" strike="noStrike">
                  <a:solidFill>
                    <a:srgbClr val="000020"/>
                  </a:solidFill>
                  <a:latin typeface="Univers 45 Light"/>
                </a:rPr>
                <a:t>	</a:t>
              </a:r>
              <a:r>
                <a:rPr b="1" lang="en-US" sz="800" spc="-1" strike="noStrike">
                  <a:solidFill>
                    <a:srgbClr val="000020"/>
                  </a:solidFill>
                  <a:latin typeface="Univers 45 Light"/>
                </a:rPr>
                <a:t>         30         40         50          60        70       80%</a:t>
              </a:r>
              <a:endParaRPr b="0" lang="en-US" sz="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84840" y="2144880"/>
              <a:ext cx="1971720" cy="1126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84840" y="2589120"/>
              <a:ext cx="2340000" cy="1159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4840" y="3032280"/>
              <a:ext cx="2192400" cy="1141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84840" y="3476520"/>
              <a:ext cx="1751040" cy="1144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85160" y="2957400"/>
              <a:ext cx="93564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Improved staff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morale/attitude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01000" y="3406680"/>
              <a:ext cx="10407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Enhanced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communication &amp;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decision making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05320" y="2514600"/>
              <a:ext cx="11275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Increased potential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for innovation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400280" y="2070000"/>
              <a:ext cx="120384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Improved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89000"/>
                  <a:tab algn="l" pos="378000"/>
                  <a:tab algn="l" pos="566640"/>
                  <a:tab algn="l" pos="755640"/>
                  <a:tab algn="l" pos="944640"/>
                  <a:tab algn="l" pos="1133640"/>
                  <a:tab algn="l" pos="1322280"/>
                  <a:tab algn="l" pos="1511280"/>
                  <a:tab algn="l" pos="1700280"/>
                  <a:tab algn="l" pos="1889280"/>
                  <a:tab algn="l" pos="2077920"/>
                  <a:tab algn="l" pos="2266920"/>
                  <a:tab algn="l" pos="2455920"/>
                  <a:tab algn="l" pos="2644920"/>
                  <a:tab algn="l" pos="2833560"/>
                  <a:tab algn="l" pos="3022560"/>
                  <a:tab algn="l" pos="3211560"/>
                  <a:tab algn="l" pos="3400560"/>
                  <a:tab algn="l" pos="3589200"/>
                  <a:tab algn="l" pos="377820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market performance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84840" y="2270160"/>
              <a:ext cx="1825560" cy="11592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84840" y="2717640"/>
              <a:ext cx="2043000" cy="11304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84840" y="3159000"/>
              <a:ext cx="941400" cy="1144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84840" y="3603600"/>
              <a:ext cx="2486160" cy="11448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511520" y="3957480"/>
              <a:ext cx="133560" cy="1144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11520" y="4148280"/>
              <a:ext cx="133560" cy="114120"/>
            </a:xfrm>
            <a:prstGeom prst="rect">
              <a:avLst/>
            </a:prstGeom>
            <a:solidFill>
              <a:srgbClr val="990066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65960" y="3943440"/>
              <a:ext cx="108540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0040"/>
                  <a:tab algn="l" pos="460440"/>
                  <a:tab algn="l" pos="690480"/>
                  <a:tab algn="l" pos="920880"/>
                  <a:tab algn="l" pos="1150920"/>
                  <a:tab algn="l" pos="1380960"/>
                  <a:tab algn="l" pos="1611360"/>
                  <a:tab algn="l" pos="1841400"/>
                  <a:tab algn="l" pos="2071800"/>
                  <a:tab algn="l" pos="2301840"/>
                  <a:tab algn="l" pos="2532240"/>
                  <a:tab algn="l" pos="2762280"/>
                  <a:tab algn="l" pos="2992320"/>
                  <a:tab algn="l" pos="3222720"/>
                  <a:tab algn="l" pos="3452760"/>
                  <a:tab algn="l" pos="3683160"/>
                  <a:tab algn="l" pos="3913200"/>
                  <a:tab algn="l" pos="4143240"/>
                  <a:tab algn="l" pos="4373640"/>
                  <a:tab algn="l" pos="460368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Perceived benefits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87920" y="4111560"/>
              <a:ext cx="197964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0040"/>
                  <a:tab algn="l" pos="460440"/>
                  <a:tab algn="l" pos="690480"/>
                  <a:tab algn="l" pos="920880"/>
                  <a:tab algn="l" pos="1150920"/>
                  <a:tab algn="l" pos="1380960"/>
                  <a:tab algn="l" pos="1611360"/>
                  <a:tab algn="l" pos="1841400"/>
                  <a:tab algn="l" pos="2071800"/>
                  <a:tab algn="l" pos="2301840"/>
                  <a:tab algn="l" pos="2532240"/>
                  <a:tab algn="l" pos="2762280"/>
                  <a:tab algn="l" pos="2992320"/>
                  <a:tab algn="l" pos="3222720"/>
                  <a:tab algn="l" pos="3452760"/>
                  <a:tab algn="l" pos="3683160"/>
                  <a:tab algn="l" pos="3913200"/>
                  <a:tab algn="l" pos="4143240"/>
                  <a:tab algn="l" pos="4373640"/>
                  <a:tab algn="l" pos="4603680"/>
                </a:tabLst>
              </a:pPr>
              <a:r>
                <a:rPr b="0" lang="en-US" sz="900" spc="-1" strike="noStrike">
                  <a:solidFill>
                    <a:srgbClr val="000020"/>
                  </a:solidFill>
                  <a:latin typeface="Univers 45 Light"/>
                </a:rPr>
                <a:t>Reason to launch initiative</a:t>
              </a:r>
              <a:endParaRPr b="0" lang="en-US" sz="9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337600" y="2046240"/>
              <a:ext cx="0" cy="17780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4040640" y="652464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KPMG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560" y="44197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 early or difficult for 50% to judge whether overall results are satisfying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d communication &amp; decision making is not (yet) proven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d staff morale/commitment is a welcomed spin-off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-Intensive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cit knowledge is one of the critical ass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nce tacit knowledge is difficult to capture, people become very important ass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ch organizations are vulnerable because people are mobi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re activities are difficult or impossible to autom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y on problem solving, experience, communication, creativity, innovation, intuition, …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ccess is not only based on financial 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ut what are the other criteria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62280" y="659772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 &amp;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vs. Knowledge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dustrial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ottom-heav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et rich, brain po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yramid shap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igid struct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ignment of workers to depart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pends critically on middle management leve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anges through verdi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aightforward valu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ree production factors: labor, raw materials, capit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ell-known valuation metho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49568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-heav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rain rich, asset po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twork of projects, work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lexible struct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ignment of workers to proje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ttle management overhea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anges through organizational lear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aluation is diffic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easurement of knowledge-based as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quires new valuation metho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vs. Knowledge Compan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orker vs.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Organ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cial issues and changes in the work environ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lacement of workers through computers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aptation of tasks and responsibilities to the use o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entralized knowledge reposito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work flo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mand-driven work schedul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ease from tedious “data processing”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owerment” of knowledge work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signment of responsibility and authorization to workers instead of manag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vailability of critical knowledge to work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ork Life in the Industrial 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jobs “for life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igid structures within most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low evolution of skills, tech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ttle need for individual career plan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ployees may possess critical skills an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ork Life in the Knowledge 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ultiple jobs or careers over a life spa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lexible structures within and across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project teams, virtual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re opportunities, but less stabi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vidual career planning becomes much more importa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s try to incorporate tacit knowledge into organizational mem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ployees must utilize experience, creativity, problem-solving and inter-personal skil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tching Individual and Organizational Nee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pendent pers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ee agent”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pen to pursue other opportun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wnership of knowledge as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chnical skil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hasis on individual career go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fessional, personal, soci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rollable as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ollows directiv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placeable by other employe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wnership of knowledge as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rietary information, knowledge and skil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hasis on corporate go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ancial, political, soci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ividual Balanced Scorecar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roach introduced at KPMG in 1995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objective is to balance the needs of employees with those of th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 process to coordinate business development plans with personal development plans of employe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ies on specific categorie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depend on the context of th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ms the basis for an agreement between employee and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cific goals and targets that are beneficial for the employee and th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28240" y="338040"/>
            <a:ext cx="4419720" cy="2100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PMG Balanced Individual Scorecar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2519280" y="652140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valuation persp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stomer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at can I achieve with my existing cli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rket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find new clients and strengthen my posi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ople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contribute to better team/group performanc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ult ori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achieve better results with less effor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sonal effective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 improve weak points and strengthen strong poi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fessionalis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at can I do to keep up with new developments in my area/disciplin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2280" y="6524640"/>
            <a:ext cx="20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Haak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&amp;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Deprez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04812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petency Scorecar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313380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2138400" y="65214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fcfeb9"/>
                </a:solidFill>
                <a:uFillTx/>
                <a:latin typeface="Times New Roman"/>
              </a:rPr>
              <a:t>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PMG Competency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62280" y="652464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PMG Annual Cyc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6939000" y="65214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ritical Iss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velopment of the personal plan should be supported by neutral resources and specialis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“development center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me aspects of the plan may remain confidenti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utual trust between employees and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punishment for self-critical assess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listic opportunities for positive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equate support for assigned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planning activities into regular business cyc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heduled time and re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llow-u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662280" y="652464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Haak &amp; Deprez 1999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lack &amp; Brunt 2000] Alistair Black and Rodney Brunt:MI5, 1909-1945: An Information Management Perspective,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Journal of Information Scienc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26 (3), pp. 185-197, 2000.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Brown 1998] John Seely Brown: Research that Reinvents the Corpor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arvin 1998] David A. Garvin: Building a Learning Organization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Harvard Business Review on Knowledge Managemen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Haak &amp; Deprez 1999] Tom Haar and Frank Lekanne Deprez: Individual Balanced Scorecards: Capitalizing on Individual and Organizational Needs for Mutual Benefit. 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7th World Business Dialogue on Rethinking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March 1999, Cologne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PMG 1998] KPMG Management Consulting: Knowledge Management Research Report 1998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www.kpmg.co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PMG 1999] Frans van de Veen, KPMG Management Consulting: Knowledge Management Survey 1999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kpmg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.co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M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ordinated, organized effor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cquisition, collection, organization, storage, interpretation, evaluation, distribution, mainten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sistent stor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thod, format, mediu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tegorization,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ual: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and-written, drawings, artifa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chanical: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ypewriter, punch cards, photographs, duplic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uter: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orage, retrieval, organization, evalu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1T00:46:55Z</cp:lastPrinted>
  <dcterms:modified xsi:type="dcterms:W3CDTF">2003-03-21T00:47:26Z</dcterms:modified>
  <cp:revision>46</cp:revision>
  <dc:subject/>
  <dc:title>CSC 480: Artificial Intelligence</dc:title>
</cp:coreProperties>
</file>