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642100" cy="9777413"/>
  <p:custShowLst>
    <p:custShow name="Lecture 1" id="0">
      <p:sldLst>
        <p:sld r:id="rId3"/>
        <p:sld r:id="rId4"/>
        <p:sld r:id="rId5"/>
        <p:sld r:id="rId9"/>
        <p:sld r:id="rId10"/>
        <p:sld r:id="rId12"/>
        <p:sld r:id="rId20"/>
        <p:sld r:id="rId23"/>
        <p:sld r:id="rId24"/>
        <p:sld r:id="rId25"/>
        <p:sld r:id="rId26"/>
        <p:sld r:id="rId27"/>
        <p:sld r:id="rId28"/>
        <p:sld r:id="rId29"/>
        <p:sld r:id="rId30"/>
        <p:sld r:id="rId31"/>
        <p:sld r:id="rId32"/>
        <p:sld r:id="rId33"/>
        <p:sld r:id="rId34"/>
      </p:sldLst>
    </p:custShow>
    <p:custShow name="Lecture 2" id="1">
      <p:sldLst>
        <p:sld r:id="rId35"/>
        <p:sld r:id="rId36"/>
        <p:sld r:id="rId37"/>
        <p:sld r:id="rId38"/>
        <p:sld r:id="rId39"/>
        <p:sld r:id="rId40"/>
        <p:sld r:id="rId41"/>
        <p:sld r:id="rId42"/>
        <p:sld r:id="rId43"/>
        <p:sld r:id="rId44"/>
        <p:sld r:id="rId45"/>
        <p:sld r:id="rId46"/>
        <p:sld r:id="rId47"/>
        <p:sld r:id="rId48"/>
        <p:sld r:id="rId49"/>
        <p:sld r:id="rId50"/>
        <p:sld r:id="rId51"/>
        <p:sld r:id="rId52"/>
        <p:sld r:id="rId53"/>
        <p:sld r:id="rId54"/>
      </p:sldLst>
    </p:custShow>
    <p:custShow name="Spring 2003" id="2">
      <p:sldLst>
        <p:sld r:id="rId5"/>
        <p:sld r:id="rId9"/>
        <p:sld r:id="rId10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26"/>
        <p:sld r:id="rId27"/>
        <p:sld r:id="rId28"/>
        <p:sld r:id="rId29"/>
        <p:sld r:id="rId30"/>
        <p:sld r:id="rId31"/>
        <p:sld r:id="rId32"/>
        <p:sld r:id="rId33"/>
        <p:sld r:id="rId34"/>
        <p:sld r:id="rId35"/>
        <p:sld r:id="rId36"/>
        <p:sld r:id="rId37"/>
        <p:sld r:id="rId38"/>
        <p:sld r:id="rId39"/>
        <p:sld r:id="rId40"/>
        <p:sld r:id="rId41"/>
        <p:sld r:id="rId42"/>
        <p:sld r:id="rId43"/>
        <p:sld r:id="rId44"/>
        <p:sld r:id="rId45"/>
        <p:sld r:id="rId46"/>
        <p:sld r:id="rId47"/>
        <p:sld r:id="rId48"/>
        <p:sld r:id="rId49"/>
        <p:sld r:id="rId50"/>
        <p:sld r:id="rId51"/>
        <p:sld r:id="rId52"/>
        <p:sld r:id="rId53"/>
        <p:sld r:id="rId54"/>
        <p:sld r:id="rId57"/>
        <p:sld r:id="rId5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387540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740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660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532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660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532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338040"/>
            <a:ext cx="8610480" cy="37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740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700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cece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cfeb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cfeb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89680" y="6566040"/>
            <a:ext cx="303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800" y="6541920"/>
            <a:ext cx="2618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© 2001-2003 Franz J. Kurfes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21360" y="6553080"/>
            <a:ext cx="2971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Knowledge Processing  </a:t>
            </a:r>
            <a:fld id="{79EBD5FB-B822-4471-A730-D395434925F1}" type="slidenum">
              <a:rPr b="1" lang="en-US" sz="1400" spc="-1" strike="noStrike">
                <a:solidFill>
                  <a:srgbClr val="fcfeb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PE/CSC 580: </a:t>
            </a:r>
            <a:br>
              <a:rPr sz="4400"/>
            </a:b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Managemen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r. Franz J. Kurfes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uter Science Departm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l Pol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hapter Introduc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 Processing as Core AI Paradig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elationship to K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erminolog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Processing as Core AI Paradig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lationship to K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erminology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formation 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ata, Information, Knowledg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9640" y="655308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Skyrme 1998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0" y="1523880"/>
            <a:ext cx="9279720" cy="4422960"/>
            <a:chOff x="0" y="1523880"/>
            <a:chExt cx="9279720" cy="4422960"/>
          </a:xfrm>
        </p:grpSpPr>
        <p:grpSp>
          <p:nvGrpSpPr>
            <p:cNvPr id="73" name=""/>
            <p:cNvGrpSpPr/>
            <p:nvPr/>
          </p:nvGrpSpPr>
          <p:grpSpPr>
            <a:xfrm>
              <a:off x="146160" y="4649760"/>
              <a:ext cx="5311800" cy="1297080"/>
              <a:chOff x="146160" y="4649760"/>
              <a:chExt cx="5311800" cy="1297080"/>
            </a:xfrm>
          </p:grpSpPr>
          <p:sp>
            <p:nvSpPr>
              <p:cNvPr id="74" name=""/>
              <p:cNvSpPr/>
              <p:nvPr/>
            </p:nvSpPr>
            <p:spPr>
              <a:xfrm>
                <a:off x="4519800" y="4649760"/>
                <a:ext cx="938160" cy="1295280"/>
              </a:xfrm>
              <a:custGeom>
                <a:avLst/>
                <a:gdLst/>
                <a:ahLst/>
                <a:rect l="l" t="t" r="r" b="b"/>
                <a:pathLst>
                  <a:path w="591" h="816">
                    <a:moveTo>
                      <a:pt x="278" y="815"/>
                    </a:moveTo>
                    <a:lnTo>
                      <a:pt x="0" y="347"/>
                    </a:lnTo>
                    <a:lnTo>
                      <a:pt x="261" y="0"/>
                    </a:lnTo>
                    <a:lnTo>
                      <a:pt x="590" y="406"/>
                    </a:lnTo>
                    <a:lnTo>
                      <a:pt x="278" y="815"/>
                    </a:lnTo>
                  </a:path>
                </a:pathLst>
              </a:custGeom>
              <a:solidFill>
                <a:srgbClr val="ff5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71680" y="4649760"/>
                <a:ext cx="4363920" cy="555480"/>
              </a:xfrm>
              <a:custGeom>
                <a:avLst/>
                <a:gdLst/>
                <a:ahLst/>
                <a:rect l="l" t="t" r="r" b="b"/>
                <a:pathLst>
                  <a:path w="2749" h="350">
                    <a:moveTo>
                      <a:pt x="0" y="349"/>
                    </a:moveTo>
                    <a:lnTo>
                      <a:pt x="2487" y="349"/>
                    </a:lnTo>
                    <a:lnTo>
                      <a:pt x="2748" y="0"/>
                    </a:lnTo>
                    <a:lnTo>
                      <a:pt x="351" y="0"/>
                    </a:lnTo>
                    <a:lnTo>
                      <a:pt x="0" y="349"/>
                    </a:lnTo>
                  </a:path>
                </a:pathLst>
              </a:custGeom>
              <a:solidFill>
                <a:srgbClr val="800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46160" y="5200560"/>
                <a:ext cx="4819680" cy="746280"/>
              </a:xfrm>
              <a:custGeom>
                <a:avLst/>
                <a:gdLst/>
                <a:ahLst/>
                <a:rect l="l" t="t" r="r" b="b"/>
                <a:pathLst>
                  <a:path w="3036" h="470">
                    <a:moveTo>
                      <a:pt x="267" y="0"/>
                    </a:moveTo>
                    <a:lnTo>
                      <a:pt x="2754" y="0"/>
                    </a:lnTo>
                    <a:lnTo>
                      <a:pt x="3035" y="469"/>
                    </a:lnTo>
                    <a:lnTo>
                      <a:pt x="0" y="46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ff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649440" y="3914640"/>
              <a:ext cx="4211640" cy="1173240"/>
              <a:chOff x="649440" y="3914640"/>
              <a:chExt cx="4211640" cy="1173240"/>
            </a:xfrm>
          </p:grpSpPr>
          <p:sp>
            <p:nvSpPr>
              <p:cNvPr id="78" name=""/>
              <p:cNvSpPr/>
              <p:nvPr/>
            </p:nvSpPr>
            <p:spPr>
              <a:xfrm>
                <a:off x="4032360" y="3914640"/>
                <a:ext cx="828720" cy="1173240"/>
              </a:xfrm>
              <a:custGeom>
                <a:avLst/>
                <a:gdLst/>
                <a:ahLst/>
                <a:rect l="l" t="t" r="r" b="b"/>
                <a:pathLst>
                  <a:path w="522" h="739">
                    <a:moveTo>
                      <a:pt x="266" y="738"/>
                    </a:moveTo>
                    <a:lnTo>
                      <a:pt x="0" y="258"/>
                    </a:lnTo>
                    <a:lnTo>
                      <a:pt x="195" y="0"/>
                    </a:lnTo>
                    <a:lnTo>
                      <a:pt x="521" y="407"/>
                    </a:lnTo>
                    <a:lnTo>
                      <a:pt x="266" y="738"/>
                    </a:lnTo>
                  </a:path>
                </a:pathLst>
              </a:custGeom>
              <a:solidFill>
                <a:srgbClr val="ff5f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065240" y="3914640"/>
                <a:ext cx="3279600" cy="412920"/>
              </a:xfrm>
              <a:custGeom>
                <a:avLst/>
                <a:gdLst/>
                <a:ahLst/>
                <a:rect l="l" t="t" r="r" b="b"/>
                <a:pathLst>
                  <a:path w="2066" h="260">
                    <a:moveTo>
                      <a:pt x="0" y="259"/>
                    </a:moveTo>
                    <a:lnTo>
                      <a:pt x="1871" y="259"/>
                    </a:lnTo>
                    <a:lnTo>
                      <a:pt x="2065" y="0"/>
                    </a:lnTo>
                    <a:lnTo>
                      <a:pt x="370" y="1"/>
                    </a:lnTo>
                    <a:lnTo>
                      <a:pt x="0" y="259"/>
                    </a:lnTo>
                  </a:path>
                </a:pathLst>
              </a:custGeom>
              <a:solidFill>
                <a:srgbClr val="8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49440" y="4324320"/>
                <a:ext cx="3806640" cy="763560"/>
              </a:xfrm>
              <a:custGeom>
                <a:avLst/>
                <a:gdLst/>
                <a:ahLst/>
                <a:rect l="l" t="t" r="r" b="b"/>
                <a:pathLst>
                  <a:path w="2398" h="481">
                    <a:moveTo>
                      <a:pt x="0" y="480"/>
                    </a:moveTo>
                    <a:lnTo>
                      <a:pt x="2397" y="480"/>
                    </a:lnTo>
                    <a:lnTo>
                      <a:pt x="2131" y="0"/>
                    </a:lnTo>
                    <a:lnTo>
                      <a:pt x="263" y="0"/>
                    </a:lnTo>
                    <a:lnTo>
                      <a:pt x="0" y="480"/>
                    </a:lnTo>
                  </a:path>
                </a:pathLst>
              </a:custGeom>
              <a:solidFill>
                <a:srgbClr val="ff001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1206360" y="2844720"/>
              <a:ext cx="3130560" cy="1019160"/>
              <a:chOff x="1206360" y="2844720"/>
              <a:chExt cx="3130560" cy="1019160"/>
            </a:xfrm>
          </p:grpSpPr>
          <p:sp>
            <p:nvSpPr>
              <p:cNvPr id="82" name=""/>
              <p:cNvSpPr/>
              <p:nvPr/>
            </p:nvSpPr>
            <p:spPr>
              <a:xfrm>
                <a:off x="3611520" y="2844720"/>
                <a:ext cx="725400" cy="1017720"/>
              </a:xfrm>
              <a:custGeom>
                <a:avLst/>
                <a:gdLst/>
                <a:ahLst/>
                <a:rect l="l" t="t" r="r" b="b"/>
                <a:pathLst>
                  <a:path w="457" h="641">
                    <a:moveTo>
                      <a:pt x="0" y="175"/>
                    </a:moveTo>
                    <a:lnTo>
                      <a:pt x="271" y="640"/>
                    </a:lnTo>
                    <a:lnTo>
                      <a:pt x="456" y="402"/>
                    </a:lnTo>
                    <a:lnTo>
                      <a:pt x="131" y="0"/>
                    </a:lnTo>
                    <a:lnTo>
                      <a:pt x="0" y="175"/>
                    </a:lnTo>
                  </a:path>
                </a:pathLst>
              </a:custGeom>
              <a:solidFill>
                <a:srgbClr val="bf5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628640" y="2844720"/>
                <a:ext cx="2190960" cy="276480"/>
              </a:xfrm>
              <a:custGeom>
                <a:avLst/>
                <a:gdLst/>
                <a:ahLst/>
                <a:rect l="l" t="t" r="r" b="b"/>
                <a:pathLst>
                  <a:path w="1380" h="174">
                    <a:moveTo>
                      <a:pt x="0" y="173"/>
                    </a:moveTo>
                    <a:lnTo>
                      <a:pt x="1248" y="173"/>
                    </a:lnTo>
                    <a:lnTo>
                      <a:pt x="1379" y="0"/>
                    </a:lnTo>
                    <a:lnTo>
                      <a:pt x="349" y="0"/>
                    </a:lnTo>
                    <a:lnTo>
                      <a:pt x="0" y="173"/>
                    </a:lnTo>
                  </a:path>
                </a:pathLst>
              </a:custGeom>
              <a:solidFill>
                <a:srgbClr val="5f00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206360" y="3119400"/>
                <a:ext cx="2835360" cy="744480"/>
              </a:xfrm>
              <a:custGeom>
                <a:avLst/>
                <a:gdLst/>
                <a:ahLst/>
                <a:rect l="l" t="t" r="r" b="b"/>
                <a:pathLst>
                  <a:path w="1786" h="469">
                    <a:moveTo>
                      <a:pt x="0" y="468"/>
                    </a:moveTo>
                    <a:lnTo>
                      <a:pt x="1785" y="468"/>
                    </a:lnTo>
                    <a:lnTo>
                      <a:pt x="1514" y="0"/>
                    </a:lnTo>
                    <a:lnTo>
                      <a:pt x="266" y="0"/>
                    </a:lnTo>
                    <a:lnTo>
                      <a:pt x="0" y="468"/>
                    </a:lnTo>
                  </a:path>
                </a:pathLst>
              </a:custGeom>
              <a:solidFill>
                <a:srgbClr val="9f3fd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2631960" y="1523880"/>
              <a:ext cx="1158840" cy="1530360"/>
            </a:xfrm>
            <a:custGeom>
              <a:avLst/>
              <a:gdLst/>
              <a:ahLst/>
              <a:rect l="l" t="t" r="r" b="b"/>
              <a:pathLst>
                <a:path w="730" h="964">
                  <a:moveTo>
                    <a:pt x="592" y="963"/>
                  </a:moveTo>
                  <a:lnTo>
                    <a:pt x="729" y="814"/>
                  </a:lnTo>
                  <a:lnTo>
                    <a:pt x="0" y="0"/>
                  </a:lnTo>
                  <a:lnTo>
                    <a:pt x="592" y="963"/>
                  </a:lnTo>
                </a:path>
              </a:pathLst>
            </a:custGeom>
            <a:solidFill>
              <a:srgbClr val="ffbf1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17560" y="1523880"/>
              <a:ext cx="1859040" cy="1530360"/>
            </a:xfrm>
            <a:custGeom>
              <a:avLst/>
              <a:gdLst/>
              <a:ahLst/>
              <a:rect l="l" t="t" r="r" b="b"/>
              <a:pathLst>
                <a:path w="1171" h="964">
                  <a:moveTo>
                    <a:pt x="0" y="963"/>
                  </a:moveTo>
                  <a:lnTo>
                    <a:pt x="1170" y="963"/>
                  </a:lnTo>
                  <a:lnTo>
                    <a:pt x="585" y="0"/>
                  </a:lnTo>
                  <a:lnTo>
                    <a:pt x="0" y="963"/>
                  </a:lnTo>
                </a:path>
              </a:pathLst>
            </a:custGeom>
            <a:solidFill>
              <a:srgbClr val="ff9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15280" y="5272200"/>
              <a:ext cx="1062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ff00"/>
                  </a:solidFill>
                  <a:latin typeface="Arial"/>
                </a:rPr>
                <a:t>Data</a:t>
              </a:r>
              <a:endParaRPr b="0" lang="en-US" sz="3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15880" y="4400640"/>
              <a:ext cx="24170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ff00"/>
                  </a:solidFill>
                  <a:latin typeface="Arial"/>
                </a:rPr>
                <a:t>Information</a:t>
              </a:r>
              <a:endParaRPr b="0" lang="en-US" sz="3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72400" y="3243240"/>
              <a:ext cx="2350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ff00"/>
                  </a:solidFill>
                  <a:latin typeface="Arial"/>
                </a:rPr>
                <a:t>Knowledge</a:t>
              </a:r>
              <a:endParaRPr b="0" lang="en-US" sz="3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0" y="3884400"/>
              <a:ext cx="1092240" cy="322200"/>
            </a:xfrm>
            <a:prstGeom prst="line">
              <a:avLst/>
            </a:prstGeom>
            <a:ln w="50760">
              <a:solidFill>
                <a:srgbClr val="c00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43000" y="3921120"/>
              <a:ext cx="934920" cy="163440"/>
            </a:xfrm>
            <a:prstGeom prst="line">
              <a:avLst/>
            </a:prstGeom>
            <a:ln w="50760">
              <a:solidFill>
                <a:srgbClr val="c00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2114640" y="3827160"/>
              <a:ext cx="377640" cy="307800"/>
            </a:xfrm>
            <a:prstGeom prst="line">
              <a:avLst/>
            </a:prstGeom>
            <a:ln w="50760">
              <a:solidFill>
                <a:srgbClr val="c00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57440" y="3906720"/>
              <a:ext cx="577800" cy="177840"/>
            </a:xfrm>
            <a:prstGeom prst="line">
              <a:avLst/>
            </a:prstGeom>
            <a:ln w="50760">
              <a:solidFill>
                <a:srgbClr val="c00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3143160" y="3927240"/>
              <a:ext cx="792360" cy="207720"/>
            </a:xfrm>
            <a:prstGeom prst="line">
              <a:avLst/>
            </a:prstGeom>
            <a:ln w="50760">
              <a:solidFill>
                <a:srgbClr val="c00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986280" y="3963960"/>
              <a:ext cx="1763640" cy="249120"/>
            </a:xfrm>
            <a:prstGeom prst="line">
              <a:avLst/>
            </a:prstGeom>
            <a:ln w="50760">
              <a:solidFill>
                <a:srgbClr val="c00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39640" y="2157480"/>
              <a:ext cx="24156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0128"/>
                  </a:solidFill>
                  <a:latin typeface="Arial"/>
                </a:rPr>
                <a:t>Intelligence</a:t>
              </a:r>
              <a:endParaRPr b="0" lang="en-US" sz="32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15000" y="4734000"/>
              <a:ext cx="28926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c0128"/>
                  </a:solidFill>
                  <a:latin typeface="Arial"/>
                </a:rPr>
                <a:t>Codifiable, explicit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c0128"/>
                  </a:solidFill>
                  <a:latin typeface="Arial"/>
                </a:rPr>
                <a:t>Easily transferable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43360" y="2162160"/>
              <a:ext cx="363636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c0128"/>
                  </a:solidFill>
                  <a:latin typeface="Arial"/>
                </a:rPr>
                <a:t>Human, judgemental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c0128"/>
                  </a:solidFill>
                  <a:latin typeface="Arial"/>
                </a:rPr>
                <a:t>Contextual, tacit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c0128"/>
                  </a:solidFill>
                  <a:latin typeface="Arial"/>
                </a:rPr>
                <a:t>Transfer needs learning</a:t>
              </a:r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ata, Information, Knowledg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7120" y="6553080"/>
            <a:ext cx="20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Knowledge Ability 1998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Data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nformation 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 characteristic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eaningful only with respect to huma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t is context-sensitiv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t may be elaborat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t may be explicit or taci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explicit knowledge consists of documented fac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3" marL="1371600" indent="-228600">
              <a:spcBef>
                <a:spcPts val="4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frequently objective</a:t>
            </a:r>
            <a:endParaRPr b="0" lang="en-US" sz="16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acit knowledge is in people’s head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3" marL="1371600" indent="-228600">
              <a:spcBef>
                <a:spcPts val="4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frequently subjective</a:t>
            </a:r>
            <a:endParaRPr b="0" lang="en-US" sz="1600" spc="-1" strike="noStrike">
              <a:solidFill>
                <a:srgbClr val="fcfeb9"/>
              </a:solidFill>
              <a:latin typeface="Arial"/>
            </a:endParaRPr>
          </a:p>
          <a:p>
            <a:pPr lvl="3" marL="1371600" indent="-228600">
              <a:spcBef>
                <a:spcPts val="4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surfaces through interaction</a:t>
            </a:r>
            <a:endParaRPr b="0" lang="en-US" sz="16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23600" y="6553080"/>
            <a:ext cx="20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Knowledge Ability 1998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Process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52520" y="4686480"/>
            <a:ext cx="5743800" cy="942840"/>
          </a:xfrm>
          <a:prstGeom prst="rect">
            <a:avLst/>
          </a:prstGeom>
          <a:solidFill>
            <a:srgbClr val="fcd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1573200"/>
            <a:ext cx="7340760" cy="1092240"/>
          </a:xfrm>
          <a:custGeom>
            <a:avLst/>
            <a:gdLst>
              <a:gd name="textAreaLeft" fmla="*/ 1675800 w 7340760"/>
              <a:gd name="textAreaRight" fmla="*/ 5664960 w 7340760"/>
              <a:gd name="textAreaTop" fmla="*/ 249120 h 1092240"/>
              <a:gd name="textAreaBottom" fmla="*/ 84312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a2c1fe"/>
          </a:solidFill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Chaotic knowledge processes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209320" y="4648320"/>
            <a:ext cx="586764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995480" y="4422240"/>
            <a:ext cx="254160" cy="8082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00160" y="5237280"/>
            <a:ext cx="249480" cy="5904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7954560" y="5240160"/>
            <a:ext cx="338040" cy="5731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7950240" y="4436640"/>
            <a:ext cx="355680" cy="8082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00480" y="4730760"/>
            <a:ext cx="52830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20"/>
                </a:solidFill>
                <a:latin typeface="Arial"/>
              </a:rPr>
              <a:t>Systematic information and knowledge processes</a:t>
            </a:r>
            <a:endParaRPr b="0" lang="en-US" sz="2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53360" y="2744640"/>
            <a:ext cx="3957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</a:rPr>
              <a:t>Human knowledge and networking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09480" y="4092480"/>
            <a:ext cx="5430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</a:rPr>
              <a:t>Information databases and technical networking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09920" y="3144960"/>
            <a:ext cx="0" cy="977760"/>
          </a:xfrm>
          <a:prstGeom prst="line">
            <a:avLst/>
          </a:prstGeom>
          <a:ln w="12600">
            <a:solidFill>
              <a:srgbClr val="fcfeb9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86440" y="3144960"/>
            <a:ext cx="0" cy="901440"/>
          </a:xfrm>
          <a:prstGeom prst="line">
            <a:avLst/>
          </a:prstGeom>
          <a:ln w="12600">
            <a:solidFill>
              <a:srgbClr val="fcfeb9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38920" y="3068640"/>
            <a:ext cx="0" cy="1054080"/>
          </a:xfrm>
          <a:prstGeom prst="line">
            <a:avLst/>
          </a:prstGeom>
          <a:ln w="12600">
            <a:solidFill>
              <a:srgbClr val="fcfeb9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1657440" y="5086440"/>
            <a:ext cx="1000080" cy="200160"/>
          </a:xfrm>
          <a:prstGeom prst="triangle">
            <a:avLst>
              <a:gd name="adj" fmla="val 49995"/>
            </a:avLst>
          </a:prstGeom>
          <a:solidFill>
            <a:srgbClr val="fcd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rot="5400000">
            <a:off x="7605720" y="5052960"/>
            <a:ext cx="1000080" cy="200160"/>
          </a:xfrm>
          <a:prstGeom prst="triangle">
            <a:avLst>
              <a:gd name="adj" fmla="val 49995"/>
            </a:avLst>
          </a:prstGeom>
          <a:solidFill>
            <a:srgbClr val="fcd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126880" y="5672160"/>
            <a:ext cx="599436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59640" y="655308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Skyrme 1998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urse Overview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nowledge Process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Knowledge Acquisition, Representation and Manipul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Organiz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lassification, Categor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ntologies, Taxonomies, Thesauri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Retrieval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formation Retrieval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Navig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Present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Visual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23920" y="12189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Exchan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Capture, Transfer, and Distribu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age of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ccess Patterns, User Feedback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Techniqu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opic Maps, Agen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Tool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in Organiz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Cycl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-720" y="1371600"/>
            <a:ext cx="9159840" cy="4952880"/>
            <a:chOff x="-720" y="1371600"/>
            <a:chExt cx="9159840" cy="4952880"/>
          </a:xfrm>
        </p:grpSpPr>
        <p:sp>
          <p:nvSpPr>
            <p:cNvPr id="130" name=""/>
            <p:cNvSpPr/>
            <p:nvPr/>
          </p:nvSpPr>
          <p:spPr>
            <a:xfrm>
              <a:off x="6480" y="1371600"/>
              <a:ext cx="9144000" cy="4952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-720" y="1857240"/>
              <a:ext cx="9159840" cy="3980160"/>
              <a:chOff x="-720" y="1857240"/>
              <a:chExt cx="9159840" cy="398016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4813560" y="1950840"/>
                <a:ext cx="3221280" cy="3567240"/>
                <a:chOff x="4813560" y="1950840"/>
                <a:chExt cx="3221280" cy="35672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4923720" y="1950840"/>
                  <a:ext cx="2025360" cy="2783160"/>
                </a:xfrm>
                <a:custGeom>
                  <a:avLst/>
                  <a:gdLst/>
                  <a:ahLst/>
                  <a:rect l="l" t="t" r="r" b="b"/>
                  <a:pathLst>
                    <a:path w="1319" h="1753">
                      <a:moveTo>
                        <a:pt x="816" y="230"/>
                      </a:moveTo>
                      <a:lnTo>
                        <a:pt x="798" y="233"/>
                      </a:lnTo>
                      <a:lnTo>
                        <a:pt x="774" y="238"/>
                      </a:lnTo>
                      <a:lnTo>
                        <a:pt x="750" y="244"/>
                      </a:lnTo>
                      <a:lnTo>
                        <a:pt x="733" y="248"/>
                      </a:lnTo>
                      <a:lnTo>
                        <a:pt x="713" y="253"/>
                      </a:lnTo>
                      <a:lnTo>
                        <a:pt x="694" y="260"/>
                      </a:lnTo>
                      <a:lnTo>
                        <a:pt x="674" y="266"/>
                      </a:lnTo>
                      <a:lnTo>
                        <a:pt x="656" y="271"/>
                      </a:lnTo>
                      <a:lnTo>
                        <a:pt x="635" y="280"/>
                      </a:lnTo>
                      <a:lnTo>
                        <a:pt x="611" y="291"/>
                      </a:lnTo>
                      <a:lnTo>
                        <a:pt x="590" y="299"/>
                      </a:lnTo>
                      <a:lnTo>
                        <a:pt x="570" y="309"/>
                      </a:lnTo>
                      <a:lnTo>
                        <a:pt x="547" y="319"/>
                      </a:lnTo>
                      <a:lnTo>
                        <a:pt x="525" y="331"/>
                      </a:lnTo>
                      <a:lnTo>
                        <a:pt x="505" y="341"/>
                      </a:lnTo>
                      <a:lnTo>
                        <a:pt x="485" y="354"/>
                      </a:lnTo>
                      <a:lnTo>
                        <a:pt x="468" y="365"/>
                      </a:lnTo>
                      <a:lnTo>
                        <a:pt x="451" y="378"/>
                      </a:lnTo>
                      <a:lnTo>
                        <a:pt x="432" y="389"/>
                      </a:lnTo>
                      <a:lnTo>
                        <a:pt x="411" y="405"/>
                      </a:lnTo>
                      <a:lnTo>
                        <a:pt x="392" y="420"/>
                      </a:lnTo>
                      <a:lnTo>
                        <a:pt x="374" y="435"/>
                      </a:lnTo>
                      <a:lnTo>
                        <a:pt x="357" y="448"/>
                      </a:lnTo>
                      <a:lnTo>
                        <a:pt x="330" y="472"/>
                      </a:lnTo>
                      <a:lnTo>
                        <a:pt x="302" y="500"/>
                      </a:lnTo>
                      <a:lnTo>
                        <a:pt x="280" y="521"/>
                      </a:lnTo>
                      <a:lnTo>
                        <a:pt x="254" y="551"/>
                      </a:lnTo>
                      <a:lnTo>
                        <a:pt x="236" y="574"/>
                      </a:lnTo>
                      <a:lnTo>
                        <a:pt x="216" y="599"/>
                      </a:lnTo>
                      <a:lnTo>
                        <a:pt x="194" y="628"/>
                      </a:lnTo>
                      <a:lnTo>
                        <a:pt x="176" y="655"/>
                      </a:lnTo>
                      <a:lnTo>
                        <a:pt x="157" y="686"/>
                      </a:lnTo>
                      <a:lnTo>
                        <a:pt x="138" y="716"/>
                      </a:lnTo>
                      <a:lnTo>
                        <a:pt x="122" y="748"/>
                      </a:lnTo>
                      <a:lnTo>
                        <a:pt x="106" y="775"/>
                      </a:lnTo>
                      <a:lnTo>
                        <a:pt x="91" y="809"/>
                      </a:lnTo>
                      <a:lnTo>
                        <a:pt x="77" y="842"/>
                      </a:lnTo>
                      <a:lnTo>
                        <a:pt x="65" y="876"/>
                      </a:lnTo>
                      <a:lnTo>
                        <a:pt x="53" y="913"/>
                      </a:lnTo>
                      <a:lnTo>
                        <a:pt x="38" y="959"/>
                      </a:lnTo>
                      <a:lnTo>
                        <a:pt x="28" y="1001"/>
                      </a:lnTo>
                      <a:lnTo>
                        <a:pt x="18" y="1045"/>
                      </a:lnTo>
                      <a:lnTo>
                        <a:pt x="13" y="1087"/>
                      </a:lnTo>
                      <a:lnTo>
                        <a:pt x="6" y="1136"/>
                      </a:lnTo>
                      <a:lnTo>
                        <a:pt x="1" y="1198"/>
                      </a:lnTo>
                      <a:lnTo>
                        <a:pt x="0" y="1246"/>
                      </a:lnTo>
                      <a:lnTo>
                        <a:pt x="1" y="1294"/>
                      </a:lnTo>
                      <a:lnTo>
                        <a:pt x="5" y="1338"/>
                      </a:lnTo>
                      <a:lnTo>
                        <a:pt x="10" y="1381"/>
                      </a:lnTo>
                      <a:lnTo>
                        <a:pt x="15" y="1425"/>
                      </a:lnTo>
                      <a:lnTo>
                        <a:pt x="24" y="1471"/>
                      </a:lnTo>
                      <a:lnTo>
                        <a:pt x="36" y="1520"/>
                      </a:lnTo>
                      <a:lnTo>
                        <a:pt x="51" y="1571"/>
                      </a:lnTo>
                      <a:lnTo>
                        <a:pt x="66" y="1617"/>
                      </a:lnTo>
                      <a:lnTo>
                        <a:pt x="83" y="1663"/>
                      </a:lnTo>
                      <a:lnTo>
                        <a:pt x="108" y="1707"/>
                      </a:lnTo>
                      <a:lnTo>
                        <a:pt x="133" y="1752"/>
                      </a:lnTo>
                      <a:lnTo>
                        <a:pt x="522" y="1514"/>
                      </a:lnTo>
                      <a:lnTo>
                        <a:pt x="501" y="1470"/>
                      </a:lnTo>
                      <a:lnTo>
                        <a:pt x="486" y="1436"/>
                      </a:lnTo>
                      <a:lnTo>
                        <a:pt x="476" y="1399"/>
                      </a:lnTo>
                      <a:lnTo>
                        <a:pt x="467" y="1363"/>
                      </a:lnTo>
                      <a:lnTo>
                        <a:pt x="461" y="1330"/>
                      </a:lnTo>
                      <a:lnTo>
                        <a:pt x="459" y="1297"/>
                      </a:lnTo>
                      <a:lnTo>
                        <a:pt x="456" y="1265"/>
                      </a:lnTo>
                      <a:lnTo>
                        <a:pt x="456" y="1231"/>
                      </a:lnTo>
                      <a:lnTo>
                        <a:pt x="458" y="1192"/>
                      </a:lnTo>
                      <a:lnTo>
                        <a:pt x="463" y="1154"/>
                      </a:lnTo>
                      <a:lnTo>
                        <a:pt x="470" y="1112"/>
                      </a:lnTo>
                      <a:lnTo>
                        <a:pt x="479" y="1079"/>
                      </a:lnTo>
                      <a:lnTo>
                        <a:pt x="493" y="1040"/>
                      </a:lnTo>
                      <a:lnTo>
                        <a:pt x="507" y="1008"/>
                      </a:lnTo>
                      <a:lnTo>
                        <a:pt x="523" y="976"/>
                      </a:lnTo>
                      <a:lnTo>
                        <a:pt x="537" y="951"/>
                      </a:lnTo>
                      <a:lnTo>
                        <a:pt x="551" y="931"/>
                      </a:lnTo>
                      <a:lnTo>
                        <a:pt x="565" y="911"/>
                      </a:lnTo>
                      <a:lnTo>
                        <a:pt x="581" y="891"/>
                      </a:lnTo>
                      <a:lnTo>
                        <a:pt x="599" y="870"/>
                      </a:lnTo>
                      <a:lnTo>
                        <a:pt x="614" y="855"/>
                      </a:lnTo>
                      <a:lnTo>
                        <a:pt x="631" y="837"/>
                      </a:lnTo>
                      <a:lnTo>
                        <a:pt x="648" y="821"/>
                      </a:lnTo>
                      <a:lnTo>
                        <a:pt x="668" y="805"/>
                      </a:lnTo>
                      <a:lnTo>
                        <a:pt x="692" y="789"/>
                      </a:lnTo>
                      <a:lnTo>
                        <a:pt x="712" y="774"/>
                      </a:lnTo>
                      <a:lnTo>
                        <a:pt x="729" y="765"/>
                      </a:lnTo>
                      <a:lnTo>
                        <a:pt x="754" y="749"/>
                      </a:lnTo>
                      <a:lnTo>
                        <a:pt x="776" y="740"/>
                      </a:lnTo>
                      <a:lnTo>
                        <a:pt x="795" y="733"/>
                      </a:lnTo>
                      <a:lnTo>
                        <a:pt x="815" y="725"/>
                      </a:lnTo>
                      <a:lnTo>
                        <a:pt x="846" y="718"/>
                      </a:lnTo>
                      <a:lnTo>
                        <a:pt x="874" y="713"/>
                      </a:lnTo>
                      <a:lnTo>
                        <a:pt x="903" y="709"/>
                      </a:lnTo>
                      <a:lnTo>
                        <a:pt x="932" y="707"/>
                      </a:lnTo>
                      <a:lnTo>
                        <a:pt x="948" y="706"/>
                      </a:lnTo>
                      <a:lnTo>
                        <a:pt x="948" y="962"/>
                      </a:lnTo>
                      <a:lnTo>
                        <a:pt x="1318" y="488"/>
                      </a:lnTo>
                      <a:lnTo>
                        <a:pt x="949" y="0"/>
                      </a:lnTo>
                      <a:lnTo>
                        <a:pt x="949" y="220"/>
                      </a:lnTo>
                      <a:lnTo>
                        <a:pt x="929" y="221"/>
                      </a:lnTo>
                      <a:lnTo>
                        <a:pt x="900" y="222"/>
                      </a:lnTo>
                      <a:lnTo>
                        <a:pt x="870" y="224"/>
                      </a:lnTo>
                      <a:lnTo>
                        <a:pt x="841" y="227"/>
                      </a:lnTo>
                      <a:lnTo>
                        <a:pt x="816" y="23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13560" y="3978360"/>
                  <a:ext cx="2691360" cy="1539720"/>
                </a:xfrm>
                <a:custGeom>
                  <a:avLst/>
                  <a:gdLst/>
                  <a:ahLst/>
                  <a:rect l="l" t="t" r="r" b="b"/>
                  <a:pathLst>
                    <a:path w="1753" h="970">
                      <a:moveTo>
                        <a:pt x="872" y="957"/>
                      </a:moveTo>
                      <a:lnTo>
                        <a:pt x="854" y="954"/>
                      </a:lnTo>
                      <a:lnTo>
                        <a:pt x="830" y="950"/>
                      </a:lnTo>
                      <a:lnTo>
                        <a:pt x="806" y="945"/>
                      </a:lnTo>
                      <a:lnTo>
                        <a:pt x="789" y="941"/>
                      </a:lnTo>
                      <a:lnTo>
                        <a:pt x="769" y="935"/>
                      </a:lnTo>
                      <a:lnTo>
                        <a:pt x="748" y="929"/>
                      </a:lnTo>
                      <a:lnTo>
                        <a:pt x="728" y="924"/>
                      </a:lnTo>
                      <a:lnTo>
                        <a:pt x="710" y="917"/>
                      </a:lnTo>
                      <a:lnTo>
                        <a:pt x="690" y="909"/>
                      </a:lnTo>
                      <a:lnTo>
                        <a:pt x="665" y="899"/>
                      </a:lnTo>
                      <a:lnTo>
                        <a:pt x="644" y="890"/>
                      </a:lnTo>
                      <a:lnTo>
                        <a:pt x="624" y="880"/>
                      </a:lnTo>
                      <a:lnTo>
                        <a:pt x="601" y="870"/>
                      </a:lnTo>
                      <a:lnTo>
                        <a:pt x="579" y="858"/>
                      </a:lnTo>
                      <a:lnTo>
                        <a:pt x="559" y="848"/>
                      </a:lnTo>
                      <a:lnTo>
                        <a:pt x="540" y="835"/>
                      </a:lnTo>
                      <a:lnTo>
                        <a:pt x="523" y="824"/>
                      </a:lnTo>
                      <a:lnTo>
                        <a:pt x="506" y="812"/>
                      </a:lnTo>
                      <a:lnTo>
                        <a:pt x="487" y="800"/>
                      </a:lnTo>
                      <a:lnTo>
                        <a:pt x="466" y="785"/>
                      </a:lnTo>
                      <a:lnTo>
                        <a:pt x="447" y="771"/>
                      </a:lnTo>
                      <a:lnTo>
                        <a:pt x="429" y="756"/>
                      </a:lnTo>
                      <a:lnTo>
                        <a:pt x="413" y="743"/>
                      </a:lnTo>
                      <a:lnTo>
                        <a:pt x="385" y="720"/>
                      </a:lnTo>
                      <a:lnTo>
                        <a:pt x="360" y="697"/>
                      </a:lnTo>
                      <a:lnTo>
                        <a:pt x="335" y="670"/>
                      </a:lnTo>
                      <a:lnTo>
                        <a:pt x="308" y="640"/>
                      </a:lnTo>
                      <a:lnTo>
                        <a:pt x="290" y="618"/>
                      </a:lnTo>
                      <a:lnTo>
                        <a:pt x="270" y="592"/>
                      </a:lnTo>
                      <a:lnTo>
                        <a:pt x="248" y="565"/>
                      </a:lnTo>
                      <a:lnTo>
                        <a:pt x="229" y="537"/>
                      </a:lnTo>
                      <a:lnTo>
                        <a:pt x="211" y="508"/>
                      </a:lnTo>
                      <a:lnTo>
                        <a:pt x="189" y="474"/>
                      </a:lnTo>
                      <a:lnTo>
                        <a:pt x="0" y="590"/>
                      </a:lnTo>
                      <a:lnTo>
                        <a:pt x="185" y="0"/>
                      </a:lnTo>
                      <a:lnTo>
                        <a:pt x="785" y="112"/>
                      </a:lnTo>
                      <a:lnTo>
                        <a:pt x="583" y="232"/>
                      </a:lnTo>
                      <a:lnTo>
                        <a:pt x="600" y="258"/>
                      </a:lnTo>
                      <a:lnTo>
                        <a:pt x="618" y="280"/>
                      </a:lnTo>
                      <a:lnTo>
                        <a:pt x="636" y="302"/>
                      </a:lnTo>
                      <a:lnTo>
                        <a:pt x="654" y="323"/>
                      </a:lnTo>
                      <a:lnTo>
                        <a:pt x="669" y="339"/>
                      </a:lnTo>
                      <a:lnTo>
                        <a:pt x="685" y="357"/>
                      </a:lnTo>
                      <a:lnTo>
                        <a:pt x="703" y="372"/>
                      </a:lnTo>
                      <a:lnTo>
                        <a:pt x="723" y="387"/>
                      </a:lnTo>
                      <a:lnTo>
                        <a:pt x="747" y="404"/>
                      </a:lnTo>
                      <a:lnTo>
                        <a:pt x="768" y="418"/>
                      </a:lnTo>
                      <a:lnTo>
                        <a:pt x="785" y="429"/>
                      </a:lnTo>
                      <a:lnTo>
                        <a:pt x="810" y="443"/>
                      </a:lnTo>
                      <a:lnTo>
                        <a:pt x="832" y="453"/>
                      </a:lnTo>
                      <a:lnTo>
                        <a:pt x="851" y="459"/>
                      </a:lnTo>
                      <a:lnTo>
                        <a:pt x="871" y="467"/>
                      </a:lnTo>
                      <a:lnTo>
                        <a:pt x="900" y="475"/>
                      </a:lnTo>
                      <a:lnTo>
                        <a:pt x="929" y="479"/>
                      </a:lnTo>
                      <a:lnTo>
                        <a:pt x="958" y="482"/>
                      </a:lnTo>
                      <a:lnTo>
                        <a:pt x="1002" y="485"/>
                      </a:lnTo>
                      <a:lnTo>
                        <a:pt x="1057" y="486"/>
                      </a:lnTo>
                      <a:lnTo>
                        <a:pt x="1100" y="479"/>
                      </a:lnTo>
                      <a:lnTo>
                        <a:pt x="1139" y="470"/>
                      </a:lnTo>
                      <a:lnTo>
                        <a:pt x="1184" y="456"/>
                      </a:lnTo>
                      <a:lnTo>
                        <a:pt x="1225" y="438"/>
                      </a:lnTo>
                      <a:lnTo>
                        <a:pt x="1265" y="417"/>
                      </a:lnTo>
                      <a:lnTo>
                        <a:pt x="1301" y="393"/>
                      </a:lnTo>
                      <a:lnTo>
                        <a:pt x="1336" y="360"/>
                      </a:lnTo>
                      <a:lnTo>
                        <a:pt x="1752" y="612"/>
                      </a:lnTo>
                      <a:lnTo>
                        <a:pt x="1735" y="633"/>
                      </a:lnTo>
                      <a:lnTo>
                        <a:pt x="1711" y="658"/>
                      </a:lnTo>
                      <a:lnTo>
                        <a:pt x="1691" y="679"/>
                      </a:lnTo>
                      <a:lnTo>
                        <a:pt x="1671" y="699"/>
                      </a:lnTo>
                      <a:lnTo>
                        <a:pt x="1651" y="719"/>
                      </a:lnTo>
                      <a:lnTo>
                        <a:pt x="1626" y="740"/>
                      </a:lnTo>
                      <a:lnTo>
                        <a:pt x="1604" y="758"/>
                      </a:lnTo>
                      <a:lnTo>
                        <a:pt x="1582" y="775"/>
                      </a:lnTo>
                      <a:lnTo>
                        <a:pt x="1557" y="792"/>
                      </a:lnTo>
                      <a:lnTo>
                        <a:pt x="1533" y="810"/>
                      </a:lnTo>
                      <a:lnTo>
                        <a:pt x="1508" y="827"/>
                      </a:lnTo>
                      <a:lnTo>
                        <a:pt x="1485" y="840"/>
                      </a:lnTo>
                      <a:lnTo>
                        <a:pt x="1462" y="854"/>
                      </a:lnTo>
                      <a:lnTo>
                        <a:pt x="1440" y="866"/>
                      </a:lnTo>
                      <a:lnTo>
                        <a:pt x="1409" y="880"/>
                      </a:lnTo>
                      <a:lnTo>
                        <a:pt x="1381" y="893"/>
                      </a:lnTo>
                      <a:lnTo>
                        <a:pt x="1349" y="906"/>
                      </a:lnTo>
                      <a:lnTo>
                        <a:pt x="1325" y="915"/>
                      </a:lnTo>
                      <a:lnTo>
                        <a:pt x="1302" y="925"/>
                      </a:lnTo>
                      <a:lnTo>
                        <a:pt x="1275" y="933"/>
                      </a:lnTo>
                      <a:lnTo>
                        <a:pt x="1249" y="941"/>
                      </a:lnTo>
                      <a:lnTo>
                        <a:pt x="1223" y="947"/>
                      </a:lnTo>
                      <a:lnTo>
                        <a:pt x="1192" y="953"/>
                      </a:lnTo>
                      <a:lnTo>
                        <a:pt x="1162" y="958"/>
                      </a:lnTo>
                      <a:lnTo>
                        <a:pt x="1131" y="963"/>
                      </a:lnTo>
                      <a:lnTo>
                        <a:pt x="1099" y="966"/>
                      </a:lnTo>
                      <a:lnTo>
                        <a:pt x="1075" y="967"/>
                      </a:lnTo>
                      <a:lnTo>
                        <a:pt x="1042" y="969"/>
                      </a:lnTo>
                      <a:lnTo>
                        <a:pt x="1010" y="969"/>
                      </a:lnTo>
                      <a:lnTo>
                        <a:pt x="983" y="968"/>
                      </a:lnTo>
                      <a:lnTo>
                        <a:pt x="955" y="967"/>
                      </a:lnTo>
                      <a:lnTo>
                        <a:pt x="924" y="965"/>
                      </a:lnTo>
                      <a:lnTo>
                        <a:pt x="896" y="961"/>
                      </a:lnTo>
                      <a:lnTo>
                        <a:pt x="872" y="957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672960" y="2327400"/>
                  <a:ext cx="1361880" cy="2755800"/>
                </a:xfrm>
                <a:custGeom>
                  <a:avLst/>
                  <a:gdLst/>
                  <a:ahLst/>
                  <a:rect l="l" t="t" r="r" b="b"/>
                  <a:pathLst>
                    <a:path w="887" h="1736">
                      <a:moveTo>
                        <a:pt x="0" y="0"/>
                      </a:moveTo>
                      <a:lnTo>
                        <a:pt x="19" y="3"/>
                      </a:lnTo>
                      <a:lnTo>
                        <a:pt x="38" y="6"/>
                      </a:lnTo>
                      <a:lnTo>
                        <a:pt x="64" y="13"/>
                      </a:lnTo>
                      <a:lnTo>
                        <a:pt x="83" y="17"/>
                      </a:lnTo>
                      <a:lnTo>
                        <a:pt x="103" y="23"/>
                      </a:lnTo>
                      <a:lnTo>
                        <a:pt x="122" y="30"/>
                      </a:lnTo>
                      <a:lnTo>
                        <a:pt x="142" y="35"/>
                      </a:lnTo>
                      <a:lnTo>
                        <a:pt x="161" y="41"/>
                      </a:lnTo>
                      <a:lnTo>
                        <a:pt x="181" y="50"/>
                      </a:lnTo>
                      <a:lnTo>
                        <a:pt x="205" y="59"/>
                      </a:lnTo>
                      <a:lnTo>
                        <a:pt x="225" y="69"/>
                      </a:lnTo>
                      <a:lnTo>
                        <a:pt x="246" y="78"/>
                      </a:lnTo>
                      <a:lnTo>
                        <a:pt x="268" y="89"/>
                      </a:lnTo>
                      <a:lnTo>
                        <a:pt x="290" y="101"/>
                      </a:lnTo>
                      <a:lnTo>
                        <a:pt x="310" y="111"/>
                      </a:lnTo>
                      <a:lnTo>
                        <a:pt x="329" y="124"/>
                      </a:lnTo>
                      <a:lnTo>
                        <a:pt x="346" y="135"/>
                      </a:lnTo>
                      <a:lnTo>
                        <a:pt x="363" y="147"/>
                      </a:lnTo>
                      <a:lnTo>
                        <a:pt x="382" y="159"/>
                      </a:lnTo>
                      <a:lnTo>
                        <a:pt x="403" y="174"/>
                      </a:lnTo>
                      <a:lnTo>
                        <a:pt x="422" y="190"/>
                      </a:lnTo>
                      <a:lnTo>
                        <a:pt x="440" y="205"/>
                      </a:lnTo>
                      <a:lnTo>
                        <a:pt x="458" y="217"/>
                      </a:lnTo>
                      <a:lnTo>
                        <a:pt x="486" y="242"/>
                      </a:lnTo>
                      <a:lnTo>
                        <a:pt x="514" y="270"/>
                      </a:lnTo>
                      <a:lnTo>
                        <a:pt x="536" y="292"/>
                      </a:lnTo>
                      <a:lnTo>
                        <a:pt x="562" y="322"/>
                      </a:lnTo>
                      <a:lnTo>
                        <a:pt x="580" y="345"/>
                      </a:lnTo>
                      <a:lnTo>
                        <a:pt x="600" y="370"/>
                      </a:lnTo>
                      <a:lnTo>
                        <a:pt x="622" y="399"/>
                      </a:lnTo>
                      <a:lnTo>
                        <a:pt x="640" y="425"/>
                      </a:lnTo>
                      <a:lnTo>
                        <a:pt x="658" y="456"/>
                      </a:lnTo>
                      <a:lnTo>
                        <a:pt x="676" y="486"/>
                      </a:lnTo>
                      <a:lnTo>
                        <a:pt x="694" y="518"/>
                      </a:lnTo>
                      <a:lnTo>
                        <a:pt x="709" y="545"/>
                      </a:lnTo>
                      <a:lnTo>
                        <a:pt x="723" y="579"/>
                      </a:lnTo>
                      <a:lnTo>
                        <a:pt x="737" y="612"/>
                      </a:lnTo>
                      <a:lnTo>
                        <a:pt x="749" y="646"/>
                      </a:lnTo>
                      <a:lnTo>
                        <a:pt x="761" y="683"/>
                      </a:lnTo>
                      <a:lnTo>
                        <a:pt x="776" y="729"/>
                      </a:lnTo>
                      <a:lnTo>
                        <a:pt x="786" y="771"/>
                      </a:lnTo>
                      <a:lnTo>
                        <a:pt x="796" y="814"/>
                      </a:lnTo>
                      <a:lnTo>
                        <a:pt x="801" y="857"/>
                      </a:lnTo>
                      <a:lnTo>
                        <a:pt x="808" y="906"/>
                      </a:lnTo>
                      <a:lnTo>
                        <a:pt x="813" y="967"/>
                      </a:lnTo>
                      <a:lnTo>
                        <a:pt x="814" y="1016"/>
                      </a:lnTo>
                      <a:lnTo>
                        <a:pt x="813" y="1064"/>
                      </a:lnTo>
                      <a:lnTo>
                        <a:pt x="809" y="1109"/>
                      </a:lnTo>
                      <a:lnTo>
                        <a:pt x="804" y="1152"/>
                      </a:lnTo>
                      <a:lnTo>
                        <a:pt x="799" y="1196"/>
                      </a:lnTo>
                      <a:lnTo>
                        <a:pt x="790" y="1242"/>
                      </a:lnTo>
                      <a:lnTo>
                        <a:pt x="778" y="1291"/>
                      </a:lnTo>
                      <a:lnTo>
                        <a:pt x="763" y="1340"/>
                      </a:lnTo>
                      <a:lnTo>
                        <a:pt x="748" y="1387"/>
                      </a:lnTo>
                      <a:lnTo>
                        <a:pt x="731" y="1433"/>
                      </a:lnTo>
                      <a:lnTo>
                        <a:pt x="711" y="1477"/>
                      </a:lnTo>
                      <a:lnTo>
                        <a:pt x="687" y="1520"/>
                      </a:lnTo>
                      <a:lnTo>
                        <a:pt x="886" y="1640"/>
                      </a:lnTo>
                      <a:lnTo>
                        <a:pt x="278" y="1735"/>
                      </a:lnTo>
                      <a:lnTo>
                        <a:pt x="55" y="1143"/>
                      </a:lnTo>
                      <a:lnTo>
                        <a:pt x="288" y="1276"/>
                      </a:lnTo>
                      <a:lnTo>
                        <a:pt x="311" y="1238"/>
                      </a:lnTo>
                      <a:lnTo>
                        <a:pt x="325" y="1204"/>
                      </a:lnTo>
                      <a:lnTo>
                        <a:pt x="338" y="1169"/>
                      </a:lnTo>
                      <a:lnTo>
                        <a:pt x="347" y="1134"/>
                      </a:lnTo>
                      <a:lnTo>
                        <a:pt x="353" y="1100"/>
                      </a:lnTo>
                      <a:lnTo>
                        <a:pt x="355" y="1067"/>
                      </a:lnTo>
                      <a:lnTo>
                        <a:pt x="358" y="1034"/>
                      </a:lnTo>
                      <a:lnTo>
                        <a:pt x="358" y="1001"/>
                      </a:lnTo>
                      <a:lnTo>
                        <a:pt x="356" y="962"/>
                      </a:lnTo>
                      <a:lnTo>
                        <a:pt x="352" y="924"/>
                      </a:lnTo>
                      <a:lnTo>
                        <a:pt x="344" y="882"/>
                      </a:lnTo>
                      <a:lnTo>
                        <a:pt x="335" y="848"/>
                      </a:lnTo>
                      <a:lnTo>
                        <a:pt x="321" y="810"/>
                      </a:lnTo>
                      <a:lnTo>
                        <a:pt x="309" y="777"/>
                      </a:lnTo>
                      <a:lnTo>
                        <a:pt x="292" y="746"/>
                      </a:lnTo>
                      <a:lnTo>
                        <a:pt x="278" y="721"/>
                      </a:lnTo>
                      <a:lnTo>
                        <a:pt x="264" y="701"/>
                      </a:lnTo>
                      <a:lnTo>
                        <a:pt x="250" y="681"/>
                      </a:lnTo>
                      <a:lnTo>
                        <a:pt x="234" y="661"/>
                      </a:lnTo>
                      <a:lnTo>
                        <a:pt x="217" y="639"/>
                      </a:lnTo>
                      <a:lnTo>
                        <a:pt x="202" y="625"/>
                      </a:lnTo>
                      <a:lnTo>
                        <a:pt x="185" y="606"/>
                      </a:lnTo>
                      <a:lnTo>
                        <a:pt x="168" y="591"/>
                      </a:lnTo>
                      <a:lnTo>
                        <a:pt x="148" y="575"/>
                      </a:lnTo>
                      <a:lnTo>
                        <a:pt x="124" y="558"/>
                      </a:lnTo>
                      <a:lnTo>
                        <a:pt x="104" y="544"/>
                      </a:lnTo>
                      <a:lnTo>
                        <a:pt x="87" y="533"/>
                      </a:lnTo>
                      <a:lnTo>
                        <a:pt x="62" y="519"/>
                      </a:lnTo>
                      <a:lnTo>
                        <a:pt x="38" y="508"/>
                      </a:lnTo>
                      <a:lnTo>
                        <a:pt x="0" y="49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916160" y="1965240"/>
                  <a:ext cx="2025360" cy="2494080"/>
                </a:xfrm>
                <a:custGeom>
                  <a:avLst/>
                  <a:gdLst/>
                  <a:ahLst/>
                  <a:rect l="l" t="t" r="r" b="b"/>
                  <a:pathLst>
                    <a:path w="1319" h="1571">
                      <a:moveTo>
                        <a:pt x="816" y="230"/>
                      </a:moveTo>
                      <a:lnTo>
                        <a:pt x="798" y="233"/>
                      </a:lnTo>
                      <a:lnTo>
                        <a:pt x="774" y="237"/>
                      </a:lnTo>
                      <a:lnTo>
                        <a:pt x="750" y="244"/>
                      </a:lnTo>
                      <a:lnTo>
                        <a:pt x="733" y="248"/>
                      </a:lnTo>
                      <a:lnTo>
                        <a:pt x="713" y="253"/>
                      </a:lnTo>
                      <a:lnTo>
                        <a:pt x="694" y="260"/>
                      </a:lnTo>
                      <a:lnTo>
                        <a:pt x="674" y="266"/>
                      </a:lnTo>
                      <a:lnTo>
                        <a:pt x="656" y="271"/>
                      </a:lnTo>
                      <a:lnTo>
                        <a:pt x="635" y="280"/>
                      </a:lnTo>
                      <a:lnTo>
                        <a:pt x="611" y="290"/>
                      </a:lnTo>
                      <a:lnTo>
                        <a:pt x="590" y="299"/>
                      </a:lnTo>
                      <a:lnTo>
                        <a:pt x="570" y="308"/>
                      </a:lnTo>
                      <a:lnTo>
                        <a:pt x="547" y="319"/>
                      </a:lnTo>
                      <a:lnTo>
                        <a:pt x="525" y="331"/>
                      </a:lnTo>
                      <a:lnTo>
                        <a:pt x="505" y="341"/>
                      </a:lnTo>
                      <a:lnTo>
                        <a:pt x="485" y="354"/>
                      </a:lnTo>
                      <a:lnTo>
                        <a:pt x="468" y="365"/>
                      </a:lnTo>
                      <a:lnTo>
                        <a:pt x="451" y="377"/>
                      </a:lnTo>
                      <a:lnTo>
                        <a:pt x="432" y="389"/>
                      </a:lnTo>
                      <a:lnTo>
                        <a:pt x="411" y="404"/>
                      </a:lnTo>
                      <a:lnTo>
                        <a:pt x="392" y="419"/>
                      </a:lnTo>
                      <a:lnTo>
                        <a:pt x="374" y="434"/>
                      </a:lnTo>
                      <a:lnTo>
                        <a:pt x="357" y="447"/>
                      </a:lnTo>
                      <a:lnTo>
                        <a:pt x="330" y="472"/>
                      </a:lnTo>
                      <a:lnTo>
                        <a:pt x="302" y="499"/>
                      </a:lnTo>
                      <a:lnTo>
                        <a:pt x="280" y="521"/>
                      </a:lnTo>
                      <a:lnTo>
                        <a:pt x="254" y="551"/>
                      </a:lnTo>
                      <a:lnTo>
                        <a:pt x="236" y="574"/>
                      </a:lnTo>
                      <a:lnTo>
                        <a:pt x="216" y="599"/>
                      </a:lnTo>
                      <a:lnTo>
                        <a:pt x="194" y="628"/>
                      </a:lnTo>
                      <a:lnTo>
                        <a:pt x="176" y="655"/>
                      </a:lnTo>
                      <a:lnTo>
                        <a:pt x="157" y="686"/>
                      </a:lnTo>
                      <a:lnTo>
                        <a:pt x="138" y="716"/>
                      </a:lnTo>
                      <a:lnTo>
                        <a:pt x="122" y="747"/>
                      </a:lnTo>
                      <a:lnTo>
                        <a:pt x="106" y="775"/>
                      </a:lnTo>
                      <a:lnTo>
                        <a:pt x="91" y="809"/>
                      </a:lnTo>
                      <a:lnTo>
                        <a:pt x="77" y="842"/>
                      </a:lnTo>
                      <a:lnTo>
                        <a:pt x="65" y="876"/>
                      </a:lnTo>
                      <a:lnTo>
                        <a:pt x="53" y="913"/>
                      </a:lnTo>
                      <a:lnTo>
                        <a:pt x="38" y="958"/>
                      </a:lnTo>
                      <a:lnTo>
                        <a:pt x="28" y="1001"/>
                      </a:lnTo>
                      <a:lnTo>
                        <a:pt x="18" y="1044"/>
                      </a:lnTo>
                      <a:lnTo>
                        <a:pt x="13" y="1087"/>
                      </a:lnTo>
                      <a:lnTo>
                        <a:pt x="6" y="1135"/>
                      </a:lnTo>
                      <a:lnTo>
                        <a:pt x="1" y="1197"/>
                      </a:lnTo>
                      <a:lnTo>
                        <a:pt x="0" y="1245"/>
                      </a:lnTo>
                      <a:lnTo>
                        <a:pt x="1" y="1292"/>
                      </a:lnTo>
                      <a:lnTo>
                        <a:pt x="5" y="1338"/>
                      </a:lnTo>
                      <a:lnTo>
                        <a:pt x="10" y="1380"/>
                      </a:lnTo>
                      <a:lnTo>
                        <a:pt x="15" y="1425"/>
                      </a:lnTo>
                      <a:lnTo>
                        <a:pt x="24" y="1470"/>
                      </a:lnTo>
                      <a:lnTo>
                        <a:pt x="36" y="1519"/>
                      </a:lnTo>
                      <a:lnTo>
                        <a:pt x="51" y="1570"/>
                      </a:lnTo>
                      <a:lnTo>
                        <a:pt x="137" y="1286"/>
                      </a:lnTo>
                      <a:lnTo>
                        <a:pt x="466" y="1345"/>
                      </a:lnTo>
                      <a:lnTo>
                        <a:pt x="459" y="1295"/>
                      </a:lnTo>
                      <a:lnTo>
                        <a:pt x="456" y="1264"/>
                      </a:lnTo>
                      <a:lnTo>
                        <a:pt x="456" y="1230"/>
                      </a:lnTo>
                      <a:lnTo>
                        <a:pt x="458" y="1190"/>
                      </a:lnTo>
                      <a:lnTo>
                        <a:pt x="463" y="1153"/>
                      </a:lnTo>
                      <a:lnTo>
                        <a:pt x="470" y="1112"/>
                      </a:lnTo>
                      <a:lnTo>
                        <a:pt x="479" y="1078"/>
                      </a:lnTo>
                      <a:lnTo>
                        <a:pt x="493" y="1040"/>
                      </a:lnTo>
                      <a:lnTo>
                        <a:pt x="507" y="1007"/>
                      </a:lnTo>
                      <a:lnTo>
                        <a:pt x="523" y="975"/>
                      </a:lnTo>
                      <a:lnTo>
                        <a:pt x="537" y="951"/>
                      </a:lnTo>
                      <a:lnTo>
                        <a:pt x="551" y="931"/>
                      </a:lnTo>
                      <a:lnTo>
                        <a:pt x="565" y="911"/>
                      </a:lnTo>
                      <a:lnTo>
                        <a:pt x="581" y="890"/>
                      </a:lnTo>
                      <a:lnTo>
                        <a:pt x="599" y="869"/>
                      </a:lnTo>
                      <a:lnTo>
                        <a:pt x="614" y="854"/>
                      </a:lnTo>
                      <a:lnTo>
                        <a:pt x="631" y="836"/>
                      </a:lnTo>
                      <a:lnTo>
                        <a:pt x="648" y="821"/>
                      </a:lnTo>
                      <a:lnTo>
                        <a:pt x="668" y="805"/>
                      </a:lnTo>
                      <a:lnTo>
                        <a:pt x="692" y="789"/>
                      </a:lnTo>
                      <a:lnTo>
                        <a:pt x="712" y="774"/>
                      </a:lnTo>
                      <a:lnTo>
                        <a:pt x="729" y="764"/>
                      </a:lnTo>
                      <a:lnTo>
                        <a:pt x="754" y="748"/>
                      </a:lnTo>
                      <a:lnTo>
                        <a:pt x="776" y="740"/>
                      </a:lnTo>
                      <a:lnTo>
                        <a:pt x="795" y="733"/>
                      </a:lnTo>
                      <a:lnTo>
                        <a:pt x="815" y="725"/>
                      </a:lnTo>
                      <a:lnTo>
                        <a:pt x="846" y="718"/>
                      </a:lnTo>
                      <a:lnTo>
                        <a:pt x="874" y="712"/>
                      </a:lnTo>
                      <a:lnTo>
                        <a:pt x="903" y="709"/>
                      </a:lnTo>
                      <a:lnTo>
                        <a:pt x="932" y="707"/>
                      </a:lnTo>
                      <a:lnTo>
                        <a:pt x="948" y="706"/>
                      </a:lnTo>
                      <a:lnTo>
                        <a:pt x="948" y="962"/>
                      </a:lnTo>
                      <a:lnTo>
                        <a:pt x="1318" y="488"/>
                      </a:lnTo>
                      <a:lnTo>
                        <a:pt x="949" y="0"/>
                      </a:lnTo>
                      <a:lnTo>
                        <a:pt x="949" y="219"/>
                      </a:lnTo>
                      <a:lnTo>
                        <a:pt x="929" y="220"/>
                      </a:lnTo>
                      <a:lnTo>
                        <a:pt x="900" y="222"/>
                      </a:lnTo>
                      <a:lnTo>
                        <a:pt x="870" y="224"/>
                      </a:lnTo>
                      <a:lnTo>
                        <a:pt x="841" y="227"/>
                      </a:lnTo>
                      <a:lnTo>
                        <a:pt x="816" y="23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eb9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137" name=""/>
              <p:cNvGraphicFramePr/>
              <p:nvPr/>
            </p:nvGraphicFramePr>
            <p:xfrm>
              <a:off x="758160" y="2031840"/>
              <a:ext cx="3128040" cy="33800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3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58160" y="2031840"/>
                        <a:ext cx="3128040" cy="3380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9" name=""/>
              <p:cNvSpPr/>
              <p:nvPr/>
            </p:nvSpPr>
            <p:spPr>
              <a:xfrm>
                <a:off x="3936960" y="3657600"/>
                <a:ext cx="9464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20"/>
                    </a:solidFill>
                    <a:latin typeface="Arial"/>
                  </a:rPr>
                  <a:t>Create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780920" y="3471840"/>
                <a:ext cx="112932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20"/>
                    </a:solidFill>
                    <a:latin typeface="Arial"/>
                  </a:rPr>
                  <a:t>Product/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20"/>
                    </a:solidFill>
                    <a:latin typeface="Arial"/>
                  </a:rPr>
                  <a:t>Process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797440" y="3538440"/>
                <a:ext cx="144180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20"/>
                    </a:solidFill>
                    <a:latin typeface="Arial"/>
                  </a:rPr>
                  <a:t>Knowledge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20"/>
                    </a:solidFill>
                    <a:latin typeface="Arial"/>
                  </a:rPr>
                  <a:t>Repository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297440" y="2014560"/>
                <a:ext cx="903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20"/>
                    </a:solidFill>
                    <a:latin typeface="Arial"/>
                  </a:rPr>
                  <a:t>Codify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-720" y="3200400"/>
                <a:ext cx="9874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20"/>
                    </a:solidFill>
                    <a:latin typeface="Arial"/>
                  </a:rPr>
                  <a:t>Embed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58840" y="5371920"/>
                <a:ext cx="9738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20"/>
                    </a:solidFill>
                    <a:latin typeface="Arial"/>
                  </a:rPr>
                  <a:t>Diffuse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31320" y="2386080"/>
                <a:ext cx="1001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20"/>
                    </a:solidFill>
                    <a:latin typeface="Arial"/>
                  </a:rPr>
                  <a:t>Identify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696440" y="2557440"/>
                <a:ext cx="10746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20"/>
                    </a:solidFill>
                    <a:latin typeface="Arial"/>
                  </a:rPr>
                  <a:t>Classify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450480" y="5443560"/>
                <a:ext cx="10044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20"/>
                    </a:solidFill>
                    <a:latin typeface="Arial"/>
                  </a:rPr>
                  <a:t>Access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380480" y="5157720"/>
                <a:ext cx="14691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20"/>
                    </a:solidFill>
                    <a:latin typeface="Arial"/>
                  </a:rPr>
                  <a:t>Use/Exploit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607800" y="1857240"/>
                <a:ext cx="9601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20"/>
                    </a:solidFill>
                    <a:latin typeface="Arial"/>
                  </a:rPr>
                  <a:t>Collect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872840" y="3457440"/>
                <a:ext cx="128628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20"/>
                    </a:solidFill>
                    <a:latin typeface="Arial"/>
                  </a:rPr>
                  <a:t>Organize/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20"/>
                    </a:solidFill>
                    <a:latin typeface="Arial"/>
                  </a:rPr>
                  <a:t>Store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535520" y="4943520"/>
                <a:ext cx="158364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20"/>
                    </a:solidFill>
                    <a:latin typeface="Arial"/>
                  </a:rPr>
                  <a:t>Share/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20"/>
                    </a:solidFill>
                    <a:latin typeface="Arial"/>
                  </a:rPr>
                  <a:t>Disseminate</a:t>
                </a:r>
                <a:endParaRPr b="0" lang="en-US" sz="20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" name=""/>
          <p:cNvSpPr/>
          <p:nvPr/>
        </p:nvSpPr>
        <p:spPr>
          <a:xfrm>
            <a:off x="3959640" y="655308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Skyrme 1998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Represent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ypes of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actual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ubjective Knowledge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Heuristic Knowledge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eep and Shallow Knowledge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 Representation Method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ules, Frames, Semantic Network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Blackboard Represent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bject-based Represent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ase-Based Reason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 Representation Tool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oles of Knowledge Represent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urrogat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ntological Commit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ragmentary Theory of Intelligent Reason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edium for Comput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edium for Human Express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00640" y="6583320"/>
            <a:ext cx="23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Davis, Shrobe, Szolovits, 1993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R as Surrogat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 substitute for the thing itself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nables an entity to determine consequences by thinking rather than act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asoning about the world through operations on the represent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easoning or thinking are inherently </a:t>
            </a: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internal </a:t>
            </a: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rocess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objects</a:t>
            </a: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 of reasoning are mostly </a:t>
            </a: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external</a:t>
            </a: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 entities (“things”)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58080" indent="-2743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ome objects of reasoning are internal, e.g. concepts, feelings, ...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00640" y="6583320"/>
            <a:ext cx="23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Davis, Shrobe, Szolovits, 1993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urrogate Aspec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dentit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rrespondence between the surrogate and the intended referent in the real world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idelit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completenes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correctnes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dequac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ask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0640" y="6583320"/>
            <a:ext cx="23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Davis, Shrobe, Szolovits, 1993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urrogate Consequenc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erfect representation is impossibl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e only completely accurate representation of an object is the object itself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correct reasoning is inevitabl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f there are some flaws in the world model, even a perfectly sound reasoning mechanism will come to incorrect conclus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00640" y="6583320"/>
            <a:ext cx="23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Davis, Shrobe, Szolovits, 1993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ntological Commitmen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erms used to represent the world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by selecting a representation a decision is made about how and what to see in the world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like a set of glasses that offer a sharp focus on part of the world, at the expense of blurring other par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ecessary because of the inevitable imperfections of represent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eful to concentrate on relevant aspec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ragmatic because of feasibility constrain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00640" y="6583320"/>
            <a:ext cx="23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Davis, Shrobe, Szolovits, 1993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ntological Commitments Exampl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ogic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views the world in terms of individual entities and relationships between the entiti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ul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ntities and their relationships expressed through rul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ram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rototypical objec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mantic ne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ntities and relationship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00640" y="6583320"/>
            <a:ext cx="23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Davis, Shrobe, Szolovits, 1993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R and Reasoning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 knowledge representation indicates an initial conception of intelligent inferenc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ften reasoning methods are associated with representation techniqu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first order predicate logic and deduc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ules and modus ponen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e association is often implici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e underlying inference theory is fragmentar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he representation covers only parts of the associ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telligent reasoning is a complex and multi-faceted phenomen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00640" y="6583320"/>
            <a:ext cx="23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Davis, Shrobe, Szolovits, 1993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R for Reasoning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 representation suggests answers to fundamental questions concerning reasoning: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hat does it mean to reason intelligently?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mplied reasoning method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hat can possibly be inferred from what we know?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ossible conclusion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hat should be inferred from what we know?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commended conclusion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00640" y="6583320"/>
            <a:ext cx="23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Davis, Shrobe, Szolovits, 1993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verview Knowledge Processing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hapter Introduc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Processing as Core AI Paradigm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lationship to KM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erminolog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Acquisi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Elicit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achine Learning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960" y="16761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Represent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Logic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ul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emantic Network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Frames, Scrip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ipul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asoning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QML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mportant Concepts and Ter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hapter Summar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R and Comput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or our purposes, reasoning is a computational proces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chines are used as reasoning tool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without efficient ways of implementing such computational process, it is practically useles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.g. Turing machin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ost representation and reasoning mechanisms are modified for efficient comput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.g. Prolog vs. predicate logic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00640" y="6583320"/>
            <a:ext cx="23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Davis, Shrobe, Szolovits, 1993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mputational Mediu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utational environment for the reasoning proces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easonably effici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rganization of knowledge so that reasoning is facilitated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R for Human Express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 language that can be used by humans to make statements about the world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xpression of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expressiveness, generality, precisenes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mmunication of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mong human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between humans and machines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mong machin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00640" y="6583320"/>
            <a:ext cx="23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</a:rPr>
              <a:t>[Davis, Shrobe, Szolovits, 1993]</a:t>
            </a:r>
            <a:endParaRPr b="0" lang="en-US" sz="12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Acquisi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 Elicit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achine Learn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cquisition of Knowledg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ublished Sources</a:t>
            </a: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hysical Media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igital Media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eople as Sourc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terview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Questionnair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ormal Techniqu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bservation Techniqu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 Acquisition Tools</a:t>
            </a: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Elicit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nowledge is already present in humans, but needs to be converted into a form suitable for computer us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equires the collaboration of a domain expert with a knowledge enginee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omain expert has the domain knowledge, but not necessarily the skills to convert it into computer-usable form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engineer assists with this convers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his can be a very lengthy, cumbersome and error-prone proces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achine Learning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traction of higher-level information from raw data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based on statistical method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esults are not necessarily in a format that is easy for humans to us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e organization of the gained knowledge is often far from intuitive for huma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ecision tre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ule extraction from neural network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Fus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egration of human-generated and machine-generated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ometimes also used to indicate the integration of knowledge from different sources, or in different forma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n be both conceptually and technically very difficul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ifferent “spirit” of the knowledge representation used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ifferent terminolog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ifferent categorization criteria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ifferent representation and processing mechanis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Representation Mechanism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ogic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ul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mantic Network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rames, Scrip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Logic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yntax: well-formed formula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mantics: interpretation of the formula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xioms as basic assump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ference rules for deriving new formulae from existing on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Logistic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roduc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urse Material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extbook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handou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eb pa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urseInfo/Blackboard System and Alternativ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erm Projec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ab and Homework Assign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a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rad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R Roles and Logic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urrogat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very expressive, not very suitable for many types of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ntological commit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bjects, relationships, terms, logic operator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ragmentary theory of intelligent reason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eduction, other logical calculi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edium for comput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yes, but not very efficien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edium for human express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nly for exper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ul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yntax: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if … then …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mantics: interpretation of rul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itial rules and fac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eneration of new facts, application to existing rul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R Roles and Rul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-2570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urrogat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17040" indent="-2570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asonably expressive, suitable for some types of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ntological commit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17040" indent="-2570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bjects, rules, fac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ragmentary theory of intelligent reason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17040" indent="-2570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odus ponens, matching, sometimes augmented by probabilistic mechanis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edium for comput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17040" indent="-2570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asonably efficien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edium for human express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17040" indent="-2570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ainly for exper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emantic Network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yntax: graphs, possibly with some restrictions and enhance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mantics: interpretation of the graph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itial state of the graph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ropagation of activity, inferences based on link typ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R Roles and Semantic Ne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-2397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urrogat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76000" indent="-2397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limited to reasonably expressiveness, suitable for some types of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39760" indent="-2397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ntological commit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76000" indent="-2397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odes (objects, concepts), links (relations)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39760" indent="-2397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ragmentary theory of intelligent reason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76000" indent="-2397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nclusions based on properties of objects and their relationships with other objec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39760" indent="-2397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edium for comput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76000" indent="-2397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asonably efficient for some types of reason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39760" indent="-23976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edium for human express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76000" indent="-2397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asy to visualiz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Frames, Scrip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yntax: templates with slots and filler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mantics: interpretation of the slots/filler valu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itial values for slots in fram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lex matching of related fram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R Roles and Fram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urrogat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64920" indent="-2772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uitable for well-structured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77200" indent="-2772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ontological commit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64920" indent="-2772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emplates, situations, properties, method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77200" indent="-2772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ragmentary theory of intelligent reason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64920" indent="-2772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nclusions are based on relationships between  fram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77200" indent="-2772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edium for comput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64920" indent="-2772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k for some problem typ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77200" indent="-2772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edium for human express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64920" indent="-27720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k, but sometimes too formulaic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Manipul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eason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QM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Reasoning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eneration of new knowledge items from existing on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requently identified with </a:t>
            </a: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logical</a:t>
            </a: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 reason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trong formal found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very restricted methods for generating conclus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ometimes expanded to capture various ways to draw conclusions based on methods employed by huma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requires a formal specification or implementation to be used with computer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QML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tands for Knowledge Query and Manipulation Langua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anguage and protocol for exchanging information and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Bridge-I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804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QML Performativ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31480" indent="-2314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basic query performatives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55480" indent="-23148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evaluate, ask-if, ask-about, ask-one, ask-all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31480" indent="-2314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ulti-response query performatives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55480" indent="-23148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tream-about, stream-all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31480" indent="-2314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sponse performatives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55480" indent="-23148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ply, sorry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31480" indent="-2314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generic informational performatives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55480" indent="-23148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ell, achieve, deny, untell, unachieve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31480" indent="-2314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generator performatives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55480" indent="-23148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tandby, ready, next, rest, discard, generator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31480" indent="-2314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apability-definition performatives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55480" indent="-23148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dvertise, subscribe, monitor, import, export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31480" indent="-2314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etworking performatives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55480" indent="-23148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gister, unregister, forward, broadcast, route.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800600" y="2209680"/>
            <a:ext cx="4343400" cy="327672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280" y="2209680"/>
            <a:ext cx="4343400" cy="327672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QML Example 1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quer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(ask-if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:sender A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:receiver B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:language Prolog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:ontology foo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:reply-with id1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:content ``bar(a,b)'' )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23920" y="14475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pl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(sorry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:sender B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:receiver A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:in-reply-to id1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:reply-with id2 )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-21600" y="5608800"/>
            <a:ext cx="786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Times New Roman"/>
              </a:rPr>
              <a:t>agent A (:sender) is querying the agent B (:receiver), in Prolog (:language) 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Times New Roman"/>
              </a:rPr>
              <a:t>about the truth status of ``bar(a,b)'' (:content)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4800600" y="2209680"/>
            <a:ext cx="4343400" cy="419112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2280" y="2209680"/>
            <a:ext cx="4343400" cy="2286000"/>
          </a:xfrm>
          <a:prstGeom prst="rect">
            <a:avLst/>
          </a:prstGeom>
          <a:solidFill>
            <a:srgbClr val="fcfeb9"/>
          </a:solidFill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QML Example 2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quer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(stream-about :language KIF :ontology motors `:reply-with q1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:content motor1)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23920" y="14475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repl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8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8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(tell :language KIF :ontology motors :in-reply-to q1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8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: content (= (val (torque motor1) (sim-time 5) (scalar 12 kgf))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8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(tell :language KIF :ontology structures :in-reply-to q1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8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: content (fastens frame12 motor1))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8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0"/>
                </a:solidFill>
                <a:latin typeface="Courier New"/>
              </a:rPr>
              <a:t>(eos :in-repl-to q1)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5105520"/>
            <a:ext cx="472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Times New Roman"/>
              </a:rPr>
              <a:t>agent A asks agent B to tell all it knows about motor1. 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Times New Roman"/>
              </a:rPr>
              <a:t>B replys with a sequence of tells terminated with a sorry. </a:t>
            </a: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ost-Tes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valu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riteria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mportant Concepts and Term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066680"/>
            <a:ext cx="4343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91120" y="1066680"/>
            <a:ext cx="46670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atural languag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ntology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ntological commitment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redicate logic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robabilistic reasoning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ropositional logic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sychology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ational agent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ationality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asoning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ule-based system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emantic network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urrogat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axonomy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uring machin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1143000"/>
            <a:ext cx="4667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utomated reasoning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belief network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gnitive scienc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mputer scienc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eduction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fram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human problem solving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ferenc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telligenc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acquisition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representation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linguistic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logic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achine learning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ummary Knowledge Processing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re-Tes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e representation and manipulation of knowledge has been essential for the development of humanity as we know i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e use of formal methods and support from machines can improve our knowledge representation and reasoning abiliti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elligent reasoning is a very complex phenomenon, and may have to be described in a variety of way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 basic understanding of knowledge representation and reasoning is important for the organization and management of knowledg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be familiar with the important aspects of commonly used knowledge representation and reasoning method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nderstand different roles and perspectives of knowledge representation and reasoning method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amine the suitability of knowledge representations for specific task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valuate the representation methods and reasoning mechanisms employed in computer-based syste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valuation Criteria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z J. Kurfess</cp:lastModifiedBy>
  <cp:lastPrinted>2003-03-20T20:29:32Z</cp:lastPrinted>
  <dcterms:modified xsi:type="dcterms:W3CDTF">2003-03-20T20:29:41Z</dcterms:modified>
  <cp:revision>46</cp:revision>
  <dc:subject/>
  <dc:title>CSC 480: Artificial Intelligence</dc:title>
</cp:coreProperties>
</file>