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642100" cy="9777413"/>
  <p:custShowLst>
    <p:custShow name="Lecture 1: Information Retr." id="0">
      <p:sldLst>
        <p:sld r:id="rId6"/>
        <p:sld r:id="rId7"/>
        <p:sld r:id="rId8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</p:sldLst>
    </p:custShow>
    <p:custShow name="Lecture 2: Knowledge Retr." id="1">
      <p:sldLst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</p:sldLst>
    </p:custShow>
    <p:custShow name="Spring 2003" id="2">
      <p:sldLst>
        <p:sld r:id="rId6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4"/>
        <p:sld r:id="rId6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re retrieved based on the mappings identified in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Retrieval  </a:t>
            </a:r>
            <a:fld id="{9560E710-5F0C-4CD5-904A-28D2900CA2CB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iteseer.nj.nec.com/" TargetMode="External"/><Relationship Id="rId2" Type="http://schemas.openxmlformats.org/officeDocument/2006/relationships/hyperlink" Target="http://citeseer.nj.nec.com/" TargetMode="External"/><Relationship Id="rId3" Type="http://schemas.openxmlformats.org/officeDocument/2006/relationships/hyperlink" Target="http://citeseer.nj.nec.com/" TargetMode="External"/><Relationship Id="rId4" Type="http://schemas.openxmlformats.org/officeDocument/2006/relationships/hyperlink" Target="http://citeseer.nj.nec.com/" TargetMode="External"/><Relationship Id="rId5" Type="http://schemas.openxmlformats.org/officeDocument/2006/relationships/hyperlink" Target="http://citeseer.nj.nec.com/" TargetMode="External"/><Relationship Id="rId6" Type="http://schemas.openxmlformats.org/officeDocument/2006/relationships/hyperlink" Target="http://citeseer.nj.nec.com/" TargetMode="External"/><Relationship Id="rId7" Type="http://schemas.openxmlformats.org/officeDocument/2006/relationships/hyperlink" Target="http://citeseer.nj.nec.com/" TargetMode="External"/><Relationship Id="rId8" Type="http://schemas.openxmlformats.org/officeDocument/2006/relationships/hyperlink" Target="http://citeseer.nj.nec.com/" TargetMode="External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inding Out Abou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eyword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eyword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nguistic atoms used to characterize the subject or content of a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ieces of words (stem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 the basis for a match betwee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user’s characterization of information ne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ontents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oice of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mulated in a query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on with human information provid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tificial langu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on with comput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specially search engine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limited set of keywords may be used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ncontroll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any keywords may be used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ften Boolean operators (AND, OR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ometimes regular expres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l interpre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ny document that can be represented digital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xt, image, music, video, program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al interpre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ssage of text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rings of characters in an alphab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ritten natural langu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ength may va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nger documents may be composed of shorter on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outness of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scribes the suitability of a document as answer to a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 documents have equal abou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probability of any document in a corpus to be considered relevant is equal for all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implistic; not valid in rea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 paragraph is the smallest unit of text with appreciable abou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ructural Aspects of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 may be composed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agraphs, subsections, sections, chapters, pa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otnotes, re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ocuments may contain meta-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about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part of the content of the document itsel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be used for organization and retrieval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abused by crea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ually to increase the perceived relevan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Prox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s for the real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ridge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atalog, abstra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oint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ibliographical citation, UR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med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fich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gital represent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vocabulary of keywords is assigned to all documents of a corp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n index maps each document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to the set of keyword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it is about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dex : 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about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dex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: {kw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}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 baseline="30000">
                <a:solidFill>
                  <a:srgbClr val="fcfeb9"/>
                </a:solidFill>
                <a:latin typeface="Arial"/>
              </a:rPr>
              <a:t>describes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doc</a:t>
            </a:r>
            <a:r>
              <a:rPr b="0" i="1" lang="en-US" sz="2800" spc="-1" strike="noStrike" baseline="-25000">
                <a:solidFill>
                  <a:srgbClr val="fcfeb9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exing of a document / corp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: humans select appropriate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tomatic: a computer program selects the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uilding the index relation between documents and sets of keywords is critical for information retriev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OA Conversation Loop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1317600"/>
            <a:ext cx="7004160" cy="470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to specific data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via address, field, nam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ically used in data ba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r asks for items with specific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sence or presence of featu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stem returns data i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irrelevant ite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istic retrieval metho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Retrieval (IR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to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so referred to as document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ccess via keywor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R asp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tching against indi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trieval assess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agram Search Engin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8680320" cy="358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ction of lexical features from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stly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require some manipulation of the extracted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stemming of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d as the basis for automatic compilation of indi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 Against Indi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cation of documents that are relevant for a particular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eywords of the query are compared against the keywords that appear in the docu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ither in the data or meta-data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 addition to queries, other features of documents may be us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ve features provided by the author or catalog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ually meta-dat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rived features computed from the contents of the docu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ed and Relevant Docu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095880" cy="3738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call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|retrieved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relevant| / |relevant|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ecision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|retrieved </a:t>
            </a:r>
            <a:r>
              <a:rPr b="0" i="1" lang="en-US" sz="2800" spc="-1" strike="noStrike">
                <a:solidFill>
                  <a:srgbClr val="fcfeb9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 relevant| / |retrieved|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pecificity vs. Exhaustivit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427040"/>
            <a:ext cx="852804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ctor Sp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pretation of the index matrix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s documents and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grow extremely lar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inary matrix of 100,000 words * 1,000,000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parsely populated: most entries will be 0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used to determine similarity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verlap in key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ximity in the (virtual) vector spa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ssociative memories can be used as hardware implemen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emely fast, but expensive to bui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Vector Space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542960"/>
            <a:ext cx="8528040" cy="3775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28040" cy="350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al Assess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bjective assess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w well do the retrieved documents satisfy the request of the us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ive assess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alized omniscient expert determines the quality of the respon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inding Out Abou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and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ata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via Address, Field, Na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rs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tching Against Indi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trieval Assess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Discov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 Extra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trieval Assessment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054080"/>
            <a:ext cx="7765920" cy="5423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Feedback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bjective assessment of retrieval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ften used to iteratively improve retrieval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collected by the retrieval system for statistical eval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viewed as a variant of object recog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object to be recognized is the prototypical document the user is looking fo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is document may or may not exis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difference between the retrieved document(s) and the idealized prototype indicates the quality of the retrieval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evance Feedback in Vector Sp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evance feedback is used to move the query towards the cluster of positiv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ving away from bad documents does not necessarily improve the resul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can also be used as a filter for a constant stream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s in news channels or similar situ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57640" cy="4927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Session Exampl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935000"/>
            <a:ext cx="8680320" cy="299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sensual Relevan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evance feedback from multiple us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es documents that many users found useful or interest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by some Web sit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to collaborative filter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also be used as an evaluation method for search engin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erformance criteria must be carefully consider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recision and recall, plus many other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645320" y="558720"/>
            <a:ext cx="1600200" cy="5105160"/>
            <a:chOff x="7645320" y="558720"/>
            <a:chExt cx="1600200" cy="5105160"/>
          </a:xfrm>
        </p:grpSpPr>
        <p:sp>
          <p:nvSpPr>
            <p:cNvPr id="138" name=""/>
            <p:cNvSpPr/>
            <p:nvPr/>
          </p:nvSpPr>
          <p:spPr>
            <a:xfrm>
              <a:off x="764532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9760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024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480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91520" y="723960"/>
            <a:ext cx="1600200" cy="5105160"/>
            <a:chOff x="7391520" y="723960"/>
            <a:chExt cx="1600200" cy="5105160"/>
          </a:xfrm>
        </p:grpSpPr>
        <p:sp>
          <p:nvSpPr>
            <p:cNvPr id="144" name=""/>
            <p:cNvSpPr/>
            <p:nvPr/>
          </p:nvSpPr>
          <p:spPr>
            <a:xfrm>
              <a:off x="739152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644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72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137360" y="888840"/>
            <a:ext cx="1600200" cy="5105160"/>
            <a:chOff x="7137360" y="888840"/>
            <a:chExt cx="1600200" cy="5105160"/>
          </a:xfrm>
        </p:grpSpPr>
        <p:sp>
          <p:nvSpPr>
            <p:cNvPr id="150" name=""/>
            <p:cNvSpPr/>
            <p:nvPr/>
          </p:nvSpPr>
          <p:spPr>
            <a:xfrm>
              <a:off x="713736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964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228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9456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684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83560" y="1054080"/>
            <a:ext cx="1600200" cy="5105160"/>
            <a:chOff x="6883560" y="1054080"/>
            <a:chExt cx="1600200" cy="5105160"/>
          </a:xfrm>
        </p:grpSpPr>
        <p:sp>
          <p:nvSpPr>
            <p:cNvPr id="156" name=""/>
            <p:cNvSpPr/>
            <p:nvPr/>
          </p:nvSpPr>
          <p:spPr>
            <a:xfrm>
              <a:off x="688356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3584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8848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4076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9304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29400" y="1219320"/>
            <a:ext cx="1600200" cy="5105160"/>
            <a:chOff x="6629400" y="1219320"/>
            <a:chExt cx="1600200" cy="5105160"/>
          </a:xfrm>
        </p:grpSpPr>
        <p:sp>
          <p:nvSpPr>
            <p:cNvPr id="167" name=""/>
            <p:cNvSpPr/>
            <p:nvPr/>
          </p:nvSpPr>
          <p:spPr>
            <a:xfrm>
              <a:off x="6629400" y="1219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1680" y="2133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30481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39625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4876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cxnSp>
        <p:nvCxnSpPr>
          <p:cNvPr id="172" name=""/>
          <p:cNvCxnSpPr>
            <a:stCxn id="162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63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64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65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176" name=""/>
          <p:cNvCxnSpPr>
            <a:endCxn id="169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71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8" name=""/>
          <p:cNvCxnSpPr>
            <a:endCxn id="167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79" name=""/>
          <p:cNvCxnSpPr>
            <a:endCxn id="170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80" name=""/>
          <p:cNvCxnSpPr>
            <a:endCxn id="168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81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187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285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291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297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303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9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0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1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1" name=""/>
          <p:cNvCxnSpPr>
            <a:stCxn id="312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322" name=""/>
          <p:cNvCxnSpPr>
            <a:endCxn id="315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323" name=""/>
          <p:cNvCxnSpPr>
            <a:endCxn id="317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endCxn id="313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endCxn id="316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326" name=""/>
          <p:cNvCxnSpPr>
            <a:endCxn id="314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333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438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444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450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456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62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2" name=""/>
          <p:cNvCxnSpPr>
            <a:stCxn id="463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4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4" name=""/>
          <p:cNvCxnSpPr>
            <a:stCxn id="465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475" name=""/>
          <p:cNvCxnSpPr>
            <a:endCxn id="468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endCxn id="470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477" name=""/>
          <p:cNvCxnSpPr>
            <a:endCxn id="466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endCxn id="469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endCxn id="467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480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486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34290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0040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62240" y="339084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43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6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597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603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609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615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1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1" name=""/>
          <p:cNvCxnSpPr>
            <a:stCxn id="622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2" name=""/>
          <p:cNvCxnSpPr>
            <a:stCxn id="623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4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634" name=""/>
          <p:cNvCxnSpPr>
            <a:endCxn id="627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5" name=""/>
          <p:cNvCxnSpPr>
            <a:endCxn id="629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endCxn id="625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7" name=""/>
          <p:cNvCxnSpPr>
            <a:endCxn id="628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638" name=""/>
          <p:cNvCxnSpPr>
            <a:endCxn id="626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645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362320" y="34290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251460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4038480"/>
            <a:ext cx="312408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242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38480" y="1905120"/>
            <a:ext cx="0" cy="3276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24764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00680" y="24764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290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434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00680" y="39942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62240" y="339084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43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86480" y="339084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7543800" y="558720"/>
            <a:ext cx="1600200" cy="5105160"/>
            <a:chOff x="7543800" y="558720"/>
            <a:chExt cx="1600200" cy="5105160"/>
          </a:xfrm>
        </p:grpSpPr>
        <p:sp>
          <p:nvSpPr>
            <p:cNvPr id="759" name=""/>
            <p:cNvSpPr/>
            <p:nvPr/>
          </p:nvSpPr>
          <p:spPr>
            <a:xfrm>
              <a:off x="7543800" y="558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96080" y="1473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48720" y="23875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01000" y="330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153280" y="42163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289640" y="723960"/>
            <a:ext cx="1600200" cy="5105160"/>
            <a:chOff x="7289640" y="723960"/>
            <a:chExt cx="1600200" cy="5105160"/>
          </a:xfrm>
        </p:grpSpPr>
        <p:sp>
          <p:nvSpPr>
            <p:cNvPr id="765" name=""/>
            <p:cNvSpPr/>
            <p:nvPr/>
          </p:nvSpPr>
          <p:spPr>
            <a:xfrm>
              <a:off x="7289640" y="723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41920" y="1638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94560" y="25527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46840" y="346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99120" y="43815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035840" y="888840"/>
            <a:ext cx="1600200" cy="5105160"/>
            <a:chOff x="7035840" y="888840"/>
            <a:chExt cx="1600200" cy="5105160"/>
          </a:xfrm>
        </p:grpSpPr>
        <p:sp>
          <p:nvSpPr>
            <p:cNvPr id="771" name=""/>
            <p:cNvSpPr/>
            <p:nvPr/>
          </p:nvSpPr>
          <p:spPr>
            <a:xfrm>
              <a:off x="7035840" y="8888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88120" y="18032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40760" y="271764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93040" y="36320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45320" y="454644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781680" y="1054080"/>
            <a:ext cx="1600200" cy="5105160"/>
            <a:chOff x="6781680" y="1054080"/>
            <a:chExt cx="1600200" cy="5105160"/>
          </a:xfrm>
        </p:grpSpPr>
        <p:sp>
          <p:nvSpPr>
            <p:cNvPr id="777" name=""/>
            <p:cNvSpPr/>
            <p:nvPr/>
          </p:nvSpPr>
          <p:spPr>
            <a:xfrm>
              <a:off x="6781680" y="10540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3960" y="1968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86600" y="28828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38880" y="3797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91160" y="4711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2438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29210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34034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" y="388620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12193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5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21337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4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34320" y="3048120"/>
            <a:ext cx="99036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3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86600" y="39625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2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4876920"/>
            <a:ext cx="990720" cy="144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3" idx="3"/>
          </p:cNvCxnSpPr>
          <p:nvPr/>
        </p:nvCxnSpPr>
        <p:spPr>
          <a:xfrm>
            <a:off x="1371600" y="2552760"/>
            <a:ext cx="991440" cy="145800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4" idx="3"/>
          </p:cNvCxnSpPr>
          <p:nvPr/>
        </p:nvCxnSpPr>
        <p:spPr>
          <a:xfrm>
            <a:off x="1371600" y="3034800"/>
            <a:ext cx="991440" cy="366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4" name=""/>
          <p:cNvCxnSpPr>
            <a:stCxn id="785" idx="3"/>
          </p:cNvCxnSpPr>
          <p:nvPr/>
        </p:nvCxnSpPr>
        <p:spPr>
          <a:xfrm flipV="1">
            <a:off x="1371600" y="2485800"/>
            <a:ext cx="991440" cy="10324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795" name=""/>
          <p:cNvCxnSpPr>
            <a:stCxn id="786" idx="3"/>
          </p:cNvCxnSpPr>
          <p:nvPr/>
        </p:nvCxnSpPr>
        <p:spPr>
          <a:xfrm>
            <a:off x="1371600" y="4000680"/>
            <a:ext cx="991440" cy="390960"/>
          </a:xfrm>
          <a:prstGeom prst="straightConnector1">
            <a:avLst/>
          </a:prstGeom>
          <a:ln w="3816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endCxn id="789" idx="1"/>
          </p:cNvCxnSpPr>
          <p:nvPr/>
        </p:nvCxnSpPr>
        <p:spPr>
          <a:xfrm flipH="1" flipV="1" rot="5400000">
            <a:off x="5109120" y="3385440"/>
            <a:ext cx="1438920" cy="2210760"/>
          </a:xfrm>
          <a:prstGeom prst="curvedConnector5">
            <a:avLst>
              <a:gd name="adj1" fmla="val -13888"/>
              <a:gd name="adj2" fmla="val 39902"/>
              <a:gd name="adj3" fmla="val -1388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endCxn id="791" idx="1"/>
          </p:cNvCxnSpPr>
          <p:nvPr/>
        </p:nvCxnSpPr>
        <p:spPr>
          <a:xfrm flipH="1" rot="16200000">
            <a:off x="5443200" y="3804840"/>
            <a:ext cx="391320" cy="32011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8" name=""/>
          <p:cNvCxnSpPr>
            <a:endCxn id="787" idx="1"/>
          </p:cNvCxnSpPr>
          <p:nvPr/>
        </p:nvCxnSpPr>
        <p:spPr>
          <a:xfrm flipH="1" flipV="1" rot="5400000">
            <a:off x="3470760" y="2052000"/>
            <a:ext cx="3267720" cy="3048840"/>
          </a:xfrm>
          <a:prstGeom prst="curvedConnector5">
            <a:avLst>
              <a:gd name="adj1" fmla="val -10290"/>
              <a:gd name="adj2" fmla="val 41213"/>
              <a:gd name="adj3" fmla="val -1029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799" name=""/>
          <p:cNvCxnSpPr>
            <a:endCxn id="790" idx="1"/>
          </p:cNvCxnSpPr>
          <p:nvPr/>
        </p:nvCxnSpPr>
        <p:spPr>
          <a:xfrm flipH="1" flipV="1" rot="5400000">
            <a:off x="4880520" y="3004560"/>
            <a:ext cx="524160" cy="3886920"/>
          </a:xfrm>
          <a:prstGeom prst="curvedConnector5">
            <a:avLst>
              <a:gd name="adj1" fmla="val -145498"/>
              <a:gd name="adj2" fmla="val 42580"/>
              <a:gd name="adj3" fmla="val -145498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endCxn id="788" idx="1"/>
          </p:cNvCxnSpPr>
          <p:nvPr/>
        </p:nvCxnSpPr>
        <p:spPr>
          <a:xfrm flipH="1" flipV="1" rot="5400000">
            <a:off x="3547800" y="1976040"/>
            <a:ext cx="2353320" cy="4115520"/>
          </a:xfrm>
          <a:prstGeom prst="curvedConnector5">
            <a:avLst>
              <a:gd name="adj1" fmla="val -28396"/>
              <a:gd name="adj2" fmla="val 43941"/>
              <a:gd name="adj3" fmla="val -28396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801" name=""/>
          <p:cNvSpPr/>
          <p:nvPr/>
        </p:nvSpPr>
        <p:spPr>
          <a:xfrm>
            <a:off x="3209040" y="1494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5040" y="1336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90920" y="109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64240" y="6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1420560" y="34812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807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62320" y="1905120"/>
              <a:ext cx="3124080" cy="327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62320" y="1981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62320" y="2057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62320" y="2133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62320" y="2209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62320" y="2286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62320" y="2362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62320" y="2438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2320" y="2590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62320" y="2666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62320" y="2743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62320" y="2819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62320" y="2895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320" y="2971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2320" y="3048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62320" y="3124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62320" y="3200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62320" y="3276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62320" y="3352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62320" y="3505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62320" y="3581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62320" y="3657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62320" y="3733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62320" y="3809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2320" y="3886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2320" y="3962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62320" y="41148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62320" y="41911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42670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62320" y="43434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62320" y="44197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62320" y="44956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62320" y="4572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62320" y="46483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62320" y="47242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2320" y="4800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2320" y="48769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62320" y="49528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62320" y="50292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62320" y="510552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38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02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65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29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92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55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19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82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46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09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73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37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3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27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90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54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17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45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08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72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35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98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62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25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89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52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16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80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43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067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04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338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75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609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880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513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150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784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418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055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688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322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9596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5932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2304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2320" y="251460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2320" y="4038480"/>
              <a:ext cx="3124080" cy="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0040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24280" y="191772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2362320" y="1905120"/>
            <a:ext cx="3124080" cy="3276360"/>
            <a:chOff x="2362320" y="1905120"/>
            <a:chExt cx="3124080" cy="3276360"/>
          </a:xfrm>
        </p:grpSpPr>
        <p:sp>
          <p:nvSpPr>
            <p:cNvPr id="905" name=""/>
            <p:cNvSpPr/>
            <p:nvPr/>
          </p:nvSpPr>
          <p:spPr>
            <a:xfrm>
              <a:off x="2362320" y="3429000"/>
              <a:ext cx="31240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2362320" y="1905120"/>
              <a:ext cx="3124080" cy="3276360"/>
              <a:chOff x="2362320" y="1905120"/>
              <a:chExt cx="3124080" cy="3276360"/>
            </a:xfrm>
          </p:grpSpPr>
          <p:sp>
            <p:nvSpPr>
              <p:cNvPr id="907" name=""/>
              <p:cNvSpPr/>
              <p:nvPr/>
            </p:nvSpPr>
            <p:spPr>
              <a:xfrm>
                <a:off x="2362320" y="251460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362320" y="403848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362320" y="4419720"/>
                <a:ext cx="31240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6668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812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0040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7242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38480" y="1905120"/>
                <a:ext cx="0" cy="327636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29080" y="24764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000680" y="24764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6290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434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00680" y="399420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162240" y="4375080"/>
                <a:ext cx="7632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000680" y="437508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86480" y="437508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162240" y="3390840"/>
                <a:ext cx="7632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543480" y="33908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686480" y="3390840"/>
                <a:ext cx="75960" cy="76320"/>
              </a:xfrm>
              <a:prstGeom prst="ellipse">
                <a:avLst/>
              </a:prstGeom>
              <a:solidFill>
                <a:srgbClr val="c000c0"/>
              </a:solidFill>
              <a:ln w="1260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P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adline HW 1: May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term: Thursday, May 3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7543800" y="-12600"/>
            <a:ext cx="1600200" cy="5105160"/>
            <a:chOff x="7543800" y="-12600"/>
            <a:chExt cx="1600200" cy="5105160"/>
          </a:xfrm>
        </p:grpSpPr>
        <p:sp>
          <p:nvSpPr>
            <p:cNvPr id="927" name=""/>
            <p:cNvSpPr/>
            <p:nvPr/>
          </p:nvSpPr>
          <p:spPr>
            <a:xfrm>
              <a:off x="7543800" y="-126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96080" y="9018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48720" y="181620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01000" y="27306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3280" y="364500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289640" y="152280"/>
            <a:ext cx="1600200" cy="5105160"/>
            <a:chOff x="7289640" y="152280"/>
            <a:chExt cx="1600200" cy="5105160"/>
          </a:xfrm>
        </p:grpSpPr>
        <p:sp>
          <p:nvSpPr>
            <p:cNvPr id="933" name=""/>
            <p:cNvSpPr/>
            <p:nvPr/>
          </p:nvSpPr>
          <p:spPr>
            <a:xfrm>
              <a:off x="7289640" y="1522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41920" y="10666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94560" y="198108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746840" y="28954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99120" y="380988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035840" y="317520"/>
            <a:ext cx="1600200" cy="5105160"/>
            <a:chOff x="7035840" y="317520"/>
            <a:chExt cx="1600200" cy="5105160"/>
          </a:xfrm>
        </p:grpSpPr>
        <p:sp>
          <p:nvSpPr>
            <p:cNvPr id="939" name=""/>
            <p:cNvSpPr/>
            <p:nvPr/>
          </p:nvSpPr>
          <p:spPr>
            <a:xfrm>
              <a:off x="7035840" y="3175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88120" y="12319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40760" y="214632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93040" y="30607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45320" y="397512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781680" y="482760"/>
            <a:ext cx="1600200" cy="5105160"/>
            <a:chOff x="6781680" y="482760"/>
            <a:chExt cx="1600200" cy="5105160"/>
          </a:xfrm>
        </p:grpSpPr>
        <p:sp>
          <p:nvSpPr>
            <p:cNvPr id="945" name=""/>
            <p:cNvSpPr/>
            <p:nvPr/>
          </p:nvSpPr>
          <p:spPr>
            <a:xfrm>
              <a:off x="6781680" y="4827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3960" y="13971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86600" y="2311560"/>
              <a:ext cx="99036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38880" y="32259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91160" y="4140360"/>
              <a:ext cx="990720" cy="144756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02680" y="0"/>
            <a:ext cx="480060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015920" y="36068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15920" y="2870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2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87028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3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606840"/>
            <a:ext cx="685800" cy="228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4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51" idx="3"/>
            <a:endCxn id="956" idx="0"/>
          </p:cNvCxnSpPr>
          <p:nvPr/>
        </p:nvCxnSpPr>
        <p:spPr>
          <a:xfrm flipV="1">
            <a:off x="1701360" y="2914200"/>
            <a:ext cx="1143720" cy="80712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57" name=""/>
          <p:cNvCxnSpPr>
            <a:stCxn id="952" idx="3"/>
            <a:endCxn id="958" idx="0"/>
          </p:cNvCxnSpPr>
          <p:nvPr/>
        </p:nvCxnSpPr>
        <p:spPr>
          <a:xfrm flipV="1">
            <a:off x="1701360" y="2304360"/>
            <a:ext cx="1143720" cy="68004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59" name=""/>
          <p:cNvCxnSpPr>
            <a:stCxn id="953" idx="3"/>
            <a:endCxn id="960" idx="0"/>
          </p:cNvCxnSpPr>
          <p:nvPr/>
        </p:nvCxnSpPr>
        <p:spPr>
          <a:xfrm flipV="1">
            <a:off x="685440" y="1389960"/>
            <a:ext cx="2159640" cy="159444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61" name=""/>
          <p:cNvCxnSpPr>
            <a:stCxn id="954" idx="3"/>
            <a:endCxn id="962" idx="0"/>
          </p:cNvCxnSpPr>
          <p:nvPr/>
        </p:nvCxnSpPr>
        <p:spPr>
          <a:xfrm flipV="1">
            <a:off x="685440" y="3295080"/>
            <a:ext cx="2159640" cy="425880"/>
          </a:xfrm>
          <a:prstGeom prst="straightConnector1">
            <a:avLst/>
          </a:prstGeom>
          <a:ln w="12600">
            <a:solidFill>
              <a:srgbClr val="fcfeb9"/>
            </a:solidFill>
            <a:miter/>
            <a:tailEnd len="med" type="arrow" w="med"/>
          </a:ln>
        </p:spPr>
      </p:cxnSp>
      <p:cxnSp>
        <p:nvCxnSpPr>
          <p:cNvPr id="963" name=""/>
          <p:cNvCxnSpPr>
            <a:stCxn id="964" idx="0"/>
            <a:endCxn id="965" idx="1"/>
          </p:cNvCxnSpPr>
          <p:nvPr/>
        </p:nvCxnSpPr>
        <p:spPr>
          <a:xfrm flipH="1" flipV="1" rot="5400000">
            <a:off x="6037200" y="2302920"/>
            <a:ext cx="981720" cy="2642400"/>
          </a:xfrm>
          <a:prstGeom prst="curvedConnector5">
            <a:avLst>
              <a:gd name="adj1" fmla="val -20359"/>
              <a:gd name="adj2" fmla="val 24989"/>
              <a:gd name="adj3" fmla="val -2035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66" name=""/>
          <p:cNvCxnSpPr>
            <a:stCxn id="967" idx="0"/>
            <a:endCxn id="968" idx="1"/>
          </p:cNvCxnSpPr>
          <p:nvPr/>
        </p:nvCxnSpPr>
        <p:spPr>
          <a:xfrm flipH="1" rot="16200000">
            <a:off x="5912280" y="2722320"/>
            <a:ext cx="848520" cy="3632760"/>
          </a:xfrm>
          <a:prstGeom prst="curvedConnector2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69" name=""/>
          <p:cNvCxnSpPr>
            <a:stCxn id="970" idx="0"/>
            <a:endCxn id="971" idx="1"/>
          </p:cNvCxnSpPr>
          <p:nvPr/>
        </p:nvCxnSpPr>
        <p:spPr>
          <a:xfrm flipH="1" flipV="1" rot="5400000">
            <a:off x="4398840" y="969480"/>
            <a:ext cx="2810520" cy="3480480"/>
          </a:xfrm>
          <a:prstGeom prst="curvedConnector5">
            <a:avLst>
              <a:gd name="adj1" fmla="val -7109"/>
              <a:gd name="adj2" fmla="val 24992"/>
              <a:gd name="adj3" fmla="val -710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72" name=""/>
          <p:cNvCxnSpPr>
            <a:stCxn id="973" idx="0"/>
            <a:endCxn id="974" idx="1"/>
          </p:cNvCxnSpPr>
          <p:nvPr/>
        </p:nvCxnSpPr>
        <p:spPr>
          <a:xfrm flipH="1" flipV="1" rot="5400000">
            <a:off x="5808600" y="1922040"/>
            <a:ext cx="67320" cy="4318200"/>
          </a:xfrm>
          <a:prstGeom prst="curvedConnector5">
            <a:avLst>
              <a:gd name="adj1" fmla="val -300000"/>
              <a:gd name="adj2" fmla="val 24995"/>
              <a:gd name="adj3" fmla="val -300000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975" name=""/>
          <p:cNvCxnSpPr>
            <a:stCxn id="976" idx="0"/>
            <a:endCxn id="977" idx="1"/>
          </p:cNvCxnSpPr>
          <p:nvPr/>
        </p:nvCxnSpPr>
        <p:spPr>
          <a:xfrm flipH="1" flipV="1" rot="5400000">
            <a:off x="4474080" y="893160"/>
            <a:ext cx="1896120" cy="4547160"/>
          </a:xfrm>
          <a:prstGeom prst="curvedConnector5">
            <a:avLst>
              <a:gd name="adj1" fmla="val -10539"/>
              <a:gd name="adj2" fmla="val 24996"/>
              <a:gd name="adj3" fmla="val -10539"/>
            </a:avLst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978" name=""/>
          <p:cNvSpPr/>
          <p:nvPr/>
        </p:nvSpPr>
        <p:spPr>
          <a:xfrm>
            <a:off x="2844720" y="1419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44720" y="180036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44720" y="2333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44720" y="29433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844720" y="809640"/>
            <a:ext cx="312444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1903320" y="238572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eywor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691800" y="3985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44720" y="885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4720" y="961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44720" y="1038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44720" y="1114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844720" y="1190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44720" y="1266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44720" y="1343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44720" y="1495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44720" y="1571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44720" y="1647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844720" y="1724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44720" y="18003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44720" y="18763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44720" y="19526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44720" y="2028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44720" y="2104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44720" y="2181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44720" y="2257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44720" y="2409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44720" y="2486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844720" y="2562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44720" y="2638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844720" y="2714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44720" y="2790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44720" y="2867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44720" y="30193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844720" y="30956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44720" y="31719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44720" y="32479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44720" y="33242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844720" y="34005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844720" y="34765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844720" y="35528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44720" y="36291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844720" y="37051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44720" y="37814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44720" y="385776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44720" y="393372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844720" y="4010040"/>
            <a:ext cx="312444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496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68316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640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212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207040" y="809640"/>
            <a:ext cx="0" cy="32767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40120" y="2060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73680" y="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7478640" y="0"/>
            <a:ext cx="1665360" cy="5686200"/>
            <a:chOff x="7478640" y="0"/>
            <a:chExt cx="1665360" cy="5686200"/>
          </a:xfrm>
        </p:grpSpPr>
        <p:sp>
          <p:nvSpPr>
            <p:cNvPr id="971" name=""/>
            <p:cNvSpPr/>
            <p:nvPr/>
          </p:nvSpPr>
          <p:spPr>
            <a:xfrm>
              <a:off x="7543800" y="5810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5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96080" y="14954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4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848720" y="2409840"/>
              <a:ext cx="99036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3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01000" y="33242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2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53280" y="4238640"/>
              <a:ext cx="990720" cy="1447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20"/>
                  </a:solidFill>
                  <a:latin typeface="Arial"/>
                </a:rPr>
                <a:t>Doc. 1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478640" y="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feb9"/>
                  </a:solidFill>
                  <a:latin typeface="Times New Roman"/>
                </a:rPr>
                <a:t>Corpus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3187800" y="47116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A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60640" y="520704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B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876920" y="567684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21440" y="65023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M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48120" y="57405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D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98800" y="6477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J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79840" y="6477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I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65440" y="626112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H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13280" y="60069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F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57400" y="549900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C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97760" y="60958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G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33" idx="2"/>
            <a:endCxn id="1034" idx="0"/>
          </p:cNvCxnSpPr>
          <p:nvPr/>
        </p:nvCxnSpPr>
        <p:spPr>
          <a:xfrm>
            <a:off x="3530520" y="4939920"/>
            <a:ext cx="673920" cy="26712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5" name=""/>
          <p:cNvCxnSpPr>
            <a:stCxn id="1033" idx="2"/>
            <a:endCxn id="1042" idx="0"/>
          </p:cNvCxnSpPr>
          <p:nvPr/>
        </p:nvCxnSpPr>
        <p:spPr>
          <a:xfrm flipH="1">
            <a:off x="2399760" y="4940280"/>
            <a:ext cx="1130760" cy="5590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6" name=""/>
          <p:cNvCxnSpPr>
            <a:stCxn id="1034" idx="2"/>
            <a:endCxn id="1037" idx="0"/>
          </p:cNvCxnSpPr>
          <p:nvPr/>
        </p:nvCxnSpPr>
        <p:spPr>
          <a:xfrm flipH="1">
            <a:off x="3390480" y="5435280"/>
            <a:ext cx="813600" cy="30564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7" name=""/>
          <p:cNvCxnSpPr>
            <a:stCxn id="1034" idx="2"/>
            <a:endCxn id="1035" idx="0"/>
          </p:cNvCxnSpPr>
          <p:nvPr/>
        </p:nvCxnSpPr>
        <p:spPr>
          <a:xfrm>
            <a:off x="4203720" y="5435640"/>
            <a:ext cx="1016640" cy="24192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8" name=""/>
          <p:cNvCxnSpPr>
            <a:stCxn id="1035" idx="2"/>
            <a:endCxn id="1043" idx="0"/>
          </p:cNvCxnSpPr>
          <p:nvPr/>
        </p:nvCxnSpPr>
        <p:spPr>
          <a:xfrm>
            <a:off x="5219280" y="5905080"/>
            <a:ext cx="1321200" cy="19116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49" name=""/>
          <p:cNvCxnSpPr>
            <a:stCxn id="1035" idx="2"/>
            <a:endCxn id="1041" idx="0"/>
          </p:cNvCxnSpPr>
          <p:nvPr/>
        </p:nvCxnSpPr>
        <p:spPr>
          <a:xfrm flipH="1">
            <a:off x="4355280" y="5905440"/>
            <a:ext cx="864360" cy="10224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0" name=""/>
          <p:cNvCxnSpPr>
            <a:stCxn id="1040" idx="0"/>
            <a:endCxn id="1037" idx="2"/>
          </p:cNvCxnSpPr>
          <p:nvPr/>
        </p:nvCxnSpPr>
        <p:spPr>
          <a:xfrm flipV="1">
            <a:off x="2107800" y="5968440"/>
            <a:ext cx="1283400" cy="2926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1" name=""/>
          <p:cNvCxnSpPr>
            <a:stCxn id="1039" idx="0"/>
            <a:endCxn id="1037" idx="2"/>
          </p:cNvCxnSpPr>
          <p:nvPr/>
        </p:nvCxnSpPr>
        <p:spPr>
          <a:xfrm flipV="1">
            <a:off x="3022200" y="5968440"/>
            <a:ext cx="369000" cy="5086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2" name=""/>
          <p:cNvCxnSpPr>
            <a:stCxn id="1038" idx="0"/>
            <a:endCxn id="1041" idx="2"/>
          </p:cNvCxnSpPr>
          <p:nvPr/>
        </p:nvCxnSpPr>
        <p:spPr>
          <a:xfrm flipV="1">
            <a:off x="4241520" y="6234840"/>
            <a:ext cx="114840" cy="24228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3" name=""/>
          <p:cNvCxnSpPr>
            <a:stCxn id="1036" idx="0"/>
            <a:endCxn id="1043" idx="2"/>
          </p:cNvCxnSpPr>
          <p:nvPr/>
        </p:nvCxnSpPr>
        <p:spPr>
          <a:xfrm flipV="1">
            <a:off x="6464160" y="6324480"/>
            <a:ext cx="76680" cy="1782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sp>
        <p:nvSpPr>
          <p:cNvPr id="1054" name=""/>
          <p:cNvSpPr/>
          <p:nvPr/>
        </p:nvSpPr>
        <p:spPr>
          <a:xfrm>
            <a:off x="5003640" y="608328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K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76920" y="6464160"/>
            <a:ext cx="685800" cy="228600"/>
          </a:xfrm>
          <a:prstGeom prst="rect">
            <a:avLst/>
          </a:prstGeom>
          <a:solidFill>
            <a:srgbClr val="00cec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20"/>
                </a:solidFill>
                <a:latin typeface="Arial"/>
              </a:rPr>
              <a:t>Term L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56" name=""/>
          <p:cNvCxnSpPr>
            <a:stCxn id="1055" idx="0"/>
            <a:endCxn id="1054" idx="2"/>
          </p:cNvCxnSpPr>
          <p:nvPr/>
        </p:nvCxnSpPr>
        <p:spPr>
          <a:xfrm flipV="1">
            <a:off x="5219280" y="6311160"/>
            <a:ext cx="127800" cy="1530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7" name=""/>
          <p:cNvCxnSpPr>
            <a:stCxn id="1054" idx="0"/>
            <a:endCxn id="1035" idx="2"/>
          </p:cNvCxnSpPr>
          <p:nvPr/>
        </p:nvCxnSpPr>
        <p:spPr>
          <a:xfrm flipH="1" flipV="1">
            <a:off x="5218920" y="5905440"/>
            <a:ext cx="127800" cy="178200"/>
          </a:xfrm>
          <a:prstGeom prst="straightConnector1">
            <a:avLst/>
          </a:prstGeom>
          <a:ln w="28440">
            <a:solidFill>
              <a:srgbClr val="00cece"/>
            </a:solidFill>
            <a:miter/>
          </a:ln>
        </p:spPr>
      </p:cxnSp>
      <p:cxnSp>
        <p:nvCxnSpPr>
          <p:cNvPr id="1058" name=""/>
          <p:cNvCxnSpPr>
            <a:stCxn id="1033" idx="3"/>
            <a:endCxn id="1035" idx="3"/>
          </p:cNvCxnSpPr>
          <p:nvPr/>
        </p:nvCxnSpPr>
        <p:spPr>
          <a:xfrm>
            <a:off x="3873600" y="4825800"/>
            <a:ext cx="1689840" cy="965880"/>
          </a:xfrm>
          <a:prstGeom prst="curvedConnector5">
            <a:avLst>
              <a:gd name="adj1" fmla="val 113530"/>
              <a:gd name="adj2" fmla="val 50000"/>
              <a:gd name="adj3" fmla="val 113530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59" name=""/>
          <p:cNvCxnSpPr>
            <a:stCxn id="1034" idx="1"/>
            <a:endCxn id="1041" idx="1"/>
          </p:cNvCxnSpPr>
          <p:nvPr/>
        </p:nvCxnSpPr>
        <p:spPr>
          <a:xfrm flipH="1" flipV="1" rot="10800000">
            <a:off x="3860280" y="5320080"/>
            <a:ext cx="153360" cy="801000"/>
          </a:xfrm>
          <a:prstGeom prst="curvedConnector5">
            <a:avLst>
              <a:gd name="adj1" fmla="val -24941"/>
              <a:gd name="adj2" fmla="val 50000"/>
              <a:gd name="adj3" fmla="val -24941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0" name=""/>
          <p:cNvCxnSpPr>
            <a:stCxn id="1040" idx="3"/>
            <a:endCxn id="1038" idx="1"/>
          </p:cNvCxnSpPr>
          <p:nvPr/>
        </p:nvCxnSpPr>
        <p:spPr>
          <a:xfrm>
            <a:off x="2450880" y="6375240"/>
            <a:ext cx="1448280" cy="216720"/>
          </a:xfrm>
          <a:prstGeom prst="curvedConnector5">
            <a:avLst>
              <a:gd name="adj1" fmla="val 71034"/>
              <a:gd name="adj2" fmla="val 49916"/>
              <a:gd name="adj3" fmla="val 7103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1" name=""/>
          <p:cNvCxnSpPr>
            <a:stCxn id="1037" idx="3"/>
            <a:endCxn id="1054" idx="1"/>
          </p:cNvCxnSpPr>
          <p:nvPr/>
        </p:nvCxnSpPr>
        <p:spPr>
          <a:xfrm>
            <a:off x="3733560" y="5854320"/>
            <a:ext cx="1270440" cy="343800"/>
          </a:xfrm>
          <a:prstGeom prst="curvedConnector5">
            <a:avLst>
              <a:gd name="adj1" fmla="val 84977"/>
              <a:gd name="adj2" fmla="val 50000"/>
              <a:gd name="adj3" fmla="val 8497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2" name=""/>
          <p:cNvCxnSpPr>
            <a:stCxn id="1043" idx="1"/>
            <a:endCxn id="1036" idx="1"/>
          </p:cNvCxnSpPr>
          <p:nvPr/>
        </p:nvCxnSpPr>
        <p:spPr>
          <a:xfrm flipV="1" rot="10800000">
            <a:off x="6121440" y="6209280"/>
            <a:ext cx="76680" cy="40716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3" name=""/>
          <p:cNvCxnSpPr>
            <a:stCxn id="1043" idx="3"/>
            <a:endCxn id="1054" idx="3"/>
          </p:cNvCxnSpPr>
          <p:nvPr/>
        </p:nvCxnSpPr>
        <p:spPr>
          <a:xfrm flipH="1" flipV="1">
            <a:off x="5688720" y="6197040"/>
            <a:ext cx="1194840" cy="13320"/>
          </a:xfrm>
          <a:prstGeom prst="curvedConnector5">
            <a:avLst>
              <a:gd name="adj1" fmla="val -19138"/>
              <a:gd name="adj2" fmla="val 1155555"/>
              <a:gd name="adj3" fmla="val -1913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064" name=""/>
          <p:cNvCxnSpPr>
            <a:stCxn id="951" idx="2"/>
            <a:endCxn id="1037" idx="1"/>
          </p:cNvCxnSpPr>
          <p:nvPr/>
        </p:nvCxnSpPr>
        <p:spPr>
          <a:xfrm>
            <a:off x="1359000" y="3835080"/>
            <a:ext cx="1689840" cy="201996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5" name=""/>
          <p:cNvCxnSpPr>
            <a:stCxn id="954" idx="2"/>
            <a:endCxn id="1040" idx="1"/>
          </p:cNvCxnSpPr>
          <p:nvPr/>
        </p:nvCxnSpPr>
        <p:spPr>
          <a:xfrm>
            <a:off x="342720" y="3835080"/>
            <a:ext cx="1423080" cy="254052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6" name=""/>
          <p:cNvCxnSpPr>
            <a:stCxn id="953" idx="2"/>
            <a:endCxn id="1042" idx="1"/>
          </p:cNvCxnSpPr>
          <p:nvPr/>
        </p:nvCxnSpPr>
        <p:spPr>
          <a:xfrm>
            <a:off x="343080" y="3098520"/>
            <a:ext cx="1715040" cy="251532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7" name=""/>
          <p:cNvSpPr/>
          <p:nvPr/>
        </p:nvSpPr>
        <p:spPr>
          <a:xfrm>
            <a:off x="1080" y="60991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stCxn id="952" idx="2"/>
            <a:endCxn id="1033" idx="1"/>
          </p:cNvCxnSpPr>
          <p:nvPr/>
        </p:nvCxnSpPr>
        <p:spPr>
          <a:xfrm>
            <a:off x="1359000" y="3098880"/>
            <a:ext cx="1829520" cy="1728000"/>
          </a:xfrm>
          <a:prstGeom prst="straightConnector1">
            <a:avLst/>
          </a:prstGeom>
          <a:ln w="19080">
            <a:solidFill>
              <a:srgbClr val="fcfe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9" name=""/>
          <p:cNvCxnSpPr>
            <a:stCxn id="1033" idx="3"/>
            <a:endCxn id="1070" idx="0"/>
          </p:cNvCxnSpPr>
          <p:nvPr/>
        </p:nvCxnSpPr>
        <p:spPr>
          <a:xfrm flipV="1">
            <a:off x="3873240" y="3733560"/>
            <a:ext cx="2096280" cy="109296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1042" idx="3"/>
            <a:endCxn id="996" idx="0"/>
          </p:cNvCxnSpPr>
          <p:nvPr/>
        </p:nvCxnSpPr>
        <p:spPr>
          <a:xfrm flipV="1">
            <a:off x="2742840" y="1800000"/>
            <a:ext cx="3226680" cy="381384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1037" idx="3"/>
            <a:endCxn id="982" idx="3"/>
          </p:cNvCxnSpPr>
          <p:nvPr/>
        </p:nvCxnSpPr>
        <p:spPr>
          <a:xfrm flipV="1">
            <a:off x="3733560" y="2447280"/>
            <a:ext cx="2235600" cy="3407400"/>
          </a:xfrm>
          <a:prstGeom prst="curvedConnector5">
            <a:avLst>
              <a:gd name="adj1" fmla="val 110243"/>
              <a:gd name="adj2" fmla="val 50000"/>
              <a:gd name="adj3" fmla="val 110243"/>
            </a:avLst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40" idx="3"/>
            <a:endCxn id="1074" idx="0"/>
          </p:cNvCxnSpPr>
          <p:nvPr/>
        </p:nvCxnSpPr>
        <p:spPr>
          <a:xfrm flipV="1">
            <a:off x="2451240" y="2009520"/>
            <a:ext cx="3518640" cy="4366080"/>
          </a:xfrm>
          <a:prstGeom prst="curvedConnector2">
            <a:avLst/>
          </a:prstGeom>
          <a:ln w="12600">
            <a:solidFill>
              <a:srgbClr val="fcfeb9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38" idx="3"/>
            <a:endCxn id="1022" idx="0"/>
          </p:cNvCxnSpPr>
          <p:nvPr/>
        </p:nvCxnSpPr>
        <p:spPr>
          <a:xfrm flipV="1">
            <a:off x="4584600" y="3933720"/>
            <a:ext cx="1385280" cy="265788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54" idx="3"/>
            <a:endCxn id="1077" idx="0"/>
          </p:cNvCxnSpPr>
          <p:nvPr/>
        </p:nvCxnSpPr>
        <p:spPr>
          <a:xfrm flipV="1">
            <a:off x="5689080" y="3152520"/>
            <a:ext cx="280440" cy="30456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35" idx="3"/>
            <a:endCxn id="1079" idx="0"/>
          </p:cNvCxnSpPr>
          <p:nvPr/>
        </p:nvCxnSpPr>
        <p:spPr>
          <a:xfrm flipV="1">
            <a:off x="5562360" y="1069200"/>
            <a:ext cx="407160" cy="472212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080" name=""/>
          <p:cNvCxnSpPr>
            <a:stCxn id="1034" idx="3"/>
            <a:endCxn id="1070" idx="1"/>
          </p:cNvCxnSpPr>
          <p:nvPr/>
        </p:nvCxnSpPr>
        <p:spPr>
          <a:xfrm flipV="1">
            <a:off x="4546440" y="3733200"/>
            <a:ext cx="1423440" cy="1587960"/>
          </a:xfrm>
          <a:prstGeom prst="curvedConnector2">
            <a:avLst/>
          </a:prstGeom>
          <a:ln w="12600">
            <a:solidFill>
              <a:srgbClr val="00cece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1039" idx="3"/>
            <a:endCxn id="1074" idx="1"/>
          </p:cNvCxnSpPr>
          <p:nvPr/>
        </p:nvCxnSpPr>
        <p:spPr>
          <a:xfrm flipV="1">
            <a:off x="3365640" y="2009520"/>
            <a:ext cx="2604240" cy="4582080"/>
          </a:xfrm>
          <a:prstGeom prst="curvedConnector2">
            <a:avLst/>
          </a:prstGeom>
          <a:ln w="12600">
            <a:solidFill>
              <a:srgbClr val="00cece"/>
            </a:solidFill>
            <a:miter/>
            <a:tailEnd len="med" type="triangle" w="med"/>
          </a:ln>
        </p:spPr>
      </p:cxnSp>
      <p:grpSp>
        <p:nvGrpSpPr>
          <p:cNvPr id="1082" name=""/>
          <p:cNvGrpSpPr/>
          <p:nvPr/>
        </p:nvGrpSpPr>
        <p:grpSpPr>
          <a:xfrm>
            <a:off x="2921040" y="825480"/>
            <a:ext cx="2984400" cy="3263760"/>
            <a:chOff x="2921040" y="825480"/>
            <a:chExt cx="2984400" cy="3263760"/>
          </a:xfrm>
        </p:grpSpPr>
        <p:sp>
          <p:nvSpPr>
            <p:cNvPr id="1083" name=""/>
            <p:cNvSpPr/>
            <p:nvPr/>
          </p:nvSpPr>
          <p:spPr>
            <a:xfrm>
              <a:off x="29210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984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47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1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74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38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01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65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28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92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55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19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6828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461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8098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8732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369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003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636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7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90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54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7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381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44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08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1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35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98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62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258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891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528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162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99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433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066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704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337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974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4608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2420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879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28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146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7836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4172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05440" y="825480"/>
              <a:ext cx="0" cy="3263760"/>
            </a:xfrm>
            <a:prstGeom prst="line">
              <a:avLst/>
            </a:prstGeom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2844720" y="141912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44720" y="104148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44720" y="233352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44720" y="294336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44720" y="3324240"/>
            <a:ext cx="3124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844720" y="248616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44720" y="263844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44720" y="182880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44720" y="370512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1981080"/>
            <a:ext cx="3124440" cy="0"/>
          </a:xfrm>
          <a:prstGeom prst="line">
            <a:avLst/>
          </a:prstGeom>
          <a:ln w="5724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44720" y="312408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844720" y="3962520"/>
            <a:ext cx="31244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11480" y="13809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83080" y="13809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114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0258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83080" y="289872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45000" y="327960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483080" y="327960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8880" y="327960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645000" y="2295360"/>
            <a:ext cx="7596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25880" y="22953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168880" y="2295360"/>
            <a:ext cx="76320" cy="76320"/>
          </a:xfrm>
          <a:prstGeom prst="ellipse">
            <a:avLst/>
          </a:prstGeom>
          <a:solidFill>
            <a:srgbClr val="c000c0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ntext in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 addition to keywords, relationships between keywords and documents are exploi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licit link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yper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ed concep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saurus, ont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atial: place, directo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mporal: creation date/ti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96520" indent="-2484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mediate rel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hor/creat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94960" indent="-1987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erence beyond the Ind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etermines relationships between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itations are explicit references to relevant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ibliographic referen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gal ci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ertex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</a:t>
            </a:r>
            <a:br>
              <a:rPr sz="2800"/>
            </a:b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EC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CiteSeer 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&lt;http://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citeseer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5"/>
              </a:rPr>
              <a:t>nj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7"/>
              </a:rPr>
              <a:t>nec</a:t>
            </a:r>
            <a:r>
              <a:rPr b="0" lang="en-US" sz="2800" spc="-1" strike="noStrike" u="sng">
                <a:solidFill>
                  <a:srgbClr val="c000c0"/>
                </a:solidFill>
                <a:uFillTx/>
                <a:latin typeface="Arial"/>
                <a:hlinkClick r:id="rId8"/>
              </a:rPr>
              <a:t>.com&gt;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ditional Information Sour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2071800" y="914400"/>
            <a:ext cx="5149800" cy="571500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3804840" y="658332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, after Kochen 1975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ypertex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r-document links provide explicit relationships between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used to determine the relevance of a document for a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</a:t>
            </a:r>
            <a:br>
              <a:rPr sz="2400"/>
            </a:b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/>
              </a:rPr>
              <a:t>Google &lt;http://www.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2"/>
              </a:rPr>
              <a:t>google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3"/>
              </a:rPr>
              <a:t>.com&gt;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a-document links may offer additional context information for some ter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otnotes, glossaries, relate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daptive Retrieval Techniqu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ne-tuning the matching between queries and retrieved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earning of relationships between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raining with term pairs (thesauru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attern detection in past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ic grouping of documents according to common featur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lustering of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Class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838080" y="1117440"/>
            <a:ext cx="74613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Mode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query types (templates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used types of que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97920" indent="-221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.g. problem/solution, symptoms/diagnosis, problem/further checks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bstractions of query typ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to determine categories or topics for the grouping of search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ext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urrent working document/directo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vious que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rminology Mode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dividual terms are connected to related ter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/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onyms, super-/sub-classes, related ter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labels for the categor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inding Out Abou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9400" y="1447920"/>
            <a:ext cx="5935680" cy="464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9520" y="65833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Belew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tch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iz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termines the categories to be selected for the grouping of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igns retrieved documents to the categ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anges categories into a hierarch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hould be balanced and easy to browse by the 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pends on the distribution of the search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trieved documents are grouped into hierarchically arranged categories meaningful for the us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ategories are related to the 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categories are related to each 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ll categories have similar s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always achievable due to the distribution of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duced search times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igher user satisfaction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807360" y="658332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Pratt, Hearst, Fagan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 approach to the organization of search resul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tegorizes results into meaningful groups that correspond to the user’s que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s knowledge of query types and of the domain terminology to generate hierarchical categor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ied to the domain of medicin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DLINE is an on-line repository of medical abstra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9.2 million bibliographic entries from 3800 journal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956520" indent="-212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ubMed is a web-based search too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275480" indent="-2124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returns titles as an relevance-ranked list 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275480" indent="-2124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links to “related articles”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anCat Resul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228600" y="2052720"/>
            <a:ext cx="8839080" cy="343836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Query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2560680" y="1447920"/>
            <a:ext cx="4174920" cy="464796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Cat Search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248520" cy="548352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3810240" y="658332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ynaCat,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vs.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as main components of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 as match-making fac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tistical basis for selection of relevant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(ordered) list of resul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eywords plus context information for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 plus ontology for matching query and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ationships between keywords and documents influence the selection of relevant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ults are grouped into meaningful categ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Diagra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Discove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 Extra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trieva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Retriev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50:23Z</cp:lastPrinted>
  <dcterms:modified xsi:type="dcterms:W3CDTF">2003-05-01T23:57:33Z</dcterms:modified>
  <cp:revision>78</cp:revision>
  <dc:subject/>
  <dc:title>CSC 480: Artificial Intelligence</dc:title>
</cp:coreProperties>
</file>