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ng" ContentType="image/png"/>
  <Override PartName="/ppt/media/image8.pct" ContentType="image/x-pict"/>
  <Override PartName="/ppt/media/image13.pct" ContentType="image/x-pict"/>
  <Override PartName="/ppt/media/image9.png" ContentType="image/png"/>
  <Override PartName="/ppt/media/image11.pct" ContentType="image/x-pict"/>
  <Override PartName="/ppt/media/image10.png" ContentType="image/png"/>
  <Override PartName="/ppt/media/image12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642100" cy="9777413"/>
  <p:custShowLst>
    <p:custShow name="Lecture 1" id="0">
      <p:sldLst>
        <p:sld r:id="rId8"/>
        <p:sld r:id="rId9"/>
        <p:sld r:id="rId10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</p:sldLst>
    </p:custShow>
    <p:custShow name="Spring 2003" id="1">
      <p:sldLst>
        <p:sld r:id="rId5"/>
        <p:sld r:id="rId8"/>
        <p:sld r:id="rId9"/>
        <p:sld r:id="rId10"/>
        <p:sld r:id="rId12"/>
        <p:sld r:id="rId13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5"/>
        <p:sld r:id="rId5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280" y="6541920"/>
            <a:ext cx="2162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Usage  </a:t>
            </a:r>
            <a:fld id="{E22B2392-CD16-439B-8DE4-B5501DF1154F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in Con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semination, utilization, diffusion, technology transf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dissemination and util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ditional mode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eptual and instrumental u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use as learning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life spa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fulness and accessibility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1280" indent="-2512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life cyc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03360" indent="-2512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ctivities dealing with knowledge throughout its useful lif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Knowledge Utilization?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 clear defini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ften used interchangeably with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dissemin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transf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us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ually assume two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stribution of knowledge, information, or produ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rporation of conceptual or instrumental use of knowledge into relevant activ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Dissemination and Util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ue to a number of factors, existing knowledge is not used effective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riven by the dissemination side (researchers), rather than the knowledge use side (practitioner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18440" indent="-226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ding practical applications of knowledge is often left to potential us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ack of coordinated knowledge utilization activ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18440" indent="-226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d hoc dissemination models, very few attempts at systematic approaches to uti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mbersome accessibil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18440" indent="-226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ding and accessing knowledge has been the domain of specialists (librarians, consultants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ssemination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prea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e-way diffusion or distribution of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s actively seek and acquire knowledge from established or alternative 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rs learn about their op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chan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actions between peop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ulti-directional flow of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ical assistance, training, interpersonal activ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xtension Model of Knowledge 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ational, linear conception of the process of knowledge util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is packaged and moved from one place to anot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ased on the assumption that knowledge can be arranged into definable, useable units that can be transmitted easil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tting the word out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sed on the hope that potential users will hear about it, and be willing and capable to utilize 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es not reflect the use of knowledge in many situ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plex Model of Knowledge 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process usually is not rational nor linea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ultiple sources, multiple media and paths of deliv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dependencies between individual knowledge i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xt may be critic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ransaction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y involve transactions between source (expert) and u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pendent on the background of potential us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36000" indent="-207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-existing knowledge, beliefs, experienc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user is involved in the usage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blem-solv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structor of a personal knowledge ba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ceptual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nges in levels of knowledge, understanding, or attitud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strumental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nges in behavior and practi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rategic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ipulation of knowledge to attain specific go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ower, profit, political gai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Metaphor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abula rasa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learner’s mind is an empty slate upon which people “in the know” impress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earner as a spon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aking up knowledge, largely without filtering or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rain as a comput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cesses information in a systematic fashion as it is received from outside 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e as Learning Proces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ole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ynamic set of understandings influenced by its originators and its us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ole of the learn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ctively filters and shapes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gration into existing knowled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structs models of the the environ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lanations to make sense of the worl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e-existing (mis-)understandings may have to be chang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y result in discrepancies of the mental mode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mensions of Knowledge Util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semination sour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riginator of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itiator of dissemin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w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pporting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semination mediu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ckaging and transmiss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erson or organization to receive and apply the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65484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NCDDR 1996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Life Spa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098720"/>
            <a:ext cx="9118440" cy="515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84400" y="65484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aplan 1997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Life Cyc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4400" y="654840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aplan 1997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tilization of Knowledge Asse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79520" y="1447920"/>
            <a:ext cx="6535800" cy="464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3680" y="65484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onno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Iss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lec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osi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rging of knowledge i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difica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dification of system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eservation of consistenc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motiv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Usage Templ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857160"/>
            <a:ext cx="7772400" cy="582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8368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kyrme 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Benefits Tre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069920"/>
            <a:ext cx="7626240" cy="555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1228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Skyrme 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1999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chnology vs.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8120" y="1498680"/>
            <a:ext cx="7131240" cy="3811680"/>
          </a:xfrm>
          <a:custGeom>
            <a:avLst/>
            <a:gdLst/>
            <a:ahLst/>
            <a:rect l="l" t="t" r="r" b="b"/>
            <a:pathLst>
              <a:path w="4492" h="2401">
                <a:moveTo>
                  <a:pt x="223" y="1030"/>
                </a:moveTo>
                <a:lnTo>
                  <a:pt x="203" y="1021"/>
                </a:lnTo>
                <a:lnTo>
                  <a:pt x="182" y="1002"/>
                </a:lnTo>
                <a:lnTo>
                  <a:pt x="132" y="964"/>
                </a:lnTo>
                <a:lnTo>
                  <a:pt x="112" y="936"/>
                </a:lnTo>
                <a:lnTo>
                  <a:pt x="71" y="907"/>
                </a:lnTo>
                <a:lnTo>
                  <a:pt x="61" y="869"/>
                </a:lnTo>
                <a:lnTo>
                  <a:pt x="30" y="832"/>
                </a:lnTo>
                <a:lnTo>
                  <a:pt x="21" y="812"/>
                </a:lnTo>
                <a:lnTo>
                  <a:pt x="10" y="794"/>
                </a:lnTo>
                <a:lnTo>
                  <a:pt x="10" y="765"/>
                </a:lnTo>
                <a:lnTo>
                  <a:pt x="0" y="747"/>
                </a:lnTo>
                <a:lnTo>
                  <a:pt x="0" y="727"/>
                </a:lnTo>
                <a:lnTo>
                  <a:pt x="0" y="709"/>
                </a:lnTo>
                <a:lnTo>
                  <a:pt x="21" y="699"/>
                </a:lnTo>
                <a:lnTo>
                  <a:pt x="41" y="690"/>
                </a:lnTo>
                <a:lnTo>
                  <a:pt x="61" y="680"/>
                </a:lnTo>
                <a:lnTo>
                  <a:pt x="82" y="662"/>
                </a:lnTo>
                <a:lnTo>
                  <a:pt x="102" y="652"/>
                </a:lnTo>
                <a:lnTo>
                  <a:pt x="112" y="633"/>
                </a:lnTo>
                <a:lnTo>
                  <a:pt x="132" y="624"/>
                </a:lnTo>
                <a:lnTo>
                  <a:pt x="143" y="595"/>
                </a:lnTo>
                <a:lnTo>
                  <a:pt x="162" y="577"/>
                </a:lnTo>
                <a:lnTo>
                  <a:pt x="173" y="557"/>
                </a:lnTo>
                <a:lnTo>
                  <a:pt x="173" y="539"/>
                </a:lnTo>
                <a:lnTo>
                  <a:pt x="173" y="510"/>
                </a:lnTo>
                <a:lnTo>
                  <a:pt x="173" y="492"/>
                </a:lnTo>
                <a:lnTo>
                  <a:pt x="162" y="463"/>
                </a:lnTo>
                <a:lnTo>
                  <a:pt x="152" y="444"/>
                </a:lnTo>
                <a:lnTo>
                  <a:pt x="143" y="425"/>
                </a:lnTo>
                <a:lnTo>
                  <a:pt x="122" y="416"/>
                </a:lnTo>
                <a:lnTo>
                  <a:pt x="102" y="397"/>
                </a:lnTo>
                <a:lnTo>
                  <a:pt x="91" y="378"/>
                </a:lnTo>
                <a:lnTo>
                  <a:pt x="71" y="340"/>
                </a:lnTo>
                <a:lnTo>
                  <a:pt x="71" y="322"/>
                </a:lnTo>
                <a:lnTo>
                  <a:pt x="82" y="302"/>
                </a:lnTo>
                <a:lnTo>
                  <a:pt x="102" y="302"/>
                </a:lnTo>
                <a:lnTo>
                  <a:pt x="112" y="283"/>
                </a:lnTo>
                <a:lnTo>
                  <a:pt x="132" y="265"/>
                </a:lnTo>
                <a:lnTo>
                  <a:pt x="152" y="255"/>
                </a:lnTo>
                <a:lnTo>
                  <a:pt x="182" y="245"/>
                </a:lnTo>
                <a:lnTo>
                  <a:pt x="203" y="237"/>
                </a:lnTo>
                <a:lnTo>
                  <a:pt x="223" y="237"/>
                </a:lnTo>
                <a:lnTo>
                  <a:pt x="243" y="227"/>
                </a:lnTo>
                <a:lnTo>
                  <a:pt x="264" y="227"/>
                </a:lnTo>
                <a:lnTo>
                  <a:pt x="295" y="208"/>
                </a:lnTo>
                <a:lnTo>
                  <a:pt x="334" y="180"/>
                </a:lnTo>
                <a:lnTo>
                  <a:pt x="365" y="170"/>
                </a:lnTo>
                <a:lnTo>
                  <a:pt x="386" y="142"/>
                </a:lnTo>
                <a:lnTo>
                  <a:pt x="406" y="123"/>
                </a:lnTo>
                <a:lnTo>
                  <a:pt x="436" y="104"/>
                </a:lnTo>
                <a:lnTo>
                  <a:pt x="456" y="85"/>
                </a:lnTo>
                <a:lnTo>
                  <a:pt x="477" y="85"/>
                </a:lnTo>
                <a:lnTo>
                  <a:pt x="497" y="75"/>
                </a:lnTo>
                <a:lnTo>
                  <a:pt x="517" y="66"/>
                </a:lnTo>
                <a:lnTo>
                  <a:pt x="547" y="66"/>
                </a:lnTo>
                <a:lnTo>
                  <a:pt x="568" y="75"/>
                </a:lnTo>
                <a:lnTo>
                  <a:pt x="588" y="85"/>
                </a:lnTo>
                <a:lnTo>
                  <a:pt x="608" y="104"/>
                </a:lnTo>
                <a:lnTo>
                  <a:pt x="629" y="113"/>
                </a:lnTo>
                <a:lnTo>
                  <a:pt x="649" y="123"/>
                </a:lnTo>
                <a:lnTo>
                  <a:pt x="679" y="142"/>
                </a:lnTo>
                <a:lnTo>
                  <a:pt x="699" y="142"/>
                </a:lnTo>
                <a:lnTo>
                  <a:pt x="730" y="132"/>
                </a:lnTo>
                <a:lnTo>
                  <a:pt x="751" y="123"/>
                </a:lnTo>
                <a:lnTo>
                  <a:pt x="771" y="113"/>
                </a:lnTo>
                <a:lnTo>
                  <a:pt x="812" y="113"/>
                </a:lnTo>
                <a:lnTo>
                  <a:pt x="821" y="95"/>
                </a:lnTo>
                <a:lnTo>
                  <a:pt x="851" y="95"/>
                </a:lnTo>
                <a:lnTo>
                  <a:pt x="872" y="75"/>
                </a:lnTo>
                <a:lnTo>
                  <a:pt x="903" y="66"/>
                </a:lnTo>
                <a:lnTo>
                  <a:pt x="923" y="57"/>
                </a:lnTo>
                <a:lnTo>
                  <a:pt x="953" y="47"/>
                </a:lnTo>
                <a:lnTo>
                  <a:pt x="994" y="38"/>
                </a:lnTo>
                <a:lnTo>
                  <a:pt x="1014" y="38"/>
                </a:lnTo>
                <a:lnTo>
                  <a:pt x="1064" y="28"/>
                </a:lnTo>
                <a:lnTo>
                  <a:pt x="1105" y="28"/>
                </a:lnTo>
                <a:lnTo>
                  <a:pt x="1136" y="10"/>
                </a:lnTo>
                <a:lnTo>
                  <a:pt x="1176" y="10"/>
                </a:lnTo>
                <a:lnTo>
                  <a:pt x="1207" y="10"/>
                </a:lnTo>
                <a:lnTo>
                  <a:pt x="1227" y="19"/>
                </a:lnTo>
                <a:lnTo>
                  <a:pt x="1247" y="19"/>
                </a:lnTo>
                <a:lnTo>
                  <a:pt x="1277" y="28"/>
                </a:lnTo>
                <a:lnTo>
                  <a:pt x="1288" y="47"/>
                </a:lnTo>
                <a:lnTo>
                  <a:pt x="1308" y="66"/>
                </a:lnTo>
                <a:lnTo>
                  <a:pt x="1338" y="85"/>
                </a:lnTo>
                <a:lnTo>
                  <a:pt x="1359" y="95"/>
                </a:lnTo>
                <a:lnTo>
                  <a:pt x="1379" y="95"/>
                </a:lnTo>
                <a:lnTo>
                  <a:pt x="1399" y="113"/>
                </a:lnTo>
                <a:lnTo>
                  <a:pt x="1420" y="113"/>
                </a:lnTo>
                <a:lnTo>
                  <a:pt x="1450" y="95"/>
                </a:lnTo>
                <a:lnTo>
                  <a:pt x="1470" y="95"/>
                </a:lnTo>
                <a:lnTo>
                  <a:pt x="1500" y="75"/>
                </a:lnTo>
                <a:lnTo>
                  <a:pt x="1520" y="66"/>
                </a:lnTo>
                <a:lnTo>
                  <a:pt x="1551" y="57"/>
                </a:lnTo>
                <a:lnTo>
                  <a:pt x="1592" y="38"/>
                </a:lnTo>
                <a:lnTo>
                  <a:pt x="1612" y="28"/>
                </a:lnTo>
                <a:lnTo>
                  <a:pt x="1653" y="19"/>
                </a:lnTo>
                <a:lnTo>
                  <a:pt x="1693" y="0"/>
                </a:lnTo>
                <a:lnTo>
                  <a:pt x="1744" y="0"/>
                </a:lnTo>
                <a:lnTo>
                  <a:pt x="1774" y="0"/>
                </a:lnTo>
                <a:lnTo>
                  <a:pt x="1794" y="0"/>
                </a:lnTo>
                <a:lnTo>
                  <a:pt x="1845" y="0"/>
                </a:lnTo>
                <a:lnTo>
                  <a:pt x="1876" y="0"/>
                </a:lnTo>
                <a:lnTo>
                  <a:pt x="1906" y="0"/>
                </a:lnTo>
                <a:lnTo>
                  <a:pt x="1946" y="0"/>
                </a:lnTo>
                <a:lnTo>
                  <a:pt x="1967" y="10"/>
                </a:lnTo>
                <a:lnTo>
                  <a:pt x="1997" y="19"/>
                </a:lnTo>
                <a:lnTo>
                  <a:pt x="2007" y="38"/>
                </a:lnTo>
                <a:lnTo>
                  <a:pt x="2017" y="57"/>
                </a:lnTo>
                <a:lnTo>
                  <a:pt x="2058" y="75"/>
                </a:lnTo>
                <a:lnTo>
                  <a:pt x="2078" y="85"/>
                </a:lnTo>
                <a:lnTo>
                  <a:pt x="2098" y="95"/>
                </a:lnTo>
                <a:lnTo>
                  <a:pt x="2119" y="95"/>
                </a:lnTo>
                <a:lnTo>
                  <a:pt x="2159" y="113"/>
                </a:lnTo>
                <a:lnTo>
                  <a:pt x="2180" y="113"/>
                </a:lnTo>
                <a:lnTo>
                  <a:pt x="2210" y="104"/>
                </a:lnTo>
                <a:lnTo>
                  <a:pt x="2230" y="104"/>
                </a:lnTo>
                <a:lnTo>
                  <a:pt x="2271" y="95"/>
                </a:lnTo>
                <a:lnTo>
                  <a:pt x="2302" y="85"/>
                </a:lnTo>
                <a:lnTo>
                  <a:pt x="2341" y="75"/>
                </a:lnTo>
                <a:lnTo>
                  <a:pt x="2362" y="75"/>
                </a:lnTo>
                <a:lnTo>
                  <a:pt x="2413" y="57"/>
                </a:lnTo>
                <a:lnTo>
                  <a:pt x="2463" y="57"/>
                </a:lnTo>
                <a:lnTo>
                  <a:pt x="2504" y="57"/>
                </a:lnTo>
                <a:lnTo>
                  <a:pt x="2545" y="28"/>
                </a:lnTo>
                <a:lnTo>
                  <a:pt x="2606" y="19"/>
                </a:lnTo>
                <a:lnTo>
                  <a:pt x="2656" y="19"/>
                </a:lnTo>
                <a:lnTo>
                  <a:pt x="2697" y="10"/>
                </a:lnTo>
                <a:lnTo>
                  <a:pt x="2737" y="10"/>
                </a:lnTo>
                <a:lnTo>
                  <a:pt x="2778" y="10"/>
                </a:lnTo>
                <a:lnTo>
                  <a:pt x="2828" y="10"/>
                </a:lnTo>
                <a:lnTo>
                  <a:pt x="2869" y="10"/>
                </a:lnTo>
                <a:lnTo>
                  <a:pt x="2889" y="10"/>
                </a:lnTo>
                <a:lnTo>
                  <a:pt x="2930" y="10"/>
                </a:lnTo>
                <a:lnTo>
                  <a:pt x="2950" y="10"/>
                </a:lnTo>
                <a:lnTo>
                  <a:pt x="2971" y="19"/>
                </a:lnTo>
                <a:lnTo>
                  <a:pt x="3010" y="19"/>
                </a:lnTo>
                <a:lnTo>
                  <a:pt x="3041" y="38"/>
                </a:lnTo>
                <a:lnTo>
                  <a:pt x="3092" y="85"/>
                </a:lnTo>
                <a:lnTo>
                  <a:pt x="3112" y="95"/>
                </a:lnTo>
                <a:lnTo>
                  <a:pt x="3132" y="95"/>
                </a:lnTo>
                <a:lnTo>
                  <a:pt x="3153" y="95"/>
                </a:lnTo>
                <a:lnTo>
                  <a:pt x="3193" y="95"/>
                </a:lnTo>
                <a:lnTo>
                  <a:pt x="3214" y="95"/>
                </a:lnTo>
                <a:lnTo>
                  <a:pt x="3234" y="85"/>
                </a:lnTo>
                <a:lnTo>
                  <a:pt x="3284" y="85"/>
                </a:lnTo>
                <a:lnTo>
                  <a:pt x="3315" y="57"/>
                </a:lnTo>
                <a:lnTo>
                  <a:pt x="3355" y="57"/>
                </a:lnTo>
                <a:lnTo>
                  <a:pt x="3386" y="47"/>
                </a:lnTo>
                <a:lnTo>
                  <a:pt x="3436" y="47"/>
                </a:lnTo>
                <a:lnTo>
                  <a:pt x="3497" y="38"/>
                </a:lnTo>
                <a:lnTo>
                  <a:pt x="3518" y="19"/>
                </a:lnTo>
                <a:lnTo>
                  <a:pt x="3568" y="19"/>
                </a:lnTo>
                <a:lnTo>
                  <a:pt x="3588" y="19"/>
                </a:lnTo>
                <a:lnTo>
                  <a:pt x="3629" y="19"/>
                </a:lnTo>
                <a:lnTo>
                  <a:pt x="3649" y="19"/>
                </a:lnTo>
                <a:lnTo>
                  <a:pt x="3679" y="28"/>
                </a:lnTo>
                <a:lnTo>
                  <a:pt x="3710" y="38"/>
                </a:lnTo>
                <a:lnTo>
                  <a:pt x="3740" y="47"/>
                </a:lnTo>
                <a:lnTo>
                  <a:pt x="3771" y="57"/>
                </a:lnTo>
                <a:lnTo>
                  <a:pt x="3792" y="75"/>
                </a:lnTo>
                <a:lnTo>
                  <a:pt x="3832" y="85"/>
                </a:lnTo>
                <a:lnTo>
                  <a:pt x="3872" y="104"/>
                </a:lnTo>
                <a:lnTo>
                  <a:pt x="3903" y="123"/>
                </a:lnTo>
                <a:lnTo>
                  <a:pt x="3964" y="142"/>
                </a:lnTo>
                <a:lnTo>
                  <a:pt x="3994" y="142"/>
                </a:lnTo>
                <a:lnTo>
                  <a:pt x="4014" y="151"/>
                </a:lnTo>
                <a:lnTo>
                  <a:pt x="4035" y="170"/>
                </a:lnTo>
                <a:lnTo>
                  <a:pt x="4075" y="198"/>
                </a:lnTo>
                <a:lnTo>
                  <a:pt x="4096" y="208"/>
                </a:lnTo>
                <a:lnTo>
                  <a:pt x="4096" y="227"/>
                </a:lnTo>
                <a:lnTo>
                  <a:pt x="4136" y="265"/>
                </a:lnTo>
                <a:lnTo>
                  <a:pt x="4146" y="293"/>
                </a:lnTo>
                <a:lnTo>
                  <a:pt x="4176" y="330"/>
                </a:lnTo>
                <a:lnTo>
                  <a:pt x="4196" y="369"/>
                </a:lnTo>
                <a:lnTo>
                  <a:pt x="4207" y="387"/>
                </a:lnTo>
                <a:lnTo>
                  <a:pt x="4227" y="407"/>
                </a:lnTo>
                <a:lnTo>
                  <a:pt x="4227" y="425"/>
                </a:lnTo>
                <a:lnTo>
                  <a:pt x="4227" y="444"/>
                </a:lnTo>
                <a:lnTo>
                  <a:pt x="4217" y="472"/>
                </a:lnTo>
                <a:lnTo>
                  <a:pt x="4207" y="492"/>
                </a:lnTo>
                <a:lnTo>
                  <a:pt x="4207" y="510"/>
                </a:lnTo>
                <a:lnTo>
                  <a:pt x="4207" y="557"/>
                </a:lnTo>
                <a:lnTo>
                  <a:pt x="4207" y="586"/>
                </a:lnTo>
                <a:lnTo>
                  <a:pt x="4207" y="605"/>
                </a:lnTo>
                <a:lnTo>
                  <a:pt x="4217" y="624"/>
                </a:lnTo>
                <a:lnTo>
                  <a:pt x="4227" y="671"/>
                </a:lnTo>
                <a:lnTo>
                  <a:pt x="4248" y="690"/>
                </a:lnTo>
                <a:lnTo>
                  <a:pt x="4257" y="718"/>
                </a:lnTo>
                <a:lnTo>
                  <a:pt x="4278" y="765"/>
                </a:lnTo>
                <a:lnTo>
                  <a:pt x="4288" y="794"/>
                </a:lnTo>
                <a:lnTo>
                  <a:pt x="4329" y="832"/>
                </a:lnTo>
                <a:lnTo>
                  <a:pt x="4339" y="869"/>
                </a:lnTo>
                <a:lnTo>
                  <a:pt x="4348" y="907"/>
                </a:lnTo>
                <a:lnTo>
                  <a:pt x="4359" y="945"/>
                </a:lnTo>
                <a:lnTo>
                  <a:pt x="4359" y="964"/>
                </a:lnTo>
                <a:lnTo>
                  <a:pt x="4369" y="983"/>
                </a:lnTo>
                <a:lnTo>
                  <a:pt x="4359" y="1039"/>
                </a:lnTo>
                <a:lnTo>
                  <a:pt x="4348" y="1059"/>
                </a:lnTo>
                <a:lnTo>
                  <a:pt x="4339" y="1106"/>
                </a:lnTo>
                <a:lnTo>
                  <a:pt x="4318" y="1144"/>
                </a:lnTo>
                <a:lnTo>
                  <a:pt x="4309" y="1181"/>
                </a:lnTo>
                <a:lnTo>
                  <a:pt x="4298" y="1209"/>
                </a:lnTo>
                <a:lnTo>
                  <a:pt x="4288" y="1229"/>
                </a:lnTo>
                <a:lnTo>
                  <a:pt x="4278" y="1257"/>
                </a:lnTo>
                <a:lnTo>
                  <a:pt x="4278" y="1304"/>
                </a:lnTo>
                <a:lnTo>
                  <a:pt x="4278" y="1323"/>
                </a:lnTo>
                <a:lnTo>
                  <a:pt x="4278" y="1342"/>
                </a:lnTo>
                <a:lnTo>
                  <a:pt x="4298" y="1389"/>
                </a:lnTo>
                <a:lnTo>
                  <a:pt x="4318" y="1408"/>
                </a:lnTo>
                <a:lnTo>
                  <a:pt x="4348" y="1446"/>
                </a:lnTo>
                <a:lnTo>
                  <a:pt x="4369" y="1464"/>
                </a:lnTo>
                <a:lnTo>
                  <a:pt x="4369" y="1484"/>
                </a:lnTo>
                <a:lnTo>
                  <a:pt x="4400" y="1521"/>
                </a:lnTo>
                <a:lnTo>
                  <a:pt x="4420" y="1541"/>
                </a:lnTo>
                <a:lnTo>
                  <a:pt x="4450" y="1569"/>
                </a:lnTo>
                <a:lnTo>
                  <a:pt x="4470" y="1588"/>
                </a:lnTo>
                <a:lnTo>
                  <a:pt x="4491" y="1597"/>
                </a:lnTo>
                <a:lnTo>
                  <a:pt x="4481" y="1616"/>
                </a:lnTo>
                <a:lnTo>
                  <a:pt x="4470" y="1635"/>
                </a:lnTo>
                <a:lnTo>
                  <a:pt x="4461" y="1654"/>
                </a:lnTo>
                <a:lnTo>
                  <a:pt x="4430" y="1673"/>
                </a:lnTo>
                <a:lnTo>
                  <a:pt x="4420" y="1711"/>
                </a:lnTo>
                <a:lnTo>
                  <a:pt x="4400" y="1729"/>
                </a:lnTo>
                <a:lnTo>
                  <a:pt x="4379" y="1805"/>
                </a:lnTo>
                <a:lnTo>
                  <a:pt x="4379" y="1824"/>
                </a:lnTo>
                <a:lnTo>
                  <a:pt x="4369" y="1843"/>
                </a:lnTo>
                <a:lnTo>
                  <a:pt x="4369" y="1861"/>
                </a:lnTo>
                <a:lnTo>
                  <a:pt x="4379" y="1881"/>
                </a:lnTo>
                <a:lnTo>
                  <a:pt x="4379" y="1909"/>
                </a:lnTo>
                <a:lnTo>
                  <a:pt x="4379" y="1928"/>
                </a:lnTo>
                <a:lnTo>
                  <a:pt x="4389" y="1946"/>
                </a:lnTo>
                <a:lnTo>
                  <a:pt x="4389" y="1975"/>
                </a:lnTo>
                <a:lnTo>
                  <a:pt x="4389" y="1994"/>
                </a:lnTo>
                <a:lnTo>
                  <a:pt x="4369" y="2031"/>
                </a:lnTo>
                <a:lnTo>
                  <a:pt x="4359" y="2051"/>
                </a:lnTo>
                <a:lnTo>
                  <a:pt x="4329" y="2070"/>
                </a:lnTo>
                <a:lnTo>
                  <a:pt x="4309" y="2088"/>
                </a:lnTo>
                <a:lnTo>
                  <a:pt x="4257" y="2098"/>
                </a:lnTo>
                <a:lnTo>
                  <a:pt x="4248" y="2117"/>
                </a:lnTo>
                <a:lnTo>
                  <a:pt x="4207" y="2126"/>
                </a:lnTo>
                <a:lnTo>
                  <a:pt x="4176" y="2136"/>
                </a:lnTo>
                <a:lnTo>
                  <a:pt x="4157" y="2145"/>
                </a:lnTo>
                <a:lnTo>
                  <a:pt x="4136" y="2164"/>
                </a:lnTo>
                <a:lnTo>
                  <a:pt x="4116" y="2164"/>
                </a:lnTo>
                <a:lnTo>
                  <a:pt x="4096" y="2173"/>
                </a:lnTo>
                <a:lnTo>
                  <a:pt x="4065" y="2173"/>
                </a:lnTo>
                <a:lnTo>
                  <a:pt x="4035" y="2173"/>
                </a:lnTo>
                <a:lnTo>
                  <a:pt x="4014" y="2173"/>
                </a:lnTo>
                <a:lnTo>
                  <a:pt x="3994" y="2164"/>
                </a:lnTo>
                <a:lnTo>
                  <a:pt x="3974" y="2164"/>
                </a:lnTo>
                <a:lnTo>
                  <a:pt x="3953" y="2155"/>
                </a:lnTo>
                <a:lnTo>
                  <a:pt x="3933" y="2155"/>
                </a:lnTo>
                <a:lnTo>
                  <a:pt x="3903" y="2155"/>
                </a:lnTo>
                <a:lnTo>
                  <a:pt x="3862" y="2164"/>
                </a:lnTo>
                <a:lnTo>
                  <a:pt x="3832" y="2173"/>
                </a:lnTo>
                <a:lnTo>
                  <a:pt x="3781" y="2173"/>
                </a:lnTo>
                <a:lnTo>
                  <a:pt x="3761" y="2183"/>
                </a:lnTo>
                <a:lnTo>
                  <a:pt x="3740" y="2193"/>
                </a:lnTo>
                <a:lnTo>
                  <a:pt x="3690" y="2202"/>
                </a:lnTo>
                <a:lnTo>
                  <a:pt x="3649" y="2221"/>
                </a:lnTo>
                <a:lnTo>
                  <a:pt x="3619" y="2230"/>
                </a:lnTo>
                <a:lnTo>
                  <a:pt x="3588" y="2249"/>
                </a:lnTo>
                <a:lnTo>
                  <a:pt x="3558" y="2278"/>
                </a:lnTo>
                <a:lnTo>
                  <a:pt x="3538" y="2287"/>
                </a:lnTo>
                <a:lnTo>
                  <a:pt x="3527" y="2306"/>
                </a:lnTo>
                <a:lnTo>
                  <a:pt x="3518" y="2325"/>
                </a:lnTo>
                <a:lnTo>
                  <a:pt x="3507" y="2343"/>
                </a:lnTo>
                <a:lnTo>
                  <a:pt x="3488" y="2363"/>
                </a:lnTo>
                <a:lnTo>
                  <a:pt x="3467" y="2372"/>
                </a:lnTo>
                <a:lnTo>
                  <a:pt x="3447" y="2381"/>
                </a:lnTo>
                <a:lnTo>
                  <a:pt x="3427" y="2391"/>
                </a:lnTo>
                <a:lnTo>
                  <a:pt x="3406" y="2400"/>
                </a:lnTo>
                <a:lnTo>
                  <a:pt x="3366" y="2400"/>
                </a:lnTo>
                <a:lnTo>
                  <a:pt x="3315" y="2400"/>
                </a:lnTo>
                <a:lnTo>
                  <a:pt x="3264" y="2400"/>
                </a:lnTo>
                <a:lnTo>
                  <a:pt x="3214" y="2391"/>
                </a:lnTo>
                <a:lnTo>
                  <a:pt x="3163" y="2372"/>
                </a:lnTo>
                <a:lnTo>
                  <a:pt x="3123" y="2353"/>
                </a:lnTo>
                <a:lnTo>
                  <a:pt x="3071" y="2334"/>
                </a:lnTo>
                <a:lnTo>
                  <a:pt x="3051" y="2315"/>
                </a:lnTo>
                <a:lnTo>
                  <a:pt x="3031" y="2306"/>
                </a:lnTo>
                <a:lnTo>
                  <a:pt x="3031" y="2287"/>
                </a:lnTo>
                <a:lnTo>
                  <a:pt x="3010" y="2278"/>
                </a:lnTo>
                <a:lnTo>
                  <a:pt x="2971" y="2258"/>
                </a:lnTo>
                <a:lnTo>
                  <a:pt x="2950" y="2249"/>
                </a:lnTo>
                <a:lnTo>
                  <a:pt x="2919" y="2249"/>
                </a:lnTo>
                <a:lnTo>
                  <a:pt x="2899" y="2240"/>
                </a:lnTo>
                <a:lnTo>
                  <a:pt x="2879" y="2240"/>
                </a:lnTo>
                <a:lnTo>
                  <a:pt x="2828" y="2240"/>
                </a:lnTo>
                <a:lnTo>
                  <a:pt x="2767" y="2230"/>
                </a:lnTo>
                <a:lnTo>
                  <a:pt x="2717" y="2230"/>
                </a:lnTo>
                <a:lnTo>
                  <a:pt x="2666" y="2221"/>
                </a:lnTo>
                <a:lnTo>
                  <a:pt x="2606" y="2211"/>
                </a:lnTo>
                <a:lnTo>
                  <a:pt x="2554" y="2211"/>
                </a:lnTo>
                <a:lnTo>
                  <a:pt x="2504" y="2211"/>
                </a:lnTo>
                <a:lnTo>
                  <a:pt x="2463" y="2211"/>
                </a:lnTo>
                <a:lnTo>
                  <a:pt x="2443" y="2211"/>
                </a:lnTo>
                <a:lnTo>
                  <a:pt x="2413" y="2211"/>
                </a:lnTo>
                <a:lnTo>
                  <a:pt x="2372" y="2211"/>
                </a:lnTo>
                <a:lnTo>
                  <a:pt x="2352" y="2211"/>
                </a:lnTo>
                <a:lnTo>
                  <a:pt x="2322" y="2221"/>
                </a:lnTo>
                <a:lnTo>
                  <a:pt x="2291" y="2230"/>
                </a:lnTo>
                <a:lnTo>
                  <a:pt x="2261" y="2249"/>
                </a:lnTo>
                <a:lnTo>
                  <a:pt x="2200" y="2268"/>
                </a:lnTo>
                <a:lnTo>
                  <a:pt x="2159" y="2296"/>
                </a:lnTo>
                <a:lnTo>
                  <a:pt x="2139" y="2315"/>
                </a:lnTo>
                <a:lnTo>
                  <a:pt x="2098" y="2334"/>
                </a:lnTo>
                <a:lnTo>
                  <a:pt x="2078" y="2343"/>
                </a:lnTo>
                <a:lnTo>
                  <a:pt x="2037" y="2353"/>
                </a:lnTo>
                <a:lnTo>
                  <a:pt x="2017" y="2363"/>
                </a:lnTo>
                <a:lnTo>
                  <a:pt x="1997" y="2372"/>
                </a:lnTo>
                <a:lnTo>
                  <a:pt x="1957" y="2381"/>
                </a:lnTo>
                <a:lnTo>
                  <a:pt x="1937" y="2381"/>
                </a:lnTo>
                <a:lnTo>
                  <a:pt x="1885" y="2381"/>
                </a:lnTo>
                <a:lnTo>
                  <a:pt x="1835" y="2381"/>
                </a:lnTo>
                <a:lnTo>
                  <a:pt x="1785" y="2381"/>
                </a:lnTo>
                <a:lnTo>
                  <a:pt x="1733" y="2381"/>
                </a:lnTo>
                <a:lnTo>
                  <a:pt x="1683" y="2381"/>
                </a:lnTo>
                <a:lnTo>
                  <a:pt x="1622" y="2372"/>
                </a:lnTo>
                <a:lnTo>
                  <a:pt x="1541" y="2372"/>
                </a:lnTo>
                <a:lnTo>
                  <a:pt x="1470" y="2353"/>
                </a:lnTo>
                <a:lnTo>
                  <a:pt x="1420" y="2353"/>
                </a:lnTo>
                <a:lnTo>
                  <a:pt x="1359" y="2343"/>
                </a:lnTo>
                <a:lnTo>
                  <a:pt x="1318" y="2325"/>
                </a:lnTo>
                <a:lnTo>
                  <a:pt x="1277" y="2306"/>
                </a:lnTo>
                <a:lnTo>
                  <a:pt x="1247" y="2296"/>
                </a:lnTo>
                <a:lnTo>
                  <a:pt x="1196" y="2287"/>
                </a:lnTo>
                <a:lnTo>
                  <a:pt x="1166" y="2258"/>
                </a:lnTo>
                <a:lnTo>
                  <a:pt x="1116" y="2240"/>
                </a:lnTo>
                <a:lnTo>
                  <a:pt x="1095" y="2221"/>
                </a:lnTo>
                <a:lnTo>
                  <a:pt x="1075" y="2211"/>
                </a:lnTo>
                <a:lnTo>
                  <a:pt x="1024" y="2202"/>
                </a:lnTo>
                <a:lnTo>
                  <a:pt x="973" y="2183"/>
                </a:lnTo>
                <a:lnTo>
                  <a:pt x="933" y="2183"/>
                </a:lnTo>
                <a:lnTo>
                  <a:pt x="903" y="2183"/>
                </a:lnTo>
                <a:lnTo>
                  <a:pt x="851" y="2183"/>
                </a:lnTo>
                <a:lnTo>
                  <a:pt x="812" y="2183"/>
                </a:lnTo>
                <a:lnTo>
                  <a:pt x="781" y="2183"/>
                </a:lnTo>
                <a:lnTo>
                  <a:pt x="720" y="2183"/>
                </a:lnTo>
                <a:lnTo>
                  <a:pt x="690" y="2183"/>
                </a:lnTo>
                <a:lnTo>
                  <a:pt x="649" y="2193"/>
                </a:lnTo>
                <a:lnTo>
                  <a:pt x="619" y="2202"/>
                </a:lnTo>
                <a:lnTo>
                  <a:pt x="588" y="2211"/>
                </a:lnTo>
                <a:lnTo>
                  <a:pt x="558" y="2211"/>
                </a:lnTo>
                <a:lnTo>
                  <a:pt x="527" y="2221"/>
                </a:lnTo>
                <a:lnTo>
                  <a:pt x="497" y="2230"/>
                </a:lnTo>
                <a:lnTo>
                  <a:pt x="467" y="2240"/>
                </a:lnTo>
                <a:lnTo>
                  <a:pt x="447" y="2240"/>
                </a:lnTo>
                <a:lnTo>
                  <a:pt x="416" y="2240"/>
                </a:lnTo>
                <a:lnTo>
                  <a:pt x="395" y="2240"/>
                </a:lnTo>
                <a:lnTo>
                  <a:pt x="355" y="2240"/>
                </a:lnTo>
                <a:lnTo>
                  <a:pt x="325" y="2230"/>
                </a:lnTo>
                <a:lnTo>
                  <a:pt x="295" y="2211"/>
                </a:lnTo>
                <a:lnTo>
                  <a:pt x="274" y="2183"/>
                </a:lnTo>
                <a:lnTo>
                  <a:pt x="243" y="2136"/>
                </a:lnTo>
                <a:lnTo>
                  <a:pt x="243" y="2108"/>
                </a:lnTo>
                <a:lnTo>
                  <a:pt x="234" y="2088"/>
                </a:lnTo>
                <a:lnTo>
                  <a:pt x="234" y="2060"/>
                </a:lnTo>
                <a:lnTo>
                  <a:pt x="223" y="2023"/>
                </a:lnTo>
                <a:lnTo>
                  <a:pt x="223" y="1975"/>
                </a:lnTo>
                <a:lnTo>
                  <a:pt x="234" y="1956"/>
                </a:lnTo>
                <a:lnTo>
                  <a:pt x="243" y="1938"/>
                </a:lnTo>
                <a:lnTo>
                  <a:pt x="254" y="1918"/>
                </a:lnTo>
                <a:lnTo>
                  <a:pt x="254" y="1899"/>
                </a:lnTo>
                <a:lnTo>
                  <a:pt x="254" y="1871"/>
                </a:lnTo>
                <a:lnTo>
                  <a:pt x="274" y="1843"/>
                </a:lnTo>
                <a:lnTo>
                  <a:pt x="295" y="1824"/>
                </a:lnTo>
                <a:lnTo>
                  <a:pt x="295" y="1805"/>
                </a:lnTo>
                <a:lnTo>
                  <a:pt x="304" y="1786"/>
                </a:lnTo>
                <a:lnTo>
                  <a:pt x="315" y="1758"/>
                </a:lnTo>
                <a:lnTo>
                  <a:pt x="315" y="1729"/>
                </a:lnTo>
                <a:lnTo>
                  <a:pt x="325" y="1711"/>
                </a:lnTo>
                <a:lnTo>
                  <a:pt x="325" y="1691"/>
                </a:lnTo>
                <a:lnTo>
                  <a:pt x="334" y="1673"/>
                </a:lnTo>
                <a:lnTo>
                  <a:pt x="334" y="1654"/>
                </a:lnTo>
                <a:lnTo>
                  <a:pt x="334" y="1635"/>
                </a:lnTo>
                <a:lnTo>
                  <a:pt x="334" y="1606"/>
                </a:lnTo>
                <a:lnTo>
                  <a:pt x="334" y="1578"/>
                </a:lnTo>
                <a:lnTo>
                  <a:pt x="315" y="1550"/>
                </a:lnTo>
                <a:lnTo>
                  <a:pt x="304" y="1521"/>
                </a:lnTo>
                <a:lnTo>
                  <a:pt x="284" y="1493"/>
                </a:lnTo>
                <a:lnTo>
                  <a:pt x="254" y="1484"/>
                </a:lnTo>
                <a:lnTo>
                  <a:pt x="234" y="1446"/>
                </a:lnTo>
                <a:lnTo>
                  <a:pt x="213" y="1446"/>
                </a:lnTo>
                <a:lnTo>
                  <a:pt x="203" y="1427"/>
                </a:lnTo>
                <a:lnTo>
                  <a:pt x="173" y="1417"/>
                </a:lnTo>
                <a:lnTo>
                  <a:pt x="152" y="1417"/>
                </a:lnTo>
                <a:lnTo>
                  <a:pt x="132" y="1399"/>
                </a:lnTo>
                <a:lnTo>
                  <a:pt x="122" y="1379"/>
                </a:lnTo>
                <a:lnTo>
                  <a:pt x="122" y="1351"/>
                </a:lnTo>
                <a:lnTo>
                  <a:pt x="143" y="1332"/>
                </a:lnTo>
                <a:lnTo>
                  <a:pt x="152" y="1314"/>
                </a:lnTo>
                <a:lnTo>
                  <a:pt x="152" y="1294"/>
                </a:lnTo>
                <a:lnTo>
                  <a:pt x="173" y="1276"/>
                </a:lnTo>
                <a:lnTo>
                  <a:pt x="182" y="1257"/>
                </a:lnTo>
                <a:lnTo>
                  <a:pt x="203" y="1238"/>
                </a:lnTo>
                <a:lnTo>
                  <a:pt x="213" y="1209"/>
                </a:lnTo>
                <a:lnTo>
                  <a:pt x="223" y="1191"/>
                </a:lnTo>
                <a:lnTo>
                  <a:pt x="234" y="1172"/>
                </a:lnTo>
                <a:lnTo>
                  <a:pt x="234" y="1153"/>
                </a:lnTo>
                <a:lnTo>
                  <a:pt x="243" y="1134"/>
                </a:lnTo>
                <a:lnTo>
                  <a:pt x="234" y="1115"/>
                </a:lnTo>
                <a:lnTo>
                  <a:pt x="223" y="1096"/>
                </a:lnTo>
                <a:lnTo>
                  <a:pt x="223" y="1077"/>
                </a:lnTo>
                <a:lnTo>
                  <a:pt x="223" y="1059"/>
                </a:lnTo>
                <a:lnTo>
                  <a:pt x="223" y="1039"/>
                </a:lnTo>
                <a:lnTo>
                  <a:pt x="223" y="1030"/>
                </a:lnTo>
              </a:path>
            </a:pathLst>
          </a:custGeom>
          <a:solidFill>
            <a:srgbClr val="fcfeb9"/>
          </a:solidFill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06560" y="5721480"/>
            <a:ext cx="253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Today’s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chnology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Centered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System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99480" y="5738760"/>
            <a:ext cx="2894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feb9"/>
                </a:solidFill>
                <a:uFillTx/>
                <a:latin typeface="Arial"/>
              </a:rPr>
              <a:t>User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fcfeb9"/>
                </a:solidFill>
                <a:uFillTx/>
                <a:latin typeface="Arial"/>
              </a:rPr>
              <a:t>Usage</a:t>
            </a: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 Center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860120" y="3525840"/>
            <a:ext cx="1335240" cy="2087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3756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3600" y="190512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Task Context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666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Organiz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8160" y="43434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Think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038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1680" y="44956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3886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36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Collaborat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152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3240" y="24382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Transfer into Search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560" y="2971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Gather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5560" y="3505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4038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7320" y="4572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1200" y="2320920"/>
            <a:ext cx="486432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Carnegie Mellon University:  Digital Video Librari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speech, image and natural language technologies integration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 Michigan:  Intelligent Agent Architectur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software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agents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 resource federation;  artificial service market economies; educational impac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Stanford Univ: Uniform Acces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interoperability; protocols &amp; standards; distributed object architectures; interface design for distributed information retrieval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4640" y="228456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full-content search and retrieval of video segment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99040" y="49975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4640" y="4748040"/>
            <a:ext cx="3213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general access, extensibility for heterogeneous distributed resourc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99040" y="370188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4640" y="3516480"/>
            <a:ext cx="3441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new DL cross-disciplinary capabilities,  intellectual perspectives and linkag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99040" y="250812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72400" y="101520"/>
            <a:ext cx="1265400" cy="1270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gital Libraries Initiative (DLI)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hase 1 Pro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6920" y="1662120"/>
            <a:ext cx="305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Project/Research Foc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200" y="2320920"/>
            <a:ext cx="48643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California, Santa Barbara: Geographic Information System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spatially-indexed data; content-based retrieval; image-compression; metadata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Illinois:  Intelligent Search and the N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large-scale information retrieval across knowledge domains; semantic search; SGML; user/usage studi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Times New Roman"/>
              </a:rPr>
              <a:t>Univ of California, Berkeley: Media Integration and Access  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cec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ece"/>
                </a:solidFill>
                <a:latin typeface="Times New Roman"/>
              </a:rPr>
              <a:t>new models of “documents”; natural language processing; content-based image retrieval; innovative interface design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4640" y="2360520"/>
            <a:ext cx="3289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resources for geosciences research and education communitie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7200" y="5429160"/>
            <a:ext cx="291960" cy="152640"/>
          </a:xfrm>
          <a:prstGeom prst="rightArrow">
            <a:avLst>
              <a:gd name="adj1" fmla="val 50000"/>
              <a:gd name="adj2" fmla="val 95645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00600" y="5218200"/>
            <a:ext cx="3213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new models and services for multi-media information management in a networked world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24600" y="408312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1680" y="3795840"/>
            <a:ext cx="3441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feb9"/>
                </a:solidFill>
                <a:latin typeface="Times New Roman"/>
              </a:rPr>
              <a:t>semantic retrieval across the net; alternatives for publishers of scientific journal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99040" y="2571840"/>
            <a:ext cx="291960" cy="152280"/>
          </a:xfrm>
          <a:prstGeom prst="rightArrow">
            <a:avLst>
              <a:gd name="adj1" fmla="val 50000"/>
              <a:gd name="adj2" fmla="val 95871"/>
            </a:avLst>
          </a:prstGeom>
          <a:solidFill>
            <a:srgbClr val="fc0128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6880" y="1662120"/>
            <a:ext cx="19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feb9"/>
                </a:solidFill>
                <a:uFillTx/>
                <a:latin typeface="Times New Roman"/>
              </a:rPr>
              <a:t>research goal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772400" y="101520"/>
            <a:ext cx="1265400" cy="1270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gital Libraries Initiative (DLI)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hase 1 Proj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920" y="2181240"/>
            <a:ext cx="216108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Computer &amp; Communication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Compan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Digital Equipment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Xerox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Xerox PAR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ntel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pple Corpor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astman Kodak C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BM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Lockhee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nterconnect Tech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nterprise Integration (EIT)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ellco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nterv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icrosoft Cor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ell Atlantic Network Servi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T&amp;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Hewlett Packar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ted Technolog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oftquad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BRS/Datawa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pyglas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Hitachi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7920" y="4695840"/>
            <a:ext cx="25272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Professional Societ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Math Society (AMA)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CM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IEE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Institute of Aeronautics 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nd Astronautics (AIAA)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Physical Societ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merican Institute of Phys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NCGI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ssociation of Research Librar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0960" y="3705120"/>
            <a:ext cx="1729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Government Agenc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and Lab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DMA/CI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 S Nav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SG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NASA/AR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Res Agcy of Californi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an Diego Assn of Govt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87280" y="4010040"/>
            <a:ext cx="1662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Librar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Project Site Univ Lib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SGS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Library of Congres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California State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onoma County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t. Louis Public Libr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New York Public Lib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6200" y="2181240"/>
            <a:ext cx="1765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Other Universiti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UNY Buffal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Main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Arizon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Open University, U.K.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Wisconsi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niv of Colorado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I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Cornell Univ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3760" y="2181240"/>
            <a:ext cx="213048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Publishers/Content Provider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lsevier Science Group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ncyclopedia Britannic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cGraw-Hill Publisher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Dialog Information Service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O'Reill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WAIS In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QED Communication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John Wiley &amp; Son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.S. News &amp; World Repor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&amp;T Publish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Tribune Compan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UMI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07920" y="946080"/>
            <a:ext cx="7383600" cy="749520"/>
            <a:chOff x="907920" y="946080"/>
            <a:chExt cx="7383600" cy="749520"/>
          </a:xfrm>
        </p:grpSpPr>
        <p:sp>
          <p:nvSpPr>
            <p:cNvPr id="164" name=""/>
            <p:cNvSpPr/>
            <p:nvPr/>
          </p:nvSpPr>
          <p:spPr>
            <a:xfrm>
              <a:off x="920880" y="963720"/>
              <a:ext cx="73706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--  DLI Lead Institutions  --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Carnegie Mellon</a:t>
              </a: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University of California, Berkeley    University of Illinoi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feb9"/>
                  </a:solidFill>
                  <a:latin typeface="Times New Roman"/>
                </a:rPr>
                <a:t>Stanford University       University of Michigan                    Univ of California, Santa Barbara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7920" y="946080"/>
              <a:ext cx="7302600" cy="74952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692760" y="5305320"/>
            <a:ext cx="21672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Other/Non-Profit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CNRI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nvironmental Systems Res Inst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Mellon Found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Kellogg Found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Getty Found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15720" y="2181240"/>
            <a:ext cx="20574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Primary &amp; Secondar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Project-local comm 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Fairfax County Public 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Winchester-Thurston Schoo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Ann Arbor Public School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tuyvesant High School, NYC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Shasta County Ofc of Edu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" y="2216160"/>
            <a:ext cx="8979120" cy="4483080"/>
          </a:xfrm>
          <a:prstGeom prst="rect">
            <a:avLst/>
          </a:prstGeom>
          <a:noFill/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765200" y="1720800"/>
            <a:ext cx="369000" cy="444600"/>
            <a:chOff x="7765200" y="1720800"/>
            <a:chExt cx="369000" cy="444600"/>
          </a:xfrm>
        </p:grpSpPr>
        <p:sp>
          <p:nvSpPr>
            <p:cNvPr id="170" name=""/>
            <p:cNvSpPr/>
            <p:nvPr/>
          </p:nvSpPr>
          <p:spPr>
            <a:xfrm flipH="1" rot="16200000">
              <a:off x="7840800" y="18730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7841880" y="1644480"/>
              <a:ext cx="216000" cy="368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20040" y="1787400"/>
            <a:ext cx="443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cfeb9"/>
                </a:solidFill>
                <a:latin typeface="Times New Roman"/>
              </a:rPr>
              <a:t>Flow of Resources, Technologies, Knowledge, Intellectual Product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58680" y="1733400"/>
            <a:ext cx="368640" cy="444600"/>
            <a:chOff x="958680" y="1733400"/>
            <a:chExt cx="368640" cy="444600"/>
          </a:xfrm>
        </p:grpSpPr>
        <p:sp>
          <p:nvSpPr>
            <p:cNvPr id="174" name=""/>
            <p:cNvSpPr/>
            <p:nvPr/>
          </p:nvSpPr>
          <p:spPr>
            <a:xfrm flipH="1" rot="16200000">
              <a:off x="1035000" y="18856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1035000" y="1657080"/>
              <a:ext cx="216000" cy="3686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afd00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786200" y="5533920"/>
            <a:ext cx="1405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feb9"/>
                </a:solidFill>
                <a:latin typeface="Times New Roman"/>
              </a:rPr>
              <a:t>International Org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ERCIM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LI Collaboration and Partner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990720"/>
            <a:ext cx="6858000" cy="56386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5480" y="322596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37440" y="3165480"/>
            <a:ext cx="111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eutic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34200" y="33177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70720" y="27432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00160" y="2682720"/>
            <a:ext cx="781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9080" y="2835360"/>
            <a:ext cx="67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78400" y="3657600"/>
            <a:ext cx="62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08560" y="3597120"/>
            <a:ext cx="76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07840" y="3749760"/>
            <a:ext cx="79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8320" y="4832280"/>
            <a:ext cx="495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98640" y="1396800"/>
            <a:ext cx="0" cy="47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1600" y="6184800"/>
            <a:ext cx="520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400" y="3759120"/>
            <a:ext cx="400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9000" y="3720960"/>
            <a:ext cx="419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r Speed in Billion of Operations per Second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6236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856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97320" y="632448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3880" y="62784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968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624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55000" y="6337440"/>
            <a:ext cx="368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1200" y="629136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805120" y="474336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729320" y="473688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30320" y="3790800"/>
            <a:ext cx="28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000" y="3790800"/>
            <a:ext cx="0" cy="238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30680" y="3321000"/>
            <a:ext cx="331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38720" y="3314880"/>
            <a:ext cx="0" cy="28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586640" y="1486080"/>
            <a:ext cx="0" cy="471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55920" y="5219640"/>
            <a:ext cx="253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01200" y="5197320"/>
            <a:ext cx="39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0.1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6680" y="4267080"/>
            <a:ext cx="203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2240" y="42451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7760" y="3314880"/>
            <a:ext cx="216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0880" y="3292560"/>
            <a:ext cx="35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7000" y="2362320"/>
            <a:ext cx="317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17320" y="2340000"/>
            <a:ext cx="44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90680" y="1397160"/>
            <a:ext cx="419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48560" y="1374840"/>
            <a:ext cx="52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0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10000" y="4863960"/>
            <a:ext cx="419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39080" y="480384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foil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59240" y="4317840"/>
            <a:ext cx="546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7600" y="42577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 Hour 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0120" y="441000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67120" y="5194440"/>
            <a:ext cx="67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95840" y="5133960"/>
            <a:ext cx="84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D Plasma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95840" y="52862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9720" y="3930480"/>
            <a:ext cx="55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8800" y="3949560"/>
            <a:ext cx="520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7160" y="3889440"/>
            <a:ext cx="684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Hour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9680" y="4041720"/>
            <a:ext cx="69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49880" y="4737240"/>
            <a:ext cx="71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5105520"/>
            <a:ext cx="884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 Plasma 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8600" y="4829040"/>
            <a:ext cx="77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3156120"/>
            <a:ext cx="1181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3213000"/>
            <a:ext cx="11048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54040" y="3152880"/>
            <a:ext cx="127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hicle Signatur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7720" y="1492200"/>
            <a:ext cx="476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89840" y="1193760"/>
            <a:ext cx="1612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3800" y="1133640"/>
            <a:ext cx="1295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1285920"/>
            <a:ext cx="1234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id Turbulenc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24560" y="1438200"/>
            <a:ext cx="118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Genome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75240" y="159084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Circula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9640" y="1743120"/>
            <a:ext cx="1793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Chromdynam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45560" y="1895400"/>
            <a:ext cx="1734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ductor 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32960" y="2048040"/>
            <a:ext cx="1775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onductor Modeling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68960" y="2200320"/>
            <a:ext cx="1688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cous Fluid Dynamic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0480" y="2352600"/>
            <a:ext cx="149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on and Cognition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67440" y="428616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9120" y="4305240"/>
            <a:ext cx="1104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8200" y="4419720"/>
            <a:ext cx="1281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of Higg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26400" y="4397400"/>
            <a:ext cx="93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on Mass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rand Challenge Require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90720" y="1143000"/>
            <a:ext cx="6705360" cy="54864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4200" y="6219720"/>
            <a:ext cx="343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14640" y="6194520"/>
            <a:ext cx="35892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raffic Requirements for Bandwidth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0520" y="3139920"/>
            <a:ext cx="2444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30400" y="1219320"/>
            <a:ext cx="6235560" cy="4945320"/>
            <a:chOff x="1130400" y="1219320"/>
            <a:chExt cx="6235560" cy="4945320"/>
          </a:xfrm>
        </p:grpSpPr>
        <p:sp>
          <p:nvSpPr>
            <p:cNvPr id="260" name=""/>
            <p:cNvSpPr/>
            <p:nvPr/>
          </p:nvSpPr>
          <p:spPr>
            <a:xfrm>
              <a:off x="2349360" y="1219320"/>
              <a:ext cx="0" cy="449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7920" y="5730840"/>
              <a:ext cx="476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887480" y="5475240"/>
              <a:ext cx="426240" cy="347760"/>
              <a:chOff x="1887480" y="5475240"/>
              <a:chExt cx="426240" cy="347760"/>
            </a:xfrm>
          </p:grpSpPr>
          <p:sp>
            <p:nvSpPr>
              <p:cNvPr id="263" name=""/>
              <p:cNvSpPr/>
              <p:nvPr/>
            </p:nvSpPr>
            <p:spPr>
              <a:xfrm>
                <a:off x="1959120" y="55976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87480" y="55515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41640" y="5532480"/>
                <a:ext cx="1666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68200" y="5475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887480" y="5060880"/>
              <a:ext cx="438840" cy="347760"/>
              <a:chOff x="1887480" y="5060880"/>
              <a:chExt cx="438840" cy="347760"/>
            </a:xfrm>
          </p:grpSpPr>
          <p:sp>
            <p:nvSpPr>
              <p:cNvPr id="268" name=""/>
              <p:cNvSpPr/>
              <p:nvPr/>
            </p:nvSpPr>
            <p:spPr>
              <a:xfrm>
                <a:off x="1959120" y="5181480"/>
                <a:ext cx="1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87480" y="5137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54240" y="511668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80800" y="5060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887480" y="4656240"/>
              <a:ext cx="438840" cy="347400"/>
              <a:chOff x="1887480" y="4656240"/>
              <a:chExt cx="438840" cy="347400"/>
            </a:xfrm>
          </p:grpSpPr>
          <p:sp>
            <p:nvSpPr>
              <p:cNvPr id="273" name=""/>
              <p:cNvSpPr/>
              <p:nvPr/>
            </p:nvSpPr>
            <p:spPr>
              <a:xfrm>
                <a:off x="1959120" y="477828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87480" y="473220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54240" y="4713120"/>
                <a:ext cx="1666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0800" y="465624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887480" y="4241880"/>
              <a:ext cx="426240" cy="347400"/>
              <a:chOff x="1887480" y="4241880"/>
              <a:chExt cx="426240" cy="347400"/>
            </a:xfrm>
          </p:grpSpPr>
          <p:sp>
            <p:nvSpPr>
              <p:cNvPr id="278" name=""/>
              <p:cNvSpPr/>
              <p:nvPr/>
            </p:nvSpPr>
            <p:spPr>
              <a:xfrm>
                <a:off x="1959120" y="4362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87480" y="4317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41640" y="4297320"/>
                <a:ext cx="16668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68200" y="4241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887480" y="3836880"/>
              <a:ext cx="400680" cy="358920"/>
              <a:chOff x="1887480" y="3836880"/>
              <a:chExt cx="400680" cy="358920"/>
            </a:xfrm>
          </p:grpSpPr>
          <p:sp>
            <p:nvSpPr>
              <p:cNvPr id="283" name=""/>
              <p:cNvSpPr/>
              <p:nvPr/>
            </p:nvSpPr>
            <p:spPr>
              <a:xfrm>
                <a:off x="1959120" y="3970440"/>
                <a:ext cx="19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887480" y="392436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16080" y="3894120"/>
                <a:ext cx="16848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042640" y="383688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887480" y="3422520"/>
              <a:ext cx="426240" cy="347760"/>
              <a:chOff x="1887480" y="3422520"/>
              <a:chExt cx="426240" cy="347760"/>
            </a:xfrm>
          </p:grpSpPr>
          <p:sp>
            <p:nvSpPr>
              <p:cNvPr id="288" name=""/>
              <p:cNvSpPr/>
              <p:nvPr/>
            </p:nvSpPr>
            <p:spPr>
              <a:xfrm>
                <a:off x="1959120" y="3543480"/>
                <a:ext cx="1918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87480" y="3498840"/>
                <a:ext cx="333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41640" y="3478320"/>
                <a:ext cx="16668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68200" y="3422520"/>
                <a:ext cx="245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971720" y="31068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97200" y="3062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54240" y="30416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80800" y="298620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4320" y="2692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09800" y="26463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65400" y="2625840"/>
              <a:ext cx="16812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91960" y="25700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84320" y="2287440"/>
              <a:ext cx="190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9800" y="22431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65400" y="2222640"/>
              <a:ext cx="1681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1960" y="216684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84320" y="1893960"/>
              <a:ext cx="190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9800" y="184932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65400" y="1828800"/>
              <a:ext cx="1681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91960" y="1773360"/>
              <a:ext cx="24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59120" y="1479600"/>
              <a:ext cx="191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87480" y="143496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41640" y="1414440"/>
              <a:ext cx="1666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67840" y="1359000"/>
              <a:ext cx="309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59080" y="5902200"/>
              <a:ext cx="628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7440" y="583236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eady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32560" y="5870520"/>
              <a:ext cx="6271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8040" y="5799240"/>
              <a:ext cx="76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rsty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60520" y="3262320"/>
              <a:ext cx="735120" cy="162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29000" y="2409840"/>
              <a:ext cx="772920" cy="834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25840" y="1917720"/>
              <a:ext cx="1465200" cy="662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54200" y="1273320"/>
              <a:ext cx="966960" cy="847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76800" y="1897200"/>
              <a:ext cx="1792080" cy="868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96000" y="3556080"/>
              <a:ext cx="1341360" cy="78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63880" y="4354560"/>
              <a:ext cx="1513080" cy="573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70680" y="4768920"/>
              <a:ext cx="1295280" cy="453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59480" y="2344680"/>
              <a:ext cx="846360" cy="1130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2040" y="1917720"/>
              <a:ext cx="1087560" cy="55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2200" y="1503360"/>
              <a:ext cx="1438560" cy="496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87760" y="1544760"/>
              <a:ext cx="774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12880" y="1500120"/>
              <a:ext cx="874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osit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2160" y="1663560"/>
              <a:ext cx="723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ing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32120" y="2135160"/>
              <a:ext cx="957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60840" y="2089080"/>
              <a:ext cx="890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58680" y="2254320"/>
              <a:ext cx="1037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sualization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02080" y="2681280"/>
              <a:ext cx="1101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29000" y="2635200"/>
              <a:ext cx="562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30080" y="2800440"/>
              <a:ext cx="73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leconf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06600" y="3849840"/>
              <a:ext cx="642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94440" y="380520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16760" y="3968640"/>
              <a:ext cx="426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35680" y="413244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91080" y="2166840"/>
              <a:ext cx="10177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17640" y="2122560"/>
              <a:ext cx="1088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17640" y="2286000"/>
              <a:ext cx="93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92720" y="1600200"/>
              <a:ext cx="83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19280" y="1554120"/>
              <a:ext cx="92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8200" y="1717560"/>
              <a:ext cx="91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3120" y="2058840"/>
              <a:ext cx="6397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48600" y="2013120"/>
              <a:ext cx="58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48960" y="2176560"/>
              <a:ext cx="756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19960" y="2604960"/>
              <a:ext cx="76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5800" y="25588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45800" y="2722680"/>
              <a:ext cx="59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dia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4720" y="2887560"/>
              <a:ext cx="781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5800" y="30510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87880" y="3816360"/>
              <a:ext cx="932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7680" y="3772080"/>
              <a:ext cx="1010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6960" y="3935520"/>
              <a:ext cx="486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44960" y="4570560"/>
              <a:ext cx="1127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74400" y="4525920"/>
              <a:ext cx="1191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nic Mail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9440" y="4832280"/>
              <a:ext cx="10396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02520" y="4788000"/>
              <a:ext cx="847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act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55280" y="4951440"/>
              <a:ext cx="1106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 Transfer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-720" y="3048480"/>
              <a:ext cx="267156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Bandwidth Peak Rate</a:t>
              </a:r>
              <a:endParaRPr b="0" lang="en-US" sz="21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pplication Require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295280" y="1676520"/>
            <a:ext cx="6782040" cy="441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19440" y="2209680"/>
            <a:ext cx="3681360" cy="3429000"/>
          </a:xfrm>
          <a:prstGeom prst="rect">
            <a:avLst/>
          </a:prstGeom>
          <a:solidFill>
            <a:srgbClr val="ccecff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9440" y="1832040"/>
            <a:ext cx="0" cy="4051080"/>
          </a:xfrm>
          <a:prstGeom prst="line">
            <a:avLst/>
          </a:prstGeom>
          <a:ln w="57240">
            <a:solidFill>
              <a:srgbClr val="0000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6000" y="5638680"/>
            <a:ext cx="5538960" cy="0"/>
          </a:xfrm>
          <a:prstGeom prst="line">
            <a:avLst/>
          </a:prstGeom>
          <a:ln w="57240">
            <a:solidFill>
              <a:srgbClr val="0000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7280" y="5675400"/>
            <a:ext cx="311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Computing Capability (FLOPS)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1540000">
            <a:off x="1370520" y="3429000"/>
            <a:ext cx="1299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Network 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Capabilit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(bandwidth)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wo Dimensional Thinking,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arly 1990s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57200" y="1371600"/>
            <a:ext cx="8153280" cy="4952880"/>
            <a:chOff x="457200" y="1371600"/>
            <a:chExt cx="8153280" cy="4952880"/>
          </a:xfrm>
        </p:grpSpPr>
        <p:sp>
          <p:nvSpPr>
            <p:cNvPr id="377" name=""/>
            <p:cNvSpPr/>
            <p:nvPr/>
          </p:nvSpPr>
          <p:spPr>
            <a:xfrm>
              <a:off x="457200" y="1371600"/>
              <a:ext cx="8153280" cy="4952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2819160"/>
              <a:ext cx="2286000" cy="220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7400" y="1987200"/>
              <a:ext cx="3054240" cy="838080"/>
            </a:xfrm>
            <a:prstGeom prst="parallelogram">
              <a:avLst>
                <a:gd name="adj" fmla="val 91074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54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6200000">
              <a:off x="3200400" y="3136320"/>
              <a:ext cx="3041280" cy="743040"/>
            </a:xfrm>
            <a:prstGeom prst="parallelogram">
              <a:avLst>
                <a:gd name="adj" fmla="val 116556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31840" y="1591920"/>
              <a:ext cx="0" cy="376992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652040" y="5028840"/>
              <a:ext cx="4024440" cy="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676160" y="5028840"/>
              <a:ext cx="354240" cy="38088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5280" y="5105160"/>
              <a:ext cx="1879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Computing (flops)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5200" y="5410080"/>
              <a:ext cx="1609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Digital content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219960" y="3125520"/>
              <a:ext cx="2549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Communication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(bandwidth, connectivity)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273560" y="3041280"/>
              <a:ext cx="1358640" cy="10029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46120" y="2868480"/>
              <a:ext cx="3676680" cy="2034000"/>
              <a:chOff x="546120" y="2868480"/>
              <a:chExt cx="3676680" cy="2034000"/>
            </a:xfrm>
          </p:grpSpPr>
          <p:sp>
            <p:nvSpPr>
              <p:cNvPr id="389" name=""/>
              <p:cNvSpPr/>
              <p:nvPr/>
            </p:nvSpPr>
            <p:spPr>
              <a:xfrm>
                <a:off x="546120" y="2868480"/>
                <a:ext cx="3596760" cy="203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83"/>
                    </a:moveTo>
                    <a:arcTo wR="10800" hR="10800" stAng="-5368" swAng="54053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83"/>
                    </a:moveTo>
                    <a:arcTo wR="10800" hR="10800" stAng="-5368" swAng="5405368"/>
                  </a:path>
                </a:pathLst>
              </a:custGeom>
              <a:noFill/>
              <a:ln cap="rnd"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946080" y="2879640"/>
                <a:ext cx="3276720" cy="2021400"/>
                <a:chOff x="946080" y="2879640"/>
                <a:chExt cx="3276720" cy="20214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946080" y="2879640"/>
                  <a:ext cx="2800080" cy="202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38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3896"/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86040" y="3574800"/>
                  <a:ext cx="536760" cy="318600"/>
                </a:xfrm>
                <a:custGeom>
                  <a:avLst/>
                  <a:gdLst/>
                  <a:ahLst/>
                  <a:rect l="l" t="t" r="r" b="b"/>
                  <a:pathLst>
                    <a:path w="338" h="201">
                      <a:moveTo>
                        <a:pt x="42" y="200"/>
                      </a:moveTo>
                      <a:lnTo>
                        <a:pt x="0" y="200"/>
                      </a:lnTo>
                      <a:lnTo>
                        <a:pt x="211" y="0"/>
                      </a:lnTo>
                      <a:lnTo>
                        <a:pt x="337" y="200"/>
                      </a:lnTo>
                      <a:lnTo>
                        <a:pt x="295" y="200"/>
                      </a:lnTo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5624280" y="2500200"/>
              <a:ext cx="2833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Digital Libraries technology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20"/>
                  </a:solidFill>
                  <a:latin typeface="Times New Roman"/>
                </a:rPr>
                <a:t>trajectory:  </a:t>
              </a:r>
              <a:r>
                <a:rPr b="0" i="1" lang="en-US" sz="1800" spc="-1" strike="noStrike">
                  <a:solidFill>
                    <a:srgbClr val="000020"/>
                  </a:solidFill>
                  <a:latin typeface="Times New Roman"/>
                </a:rPr>
                <a:t>intellectual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20"/>
                  </a:solidFill>
                  <a:latin typeface="Times New Roman"/>
                </a:rPr>
                <a:t>access to globally distributed inform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082600" y="3428280"/>
              <a:ext cx="1650960" cy="1549080"/>
            </a:xfrm>
            <a:prstGeom prst="line">
              <a:avLst/>
            </a:prstGeom>
            <a:ln w="50760">
              <a:solidFill>
                <a:srgbClr val="777777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90360" y="5790960"/>
              <a:ext cx="1219320" cy="151920"/>
            </a:xfrm>
            <a:prstGeom prst="rect">
              <a:avLst/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0360" y="5937120"/>
              <a:ext cx="37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less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5240" y="5935320"/>
              <a:ext cx="3207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90360" y="5937120"/>
              <a:ext cx="443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more</a:t>
              </a:r>
              <a:endParaRPr b="0" lang="en-US" sz="10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1960" y="2788200"/>
              <a:ext cx="3110760" cy="210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ree Dimensional Thinking,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Mid-90s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990720"/>
            <a:ext cx="8153280" cy="563868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88640" y="2735280"/>
            <a:ext cx="5130720" cy="3817800"/>
            <a:chOff x="188640" y="2735280"/>
            <a:chExt cx="5130720" cy="3817800"/>
          </a:xfrm>
        </p:grpSpPr>
        <p:sp>
          <p:nvSpPr>
            <p:cNvPr id="404" name=""/>
            <p:cNvSpPr/>
            <p:nvPr/>
          </p:nvSpPr>
          <p:spPr>
            <a:xfrm>
              <a:off x="1699920" y="3962520"/>
              <a:ext cx="2286000" cy="2209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99920" y="3130560"/>
              <a:ext cx="3054240" cy="838080"/>
            </a:xfrm>
            <a:prstGeom prst="parallelogram">
              <a:avLst>
                <a:gd name="adj" fmla="val 91074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54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rot="16200000">
              <a:off x="2841840" y="4280040"/>
              <a:ext cx="3041640" cy="742680"/>
            </a:xfrm>
            <a:prstGeom prst="parallelogram">
              <a:avLst>
                <a:gd name="adj" fmla="val 116627"/>
              </a:avLst>
            </a:prstGeom>
            <a:gradFill rotWithShape="0">
              <a:gsLst>
                <a:gs pos="0">
                  <a:srgbClr val="00cece"/>
                </a:gs>
                <a:gs pos="100000">
                  <a:srgbClr val="e4f9f9"/>
                </a:gs>
              </a:gsLst>
              <a:lin ang="10800000"/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4360" y="2735280"/>
              <a:ext cx="0" cy="377028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295280" y="6172200"/>
              <a:ext cx="4024080" cy="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318680" y="6172200"/>
              <a:ext cx="353880" cy="38088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88640" y="4011840"/>
              <a:ext cx="3676680" cy="2034720"/>
              <a:chOff x="188640" y="4011840"/>
              <a:chExt cx="3676680" cy="2034720"/>
            </a:xfrm>
          </p:grpSpPr>
          <p:sp>
            <p:nvSpPr>
              <p:cNvPr id="411" name=""/>
              <p:cNvSpPr/>
              <p:nvPr/>
            </p:nvSpPr>
            <p:spPr>
              <a:xfrm>
                <a:off x="188640" y="4011840"/>
                <a:ext cx="3596760" cy="203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83"/>
                    </a:moveTo>
                    <a:arcTo wR="10800" hR="10800" stAng="-5368" swAng="54053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83"/>
                    </a:moveTo>
                    <a:arcTo wR="10800" hR="10800" stAng="-5368" swAng="5405368"/>
                  </a:path>
                </a:pathLst>
              </a:custGeom>
              <a:noFill/>
              <a:ln cap="rnd"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588600" y="4023000"/>
                <a:ext cx="3276720" cy="2022120"/>
                <a:chOff x="588600" y="4023000"/>
                <a:chExt cx="3276720" cy="2022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88600" y="4023000"/>
                  <a:ext cx="2800080" cy="20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38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3896"/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328560" y="4718160"/>
                  <a:ext cx="536760" cy="318960"/>
                </a:xfrm>
                <a:custGeom>
                  <a:avLst/>
                  <a:gdLst/>
                  <a:ahLst/>
                  <a:rect l="l" t="t" r="r" b="b"/>
                  <a:pathLst>
                    <a:path w="338" h="201">
                      <a:moveTo>
                        <a:pt x="42" y="200"/>
                      </a:moveTo>
                      <a:lnTo>
                        <a:pt x="0" y="200"/>
                      </a:lnTo>
                      <a:lnTo>
                        <a:pt x="211" y="0"/>
                      </a:lnTo>
                      <a:lnTo>
                        <a:pt x="337" y="200"/>
                      </a:lnTo>
                      <a:lnTo>
                        <a:pt x="295" y="200"/>
                      </a:lnTo>
                    </a:path>
                  </a:pathLst>
                </a:custGeom>
                <a:noFill/>
                <a:ln cap="rnd"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 flipV="1">
              <a:off x="1725480" y="4572000"/>
              <a:ext cx="1650960" cy="1549440"/>
            </a:xfrm>
            <a:prstGeom prst="line">
              <a:avLst/>
            </a:prstGeom>
            <a:ln w="50760">
              <a:solidFill>
                <a:srgbClr val="777777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4120" y="3930840"/>
              <a:ext cx="3111480" cy="21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 txBox="1"/>
          <p:nvPr/>
        </p:nvSpPr>
        <p:spPr>
          <a:xfrm rot="21367200">
            <a:off x="2895120" y="1523520"/>
            <a:ext cx="2003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meta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day:  Context and 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65240" y="5935680"/>
            <a:ext cx="320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95280" y="1295280"/>
            <a:ext cx="5943600" cy="518184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66680" y="1295280"/>
            <a:ext cx="6324840" cy="53341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566720" y="3394080"/>
            <a:ext cx="508644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telligent Distribut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Knowledge Environments an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 Black"/>
              </a:rPr>
              <a:t>Information Spac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4" name=""/>
          <p:cNvSpPr/>
          <p:nvPr/>
        </p:nvSpPr>
        <p:spPr>
          <a:xfrm>
            <a:off x="1352520" y="2838600"/>
            <a:ext cx="4419720" cy="33908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dvanced Functional Capabilit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1371600"/>
            <a:ext cx="7315200" cy="52578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09080" y="5925960"/>
            <a:ext cx="2094120" cy="459720"/>
            <a:chOff x="1009080" y="5925960"/>
            <a:chExt cx="2094120" cy="459720"/>
          </a:xfrm>
        </p:grpSpPr>
        <p:sp>
          <p:nvSpPr>
            <p:cNvPr id="429" name=""/>
            <p:cNvSpPr/>
            <p:nvPr/>
          </p:nvSpPr>
          <p:spPr>
            <a:xfrm>
              <a:off x="1009080" y="5925960"/>
              <a:ext cx="823680" cy="45972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68920" y="5925960"/>
              <a:ext cx="1034280" cy="4590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Arial"/>
                </a:rPr>
                <a:t>010010011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Arial"/>
                </a:rPr>
                <a:t>0011111100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959120" y="4419720"/>
            <a:ext cx="3625560" cy="482400"/>
            <a:chOff x="1959120" y="4419720"/>
            <a:chExt cx="3625560" cy="482400"/>
          </a:xfrm>
        </p:grpSpPr>
        <p:sp>
          <p:nvSpPr>
            <p:cNvPr id="432" name=""/>
            <p:cNvSpPr/>
            <p:nvPr/>
          </p:nvSpPr>
          <p:spPr>
            <a:xfrm>
              <a:off x="1959120" y="4419720"/>
              <a:ext cx="1706400" cy="459720"/>
            </a:xfrm>
            <a:prstGeom prst="rect">
              <a:avLst/>
            </a:prstGeom>
            <a:solidFill>
              <a:srgbClr val="ffcc66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Information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849480" y="4419720"/>
              <a:ext cx="1735200" cy="482400"/>
              <a:chOff x="3849480" y="4419720"/>
              <a:chExt cx="1735200" cy="482400"/>
            </a:xfrm>
          </p:grpSpPr>
          <p:sp>
            <p:nvSpPr>
              <p:cNvPr id="434" name=""/>
              <p:cNvSpPr/>
              <p:nvPr/>
            </p:nvSpPr>
            <p:spPr>
              <a:xfrm>
                <a:off x="3849480" y="4419720"/>
                <a:ext cx="1735200" cy="48240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2556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056120" y="4775040"/>
                <a:ext cx="1371600" cy="0"/>
              </a:xfrm>
              <a:prstGeom prst="line">
                <a:avLst/>
              </a:prstGeom>
              <a:ln w="1908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068720" y="4457520"/>
                <a:ext cx="0" cy="304560"/>
              </a:xfrm>
              <a:prstGeom prst="line">
                <a:avLst/>
              </a:prstGeom>
              <a:ln w="1908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230720" y="4498920"/>
                <a:ext cx="1066680" cy="194760"/>
              </a:xfrm>
              <a:custGeom>
                <a:avLst/>
                <a:gdLst/>
                <a:ahLst/>
                <a:rect l="l" t="t" r="r" b="b"/>
                <a:pathLst>
                  <a:path w="672" h="123">
                    <a:moveTo>
                      <a:pt x="0" y="94"/>
                    </a:moveTo>
                    <a:cubicBezTo>
                      <a:pt x="120" y="51"/>
                      <a:pt x="240" y="8"/>
                      <a:pt x="336" y="4"/>
                    </a:cubicBezTo>
                    <a:cubicBezTo>
                      <a:pt x="432" y="0"/>
                      <a:pt x="520" y="48"/>
                      <a:pt x="576" y="68"/>
                    </a:cubicBezTo>
                    <a:cubicBezTo>
                      <a:pt x="632" y="88"/>
                      <a:pt x="656" y="111"/>
                      <a:pt x="672" y="123"/>
                    </a:cubicBezTo>
                  </a:path>
                </a:pathLst>
              </a:custGeom>
              <a:solidFill>
                <a:srgbClr val="ffcc66">
                  <a:alpha val="50000"/>
                </a:srgbClr>
              </a:solidFill>
              <a:ln w="19080">
                <a:solidFill>
                  <a:srgbClr val="000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3200760" y="2971800"/>
            <a:ext cx="2796840" cy="459720"/>
            <a:chOff x="3200760" y="2971800"/>
            <a:chExt cx="2796840" cy="459720"/>
          </a:xfrm>
        </p:grpSpPr>
        <p:sp>
          <p:nvSpPr>
            <p:cNvPr id="439" name=""/>
            <p:cNvSpPr/>
            <p:nvPr/>
          </p:nvSpPr>
          <p:spPr>
            <a:xfrm>
              <a:off x="3200760" y="2971800"/>
              <a:ext cx="1684800" cy="459720"/>
            </a:xfrm>
            <a:prstGeom prst="rect">
              <a:avLst/>
            </a:prstGeom>
            <a:solidFill>
              <a:srgbClr val="ff9966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9840" y="2971800"/>
              <a:ext cx="887760" cy="459000"/>
            </a:xfrm>
            <a:prstGeom prst="rect">
              <a:avLst/>
            </a:prstGeom>
            <a:solidFill>
              <a:srgbClr val="ff9966">
                <a:alpha val="50000"/>
              </a:srgbClr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Symbol"/>
                  <a:ea typeface="Symbol"/>
                </a:rPr>
                <a:t>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20"/>
                  </a:solidFill>
                  <a:latin typeface="Symbol"/>
                  <a:ea typeface="Symbol"/>
                </a:rPr>
                <a:t>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30840" y="1590840"/>
            <a:ext cx="3778200" cy="519120"/>
            <a:chOff x="3930840" y="1590840"/>
            <a:chExt cx="3778200" cy="519120"/>
          </a:xfrm>
        </p:grpSpPr>
        <p:sp>
          <p:nvSpPr>
            <p:cNvPr id="442" name=""/>
            <p:cNvSpPr/>
            <p:nvPr/>
          </p:nvSpPr>
          <p:spPr>
            <a:xfrm>
              <a:off x="3930840" y="1590840"/>
              <a:ext cx="2160360" cy="459720"/>
            </a:xfrm>
            <a:prstGeom prst="rect">
              <a:avLst/>
            </a:prstGeom>
            <a:solidFill>
              <a:srgbClr val="ff3399"/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Understanding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62640" y="1590840"/>
              <a:ext cx="1346400" cy="519120"/>
            </a:xfrm>
            <a:prstGeom prst="rect">
              <a:avLst/>
            </a:prstGeom>
            <a:solidFill>
              <a:srgbClr val="ff3399">
                <a:alpha val="50000"/>
              </a:srgbClr>
            </a:solidFill>
            <a:ln w="255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20"/>
                  </a:solidFill>
                  <a:latin typeface="Arial"/>
                </a:rPr>
                <a:t>The universe is expanding!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V="1">
            <a:off x="1754280" y="4914720"/>
            <a:ext cx="563400" cy="950760"/>
          </a:xfrm>
          <a:prstGeom prst="line">
            <a:avLst/>
          </a:prstGeom>
          <a:ln w="284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56320" y="3500280"/>
            <a:ext cx="559440" cy="849600"/>
          </a:xfrm>
          <a:prstGeom prst="line">
            <a:avLst/>
          </a:prstGeom>
          <a:ln w="284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013280" y="2152800"/>
            <a:ext cx="501480" cy="768240"/>
          </a:xfrm>
          <a:prstGeom prst="line">
            <a:avLst/>
          </a:prstGeom>
          <a:ln w="284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8166200">
            <a:off x="2542320" y="38725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8060000">
            <a:off x="3646080" y="23457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7966400">
            <a:off x="1321200" y="52999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8064800">
            <a:off x="4219920" y="232632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20"/>
                </a:solidFill>
                <a:latin typeface="Arial"/>
              </a:rPr>
              <a:t>Inferen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olution of Understand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1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2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2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opic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1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btopic 3.2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6320" y="1905120"/>
            <a:ext cx="8915400" cy="419076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3276720"/>
            <a:ext cx="1981080" cy="1981080"/>
          </a:xfrm>
          <a:prstGeom prst="ellipse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97200" y="1963800"/>
            <a:ext cx="1981080" cy="1981080"/>
          </a:xfrm>
          <a:prstGeom prst="ellipse">
            <a:avLst/>
          </a:prstGeom>
          <a:solidFill>
            <a:srgbClr val="cc6600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04000" y="2209680"/>
            <a:ext cx="107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571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909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2133720"/>
            <a:ext cx="2590560" cy="2590560"/>
          </a:xfrm>
          <a:prstGeom prst="ellipse">
            <a:avLst/>
          </a:prstGeom>
          <a:solidFill>
            <a:srgbClr val="cc6600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43600" y="2971800"/>
            <a:ext cx="2590920" cy="2590920"/>
          </a:xfrm>
          <a:prstGeom prst="ellipse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3124080"/>
            <a:ext cx="2590560" cy="2590920"/>
          </a:xfrm>
          <a:prstGeom prst="ellipse">
            <a:avLst/>
          </a:prstGeom>
          <a:solidFill>
            <a:srgbClr val="ff33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2209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Life 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48769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86600" y="44038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Sciences</a:t>
            </a:r>
            <a:br>
              <a:rPr sz="2000"/>
            </a:b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Engineer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5715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0"/>
                </a:solidFill>
                <a:latin typeface="Times New Roman"/>
              </a:rPr>
              <a:t>2010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3200400"/>
            <a:ext cx="1981440" cy="1981080"/>
          </a:xfrm>
          <a:prstGeom prst="ellipse">
            <a:avLst/>
          </a:prstGeom>
          <a:solidFill>
            <a:srgbClr val="ff33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948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</a:rPr>
              <a:t>Information Science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3040" y="2235240"/>
            <a:ext cx="1422360" cy="142236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160" y="249084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19720" y="2514600"/>
            <a:ext cx="2166840" cy="216684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1640" y="31240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Social Sciences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Humaniti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 Vision of Disciplinarity in 2010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914400" y="1905120"/>
          <a:ext cx="732780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2780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2209680" y="5410080"/>
            <a:ext cx="4876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FY 1999 Competition Data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buClr>
                <a:srgbClr val="00002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~50 proposals requesting $25M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buClr>
                <a:srgbClr val="00002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~30 countri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buClr>
                <a:srgbClr val="00002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Formal Program with UK/JISC (Circular 15/98)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1460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22860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23623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477120" y="28954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7432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2971800"/>
            <a:ext cx="30492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3581280"/>
            <a:ext cx="304560" cy="289080"/>
          </a:xfrm>
          <a:prstGeom prst="star5">
            <a:avLst/>
          </a:prstGeom>
          <a:solidFill>
            <a:srgbClr val="ff9933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76920" y="2133720"/>
            <a:ext cx="30456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28600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259092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62920" y="3809880"/>
            <a:ext cx="30456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11480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1560" y="3111480"/>
            <a:ext cx="304920" cy="28908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44920" y="2006640"/>
            <a:ext cx="30492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rnational Digital Libraries Collaborative Research Pro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164120" y="1547640"/>
            <a:ext cx="4329000" cy="44071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245920" y="629460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Times New Roman"/>
              </a:rPr>
              <a:t>http://www.euromktg.com/globstats/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760" y="2354400"/>
            <a:ext cx="380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cfeb9"/>
                </a:solidFill>
                <a:uFillTx/>
                <a:latin typeface="Times New Roman"/>
              </a:rPr>
              <a:t>April 1999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English            107.2M       56.5%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non-English     82.7M        43.5% European         54.9M        30.0%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760" y="450684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cfeb9"/>
                </a:solidFill>
                <a:uFillTx/>
                <a:latin typeface="Times New Roman"/>
              </a:rPr>
              <a:t>By end of year 2000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English            160M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Times New Roman"/>
              </a:rPr>
              <a:t>non-English     167M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anguages and the Interne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47560"/>
            <a:ext cx="9067680" cy="4647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35080" y="5562720"/>
            <a:ext cx="6402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Times New Roman"/>
              </a:rPr>
              <a:t>Stanford InfoBus</a:t>
            </a:r>
            <a:r>
              <a:rPr b="0" lang="en-US" sz="2100" spc="-1" strike="noStrike">
                <a:solidFill>
                  <a:srgbClr val="339933"/>
                </a:solidFill>
                <a:latin typeface="Times New Roman"/>
              </a:rPr>
              <a:t>: CORBA distributed object technology</a:t>
            </a:r>
            <a:endParaRPr b="0" lang="en-US" sz="21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52280" y="1739880"/>
            <a:ext cx="6098400" cy="3669840"/>
            <a:chOff x="152280" y="1739880"/>
            <a:chExt cx="6098400" cy="3669840"/>
          </a:xfrm>
        </p:grpSpPr>
        <p:sp>
          <p:nvSpPr>
            <p:cNvPr id="502" name=""/>
            <p:cNvSpPr/>
            <p:nvPr/>
          </p:nvSpPr>
          <p:spPr>
            <a:xfrm>
              <a:off x="423000" y="5088960"/>
              <a:ext cx="203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30120" y="5088960"/>
              <a:ext cx="3098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37760" y="3079080"/>
              <a:ext cx="412920" cy="1394640"/>
            </a:xfrm>
            <a:prstGeom prst="ellipse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8160" y="3079080"/>
              <a:ext cx="5698440" cy="1394640"/>
            </a:xfrm>
            <a:prstGeom prst="rect">
              <a:avLst/>
            </a:prstGeom>
            <a:gradFill rotWithShape="0">
              <a:gsLst>
                <a:gs pos="0">
                  <a:srgbClr val="90ace3"/>
                </a:gs>
                <a:gs pos="50000">
                  <a:srgbClr val="a2c1fe"/>
                </a:gs>
                <a:gs pos="100000">
                  <a:srgbClr val="90ac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3087720"/>
              <a:ext cx="304560" cy="1377360"/>
            </a:xfrm>
            <a:prstGeom prst="ellipse">
              <a:avLst/>
            </a:prstGeom>
            <a:gradFill rotWithShape="0">
              <a:gsLst>
                <a:gs pos="0">
                  <a:srgbClr val="567fe2"/>
                </a:gs>
                <a:gs pos="50000">
                  <a:srgbClr val="618ffd"/>
                </a:gs>
                <a:gs pos="100000">
                  <a:srgbClr val="567fe2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307160" y="1775160"/>
              <a:ext cx="627480" cy="395640"/>
              <a:chOff x="1307160" y="1775160"/>
              <a:chExt cx="627480" cy="39564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1307160" y="1826640"/>
                <a:ext cx="414360" cy="344160"/>
                <a:chOff x="1307160" y="1826640"/>
                <a:chExt cx="414360" cy="34416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1307160" y="1826640"/>
                  <a:ext cx="414360" cy="344160"/>
                  <a:chOff x="1307160" y="1826640"/>
                  <a:chExt cx="414360" cy="344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1367280" y="1826640"/>
                    <a:ext cx="131400" cy="6840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539720" y="1826640"/>
                    <a:ext cx="138240" cy="6840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307160" y="1899720"/>
                    <a:ext cx="41436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2">
                        <a:moveTo>
                          <a:pt x="19" y="8"/>
                        </a:moveTo>
                        <a:lnTo>
                          <a:pt x="0" y="35"/>
                        </a:lnTo>
                        <a:lnTo>
                          <a:pt x="17" y="51"/>
                        </a:lnTo>
                        <a:lnTo>
                          <a:pt x="19" y="49"/>
                        </a:lnTo>
                        <a:lnTo>
                          <a:pt x="19" y="121"/>
                        </a:lnTo>
                        <a:lnTo>
                          <a:pt x="46" y="121"/>
                        </a:lnTo>
                        <a:lnTo>
                          <a:pt x="46" y="59"/>
                        </a:lnTo>
                        <a:lnTo>
                          <a:pt x="67" y="121"/>
                        </a:lnTo>
                        <a:lnTo>
                          <a:pt x="86" y="121"/>
                        </a:lnTo>
                        <a:lnTo>
                          <a:pt x="86" y="63"/>
                        </a:lnTo>
                        <a:lnTo>
                          <a:pt x="90" y="63"/>
                        </a:lnTo>
                        <a:lnTo>
                          <a:pt x="90" y="121"/>
                        </a:lnTo>
                        <a:lnTo>
                          <a:pt x="117" y="121"/>
                        </a:lnTo>
                        <a:lnTo>
                          <a:pt x="117" y="48"/>
                        </a:lnTo>
                        <a:lnTo>
                          <a:pt x="122" y="47"/>
                        </a:lnTo>
                        <a:lnTo>
                          <a:pt x="122" y="10"/>
                        </a:lnTo>
                        <a:lnTo>
                          <a:pt x="109" y="0"/>
                        </a:lnTo>
                        <a:lnTo>
                          <a:pt x="102" y="0"/>
                        </a:lnTo>
                        <a:lnTo>
                          <a:pt x="94" y="13"/>
                        </a:lnTo>
                        <a:lnTo>
                          <a:pt x="92" y="6"/>
                        </a:lnTo>
                        <a:lnTo>
                          <a:pt x="95" y="1"/>
                        </a:lnTo>
                        <a:lnTo>
                          <a:pt x="85" y="1"/>
                        </a:lnTo>
                        <a:lnTo>
                          <a:pt x="87" y="6"/>
                        </a:lnTo>
                        <a:lnTo>
                          <a:pt x="86" y="13"/>
                        </a:lnTo>
                        <a:lnTo>
                          <a:pt x="76" y="0"/>
                        </a:lnTo>
                        <a:lnTo>
                          <a:pt x="70" y="0"/>
                        </a:lnTo>
                        <a:lnTo>
                          <a:pt x="62" y="5"/>
                        </a:lnTo>
                        <a:lnTo>
                          <a:pt x="57" y="15"/>
                        </a:lnTo>
                        <a:lnTo>
                          <a:pt x="55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>
                  <a:off x="1367640" y="1906200"/>
                  <a:ext cx="128520" cy="6228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307160" y="1970280"/>
                  <a:ext cx="84960" cy="5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545" y="17137"/>
                      </a:moveTo>
                      <a:arcTo wR="10800" hR="10800" stAng="2155710" swAng="109439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545" y="17137"/>
                      </a:moveTo>
                      <a:arcTo wR="10800" hR="10800" stAng="2155710" swAng="10943902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519200" y="1906200"/>
                  <a:ext cx="54720" cy="3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" y="9373"/>
                      </a:moveTo>
                      <a:arcTo wR="10800" hR="10800" stAng="-10344321" swAng="45432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" y="9373"/>
                      </a:moveTo>
                      <a:arcTo wR="10800" hR="10800" stAng="-10344321" swAng="4543290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652040" y="1904040"/>
                  <a:ext cx="59760" cy="3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607" y="66"/>
                      </a:moveTo>
                      <a:arcTo wR="10800" hR="10800" stAng="-5780411" swAng="57804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607" y="66"/>
                      </a:moveTo>
                      <a:arcTo wR="10800" hR="10800" stAng="-5780411" swAng="5780411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1770480" y="1775160"/>
                <a:ext cx="164160" cy="355320"/>
                <a:chOff x="1770480" y="1775160"/>
                <a:chExt cx="164160" cy="3553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810800" y="1775160"/>
                  <a:ext cx="74160" cy="7344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1770480" y="1855080"/>
                  <a:ext cx="164160" cy="275400"/>
                  <a:chOff x="1770480" y="1855080"/>
                  <a:chExt cx="164160" cy="27540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1780200" y="1855080"/>
                    <a:ext cx="154440" cy="27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4">
                        <a:moveTo>
                          <a:pt x="21" y="4"/>
                        </a:moveTo>
                        <a:lnTo>
                          <a:pt x="20" y="9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40"/>
                        </a:lnTo>
                        <a:lnTo>
                          <a:pt x="10" y="48"/>
                        </a:lnTo>
                        <a:lnTo>
                          <a:pt x="10" y="123"/>
                        </a:lnTo>
                        <a:lnTo>
                          <a:pt x="23" y="123"/>
                        </a:lnTo>
                        <a:lnTo>
                          <a:pt x="24" y="65"/>
                        </a:lnTo>
                        <a:lnTo>
                          <a:pt x="30" y="123"/>
                        </a:lnTo>
                        <a:lnTo>
                          <a:pt x="44" y="123"/>
                        </a:lnTo>
                        <a:lnTo>
                          <a:pt x="38" y="63"/>
                        </a:lnTo>
                        <a:lnTo>
                          <a:pt x="38" y="49"/>
                        </a:lnTo>
                        <a:lnTo>
                          <a:pt x="45" y="32"/>
                        </a:lnTo>
                        <a:lnTo>
                          <a:pt x="33" y="30"/>
                        </a:lnTo>
                        <a:lnTo>
                          <a:pt x="27" y="30"/>
                        </a:lnTo>
                        <a:lnTo>
                          <a:pt x="28" y="48"/>
                        </a:lnTo>
                        <a:lnTo>
                          <a:pt x="33" y="48"/>
                        </a:lnTo>
                        <a:lnTo>
                          <a:pt x="33" y="54"/>
                        </a:lnTo>
                        <a:lnTo>
                          <a:pt x="14" y="54"/>
                        </a:lnTo>
                        <a:lnTo>
                          <a:pt x="14" y="16"/>
                        </a:lnTo>
                        <a:lnTo>
                          <a:pt x="33" y="16"/>
                        </a:lnTo>
                        <a:lnTo>
                          <a:pt x="33" y="30"/>
                        </a:lnTo>
                        <a:lnTo>
                          <a:pt x="45" y="32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8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876680" y="1855080"/>
                    <a:ext cx="482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66" y="96"/>
                        </a:moveTo>
                        <a:arcTo wR="10800" hR="10800" stAng="-5857689" swAng="54020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66" y="96"/>
                        </a:moveTo>
                        <a:arcTo wR="10800" hR="10800" stAng="-5857689" swAng="5402010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1793880" y="1856880"/>
                    <a:ext cx="464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61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61039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770480" y="1917360"/>
                    <a:ext cx="60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776" y="18082"/>
                        </a:moveTo>
                        <a:arcTo wR="10800" hR="10800" stAng="2543846" swAng="96660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776" y="18082"/>
                        </a:moveTo>
                        <a:arcTo wR="10800" hR="10800" stAng="2543846" swAng="9666069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879200" y="1913400"/>
                    <a:ext cx="550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681" y="721"/>
                        </a:moveTo>
                        <a:arcTo wR="10800" hR="10800" stAng="-4136517" swAng="116495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681" y="721"/>
                        </a:moveTo>
                        <a:arcTo wR="10800" hR="10800" stAng="-4136517" swAng="11649573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1384560" y="2508480"/>
              <a:ext cx="846000" cy="231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fafd00"/>
              </a:solidFill>
              <a:miter/>
            </a:ln>
            <a:effectLst>
              <a:outerShdw dist="0" dir="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20400" y="2508480"/>
              <a:ext cx="758520" cy="284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03160" y="3248280"/>
              <a:ext cx="62568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53000" y="4108320"/>
              <a:ext cx="62244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441160" y="4667760"/>
              <a:ext cx="320040" cy="448920"/>
              <a:chOff x="2441160" y="4667760"/>
              <a:chExt cx="320040" cy="44892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2441160" y="4667760"/>
                <a:ext cx="320040" cy="448920"/>
                <a:chOff x="2441160" y="4667760"/>
                <a:chExt cx="320040" cy="448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441160" y="4727520"/>
                  <a:ext cx="320040" cy="389160"/>
                </a:xfrm>
                <a:custGeom>
                  <a:avLst/>
                  <a:gdLst/>
                  <a:ahLst/>
                  <a:rect l="l" t="t" r="r" b="b"/>
                  <a:pathLst>
                    <a:path w="95" h="175">
                      <a:moveTo>
                        <a:pt x="94" y="2"/>
                      </a:moveTo>
                      <a:lnTo>
                        <a:pt x="94" y="144"/>
                      </a:lnTo>
                      <a:lnTo>
                        <a:pt x="92" y="149"/>
                      </a:lnTo>
                      <a:lnTo>
                        <a:pt x="90" y="153"/>
                      </a:lnTo>
                      <a:lnTo>
                        <a:pt x="87" y="158"/>
                      </a:lnTo>
                      <a:lnTo>
                        <a:pt x="82" y="162"/>
                      </a:lnTo>
                      <a:lnTo>
                        <a:pt x="76" y="166"/>
                      </a:lnTo>
                      <a:lnTo>
                        <a:pt x="70" y="170"/>
                      </a:lnTo>
                      <a:lnTo>
                        <a:pt x="63" y="171"/>
                      </a:lnTo>
                      <a:lnTo>
                        <a:pt x="57" y="172"/>
                      </a:lnTo>
                      <a:lnTo>
                        <a:pt x="51" y="174"/>
                      </a:lnTo>
                      <a:lnTo>
                        <a:pt x="44" y="174"/>
                      </a:lnTo>
                      <a:lnTo>
                        <a:pt x="37" y="172"/>
                      </a:lnTo>
                      <a:lnTo>
                        <a:pt x="31" y="171"/>
                      </a:lnTo>
                      <a:lnTo>
                        <a:pt x="24" y="170"/>
                      </a:lnTo>
                      <a:lnTo>
                        <a:pt x="18" y="167"/>
                      </a:lnTo>
                      <a:lnTo>
                        <a:pt x="13" y="163"/>
                      </a:lnTo>
                      <a:lnTo>
                        <a:pt x="8" y="160"/>
                      </a:lnTo>
                      <a:lnTo>
                        <a:pt x="4" y="155"/>
                      </a:lnTo>
                      <a:lnTo>
                        <a:pt x="3" y="152"/>
                      </a:lnTo>
                      <a:lnTo>
                        <a:pt x="1" y="148"/>
                      </a:lnTo>
                      <a:lnTo>
                        <a:pt x="0" y="143"/>
                      </a:lnTo>
                      <a:lnTo>
                        <a:pt x="0" y="0"/>
                      </a:lnTo>
                      <a:lnTo>
                        <a:pt x="94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467800" y="4667760"/>
                  <a:ext cx="262800" cy="10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2552040" y="4847760"/>
                <a:ext cx="172080" cy="1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flipV="1">
              <a:off x="2667600" y="3885120"/>
              <a:ext cx="0" cy="2134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61480" y="3903120"/>
              <a:ext cx="0" cy="1782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74720" y="3791880"/>
              <a:ext cx="0" cy="2894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3600" y="3684960"/>
              <a:ext cx="33480" cy="39672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89480" y="2205000"/>
              <a:ext cx="0" cy="249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42440" y="2124720"/>
              <a:ext cx="91080" cy="32976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43120" y="2793240"/>
              <a:ext cx="54360" cy="249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33880" y="2846880"/>
              <a:ext cx="0" cy="19584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97560" y="2846880"/>
              <a:ext cx="53640" cy="19584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012320" y="4473720"/>
              <a:ext cx="54360" cy="16056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1526760" y="4473360"/>
              <a:ext cx="244080" cy="21420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770840" y="4473360"/>
              <a:ext cx="81360" cy="21420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79200" y="3096720"/>
              <a:ext cx="2664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14200" y="3471120"/>
              <a:ext cx="0" cy="1782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32560" y="3096720"/>
              <a:ext cx="433800" cy="5526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120320" y="4331160"/>
              <a:ext cx="16272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84560" y="4331160"/>
              <a:ext cx="11484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879200" y="3885480"/>
              <a:ext cx="108000" cy="5882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586240" y="4313160"/>
              <a:ext cx="0" cy="160200"/>
            </a:xfrm>
            <a:prstGeom prst="line">
              <a:avLst/>
            </a:prstGeom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76520" y="4496040"/>
              <a:ext cx="9720" cy="11160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33880" y="3096720"/>
              <a:ext cx="0" cy="1245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20640" y="4788000"/>
              <a:ext cx="389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32160" y="4108320"/>
              <a:ext cx="541080" cy="19584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44320" y="4108320"/>
              <a:ext cx="548280" cy="19584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45040" y="4108320"/>
              <a:ext cx="534960" cy="19584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L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1411560" y="3667320"/>
              <a:ext cx="4046040" cy="217800"/>
              <a:chOff x="1411560" y="3667320"/>
              <a:chExt cx="4046040" cy="217800"/>
            </a:xfrm>
          </p:grpSpPr>
          <p:sp>
            <p:nvSpPr>
              <p:cNvPr id="560" name=""/>
              <p:cNvSpPr/>
              <p:nvPr/>
            </p:nvSpPr>
            <p:spPr>
              <a:xfrm>
                <a:off x="1411560" y="3667320"/>
                <a:ext cx="3727440" cy="0"/>
              </a:xfrm>
              <a:prstGeom prst="line">
                <a:avLst/>
              </a:prstGeom>
              <a:ln w="5076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81120" y="3774240"/>
                <a:ext cx="3713760" cy="0"/>
              </a:xfrm>
              <a:prstGeom prst="line">
                <a:avLst/>
              </a:prstGeom>
              <a:ln w="5076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43120" y="3885120"/>
                <a:ext cx="3714480" cy="0"/>
              </a:xfrm>
              <a:prstGeom prst="line">
                <a:avLst/>
              </a:prstGeom>
              <a:ln w="5076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109600" y="4108320"/>
              <a:ext cx="62244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33880" y="3471120"/>
              <a:ext cx="0" cy="2847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06360" y="3248280"/>
              <a:ext cx="70092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778680" y="4574520"/>
              <a:ext cx="374760" cy="324720"/>
              <a:chOff x="778680" y="4574520"/>
              <a:chExt cx="374760" cy="3247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778680" y="4574520"/>
                <a:ext cx="323640" cy="324720"/>
                <a:chOff x="778680" y="4574520"/>
                <a:chExt cx="323640" cy="3247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78680" y="4609800"/>
                  <a:ext cx="323640" cy="289440"/>
                </a:xfrm>
                <a:custGeom>
                  <a:avLst/>
                  <a:gdLst/>
                  <a:ahLst/>
                  <a:rect l="l" t="t" r="r" b="b"/>
                  <a:pathLst>
                    <a:path w="96" h="130">
                      <a:moveTo>
                        <a:pt x="95" y="1"/>
                      </a:moveTo>
                      <a:lnTo>
                        <a:pt x="95" y="106"/>
                      </a:lnTo>
                      <a:lnTo>
                        <a:pt x="93" y="110"/>
                      </a:lnTo>
                      <a:lnTo>
                        <a:pt x="91" y="114"/>
                      </a:lnTo>
                      <a:lnTo>
                        <a:pt x="88" y="117"/>
                      </a:lnTo>
                      <a:lnTo>
                        <a:pt x="83" y="120"/>
                      </a:lnTo>
                      <a:lnTo>
                        <a:pt x="77" y="123"/>
                      </a:lnTo>
                      <a:lnTo>
                        <a:pt x="71" y="125"/>
                      </a:lnTo>
                      <a:lnTo>
                        <a:pt x="64" y="126"/>
                      </a:lnTo>
                      <a:lnTo>
                        <a:pt x="58" y="128"/>
                      </a:lnTo>
                      <a:lnTo>
                        <a:pt x="52" y="129"/>
                      </a:lnTo>
                      <a:lnTo>
                        <a:pt x="45" y="129"/>
                      </a:lnTo>
                      <a:lnTo>
                        <a:pt x="38" y="128"/>
                      </a:lnTo>
                      <a:lnTo>
                        <a:pt x="32" y="127"/>
                      </a:lnTo>
                      <a:lnTo>
                        <a:pt x="24" y="125"/>
                      </a:lnTo>
                      <a:lnTo>
                        <a:pt x="18" y="124"/>
                      </a:lnTo>
                      <a:lnTo>
                        <a:pt x="14" y="122"/>
                      </a:lnTo>
                      <a:lnTo>
                        <a:pt x="8" y="118"/>
                      </a:lnTo>
                      <a:lnTo>
                        <a:pt x="5" y="115"/>
                      </a:lnTo>
                      <a:lnTo>
                        <a:pt x="3" y="113"/>
                      </a:lnTo>
                      <a:lnTo>
                        <a:pt x="1" y="109"/>
                      </a:lnTo>
                      <a:lnTo>
                        <a:pt x="0" y="106"/>
                      </a:lnTo>
                      <a:lnTo>
                        <a:pt x="0" y="0"/>
                      </a:lnTo>
                      <a:lnTo>
                        <a:pt x="95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05320" y="4574520"/>
                  <a:ext cx="266400" cy="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798480" y="4669920"/>
                <a:ext cx="354960" cy="2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767880" y="4645800"/>
              <a:ext cx="3931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IS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1526760" y="4652280"/>
              <a:ext cx="540360" cy="465120"/>
              <a:chOff x="1526760" y="4652280"/>
              <a:chExt cx="540360" cy="465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526760" y="4652280"/>
                <a:ext cx="540360" cy="465120"/>
                <a:chOff x="1526760" y="4652280"/>
                <a:chExt cx="540360" cy="465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1526760" y="4710240"/>
                  <a:ext cx="540360" cy="407160"/>
                </a:xfrm>
                <a:custGeom>
                  <a:avLst/>
                  <a:gdLst/>
                  <a:ahLst/>
                  <a:rect l="l" t="t" r="r" b="b"/>
                  <a:pathLst>
                    <a:path w="160" h="183">
                      <a:moveTo>
                        <a:pt x="159" y="2"/>
                      </a:moveTo>
                      <a:lnTo>
                        <a:pt x="159" y="150"/>
                      </a:lnTo>
                      <a:lnTo>
                        <a:pt x="156" y="156"/>
                      </a:lnTo>
                      <a:lnTo>
                        <a:pt x="153" y="160"/>
                      </a:lnTo>
                      <a:lnTo>
                        <a:pt x="146" y="165"/>
                      </a:lnTo>
                      <a:lnTo>
                        <a:pt x="139" y="169"/>
                      </a:lnTo>
                      <a:lnTo>
                        <a:pt x="129" y="174"/>
                      </a:lnTo>
                      <a:lnTo>
                        <a:pt x="119" y="177"/>
                      </a:lnTo>
                      <a:lnTo>
                        <a:pt x="108" y="179"/>
                      </a:lnTo>
                      <a:lnTo>
                        <a:pt x="96" y="180"/>
                      </a:lnTo>
                      <a:lnTo>
                        <a:pt x="86" y="182"/>
                      </a:lnTo>
                      <a:lnTo>
                        <a:pt x="75" y="182"/>
                      </a:lnTo>
                      <a:lnTo>
                        <a:pt x="63" y="180"/>
                      </a:lnTo>
                      <a:lnTo>
                        <a:pt x="53" y="179"/>
                      </a:lnTo>
                      <a:lnTo>
                        <a:pt x="41" y="177"/>
                      </a:lnTo>
                      <a:lnTo>
                        <a:pt x="31" y="175"/>
                      </a:lnTo>
                      <a:lnTo>
                        <a:pt x="22" y="171"/>
                      </a:lnTo>
                      <a:lnTo>
                        <a:pt x="14" y="167"/>
                      </a:lnTo>
                      <a:lnTo>
                        <a:pt x="7" y="162"/>
                      </a:lnTo>
                      <a:lnTo>
                        <a:pt x="4" y="159"/>
                      </a:lnTo>
                      <a:lnTo>
                        <a:pt x="2" y="155"/>
                      </a:lnTo>
                      <a:lnTo>
                        <a:pt x="0" y="150"/>
                      </a:lnTo>
                      <a:lnTo>
                        <a:pt x="0" y="0"/>
                      </a:lnTo>
                      <a:lnTo>
                        <a:pt x="159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cap="rnd"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554120" y="4652280"/>
                  <a:ext cx="482400" cy="11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2a4b"/>
                    </a:gs>
                    <a:gs pos="50000">
                      <a:srgbClr val="618ffd"/>
                    </a:gs>
                    <a:gs pos="100000">
                      <a:srgbClr val="1c2a4b"/>
                    </a:gs>
                  </a:gsLst>
                  <a:lin ang="10800000"/>
                </a:gra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1603440" y="4797000"/>
                <a:ext cx="30744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I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769840" y="1739880"/>
              <a:ext cx="627480" cy="377280"/>
              <a:chOff x="2769840" y="1739880"/>
              <a:chExt cx="627480" cy="37728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2769840" y="1788840"/>
                <a:ext cx="414360" cy="328320"/>
                <a:chOff x="2769840" y="1788840"/>
                <a:chExt cx="414360" cy="32832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2775960" y="1788840"/>
                  <a:ext cx="408240" cy="328320"/>
                  <a:chOff x="2775960" y="1788840"/>
                  <a:chExt cx="408240" cy="3283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837160" y="1788840"/>
                    <a:ext cx="124560" cy="6624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009240" y="1788840"/>
                    <a:ext cx="131400" cy="66240"/>
                  </a:xfrm>
                  <a:prstGeom prst="ellipse">
                    <a:avLst/>
                  </a:pr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775960" y="1859760"/>
                    <a:ext cx="408240" cy="2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16">
                        <a:moveTo>
                          <a:pt x="19" y="8"/>
                        </a:moveTo>
                        <a:lnTo>
                          <a:pt x="0" y="34"/>
                        </a:lnTo>
                        <a:lnTo>
                          <a:pt x="17" y="48"/>
                        </a:lnTo>
                        <a:lnTo>
                          <a:pt x="19" y="47"/>
                        </a:lnTo>
                        <a:lnTo>
                          <a:pt x="19" y="115"/>
                        </a:lnTo>
                        <a:lnTo>
                          <a:pt x="45" y="115"/>
                        </a:lnTo>
                        <a:lnTo>
                          <a:pt x="45" y="55"/>
                        </a:lnTo>
                        <a:lnTo>
                          <a:pt x="67" y="115"/>
                        </a:lnTo>
                        <a:lnTo>
                          <a:pt x="85" y="115"/>
                        </a:lnTo>
                        <a:lnTo>
                          <a:pt x="85" y="60"/>
                        </a:lnTo>
                        <a:lnTo>
                          <a:pt x="88" y="60"/>
                        </a:lnTo>
                        <a:lnTo>
                          <a:pt x="89" y="115"/>
                        </a:lnTo>
                        <a:lnTo>
                          <a:pt x="115" y="115"/>
                        </a:lnTo>
                        <a:lnTo>
                          <a:pt x="115" y="45"/>
                        </a:lnTo>
                        <a:lnTo>
                          <a:pt x="120" y="45"/>
                        </a:lnTo>
                        <a:lnTo>
                          <a:pt x="120" y="10"/>
                        </a:lnTo>
                        <a:lnTo>
                          <a:pt x="107" y="0"/>
                        </a:lnTo>
                        <a:lnTo>
                          <a:pt x="100" y="0"/>
                        </a:lnTo>
                        <a:lnTo>
                          <a:pt x="92" y="12"/>
                        </a:lnTo>
                        <a:lnTo>
                          <a:pt x="90" y="5"/>
                        </a:lnTo>
                        <a:lnTo>
                          <a:pt x="94" y="1"/>
                        </a:lnTo>
                        <a:lnTo>
                          <a:pt x="83" y="1"/>
                        </a:lnTo>
                        <a:lnTo>
                          <a:pt x="86" y="5"/>
                        </a:lnTo>
                        <a:lnTo>
                          <a:pt x="84" y="12"/>
                        </a:lnTo>
                        <a:lnTo>
                          <a:pt x="76" y="0"/>
                        </a:lnTo>
                        <a:lnTo>
                          <a:pt x="69" y="0"/>
                        </a:lnTo>
                        <a:lnTo>
                          <a:pt x="60" y="5"/>
                        </a:lnTo>
                        <a:lnTo>
                          <a:pt x="57" y="14"/>
                        </a:lnTo>
                        <a:lnTo>
                          <a:pt x="54" y="10"/>
                        </a:lnTo>
                        <a:lnTo>
                          <a:pt x="19" y="8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3" name=""/>
                <p:cNvSpPr/>
                <p:nvPr/>
              </p:nvSpPr>
              <p:spPr>
                <a:xfrm>
                  <a:off x="2837160" y="1861920"/>
                  <a:ext cx="121680" cy="6444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69840" y="1928520"/>
                  <a:ext cx="81000" cy="4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40" y="17004"/>
                      </a:moveTo>
                      <a:arcTo wR="10800" hR="10800" stAng="2103565" swAng="11185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40" y="17004"/>
                      </a:moveTo>
                      <a:arcTo wR="10800" hR="10800" stAng="2103565" swAng="11185443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988720" y="1863720"/>
                  <a:ext cx="46800" cy="3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3" y="9460"/>
                      </a:moveTo>
                      <a:arcTo wR="10800" hR="10800" stAng="-10372498" swAng="4544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3" y="9460"/>
                      </a:moveTo>
                      <a:arcTo wR="10800" hR="10800" stAng="-10372498" swAng="4544997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116880" y="1863720"/>
                  <a:ext cx="60840" cy="3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39" y="52"/>
                      </a:moveTo>
                      <a:arcTo wR="10800" hR="10800" stAng="-5738156" swAng="52574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39" y="52"/>
                      </a:moveTo>
                      <a:arcTo wR="10800" hR="10800" stAng="-5738156" swAng="5257483"/>
                    </a:path>
                  </a:pathLst>
                </a:cu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3243240" y="1739880"/>
                <a:ext cx="154080" cy="341640"/>
                <a:chOff x="3243240" y="1739880"/>
                <a:chExt cx="154080" cy="3416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3276720" y="1739880"/>
                  <a:ext cx="77040" cy="68400"/>
                </a:xfrm>
                <a:prstGeom prst="ellipse">
                  <a:avLst/>
                </a:prstGeom>
                <a:solidFill>
                  <a:srgbClr val="0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3243240" y="1814760"/>
                  <a:ext cx="154080" cy="266760"/>
                  <a:chOff x="3243240" y="1814760"/>
                  <a:chExt cx="154080" cy="2667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243240" y="1814760"/>
                    <a:ext cx="1540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20">
                        <a:moveTo>
                          <a:pt x="21" y="4"/>
                        </a:moveTo>
                        <a:lnTo>
                          <a:pt x="20" y="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5" y="6"/>
                        </a:lnTo>
                        <a:lnTo>
                          <a:pt x="0" y="32"/>
                        </a:lnTo>
                        <a:lnTo>
                          <a:pt x="5" y="39"/>
                        </a:lnTo>
                        <a:lnTo>
                          <a:pt x="10" y="46"/>
                        </a:lnTo>
                        <a:lnTo>
                          <a:pt x="10" y="119"/>
                        </a:lnTo>
                        <a:lnTo>
                          <a:pt x="23" y="119"/>
                        </a:lnTo>
                        <a:lnTo>
                          <a:pt x="24" y="63"/>
                        </a:lnTo>
                        <a:lnTo>
                          <a:pt x="30" y="119"/>
                        </a:lnTo>
                        <a:lnTo>
                          <a:pt x="44" y="119"/>
                        </a:lnTo>
                        <a:lnTo>
                          <a:pt x="38" y="62"/>
                        </a:lnTo>
                        <a:lnTo>
                          <a:pt x="38" y="47"/>
                        </a:lnTo>
                        <a:lnTo>
                          <a:pt x="45" y="31"/>
                        </a:lnTo>
                        <a:lnTo>
                          <a:pt x="33" y="29"/>
                        </a:lnTo>
                        <a:lnTo>
                          <a:pt x="27" y="29"/>
                        </a:lnTo>
                        <a:lnTo>
                          <a:pt x="28" y="46"/>
                        </a:lnTo>
                        <a:lnTo>
                          <a:pt x="33" y="46"/>
                        </a:lnTo>
                        <a:lnTo>
                          <a:pt x="33" y="53"/>
                        </a:lnTo>
                        <a:lnTo>
                          <a:pt x="14" y="53"/>
                        </a:lnTo>
                        <a:lnTo>
                          <a:pt x="14" y="15"/>
                        </a:lnTo>
                        <a:lnTo>
                          <a:pt x="33" y="15"/>
                        </a:lnTo>
                        <a:lnTo>
                          <a:pt x="33" y="29"/>
                        </a:lnTo>
                        <a:lnTo>
                          <a:pt x="45" y="31"/>
                        </a:lnTo>
                        <a:lnTo>
                          <a:pt x="38" y="3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4" y="7"/>
                        </a:lnTo>
                        <a:lnTo>
                          <a:pt x="23" y="4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3344040" y="1816920"/>
                    <a:ext cx="457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73" y="95"/>
                        </a:moveTo>
                        <a:arcTo wR="10800" hR="10800" stAng="-5855678" swAng="585567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73" y="95"/>
                        </a:moveTo>
                        <a:arcTo wR="10800" hR="10800" stAng="-5855678" swAng="5855678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3256920" y="1821600"/>
                    <a:ext cx="46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234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23472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243240" y="1874520"/>
                    <a:ext cx="4860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000" y="17829"/>
                        </a:moveTo>
                        <a:arcTo wR="10800" hR="10800" stAng="2436077" swAng="980736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000" y="17829"/>
                        </a:moveTo>
                        <a:arcTo wR="10800" hR="10800" stAng="2436077" swAng="9807364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348000" y="1875240"/>
                    <a:ext cx="450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232" y="951"/>
                        </a:moveTo>
                        <a:arcTo wR="10800" hR="10800" stAng="-3946335" swAng="115585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232" y="951"/>
                        </a:moveTo>
                        <a:arcTo wR="10800" hR="10800" stAng="-3946335" swAng="11558528"/>
                      </a:path>
                    </a:pathLst>
                  </a:custGeom>
                  <a:solidFill>
                    <a:srgbClr val="00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fcfeb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5" name=""/>
            <p:cNvGrpSpPr/>
            <p:nvPr/>
          </p:nvGrpSpPr>
          <p:grpSpPr>
            <a:xfrm>
              <a:off x="4476240" y="2309760"/>
              <a:ext cx="750960" cy="423000"/>
              <a:chOff x="4476240" y="2309760"/>
              <a:chExt cx="750960" cy="423000"/>
            </a:xfrm>
          </p:grpSpPr>
          <p:sp>
            <p:nvSpPr>
              <p:cNvPr id="596" name=""/>
              <p:cNvSpPr/>
              <p:nvPr/>
            </p:nvSpPr>
            <p:spPr>
              <a:xfrm>
                <a:off x="4509720" y="2309760"/>
                <a:ext cx="426600" cy="42300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76240" y="2419200"/>
                <a:ext cx="75096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469400" y="3248280"/>
              <a:ext cx="711000" cy="19584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979797"/>
                </a:gs>
              </a:gsLst>
              <a:lin ang="5400000"/>
            </a:gra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fcfeb9"/>
                  </a:solidFill>
                  <a:latin typeface="Arial"/>
                </a:rPr>
                <a:t>PM</a:t>
              </a:r>
              <a:endParaRPr b="0" lang="en-US" sz="1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13480" y="2793240"/>
              <a:ext cx="53640" cy="249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17880" y="3103200"/>
              <a:ext cx="0" cy="11808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17880" y="3475800"/>
              <a:ext cx="0" cy="3920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3229920" y="4696560"/>
              <a:ext cx="1242360" cy="423000"/>
              <a:chOff x="3229920" y="4696560"/>
              <a:chExt cx="1242360" cy="423000"/>
            </a:xfrm>
          </p:grpSpPr>
          <p:sp>
            <p:nvSpPr>
              <p:cNvPr id="603" name=""/>
              <p:cNvSpPr/>
              <p:nvPr/>
            </p:nvSpPr>
            <p:spPr>
              <a:xfrm>
                <a:off x="3229920" y="4696560"/>
                <a:ext cx="690480" cy="423000"/>
              </a:xfrm>
              <a:prstGeom prst="cube">
                <a:avLst>
                  <a:gd name="adj" fmla="val 24995"/>
                </a:avLst>
              </a:prstGeom>
              <a:solidFill>
                <a:srgbClr val="aa00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97960" y="4805640"/>
                <a:ext cx="117432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0880"/>
                    <a:tab algn="l" pos="1301760"/>
                    <a:tab algn="l" pos="1952640"/>
                    <a:tab algn="l" pos="2603520"/>
                    <a:tab algn="l" pos="3254400"/>
                    <a:tab algn="l" pos="3905280"/>
                    <a:tab algn="l" pos="4556160"/>
                    <a:tab algn="l" pos="5207040"/>
                    <a:tab algn="l" pos="5857920"/>
                    <a:tab algn="l" pos="6508800"/>
                    <a:tab algn="l" pos="7159680"/>
                    <a:tab algn="l" pos="7810560"/>
                    <a:tab algn="l" pos="8461440"/>
                    <a:tab algn="l" pos="9112320"/>
                    <a:tab algn="l" pos="9763200"/>
                    <a:tab algn="l" pos="1041408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IPS</a:t>
                </a:r>
                <a:endParaRPr b="0" lang="en-US" sz="12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3006360" y="4505040"/>
              <a:ext cx="521280" cy="213480"/>
            </a:xfrm>
            <a:prstGeom prst="line">
              <a:avLst/>
            </a:prstGeom>
            <a:ln w="5076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81640" y="4326840"/>
              <a:ext cx="230040" cy="12924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6629400" y="1523880"/>
            <a:ext cx="23320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noAutofit/>
          </a:bodyPr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cfeb9"/>
                </a:solidFill>
                <a:latin typeface="Arial"/>
              </a:rPr>
              <a:t>PM: Protocol Machin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cc00ff"/>
                </a:solidFill>
                <a:latin typeface="Arial"/>
              </a:rPr>
              <a:t>LS:  Library Servic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Arial"/>
              </a:rPr>
              <a:t>IC:   Interface Client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IS:   Information Sourc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  <a:p>
            <a:pPr marL="247680" indent="-247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IPS: Information </a:t>
            </a:r>
            <a:br>
              <a:rPr sz="1500"/>
            </a:br>
            <a:r>
              <a:rPr b="1" lang="en-US" sz="1500" spc="-1" strike="noStrike">
                <a:solidFill>
                  <a:srgbClr val="aa0000"/>
                </a:solidFill>
                <a:latin typeface="Arial"/>
              </a:rPr>
              <a:t>   Processing Service</a:t>
            </a:r>
            <a:endParaRPr b="0" lang="en-US" sz="15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44640" y="5322960"/>
            <a:ext cx="42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Times New Roman"/>
              </a:rPr>
              <a:t>* objects, collections, services, platforms….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Infrastru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1581120"/>
            <a:ext cx="4503600" cy="2459160"/>
          </a:xfrm>
          <a:prstGeom prst="rect">
            <a:avLst/>
          </a:pr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raditional KM Stress: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Selection, Organization, Structure for Acc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Centralization, Standard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Physical objects &amp; standard genr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10240" y="1600200"/>
            <a:ext cx="4433760" cy="2440080"/>
          </a:xfrm>
          <a:prstGeom prst="rect">
            <a:avLst/>
          </a:pr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mporary Technological Capabilities (e.g. WWW) Stress: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Flexibility, Opennes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Rapid Evolu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ecentralization (geographic, administrative)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lvl="1" marL="685800" indent="-2858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Digital objects, old + new genres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95480" y="4761000"/>
            <a:ext cx="3517920" cy="169704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esign Space for KM System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&amp; Beyond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55760" y="4135320"/>
            <a:ext cx="1397160" cy="55908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5430960" y="4078440"/>
            <a:ext cx="1428480" cy="63468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erging Intellectual Persp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04920" y="1224000"/>
            <a:ext cx="7967520" cy="5148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02760" y="589104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Audio Level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6800" y="5181480"/>
            <a:ext cx="1050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Key Word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2400" y="4548240"/>
            <a:ext cx="1446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Word Relevan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200" y="3581280"/>
            <a:ext cx="839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Camera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Mo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3480" y="2762280"/>
            <a:ext cx="836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Scene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Change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2040" y="1847880"/>
            <a:ext cx="13093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Histogram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Times New Roman"/>
              </a:rPr>
              <a:t>Scene Analysi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55520" y="1036800"/>
            <a:ext cx="7051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91320" y="6464160"/>
            <a:ext cx="242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buClr>
                <a:srgbClr val="000020"/>
              </a:buClr>
              <a:buFont typeface="Times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20"/>
                </a:solidFill>
                <a:latin typeface="Times New Roman"/>
              </a:rPr>
              <a:t>Carnegie Mellon University 2/96</a:t>
            </a:r>
            <a:endParaRPr b="0" lang="en-US" sz="1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0676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pplication of Integrated Techn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510280" y="6248520"/>
            <a:ext cx="42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UC Berkeley Digital Library Testbed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uilding Large Collections of Diverse Inform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52280" y="1371600"/>
            <a:ext cx="8991720" cy="5257440"/>
            <a:chOff x="152280" y="1371600"/>
            <a:chExt cx="8991720" cy="5257440"/>
          </a:xfrm>
        </p:grpSpPr>
        <p:sp>
          <p:nvSpPr>
            <p:cNvPr id="632" name=""/>
            <p:cNvSpPr/>
            <p:nvPr/>
          </p:nvSpPr>
          <p:spPr>
            <a:xfrm>
              <a:off x="152280" y="1371600"/>
              <a:ext cx="8991720" cy="4924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aphicFrame>
          <p:nvGraphicFramePr>
            <p:cNvPr id="633" name=""/>
            <p:cNvGraphicFramePr/>
            <p:nvPr/>
          </p:nvGraphicFramePr>
          <p:xfrm>
            <a:off x="228600" y="1538640"/>
            <a:ext cx="8839080" cy="5090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538640"/>
                      <a:ext cx="8839080" cy="50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5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5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985680" y="1306440"/>
            <a:ext cx="6901200" cy="51735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ew Conceptualiza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4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ather information and build colle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version of existing collec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reation of new collections from scratch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 of collec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eate new communit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ke technology disappea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om our awareness and experie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11560" y="6553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2" action="ppaction://hlinksldjump"/>
              </a:rPr>
              <a:t>Griffin 2000</a:t>
            </a:r>
            <a:r>
              <a:rPr b="0" lang="en-US" sz="1400" spc="-1" strike="noStrike" u="sng">
                <a:solidFill>
                  <a:srgbClr val="c000c0"/>
                </a:solidFill>
                <a:uFillTx/>
                <a:latin typeface="Times New Roman"/>
                <a:hlinkClick r:id="rId3" action="ppaction://hlinksldjump"/>
              </a:rPr>
              <a:t>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sage Asp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ection and evaluation of usage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ingle items vs. sets of i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ividuals vs. grou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mporal relationshi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-space relationshi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evance feedback, user profiles, citation analysis, hypertext links, collaborative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ical aspects, quantity of dat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Griffin 2000] Stephen M. Griffin, Digital Libraries Initiative, National Science Foundation, www.dli2.nsf.gov, 2000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aplan 1997] R.M. Kaplan, Knowledge Management - Access to an Untapped Resource, October 1997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Konno 2000] Noburu Konno, Knowledge Strategy and “Ba” - The Practice of Knowledge-Based Management. Column, Inc., 2000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NCDDR 1996] A Review of the Literature on Dissemination and Knowledge Utilization. National Center for the Dissemination of Disability Research (NCDDR), www.ncddr.org, 1996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[Skyrme 1999].David Skyrme. Knowledge Usage Template. David Skyrme Associates, www.skyrme.com, 1999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9520" y="6583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il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Usa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sing Knowledge     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do we want when we look for information or knowledge?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nswers, not documents!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urrent retrieval systems identify documents that may or may not contain the answ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rrelevant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rtial answ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ultiple answ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consistent, wrong context, …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urrent Usage of Retrieval Syste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ols to identify potentially relevant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mulation of questions as unnatural que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ither simplistic sets of keywords, or complex express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anking of retrieved documents according to obscure 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-formulation of queries to influence rank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stly batch process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bmit 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ew res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etter Usage of Retrieval Syste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 answers to ques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nd the right information fas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nalyze information, combine it into easily digestible forma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mmarize longer documents, sets of related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ate it to decisions to be mad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1T00:57:01Z</cp:lastPrinted>
  <dcterms:modified xsi:type="dcterms:W3CDTF">2003-03-21T00:57:11Z</dcterms:modified>
  <cp:revision>52</cp:revision>
  <dc:subject/>
  <dc:title>CSC 480: Artificial Intelligence</dc:title>
</cp:coreProperties>
</file>