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642100" cy="9777413"/>
  <p:custShowLst>
    <p:custShow name="Lecture 1" id="0">
      <p:sldLst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84"/>
      </p:sldLst>
    </p:custShow>
    <p:custShow name="Lecture 2" id="1">
      <p:sldLst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72"/>
        <p:sld r:id="rId75"/>
      </p:sldLst>
    </p:custShow>
    <p:custShow name="Spring 2003" id="2">
      <p:sldLst>
        <p:sld r:id="rId8"/>
        <p:sld r:id="rId9"/>
        <p:sld r:id="rId10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44720" y="85896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ultiple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, mind, col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2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ultiple 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, process, client, strategic, financial, planning, department, personal, organiz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4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4120" y="6553080"/>
            <a:ext cx="3659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Management Techniques  </a:t>
            </a:r>
            <a:fld id="{B71F4F08-035F-44B7-A101-F6E011E66346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hyperlink" Target="file:///Knowledge-Exchange.ppt#Determination of CM Needs" TargetMode="External"/><Relationship Id="rId7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hyperlink" Target="file:///Knowledge-Exchange.ppt#Determination of CM Needs" TargetMode="External"/><Relationship Id="rId6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Knowledge-Exchange.ppt#Determination of CM Needs" TargetMode="External"/><Relationship Id="rId2" Type="http://schemas.openxmlformats.org/officeDocument/2006/relationships/hyperlink" Target="file:///Knowledge-Exchange.ppt#Determination of CM Needs" TargetMode="External"/><Relationship Id="rId3" Type="http://schemas.openxmlformats.org/officeDocument/2006/relationships/hyperlink" Target="file:///Knowledge-Exchange.ppt#Determination of CM Needs" TargetMode="External"/><Relationship Id="rId4" Type="http://schemas.openxmlformats.org/officeDocument/2006/relationships/hyperlink" Target="file:///Knowledge-Exchange.ppt#Determination of CM Needs" TargetMode="External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(CM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finition attemp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efinition Attempts Corporate Memo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, disembodied, persistent representation of knowledge and information in an organization [Van Heijst, van der Spek and Kruizinga 1996]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include knowledge on products, production processes, clients, marketing strategies, plans, strategic goal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collective data and knowledge resources of a company [Nagendra Prasad and Plaza 1996]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include project experiences, problem-solving expertise, design rationale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urpose Corporate Memo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italiza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resources and know-how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operation through effective communication and active docu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the right knowledge to the right person at the right time and at the right level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nks in the Knowledge Cha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 existing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rmine require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velop new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llocate new and existing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y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tain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pose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ction of nee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the corporate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usion of the corporate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 of the corporate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tenance and evolu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Management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360" y="725400"/>
            <a:ext cx="847080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ultidisciplinary Perspective on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ological (computer science, information technology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entrate on technical and implementation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neglect requirements and constraints of systems in practical u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al (CKO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hasize the role of CM in an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overlook technological problems, or underestimate efforts needed for implem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601200" cy="483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rporate Memory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76320" y="426960"/>
            <a:ext cx="9283680" cy="600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s for Establishing a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void knowledge lo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parture, retirement, change of roles of employe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loit past experie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umulative technical know-ho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ccessful and failed proje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tilize collective knowledge for strategic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tection of new opportun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ction to chang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 knowledge exchange and commun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stablish venues for sharing inform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 lear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e knowledge from different area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ross-disciplinary knowledge exchan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in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cific know-how to design, build, sell and support products and servi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cit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vidual and collective skills enabling the organization to act, adapt, and evol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ngible knowledge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, procedures, plans, models, algorithms, documents of analysis and synthes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angible knowledge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ilities, professional skills, private knowledge, organizational culture, history of the organization, contexts of decision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ypes of Corporate Memo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ical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-how of the employees about technical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al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bout the internal structure of an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ject mem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ssons and experiences from past pro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ividual mem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tus, know-how, activities, relationships of individual employe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nal vs. external mem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cates the source of relevant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M Nee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 is also a knowledge production uni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 necessarily as primary purpo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pends on size, type, and organizational scheme of th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distributed network of consulta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eds of individual users vs. organizational nee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tecting the “right” needs can be diffic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rget users, domains, tasks, situations,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etermination of CM Nee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akeholder-center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luenced by the members of the community of people affected by or invested in the syste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ments analysi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arly involvement of stakeholders is critical and feasib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st stakeholders are internal to the organization, and many are motivat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st solutions are adaptations or evolutions of previous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SCW, KBMS, MIS, ..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M Constr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n-computational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-bas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-bas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se-bas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tribut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ject-centered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binations of several techniq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uman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main experts, experienced specialists, people with organizational memo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hysical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inted documents, notes, design artifacts, products, tool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gital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orts, technical documentation, design artifacts, email, case libraries, dictionaries, sketches, etc.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on-computational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stablishment of paper-based knowledge reposito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isting document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ation of new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ynthesis of knowledge not explicit in reports, technical documentation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rove strategies and structural aspects of the organ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atic generation of knowledge in an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be the predecessor to a digital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-bas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rises all existing documents in an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be in paper-based or digital for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es the collection in a systematic wa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face to manage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paration, storage, retrieval, processing, evaluation,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Management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-bas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the elicitation and explicit modeling of knowledge from exper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use a formal knowledge representation frame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is is often quite expens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rves as an assistant to human “knowledge workers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erent from traditional exper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ir goal is the automation of a particular tas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se-bas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tilizes case-based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ast experiences are collected in a (semi-)formal representation mechanis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ows the comparison of “case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assumption is that new problems can often be solved by looking up solutions to previous probl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elps with the concentration of expertise around specific c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inuous evolution of the CM through the continuous addition of new c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stribut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mphasis on collaboration and knowledge-sharing across traditional bounda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ographically distributed persons/grou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ucturally separated entiti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mon tasks, domai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ssential for virtual organiza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ams or people collaborate on-li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ject-centered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es the relevant knowledge accumulated while working on a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cussions, arguments, decisions, compromise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ortant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resent and reconcile perspectives of different stakehold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nges of priorities in the projec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 of decision rationa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covery of insights and solutions from past scenario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56520" indent="-212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-inventing the wheel”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ssue-based information system (IBIS) [Rittel 1972]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binations of Several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l and formal knowledge represent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bination of paper-based and digital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i-automatic extrac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ve construction of “community knowledge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existing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braries, data bases, case bases, document collections, multi-media collections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ffusion and Use of C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usion mod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tt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rchive that can be consulted when need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llection and diffusion are passiv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spo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tive collection, passive diffus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ublis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levant elements are distributed to us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assive collection, active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um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pecific roles or methods for collection of relevant knowled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tive collection and active diffus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ffusion via Intranet/Interne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equently centered around Web serv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as some conceptual and technical limitations, but substantial benefi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fidentiality, security, reliability, distraction,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and Information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raditional index-based techniques are integrated in most approaches to C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hancements through advanced techniq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ve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lligent ag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nanci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rove the bottom-line of th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be difficult to meas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k environ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ployee satisfa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chnic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nsfer of know-how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some effects may not be direct consequences of the CM, but side-effects of its introduction or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intenance and Evolu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hould be based on the evaluation of the current sit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ddition of new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moval or modification of obsolete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herence probl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accepta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should become a continuous activ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xamples of CM Metho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YGM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X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KS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AM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YGM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Cycle de Vie et Gestion des Métiers et des Applications, KADE-TEX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a professional memory in manufactur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ies on six categories of industrial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ingular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rminological knowledge (dictionary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uctural knowledge (ontology, factual knowledge base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havioral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ategic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perational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X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eds analysis and identific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elementary pieces of experien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ruction of a computer-based repres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lementation through a software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KS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Method for Knowledge System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ic-based decision support metho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views knowledge assets as a complex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dels this complex system through different perspectiv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ntactical, semantic, pragmat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erent compon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(data process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ignification (task modell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ext (activity modell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2800" y="655308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Dieng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AM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133640"/>
            <a:ext cx="8686800" cy="5038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91520" y="655308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nowledge Associates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AMM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1025640"/>
            <a:ext cx="8382240" cy="5680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91520" y="655308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nowledge Associates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Technology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es key KM activities and related knowledge[oriented techniques and too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sonal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dific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eation/innov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e/monit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Techn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84080" y="960480"/>
            <a:ext cx="7569360" cy="494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25440" y="5943600"/>
            <a:ext cx="6200640" cy="3373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Times New Roman"/>
              </a:rPr>
              <a:t>(Key: P"Person, K1"Knowledge 1echnology, I1"Information 1echnology)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ersonal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haring knowledge through person-to-person conta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for more effective communic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mail, message boards, chatrooms, personal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dif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ing existing knowledge and placing it in reposito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or knowledge repres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ic mode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s, frames, case-based reasoning, ..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ecialized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- or domain-specif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posito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0" y="1143000"/>
            <a:ext cx="9137520" cy="503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4960" y="6553080"/>
            <a:ext cx="121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PMG 1998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scove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arching and retrieving knowledge from repositories and data b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rom information retrieval, knowledge-based systems, natural language process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earch engines,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reation/inno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tion of new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rom cognitive science, psych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ainstorming support, creativity assist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inly a human endeav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pture/Monito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ing knowledge as people work on their normal tas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and techniques from Human-Computer Interaction, AI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udit trails, case collec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1520" y="65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Milton et al.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91520" y="655308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Macintosh et al. 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Proces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1520" y="655308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Macintosh et al. 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0" y="99072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OMOTE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120" y="204840"/>
            <a:ext cx="7613640" cy="6451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90440" y="6553080"/>
            <a:ext cx="24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Karagiannis 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&amp; 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Telesko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6"/>
              </a:rPr>
              <a:t>, 2000</a:t>
            </a: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37680"/>
            <a:ext cx="2438280" cy="1490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ROMOTE Framework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17640" y="3240"/>
            <a:ext cx="6426360" cy="6854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890440" y="6553080"/>
            <a:ext cx="24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aragiannis &amp; Telesko,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rganizational Memory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292400"/>
            <a:ext cx="9137520" cy="4276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92960" y="655308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7680"/>
            <a:ext cx="3124080" cy="293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text-Sensitive Knowledge Suppl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62240" y="228600"/>
            <a:ext cx="5981760" cy="6261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fra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37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ion of Ont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368360"/>
            <a:ext cx="9118440" cy="4794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Task Suppor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43000" y="896760"/>
            <a:ext cx="6883560" cy="5991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ated Research Area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863640"/>
            <a:ext cx="7200720" cy="5994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66440"/>
            <a:ext cx="7772400" cy="1762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ece"/>
                </a:solidFill>
                <a:latin typeface="Times New Roman"/>
              </a:rPr>
              <a:t>Developing a Knowledge</a:t>
            </a:r>
            <a:br>
              <a:rPr sz="5400"/>
            </a:br>
            <a:r>
              <a:rPr b="0" lang="en-US" sz="5400" spc="-1" strike="noStrike">
                <a:solidFill>
                  <a:srgbClr val="00cece"/>
                </a:solidFill>
                <a:latin typeface="Times New Roman"/>
              </a:rPr>
              <a:t>Management Technology</a:t>
            </a:r>
            <a:br>
              <a:rPr sz="5400"/>
            </a:br>
            <a:br>
              <a:rPr sz="3200"/>
            </a:br>
            <a:r>
              <a:rPr b="1" lang="en-US" sz="3200" spc="-1" strike="noStrike">
                <a:solidFill>
                  <a:srgbClr val="00cece"/>
                </a:solidFill>
                <a:latin typeface="Times New Roman"/>
              </a:rPr>
              <a:t>An Encompassing View on the Projects of the</a:t>
            </a:r>
            <a:br>
              <a:rPr sz="3200"/>
            </a:br>
            <a:r>
              <a:rPr b="1" lang="en-US" sz="3200" spc="-1" strike="noStrike">
                <a:solidFill>
                  <a:srgbClr val="00cece"/>
                </a:solidFill>
                <a:latin typeface="Times New Roman"/>
              </a:rPr>
              <a:t>Knowledge Management Group at DFKI Kaiserslautern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82760" y="418140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Michael Sintek, Andreas Abecker, Ansgar Bernardi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German Research Center for Artificial Intellig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aiserslautern, German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99240" y="426960"/>
            <a:ext cx="874800" cy="944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4120" y="1862640"/>
            <a:ext cx="6894360" cy="703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quirements and approaches to support KM infrastructures for organizations; related research fie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58680" y="27676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KnowMor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tive knowledge supply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58680" y="337716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Know-Net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llaboration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ongo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9320" y="400428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FRODO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stribution, framework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8680" y="4577400"/>
            <a:ext cx="658980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MOTIV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3D acces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120" y="5182560"/>
            <a:ext cx="6894360" cy="642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mmary: we propose a rich, modular KM middleware as a solid basis for engineering intranet-based KM solution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8480" y="2581200"/>
            <a:ext cx="0" cy="259092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8480" y="2967120"/>
            <a:ext cx="16020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6120" y="3576600"/>
            <a:ext cx="16020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6400" y="4194000"/>
            <a:ext cx="16056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8480" y="4768920"/>
            <a:ext cx="160200" cy="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6200" y="1084320"/>
            <a:ext cx="692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560" y="1031760"/>
            <a:ext cx="685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evelopment of Knowledge Management technology of the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Knowledge Management Group at DFKI Kaiserslautern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is an Important Productivity Factor for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1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sides labor, capital, and land,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nowledge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has been recognized as an important productivity fact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37240" indent="-237240">
              <a:lnSpc>
                <a:spcPct val="1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is stored in individual brains or implicitly encoded and hidden in organizational processes, documents, services, and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3724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M is concerned with discovery, acquisition, creation, dissemination, and utilization of knowledge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 flipV="1">
            <a:off x="4600440" y="3108240"/>
            <a:ext cx="1536840" cy="4176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38800" y="2428920"/>
            <a:ext cx="1465200" cy="9144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905200" y="2570040"/>
            <a:ext cx="1218960" cy="97632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24160" y="2285640"/>
            <a:ext cx="549360" cy="12603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24160" y="3546360"/>
            <a:ext cx="1922760" cy="2127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3546360"/>
            <a:ext cx="2306880" cy="9651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4160" y="3546360"/>
            <a:ext cx="336600" cy="12798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54080" y="3546360"/>
            <a:ext cx="1269720" cy="113688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828440" y="3546360"/>
            <a:ext cx="2306520" cy="36540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00080" y="3200040"/>
            <a:ext cx="2244960" cy="345960"/>
          </a:xfrm>
          <a:prstGeom prst="line">
            <a:avLst/>
          </a:prstGeom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rganizations Have Serious Problems in Managing Their Corporate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arious fields of computer science tackle </a:t>
            </a: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of these knowledge problem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3152880"/>
            <a:ext cx="1805400" cy="825480"/>
          </a:xfrm>
          <a:prstGeom prst="rect">
            <a:avLst/>
          </a:prstGeom>
          <a:solidFill>
            <a:srgbClr val="fc7c7c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Knowledge</a:t>
            </a:r>
            <a:br>
              <a:rPr sz="2400"/>
            </a:b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08360" y="3716280"/>
            <a:ext cx="17139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6840" y="4627440"/>
            <a:ext cx="12567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26960" y="4489560"/>
            <a:ext cx="130860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56120" y="2090880"/>
            <a:ext cx="13208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2040" y="3016080"/>
            <a:ext cx="12704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9760" y="4356000"/>
            <a:ext cx="1867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Multiple Format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9720" y="3614760"/>
            <a:ext cx="163764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Multiple View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11120" y="2343240"/>
            <a:ext cx="142272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ccessibilit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43080" y="2271600"/>
            <a:ext cx="11818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76720" y="2962440"/>
            <a:ext cx="12826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Acquisi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arch Fields Related to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81040" y="1414080"/>
            <a:ext cx="7640640" cy="36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-202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Groupware, Workflow, CSCW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 of individuals and depart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02680" indent="-202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Document management, retrieval, and filtering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 of the available abstract, strategic knowledge written down in text-based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ten advertised as KM solu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02680" indent="-202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Artificial Intellig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mal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b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-202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ert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86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 strive for a new quality of knowledge systems by </a:t>
            </a: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integrating all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these area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9080" y="460440"/>
            <a:ext cx="704880" cy="1378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More—Knowledge Management for Learning Organ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77800" y="1738080"/>
            <a:ext cx="7772400" cy="30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ic research project funded by German govern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entral idea: access to multiple heterogeneous knowledge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abled through comprehensive knowledge description using several formal ontologies (information, domain, enterprise ontology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tive information delivery integrated into business proces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5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plicit representation of 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KnowMore, knowledge can be viewed as information linked into the application context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KnowMore System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78" name="map-smaller" descr=""/>
          <p:cNvPicPr/>
          <p:nvPr/>
        </p:nvPicPr>
        <p:blipFill>
          <a:blip r:embed="rId1"/>
          <a:stretch/>
        </p:blipFill>
        <p:spPr>
          <a:xfrm>
            <a:off x="1623960" y="1019160"/>
            <a:ext cx="5958000" cy="5084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764480" y="62856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iti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137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-Net—Knowledge Management with Intranet Techn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0640" y="13842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-21420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unded by the European Commission within the “IT for learning and training industry” progra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lnSpc>
                <a:spcPct val="11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e groupware functionalities with AI methods enabling the handling of knowledge obj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Knowledger™ suite (Lotus Notes™ application from Knowledge Associates) and intelligent agents (DFKI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-214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anet- and agent-based knowledge platform: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14080" indent="-2142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dification, mapping, sharing, and reuse of explicit knowledge in multimedia cont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14080" indent="-214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rporate knowledge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14080" indent="-214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lligent navigation, searching,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14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14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addition to a KnowMore-like knowledge platform, </a:t>
            </a:r>
            <a:r>
              <a:rPr b="0" i="1" lang="en-US" sz="2400" spc="-1" strike="noStrike">
                <a:solidFill>
                  <a:srgbClr val="fcfeb9"/>
                </a:solidFill>
                <a:latin typeface="Arial"/>
              </a:rPr>
              <a:t>collaborative aspects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play an important role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-Net: Collaborative Asp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77948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ve tools supporting communities of practice at the team level to facilitate the creation of shared memories and interpretative 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52520" indent="-188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l-time group discussions/meeting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52520" indent="-188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ject-based bulletin boards and foru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52520" indent="-188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-line topical conferences with threading features and interactive expertise datab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88640" indent="-18864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-Net mainly exploits the collaboration and coordination technology provided by Lotus Notes and add-on products like Sameti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Know-Net Intranet- and Agent-Based System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03280" y="1349280"/>
            <a:ext cx="8104320" cy="4708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761240" y="74772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RODO—A Scalable OM Framework for Evolutionary Growth </a:t>
            </a:r>
            <a:r>
              <a:rPr b="0" i="1" lang="en-US" sz="4400" spc="-1" strike="noStrike">
                <a:solidFill>
                  <a:srgbClr val="00cece"/>
                </a:solidFill>
                <a:latin typeface="Times New Roman"/>
              </a:rPr>
              <a:t>(future work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9200" y="1342800"/>
            <a:ext cx="7772400" cy="25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94040" indent="-194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ic research project funded by German government, successor project of KnowMo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4040" indent="-194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More: global set of ontologies, centralized infer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4040" indent="-194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ODO: conjointly use knowledge from several independent knowledge source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-194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gacy datab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-194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pendently introduced partial OMs based on specific ontolog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-194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ernal knowledge sources (with own ontologie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6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1120" y="4319640"/>
            <a:ext cx="5019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y mapping problem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municating and cooperating service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78160" y="3965400"/>
            <a:ext cx="344520" cy="365400"/>
          </a:xfrm>
          <a:prstGeom prst="downArrow">
            <a:avLst>
              <a:gd name="adj1" fmla="val 50000"/>
              <a:gd name="adj2" fmla="val 26515"/>
            </a:avLst>
          </a:prstGeom>
          <a:solidFill>
            <a:srgbClr val="c000c0"/>
          </a:solidFill>
          <a:ln w="0">
            <a:solidFill>
              <a:srgbClr val="fcfeb9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1814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 propose a rich, modular KM middleware as a solid basis for engineering intranet-based KM solution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757920" y="423720"/>
            <a:ext cx="533520" cy="9036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FRODO KM Middleware Will Exploit Various Notions of Ag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30360" y="180972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gital reference and acquisition libraria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 their respective knowledge source and organization princip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 how to effectively access, search, maintain the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rappers, mediators, ontologists, knowledge brok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d intelligent interfaces to legacy sys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ke sources accessible to higher-level inferen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 analysis and information extraction specialis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ow transition between informal and formal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199800" indent="-199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sk/process agents, knowledge push/pull mechanis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age workflow enact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479880" indent="-199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lize context-sensitive information supp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hai" descr=""/>
          <p:cNvPicPr/>
          <p:nvPr/>
        </p:nvPicPr>
        <p:blipFill>
          <a:blip r:embed="rId1"/>
          <a:stretch/>
        </p:blipFill>
        <p:spPr>
          <a:xfrm>
            <a:off x="1938240" y="1028880"/>
            <a:ext cx="5052960" cy="50529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 Sample Instantiation of the FRODO OM Framewor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64480" y="873000"/>
            <a:ext cx="601560" cy="9864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E—Fostering Individual Users’ Motivation for Accessing Online Learning &amp; Training Resources </a:t>
            </a:r>
            <a:r>
              <a:rPr b="0" i="1" lang="en-US" sz="4400" spc="-1" strike="noStrike">
                <a:solidFill>
                  <a:srgbClr val="00cece"/>
                </a:solidFill>
                <a:latin typeface="Times New Roman"/>
              </a:rPr>
              <a:t>(planned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0120" y="16682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ill be submitted to the EU 5th frame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line front-end to electronic learning and training (L&amp;T)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ddresses users’ motivation; important driving factor is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TIVE proposes an environment that wraps L&amp;T tools and content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together with people’s intera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65600" indent="-1656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virtual representation of the L&amp;T environment: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kspace with 3D representation of the organization and of knowledge asse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vatars associated to us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izard agents with specific roles for promoting available materi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397440" indent="-1656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pport for social processes: events organization, social places (café) etc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0640" y="2682720"/>
            <a:ext cx="325440" cy="293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00c0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E Adds Access to L&amp;T OMs Through 3D Knowledge Port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1120" y="15256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L&amp;T contents is accompanied by a KnowMore/FRODO-like knowledge meta-level based upon various ontolog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XML as upcoming standard will be used for this knowledge representation tas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3D knowledge portal wraps these ontologies to provide a highly motivating access to the L&amp;T re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-22572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us, the MOTIVE 3D knowledge access can be viewed as an additional, but highly user-friendly information retrieval aspect of the general KM scenario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25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0120" y="4724280"/>
            <a:ext cx="7772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general, 3D spaces can be used to replace legacy information retrieval, knowledge acquisition, and workflow frontends of OM systems.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59800" y="998640"/>
            <a:ext cx="601560" cy="982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60240" y="140148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In our view, KM technology is a combination of:</a:t>
            </a:r>
            <a:endParaRPr b="0" lang="en-US" sz="32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tributed, heterogeneous knowledge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various formal ontologies (information, domain, enterprise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meta-descrip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l-formal transi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orkflow, active support, 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mework, middleware, ag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196920" indent="-196920">
              <a:lnSpc>
                <a:spcPct val="14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-friendly access through 3D spa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70880" y="1122480"/>
            <a:ext cx="695160" cy="1429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2600" y="6553080"/>
            <a:ext cx="17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/>
              </a:rPr>
              <a:t>Abecker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/>
              </a:rPr>
              <a:t> et al. 1998b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M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1:39:45Z</cp:lastPrinted>
  <dcterms:modified xsi:type="dcterms:W3CDTF">2003-03-21T00:12:07Z</dcterms:modified>
  <cp:revision>47</cp:revision>
  <dc:subject/>
  <dc:title>CSC 480: Artificial Intelligence</dc:title>
</cp:coreProperties>
</file>