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7.pct" ContentType="image/x-pict"/>
  <Override PartName="/ppt/media/image8.pct" ContentType="image/x-pict"/>
  <Override PartName="/ppt/media/image27.jpeg" ContentType="image/jpeg"/>
  <Override PartName="/ppt/media/image9.png" ContentType="image/png"/>
  <Override PartName="/ppt/media/image34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33.png" ContentType="image/png"/>
  <Override PartName="/ppt/media/image40.png" ContentType="image/png"/>
  <Override PartName="/ppt/media/image39.pct" ContentType="image/x-pict"/>
  <Override PartName="/ppt/media/image41.png" ContentType="image/png"/>
  <Override PartName="/ppt/media/image4.pct" ContentType="image/x-pict"/>
  <Override PartName="/ppt/media/image13.png" ContentType="image/png"/>
  <Override PartName="/ppt/media/image10.pct" ContentType="image/x-pict"/>
  <Override PartName="/ppt/media/image22.png" ContentType="image/png"/>
  <Override PartName="/ppt/media/image5.pct" ContentType="image/x-pict"/>
  <Override PartName="/ppt/media/image12.png" ContentType="image/png"/>
  <Override PartName="/ppt/media/image3.pct" ContentType="image/x-pict"/>
  <Override PartName="/ppt/media/image6.png" ContentType="image/png"/>
  <Override PartName="/ppt/media/image29.png" ContentType="image/png"/>
  <Override PartName="/ppt/media/image2.pct" ContentType="image/x-pict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642100" cy="9777413"/>
  <p:custShowLst>
    <p:custShow name="Lecture 1" id="0">
      <p:sldLst>
        <p:sld r:id="rId13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</p:sldLst>
    </p:custShow>
    <p:custShow name="Lecture 2" id="1">
      <p:sldLst>
        <p:sld r:id="rId14"/>
        <p:sld r:id="rId15"/>
        <p:sld r:id="rId16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</p:sldLst>
    </p:custShow>
    <p:custShow name="Spring 2003" id="2">
      <p:sldLst>
        <p:sld r:id="rId6"/>
        <p:sld r:id="rId10"/>
        <p:sld r:id="rId11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8"/>
        <p:sld r:id="rId71"/>
        <p:sld r:id="rId74"/>
        <p:sld r:id="rId77"/>
        <p:sld r:id="rId80"/>
        <p:sld r:id="rId86"/>
        <p:sld r:id="rId8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0000" y="1393920"/>
            <a:ext cx="4325760" cy="3244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35040" y="5171760"/>
            <a:ext cx="534672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slogo" descr=""/>
          <p:cNvPicPr/>
          <p:nvPr/>
        </p:nvPicPr>
        <p:blipFill>
          <a:blip r:embed="rId1"/>
          <a:stretch/>
        </p:blipFill>
        <p:spPr>
          <a:xfrm>
            <a:off x="4059360" y="6111720"/>
            <a:ext cx="949320" cy="55260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4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553080"/>
            <a:ext cx="3125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Management Tools  </a:t>
            </a:r>
            <a:fld id="{267E740C-24F0-4EA4-B3EA-7B0CD8E55263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32.xml"/><Relationship Id="rId3" Type="http://schemas.openxmlformats.org/officeDocument/2006/relationships/slide" Target="slide38.xml"/><Relationship Id="rId4" Type="http://schemas.openxmlformats.org/officeDocument/2006/relationships/slide" Target="slide42.xml"/><Relationship Id="rId5" Type="http://schemas.openxmlformats.org/officeDocument/2006/relationships/slide" Target="slide47.xml"/><Relationship Id="rId6" Type="http://schemas.openxmlformats.org/officeDocument/2006/relationships/slide" Target="slide54.xml"/><Relationship Id="rId7" Type="http://schemas.openxmlformats.org/officeDocument/2006/relationships/slide" Target="slide58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t-research.ne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Other-Material/Wissensmanagement%202001/maybury.ppt#Slide 45" TargetMode="External"/><Relationship Id="rId2" Type="http://schemas.openxmlformats.org/officeDocument/2006/relationships/hyperlink" Target="file:///../Other-Material/Wissensmanagement%202001/maybury.ppt#Slide 45" TargetMode="External"/><Relationship Id="rId3" Type="http://schemas.openxmlformats.org/officeDocument/2006/relationships/hyperlink" Target="file:///../Other-Material/Wissensmanagement%202001/maybury.ppt#Slide 45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ng"/><Relationship Id="rId6" Type="http://schemas.openxmlformats.org/officeDocument/2006/relationships/image" Target="../media/image7.pct"/><Relationship Id="rId7" Type="http://schemas.openxmlformats.org/officeDocument/2006/relationships/image" Target="../media/image8.pct"/><Relationship Id="rId8" Type="http://schemas.openxmlformats.org/officeDocument/2006/relationships/image" Target="../media/image9.png"/><Relationship Id="rId9" Type="http://schemas.openxmlformats.org/officeDocument/2006/relationships/image" Target="../media/image10.pct"/><Relationship Id="rId10" Type="http://schemas.openxmlformats.org/officeDocument/2006/relationships/image" Target="../media/image11.jpeg"/><Relationship Id="rId11" Type="http://schemas.openxmlformats.org/officeDocument/2006/relationships/package" Target="../embeddings/oleObject1.xlsx"/><Relationship Id="rId12" Type="http://schemas.openxmlformats.org/officeDocument/2006/relationships/image" Target="../media/image2.pct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" Target="slide82.xml"/><Relationship Id="rId16" Type="http://schemas.openxmlformats.org/officeDocument/2006/relationships/slide" Target="slide82.xml"/><Relationship Id="rId17" Type="http://schemas.openxmlformats.org/officeDocument/2006/relationships/slide" Target="slide82.xml"/><Relationship Id="rId18" Type="http://schemas.openxmlformats.org/officeDocument/2006/relationships/slide" Target="slide82.xml"/><Relationship Id="rId19" Type="http://schemas.openxmlformats.org/officeDocument/2006/relationships/slideLayout" Target="../slideLayouts/slideLayout3.xml"/><Relationship Id="rId2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cmap.coginst.uwf.edu/" TargetMode="External"/><Relationship Id="rId2" Type="http://schemas.openxmlformats.org/officeDocument/2006/relationships/hyperlink" Target="http://cmap.coginst.uwf.edu/" TargetMode="External"/><Relationship Id="rId3" Type="http://schemas.openxmlformats.org/officeDocument/2006/relationships/hyperlink" Target="http://cmap.coginst.uwf.edu/" TargetMode="External"/><Relationship Id="rId4" Type="http://schemas.openxmlformats.org/officeDocument/2006/relationships/hyperlink" Target="http://cmap.coginst.uwf.edu/" TargetMode="External"/><Relationship Id="rId5" Type="http://schemas.openxmlformats.org/officeDocument/2006/relationships/hyperlink" Target="http://cmap.coginst.uwf.edu/" TargetMode="External"/><Relationship Id="rId6" Type="http://schemas.openxmlformats.org/officeDocument/2006/relationships/hyperlink" Target="http://cmap.coginst.uwf.edu/" TargetMode="External"/><Relationship Id="rId7" Type="http://schemas.openxmlformats.org/officeDocument/2006/relationships/hyperlink" Target="http://cmap.coginst.uwf.edu/" TargetMode="External"/><Relationship Id="rId8" Type="http://schemas.openxmlformats.org/officeDocument/2006/relationships/slide" Target="slide82.xml"/><Relationship Id="rId9" Type="http://schemas.openxmlformats.org/officeDocument/2006/relationships/slide" Target="slide82.xml"/><Relationship Id="rId10" Type="http://schemas.openxmlformats.org/officeDocument/2006/relationships/slide" Target="slide82.xml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cmap.coginst.uwf.edu/samples" TargetMode="External"/><Relationship Id="rId2" Type="http://schemas.openxmlformats.org/officeDocument/2006/relationships/slide" Target="slide82.xml"/><Relationship Id="rId3" Type="http://schemas.openxmlformats.org/officeDocument/2006/relationships/hyperlink" Target="http://cmap.coginst.uwf.edu/" TargetMode="External"/><Relationship Id="rId4" Type="http://schemas.openxmlformats.org/officeDocument/2006/relationships/hyperlink" Target="http://cmap.coginst.uwf.edu/" TargetMode="External"/><Relationship Id="rId5" Type="http://schemas.openxmlformats.org/officeDocument/2006/relationships/hyperlink" Target="http://cmap.coginst.uwf.edu/" TargetMode="External"/><Relationship Id="rId6" Type="http://schemas.openxmlformats.org/officeDocument/2006/relationships/hyperlink" Target="http://cmap.coginst.uwf.edu/" TargetMode="External"/><Relationship Id="rId7" Type="http://schemas.openxmlformats.org/officeDocument/2006/relationships/hyperlink" Target="http://cmap.coginst.uwf.edu/" TargetMode="External"/><Relationship Id="rId8" Type="http://schemas.openxmlformats.org/officeDocument/2006/relationships/hyperlink" Target="http://cmap.coginst.uwf.edu/" TargetMode="External"/><Relationship Id="rId9" Type="http://schemas.openxmlformats.org/officeDocument/2006/relationships/hyperlink" Target="http://cmap.coginst.uwf.edu/" TargetMode="External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82.xml"/><Relationship Id="rId3" Type="http://schemas.openxmlformats.org/officeDocument/2006/relationships/hyperlink" Target="http://cmap.coginst.uwf.edu/" TargetMode="External"/><Relationship Id="rId4" Type="http://schemas.openxmlformats.org/officeDocument/2006/relationships/hyperlink" Target="http://cmap.coginst.uwf.edu/" TargetMode="External"/><Relationship Id="rId5" Type="http://schemas.openxmlformats.org/officeDocument/2006/relationships/hyperlink" Target="http://cmap.coginst.uwf.edu/" TargetMode="External"/><Relationship Id="rId6" Type="http://schemas.openxmlformats.org/officeDocument/2006/relationships/hyperlink" Target="http://cmap.coginst.uwf.edu/" TargetMode="External"/><Relationship Id="rId7" Type="http://schemas.openxmlformats.org/officeDocument/2006/relationships/hyperlink" Target="http://cmap.coginst.uwf.edu/" TargetMode="External"/><Relationship Id="rId8" Type="http://schemas.openxmlformats.org/officeDocument/2006/relationships/hyperlink" Target="http://cmap.coginst.uwf.edu/" TargetMode="External"/><Relationship Id="rId9" Type="http://schemas.openxmlformats.org/officeDocument/2006/relationships/hyperlink" Target="http://cmap.coginst.uwf.edu/" TargetMode="External"/><Relationship Id="rId10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cmap.coginst.uwf.edu/" TargetMode="External"/><Relationship Id="rId3" Type="http://schemas.openxmlformats.org/officeDocument/2006/relationships/hyperlink" Target="http://cmap.coginst.uwf.edu/" TargetMode="External"/><Relationship Id="rId4" Type="http://schemas.openxmlformats.org/officeDocument/2006/relationships/hyperlink" Target="http://cmap.coginst.uwf.edu/" TargetMode="External"/><Relationship Id="rId5" Type="http://schemas.openxmlformats.org/officeDocument/2006/relationships/hyperlink" Target="http://cmap.coginst.uwf.edu/" TargetMode="External"/><Relationship Id="rId6" Type="http://schemas.openxmlformats.org/officeDocument/2006/relationships/hyperlink" Target="http://cmap.coginst.uwf.edu/" TargetMode="External"/><Relationship Id="rId7" Type="http://schemas.openxmlformats.org/officeDocument/2006/relationships/hyperlink" Target="http://cmap.coginst.uwf.edu/" TargetMode="External"/><Relationship Id="rId8" Type="http://schemas.openxmlformats.org/officeDocument/2006/relationships/hyperlink" Target="http://cmap.coginst.uwf.edu/" TargetMode="External"/><Relationship Id="rId9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82.xml"/><Relationship Id="rId3" Type="http://schemas.openxmlformats.org/officeDocument/2006/relationships/hyperlink" Target="http://cmap.coginst.uwf.edu/" TargetMode="External"/><Relationship Id="rId4" Type="http://schemas.openxmlformats.org/officeDocument/2006/relationships/hyperlink" Target="http://cmap.coginst.uwf.edu/" TargetMode="External"/><Relationship Id="rId5" Type="http://schemas.openxmlformats.org/officeDocument/2006/relationships/hyperlink" Target="http://cmap.coginst.uwf.edu/" TargetMode="External"/><Relationship Id="rId6" Type="http://schemas.openxmlformats.org/officeDocument/2006/relationships/hyperlink" Target="http://cmap.coginst.uwf.edu/" TargetMode="External"/><Relationship Id="rId7" Type="http://schemas.openxmlformats.org/officeDocument/2006/relationships/hyperlink" Target="http://cmap.coginst.uwf.edu/" TargetMode="External"/><Relationship Id="rId8" Type="http://schemas.openxmlformats.org/officeDocument/2006/relationships/hyperlink" Target="http://cmap.coginst.uwf.edu/" TargetMode="External"/><Relationship Id="rId9" Type="http://schemas.openxmlformats.org/officeDocument/2006/relationships/hyperlink" Target="http://cmap.coginst.uwf.edu/" TargetMode="External"/><Relationship Id="rId10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80-20.com/products/discovery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-sop.inria.fr/acacia/Cokace/index-eng.html" TargetMode="External"/><Relationship Id="rId2" Type="http://schemas.openxmlformats.org/officeDocument/2006/relationships/hyperlink" Target="http://www-sop.inria.fr/acacia/Cokace/index-eng.html" TargetMode="External"/><Relationship Id="rId3" Type="http://schemas.openxmlformats.org/officeDocument/2006/relationships/hyperlink" Target="http://www-sop.inria.fr/acacia/Cokace/index-eng.html" TargetMode="External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assistum.com/" TargetMode="External"/><Relationship Id="rId2" Type="http://schemas.openxmlformats.org/officeDocument/2006/relationships/hyperlink" Target="http://www.assistum.com/" TargetMode="External"/><Relationship Id="rId3" Type="http://schemas.openxmlformats.org/officeDocument/2006/relationships/hyperlink" Target="http://www.assistum.com/" TargetMode="External"/><Relationship Id="rId4" Type="http://schemas.openxmlformats.org/officeDocument/2006/relationships/hyperlink" Target="http://www.assistum.com/" TargetMode="External"/><Relationship Id="rId5" Type="http://schemas.openxmlformats.org/officeDocument/2006/relationships/hyperlink" Target="http://www.assistum.com/" TargetMode="External"/><Relationship Id="rId6" Type="http://schemas.openxmlformats.org/officeDocument/2006/relationships/hyperlink" Target="http://www.assistum.com/" TargetMode="External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assistum.com/2000/demonstrations/javademo.html" TargetMode="External"/><Relationship Id="rId2" Type="http://schemas.openxmlformats.org/officeDocument/2006/relationships/hyperlink" Target="http://www.assistum.com/2000/demonstrations/javademo.html" TargetMode="External"/><Relationship Id="rId3" Type="http://schemas.openxmlformats.org/officeDocument/2006/relationships/hyperlink" Target="http://www.assistum.com/2000/demonstrations/javademo.html" TargetMode="External"/><Relationship Id="rId4" Type="http://schemas.openxmlformats.org/officeDocument/2006/relationships/hyperlink" Target="http://www.assistum.com/2000/demonstrations/javademo.html" TargetMode="External"/><Relationship Id="rId5" Type="http://schemas.openxmlformats.org/officeDocument/2006/relationships/hyperlink" Target="http://www.assistum.com/2000/demonstrations/javademo.html" TargetMode="External"/><Relationship Id="rId6" Type="http://schemas.openxmlformats.org/officeDocument/2006/relationships/hyperlink" Target="http://www.assistum.com/" TargetMode="External"/><Relationship Id="rId7" Type="http://schemas.openxmlformats.org/officeDocument/2006/relationships/hyperlink" Target="http://www.assistum.com/" TargetMode="External"/><Relationship Id="rId8" Type="http://schemas.openxmlformats.org/officeDocument/2006/relationships/hyperlink" Target="http://www.assistum.com/" TargetMode="External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www.assistum.com/" TargetMode="External"/><Relationship Id="rId3" Type="http://schemas.openxmlformats.org/officeDocument/2006/relationships/hyperlink" Target="http://www.assistum.com/" TargetMode="External"/><Relationship Id="rId4" Type="http://schemas.openxmlformats.org/officeDocument/2006/relationships/hyperlink" Target="http://www.assistum.com/" TargetMode="External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assistum.com/" TargetMode="External"/><Relationship Id="rId3" Type="http://schemas.openxmlformats.org/officeDocument/2006/relationships/hyperlink" Target="http://www.assistum.com/" TargetMode="External"/><Relationship Id="rId4" Type="http://schemas.openxmlformats.org/officeDocument/2006/relationships/hyperlink" Target="http://www.assistum.com/" TargetMode="External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assistum.com/" TargetMode="External"/><Relationship Id="rId2" Type="http://schemas.openxmlformats.org/officeDocument/2006/relationships/hyperlink" Target="http://www.assistum.com/" TargetMode="External"/><Relationship Id="rId3" Type="http://schemas.openxmlformats.org/officeDocument/2006/relationships/hyperlink" Target="http://www.assistum.com/" TargetMode="External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isys.dia.fi.upm.es/ksm/home.html" TargetMode="External"/><Relationship Id="rId2" Type="http://schemas.openxmlformats.org/officeDocument/2006/relationships/hyperlink" Target="http://www.isys.dia.fi.upm.es/ksm/home.html" TargetMode="External"/><Relationship Id="rId3" Type="http://schemas.openxmlformats.org/officeDocument/2006/relationships/hyperlink" Target="http://www.isys.dia.fi.upm.es/ksm/home.html" TargetMode="External"/><Relationship Id="rId4" Type="http://schemas.openxmlformats.org/officeDocument/2006/relationships/hyperlink" Target="http://www.isys.dia.fi.upm.es/ksm/home.html" TargetMode="External"/><Relationship Id="rId5" Type="http://schemas.openxmlformats.org/officeDocument/2006/relationships/hyperlink" Target="http://www.isys.dia.fi.upm.es/ksm/home.html" TargetMode="External"/><Relationship Id="rId6" Type="http://schemas.openxmlformats.org/officeDocument/2006/relationships/hyperlink" Target="http://www.isys.dia.fi.upm.es/ksm/home.html" TargetMode="External"/><Relationship Id="rId7" Type="http://schemas.openxmlformats.org/officeDocument/2006/relationships/hyperlink" Target="http://www.isys.dia.fi.upm.es/ksm/home.html" TargetMode="External"/><Relationship Id="rId8" Type="http://schemas.openxmlformats.org/officeDocument/2006/relationships/hyperlink" Target="http://www.isys.dia.fi.upm.es/ksm/home.html" TargetMode="External"/><Relationship Id="rId9" Type="http://schemas.openxmlformats.org/officeDocument/2006/relationships/hyperlink" Target="http://www.isys.dia.fi.upm.es/ksm/home.html" TargetMode="External"/><Relationship Id="rId10" Type="http://schemas.openxmlformats.org/officeDocument/2006/relationships/hyperlink" Target="http://www.isys.dia.fi.upm.es/ksm/home.html" TargetMode="External"/><Relationship Id="rId11" Type="http://schemas.openxmlformats.org/officeDocument/2006/relationships/hyperlink" Target="http://www.isys.dia.fi.upm.es/ksm/home.html" TargetMode="External"/><Relationship Id="rId1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-sop.inria.fr/acacia/Cokace/cokace.html" TargetMode="External"/><Relationship Id="rId2" Type="http://schemas.openxmlformats.org/officeDocument/2006/relationships/hyperlink" Target="http://www-sop.inria.fr/acacia/Cokace/cokace.html" TargetMode="External"/><Relationship Id="rId3" Type="http://schemas.openxmlformats.org/officeDocument/2006/relationships/hyperlink" Target="http://www-sop.inria.fr/acacia/Cokace/cokace.html" TargetMode="External"/><Relationship Id="rId4" Type="http://schemas.openxmlformats.org/officeDocument/2006/relationships/hyperlink" Target="http://www-sop.inria.fr/acacia/Cokace/cokace.html" TargetMode="External"/><Relationship Id="rId5" Type="http://schemas.openxmlformats.org/officeDocument/2006/relationships/hyperlink" Target="http://www-sop.inria.fr/acacia/Cokace/cokace.html" TargetMode="External"/><Relationship Id="rId6" Type="http://schemas.openxmlformats.org/officeDocument/2006/relationships/hyperlink" Target="http://www-sop.inria.fr/acacia/Cokace/cokace.html" TargetMode="External"/><Relationship Id="rId7" Type="http://schemas.openxmlformats.org/officeDocument/2006/relationships/hyperlink" Target="http://www-sop.inria.fr/acacia/Cokace/cokace.html" TargetMode="External"/><Relationship Id="rId8" Type="http://schemas.openxmlformats.org/officeDocument/2006/relationships/hyperlink" Target="http://www-sop.inria.fr/acacia/Cokace/cokace.html" TargetMode="External"/><Relationship Id="rId9" Type="http://schemas.openxmlformats.org/officeDocument/2006/relationships/hyperlink" Target="http://www-sop.inria.fr/acacia/Cokace/cokace.html" TargetMode="External"/><Relationship Id="rId10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-sop.inria.fr/acacia/Cokace/index-eng.html" TargetMode="External"/><Relationship Id="rId2" Type="http://schemas.openxmlformats.org/officeDocument/2006/relationships/image" Target="../media/image39.pct"/><Relationship Id="rId3" Type="http://schemas.openxmlformats.org/officeDocument/2006/relationships/hyperlink" Target="http://www-sop.inria.fr/acacia/Cokace/index-eng.html" TargetMode="External"/><Relationship Id="rId4" Type="http://schemas.openxmlformats.org/officeDocument/2006/relationships/hyperlink" Target="http://www-sop.inria.fr/acacia/Cokace/index-eng.html" TargetMode="External"/><Relationship Id="rId5" Type="http://schemas.openxmlformats.org/officeDocument/2006/relationships/hyperlink" Target="http://www-sop.inria.fr/acacia/Cokace/index-eng.html" TargetMode="External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a-i-a.com/englishHomePage/technologies.html" TargetMode="External"/><Relationship Id="rId2" Type="http://schemas.openxmlformats.org/officeDocument/2006/relationships/hyperlink" Target="http://www.a-i-a.com/englishHomePage/technologies.html" TargetMode="External"/><Relationship Id="rId3" Type="http://schemas.openxmlformats.org/officeDocument/2006/relationships/hyperlink" Target="http://www.a-i-a.com/englishHomePage/technologies.html" TargetMode="External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a-i-a.com/englishHomePage/technologie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www.a-i-a.com/englishHomePage/siteMap.html" TargetMode="Externa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www.nowhere.com/" TargetMode="External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cmap.coginst.uwf.edu/info/" TargetMode="External"/><Relationship Id="rId2" Type="http://schemas.openxmlformats.org/officeDocument/2006/relationships/hyperlink" Target="http://cmap.coginst.uwf.edu/info/" TargetMode="External"/><Relationship Id="rId3" Type="http://schemas.openxmlformats.org/officeDocument/2006/relationships/hyperlink" Target="http://cmap.coginst.uwf.edu/info/" TargetMode="External"/><Relationship Id="rId4" Type="http://schemas.openxmlformats.org/officeDocument/2006/relationships/hyperlink" Target="http://cmap.coginst.uwf.edu/info/" TargetMode="External"/><Relationship Id="rId5" Type="http://schemas.openxmlformats.org/officeDocument/2006/relationships/hyperlink" Target="http://cmap.coginst.uwf.edu/info/" TargetMode="External"/><Relationship Id="rId6" Type="http://schemas.openxmlformats.org/officeDocument/2006/relationships/hyperlink" Target="http://cmap.coginst.uwf.edu/info/" TargetMode="External"/><Relationship Id="rId7" Type="http://schemas.openxmlformats.org/officeDocument/2006/relationships/hyperlink" Target="http://cmap.coginst.uwf.edu/info/" TargetMode="External"/><Relationship Id="rId8" Type="http://schemas.openxmlformats.org/officeDocument/2006/relationships/hyperlink" Target="http://www.sap-ag.de/solutions/bi/km" TargetMode="External"/><Relationship Id="rId9" Type="http://schemas.openxmlformats.org/officeDocument/2006/relationships/hyperlink" Target="http://www.sap-ag.de/solutions/bi/km" TargetMode="External"/><Relationship Id="rId10" Type="http://schemas.openxmlformats.org/officeDocument/2006/relationships/hyperlink" Target="http://www.sap-ag.de/solutions/bi/km" TargetMode="External"/><Relationship Id="rId11" Type="http://schemas.openxmlformats.org/officeDocument/2006/relationships/hyperlink" Target="http://www.sap-ag.de/solutions/bi/km" TargetMode="External"/><Relationship Id="rId12" Type="http://schemas.openxmlformats.org/officeDocument/2006/relationships/hyperlink" Target="http://www.sap-ag.de/solutions/bi/km" TargetMode="External"/><Relationship Id="rId13" Type="http://schemas.openxmlformats.org/officeDocument/2006/relationships/hyperlink" Target="http://cmap.coginst.uwf.edu/info/" TargetMode="External"/><Relationship Id="rId14" Type="http://schemas.openxmlformats.org/officeDocument/2006/relationships/hyperlink" Target="http://www.opentext.com/livelink" TargetMode="External"/><Relationship Id="rId15" Type="http://schemas.openxmlformats.org/officeDocument/2006/relationships/hyperlink" Target="http://www.opentext.com/livelink" TargetMode="External"/><Relationship Id="rId16" Type="http://schemas.openxmlformats.org/officeDocument/2006/relationships/hyperlink" Target="http://www.opentext.com/livelink" TargetMode="External"/><Relationship Id="rId17" Type="http://schemas.openxmlformats.org/officeDocument/2006/relationships/hyperlink" Target="http://www.opentext.com/livelink" TargetMode="External"/><Relationship Id="rId18" Type="http://schemas.openxmlformats.org/officeDocument/2006/relationships/hyperlink" Target="http://www.opentext.com/livelink" TargetMode="External"/><Relationship Id="rId19" Type="http://schemas.openxmlformats.org/officeDocument/2006/relationships/hyperlink" Target="http://www.aisb.uni-karlsruhe.de/~sst" TargetMode="External"/><Relationship Id="rId20" Type="http://schemas.openxmlformats.org/officeDocument/2006/relationships/hyperlink" Target="http://www.aisb.uni-karlsruhe.de/~sst" TargetMode="External"/><Relationship Id="rId21" Type="http://schemas.openxmlformats.org/officeDocument/2006/relationships/hyperlink" Target="http://www.aisb.uni-karlsruhe.de/~sst" TargetMode="External"/><Relationship Id="rId22" Type="http://schemas.openxmlformats.org/officeDocument/2006/relationships/hyperlink" Target="http://www.aisb.uni-karlsruhe.de/~sst" TargetMode="External"/><Relationship Id="rId23" Type="http://schemas.openxmlformats.org/officeDocument/2006/relationships/hyperlink" Target="http://www.aisb.uni-karlsruhe.de/~sst" TargetMode="External"/><Relationship Id="rId24" Type="http://schemas.openxmlformats.org/officeDocument/2006/relationships/hyperlink" Target="http://www.aisb.uni-karlsruhe.de/~sst" TargetMode="External"/><Relationship Id="rId25" Type="http://schemas.openxmlformats.org/officeDocument/2006/relationships/hyperlink" Target="http://www.aisb.uni-karlsruhe.de/~sst" TargetMode="External"/><Relationship Id="rId26" Type="http://schemas.openxmlformats.org/officeDocument/2006/relationships/hyperlink" Target="http://www.aisb.uni-karlsruhe.de/~sst" TargetMode="External"/><Relationship Id="rId27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Too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 action="ppaction://hlinksldjump"/>
              </a:rPr>
              <a:t>SAP Knowledge Wareho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 action="ppaction://hlinksldjump"/>
              </a:rPr>
              <a:t>IHMC Concept Map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 action="ppaction://hlinksldjump"/>
              </a:rPr>
              <a:t>80-20 Discov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 action="ppaction://hlinksldjump"/>
              </a:rPr>
              <a:t>Assistu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 action="ppaction://hlinksldjump"/>
              </a:rPr>
              <a:t>Knowledge Structure Manager (KSM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 action="ppaction://hlinksldjump"/>
              </a:rPr>
              <a:t>Cok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7" action="ppaction://hlinksldjump"/>
              </a:rPr>
              <a:t>Idea Process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Too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udy IT-Research 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.it-research.n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49120"/>
            <a:ext cx="94996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s by Catego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: Verity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™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, Connex™, Excalibur™, Eurospider™, Google™, Fulcrum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llaborative Filtering: Grapevine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ranet Portal: Intraspect™ , Open Text™ , Autonomy™, Ontoprise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Groupware: Lotus Notes™, MS Exchange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cument Management: PCDOCS™, InQuery™, Filenet™, Documentum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xt Summarization: Prosu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atabase solutions: Wincite™, Dataware™, Agentware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erience Factories: at A.D.Little™, at Xerox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kill Management: Loga HRMS (P&amp;I)™, proprietary solu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mantic Nets-based: USU™, Knowledge Park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Visualization: Inxight™, AIdministrator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Discovery: Clementine™, IBM™, SAS™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4160" y="65833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Staab 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2001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Tools in Contex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Knowledge Discovery Tools (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Maybury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, WM 2001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42840" rIns="42840" tIns="17640" bIns="17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Discovery Too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080" y="1130400"/>
            <a:ext cx="9115560" cy="5408640"/>
            <a:chOff x="19080" y="1130400"/>
            <a:chExt cx="9115560" cy="5408640"/>
          </a:xfrm>
        </p:grpSpPr>
        <p:sp>
          <p:nvSpPr>
            <p:cNvPr id="76" name=""/>
            <p:cNvSpPr/>
            <p:nvPr/>
          </p:nvSpPr>
          <p:spPr>
            <a:xfrm>
              <a:off x="19080" y="3715920"/>
              <a:ext cx="1033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feb9"/>
                  </a:solidFill>
                  <a:latin typeface="Arial"/>
                </a:rPr>
                <a:t>Collect</a:t>
              </a:r>
              <a:endParaRPr b="0" lang="en-US" sz="2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125960" y="2495880"/>
              <a:ext cx="1436760" cy="1202040"/>
              <a:chOff x="4125960" y="2495880"/>
              <a:chExt cx="1436760" cy="1202040"/>
            </a:xfrm>
          </p:grpSpPr>
          <p:sp>
            <p:nvSpPr>
              <p:cNvPr id="78" name=""/>
              <p:cNvSpPr/>
              <p:nvPr/>
            </p:nvSpPr>
            <p:spPr>
              <a:xfrm>
                <a:off x="4134240" y="3056760"/>
                <a:ext cx="1344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Extract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Alembic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25960" y="2495880"/>
                <a:ext cx="1436760" cy="539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226800" y="1563480"/>
              <a:ext cx="1597680" cy="1713600"/>
              <a:chOff x="226800" y="1563480"/>
              <a:chExt cx="1597680" cy="1713600"/>
            </a:xfrm>
          </p:grpSpPr>
          <p:sp>
            <p:nvSpPr>
              <p:cNvPr id="81" name=""/>
              <p:cNvSpPr/>
              <p:nvPr/>
            </p:nvSpPr>
            <p:spPr>
              <a:xfrm>
                <a:off x="264240" y="1753200"/>
                <a:ext cx="1532520" cy="123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226800" y="1563480"/>
                <a:ext cx="1597680" cy="1713600"/>
                <a:chOff x="226800" y="1563480"/>
                <a:chExt cx="1597680" cy="17136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54160" y="1563480"/>
                  <a:ext cx="1526040" cy="39672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54160" y="1750320"/>
                  <a:ext cx="0" cy="1203840"/>
                </a:xfrm>
                <a:prstGeom prst="line">
                  <a:avLst/>
                </a:prstGeom>
                <a:ln w="2556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793160" y="1773720"/>
                  <a:ext cx="0" cy="1180440"/>
                </a:xfrm>
                <a:prstGeom prst="line">
                  <a:avLst/>
                </a:prstGeom>
                <a:ln w="2556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26800" y="2656080"/>
                  <a:ext cx="1567800" cy="62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72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7245"/>
                    </a:path>
                  </a:pathLst>
                </a:custGeom>
                <a:solidFill>
                  <a:srgbClr val="0000ff"/>
                </a:solidFill>
                <a:ln cap="rnd" w="2556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43000" y="2656080"/>
                  <a:ext cx="1581480" cy="62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7" y="21600"/>
                      </a:moveTo>
                      <a:arcTo wR="10800" hR="10800" stAng="5407184" swAng="53928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7" y="21600"/>
                      </a:moveTo>
                      <a:arcTo wR="10800" hR="10800" stAng="5407184" swAng="5392816"/>
                    </a:path>
                  </a:pathLst>
                </a:custGeom>
                <a:solidFill>
                  <a:srgbClr val="0000ff"/>
                </a:solidFill>
                <a:ln cap="rnd" w="2556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>
                <a:off x="605160" y="1591560"/>
                <a:ext cx="780840" cy="284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feb9"/>
                    </a:solidFill>
                    <a:latin typeface="Times New Roman"/>
                  </a:rPr>
                  <a:t>Sources</a:t>
                </a:r>
                <a:endParaRPr b="0" lang="en-US" sz="1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160" y="2451960"/>
                <a:ext cx="911520" cy="6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7880" y="2007720"/>
                <a:ext cx="448920" cy="35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80800" y="2511360"/>
                <a:ext cx="515160" cy="56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083240" y="2053080"/>
                <a:ext cx="394560" cy="34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" name=""/>
            <p:cNvGrpSpPr/>
            <p:nvPr/>
          </p:nvGrpSpPr>
          <p:grpSpPr>
            <a:xfrm>
              <a:off x="3985920" y="1130400"/>
              <a:ext cx="3837600" cy="2206440"/>
              <a:chOff x="3985920" y="1130400"/>
              <a:chExt cx="3837600" cy="2206440"/>
            </a:xfrm>
          </p:grpSpPr>
          <p:sp>
            <p:nvSpPr>
              <p:cNvPr id="94" name=""/>
              <p:cNvSpPr/>
              <p:nvPr/>
            </p:nvSpPr>
            <p:spPr>
              <a:xfrm>
                <a:off x="5865480" y="2189520"/>
                <a:ext cx="1669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Summariz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WebSumm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985920" y="1828800"/>
                <a:ext cx="1127880" cy="4320"/>
              </a:xfrm>
              <a:prstGeom prst="line">
                <a:avLst/>
              </a:prstGeom>
              <a:ln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273360" y="1130400"/>
                <a:ext cx="1012680" cy="116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4573800" y="1880640"/>
                <a:ext cx="3249720" cy="145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65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6506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501240" y="3360960"/>
              <a:ext cx="2009880" cy="2926080"/>
              <a:chOff x="6501240" y="3360960"/>
              <a:chExt cx="2009880" cy="2926080"/>
            </a:xfrm>
          </p:grpSpPr>
          <p:sp>
            <p:nvSpPr>
              <p:cNvPr id="99" name=""/>
              <p:cNvSpPr/>
              <p:nvPr/>
            </p:nvSpPr>
            <p:spPr>
              <a:xfrm>
                <a:off x="7638840" y="3360960"/>
                <a:ext cx="872280" cy="170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00920" y="4940640"/>
                <a:ext cx="95544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6501240" y="5645880"/>
                <a:ext cx="1897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Cluster/Min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QueryFlocks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23200" y="2170080"/>
              <a:ext cx="4749480" cy="4368960"/>
              <a:chOff x="223200" y="2170080"/>
              <a:chExt cx="4749480" cy="4368960"/>
            </a:xfrm>
          </p:grpSpPr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78480" y="4004280"/>
                <a:ext cx="1860480" cy="160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1289160" y="2170080"/>
                <a:ext cx="751320" cy="208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3200" y="5623560"/>
                <a:ext cx="333036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Collaborat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KEAN, Scout, ExpertFinder, XperNET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822400" y="4818600"/>
                <a:ext cx="2150280" cy="56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214320" y="1869480"/>
              <a:ext cx="2920320" cy="2295360"/>
              <a:chOff x="6214320" y="1869480"/>
              <a:chExt cx="2920320" cy="2295360"/>
            </a:xfrm>
          </p:grpSpPr>
          <p:sp>
            <p:nvSpPr>
              <p:cNvPr id="108" name=""/>
              <p:cNvSpPr/>
              <p:nvPr/>
            </p:nvSpPr>
            <p:spPr>
              <a:xfrm>
                <a:off x="7363080" y="3523680"/>
                <a:ext cx="1771560" cy="641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Translat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CyberTrans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589880" y="2892600"/>
                <a:ext cx="1407240" cy="62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6214320" y="1869480"/>
                <a:ext cx="2216520" cy="1957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6" swAng="5405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6" swAng="5405116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710880" y="3825720"/>
              <a:ext cx="3587400" cy="2385000"/>
              <a:chOff x="3710880" y="3825720"/>
              <a:chExt cx="3587400" cy="2385000"/>
            </a:xfrm>
          </p:grpSpPr>
          <p:sp>
            <p:nvSpPr>
              <p:cNvPr id="112" name=""/>
              <p:cNvSpPr/>
              <p:nvPr/>
            </p:nvSpPr>
            <p:spPr>
              <a:xfrm>
                <a:off x="3710880" y="5569560"/>
                <a:ext cx="22636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Browse/Visualiz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GeoNODE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630400" y="4566600"/>
                <a:ext cx="1667880" cy="9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9" y="21600"/>
                    </a:moveTo>
                    <a:arcTo wR="10800" hR="10800" stAng="5406814" swAng="53931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9" y="21600"/>
                    </a:moveTo>
                    <a:arcTo wR="10800" hR="10800" stAng="5406814" swAng="5393186"/>
                  </a:path>
                </a:pathLst>
              </a:custGeom>
              <a:noFill/>
              <a:ln cap="rnd" w="101520">
                <a:solidFill>
                  <a:srgbClr val="fcfeb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70000" y="3825720"/>
                <a:ext cx="0" cy="627840"/>
              </a:xfrm>
              <a:prstGeom prst="line">
                <a:avLst/>
              </a:prstGeom>
              <a:ln w="101520">
                <a:solidFill>
                  <a:srgbClr val="fcfeb9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pic>
            <p:nvPicPr>
              <p:cNvPr id="115" name="new_before_.zoomView" descr=""/>
              <p:cNvPicPr/>
              <p:nvPr/>
            </p:nvPicPr>
            <p:blipFill>
              <a:blip r:embed="rId10"/>
              <a:stretch/>
            </p:blipFill>
            <p:spPr>
              <a:xfrm>
                <a:off x="3987000" y="4518000"/>
                <a:ext cx="1539360" cy="104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" name=""/>
            <p:cNvGrpSpPr/>
            <p:nvPr/>
          </p:nvGrpSpPr>
          <p:grpSpPr>
            <a:xfrm>
              <a:off x="5561640" y="2984400"/>
              <a:ext cx="1877760" cy="1787040"/>
              <a:chOff x="5561640" y="2984400"/>
              <a:chExt cx="1877760" cy="1787040"/>
            </a:xfrm>
          </p:grpSpPr>
          <p:sp>
            <p:nvSpPr>
              <p:cNvPr id="117" name=""/>
              <p:cNvSpPr/>
              <p:nvPr/>
            </p:nvSpPr>
            <p:spPr>
              <a:xfrm>
                <a:off x="5995080" y="4130280"/>
                <a:ext cx="11178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Monitor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SIAM</a:t>
                </a:r>
                <a:r>
                  <a:rPr b="1" lang="en-US" sz="2000" spc="-1" strike="noStrike">
                    <a:solidFill>
                      <a:srgbClr val="fcfeb9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graphicFrame>
            <p:nvGraphicFramePr>
              <p:cNvPr id="118" name=""/>
              <p:cNvGraphicFramePr/>
              <p:nvPr/>
            </p:nvGraphicFramePr>
            <p:xfrm>
              <a:off x="5561640" y="2984400"/>
              <a:ext cx="1877760" cy="1174320"/>
            </p:xfrm>
            <a:graphic>
              <a:graphicData uri="http://schemas.openxmlformats.org/presentationml/2006/ole">
                <p:oleObj progId="Excel.Sheet.12" r:id="rId11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561640" y="2984400"/>
                        <a:ext cx="1877760" cy="117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0" name=""/>
            <p:cNvGrpSpPr/>
            <p:nvPr/>
          </p:nvGrpSpPr>
          <p:grpSpPr>
            <a:xfrm>
              <a:off x="1633680" y="1155600"/>
              <a:ext cx="2490840" cy="2393280"/>
              <a:chOff x="1633680" y="1155600"/>
              <a:chExt cx="2490840" cy="23932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1633680" y="1307520"/>
                <a:ext cx="2490840" cy="2241360"/>
                <a:chOff x="1633680" y="1307520"/>
                <a:chExt cx="2490840" cy="2241360"/>
              </a:xfrm>
            </p:grpSpPr>
            <p:sp>
              <p:nvSpPr>
                <p:cNvPr id="122" name=""/>
                <p:cNvSpPr/>
                <p:nvPr/>
              </p:nvSpPr>
              <p:spPr>
                <a:xfrm flipV="1">
                  <a:off x="1633680" y="1905120"/>
                  <a:ext cx="930240" cy="155160"/>
                </a:xfrm>
                <a:prstGeom prst="line">
                  <a:avLst/>
                </a:prstGeom>
                <a:ln w="101520">
                  <a:solidFill>
                    <a:srgbClr val="fcfeb9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369880" y="2359080"/>
                  <a:ext cx="175464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cfeb9"/>
                      </a:solidFill>
                      <a:latin typeface="Arial"/>
                    </a:rPr>
                    <a:t>Disseminate/</a:t>
                  </a:r>
                  <a:endParaRPr b="0" lang="en-US" sz="2000" spc="-1" strike="noStrike">
                    <a:solidFill>
                      <a:srgbClr val="fcfeb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cfeb9"/>
                      </a:solidFill>
                      <a:latin typeface="Arial"/>
                    </a:rPr>
                    <a:t>Retrieve</a:t>
                  </a:r>
                  <a:br>
                    <a:rPr sz="2000"/>
                  </a:br>
                  <a:r>
                    <a:rPr b="1" lang="en-US" sz="2000" spc="-1" strike="noStrike">
                      <a:solidFill>
                        <a:srgbClr val="fcfeb9"/>
                      </a:solidFill>
                      <a:latin typeface="Arial"/>
                    </a:rPr>
                    <a:t>(</a:t>
                  </a:r>
                  <a:r>
                    <a:rPr b="1" lang="en-US" sz="2000" spc="-1" strike="noStrike">
                      <a:solidFill>
                        <a:srgbClr val="ff3300"/>
                      </a:solidFill>
                      <a:latin typeface="Arial"/>
                    </a:rPr>
                    <a:t>TIDES, </a:t>
                  </a:r>
                  <a:br>
                    <a:rPr sz="2000"/>
                  </a:br>
                  <a:r>
                    <a:rPr b="1" lang="en-US" sz="2000" spc="-1" strike="noStrike">
                      <a:solidFill>
                        <a:srgbClr val="ff3300"/>
                      </a:solidFill>
                      <a:latin typeface="Arial"/>
                    </a:rPr>
                    <a:t>QANDA</a:t>
                  </a:r>
                  <a:r>
                    <a:rPr b="1" lang="en-US" sz="2000" spc="-1" strike="noStrike">
                      <a:solidFill>
                        <a:srgbClr val="fcfeb9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584440" y="1307520"/>
                  <a:ext cx="1371600" cy="102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08120" y="1155600"/>
                <a:ext cx="990720" cy="761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"/>
          <p:cNvSpPr/>
          <p:nvPr/>
        </p:nvSpPr>
        <p:spPr>
          <a:xfrm>
            <a:off x="3584160" y="658332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5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6" action="ppaction://hlinksldjump"/>
              </a:rPr>
              <a:t>Maybury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7" action="ppaction://hlinksldjump"/>
              </a:rPr>
              <a:t> 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8" action="ppaction://hlinksldjump"/>
              </a:rPr>
              <a:t>2001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AP Knowledge Warehous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management solution integrated with other SAP produ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particular R/3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in 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check-in, authoring, edit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cument modeling workbench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formance assessment workbench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 with document management syste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nection with business workflow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2000" y="65833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AP Knowledge Port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79320"/>
            <a:ext cx="9137520" cy="6185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80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Portal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37520" cy="559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arehouse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957240"/>
            <a:ext cx="7035840" cy="5819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AP 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279360"/>
            <a:ext cx="7156440" cy="630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arehouse Screen Sho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054080"/>
            <a:ext cx="9137520" cy="5499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arehouse Configur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790560"/>
            <a:ext cx="9156600" cy="6048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W Information Obj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25480"/>
            <a:ext cx="9137520" cy="5727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cal vs. Physical Objec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336680"/>
            <a:ext cx="9118440" cy="4794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80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Versioning for Info Obj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9137520" cy="5752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625320"/>
            <a:ext cx="9137520" cy="6309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-11916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Cyc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arehouse Contex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37520" cy="6095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AP 2000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tegration with Human Resour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895320"/>
            <a:ext cx="8375760" cy="5657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fcfeb9"/>
                </a:solidFill>
                <a:uFillTx/>
                <a:latin typeface="Times New Roman"/>
              </a:rPr>
              <a:t>SAP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Warehouse Mind Map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322280"/>
            <a:ext cx="9137520" cy="4216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82000" y="65754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[SAP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penText LiveLin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aborative environment for the development of Web-based knowledge reposit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 and servi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cument and content manage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irtual team collabo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terprise group schedul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usiness process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4880" y="65754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[LiveLink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Management Too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ols Require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apture, Indexing, Search, Link Association, Graphs/Networks, Hierarchies, Collaboration,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M Tool Se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ols for Specific KM Tas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utlook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iveLink User Interf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84280" y="17640"/>
            <a:ext cx="7974000" cy="6821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84880" y="65754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[LiveLink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3120"/>
            <a:ext cx="8610480" cy="80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iveLink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3840" y="762120"/>
            <a:ext cx="8889840" cy="6019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84880" y="65754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[LiveLink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HMC Concept Maps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HMC Concept Map Softwar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stitute for Human and Machine Cognition, University of West Florid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cmap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coginst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uwf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.edu/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ols for the organization and representa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et of Java-based tools for the display and navigation of existing concept ma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ttp-based server to host concept ma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83800" y="658332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8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9" action="ppaction://hlinksldjump"/>
              </a:rPr>
              <a:t>Novak 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10" action="ppaction://hlinksldjump"/>
              </a:rPr>
              <a:t>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cept Maps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reation of  concept map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rowsing of existing concept ma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browser enhanced with Java as user interf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enter for Mars Exploration, NAS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ather forecasting in the Gulf Coast reg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stance learning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8080" y="662940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cmap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coginst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8"/>
              </a:rPr>
              <a:t>uwf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9"/>
              </a:rPr>
              <a:t>.edu/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cept Maps Concept Map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60" y="304920"/>
            <a:ext cx="9093240" cy="6315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00880" y="658332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cmap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coginst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8"/>
              </a:rPr>
              <a:t>uwf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9"/>
              </a:rPr>
              <a:t>.edu/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cept Map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04720" y="38268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053160" y="658332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http://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cmap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coginst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7"/>
              </a:rPr>
              <a:t>uwf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8"/>
              </a:rPr>
              <a:t>.edu/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cept Map Example 2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4720" y="38268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900880" y="658332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cmap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coginst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8"/>
              </a:rPr>
              <a:t>uwf</a:t>
            </a:r>
            <a:r>
              <a:rPr b="0" lang="en-US" sz="1200" spc="-1" strike="noStrike" u="sng">
                <a:solidFill>
                  <a:srgbClr val="c000c0"/>
                </a:solidFill>
                <a:uFillTx/>
                <a:latin typeface="Times New Roman"/>
                <a:hlinkClick r:id="rId9"/>
              </a:rPr>
              <a:t>.edu/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cept Maps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presentation and organization of knowledge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rowsing and construction of concept ma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browser with Jav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ice visualization, easy to brow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acquisition is very labor-intens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80-20 Discovery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cov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80-20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www.80-20.com/products/discov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nhanced search engine for internal data ba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80-20 Discovery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atural language query par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browser as interf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80-20 Discovery Screen Sho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2840" y="6553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scovery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84400" y="1287360"/>
            <a:ext cx="6895800" cy="5038920"/>
            <a:chOff x="1184400" y="1287360"/>
            <a:chExt cx="6895800" cy="5038920"/>
          </a:xfrm>
        </p:grpSpPr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1184400" y="1287360"/>
              <a:ext cx="68958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954680" y="6049800"/>
              <a:ext cx="312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cfeb9"/>
                  </a:solidFill>
                  <a:latin typeface="Times New Roman"/>
                </a:rPr>
                <a:t>[Screenshot and annotations by Chris Newman]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80-20 Discovery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in emphasis on retrieval of existing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inly from already existing data ba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reates an index of documents in specified storage area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vides access through natural language que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64000" indent="-1918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tightly integrated with Microsoft products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eb brows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que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ems to be rather sluggish, probably due to the NL inpu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ssistum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ducts: Assistum Knowledge Too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: Assistum.co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assistum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co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ables the user to create or modify knowledge bases to assist their decision-mak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ssistum View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ssistum Knowledge Edito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29880" y="655308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Assistum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.com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ssistum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ssistum provides easy-to-use tools to create powerful fuzzy rule-based decision support system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t uses fuzzy logic to store and transform degree of truth variables and relationship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mos are available on the Web at 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assistum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com/2000/demonstrations/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javademo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.htm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quires Java-capable brows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29880" y="652464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7"/>
              </a:rPr>
              <a:t>Assistum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8"/>
              </a:rPr>
              <a:t>.com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50040" cy="4762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ssistum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network about price increa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29880" y="652464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ssistum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.com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338040"/>
            <a:ext cx="2590920" cy="1338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ssistum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asoning for price increa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064040" y="533520"/>
            <a:ext cx="5079960" cy="6057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629880" y="652464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ssistum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.com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ssistum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mphasis on knowledge represent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uzzy logic as inference metho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ditor for the creation and modification of knowledge ba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viewer for the display of knowledge ba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ithin the set, with outside sys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GUI, Web browser with Java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pport for knowledge engineering task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inly a tool for knowledge engineer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29880" y="652464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ssistum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.com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Structure Manager (KSM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 of the Tool S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Jose Cuena, Martin Molina, ISYS Intelligent Systems Research Group, Department of Artificial Intelligence, Polytechnic University, Madrid, Spai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isys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dia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.fi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upm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8"/>
              </a:rPr>
              <a:t>es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0"/>
              </a:rPr>
              <a:t>ksm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1"/>
              </a:rPr>
              <a:t>/home.htm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 software environment that helps developers and end-users in the development and maintenance of large and complex knowledge-based applic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nalysis, design and implementation, mainten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SM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o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duce the gap between the human understanding and the implementation of applications using knowledge model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uitive modular approach with different levels of abstraction to cope with large knowledge ba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luenced by the idea of generic tasks of Chandrasekaran and the knowledge level concept of Newell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cludes also some ideas from other parallel approaches of knowledge engineering methodologies and tools such as KADS, PROTEGE-II and KRES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26280" y="6515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Cuena, 2000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SM Knowledge Area 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" y="34920"/>
            <a:ext cx="8686800" cy="6788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626280" y="6515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Cuena, 2000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ridge-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SM Hyperbolic 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34920"/>
            <a:ext cx="8686800" cy="6788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93480" y="652140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Cuena, 2000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SM Task Perspectiv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8600" y="34920"/>
            <a:ext cx="8686800" cy="6788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26280" y="6515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Cuena, 2000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oblem Formul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" y="34920"/>
            <a:ext cx="8686800" cy="6788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626280" y="6515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[Cuena, 2000]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SM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ems to be most appropriate for AI knowledge engineering tasks, not so much for knowledge managemen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k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kace, WebCok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livier.Corby, INRIA, Sophia Antipolis, Fr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-sop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inria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fr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/acacia/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Cokace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8"/>
              </a:rPr>
              <a:t>cokace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9"/>
              </a:rPr>
              <a:t>.htm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vironment for   the  conceptual modelling language CML of  the CommonKADS methodolog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kace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 provide the knowledge engineer with structured edition, static validation and dynamic interpretation of CML expertise model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llows the knowledge engineer to simulate a reasoning on CML expertise model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nables  verification   and evaluation of  such  expertise models before implementation of the final knowledge-based syste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kace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y produced on-line by 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WebCok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abels are los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623440" cy="2701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33920" y="655308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WebCokace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kace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velopment tool for CommonKADS method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-based (WebCokace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ngineering suppor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inly for knowledge engineering purpo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dea Processo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a Process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-I-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www.a-I-a.com/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englishHomePage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/technologies.htm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ew generation Computer Supported Cooperative Work technology composed of a user driven software system and a methodology, IdeaProcessing(™)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dea Processor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 facilitate idea and knowledge management and communication with a graphical and intuitive approach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mits simultaneous access by various individuals within a work group to diagram building which leads to concept 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joint effort promotes shared understanding and consensu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acilitates the visualization of problems and their solution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is an 'ideator' (an idea and strategies editor), a group ware, and a meta-CASE tool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32480" y="655308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A-I-A 2001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dea Processor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te map generated with Idea Processor techn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733200" y="65530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A-I-A Site Map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dea Processor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isualiza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a and strategies edito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roup collabo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isual display of knowledge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acquisition seems tediou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 of the Tool S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rther detai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utonomy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 of the Tool S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rther detai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indMap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 of the Tool S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rther detai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Verity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 of the Tool S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rther detai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acticity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actic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, Auth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eb-based knowledge sharing environ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acticity web server, web browser as cli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ptures interactions between users participating in a “community of practice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ents and contexts of interac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ores interactions in a cet\ntral knowledge bas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in emphasis on capturing of knowledge through intera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2840" indent="-2426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capture, acc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2840" indent="-2426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tSearch for text-based search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2840" indent="-2426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2840" indent="-2426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2640" indent="-2426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roove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oo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oove Networks, Ray Ozzie (Lotus Notes developer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UR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2P groupware for direct interaction among us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llaboration, communication, sharing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hared spaces are used for storing and accessing knowledge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s share spaces through accou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cation 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 Set 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in emphasis on sharing of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637560" indent="-1414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hatting, messages, discussion foru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637560" indent="-1414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t meetings, outlines, drawing,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ordin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637560" indent="-1414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alend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in the s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25160" indent="-1771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th outside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ood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77120" indent="-1771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Cuena &amp; Molina 1996] Cuena J., Molina M.: "Building Knowledge Models Using KSM". Proc. of Knowledge Acquisition of Knowledge Based Systems Workshop, KAW96. Banff, Canada. 1996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Maybury 2001] Joseph T. Maybury: “Knowledge On Demand: Knowledge and Expert Discovery”, Wissensmanagement 2001 Conference, Baden-Baden, Germany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Novak 2000] Joseph D. Novak: “The Theory Underlying Concept Maps and How To Construct Them”,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cmap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coginst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uwf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.edu/info/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. 1996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AP 2000] SAP AG “Introducing Knowledge Management with mySAP.com”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8"/>
              </a:rPr>
              <a:t>http://www.sap-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9"/>
              </a:rPr>
              <a:t>ag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0"/>
              </a:rPr>
              <a:t>.de/solutions/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1"/>
              </a:rPr>
              <a:t>bi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2"/>
              </a:rPr>
              <a:t>/km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OpenText 2001] OpenText “LiveLink Product Overview”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4"/>
              </a:rPr>
              <a:t>http://www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5"/>
              </a:rPr>
              <a:t>opentext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6"/>
              </a:rPr>
              <a:t>.com/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7"/>
              </a:rPr>
              <a:t>livelink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8"/>
              </a:rPr>
              <a:t>/.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taab 2000] Steffen Staab: “Intelligente Techniken für das Wissensmanagement” Knowledge Management Tutorial, Wissensmanagement 2001 Conference, Baden-Baden, Germany,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0"/>
              </a:rPr>
              <a:t>aisb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1"/>
              </a:rPr>
              <a:t>.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2"/>
              </a:rPr>
              <a:t>uni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3"/>
              </a:rPr>
              <a:t>-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4"/>
              </a:rPr>
              <a:t>karlsruhe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5"/>
              </a:rPr>
              <a:t>.de/~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6"/>
              </a:rPr>
              <a:t>ss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M Too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1-05-31T23:45:54Z</cp:lastPrinted>
  <dcterms:modified xsi:type="dcterms:W3CDTF">2003-03-21T00:31:15Z</dcterms:modified>
  <cp:revision>71</cp:revision>
  <dc:subject/>
  <dc:title>CSC 480: Artificial Intelligence</dc:title>
</cp:coreProperties>
</file>