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A1F-8176-452E-B88E-7B11F9C8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D91-89AD-423F-B9FC-409AF06B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CB4-61FD-4D91-8150-8D7E184F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FC3-4F96-4562-BB2F-54BA0106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543-26BA-4B2A-9FCB-CCAAE2B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F24-DAE2-4BAE-9DCF-0200756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D7E-4FC1-4AE7-AE61-69AF235F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FC3-4EB6-4210-8594-7CDEA0F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F6A-BA2D-4191-B7B6-290A8530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DCE-2388-4ABB-B257-EE98B3E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DBB-2778-4950-BEA7-9BAB3315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856-E5BE-49F6-B671-49110B5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7FA4-60F4-4FB7-99A7-DB0D3CAF1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53740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7120" y="1035360"/>
            <a:ext cx="6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70920" y="10353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1419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ll P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52480"/>
            <a:ext cx="106704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1460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76720"/>
            <a:ext cx="1067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06704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800600"/>
            <a:ext cx="106704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45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981080"/>
            <a:ext cx="106704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9810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19810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762120"/>
            <a:ext cx="85341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1280" y="77544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6640" y="191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9160" y="191844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6720" y="222336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7440" y="298548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40240" y="26805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9520" y="3442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e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5280" y="37472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9480" y="420444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50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9160" y="49665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7440" y="52714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9600" y="21470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91840" y="24519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11520" y="24519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3120" y="24519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838080"/>
            <a:ext cx="136440" cy="1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838080"/>
            <a:ext cx="136440" cy="1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838080"/>
            <a:ext cx="63360" cy="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8640" y="1157400"/>
            <a:ext cx="1843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2920" y="1156680"/>
            <a:ext cx="231768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Pass 4 - Product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6T05:08:34Z</dcterms:created>
  <dc:creator>Hien(Henry)Tran</dc:creator>
  <dc:description/>
  <dc:language>en-US</dc:language>
  <cp:lastModifiedBy>Hien(Henry)Tran</cp:lastModifiedBy>
  <dcterms:modified xsi:type="dcterms:W3CDTF">1998-12-08T00:03:30Z</dcterms:modified>
  <cp:revision>10</cp:revision>
  <dc:subject/>
  <dc:title>No Slide Title</dc:title>
</cp:coreProperties>
</file>