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324-7B61-4E1A-932A-4BB15DCD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C1A-3689-412D-8C56-3BD7FDD9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B1B-6318-46C5-B2DD-AA36C581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C17-B405-4C8F-8659-487330EE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B99-5C21-4D84-9C96-67C5DC38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5B0-8BA0-4606-A35A-A5F91DD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388-7FB6-4D9D-9E27-7E486502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9B6-977A-40F0-A502-C262F8A1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7AE-3709-430D-86CE-899DAE68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DC0-6860-499F-8A17-49C1F370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68F-7386-4C3A-8C82-8EA0190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82E-AF01-4B8A-A672-49523E4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32E7-D889-49E2-B357-8053BEADA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09480"/>
            <a:ext cx="8537760" cy="45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066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09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3440" y="578160"/>
            <a:ext cx="6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47240" y="5781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68472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ll P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3960" y="608400"/>
            <a:ext cx="122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P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95280"/>
            <a:ext cx="106668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057400"/>
            <a:ext cx="10666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819520"/>
            <a:ext cx="10666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581280"/>
            <a:ext cx="106668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343400"/>
            <a:ext cx="10666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088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5238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523880"/>
            <a:ext cx="106704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5238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min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12960" y="146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15480" y="146124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82680" y="176616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3400" y="252828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16560" y="22233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5840" y="2985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el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32900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65440" y="374724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1240" y="4052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5480" y="45093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3760" y="48142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15920" y="16898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8160" y="19947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840" y="199476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9080" y="19947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2:17:19Z</dcterms:created>
  <dc:creator>Hien(Henry)Tran</dc:creator>
  <dc:description/>
  <dc:language>en-US</dc:language>
  <cp:lastModifiedBy>Hien(Henry)Tran</cp:lastModifiedBy>
  <dcterms:modified xsi:type="dcterms:W3CDTF">1998-12-07T23:56:14Z</dcterms:modified>
  <cp:revision>2</cp:revision>
  <dc:subject/>
  <dc:title>No Slide Title</dc:title>
</cp:coreProperties>
</file>