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E607-A3A2-4ABB-89B6-A75C64E5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3B79-47DE-4B71-8295-3EFE96C8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FD32-633C-4D85-ACCA-73839F0DB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8FEC-9B95-4A9C-9969-9363B87C4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C4BF-38AE-4E34-83C3-3677B353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E009-3BC5-4C39-AF25-0DD094DF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ED6F-FF85-415B-B0D2-D17125BF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62C7-24D1-40B4-8407-3DE3E6BA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497F-5097-4B77-A03B-83F69397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9CC8-1464-4E66-95F4-0621D72B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D871-A379-4EFC-ACD7-81238EC9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CD62-500A-4F1F-82F7-CBBC68D4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A1B0-5C24-4E65-A776-E22AC04F9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066680"/>
            <a:ext cx="487692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9760" y="1066680"/>
            <a:ext cx="31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ferno Process Management Tool - “Pass 1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1143000"/>
            <a:ext cx="136800" cy="13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1143000"/>
            <a:ext cx="136800" cy="13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81480" y="1143000"/>
            <a:ext cx="63720" cy="6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295280"/>
            <a:ext cx="4876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6280" y="1233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920" y="1295280"/>
            <a:ext cx="41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08040" y="118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7440" y="1295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81480" y="1371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6920" y="12952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3080" y="129528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55920" y="1295280"/>
            <a:ext cx="59364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6240" y="129528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9080" y="129528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13160" y="1636560"/>
            <a:ext cx="1839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7T23:00:09Z</dcterms:created>
  <dc:creator>Hien(Henry)Tran</dc:creator>
  <dc:description/>
  <dc:language>en-US</dc:language>
  <cp:lastModifiedBy>Hien(Henry)Tran</cp:lastModifiedBy>
  <dcterms:modified xsi:type="dcterms:W3CDTF">1998-12-08T00:16:53Z</dcterms:modified>
  <cp:revision>3</cp:revision>
  <dc:subject/>
  <dc:title>No Slide Title</dc:title>
</cp:coreProperties>
</file>