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84A4-10B6-4FFC-B78F-666C1F9F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BFD9-D560-4829-B412-68075D85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19FD-D7A1-45FC-8F07-62CD018C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76BF-F780-4D9F-8A29-7A89BF1A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4FE1-053D-4C0C-A460-142AB3F0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9E57-578E-4067-A884-C7916524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336E-C4DE-495A-9610-3F3D38DC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5AA5-F1E4-448C-BE00-3CDE0984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ECFE-0BCE-4C1A-BAB0-EB8F1A62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BD4D-308F-4808-A243-481B5D80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88E2-595D-44B2-AC3D-F9D9C58C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6734-A642-44CF-AD0B-1534AA3A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4B2B-FC11-46FE-96C1-DAE7AE0F0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066680"/>
            <a:ext cx="487692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9760" y="1066680"/>
            <a:ext cx="31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ferno Process Management Tool - “Pass 1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1143000"/>
            <a:ext cx="136800" cy="1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1143000"/>
            <a:ext cx="136800" cy="1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1143000"/>
            <a:ext cx="63720" cy="6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295280"/>
            <a:ext cx="4876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6280" y="1233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920" y="1295280"/>
            <a:ext cx="41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08040" y="118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7440" y="1295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98760" y="1233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6920" y="12952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3080" y="129528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55920" y="1295280"/>
            <a:ext cx="59364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6240" y="129528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9080" y="129528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1600200"/>
            <a:ext cx="16002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17840" y="1636560"/>
            <a:ext cx="1172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ctivate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13160" y="194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5680" y="1865160"/>
            <a:ext cx="1183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x……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17840" y="2093760"/>
            <a:ext cx="1165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vate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15680" y="232236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ngthen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15320" y="2627280"/>
            <a:ext cx="1468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Condition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16400" y="285588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New Pass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16040" y="3084480"/>
            <a:ext cx="1419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ete Pass……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8T00:09:20Z</dcterms:created>
  <dc:creator>Hien(Henry)Tran</dc:creator>
  <dc:description/>
  <dc:language>en-US</dc:language>
  <cp:lastModifiedBy>Hien(Henry)Tran</cp:lastModifiedBy>
  <dcterms:modified xsi:type="dcterms:W3CDTF">1998-12-08T00:10:35Z</dcterms:modified>
  <cp:revision>1</cp:revision>
  <dc:subject/>
  <dc:title>No Slide Title</dc:title>
</cp:coreProperties>
</file>