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87E-ECA8-4206-83B9-259EFA1F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87A-672F-4154-9B23-80C28FF3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194-CDFE-4893-8B08-E59335FA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B18-0A34-4D19-9AE8-B86A8B59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F79-2215-4757-89AF-69293D7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40B-3413-465D-AF4E-D7883AC1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A8C-AA5F-4D2F-91EE-74D8396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3F1-9729-49BE-8866-54073655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EA7-8097-47BA-AB2D-22EFF978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6D5-A47A-4027-8FE8-8C70D71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84C-2688-48D4-A602-92DE309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2FC-7A3B-4765-894E-D0F2420C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E6F4-2DDA-441B-9E83-F6688A0E4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8280"/>
            <a:ext cx="2362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3600" y="2475000"/>
            <a:ext cx="23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wish to deactivate this ste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8195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8195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600" y="175248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920" y="17524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3809880"/>
            <a:ext cx="1904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84640" y="380988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you 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191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191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33720" y="3124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12408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1:45:03Z</dcterms:created>
  <dc:creator>Hien(Henry)Tran</dc:creator>
  <dc:description/>
  <dc:language>en-US</dc:language>
  <cp:lastModifiedBy>Hien(Henry)Tran</cp:lastModifiedBy>
  <dcterms:modified xsi:type="dcterms:W3CDTF">1998-12-07T22:36:13Z</dcterms:modified>
  <cp:revision>1</cp:revision>
  <dc:subject/>
  <dc:title>No Slide Title</dc:title>
</cp:coreProperties>
</file>