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7F9F-4A85-4228-8643-23241BFB4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30DC-21CF-41A7-ACFF-A5C8ED25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09B9-5A01-4D72-90C4-76CB6766B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92FF-FD58-499D-8997-A64821468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5722-B8DE-4551-8DB3-72A23C1C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EB5D-0859-4E98-94BF-3E2653F3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FAEC-1640-4ED9-B1E9-DB7E2C92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FE94-7868-4D14-A4D6-27C4422E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7CBE-459C-4BD2-9310-D3B767B2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4E5F-5502-427D-A5A0-9CBBFD83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F159-1D1B-431C-84A0-4AD14F5D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8021-76A0-4858-A4D2-1452ABCC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4148-B6EE-4376-8CB5-DFC472793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066680"/>
            <a:ext cx="487692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9760" y="1066680"/>
            <a:ext cx="31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ferno Process Management Tool - “Pass 1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1143000"/>
            <a:ext cx="136800" cy="13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1143000"/>
            <a:ext cx="136800" cy="13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81480" y="1143000"/>
            <a:ext cx="63720" cy="6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295280"/>
            <a:ext cx="4876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46280" y="1233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920" y="1295280"/>
            <a:ext cx="41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08040" y="118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7440" y="1295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98760" y="1233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6920" y="12952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3080" y="129528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55920" y="1295280"/>
            <a:ext cx="59364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6240" y="129528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9080" y="129528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1600200"/>
            <a:ext cx="16002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17840" y="1636560"/>
            <a:ext cx="1172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ctivate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13160" y="194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5680" y="1865160"/>
            <a:ext cx="118368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x……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17840" y="2093760"/>
            <a:ext cx="1165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vate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15680" y="232236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ngthen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2590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15320" y="2627280"/>
            <a:ext cx="1468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Condition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16400" y="285588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New Pass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16040" y="3084480"/>
            <a:ext cx="1419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ete Pass……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505320"/>
            <a:ext cx="15242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48800" y="3618000"/>
            <a:ext cx="107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ondi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4267080"/>
            <a:ext cx="15242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5029200"/>
            <a:ext cx="15242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8440" y="4379760"/>
            <a:ext cx="11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condi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25840" y="5065560"/>
            <a:ext cx="7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aria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3505320"/>
            <a:ext cx="3045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4267080"/>
            <a:ext cx="30456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05320" y="5029200"/>
            <a:ext cx="3045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68840" y="437976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r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65240" y="5141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67760" y="514188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81280" y="4343400"/>
            <a:ext cx="136800" cy="136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5105520"/>
            <a:ext cx="136800" cy="136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3581280"/>
            <a:ext cx="136800" cy="136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0800000">
            <a:off x="3581280" y="3885840"/>
            <a:ext cx="136800" cy="136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3809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3581280" y="4647960"/>
            <a:ext cx="136800" cy="136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4572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0800000">
            <a:off x="3581280" y="5410080"/>
            <a:ext cx="136800" cy="136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5334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981080" y="1981080"/>
            <a:ext cx="1371600" cy="1524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895480" y="1981080"/>
            <a:ext cx="457200" cy="1524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26240" y="3618000"/>
            <a:ext cx="77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forc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76920" y="3657600"/>
            <a:ext cx="136440" cy="136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3657600"/>
            <a:ext cx="136440" cy="136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31000" y="35812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6440" y="3581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42440" y="4419720"/>
            <a:ext cx="77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forc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42440" y="5181480"/>
            <a:ext cx="77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forc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495680"/>
            <a:ext cx="136440" cy="136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31000" y="44197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31000" y="51814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257800"/>
            <a:ext cx="136440" cy="136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4495680"/>
            <a:ext cx="136440" cy="136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5257800"/>
            <a:ext cx="136440" cy="136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6440" y="5181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16440" y="4419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7T23:00:09Z</dcterms:created>
  <dc:creator>Hien(Henry)Tran</dc:creator>
  <dc:description/>
  <dc:language>en-US</dc:language>
  <cp:lastModifiedBy>Hien(Henry)Tran</cp:lastModifiedBy>
  <dcterms:modified xsi:type="dcterms:W3CDTF">1998-12-08T00:25:23Z</dcterms:modified>
  <cp:revision>4</cp:revision>
  <dc:subject/>
  <dc:title>No Slide Title</dc:title>
</cp:coreProperties>
</file>