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27D-4FB7-4948-8C3B-DD19C4C3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B3E-D12E-4B42-A3A0-AD44183C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A65-E8B5-4B50-88DE-D4A2422E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BC0-C567-43E7-9931-3E32A1C8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9BD-C3A3-4F8E-A6D3-B6AC80DF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316-521A-447D-8B47-199133F2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5AF-AF9B-4C58-86C2-8EF96B76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0BC-B688-4AD6-BA0A-09C5B5A4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04B-83D5-48A5-8D02-0CDE5135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7A0-F419-4160-9956-8B6BFBA2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977-D819-4C12-B19D-7B9C248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22A-6C47-4684-AEBC-C6ED3C38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5B32-3EC9-4A42-9E9B-195B5A64C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66680"/>
            <a:ext cx="4876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760" y="10666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143000"/>
            <a:ext cx="6372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487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28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920" y="12952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129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920" y="1295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1295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5920" y="1295280"/>
            <a:ext cx="593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6240" y="1295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080" y="12952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00200"/>
            <a:ext cx="16002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7840" y="1636560"/>
            <a:ext cx="117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3160" y="194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5680" y="18651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x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093760"/>
            <a:ext cx="116532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5680" y="23223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2627280"/>
            <a:ext cx="146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Condi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6400" y="28558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New Pas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6040" y="3084480"/>
            <a:ext cx="141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e Pass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276720"/>
            <a:ext cx="2286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5800" y="2209680"/>
            <a:ext cx="2666880" cy="1067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42840" y="22096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200" y="3313080"/>
            <a:ext cx="23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want to reactivate this ste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7339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7339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80988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80280" y="380988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you 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1911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1911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581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40384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22:46:30Z</dcterms:created>
  <dc:creator>Hien(Henry)Tran</dc:creator>
  <dc:description/>
  <dc:language>en-US</dc:language>
  <cp:lastModifiedBy>Hien(Henry)Tran</cp:lastModifiedBy>
  <dcterms:modified xsi:type="dcterms:W3CDTF">1998-12-07T22:59:24Z</dcterms:modified>
  <cp:revision>1</cp:revision>
  <dc:subject/>
  <dc:title>No Slide Title</dc:title>
</cp:coreProperties>
</file>