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4995-7371-45AA-A03D-337BFD85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784C-2346-4D36-A947-D04745E4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57BA-BB0B-46C7-8908-67B4958B4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9D8B-7D24-447A-A602-115463A60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51E9-9E74-4731-90AC-E7278730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9FFC-378A-4121-B7EE-F7E09E67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C205-B7BA-4FD2-81CF-147FA1CF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98F6-6EAA-4665-A906-DC018234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25BD-8B30-4CDC-B32A-9141DEFD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1CE0-F175-4ACE-AE18-CDD2617A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6A7D-401A-4B4E-9FC2-2F5F16FE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6007-FDB9-4E30-B289-39BB575C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BC6C-F1A7-4CE4-AF0E-8A6A611FE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066680"/>
            <a:ext cx="487692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9760" y="1066680"/>
            <a:ext cx="31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ferno Process Management Tool - “Pass 1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1143000"/>
            <a:ext cx="136800" cy="13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1143000"/>
            <a:ext cx="136800" cy="13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81480" y="1143000"/>
            <a:ext cx="63720" cy="6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295280"/>
            <a:ext cx="4876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46280" y="1233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920" y="1295280"/>
            <a:ext cx="41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08040" y="118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7440" y="1295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98760" y="1233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6920" y="12952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3080" y="129528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55920" y="1295280"/>
            <a:ext cx="59364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6240" y="129528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9080" y="129528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1600200"/>
            <a:ext cx="16002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17840" y="1636560"/>
            <a:ext cx="1172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ctivate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13160" y="194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5680" y="1865160"/>
            <a:ext cx="11836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x……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17840" y="2093760"/>
            <a:ext cx="1165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vate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15680" y="2322360"/>
            <a:ext cx="118368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ngthen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2590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15320" y="2627280"/>
            <a:ext cx="1468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Condition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16400" y="285588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New Pass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16040" y="3084480"/>
            <a:ext cx="1419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ete Pass……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505320"/>
            <a:ext cx="15242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48800" y="3618000"/>
            <a:ext cx="107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ondi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4267080"/>
            <a:ext cx="15242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5029200"/>
            <a:ext cx="15242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8440" y="4379760"/>
            <a:ext cx="11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condi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25840" y="5065560"/>
            <a:ext cx="7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aria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3505320"/>
            <a:ext cx="3045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4267080"/>
            <a:ext cx="30456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05320" y="5029200"/>
            <a:ext cx="3045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68840" y="437976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r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65240" y="5141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67760" y="514188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81280" y="4343400"/>
            <a:ext cx="136800" cy="136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5105520"/>
            <a:ext cx="136800" cy="136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3581280"/>
            <a:ext cx="136800" cy="136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0800000">
            <a:off x="3581280" y="3885840"/>
            <a:ext cx="136800" cy="136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3809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3581280" y="4647960"/>
            <a:ext cx="136800" cy="136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4572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0800000">
            <a:off x="3581280" y="5410080"/>
            <a:ext cx="136800" cy="136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5334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26240" y="3618000"/>
            <a:ext cx="77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forc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657600"/>
            <a:ext cx="136440" cy="136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3657600"/>
            <a:ext cx="136440" cy="136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31000" y="35812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16440" y="3581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42440" y="4419720"/>
            <a:ext cx="77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forc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42440" y="5181480"/>
            <a:ext cx="77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forc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76920" y="4495680"/>
            <a:ext cx="136440" cy="136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31000" y="44197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31000" y="51814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5257800"/>
            <a:ext cx="136440" cy="136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4495680"/>
            <a:ext cx="136440" cy="136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5257800"/>
            <a:ext cx="136440" cy="136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6440" y="5181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16440" y="4419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981080" y="2362320"/>
            <a:ext cx="1371600" cy="1143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895480" y="236232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7T23:00:09Z</dcterms:created>
  <dc:creator>Hien(Henry)Tran</dc:creator>
  <dc:description/>
  <dc:language>en-US</dc:language>
  <cp:lastModifiedBy>Hien(Henry)Tran</cp:lastModifiedBy>
  <dcterms:modified xsi:type="dcterms:W3CDTF">1998-12-08T00:27:51Z</dcterms:modified>
  <cp:revision>5</cp:revision>
  <dc:subject/>
  <dc:title>No Slide Title</dc:title>
</cp:coreProperties>
</file>