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B83-6D62-4912-A89D-4FDDEA35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DA9-42DE-45FC-9632-83802BA7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39A-1D7A-4DE0-8EDE-07C8F7C8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4D2-CD15-444B-8097-33D490BF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2E2-0C94-48C4-B8AB-5B54688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68A-7453-482D-B0EA-AA60E10A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4B8-3073-47C5-B13C-015E3678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541-694B-4532-B8B5-7E38DEFA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840-FB70-43E1-80CA-B83ED74C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CBF-6920-4E3A-B47B-631D28A6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2D2-3D14-42C0-B4BE-09F37B5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268-0C50-409C-910B-3701663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8628-430F-4030-B4C7-616E3DC2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66680"/>
            <a:ext cx="4876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760" y="10666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143000"/>
            <a:ext cx="6372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487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28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920" y="12952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129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920" y="1295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1295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5920" y="1295280"/>
            <a:ext cx="593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6240" y="1295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080" y="12952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00200"/>
            <a:ext cx="16002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7840" y="16365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3160" y="194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5680" y="18651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x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093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5680" y="23223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2627280"/>
            <a:ext cx="14684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Condi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6400" y="28558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New Pas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6040" y="3084480"/>
            <a:ext cx="141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e Pass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5053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1640" y="3770280"/>
            <a:ext cx="177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x………………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vate……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s…………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3640" y="3541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2360" y="3541680"/>
            <a:ext cx="16682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ctivate……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27432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56840" y="2743200"/>
            <a:ext cx="289548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419112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64520" y="4227480"/>
            <a:ext cx="23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wish to deactivate this ste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457200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38862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886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21:44:51Z</dcterms:created>
  <dc:creator>Hien(Henry)Tran</dc:creator>
  <dc:description/>
  <dc:language>en-US</dc:language>
  <cp:lastModifiedBy>Hien(Henry)Tran</cp:lastModifiedBy>
  <dcterms:modified xsi:type="dcterms:W3CDTF">1998-12-07T22:44:22Z</dcterms:modified>
  <cp:revision>2</cp:revision>
  <dc:subject/>
  <dc:title>No Slide Title</dc:title>
</cp:coreProperties>
</file>