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CED-D2F0-4D5E-8BE9-ED9019F1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8A-CFF9-44CB-BE33-6C3FA2D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8A1-1A62-4384-9FA3-C71F082B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792-2CB6-4E09-A758-61D34A94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243-CC47-483F-AD80-2918C8B1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77A-3F4B-49A1-916E-0BE0970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F44-F2C9-476A-BA34-EFA603C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CA7-A376-401E-8E4D-7175DEA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E5A-0306-4D35-8258-846969D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00C-1C75-45CD-B6D1-BF742FA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FDF-D655-4C6F-86B9-4B03A9C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390-F48A-448A-AAF8-D56EE29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7C4B-E6D4-4974-A3C4-E5139773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219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279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29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429000"/>
            <a:ext cx="2514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505320"/>
            <a:ext cx="35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want to Create New Pa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956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2520" y="4191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86200"/>
            <a:ext cx="182520" cy="182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320" y="38098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809880"/>
            <a:ext cx="102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,4,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8680" y="411480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58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1148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495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487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114800"/>
            <a:ext cx="838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4495680"/>
            <a:ext cx="8380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0520" y="297180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9548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6T06:35:25Z</dcterms:created>
  <dc:creator>Hien(Henry)Tran</dc:creator>
  <dc:description/>
  <dc:language>en-US</dc:language>
  <cp:lastModifiedBy>Hien(Henry)Tran</cp:lastModifiedBy>
  <dcterms:modified xsi:type="dcterms:W3CDTF">1998-12-07T21:43:26Z</dcterms:modified>
  <cp:revision>11</cp:revision>
  <dc:subject/>
  <dc:title>No Slide Title</dc:title>
</cp:coreProperties>
</file>