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A97-723C-4418-AF0A-9F9ABBD1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877-0CAC-41A1-BE0B-B10A9338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0C8-D34C-4E1D-880A-392E9C29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C2C-A562-4F07-B16E-95747472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A61-4FCE-485C-9051-3A173B64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398-533A-477A-8856-36444B46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931-BD16-45CF-8D88-1A6AABF5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FB3-1EDE-45A7-8F05-0B91B86C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954-971B-4621-A282-F6CC4F59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D75-10B4-44D1-817A-087A9C47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B1F-5DDF-4104-9581-9BDF4E7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90C-F8DB-4805-B60E-B3F6B3C3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59BB-0DD7-4FB2-BE70-554CB8F7D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16002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7840" y="16365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3160" y="194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5680" y="18651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093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5680" y="23223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262728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Condi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6400" y="28558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New Pas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6040" y="3084480"/>
            <a:ext cx="14198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Pass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809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9560" y="384660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want to delete pa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2670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42670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990360" y="312408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819160" y="312408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495680"/>
            <a:ext cx="1752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02520" y="453240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you 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49528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49528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6483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1:20:54Z</dcterms:created>
  <dc:creator>Hien(Henry)Tran</dc:creator>
  <dc:description/>
  <dc:language>en-US</dc:language>
  <cp:lastModifiedBy>Hien(Henry)Tran</cp:lastModifiedBy>
  <dcterms:modified xsi:type="dcterms:W3CDTF">1998-12-07T21:40:53Z</dcterms:modified>
  <cp:revision>1</cp:revision>
  <dc:subject/>
  <dc:title>No Slide Title</dc:title>
</cp:coreProperties>
</file>